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15.gif" ContentType="image/gif"/>
  <Override PartName="/ppt/media/image8.gif" ContentType="image/gif"/>
  <Override PartName="/ppt/media/image17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Muffera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ufferaw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Muffera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Muffera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739-19E1-466A-B5AE-A1056BA32ABA}" type="slidenum">
              <a:rPr b="0" lang="en-US" sz="1200" spc="-1" strike="noStrike">
                <a:solidFill>
                  <a:srgbClr val="000000"/>
                </a:solidFill>
                <a:latin typeface="Muffera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To change Fonts: go to Format - Replace Fonts – and then Replace: Mufferaw, With: Your Choice of Font then click replace fonts.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Resources that you may also find helpful from the PEER office: 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Animations on Earth’s rotation, revolution, and seasons: http://peer.tamu.edu/DLC/NSF_Resources.asp?ID=108&amp;type=search&amp;num=5&amp;terms=rotation&amp;content=allcontent&amp;subject=allsubjects&amp;grade=allgrades&amp;query=query&amp;hl=no&amp;count=7&amp;number=2&amp;view=yes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Basketball activity on Rotation and Revolution: http://peer.tamu.edu/DLC/NSF_Resources.asp?ID=635&amp;type=search&amp;num=5&amp;terms=rotation&amp;content=allcontent&amp;subject=allsubjects&amp;grade=allgrades&amp;query=query&amp;hl=no&amp;count=7&amp;number=1&amp;view=yes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the southern (or lower) hemisphere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on how the earth is divided (hemispheres, equator, prime meridian, etc.) see http://peer.tamu.edu/MiniMods/Appendices/AbsoLoca.ppt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The answer to the question is in this order (will also appear on the slide, ask before you reveal the answer): southern, equal, northern, equal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Answer 1: Hotter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Answer 2: Summer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Answer 3: Winter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Answer 4: Fall or Spring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Answers are provided on slide, (ask first!) in order: Winter, Spring, Summer, Fall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Image url: </a:t>
            </a:r>
            <a:r>
              <a:rPr b="1" lang="en-US" sz="1200" spc="-1" strike="noStrike">
                <a:solidFill>
                  <a:srgbClr val="000000"/>
                </a:solidFill>
                <a:latin typeface="Mufferaw"/>
              </a:rPr>
              <a:t>http://en.wikipedia.org/wiki/Image:Rotating_Sphere.gif </a:t>
            </a: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 used with permission under GNU Free Documentation License. 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Why does it get cold in the winter? Don’t answer the question. See what they think and then say something like, “Well let’s find out.”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fferaw"/>
              </a:rPr>
              <a:t>What season is it in Australia during December? Again, don’t answer it for the class, but the answer is Summer.</a:t>
            </a:r>
            <a:endParaRPr b="0" lang="en-US" sz="12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086-4149-4E7D-B6A3-0CF61BF6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31F-9DED-421E-A519-6A183801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79E-DD1E-4B3E-BA0F-035C6392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096-6FC9-4486-B06B-45066D41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4E7-C28E-4C63-885A-FBA0C963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032-2540-4140-9F8C-1F88B602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397-F138-4182-9F5D-BC8C5F33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D07-823A-4134-A324-BD657A87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222-942C-4097-9880-02B334DF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E66-0052-4903-B0C1-447AD9D0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72C-D202-4F2B-ADF4-656AAE0C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CB0-EDF4-4E88-A2D2-9444D71C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uffera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ffera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uffera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ffera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ffera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uffera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ffera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uffera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ffera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uffera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ffera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uffera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ffera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uffera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ffera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uffera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ffera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uffera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60DF-3E42-487B-A6CD-D45285B11666}" type="slidenum">
              <a:rPr b="0" lang="en-US" sz="1400" spc="-1" strike="noStrike">
                <a:solidFill>
                  <a:srgbClr val="000000"/>
                </a:solidFill>
                <a:latin typeface="Muffera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981080"/>
            <a:ext cx="556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ufferaw"/>
              </a:rPr>
              <a:t>Rotation, Revolution, and the seasons</a:t>
            </a:r>
            <a:endParaRPr b="0" lang="en-US" sz="48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520" y="81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ufferaw"/>
              </a:rPr>
              <a:t>So different parts of the earth don’t get as much sun as other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6840" y="3560760"/>
            <a:ext cx="260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78000" y="3733920"/>
            <a:ext cx="260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978000" y="3897360"/>
            <a:ext cx="260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978000" y="4070520"/>
            <a:ext cx="260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78000" y="4243320"/>
            <a:ext cx="260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78000" y="4417920"/>
            <a:ext cx="260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79800" y="4592520"/>
            <a:ext cx="2602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966840" y="3079800"/>
            <a:ext cx="260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966840" y="3233880"/>
            <a:ext cx="260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966840" y="3397320"/>
            <a:ext cx="260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21002400">
            <a:off x="1498320" y="2844720"/>
            <a:ext cx="2352600" cy="207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1992240" y="3404880"/>
            <a:ext cx="1643040" cy="957240"/>
          </a:xfrm>
          <a:prstGeom prst="line">
            <a:avLst/>
          </a:prstGeom>
          <a:ln w="2844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13" name=""/>
          <p:cNvSpPr/>
          <p:nvPr/>
        </p:nvSpPr>
        <p:spPr>
          <a:xfrm>
            <a:off x="4570560" y="2513160"/>
            <a:ext cx="21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ufferaw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14" name=""/>
          <p:cNvSpPr/>
          <p:nvPr/>
        </p:nvSpPr>
        <p:spPr>
          <a:xfrm>
            <a:off x="1278000" y="4378320"/>
            <a:ext cx="674640" cy="1033560"/>
          </a:xfrm>
          <a:custGeom>
            <a:avLst/>
            <a:gdLst/>
            <a:ahLst/>
            <a:rect l="l" t="t" r="r" b="b"/>
            <a:pathLst>
              <a:path w="556" h="871">
                <a:moveTo>
                  <a:pt x="0" y="871"/>
                </a:moveTo>
                <a:cubicBezTo>
                  <a:pt x="73" y="642"/>
                  <a:pt x="147" y="413"/>
                  <a:pt x="240" y="268"/>
                </a:cubicBezTo>
                <a:cubicBezTo>
                  <a:pt x="333" y="123"/>
                  <a:pt x="444" y="61"/>
                  <a:pt x="55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15" name=""/>
          <p:cNvSpPr/>
          <p:nvPr/>
        </p:nvSpPr>
        <p:spPr>
          <a:xfrm>
            <a:off x="717480" y="532116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ufferaw"/>
              </a:rPr>
              <a:t>Equator</a:t>
            </a:r>
            <a:endParaRPr b="0" lang="en-US" sz="2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364000"/>
            <a:ext cx="558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Mufferaw"/>
              </a:rPr>
              <a:t>Which hemisphere gets more sun?</a:t>
            </a:r>
            <a:r>
              <a:rPr b="0" lang="en-US" sz="1800" spc="-1" strike="noStrike">
                <a:solidFill>
                  <a:srgbClr val="000000"/>
                </a:solidFill>
                <a:latin typeface="Muffera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3997" b="16002"/>
          <a:stretch/>
        </p:blipFill>
        <p:spPr>
          <a:xfrm>
            <a:off x="3733920" y="2743200"/>
            <a:ext cx="2133360" cy="1866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0960" y="4129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ufferaw"/>
              </a:rPr>
              <a:t>As the earth revolves around the sun, the tilt stays the same</a:t>
            </a:r>
            <a:endParaRPr b="0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41400" y="3202200"/>
            <a:ext cx="1001880" cy="1019880"/>
            <a:chOff x="941400" y="3202200"/>
            <a:chExt cx="1001880" cy="1019880"/>
          </a:xfrm>
        </p:grpSpPr>
        <p:sp>
          <p:nvSpPr>
            <p:cNvPr id="120" name=""/>
            <p:cNvSpPr/>
            <p:nvPr/>
          </p:nvSpPr>
          <p:spPr>
            <a:xfrm>
              <a:off x="1192680" y="3202200"/>
              <a:ext cx="465480" cy="999000"/>
            </a:xfrm>
            <a:prstGeom prst="line">
              <a:avLst/>
            </a:prstGeom>
            <a:ln w="28440">
              <a:solidFill>
                <a:srgbClr val="ff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ufferaw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 rot="20148600">
              <a:off x="1065240" y="3334680"/>
              <a:ext cx="753840" cy="766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139 C -0.00104 -0.11134 0.16875 -0.20347 0.37691 -0.20347 C 0.58542 -0.20347 0.75487 -0.11134 0.75487 0.00139 C 0.75487 0.11412 0.58542 0.20579 0.37691 0.20579 C 0.16875 0.20579 -0.00104 0.11412 -0.00104 0.00139 Z">
                                      <p:cBhvr>
                                        <p:cTn id="144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49280" y="2195640"/>
            <a:ext cx="6912000" cy="282096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ufferaw"/>
              </a:rPr>
              <a:t>This means that the hemisphere that gets the most sunlight changes throughout the year</a:t>
            </a:r>
            <a:endParaRPr b="1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691080" y="2517840"/>
            <a:ext cx="2220840" cy="2220840"/>
            <a:chOff x="3691080" y="2517840"/>
            <a:chExt cx="2220840" cy="222084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9517" t="3635" r="11367" b="19892"/>
            <a:stretch/>
          </p:blipFill>
          <p:spPr>
            <a:xfrm>
              <a:off x="4005360" y="2870640"/>
              <a:ext cx="1575720" cy="15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691080" y="2517840"/>
              <a:ext cx="2220840" cy="2220840"/>
            </a:xfrm>
            <a:prstGeom prst="donut">
              <a:avLst>
                <a:gd name="adj" fmla="val 168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ufferaw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012680" y="1579680"/>
            <a:ext cx="12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8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303"/>
                </a:solidFill>
                <a:latin typeface="Mufferaw"/>
              </a:rPr>
              <a:t>Which hemisphere gets the most sunlight?</a:t>
            </a:r>
            <a:endParaRPr b="0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29" name=""/>
          <p:cNvSpPr/>
          <p:nvPr/>
        </p:nvSpPr>
        <p:spPr>
          <a:xfrm>
            <a:off x="1708200" y="3340080"/>
            <a:ext cx="158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ufferaw"/>
              </a:rPr>
              <a:t>Southern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30" name=""/>
          <p:cNvSpPr/>
          <p:nvPr/>
        </p:nvSpPr>
        <p:spPr>
          <a:xfrm>
            <a:off x="4356000" y="1327320"/>
            <a:ext cx="1077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ufferaw"/>
              </a:rPr>
              <a:t>Equal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31" name=""/>
          <p:cNvSpPr/>
          <p:nvPr/>
        </p:nvSpPr>
        <p:spPr>
          <a:xfrm>
            <a:off x="6151680" y="3373560"/>
            <a:ext cx="172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ufferaw"/>
              </a:rPr>
              <a:t>Northern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32" name=""/>
          <p:cNvSpPr/>
          <p:nvPr/>
        </p:nvSpPr>
        <p:spPr>
          <a:xfrm>
            <a:off x="4233960" y="4363920"/>
            <a:ext cx="11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33" name=""/>
          <p:cNvSpPr/>
          <p:nvPr/>
        </p:nvSpPr>
        <p:spPr>
          <a:xfrm>
            <a:off x="4299120" y="5376960"/>
            <a:ext cx="1360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ufferaw"/>
              </a:rPr>
              <a:t>Equal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85600" y="3062520"/>
            <a:ext cx="1001880" cy="1019880"/>
            <a:chOff x="885600" y="3062520"/>
            <a:chExt cx="1001880" cy="1019880"/>
          </a:xfrm>
        </p:grpSpPr>
        <p:sp>
          <p:nvSpPr>
            <p:cNvPr id="135" name=""/>
            <p:cNvSpPr/>
            <p:nvPr/>
          </p:nvSpPr>
          <p:spPr>
            <a:xfrm>
              <a:off x="1137240" y="3062520"/>
              <a:ext cx="465840" cy="998640"/>
            </a:xfrm>
            <a:prstGeom prst="line">
              <a:avLst/>
            </a:prstGeom>
            <a:ln w="28440">
              <a:solidFill>
                <a:srgbClr val="ff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ufferaw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 rot="20148600">
              <a:off x="1009440" y="3195000"/>
              <a:ext cx="754200" cy="76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0764 C -0.00208 -0.10509 0.16771 -0.19722 0.37587 -0.19722 C 0.58437 -0.19722 0.75382 -0.10509 0.75382 0.00764 C 0.75382 0.12037 0.58437 0.21204 0.37587 0.21204 C 0.16771 0.21204 -0.00208 0.12037 -0.00208 0.00764 Z">
                                      <p:cBhvr>
                                        <p:cTn id="150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C -0.00173 -0.00903 -0.0033 -0.01782 0.00122 -0.03009 C 0.00591 -0.04236 0.01754 -0.05926 0.02813 -0.07292 C 0.03872 -0.08657 0.05122 -0.10162 0.06476 -0.11273 C 0.0783 -0.12384 0.09479 -0.13171 0.10938 -0.13958 C 0.12396 -0.14745 0.13403 -0.15324 0.15156 -0.16018 C 0.16927 -0.16713 0.19358 -0.17546 0.21528 -0.18079 C 0.23681 -0.18611 0.26285 -0.18958 0.28108 -0.1919 C 0.29931 -0.19421 0.30955 -0.19375 0.32448 -0.19514 C 0.33941 -0.19653 0.3625 -0.19954 0.37049 -0.2 E">
                                      <p:cBhvr>
                                        <p:cTn id="16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48 -0.2 C 0.38107 -0.20092 0.39184 -0.20162 0.41093 -0.2 C 0.43003 -0.19838 0.46232 -0.19421 0.48472 -0.19051 C 0.50711 -0.1868 0.52326 -0.18403 0.54548 -0.17778 C 0.5677 -0.17153 0.59705 -0.16157 0.61805 -0.15231 C 0.63906 -0.14305 0.65573 -0.1331 0.67152 -0.12222 C 0.68732 -0.11134 0.70121 -0.1 0.71319 -0.08727 C 0.72517 -0.07454 0.73611 -0.06065 0.74305 -0.04606 C 0.75 -0.03148 0.75295 -0.00995 0.75486 1.48148E-006 C 0.75677 0.00996 0.75573 0.01204 0.75486 0.01435 E">
                                      <p:cBhvr>
                                        <p:cTn id="17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486 0.01435 C 0.75295 0.03009 0.75104 0.04607 0.74427 0.06042 C 0.7375 0.07477 0.72813 0.08611 0.71441 0.1 C 0.7007 0.11389 0.67969 0.13148 0.66198 0.14306 C 0.64427 0.15463 0.6309 0.16111 0.60851 0.16991 C 0.58611 0.1787 0.55347 0.18866 0.52761 0.19537 C 0.50174 0.20208 0.47483 0.20625 0.45365 0.20972 C 0.43247 0.2132 0.41163 0.21528 0.40018 0.21597 C 0.38872 0.21667 0.38663 0.21551 0.38472 0.21435 E">
                                      <p:cBhvr>
                                        <p:cTn id="18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472 0.21435 C 0.34791 0.21181 0.31128 0.20926 0.28593 0.20648 C 0.26059 0.20371 0.25416 0.20394 0.23229 0.19838 C 0.21041 0.19283 0.18038 0.1838 0.15486 0.17315 C 0.12934 0.1625 0.10017 0.14931 0.07882 0.13496 C 0.05746 0.1206 0.03923 0.10394 0.02639 0.08727 C 0.01354 0.0706 0.00607 0.04931 0.00139 0.03496 C -0.0033 0.0206 -0.00278 0.01111 -0.00226 0.00162 E">
                                      <p:cBhvr>
                                        <p:cTn id="18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303"/>
                </a:solidFill>
                <a:latin typeface="Mufferaw"/>
              </a:rPr>
              <a:t>Do you think it’s hotter or colder when we have more sunlight?</a:t>
            </a:r>
            <a:endParaRPr b="1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04804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303"/>
                </a:solidFill>
                <a:latin typeface="Mufferaw"/>
              </a:rPr>
              <a:t>What season is it when it’s hotter?</a:t>
            </a:r>
            <a:endParaRPr b="0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3254400"/>
            <a:ext cx="71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303"/>
                </a:solidFill>
                <a:latin typeface="Mufferaw"/>
              </a:rPr>
              <a:t>When we have less sunlight, what season are we in?</a:t>
            </a:r>
            <a:endParaRPr b="0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40" name=""/>
          <p:cNvSpPr/>
          <p:nvPr/>
        </p:nvSpPr>
        <p:spPr>
          <a:xfrm>
            <a:off x="763560" y="4735440"/>
            <a:ext cx="752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303"/>
                </a:solidFill>
                <a:latin typeface="Mufferaw"/>
              </a:rPr>
              <a:t>What season do you think we’re in  if both hemispheres are getting the same amount of sunlight?</a:t>
            </a:r>
            <a:endParaRPr b="0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604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303"/>
                </a:solidFill>
                <a:latin typeface="Mufferaw"/>
              </a:rPr>
              <a:t>What season is the northern hemisphere experiencing?</a:t>
            </a:r>
            <a:r>
              <a:rPr b="1" lang="en-US" sz="3600" spc="-1" strike="noStrike">
                <a:solidFill>
                  <a:srgbClr val="000000"/>
                </a:solidFill>
                <a:latin typeface="Muffera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42" name=""/>
          <p:cNvSpPr/>
          <p:nvPr/>
        </p:nvSpPr>
        <p:spPr>
          <a:xfrm>
            <a:off x="1260360" y="2562120"/>
            <a:ext cx="6912000" cy="282096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602160" y="2884320"/>
            <a:ext cx="2220840" cy="2221200"/>
            <a:chOff x="3602160" y="2884320"/>
            <a:chExt cx="2220840" cy="22212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9517" t="3635" r="11367" b="19892"/>
            <a:stretch/>
          </p:blipFill>
          <p:spPr>
            <a:xfrm>
              <a:off x="3916440" y="3237120"/>
              <a:ext cx="1575720" cy="15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602160" y="2884320"/>
              <a:ext cx="2220840" cy="2221200"/>
            </a:xfrm>
            <a:prstGeom prst="donut">
              <a:avLst>
                <a:gd name="adj" fmla="val 168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ufferaw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619280" y="3706920"/>
            <a:ext cx="158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ufferaw"/>
              </a:rPr>
              <a:t>winter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1682640"/>
            <a:ext cx="1241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ufferaw"/>
              </a:rPr>
              <a:t>spring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48" name=""/>
          <p:cNvSpPr/>
          <p:nvPr/>
        </p:nvSpPr>
        <p:spPr>
          <a:xfrm>
            <a:off x="6419880" y="374004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ufferaw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49" name=""/>
          <p:cNvSpPr/>
          <p:nvPr/>
        </p:nvSpPr>
        <p:spPr>
          <a:xfrm>
            <a:off x="4145040" y="4730760"/>
            <a:ext cx="11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50" name=""/>
          <p:cNvSpPr/>
          <p:nvPr/>
        </p:nvSpPr>
        <p:spPr>
          <a:xfrm>
            <a:off x="4384800" y="5765760"/>
            <a:ext cx="1360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ufferaw"/>
              </a:rPr>
              <a:t>Fall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7320" y="3419640"/>
            <a:ext cx="1001880" cy="1019880"/>
            <a:chOff x="787320" y="3419640"/>
            <a:chExt cx="1001880" cy="1019880"/>
          </a:xfrm>
        </p:grpSpPr>
        <p:sp>
          <p:nvSpPr>
            <p:cNvPr id="152" name=""/>
            <p:cNvSpPr/>
            <p:nvPr/>
          </p:nvSpPr>
          <p:spPr>
            <a:xfrm>
              <a:off x="1038600" y="3419640"/>
              <a:ext cx="465480" cy="999000"/>
            </a:xfrm>
            <a:prstGeom prst="line">
              <a:avLst/>
            </a:prstGeom>
            <a:ln w="28440">
              <a:solidFill>
                <a:srgbClr val="ff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ufferaw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 rot="20148600">
              <a:off x="911160" y="3552120"/>
              <a:ext cx="753840" cy="76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C 3.05556E-006 -0.0088 3.05556E-006 -0.01736 0.00243 -0.02709 C 0.00486 -0.03681 0.00834 -0.04931 0.01424 -0.0588 C 0.02014 -0.06829 0.02882 -0.075 0.03802 -0.08426 C 0.04722 -0.09352 0.05486 -0.10463 0.0691 -0.11435 C 0.08334 -0.12408 0.1033 -0.13357 0.12379 -0.14283 C 0.14427 -0.15209 0.16702 -0.1625 0.19167 -0.16991 C 0.21632 -0.17732 0.24636 -0.18334 0.27136 -0.18727 C 0.29636 -0.19121 0.32396 -0.19236 0.34167 -0.19375 C 0.35938 -0.19514 0.37084 -0.19514 0.37743 -0.19537 E">
                                      <p:cBhvr>
                                        <p:cTn id="21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743 -0.19537 C 0.39115 -0.19607 0.40504 -0.19653 0.42031 -0.19537 C 0.43559 -0.19422 0.44861 -0.19213 0.4691 -0.18889 C 0.48958 -0.18565 0.51893 -0.18241 0.54288 -0.17616 C 0.56684 -0.16991 0.59184 -0.16042 0.6132 -0.15093 C 0.63455 -0.14144 0.65452 -0.13056 0.67153 -0.11922 C 0.68854 -0.10787 0.70261 -0.09769 0.71545 -0.08264 C 0.7283 -0.0676 0.74236 -0.04352 0.74879 -0.02871 C 0.75521 -0.01389 0.75434 -0.00394 0.75365 0.00625 E">
                                      <p:cBhvr>
                                        <p:cTn id="22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365 0.00625 C 0.75383 0.01643 0.754 0.02685 0.75244 0.03472 C 0.75087 0.04259 0.74758 0.04653 0.7441 0.05393 C 0.74063 0.06134 0.73699 0.07037 0.73108 0.07916 C 0.72518 0.08796 0.71667 0.09768 0.70834 0.10625 C 0.70001 0.11481 0.69219 0.12222 0.68108 0.13009 C 0.66997 0.13796 0.65556 0.14629 0.64167 0.15393 C 0.62778 0.16157 0.6165 0.16898 0.59775 0.17616 C 0.579 0.18333 0.55556 0.19097 0.52865 0.19676 C 0.50174 0.20254 0.46042 0.20856 0.43577 0.21111 C 0.41112 0.21366 0.39601 0.21296 0.38108 0.2125 E">
                                      <p:cBhvr>
                                        <p:cTn id="2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108 0.2125 C 0.36858 0.2125 0.35625 0.21273 0.33576 0.21088 C 0.31528 0.20903 0.28264 0.20579 0.25833 0.20139 C 0.23403 0.19699 0.21198 0.19097 0.18941 0.18403 C 0.16684 0.17708 0.14427 0.17106 0.12274 0.16018 C 0.10122 0.1493 0.07778 0.13333 0.06076 0.11898 C 0.04375 0.10463 0.02934 0.08704 0.02031 0.07454 C 0.01129 0.06204 0.00903 0.05717 0.00608 0.04421 C 0.00312 0.03125 0.00278 0.01389 0.00243 -0.00324 E">
                                      <p:cBhvr>
                                        <p:cTn id="24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21420000">
            <a:off x="1577520" y="2466720"/>
            <a:ext cx="6202440" cy="34192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ufferaw"/>
              </a:rPr>
              <a:t>A common misconception is that the seasons are caused by the earth’s distance from the sun</a:t>
            </a:r>
            <a:endParaRPr b="1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406600" y="3036960"/>
            <a:ext cx="2274840" cy="2274840"/>
            <a:chOff x="2406600" y="3036960"/>
            <a:chExt cx="2274840" cy="22748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9517" t="3635" r="11367" b="19892"/>
            <a:stretch/>
          </p:blipFill>
          <p:spPr>
            <a:xfrm>
              <a:off x="2728800" y="3398040"/>
              <a:ext cx="1613880" cy="15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406600" y="3036960"/>
              <a:ext cx="2274840" cy="2274840"/>
            </a:xfrm>
            <a:prstGeom prst="donut">
              <a:avLst>
                <a:gd name="adj" fmla="val 168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ufferaw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 rot="20284800">
            <a:off x="1292040" y="4035240"/>
            <a:ext cx="571320" cy="580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2400" y="4049640"/>
            <a:ext cx="12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ufferaw"/>
              </a:rPr>
              <a:t>summer</a:t>
            </a:r>
            <a:endParaRPr b="0" lang="en-US" sz="2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69704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ufferaw"/>
              </a:rPr>
              <a:t>Fall</a:t>
            </a:r>
            <a:endParaRPr b="0" lang="en-US" sz="2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62" name=""/>
          <p:cNvSpPr/>
          <p:nvPr/>
        </p:nvSpPr>
        <p:spPr>
          <a:xfrm>
            <a:off x="8121600" y="4452840"/>
            <a:ext cx="10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ufferaw"/>
              </a:rPr>
              <a:t>winter</a:t>
            </a:r>
            <a:endParaRPr b="0" lang="en-US" sz="22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63" name=""/>
          <p:cNvSpPr/>
          <p:nvPr/>
        </p:nvSpPr>
        <p:spPr>
          <a:xfrm>
            <a:off x="4429080" y="6292800"/>
            <a:ext cx="174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ufferaw"/>
              </a:rPr>
              <a:t>spring</a:t>
            </a:r>
            <a:endParaRPr b="0" lang="en-US" sz="22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7 C -0.00451 -0.13819 0.1434 -0.26042 0.33021 -0.27199 C 0.51719 -0.28148 0.67274 -0.17963 0.67778 -0.0412 C 0.68143 0.09745 0.53438 0.21852 0.34757 0.23009 C 0.16077 0.2412 0.00486 0.13889 -1.38889E-006 -3.7037E-007 Z">
                                      <p:cBhvr>
                                        <p:cTn id="248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0680" y="99180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ufferaw"/>
              </a:rPr>
              <a:t>But During our winter, We’re actually closer to the sun than during the summer!</a:t>
            </a:r>
            <a:endParaRPr b="1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65" name=""/>
          <p:cNvSpPr/>
          <p:nvPr/>
        </p:nvSpPr>
        <p:spPr>
          <a:xfrm>
            <a:off x="5241960" y="2257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166" name=""/>
          <p:cNvSpPr/>
          <p:nvPr/>
        </p:nvSpPr>
        <p:spPr>
          <a:xfrm>
            <a:off x="401760" y="3711600"/>
            <a:ext cx="835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ufferaw"/>
              </a:rPr>
              <a:t>So seasons are caused by the earth’s tilt and the distribution of sunlight, not the distance form the sun</a:t>
            </a:r>
            <a:endParaRPr b="0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81080" y="1295280"/>
            <a:ext cx="48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ufferaw"/>
              </a:rPr>
              <a:t>Rotation is spinning around an axis:</a:t>
            </a:r>
            <a:endParaRPr b="0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1484280" cy="17953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743200" y="2895480"/>
            <a:ext cx="1600200" cy="685800"/>
            <a:chOff x="2743200" y="2895480"/>
            <a:chExt cx="1600200" cy="685800"/>
          </a:xfrm>
        </p:grpSpPr>
        <p:grpSp>
          <p:nvGrpSpPr>
            <p:cNvPr id="52" name=""/>
            <p:cNvGrpSpPr/>
            <p:nvPr/>
          </p:nvGrpSpPr>
          <p:grpSpPr>
            <a:xfrm>
              <a:off x="3429360" y="3124080"/>
              <a:ext cx="914040" cy="457200"/>
              <a:chOff x="3429360" y="3124080"/>
              <a:chExt cx="914040" cy="457200"/>
            </a:xfrm>
          </p:grpSpPr>
          <p:sp>
            <p:nvSpPr>
              <p:cNvPr id="53" name=""/>
              <p:cNvSpPr/>
              <p:nvPr/>
            </p:nvSpPr>
            <p:spPr>
              <a:xfrm>
                <a:off x="4125960" y="3124080"/>
                <a:ext cx="2174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uffera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3429360" y="3124080"/>
                <a:ext cx="69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ufferaw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74320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ufferaw"/>
                </a:rPr>
                <a:t>Axis</a:t>
              </a:r>
              <a:endParaRPr b="0" lang="en-US" sz="2400" spc="-1" strike="noStrike">
                <a:solidFill>
                  <a:srgbClr val="000000"/>
                </a:solidFill>
                <a:latin typeface="Mufferaw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0080" y="3962520"/>
            <a:ext cx="2133720" cy="1600200"/>
            <a:chOff x="5410080" y="3962520"/>
            <a:chExt cx="2133720" cy="1600200"/>
          </a:xfrm>
        </p:grpSpPr>
        <p:sp>
          <p:nvSpPr>
            <p:cNvPr id="57" name=""/>
            <p:cNvSpPr/>
            <p:nvPr/>
          </p:nvSpPr>
          <p:spPr>
            <a:xfrm rot="5400000">
              <a:off x="4914720" y="4457520"/>
              <a:ext cx="1600200" cy="609840"/>
            </a:xfrm>
            <a:custGeom>
              <a:avLst/>
              <a:gdLst>
                <a:gd name="textAreaLeft" fmla="*/ 280080 w 1600200"/>
                <a:gd name="textAreaRight" fmla="*/ 1160280 w 16002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ufferaw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5880" y="441972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ufferaw"/>
                </a:rPr>
                <a:t>Rotation</a:t>
              </a:r>
              <a:endParaRPr b="0" lang="en-US" sz="2400" spc="-1" strike="noStrike">
                <a:solidFill>
                  <a:srgbClr val="000000"/>
                </a:solidFill>
                <a:latin typeface="Mufferaw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95480" y="3200400"/>
            <a:ext cx="3581640" cy="228600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914400"/>
            <a:ext cx="60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ufferaw"/>
              </a:rPr>
              <a:t>Revolution is traveling in a circular (round) path:</a:t>
            </a:r>
            <a:endParaRPr b="0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26040" y="2590920"/>
            <a:ext cx="9554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0463 C 0.10799 0.00463 0.19601 0.07893 0.19601 0.17129 C 0.19601 0.26296 0.10799 0.33796 -3.61111E-006 0.33796 C -0.10816 0.33796 -0.19566 0.26296 -0.19566 0.17129 C -0.19566 0.07893 -0.10816 0.00463 -3.61111E-006 0.00463 Z">
                                      <p:cBhvr>
                                        <p:cTn id="16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76212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ufferaw"/>
              </a:rPr>
              <a:t>Rotation and Revolution is exactly what happens to planets:</a:t>
            </a:r>
            <a:endParaRPr b="0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20439600">
            <a:off x="4191120" y="2514600"/>
            <a:ext cx="172224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990720" y="3700440"/>
            <a:ext cx="3419280" cy="1864440"/>
            <a:chOff x="990720" y="3700440"/>
            <a:chExt cx="3419280" cy="1864440"/>
          </a:xfrm>
        </p:grpSpPr>
        <p:sp>
          <p:nvSpPr>
            <p:cNvPr id="65" name=""/>
            <p:cNvSpPr/>
            <p:nvPr/>
          </p:nvSpPr>
          <p:spPr>
            <a:xfrm>
              <a:off x="990720" y="4191120"/>
              <a:ext cx="3276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ufferaw"/>
                </a:rPr>
                <a:t>Our earth rotates once every day</a:t>
              </a:r>
              <a:endParaRPr b="0" lang="en-US" sz="2800" spc="-1" strike="noStrike">
                <a:solidFill>
                  <a:srgbClr val="000000"/>
                </a:solidFill>
                <a:latin typeface="Mufferaw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4140200">
              <a:off x="3812400" y="3882960"/>
              <a:ext cx="603000" cy="304200"/>
            </a:xfrm>
            <a:custGeom>
              <a:avLst/>
              <a:gdLst>
                <a:gd name="textAreaLeft" fmla="*/ 92880 w 603000"/>
                <a:gd name="textAreaRight" fmla="*/ 449640 w 603000"/>
                <a:gd name="textAreaTop" fmla="*/ 40680 h 304200"/>
                <a:gd name="textAreaBottom" fmla="*/ 263520 h 30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4" hR="21600" stAng="10800000" swAng="5400000"/>
                  <a:lnTo>
                    <a:pt x="12762" y="0"/>
                  </a:lnTo>
                  <a:arcTo wR="6674" hR="21600" stAng="-5400000" swAng="2319271"/>
                  <a:lnTo>
                    <a:pt x="21152" y="13817"/>
                  </a:lnTo>
                  <a:lnTo>
                    <a:pt x="16391" y="21600"/>
                  </a:lnTo>
                  <a:lnTo>
                    <a:pt x="10734" y="13817"/>
                  </a:lnTo>
                  <a:lnTo>
                    <a:pt x="12899" y="13817"/>
                  </a:lnTo>
                  <a:arcTo wR="6674" hR="21600" stAng="-3080729" swAng="-1779355"/>
                  <a:lnTo>
                    <a:pt x="9718" y="2378"/>
                  </a:lnTo>
                  <a:arcTo wR="6674" hR="21600" stAng="-5939916" swAng="-4860084"/>
                  <a:close/>
                </a:path>
                <a:path fill="darkenLess" w="21600" h="21600">
                  <a:moveTo>
                    <a:pt x="0" y="21600"/>
                  </a:moveTo>
                  <a:arcTo wR="6674" hR="21600" stAng="10800000" swAng="5400000"/>
                  <a:lnTo>
                    <a:pt x="6674" y="0"/>
                  </a:lnTo>
                  <a:arcTo wR="6674" hR="21600" stAng="-5400000" swAng="539916"/>
                  <a:lnTo>
                    <a:pt x="9718" y="2378"/>
                  </a:lnTo>
                  <a:arcTo wR="6674" hR="21600" stAng="-5939916" swAng="-4860084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ufferaw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20439600">
            <a:off x="1066680" y="3504960"/>
            <a:ext cx="730440" cy="742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3997" b="16002"/>
          <a:stretch/>
        </p:blipFill>
        <p:spPr>
          <a:xfrm>
            <a:off x="3733920" y="2743200"/>
            <a:ext cx="2133360" cy="186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9144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ufferaw"/>
              </a:rPr>
              <a:t>And revolves once Every year around the sun</a:t>
            </a:r>
            <a:endParaRPr b="0" lang="en-US" sz="28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2709 C -0.00018 -0.15834 0.16857 -0.26551 0.37569 -0.26551 C 0.58298 -0.26551 0.75156 -0.15834 0.75156 -0.02709 C 0.75156 0.10416 0.58298 0.21018 0.37569 0.21018 C 0.16857 0.21018 -0.00018 0.10416 -0.00018 -0.02709 Z">
                                      <p:cBhvr>
                                        <p:cTn id="2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121932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ufferaw"/>
              </a:rPr>
              <a:t>The sun and all the planets rotate</a:t>
            </a:r>
            <a:endParaRPr b="0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96252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ufferaw"/>
              </a:rPr>
              <a:t>AND,</a:t>
            </a:r>
            <a:r>
              <a:rPr b="1" lang="en-US" sz="4000" spc="-1" strike="noStrike">
                <a:solidFill>
                  <a:srgbClr val="000000"/>
                </a:solidFill>
                <a:latin typeface="Mufferaw"/>
              </a:rPr>
              <a:t> the planets all revolve around the sun!</a:t>
            </a:r>
            <a:endParaRPr b="0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267080" y="4876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067040" cy="568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495680" y="685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 rot="16200000">
            <a:off x="0" y="3276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286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ufferaw"/>
              </a:rPr>
              <a:t>It can be dizzying!</a:t>
            </a:r>
            <a:endParaRPr b="0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613680" y="2387520"/>
            <a:ext cx="2221200" cy="2242440"/>
            <a:chOff x="3613680" y="2387520"/>
            <a:chExt cx="2221200" cy="2242440"/>
          </a:xfrm>
        </p:grpSpPr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3809880" y="2590920"/>
              <a:ext cx="1752840" cy="17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3613680" y="2387520"/>
              <a:ext cx="2221200" cy="2242440"/>
              <a:chOff x="3613680" y="2387520"/>
              <a:chExt cx="2221200" cy="2242440"/>
            </a:xfrm>
          </p:grpSpPr>
          <p:sp>
            <p:nvSpPr>
              <p:cNvPr id="80" name=""/>
              <p:cNvSpPr/>
              <p:nvPr/>
            </p:nvSpPr>
            <p:spPr>
              <a:xfrm>
                <a:off x="3733920" y="2514600"/>
                <a:ext cx="1904760" cy="1905120"/>
              </a:xfrm>
              <a:prstGeom prst="ellipse">
                <a:avLst/>
              </a:prstGeom>
              <a:noFill/>
              <a:ln w="216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uffera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57600" y="3962520"/>
                <a:ext cx="838080" cy="4572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uffera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7964000">
                <a:off x="4990680" y="3924000"/>
                <a:ext cx="838080" cy="4572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uffera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1671200">
                <a:off x="4952520" y="2514600"/>
                <a:ext cx="838440" cy="4572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ufferaw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6498000">
                <a:off x="3542760" y="2628720"/>
                <a:ext cx="838440" cy="4572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ufferaw"/>
                </a:endParaRPr>
              </a:p>
            </p:txBody>
          </p:sp>
        </p:grpSp>
      </p:grp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4724280" y="2286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276720" y="33526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6629400" y="3429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4648320" y="19051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39 C 3.33333E-006 -0.06898 0.06736 -0.125 0.15 -0.125 C 0.23281 -0.125 0.3 -0.06898 0.3 -0.00139 C 0.3 0.06736 0.23281 0.12222 0.15 0.12222 C 0.06736 0.12222 3.33333E-006 0.06736 3.33333E-006 -0.00139 Z">
                                      <p:cBhvr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3.33333E-006 C 0.09236 -3.33333E-006 0.1743 0.06968 0.17482 0.15556 C 0.1743 0.24121 0.09271 0.31088 -0.00868 0.31111 C -0.10973 0.31111 -0.19132 0.24098 -0.19167 0.1551 C -0.19132 0.06968 -0.10973 -3.33333E-006 -0.00851 -3.33333E-006 Z">
                                      <p:cBhvr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1412 C -0.00017 0.08541 -0.09653 0.16643 -0.21476 0.16643 C -0.33316 0.16643 -0.42934 0.08541 -0.42934 -0.01412 C -0.42934 -0.11366 -0.33316 -0.19445 -0.21476 -0.19445 C -0.09653 -0.19445 -0.00017 -0.11366 -0.00017 -0.01412 Z">
                                      <p:cBhvr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C 0.12864 1.11111E-006 0.23333 0.09213 0.23333 0.20555 C 0.23333 0.31875 0.12864 0.41111 3.33333E-006 0.41111 C -0.129 0.41111 -0.23334 0.31875 -0.23334 0.20555 C -0.23334 0.09213 -0.129 1.11111E-006 3.33333E-006 1.11111E-006 Z">
                                      <p:cBhvr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3.33333E-006 C 0.17222 3.33333E-006 0.3125 -0.11991 0.3125 -0.26667 C 0.3125 -0.41436 0.17222 -0.53334 -1.11022E-016 -0.53334 C -0.17257 -0.53334 -0.3125 -0.41436 -0.3125 -0.26667 C -0.3125 -0.11991 -0.17257 3.33333E-006 -1.11022E-016 3.33333E-006 Z">
                                      <p:cBhvr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C 0 -0.17754 0.17951 -0.32245 0.4 -0.32245 C 0.62066 -0.32245 0.8 -0.17754 0.8 -3.7037E-006 C 0.8 0.17801 0.62066 0.32199 0.4 0.32199 C 0.17951 0.32199 0 0.17801 0 -3.7037E-006 Z">
                                      <p:cBhvr>
                                        <p:cTn id="54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0.24774 -3.33333E-006 0.45 0.16436 0.45 0.36667 C 0.45 0.56852 0.24774 0.73334 0 0.73334 C -0.24844 0.73334 -0.45 0.56852 -0.45 0.36667 C -0.45 0.16436 -0.24844 -3.33333E-006 0 -3.33333E-006 Z">
                                      <p:cBhvr>
                                        <p:cTn id="56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 C 3.46945E-018 -0.23218 0.21875 -0.42199 0.4875 -0.42199 C 0.7566 -0.42199 0.975 -0.23218 0.975 0 C 0.975 0.2331 0.7566 0.42222 0.4875 0.42222 C 0.21875 0.42222 3.46945E-018 0.2331 3.46945E-018 0 Z">
                                      <p:cBhvr>
                                        <p:cTn id="58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303"/>
                </a:solidFill>
                <a:latin typeface="Mufferaw"/>
              </a:rPr>
              <a:t>Why do you think It gets cold in the winter?</a:t>
            </a:r>
            <a:endParaRPr b="1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7339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19112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114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303"/>
                </a:solidFill>
                <a:latin typeface="Mufferaw"/>
              </a:rPr>
              <a:t>What season is it in australia during december?</a:t>
            </a:r>
            <a:endParaRPr b="0" lang="en-US" sz="40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61000" y="2162160"/>
            <a:ext cx="3240" cy="3057480"/>
          </a:xfrm>
          <a:prstGeom prst="line">
            <a:avLst/>
          </a:prstGeom>
          <a:ln w="5724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216320" y="2336760"/>
            <a:ext cx="523800" cy="106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95" name=""/>
          <p:cNvSpPr/>
          <p:nvPr/>
        </p:nvSpPr>
        <p:spPr>
          <a:xfrm>
            <a:off x="4130640" y="1887480"/>
            <a:ext cx="80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ufferaw"/>
              </a:rPr>
              <a:t>23°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ufferaw"/>
              </a:rPr>
              <a:t>Seasons are caused by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ufferaw"/>
              </a:rPr>
              <a:t>earth’s tilt</a:t>
            </a:r>
            <a:endParaRPr b="1" lang="en-US" sz="3600" spc="-1" strike="noStrike">
              <a:solidFill>
                <a:srgbClr val="000000"/>
              </a:solidFill>
              <a:latin typeface="Mufferaw"/>
            </a:endParaRPr>
          </a:p>
        </p:txBody>
      </p:sp>
      <p:sp>
        <p:nvSpPr>
          <p:cNvPr id="97" name=""/>
          <p:cNvSpPr/>
          <p:nvPr/>
        </p:nvSpPr>
        <p:spPr>
          <a:xfrm>
            <a:off x="4765680" y="2138400"/>
            <a:ext cx="0" cy="3124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uffera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97280" y="2770200"/>
            <a:ext cx="1917720" cy="1947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85800" y="583416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ufferaw"/>
              </a:rPr>
              <a:t>The earth’s rotation is tilted at 23°</a:t>
            </a:r>
            <a:r>
              <a:rPr b="0" lang="en-US" sz="2500" spc="-1" strike="noStrike">
                <a:solidFill>
                  <a:srgbClr val="000000"/>
                </a:solidFill>
                <a:latin typeface="Muffera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Muffera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40000">
                                      <p:cBhvr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40000">
                                      <p:cBhvr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7:19:46Z</dcterms:created>
  <dc:creator>Jeremiah McNichols</dc:creator>
  <dc:description/>
  <dc:language>en-US</dc:language>
  <cp:lastModifiedBy>ljlab</cp:lastModifiedBy>
  <dcterms:modified xsi:type="dcterms:W3CDTF">2008-11-10T15:33:16Z</dcterms:modified>
  <cp:revision>19</cp:revision>
  <dc:subject/>
  <dc:title>Slide 1</dc:title>
</cp:coreProperties>
</file>