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2CA6-4B4B-46DA-B377-04AA184B3AB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luenc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3 (A, B, E, G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Forming and revising questions for investig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Using text organiz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) 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ing ideas and plans for writing by using prewriting strategi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6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sing original texts, applying the conventions of written language to communicate clear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ying standard grammar and usage to communicate clearly and effectively in writing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, C, D, 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 Developing drafts by categorizing ideas and organizing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Revising selected drafts by adding, elaborating, deleting, combining, and rearranging 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) Revising drafts for coherence, progression, and logical support of id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Editing drafts for specific purpo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5 (C, E, F, H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 Writing to in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) Selecting and using voice and style appropriate to audience and purp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) Choosing the appropriate form for own purpose for wri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) Producing cohesive written 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18 (B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ing drafts by categorizing ideas and organizing the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English – 6.15 (C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A262-E533-4EC5-9F04-B8B9C6CB2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43AC-6E34-49A7-9D9D-41D8AC2D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2BC-81CE-49EA-BDB7-0D0E411D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886E-86B7-4A1A-A626-9813D915B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548-3267-46AE-9A84-CDCC1FCD3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C25D-5D01-448D-BED3-ECBED8482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3490-6047-46B1-A6D5-1DC7EAE4C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B438-A4B7-42A1-B922-05A57C70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CB00-9B80-4A1E-837A-EFEF1177A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D8E3-7CFA-419E-9658-2ADB3EDE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9B53-E5D5-429C-8201-9167C83D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FC7B-4895-4F96-B5D1-54C37118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2726A-1DAB-4E20-9165-6CB7E4C789DE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omparing and Contrasting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 essay that compares and contrasts explains how two or more things are alike and how they are different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061720" y="1766880"/>
            <a:ext cx="1440" cy="1440"/>
          </a:xfrm>
          <a:prstGeom prst="rect">
            <a:avLst/>
          </a:prstGeom>
          <a:solidFill>
            <a:srgbClr val="5b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518840" y="1628640"/>
            <a:ext cx="1440" cy="1800"/>
          </a:xfrm>
          <a:prstGeom prst="rect">
            <a:avLst/>
          </a:prstGeom>
          <a:solidFill>
            <a:srgbClr val="51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296800" y="1174680"/>
            <a:ext cx="2880" cy="1800"/>
          </a:xfrm>
          <a:custGeom>
            <a:avLst/>
            <a:gdLst/>
            <a:ahLst/>
            <a:rect l="l" t="t" r="r" b="b"/>
            <a:pathLst>
              <a:path w="3" h="0">
                <a:moveTo>
                  <a:pt x="3" y="0"/>
                </a:moveTo>
                <a:lnTo>
                  <a:pt x="3" y="0"/>
                </a:lnTo>
                <a:lnTo>
                  <a:pt x="0" y="0"/>
                </a:lnTo>
                <a:lnTo>
                  <a:pt x="3" y="0"/>
                </a:lnTo>
                <a:close/>
              </a:path>
            </a:pathLst>
          </a:custGeom>
          <a:solidFill>
            <a:srgbClr val="35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115640" y="1217520"/>
            <a:ext cx="1440" cy="18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514600" y="3809880"/>
            <a:ext cx="410364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Now You Try I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two things that you can compare and contrast.  For example, compare and contrast your preferences in music to those of your parents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ld a sheet of paper in half lengthwise. 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List all the ways the music you like is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different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from the music your parents like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On the other side, list all the ways that the music you like is the </a:t>
            </a:r>
            <a:r>
              <a:rPr b="0" lang="en-US" sz="2400" spc="-1" strike="noStrike" u="sng">
                <a:solidFill>
                  <a:srgbClr val="ebebeb"/>
                </a:solidFill>
                <a:uFillTx/>
                <a:latin typeface="Times New Roman"/>
              </a:rPr>
              <a:t>same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 as the music your parents prefer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Possible Points to Compare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Music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ock and rol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Rap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Techno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lassical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ypes of instrument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Electric guita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Violin or other symphonic instrument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428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Artists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Specific bands or singer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Vintage 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When was the music recorded.  For example: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Golden Oldies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ebebeb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bebeb"/>
                </a:solidFill>
                <a:latin typeface="Times New Roman"/>
              </a:rPr>
              <a:t>Contemporary</a:t>
            </a:r>
            <a:endParaRPr b="0" lang="en-US" sz="20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oudnes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Getting it on Paper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Develop your lists into sentences, then into paragraphs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Elaborate on the details!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hoose how you will organize your comparison and use that plan throughout your essay.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bebeb"/>
                </a:solidFill>
                <a:latin typeface="Times New Roman"/>
              </a:rPr>
              <a:t>Ways to Organize a Compare/Contrast Essay</a:t>
            </a:r>
            <a:endParaRPr b="0" lang="en-US" sz="40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ne Approach…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Describe all the similarities in one paragraph, and all the differences in another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describe the music you like in one paragraph and the music your parents like in the next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Or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More Organization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nother Way to Go…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Choose a specific aspect of the subject to compare and contrast in each paragraph.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ebebeb"/>
                </a:solidFill>
                <a:latin typeface="Times New Roman"/>
              </a:rPr>
              <a:t>For example, in the first paragraph you might explain that you like rap and your parents prefer classical (contrast/difference), but you both like rock and roll (comparison/similarity). In the second paragraph, you might explain that you like contemporary artists while your parents prefer artists of the 70’s and 80’s (contrast/ difference). </a:t>
            </a:r>
            <a:endParaRPr b="0" lang="en-US" sz="24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bebeb"/>
                </a:solidFill>
                <a:latin typeface="Times New Roman"/>
              </a:rPr>
              <a:t>Simple Ways to Compare Objects</a:t>
            </a: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80720"/>
            <a:ext cx="38102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hap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z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ast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Textur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Use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191120" y="1905120"/>
            <a:ext cx="373680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1T15:04:10Z</dcterms:created>
  <dc:creator>Gina Balducci</dc:creator>
  <dc:description/>
  <dc:language>en-US</dc:language>
  <cp:lastModifiedBy>ljlab</cp:lastModifiedBy>
  <dcterms:modified xsi:type="dcterms:W3CDTF">2003-09-11T17:15:11Z</dcterms:modified>
  <cp:revision>33</cp:revision>
  <dc:subject/>
  <dc:title>Comparing Apples to Orang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4803000000000001023620</vt:lpwstr>
  </property>
</Properties>
</file>