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move the slide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39960" y="609480"/>
            <a:ext cx="4978080" cy="373392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KS:  Math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6 Geometry and Spatial Reas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8 (B) Measure Length, Area, Time, Temperature, Capacity, W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2E042-084F-4D43-9CD6-1DB7F45967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42BFD-02E6-4F45-A471-422DFB067A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50697-D950-4A0E-9349-E7CA3A007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266B4-898C-4026-A107-85A262CBE7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3A88E-BB23-4954-8A19-74C04D4090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1488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2160" y="197604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8724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1488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2160" y="4128120"/>
            <a:ext cx="250200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7D8901-46F5-4B3A-98B4-88573F03A1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67E79-5E0B-479F-93BD-CB2D3F8F67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98C1-971B-4C56-97FF-14831A85C4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7240" y="607680"/>
            <a:ext cx="7770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2EDF6-16EA-46DA-9338-9DF5AF902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CB945-E612-404A-9F76-996DE99617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69200" y="412812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3838B-B422-4E81-9955-91F8C3B980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200" y="1976040"/>
            <a:ext cx="379188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87240" y="4128120"/>
            <a:ext cx="7770960" cy="196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39E0-6411-47AD-9AFA-C677C4C347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7240" y="60768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7240" y="1976040"/>
            <a:ext cx="7770960" cy="41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Click to edit the outline text format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1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con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2" marL="343080" indent="-343080">
              <a:spcBef>
                <a:spcPts val="774"/>
              </a:spcBef>
              <a:buClr>
                <a:srgbClr val="ebebeb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Third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3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our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4" marL="343080" indent="-343080">
              <a:spcBef>
                <a:spcPts val="774"/>
              </a:spcBef>
              <a:buClr>
                <a:srgbClr val="ebebeb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Fif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5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ix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  <a:p>
            <a:pPr lvl="6" marL="343080" indent="-343080">
              <a:spcBef>
                <a:spcPts val="774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ebebeb"/>
                </a:solidFill>
                <a:latin typeface="Times New Roman"/>
              </a:rPr>
              <a:t>Seventh Outline Level</a:t>
            </a:r>
            <a:endParaRPr b="0" lang="en-US" sz="3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52280" y="6251040"/>
            <a:ext cx="534960" cy="4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ebeb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24153-11EF-4421-8B23-64C708F03966}" type="slidenum">
              <a:rPr b="0" lang="en-US" sz="1600" spc="-1" strike="noStrike">
                <a:solidFill>
                  <a:srgbClr val="ebebeb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7240" y="6901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Click to edit the title text format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Tri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447920"/>
            <a:ext cx="7770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triangle = 1/2 x Base x Height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Height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Bas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1447920"/>
            <a:ext cx="7543800" cy="464796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RightTriangle" descr=""/>
          <p:cNvPicPr/>
          <p:nvPr/>
        </p:nvPicPr>
        <p:blipFill>
          <a:blip r:embed="rId2"/>
          <a:stretch/>
        </p:blipFill>
        <p:spPr>
          <a:xfrm>
            <a:off x="3406680" y="3048120"/>
            <a:ext cx="2308320" cy="232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89814-D644-41AF-BA6A-F0296E18AC45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Squar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square = Side x Side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Side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447920"/>
            <a:ext cx="7543800" cy="449568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Box" descr=""/>
          <p:cNvPicPr/>
          <p:nvPr/>
        </p:nvPicPr>
        <p:blipFill>
          <a:blip r:embed="rId2"/>
          <a:stretch/>
        </p:blipFill>
        <p:spPr>
          <a:xfrm>
            <a:off x="3276720" y="3124080"/>
            <a:ext cx="2171520" cy="2160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B5859-5ADD-43EE-96E5-2BC820C1B33E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Circ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circle = </a:t>
            </a:r>
            <a:r>
              <a:rPr b="0" lang="en-US" sz="3200" spc="-1" strike="noStrike">
                <a:solidFill>
                  <a:srgbClr val="ebebeb"/>
                </a:solidFill>
                <a:latin typeface="Symbol"/>
                <a:ea typeface="Symbol"/>
              </a:rPr>
              <a:t></a:t>
            </a: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x Radius x Radius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Radius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42670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114800" y="3124080"/>
            <a:ext cx="0" cy="2362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Circle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2503440" cy="2503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AF1D7-B7CD-4239-A06C-C9C9AAF3514E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ebebeb"/>
                </a:solidFill>
                <a:latin typeface="Times New Roman"/>
              </a:rPr>
              <a:t>Area of a Rectangle:</a:t>
            </a:r>
            <a:endParaRPr b="0" lang="en-US" sz="41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09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Formula for calculating area:  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ebeb"/>
                </a:solidFill>
                <a:latin typeface="Times New Roman"/>
              </a:rPr>
              <a:t>Area of a rectangle = Length x Width</a:t>
            </a: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Wid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bebeb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                                    </a:t>
            </a:r>
            <a:r>
              <a:rPr b="0" lang="en-US" sz="2800" spc="-1" strike="noStrike">
                <a:solidFill>
                  <a:srgbClr val="ebebeb"/>
                </a:solidFill>
                <a:latin typeface="Times New Roman"/>
              </a:rPr>
              <a:t>Length</a:t>
            </a:r>
            <a:endParaRPr b="0" lang="en-US" sz="2800" spc="-1" strike="noStrike">
              <a:solidFill>
                <a:srgbClr val="ebebeb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9480" y="1447920"/>
            <a:ext cx="7543800" cy="4572000"/>
          </a:xfrm>
          <a:prstGeom prst="rect">
            <a:avLst/>
          </a:prstGeom>
          <a:noFill/>
          <a:ln w="12600">
            <a:solidFill>
              <a:srgbClr val="ff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Rectangle" descr=""/>
          <p:cNvPicPr/>
          <p:nvPr/>
        </p:nvPicPr>
        <p:blipFill>
          <a:blip r:embed="rId2"/>
          <a:stretch/>
        </p:blipFill>
        <p:spPr>
          <a:xfrm>
            <a:off x="2759040" y="3003480"/>
            <a:ext cx="331488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79ABB-95FE-489F-B68D-FDD3FC9AE315}" type="slidenum">
              <a:t>4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5-27T07:04:44Z</dcterms:created>
  <dc:creator>vpp</dc:creator>
  <dc:description/>
  <dc:language>en-US</dc:language>
  <cp:lastModifiedBy>ljlab</cp:lastModifiedBy>
  <cp:lastPrinted>2001-01-16T19:55:21Z</cp:lastPrinted>
  <dcterms:modified xsi:type="dcterms:W3CDTF">2003-09-11T17:16:39Z</dcterms:modified>
  <cp:revision>217</cp:revision>
  <dc:subject/>
  <dc:title>VTPP 423 - PHYSIOLOG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801000000000001023620</vt:lpwstr>
  </property>
</Properties>
</file>