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png" ContentType="image/png"/>
  <Override PartName="/ppt/media/image5.wmf" ContentType="image/x-wmf"/>
  <Override PartName="/ppt/media/image10.wmf" ContentType="image/x-wmf"/>
  <Override PartName="/ppt/media/image6.wmf" ContentType="image/x-wmf"/>
  <Override PartName="/ppt/media/image7.png" ContentType="image/png"/>
  <Override PartName="/ppt/media/image11.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7056B-3336-45CF-A63D-024A795651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Append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slide show is intended to help satisfy the state educational requirement for understanding scientific method.  This is only a guide. The best way to learn scientific method is to conceive, design, conduct, and interpret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body needs to know the scientific approach and method.  This is not only important to scientists but to everyone. The value of scientific method is that it provides our most reliable and verifiable way of knowing things.  It is a way of thinking that is useful for everything, not just scienc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380520" y="4343400"/>
            <a:ext cx="6172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f you try to test more than one variable at a time, interpretation of results would be confusing. For example, in the metals test, if a group got exposed to two metals, we would not know which metal was likely to be the cause of any sickness that result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suggest that teachers conduct some class discussion on what experimental control groups are supposed to do (eliminate influence of extraneous variables). Create some  experiment scenarios and ask them what control groups would be needed. Appropriate controls are not always as simple as they seem here. In this case, we only need a control group that has no metal exposure,  matches the test groups in all respects (age, sex, life style), and is tested for sickness in the same wa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hat are the appropriate indicators of sickness for heavy metal poisoning? The laboratory tests and physical examinations during the experiment cannot cover everything. It is possible that a metal is causing a problem, but it does not get detected. Also, there is the issue of delayed effects. Suppose the effect is on the genome and does not show up for 20 or 30 yea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ally, alternative explanations should be sought.As mentioned, uranium toxicity might be due to its irradiation, not to the metal itself.  A given metal might appear to be toxic, but the animal species and test conditions might not be appropriate for human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very member of each test group has to be housed under the same conditions, with the only difference being the metal to which they are exposed. The group not receiving any exposure is called a “negative control.” That is, we don’t expect any sickness to occur here, other than the normal level that would occur in any similar popul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ometimes it is useful to have a “positive control” group.  In this case, we might want to have a test group receiving lead. Since we know that lead causes sickness, any failure of sickness to appear in our study would suggest something is wrong with the experiment (at least for lea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at in this example, we cannot assume that all metals act the same way, even if they cause sickness. The doses, time course, and signs of sickness can  be (and are) specific for each metal. And, we cannot know in advance what are the equivalent concentrations of various metal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380520" y="4343400"/>
            <a:ext cx="624852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Test species</a:t>
            </a:r>
            <a:r>
              <a:rPr b="0" lang="en-US" sz="1400" spc="-1" strike="noStrike">
                <a:solidFill>
                  <a:srgbClr val="000000"/>
                </a:solidFill>
                <a:latin typeface="Times New Roman"/>
              </a:rPr>
              <a:t>: While animals generally respond in similar ways as humans, this is not always true, especially regarding matters of dose and time course. Also, some species are more sensitive than others. For example, that is why they used canaries in coal mines. Toxic fumes would kill the canary before signs of toxicity occurred in the mine worker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Sickness indicators</a:t>
            </a:r>
            <a:r>
              <a:rPr b="0" lang="en-US" sz="1400" spc="-1" strike="noStrike">
                <a:solidFill>
                  <a:srgbClr val="000000"/>
                </a:solidFill>
                <a:latin typeface="Times New Roman"/>
              </a:rPr>
              <a:t>: What signs of sickness should you be looking for? This is important to know so that the most sensitive and appropriate medical tests are us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xposure level</a:t>
            </a:r>
            <a:r>
              <a:rPr b="0" lang="en-US" sz="1400" spc="-1" strike="noStrike">
                <a:solidFill>
                  <a:srgbClr val="000000"/>
                </a:solidFill>
                <a:latin typeface="Times New Roman"/>
              </a:rPr>
              <a:t>: How relevant are the exposure levels to be tested to the levels that humans actually encounter? For example, is a human likely to ingest or otherwise get exposed to the same amount of toxin as was used in the experiment? How do differences in metabolic rate between humans and the test species influence the effective concentration of the toxin? Does the time course of the experiment correspond to that which humans encounter exposu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 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A) Demonstrating safe practices during field and lab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Making wise choices in the use of resour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under test often should be tested over a range of doses (or concentrations).  The data above indicate a typical response (using arbitrary numbers to reflect response on the vertical, or Y, axis and arbitrary numbers on the horizontal, or X, axis to reflect the range of dose or response. Usually, an experimenter does not see a straight-line relationship between dose and response. The reason is that at low doses (or concentrations) the effect may not be great enough to show up. At high doses there is usually some maximum level of response that cannot be exceed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the example of the heavy metal toxicity mentioned earlier, if each metal were tested over a range of doses, it would be possible to determine what the equivalent toxic concentrations are for each metal. </a:t>
            </a: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big moment (of truth, we hope).  Observing what happens typically involves making some kind of measurement, using appropriate instruments and taking care that the measurements are accurate. Clean, reliable data are crucial, because all conclusions are based on the assumption that the data are trustworth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Errors</a:t>
            </a:r>
            <a:r>
              <a:rPr b="0" lang="en-US" sz="1400" spc="-1" strike="noStrike">
                <a:solidFill>
                  <a:srgbClr val="000000"/>
                </a:solidFill>
                <a:latin typeface="Times New Roman"/>
              </a:rPr>
              <a:t>. Whatever the results are, they may falsely indicate no effect when there really is one. Or they may falsely indicate a positive effect that is nonetheless misleading and not a suitable test of the hypothesi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Times New Roman"/>
              </a:rPr>
              <a:t>Misleading Results</a:t>
            </a:r>
            <a:r>
              <a:rPr b="0" lang="en-US" sz="1400" spc="-1" strike="noStrike">
                <a:solidFill>
                  <a:srgbClr val="000000"/>
                </a:solidFill>
                <a:latin typeface="Times New Roman"/>
              </a:rPr>
              <a:t>.  In all studies, there are random influences that could cause a result (either positive or negative) just by chance alone</a:t>
            </a:r>
            <a:r>
              <a:rPr b="0" lang="en-US" sz="1200" spc="-1" strike="noStrike">
                <a:solidFill>
                  <a:srgbClr val="000000"/>
                </a:solidFill>
                <a:latin typeface="Times New Roman"/>
              </a:rPr>
              <a:t>.  </a:t>
            </a:r>
            <a:r>
              <a:rPr b="0" lang="en-US" sz="1400" spc="-1" strike="noStrike">
                <a:solidFill>
                  <a:srgbClr val="000000"/>
                </a:solidFill>
                <a:latin typeface="Times New Roman"/>
              </a:rPr>
              <a:t>Scientists have statistical tests which they use. These tests use the degree of variation in the data to determine whether the hypothesis is false. That is, the “null hypothesis” means that the test variable had no (statistically) significant effect. If a significant effect is indicated, the data must be good enough that there is no more than a 5% chance that the results could have occurred due to chance alone.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experiments should be repeated, preferably by another laboratory. If similar results are obtained during repeated (replicate) trials, then we have more confidence that the results are real.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C, 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a:t>
            </a:r>
            <a:r>
              <a:rPr b="0" lang="en-US" sz="1200" spc="-1" strike="noStrike">
                <a:solidFill>
                  <a:srgbClr val="000000"/>
                </a:solidFill>
                <a:latin typeface="Times New Roman"/>
                <a:ea typeface="Times New Roman"/>
              </a:rPr>
              <a:t>Communicating valid conclus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sts call this replication. Scientists cannot assume that a given experimental result is reliable unless it can be replicated, preferably by different people in another laboratory than the one in which results were first obtained.</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uring the experiment, the students should write down observations about what happened (example: the solution turned green, began to smoke, etc.).  The quantitative data collected should be put into a visual format; for example, a table, chart, graph, or map.  Any or all calculations needed to support the conclusions should be conducted here.  For example, if the experiment tested the concentration of solutions by obtaining the mass of solute and volume of solution, then the students should divide mass by volume to obtain the concentrations.  These data should then be illustrated in ways that show results and relationships clearl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of these items would form the basis for some useful class discussions where students try to give some examples for each. For instance, the common confusion between correlation and causation can be illustrated this way: rain and lightning occur together. Neither is caused by the other. Both are caused by something els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achers may want to read some newspaper clippings involving science news (or even regular news).  Such news commonly reveals one or more of these errors. These are errors of logic and are not unique to scientific interpreta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380520" y="4343400"/>
            <a:ext cx="6172200" cy="4648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bserving things closely is a hallmark of good scientists.  They tend to see things that other people do not see. Scientists are curious, always asking questions. Why did what they observe happen? They also tend to ask “what if” questions, because this makes it easier to develop testable hypotheses. Example: What would happen if I thought that the earth was NOT the center of the universe? Answer: if something else is the center of the universe, then the earth might be moving around that center instead of everything else moving around the earth. This idea was actually tested by Galileo, who made drawings of the sun and Venus (which was big enough for him to see in his primitive telescope). Then, by making drawings of various possibilities of how Venus might orbit (around the sun, around the earth, etc.), he hypothesize and predict what would be seen (planets reflect the sun’s light and have predictable “phases,” just like our moon) under various assumptions. This then leads to a whole series of questions, some of which lead to hypotheses that might be testable. An hypothesis is a educated guess or speculation. The most useful hypotheses are those that can be tested by experiment. Hypotheses make predictions.  That is, for example, certain things should result or happen if we conducted a certain experiment that was designed around an hypothesis. The most powerful or efficient hypotheses are stated with alternative results. In such cases, no matter what happened in the experiment, you would get a definitive answer. Conducting the experiment must be done carefully, so that the data are reliable and the same general results can be obtained every time the experiment is conducted. Good research should be able to be replicated by others. Results includes organizing, making inferences, and interpreting data collected during experimentation.  The conclusion analyzes the results, brings all of the information together, and comments on the validity of the hypothesis.  Any inferences or statements made should be supported by the data received from the observation and experiment</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Planning and implementing investigative procedur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a:t>
            </a:r>
            <a:r>
              <a:rPr b="0" lang="en-US" sz="1200" spc="-1" strike="noStrike">
                <a:solidFill>
                  <a:srgbClr val="000000"/>
                </a:solidFill>
                <a:latin typeface="Times New Roman"/>
                <a:ea typeface="Times New Roman"/>
              </a:rPr>
              <a:t>Analyzing and interpreting informa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introduces an exercise in observation. It is easy for students at any grade level to do, but it does require them to pay close attention to detail, to question why things are the way they appear.  The questions they raise can then be formulated into testable hypotheses and prediction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are based on evidence – not hope, or dreams, or what we want, or what we think should be right. Scientists go where the data lead them.</a:t>
            </a:r>
            <a:endParaRPr b="0" lang="en-US" sz="14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ideas are tied to evidence from observation and experiment, as opposed to opinion or wishful thinking. This evidence is often used to make decisions. For example, we should put fluoride in city drinking water because the experimental evidence indicates that it reduces dental cavities. Or, we should stop over-fertilizing crops because the runoff ends up in creeks and ponds and causes overgrowth of water pla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isions have to be weighed with human value systems, which sometimes are in conflict with the ideas of science. For example, we may reject the evidence for cosmic and biological evolution, because we think that it conflicts with our religious belief systems. Another example: we may continue to chop down the forests, because the wood is so important for our immediate needs, even though the scientific evidence clearly shows that such practices are harmful to the environment.</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ientific evidence clarifies what we do not know and helps to reduce the range of possibilities about what might be true. Evidence also directs choices that scientists make for their future work. For scientists, this typically means that a course is charted for further lines of inquiry, based on what we have learned. This leads to new observations, new hypotheses, and new experiment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so it is – science is a never-ending process, a quest to understand our world and ourselves.</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nappropriate to refer to a well-known theory, such as evolution, as “</a:t>
            </a:r>
            <a:r>
              <a:rPr b="0" i="1" lang="en-US" sz="1200" spc="-1" strike="noStrike">
                <a:solidFill>
                  <a:srgbClr val="000000"/>
                </a:solidFill>
                <a:latin typeface="Times New Roman"/>
              </a:rPr>
              <a:t>just </a:t>
            </a:r>
            <a:r>
              <a:rPr b="0" lang="en-US" sz="1200" spc="-1" strike="noStrike">
                <a:solidFill>
                  <a:srgbClr val="000000"/>
                </a:solidFill>
                <a:latin typeface="Times New Roman"/>
              </a:rPr>
              <a:t>at theory.” In many ways, good theories are much more important than the results of isolated observations or experiments, because good theories accommodate the results of many experiments. The best-known theories in science are the theory of evolution and the theory of relativity. Relativity theory is a good example of the last point in the bullet. Newton’s theory of gravity served science well for many generations. But in the early 20</a:t>
            </a:r>
            <a:r>
              <a:rPr b="0" lang="en-US" sz="1200" spc="-1" strike="noStrike" baseline="30000">
                <a:solidFill>
                  <a:srgbClr val="000000"/>
                </a:solidFill>
                <a:latin typeface="Times New Roman"/>
              </a:rPr>
              <a:t>th</a:t>
            </a:r>
            <a:r>
              <a:rPr b="0" lang="en-US" sz="1200" spc="-1" strike="noStrike">
                <a:solidFill>
                  <a:srgbClr val="000000"/>
                </a:solidFill>
                <a:latin typeface="Times New Roman"/>
              </a:rPr>
              <a:t> Century, it became clear to physicists that Newton’s laws, while working well in everyday life on earth, did not apply to cosmic scales. Einstein’s ideas on relativity produced a theory that more completely explained the nature of gravity, mass and electromagnetic energy. An alternative and long-standing theory in physics is quantum mechanics. These two theories are somewhat incompatible, and physicists are trying to find a unified theory that accommodates both theories. The point is that although scientific theories may evolve and even be replaced by more satisfying theories, theories provide an objective framework within which scientific progress is mad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76073-A915-4118-A2A7-EC3422110D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4"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0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6"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lp students examine issues to see the difference between what is true and what is phony. You can do this with all sorts of subject matter: scientific theories (relativity, evolution, etc.), political positions, items in the newspapers and TV. You might want to refer to the famous hamburger commercial where the old lady says, “Where’s the beef!”</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6678-0564-4F9D-90E2-1C8BBAC74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6"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5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have students focus on what is seen with respect to these trees. They should note tha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ees get progressively bigger from left to right. They should ask themselves why (let us assume they were all the same size when planted).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y should note that the two trees on the right have multiple trunks. They should ask why and also raise the question that maybe these trees are bigger </a:t>
            </a:r>
            <a:r>
              <a:rPr b="0" i="1" lang="en-US" sz="1200" spc="-1" strike="noStrike">
                <a:solidFill>
                  <a:srgbClr val="000000"/>
                </a:solidFill>
                <a:latin typeface="Times New Roman"/>
              </a:rPr>
              <a:t>because</a:t>
            </a:r>
            <a:r>
              <a:rPr b="0" lang="en-US" sz="1200" spc="-1" strike="noStrike">
                <a:solidFill>
                  <a:srgbClr val="000000"/>
                </a:solidFill>
                <a:latin typeface="Times New Roman"/>
              </a:rPr>
              <a:t> they have multiple trunks.</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hould also see that the tree on the left is the smallest, and ask why. They should also note that this tree has the most plants growing underneath it. They should raise the possibility that the plants are competing with this tree and thus making it grow more slowly.</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have made these observations, have students generate a corresponding testable hypothesis for each question, design an experiment that would test it, and predict the implications if the hypothesis is supported by experiment.</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subsequent slides for more explanatio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3ABEB-8F41-4AA7-8F2F-1C46BFFD80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62"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4"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040"/>
            <a:ext cx="5486400" cy="4419720"/>
          </a:xfrm>
          <a:prstGeom prst="rect">
            <a:avLst/>
          </a:prstGeom>
          <a:noFill/>
          <a:ln w="0">
            <a:noFill/>
          </a:ln>
        </p:spPr>
        <p:txBody>
          <a:bodyPr lIns="90000" rIns="90000" tIns="46800" bIns="46800" anchor="t">
            <a:noAutofit/>
          </a:bodyPr>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wo  trees are bigger. What is different about them? The two biggest trees have multiple trunks. </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this species of tree, having multiple trunks allows it to grow bigger.</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many of these trees and prune them so that they have differing number of trunks, the ones with the most trunk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Of the two smaller trees, the smallest one is the one has more  branc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for one-trunk trees, having more branches reduces the tree’s capacity for growing large.</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a bunch of these trees, prune them so that they all have one trunk, and prune them further so that some have many branches and some have few branches, the ones with the fewest branches will grow to be the biggest</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The bushes are bigger where there are no trees and bigger under smaller trees than under the biggest tre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othesis: trees are sucking water and nutrients away from the bushes.</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diction: if I plant trees and bushes at the same time, and prune some trees so that they will become bigger than the others, the bushes will grow better under small trees and grow best when there are no trees at all.</a:t>
            </a:r>
            <a:endParaRPr b="0" lang="en-US" sz="1200" spc="-1" strike="noStrike">
              <a:solidFill>
                <a:srgbClr val="000000"/>
              </a:solidFill>
              <a:latin typeface="Times New Roman"/>
            </a:endParaRPr>
          </a:p>
          <a:p>
            <a:pPr marL="228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ypotheses guide orderly thought, experimental design, and provide a framework for interpreting data. Of course, much research is not hypothesis driven. Such research is often like “going fishing.” You throw in your line and hope it catches something.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n-hypothesis-driven research most commonly occurs when you don’t know much about a subject, and you are just gathering information.  Darwin’s research on evolution started this way.  He went around collecting observations about different kinds of birds and animals living in different environments. He had no systematic plan or even purpose other than to satisfy his curiosity.</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price paid for non-hypothesis-driven research is that it is inefficient and can easily lead you up a blind alley. Hypothesis-driven research, when properly done, will either support or refute the possibility being tested.  So no matter what the outcome of the experiments, some concrete conclusions can be drawn. Moreover, the test of one hypothesis typically leads to the generation of a related hypothesis and further experimentation and progres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 </a:t>
            </a:r>
            <a:r>
              <a:rPr b="0" lang="en-US" sz="1200" spc="-1" strike="noStrike">
                <a:solidFill>
                  <a:srgbClr val="000000"/>
                </a:solidFill>
                <a:latin typeface="Times New Roman"/>
                <a:ea typeface="Times New Roman"/>
              </a:rPr>
              <a:t>Conducting field and lab investigations ethically</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t>
            </a:r>
            <a:r>
              <a:rPr b="0" lang="en-US" sz="1200" spc="-1" strike="noStrike">
                <a:solidFill>
                  <a:srgbClr val="000000"/>
                </a:solidFill>
                <a:latin typeface="Times New Roman"/>
                <a:ea typeface="Times New Roman"/>
              </a:rPr>
              <a:t>Using scientific inquiry methods during field and laboratory investig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Critical thinking and problem solv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304920" y="4343400"/>
            <a:ext cx="624816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Deductions:</a:t>
            </a:r>
            <a:r>
              <a:rPr b="0" lang="en-US" sz="1400" spc="-1" strike="noStrike">
                <a:solidFill>
                  <a:srgbClr val="000000"/>
                </a:solidFill>
                <a:latin typeface="Times New Roman"/>
              </a:rPr>
              <a:t>   These commonly follow an “if, then” pattern. For example, if A is true, then maybe B could also be expected to be true. An example: Polluted air is irritating to eyes and respiratory system. Irritation can’t be good for delicate cells. Maybe such irritation damages the genome of cells and causes cancer, such as lung cancer.</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Inductions: </a:t>
            </a:r>
            <a:r>
              <a:rPr b="0" lang="en-US" sz="1400" spc="-1" strike="noStrike">
                <a:solidFill>
                  <a:srgbClr val="000000"/>
                </a:solidFill>
                <a:latin typeface="Times New Roman"/>
              </a:rPr>
              <a:t> These are leaps of insight. An example is Darwin’s theory of evolution. He synthesized a group of observations about relations between environment, bodily features, and behavior of species. From this synthesis of observations he generated the idea that environment was creating opportunities for animals that had certain features and behaviors. In short, he hypothesized that the environment was exerting a “selection pressure” to select the evolution of those species that had the right combination of features and behaviors.</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Testability: </a:t>
            </a:r>
            <a:r>
              <a:rPr b="0" lang="en-US" sz="1400" spc="-1" strike="noStrike">
                <a:solidFill>
                  <a:srgbClr val="000000"/>
                </a:solidFill>
                <a:latin typeface="Times New Roman"/>
              </a:rPr>
              <a:t> Ultimately, an hypothesis has to be posed in a way that can be tested, so that it can be either verified or declared false or insufficient. Einstein’s theory of relativity suffered the fate of not being testable for several decades until sophisticated instruments were developed that could test (and confirm) the theory. Darwin’s theory of evolution is not fully testable because of the huge time scales involved. It is still a useful organizing principle for thinking about life, and it has been confirmed on short time scales (evolution of antibiotic-resistant bacteria).</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Prediction:</a:t>
            </a:r>
            <a:r>
              <a:rPr b="0" lang="en-US" sz="1400" spc="-1" strike="noStrike">
                <a:solidFill>
                  <a:srgbClr val="000000"/>
                </a:solidFill>
                <a:latin typeface="Times New Roman"/>
              </a:rPr>
              <a:t> Hypotheses usually predict something. In the first example above, the hypothesis predicts that if you expose animals or people to polluted air long enough, more of them will get lung cancer than if there were no pollution.</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begins with observations of something in the natural world. In practice, scientists often use the observations of others (as reported in scientific journal articles) as a basis for asking new questions, making new hypotheses, etc.</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a deductive hypothesis. Note that it can be tested by setting up test groups of animals that get exposed to different heavy metal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the potential flaw in the choice of metals here.  One (uranium) is radioactive. Thus, any result associated with it could be due to radiation toxicity rather than any specific toxicity due to the metal itself.</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te also that we have not yet gotten into details of specific experimental design. See next slide.</a:t>
            </a: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cience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 (A), </a:t>
            </a:r>
            <a:r>
              <a:rPr b="0" lang="en-US" sz="1200" spc="-1" strike="noStrike">
                <a:solidFill>
                  <a:srgbClr val="000000"/>
                </a:solidFill>
                <a:latin typeface="Times New Roman"/>
                <a:ea typeface="Times New Roman"/>
              </a:rPr>
              <a:t>Planning and implementing investigative proced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 </a:t>
            </a:r>
            <a:r>
              <a:rPr b="0" lang="en-US" sz="1200" spc="-1" strike="noStrike">
                <a:solidFill>
                  <a:srgbClr val="000000"/>
                </a:solidFill>
                <a:latin typeface="Times New Roman"/>
                <a:ea typeface="Times New Roman"/>
              </a:rPr>
              <a:t>Analyzing, reviewing, and critiquing scientific explan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Variables are instances or occurrences that could change the outcome of the experiment.  When designing an experiment, it is important to make sure that variables, other than those you are testing, do not interfere with the results of the experiment.  For example, if you are testing the amount of water needed for a plant to grow, it is important that all groups receive the same </a:t>
            </a:r>
            <a:r>
              <a:rPr b="1" lang="en-US" sz="1400" spc="-1" strike="noStrike">
                <a:solidFill>
                  <a:srgbClr val="000000"/>
                </a:solidFill>
                <a:latin typeface="Times New Roman"/>
              </a:rPr>
              <a:t>kind</a:t>
            </a:r>
            <a:r>
              <a:rPr b="0" lang="en-US" sz="1400" spc="-1" strike="noStrike">
                <a:solidFill>
                  <a:srgbClr val="000000"/>
                </a:solidFill>
                <a:latin typeface="Times New Roman"/>
              </a:rPr>
              <a:t> of water so that salinity or solute concentration does not interfere with the results of your experiment.  </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ontrol group receives the same amount of attention/treatment as the experimental groups.  For example, when drug companies test a new pill, they give the medicine to all groups but one.  One of the groups, the control group, receives a placebo.  Thus, any improvement in the control group is due to the placebo effect and any improvement seen in the test groups may have been due to a placebo effect rather than effect of the drug.  There may need to be both positive and negative control groups. For instance, we know in advance that lead is toxic, so it could be used as a positive control.  We know that carbon is not a metal, and thus is not expected to have any metal toxicity. It therefore could be used with one of the groups as a negative control.</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ke sure that the students know about the many different tools used to perform experiments.  These tools include microscopes, colorimeters, calculators, telescopes, etc. </a:t>
            </a: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296901-C489-4DBE-8377-9CBB1A7CE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69B0A3-C9AC-4165-905F-1F41D32602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A93E2-3166-47A2-8354-3F02226D27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53853-1A1D-47D5-807F-E5090EF176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9848B-F8AB-4E4E-938E-5D8F8142E2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34A31-37BF-45F3-A93A-DE973B2527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9CDF9F-14FA-4E1D-9F2C-9A72C5D46F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C67133-A63D-4F44-A424-1377382E4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136C5-197D-486B-A43A-B20F7E7C0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C6F75-614F-4D8B-BEB0-3CC1F43C13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FF55B-C646-45CF-B83C-9DEBB4C5D0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29E4C4-13AC-439F-A0CC-7882B52CC6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97A6F-2556-436C-9ADD-841FC0B77F53}"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6.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slideLayout" Target="../slideLayouts/slideLayout3.xml"/><Relationship Id="rId9"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hyperlink" Target="http://www.chem4kids.com/files/elem_pertable.html" TargetMode="External"/><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Appendix</a:t>
            </a:r>
            <a:endParaRPr b="0" lang="en-US" sz="4400" spc="-1" strike="noStrike">
              <a:solidFill>
                <a:srgbClr val="ebebeb"/>
              </a:solidFill>
              <a:latin typeface="Times New Roman"/>
            </a:endParaRPr>
          </a:p>
        </p:txBody>
      </p:sp>
      <p:sp>
        <p:nvSpPr>
          <p:cNvPr id="49" name="PlaceHolder 2"/>
          <p:cNvSpPr>
            <a:spLocks noGrp="1"/>
          </p:cNvSpPr>
          <p:nvPr>
            <p:ph type="subTitle"/>
          </p:nvPr>
        </p:nvSpPr>
        <p:spPr>
          <a:xfrm>
            <a:off x="1371600" y="1218960"/>
            <a:ext cx="6400800" cy="6858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e Nature of Scientific Research</a:t>
            </a:r>
            <a:endParaRPr b="0" lang="en-US" sz="3200" spc="-1" strike="noStrike">
              <a:solidFill>
                <a:srgbClr val="ebebeb"/>
              </a:solidFill>
              <a:latin typeface="Times New Roman"/>
            </a:endParaRPr>
          </a:p>
        </p:txBody>
      </p:sp>
      <p:pic>
        <p:nvPicPr>
          <p:cNvPr id="50" name="" descr=""/>
          <p:cNvPicPr/>
          <p:nvPr/>
        </p:nvPicPr>
        <p:blipFill>
          <a:blip r:embed="rId2"/>
          <a:stretch/>
        </p:blipFill>
        <p:spPr>
          <a:xfrm>
            <a:off x="2819520" y="1981080"/>
            <a:ext cx="3305160" cy="3152880"/>
          </a:xfrm>
          <a:prstGeom prst="rect">
            <a:avLst/>
          </a:prstGeom>
          <a:ln w="0">
            <a:noFill/>
          </a:ln>
        </p:spPr>
      </p:pic>
      <p:sp>
        <p:nvSpPr>
          <p:cNvPr id="51" name=""/>
          <p:cNvSpPr/>
          <p:nvPr/>
        </p:nvSpPr>
        <p:spPr>
          <a:xfrm>
            <a:off x="1523880" y="5562720"/>
            <a:ext cx="579132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 R. Klemm, D.V.M., Ph.D.</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ofessor, Texas A&amp;M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esting Hypotheses</a:t>
            </a:r>
            <a:br>
              <a:rPr sz="4400"/>
            </a:br>
            <a:r>
              <a:rPr b="0" lang="en-US" sz="2800" spc="-1" strike="noStrike">
                <a:solidFill>
                  <a:srgbClr val="ebebeb"/>
                </a:solidFill>
                <a:latin typeface="Times New Roman"/>
              </a:rPr>
              <a:t>Account for the “Variables”</a:t>
            </a:r>
            <a:endParaRPr b="0" lang="en-US" sz="2800" spc="-1" strike="noStrike">
              <a:solidFill>
                <a:srgbClr val="ebebeb"/>
              </a:solidFill>
              <a:latin typeface="Times New Roman"/>
            </a:endParaRPr>
          </a:p>
        </p:txBody>
      </p:sp>
      <p:sp>
        <p:nvSpPr>
          <p:cNvPr id="86" name="PlaceHolder 2"/>
          <p:cNvSpPr>
            <a:spLocks noGrp="1"/>
          </p:cNvSpPr>
          <p:nvPr>
            <p:ph/>
          </p:nvPr>
        </p:nvSpPr>
        <p:spPr>
          <a:xfrm>
            <a:off x="533520" y="1905120"/>
            <a:ext cx="8076960" cy="4114800"/>
          </a:xfrm>
          <a:prstGeom prst="rect">
            <a:avLst/>
          </a:prstGeom>
          <a:noFill/>
          <a:ln w="0">
            <a:noFill/>
          </a:ln>
        </p:spPr>
        <p:txBody>
          <a:bodyPr lIns="90000" rIns="90000" tIns="46800" bIns="46800" anchor="t">
            <a:normAutofit/>
          </a:bodyPr>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riables are factors or conditions that can vary and thus influence the results.</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ll variables need to be kept the same except for the on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control” is needed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methods used must be appropriate - and sensitive - for the variable being tested.</a:t>
            </a:r>
            <a:endParaRPr b="0" lang="en-US" sz="2800" spc="-1" strike="noStrike">
              <a:solidFill>
                <a:srgbClr val="ebebeb"/>
              </a:solidFill>
              <a:latin typeface="Times New Roman"/>
            </a:endParaRPr>
          </a:p>
          <a:p>
            <a:pPr marL="343080" indent="-343080">
              <a:lnSpc>
                <a:spcPct val="80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ne must consider alternative explanations for the results.</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Example for the Metal Variables</a:t>
            </a:r>
            <a:endParaRPr b="0" lang="en-US" sz="4400" spc="-1" strike="noStrike">
              <a:solidFill>
                <a:srgbClr val="ebebeb"/>
              </a:solidFill>
              <a:latin typeface="Times New Roman"/>
            </a:endParaRPr>
          </a:p>
        </p:txBody>
      </p:sp>
      <p:sp>
        <p:nvSpPr>
          <p:cNvPr id="88" name="PlaceHolder 2"/>
          <p:cNvSpPr>
            <a:spLocks noGrp="1"/>
          </p:cNvSpPr>
          <p:nvPr>
            <p:ph/>
          </p:nvPr>
        </p:nvSpPr>
        <p:spPr>
          <a:xfrm>
            <a:off x="685800" y="137160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Keeping variables constant: each group exposed to only one metal.</a:t>
            </a:r>
            <a:endParaRPr b="0" lang="en-US" sz="3200" spc="-1" strike="noStrike">
              <a:solidFill>
                <a:srgbClr val="ebebeb"/>
              </a:solidFill>
              <a:latin typeface="Times New Roman"/>
            </a:endParaRPr>
          </a:p>
          <a:p>
            <a:pPr marL="343080" indent="-343080">
              <a:lnSpc>
                <a:spcPct val="95000"/>
              </a:lnSpc>
              <a:spcBef>
                <a:spcPts val="799"/>
              </a:spcBef>
              <a:spcAft>
                <a:spcPts val="7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ontrol: One group tested exactly as the others, but without any metal exposure.</a:t>
            </a:r>
            <a:endParaRPr b="0" lang="en-US" sz="3200" spc="-1" strike="noStrike">
              <a:solidFill>
                <a:srgbClr val="ebebeb"/>
              </a:solidFill>
              <a:latin typeface="Times New Roman"/>
            </a:endParaRPr>
          </a:p>
        </p:txBody>
      </p:sp>
      <p:grpSp>
        <p:nvGrpSpPr>
          <p:cNvPr id="89" name=""/>
          <p:cNvGrpSpPr/>
          <p:nvPr/>
        </p:nvGrpSpPr>
        <p:grpSpPr>
          <a:xfrm>
            <a:off x="3809880" y="3733920"/>
            <a:ext cx="1798920" cy="2971800"/>
            <a:chOff x="3809880" y="3733920"/>
            <a:chExt cx="1798920" cy="2971800"/>
          </a:xfrm>
        </p:grpSpPr>
        <p:graphicFrame>
          <p:nvGraphicFramePr>
            <p:cNvPr id="90" name=""/>
            <p:cNvGraphicFramePr/>
            <p:nvPr/>
          </p:nvGraphicFramePr>
          <p:xfrm>
            <a:off x="4191120" y="4724280"/>
            <a:ext cx="1417680" cy="1981440"/>
          </p:xfrm>
          <a:graphic>
            <a:graphicData uri="http://schemas.openxmlformats.org/presentationml/2006/ole">
              <p:oleObj r:id="rId2" spid="">
                <p:embed/>
                <p:pic>
                  <p:nvPicPr>
                    <p:cNvPr id="91" name="" descr=""/>
                    <p:cNvPicPr/>
                    <p:nvPr/>
                  </p:nvPicPr>
                  <p:blipFill>
                    <a:blip r:embed="rId3"/>
                    <a:stretch/>
                  </p:blipFill>
                  <p:spPr>
                    <a:xfrm>
                      <a:off x="4191120" y="4724280"/>
                      <a:ext cx="1417680" cy="1981440"/>
                    </a:xfrm>
                    <a:prstGeom prst="rect">
                      <a:avLst/>
                    </a:prstGeom>
                    <a:ln w="0">
                      <a:noFill/>
                    </a:ln>
                  </p:spPr>
                </p:pic>
              </p:oleObj>
            </a:graphicData>
          </a:graphic>
        </p:graphicFrame>
        <p:sp>
          <p:nvSpPr>
            <p:cNvPr id="92" name=""/>
            <p:cNvSpPr txBox="1"/>
            <p:nvPr/>
          </p:nvSpPr>
          <p:spPr>
            <a:xfrm>
              <a:off x="3809880" y="3733920"/>
              <a:ext cx="638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993366"/>
                  </a:solidFill>
                  <a:latin typeface="Arial Black"/>
                </a:rPr>
                <a:t>Ur</a:t>
              </a:r>
              <a:endParaRPr b="0" lang="en-US" sz="2400" spc="1" strike="noStrike">
                <a:ln w="9360">
                  <a:solidFill>
                    <a:srgbClr val="000000"/>
                  </a:solidFill>
                  <a:miter/>
                </a:ln>
                <a:solidFill>
                  <a:srgbClr val="993366"/>
                </a:solidFill>
                <a:latin typeface="Arial Black"/>
                <a:ea typeface="Arial Black"/>
              </a:endParaRPr>
            </a:p>
          </p:txBody>
        </p:sp>
        <p:sp>
          <p:nvSpPr>
            <p:cNvPr id="93" name=""/>
            <p:cNvSpPr/>
            <p:nvPr/>
          </p:nvSpPr>
          <p:spPr>
            <a:xfrm>
              <a:off x="4343400" y="4038480"/>
              <a:ext cx="609480" cy="838440"/>
            </a:xfrm>
            <a:custGeom>
              <a:avLst/>
              <a:gdLst>
                <a:gd name="textAreaLeft" fmla="*/ 0 w 609480"/>
                <a:gd name="textAreaRight" fmla="*/ 609840 w 60948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94" name=""/>
          <p:cNvGrpSpPr/>
          <p:nvPr/>
        </p:nvGrpSpPr>
        <p:grpSpPr>
          <a:xfrm>
            <a:off x="6172200" y="3733920"/>
            <a:ext cx="2255400" cy="2971800"/>
            <a:chOff x="6172200" y="3733920"/>
            <a:chExt cx="2255400" cy="2971800"/>
          </a:xfrm>
        </p:grpSpPr>
        <p:graphicFrame>
          <p:nvGraphicFramePr>
            <p:cNvPr id="95" name=""/>
            <p:cNvGraphicFramePr/>
            <p:nvPr/>
          </p:nvGraphicFramePr>
          <p:xfrm>
            <a:off x="7010280" y="4724280"/>
            <a:ext cx="1417320" cy="1981440"/>
          </p:xfrm>
          <a:graphic>
            <a:graphicData uri="http://schemas.openxmlformats.org/presentationml/2006/ole">
              <p:oleObj r:id="rId4" spid="">
                <p:embed/>
                <p:pic>
                  <p:nvPicPr>
                    <p:cNvPr id="96" name="" descr=""/>
                    <p:cNvPicPr/>
                    <p:nvPr/>
                  </p:nvPicPr>
                  <p:blipFill>
                    <a:blip r:embed="rId5"/>
                    <a:stretch/>
                  </p:blipFill>
                  <p:spPr>
                    <a:xfrm>
                      <a:off x="7010280" y="4724280"/>
                      <a:ext cx="1417320" cy="1981440"/>
                    </a:xfrm>
                    <a:prstGeom prst="rect">
                      <a:avLst/>
                    </a:prstGeom>
                    <a:ln w="0">
                      <a:noFill/>
                    </a:ln>
                  </p:spPr>
                </p:pic>
              </p:oleObj>
            </a:graphicData>
          </a:graphic>
        </p:graphicFrame>
        <p:sp>
          <p:nvSpPr>
            <p:cNvPr id="97" name=""/>
            <p:cNvSpPr txBox="1"/>
            <p:nvPr/>
          </p:nvSpPr>
          <p:spPr>
            <a:xfrm>
              <a:off x="6172200" y="3733920"/>
              <a:ext cx="106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Placebo</a:t>
              </a:r>
              <a:endParaRPr b="0" lang="en-US" sz="2400" spc="1" strike="noStrike">
                <a:ln w="9360">
                  <a:solidFill>
                    <a:srgbClr val="000000"/>
                  </a:solidFill>
                  <a:miter/>
                </a:ln>
                <a:solidFill>
                  <a:srgbClr val="ff6600"/>
                </a:solidFill>
                <a:latin typeface="Arial Black"/>
                <a:ea typeface="Arial Black"/>
              </a:endParaRPr>
            </a:p>
          </p:txBody>
        </p:sp>
        <p:sp>
          <p:nvSpPr>
            <p:cNvPr id="98" name=""/>
            <p:cNvSpPr/>
            <p:nvPr/>
          </p:nvSpPr>
          <p:spPr>
            <a:xfrm>
              <a:off x="7162560" y="4038480"/>
              <a:ext cx="609120" cy="838440"/>
            </a:xfrm>
            <a:custGeom>
              <a:avLst/>
              <a:gdLst>
                <a:gd name="textAreaLeft" fmla="*/ 0 w 609120"/>
                <a:gd name="textAreaRight" fmla="*/ 609480 w 60912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162560" y="5943600"/>
              <a:ext cx="10663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ntrol</a:t>
              </a:r>
              <a:endParaRPr b="0" lang="en-US" sz="1600" spc="-1" strike="noStrike">
                <a:solidFill>
                  <a:srgbClr val="000000"/>
                </a:solidFill>
                <a:latin typeface="Times New Roman"/>
              </a:endParaRPr>
            </a:p>
          </p:txBody>
        </p:sp>
      </p:grpSp>
      <p:grpSp>
        <p:nvGrpSpPr>
          <p:cNvPr id="100" name=""/>
          <p:cNvGrpSpPr/>
          <p:nvPr/>
        </p:nvGrpSpPr>
        <p:grpSpPr>
          <a:xfrm>
            <a:off x="1096920" y="3772080"/>
            <a:ext cx="1798560" cy="2933640"/>
            <a:chOff x="1096920" y="3772080"/>
            <a:chExt cx="1798560" cy="2933640"/>
          </a:xfrm>
        </p:grpSpPr>
        <p:graphicFrame>
          <p:nvGraphicFramePr>
            <p:cNvPr id="101" name=""/>
            <p:cNvGraphicFramePr/>
            <p:nvPr/>
          </p:nvGraphicFramePr>
          <p:xfrm>
            <a:off x="1477800" y="4724280"/>
            <a:ext cx="1417680" cy="1981440"/>
          </p:xfrm>
          <a:graphic>
            <a:graphicData uri="http://schemas.openxmlformats.org/presentationml/2006/ole">
              <p:oleObj r:id="rId6" spid="">
                <p:embed/>
                <p:pic>
                  <p:nvPicPr>
                    <p:cNvPr id="102" name="" descr=""/>
                    <p:cNvPicPr/>
                    <p:nvPr/>
                  </p:nvPicPr>
                  <p:blipFill>
                    <a:blip r:embed="rId7"/>
                    <a:stretch/>
                  </p:blipFill>
                  <p:spPr>
                    <a:xfrm>
                      <a:off x="1477800" y="4724280"/>
                      <a:ext cx="1417680" cy="1981440"/>
                    </a:xfrm>
                    <a:prstGeom prst="rect">
                      <a:avLst/>
                    </a:prstGeom>
                    <a:ln w="0">
                      <a:noFill/>
                    </a:ln>
                  </p:spPr>
                </p:pic>
              </p:oleObj>
            </a:graphicData>
          </a:graphic>
        </p:graphicFrame>
        <p:sp>
          <p:nvSpPr>
            <p:cNvPr id="103" name=""/>
            <p:cNvSpPr txBox="1"/>
            <p:nvPr/>
          </p:nvSpPr>
          <p:spPr>
            <a:xfrm>
              <a:off x="1096920" y="3772080"/>
              <a:ext cx="637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8000"/>
                  </a:solidFill>
                  <a:latin typeface="Arial Black"/>
                </a:rPr>
                <a:t>Pb</a:t>
              </a:r>
              <a:endParaRPr b="0" lang="en-US" sz="2400" spc="1" strike="noStrike">
                <a:ln w="9360">
                  <a:solidFill>
                    <a:srgbClr val="000000"/>
                  </a:solidFill>
                  <a:miter/>
                </a:ln>
                <a:solidFill>
                  <a:srgbClr val="008000"/>
                </a:solidFill>
                <a:latin typeface="Arial Black"/>
                <a:ea typeface="Arial Black"/>
              </a:endParaRPr>
            </a:p>
          </p:txBody>
        </p:sp>
        <p:sp>
          <p:nvSpPr>
            <p:cNvPr id="104" name=""/>
            <p:cNvSpPr/>
            <p:nvPr/>
          </p:nvSpPr>
          <p:spPr>
            <a:xfrm>
              <a:off x="1630080" y="4038480"/>
              <a:ext cx="609840" cy="838440"/>
            </a:xfrm>
            <a:custGeom>
              <a:avLst/>
              <a:gdLst>
                <a:gd name="textAreaLeft" fmla="*/ 0 w 609840"/>
                <a:gd name="textAreaRight" fmla="*/ 610200 w 609840"/>
                <a:gd name="textAreaTop" fmla="*/ 0 h 838440"/>
                <a:gd name="textAreaBottom" fmla="*/ 838800 h 838440"/>
              </a:gdLst>
              <a:ahLst/>
              <a:rect l="textAreaLeft" t="textAreaTop" r="textAreaRight" b="textAreaBottom"/>
              <a:pathLst>
                <a:path w="21600" h="21600">
                  <a:moveTo>
                    <a:pt x="5300" y="10800"/>
                  </a:moveTo>
                  <a:arcTo wR="-5500" hR="-5500" stAng="-10800000" swAng="-6959769"/>
                  <a:lnTo>
                    <a:pt x="6066" y="1093"/>
                  </a:lnTo>
                  <a:arcTo wR="10800" hR="10800" stAng="-6959769" swAng="6959769"/>
                  <a:lnTo>
                    <a:pt x="24300" y="10800"/>
                  </a:lnTo>
                  <a:lnTo>
                    <a:pt x="18950" y="16150"/>
                  </a:lnTo>
                  <a:lnTo>
                    <a:pt x="1360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630080" y="5943600"/>
              <a:ext cx="1067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ositive Control</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a:t>
            </a:r>
            <a:br>
              <a:rPr sz="4400"/>
            </a:br>
            <a:r>
              <a:rPr b="0" lang="en-US" sz="4400" spc="-1" strike="noStrike">
                <a:solidFill>
                  <a:srgbClr val="ebebeb"/>
                </a:solidFill>
                <a:latin typeface="Times New Roman"/>
              </a:rPr>
              <a:t> - Test Method -</a:t>
            </a:r>
            <a:endParaRPr b="0" lang="en-US" sz="4400" spc="-1" strike="noStrike">
              <a:solidFill>
                <a:srgbClr val="ebebeb"/>
              </a:solidFill>
              <a:latin typeface="Times New Roman"/>
            </a:endParaRPr>
          </a:p>
        </p:txBody>
      </p:sp>
      <p:sp>
        <p:nvSpPr>
          <p:cNvPr id="107"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species to tes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Identify appropriate indicators of sickness and how they could be measured.</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a meaningful range of doses over appropriate time of exposure.</a:t>
            </a: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pic>
        <p:nvPicPr>
          <p:cNvPr id="108" name="" descr=""/>
          <p:cNvPicPr/>
          <p:nvPr/>
        </p:nvPicPr>
        <p:blipFill>
          <a:blip r:embed="rId2"/>
          <a:stretch/>
        </p:blipFill>
        <p:spPr>
          <a:xfrm>
            <a:off x="1990800" y="5029200"/>
            <a:ext cx="4943520" cy="128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ose (or Concentration) Curves</a:t>
            </a:r>
            <a:endParaRPr b="0" lang="en-US" sz="4400" spc="-1" strike="noStrike">
              <a:solidFill>
                <a:srgbClr val="ebebeb"/>
              </a:solidFill>
              <a:latin typeface="Times New Roman"/>
            </a:endParaRPr>
          </a:p>
        </p:txBody>
      </p:sp>
      <p:graphicFrame>
        <p:nvGraphicFramePr>
          <p:cNvPr id="110" name=""/>
          <p:cNvGraphicFramePr/>
          <p:nvPr/>
        </p:nvGraphicFramePr>
        <p:xfrm>
          <a:off x="762120" y="1495440"/>
          <a:ext cx="7619760" cy="5084640"/>
        </p:xfrm>
        <a:graphic>
          <a:graphicData uri="http://schemas.openxmlformats.org/presentationml/2006/ole">
            <p:oleObj r:id="rId2" spid="">
              <p:embed/>
              <p:pic>
                <p:nvPicPr>
                  <p:cNvPr id="111" name="" descr=""/>
                  <p:cNvPicPr/>
                  <p:nvPr/>
                </p:nvPicPr>
                <p:blipFill>
                  <a:blip r:embed="rId3"/>
                  <a:stretch/>
                </p:blipFill>
                <p:spPr>
                  <a:xfrm>
                    <a:off x="762120" y="1495440"/>
                    <a:ext cx="7619760" cy="508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ebebeb"/>
                </a:solidFill>
                <a:latin typeface="Times New Roman"/>
              </a:rPr>
              <a:t>Experiment</a:t>
            </a:r>
            <a:endParaRPr b="0" lang="en-US" sz="7200" spc="-1" strike="noStrike">
              <a:solidFill>
                <a:srgbClr val="ebebeb"/>
              </a:solidFill>
              <a:latin typeface="Times New Roman"/>
            </a:endParaRPr>
          </a:p>
        </p:txBody>
      </p:sp>
      <p:sp>
        <p:nvSpPr>
          <p:cNvPr id="113" name=""/>
          <p:cNvSpPr/>
          <p:nvPr/>
        </p:nvSpPr>
        <p:spPr>
          <a:xfrm>
            <a:off x="304920" y="3124080"/>
            <a:ext cx="472428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Times New Roman"/>
              </a:rPr>
              <a:t>Let’s find out what happens when we conduct the tests!!</a:t>
            </a:r>
            <a:endParaRPr b="0" lang="en-US" sz="4000" spc="-1" strike="noStrike">
              <a:solidFill>
                <a:srgbClr val="000000"/>
              </a:solidFill>
              <a:latin typeface="Times New Roman"/>
            </a:endParaRPr>
          </a:p>
        </p:txBody>
      </p:sp>
      <p:graphicFrame>
        <p:nvGraphicFramePr>
          <p:cNvPr id="114" name=""/>
          <p:cNvGraphicFramePr/>
          <p:nvPr/>
        </p:nvGraphicFramePr>
        <p:xfrm>
          <a:off x="5286240" y="2362320"/>
          <a:ext cx="3256200" cy="3995640"/>
        </p:xfrm>
        <a:graphic>
          <a:graphicData uri="http://schemas.openxmlformats.org/presentationml/2006/ole">
            <p:oleObj r:id="rId2" spid="">
              <p:embed/>
              <p:pic>
                <p:nvPicPr>
                  <p:cNvPr id="115" name="" descr=""/>
                  <p:cNvPicPr/>
                  <p:nvPr/>
                </p:nvPicPr>
                <p:blipFill>
                  <a:blip r:embed="rId3"/>
                  <a:stretch/>
                </p:blipFill>
                <p:spPr>
                  <a:xfrm>
                    <a:off x="5286240" y="2362320"/>
                    <a:ext cx="3256200" cy="3995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Metal Variables </a:t>
            </a:r>
            <a:br>
              <a:rPr sz="4400"/>
            </a:br>
            <a:r>
              <a:rPr b="0" lang="en-US" sz="4400" spc="-1" strike="noStrike">
                <a:solidFill>
                  <a:srgbClr val="ebebeb"/>
                </a:solidFill>
                <a:latin typeface="Times New Roman"/>
              </a:rPr>
              <a:t>- Alternative Explanations - </a:t>
            </a:r>
            <a:endParaRPr b="0" lang="en-US" sz="4400" spc="-1" strike="noStrike">
              <a:solidFill>
                <a:srgbClr val="ebebeb"/>
              </a:solidFill>
              <a:latin typeface="Times New Roman"/>
            </a:endParaRPr>
          </a:p>
        </p:txBody>
      </p:sp>
      <p:sp>
        <p:nvSpPr>
          <p:cNvPr id="117" name="PlaceHolder 2"/>
          <p:cNvSpPr>
            <a:spLocks noGrp="1"/>
          </p:cNvSpPr>
          <p:nvPr>
            <p:ph/>
          </p:nvPr>
        </p:nvSpPr>
        <p:spPr>
          <a:xfrm>
            <a:off x="762120" y="1905120"/>
            <a:ext cx="82296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Results could be falsely negative or positive.</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Possible causes for misleading results:</a:t>
            </a:r>
            <a:endParaRPr b="0" lang="en-US" sz="28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1.</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pecies may be insensitive or too sensitiv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2.</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Route of exposure may not be appropriat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3.</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Dose may not be equivalent to human dose.</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4.</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ime of exposure may be too short or too long.</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5.</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Some signs of sickness may not have been tested.</a:t>
            </a:r>
            <a:endParaRPr b="0" lang="en-US" sz="2400" spc="-1" strike="noStrike">
              <a:solidFill>
                <a:srgbClr val="ebebeb"/>
              </a:solidFill>
              <a:latin typeface="Times New Roman"/>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6.</a:t>
            </a:r>
            <a:r>
              <a:rPr b="0" lang="en-US" sz="2400" spc="-1" strike="noStrike">
                <a:solidFill>
                  <a:srgbClr val="ebebeb"/>
                </a:solidFill>
                <a:latin typeface="Times New Roman"/>
              </a:rPr>
              <a:t>	</a:t>
            </a:r>
            <a:r>
              <a:rPr b="0" lang="en-US" sz="2400" spc="-1" strike="noStrike">
                <a:solidFill>
                  <a:srgbClr val="ebebeb"/>
                </a:solidFill>
                <a:latin typeface="Times New Roman"/>
              </a:rPr>
              <a:t>	</a:t>
            </a:r>
            <a:r>
              <a:rPr b="0" lang="en-US" sz="2400" spc="-1" strike="noStrike">
                <a:solidFill>
                  <a:srgbClr val="ebebeb"/>
                </a:solidFill>
                <a:latin typeface="Times New Roman"/>
              </a:rPr>
              <a:t>Too few test subjects could produce results that are not </a:t>
            </a:r>
            <a:r>
              <a:rPr b="0" lang="en-US" sz="2400" spc="-1" strike="noStrike">
                <a:solidFill>
                  <a:srgbClr val="ebebeb"/>
                </a:solidFill>
                <a:latin typeface="Times New Roman"/>
              </a:rPr>
              <a:t>	</a:t>
            </a:r>
            <a:r>
              <a:rPr b="0" lang="en-US" sz="2400" spc="-1" strike="noStrike">
                <a:solidFill>
                  <a:srgbClr val="ebebeb"/>
                </a:solidFill>
                <a:latin typeface="Times New Roman"/>
              </a:rPr>
              <a:t>representative of a larger group.</a:t>
            </a:r>
            <a:endParaRPr b="0" lang="en-US" sz="2400" spc="-1" strike="noStrike">
              <a:solidFill>
                <a:srgbClr val="ebebeb"/>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bebeb"/>
                </a:solidFill>
                <a:latin typeface="Times New Roman"/>
              </a:rPr>
              <a:t>A General Rule in Science</a:t>
            </a:r>
            <a:endParaRPr b="0" lang="en-US" sz="5400" spc="-1" strike="noStrike">
              <a:solidFill>
                <a:srgbClr val="ebebeb"/>
              </a:solidFill>
              <a:latin typeface="Times New Roman"/>
            </a:endParaRPr>
          </a:p>
        </p:txBody>
      </p:sp>
      <p:sp>
        <p:nvSpPr>
          <p:cNvPr id="119" name="PlaceHolder 2"/>
          <p:cNvSpPr>
            <a:spLocks noGrp="1"/>
          </p:cNvSpPr>
          <p:nvPr>
            <p:ph type="subTitle"/>
          </p:nvPr>
        </p:nvSpPr>
        <p:spPr>
          <a:xfrm>
            <a:off x="1371600" y="3048120"/>
            <a:ext cx="640080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Experiments should be repeated,  and similar results should occur each time.</a:t>
            </a:r>
            <a:endParaRPr b="0" lang="en-US" sz="36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Analyze the Results</a:t>
            </a:r>
            <a:endParaRPr b="0" lang="en-US" sz="4400" spc="-1" strike="noStrike">
              <a:solidFill>
                <a:srgbClr val="ebebeb"/>
              </a:solidFill>
              <a:latin typeface="Times New Roman"/>
            </a:endParaRPr>
          </a:p>
        </p:txBody>
      </p:sp>
      <p:sp>
        <p:nvSpPr>
          <p:cNvPr id="121" name="PlaceHolder 2"/>
          <p:cNvSpPr>
            <a:spLocks noGrp="1"/>
          </p:cNvSpPr>
          <p:nvPr>
            <p:ph/>
          </p:nvPr>
        </p:nvSpPr>
        <p:spPr>
          <a:xfrm>
            <a:off x="4038480" y="1980720"/>
            <a:ext cx="4648320" cy="43434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scribe what happened in the experiment.</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isplay results using graphs, tables, map, and chart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Perform any calculations necessary to clarify the data.</a:t>
            </a:r>
            <a:endParaRPr b="0" lang="en-US" sz="3200" spc="-1" strike="noStrike">
              <a:solidFill>
                <a:srgbClr val="ebebeb"/>
              </a:solidFill>
              <a:latin typeface="Times New Roman"/>
            </a:endParaRPr>
          </a:p>
        </p:txBody>
      </p:sp>
      <p:graphicFrame>
        <p:nvGraphicFramePr>
          <p:cNvPr id="122" name=""/>
          <p:cNvGraphicFramePr/>
          <p:nvPr/>
        </p:nvGraphicFramePr>
        <p:xfrm>
          <a:off x="533520" y="2133720"/>
          <a:ext cx="2284200" cy="2236680"/>
        </p:xfrm>
        <a:graphic>
          <a:graphicData uri="http://schemas.openxmlformats.org/presentationml/2006/ole">
            <p:oleObj r:id="rId2" spid="">
              <p:embed/>
              <p:pic>
                <p:nvPicPr>
                  <p:cNvPr id="123" name="" descr=""/>
                  <p:cNvPicPr/>
                  <p:nvPr/>
                </p:nvPicPr>
                <p:blipFill>
                  <a:blip r:embed="rId3"/>
                  <a:stretch/>
                </p:blipFill>
                <p:spPr>
                  <a:xfrm>
                    <a:off x="533520" y="2133720"/>
                    <a:ext cx="2284200" cy="2236680"/>
                  </a:xfrm>
                  <a:prstGeom prst="rect">
                    <a:avLst/>
                  </a:prstGeom>
                  <a:ln w="0">
                    <a:noFill/>
                  </a:ln>
                </p:spPr>
              </p:pic>
            </p:oleObj>
          </a:graphicData>
        </a:graphic>
      </p:graphicFrame>
      <p:grpSp>
        <p:nvGrpSpPr>
          <p:cNvPr id="124" name=""/>
          <p:cNvGrpSpPr/>
          <p:nvPr/>
        </p:nvGrpSpPr>
        <p:grpSpPr>
          <a:xfrm>
            <a:off x="1189080" y="3970440"/>
            <a:ext cx="2544120" cy="1681200"/>
            <a:chOff x="1189080" y="3970440"/>
            <a:chExt cx="2544120" cy="1681200"/>
          </a:xfrm>
        </p:grpSpPr>
        <p:sp>
          <p:nvSpPr>
            <p:cNvPr id="125" name=""/>
            <p:cNvSpPr/>
            <p:nvPr/>
          </p:nvSpPr>
          <p:spPr>
            <a:xfrm>
              <a:off x="1204200" y="3970440"/>
              <a:ext cx="2504160" cy="1416600"/>
            </a:xfrm>
            <a:custGeom>
              <a:avLst/>
              <a:gdLst/>
              <a:ahLst/>
              <a:rect l="l" t="t" r="r" b="b"/>
              <a:pathLst>
                <a:path w="2603" h="1109">
                  <a:moveTo>
                    <a:pt x="0" y="555"/>
                  </a:moveTo>
                  <a:lnTo>
                    <a:pt x="1" y="527"/>
                  </a:lnTo>
                  <a:lnTo>
                    <a:pt x="6" y="501"/>
                  </a:lnTo>
                  <a:lnTo>
                    <a:pt x="14" y="474"/>
                  </a:lnTo>
                  <a:lnTo>
                    <a:pt x="25" y="448"/>
                  </a:lnTo>
                  <a:lnTo>
                    <a:pt x="39" y="421"/>
                  </a:lnTo>
                  <a:lnTo>
                    <a:pt x="56" y="395"/>
                  </a:lnTo>
                  <a:lnTo>
                    <a:pt x="77" y="370"/>
                  </a:lnTo>
                  <a:lnTo>
                    <a:pt x="101" y="344"/>
                  </a:lnTo>
                  <a:lnTo>
                    <a:pt x="121" y="325"/>
                  </a:lnTo>
                  <a:lnTo>
                    <a:pt x="143" y="306"/>
                  </a:lnTo>
                  <a:lnTo>
                    <a:pt x="166" y="288"/>
                  </a:lnTo>
                  <a:lnTo>
                    <a:pt x="191" y="271"/>
                  </a:lnTo>
                  <a:lnTo>
                    <a:pt x="216" y="253"/>
                  </a:lnTo>
                  <a:lnTo>
                    <a:pt x="244" y="236"/>
                  </a:lnTo>
                  <a:lnTo>
                    <a:pt x="273" y="220"/>
                  </a:lnTo>
                  <a:lnTo>
                    <a:pt x="303" y="204"/>
                  </a:lnTo>
                  <a:lnTo>
                    <a:pt x="335" y="188"/>
                  </a:lnTo>
                  <a:lnTo>
                    <a:pt x="367" y="173"/>
                  </a:lnTo>
                  <a:lnTo>
                    <a:pt x="402" y="159"/>
                  </a:lnTo>
                  <a:lnTo>
                    <a:pt x="436" y="145"/>
                  </a:lnTo>
                  <a:lnTo>
                    <a:pt x="472" y="131"/>
                  </a:lnTo>
                  <a:lnTo>
                    <a:pt x="509" y="119"/>
                  </a:lnTo>
                  <a:lnTo>
                    <a:pt x="547" y="106"/>
                  </a:lnTo>
                  <a:lnTo>
                    <a:pt x="586" y="94"/>
                  </a:lnTo>
                  <a:lnTo>
                    <a:pt x="626" y="84"/>
                  </a:lnTo>
                  <a:lnTo>
                    <a:pt x="667" y="74"/>
                  </a:lnTo>
                  <a:lnTo>
                    <a:pt x="709" y="63"/>
                  </a:lnTo>
                  <a:lnTo>
                    <a:pt x="751" y="54"/>
                  </a:lnTo>
                  <a:lnTo>
                    <a:pt x="794" y="46"/>
                  </a:lnTo>
                  <a:lnTo>
                    <a:pt x="838" y="38"/>
                  </a:lnTo>
                  <a:lnTo>
                    <a:pt x="882" y="31"/>
                  </a:lnTo>
                  <a:lnTo>
                    <a:pt x="927" y="25"/>
                  </a:lnTo>
                  <a:lnTo>
                    <a:pt x="973" y="20"/>
                  </a:lnTo>
                  <a:lnTo>
                    <a:pt x="1019" y="14"/>
                  </a:lnTo>
                  <a:lnTo>
                    <a:pt x="1065" y="10"/>
                  </a:lnTo>
                  <a:lnTo>
                    <a:pt x="1112" y="7"/>
                  </a:lnTo>
                  <a:lnTo>
                    <a:pt x="1159" y="3"/>
                  </a:lnTo>
                  <a:lnTo>
                    <a:pt x="1207" y="1"/>
                  </a:lnTo>
                  <a:lnTo>
                    <a:pt x="1254" y="0"/>
                  </a:lnTo>
                  <a:lnTo>
                    <a:pt x="1302" y="0"/>
                  </a:lnTo>
                  <a:lnTo>
                    <a:pt x="1351" y="0"/>
                  </a:lnTo>
                  <a:lnTo>
                    <a:pt x="1398" y="1"/>
                  </a:lnTo>
                  <a:lnTo>
                    <a:pt x="1445" y="3"/>
                  </a:lnTo>
                  <a:lnTo>
                    <a:pt x="1492" y="7"/>
                  </a:lnTo>
                  <a:lnTo>
                    <a:pt x="1539" y="10"/>
                  </a:lnTo>
                  <a:lnTo>
                    <a:pt x="1585" y="14"/>
                  </a:lnTo>
                  <a:lnTo>
                    <a:pt x="1632" y="20"/>
                  </a:lnTo>
                  <a:lnTo>
                    <a:pt x="1676" y="25"/>
                  </a:lnTo>
                  <a:lnTo>
                    <a:pt x="1721" y="31"/>
                  </a:lnTo>
                  <a:lnTo>
                    <a:pt x="1766" y="38"/>
                  </a:lnTo>
                  <a:lnTo>
                    <a:pt x="1810" y="46"/>
                  </a:lnTo>
                  <a:lnTo>
                    <a:pt x="1853" y="54"/>
                  </a:lnTo>
                  <a:lnTo>
                    <a:pt x="1895" y="63"/>
                  </a:lnTo>
                  <a:lnTo>
                    <a:pt x="1937" y="74"/>
                  </a:lnTo>
                  <a:lnTo>
                    <a:pt x="1977" y="84"/>
                  </a:lnTo>
                  <a:lnTo>
                    <a:pt x="2017" y="94"/>
                  </a:lnTo>
                  <a:lnTo>
                    <a:pt x="2056" y="106"/>
                  </a:lnTo>
                  <a:lnTo>
                    <a:pt x="2094" y="119"/>
                  </a:lnTo>
                  <a:lnTo>
                    <a:pt x="2131" y="131"/>
                  </a:lnTo>
                  <a:lnTo>
                    <a:pt x="2167" y="145"/>
                  </a:lnTo>
                  <a:lnTo>
                    <a:pt x="2203" y="159"/>
                  </a:lnTo>
                  <a:lnTo>
                    <a:pt x="2236" y="173"/>
                  </a:lnTo>
                  <a:lnTo>
                    <a:pt x="2268" y="188"/>
                  </a:lnTo>
                  <a:lnTo>
                    <a:pt x="2301" y="204"/>
                  </a:lnTo>
                  <a:lnTo>
                    <a:pt x="2330" y="220"/>
                  </a:lnTo>
                  <a:lnTo>
                    <a:pt x="2359" y="236"/>
                  </a:lnTo>
                  <a:lnTo>
                    <a:pt x="2387" y="253"/>
                  </a:lnTo>
                  <a:lnTo>
                    <a:pt x="2412" y="271"/>
                  </a:lnTo>
                  <a:lnTo>
                    <a:pt x="2438" y="288"/>
                  </a:lnTo>
                  <a:lnTo>
                    <a:pt x="2461" y="306"/>
                  </a:lnTo>
                  <a:lnTo>
                    <a:pt x="2482" y="325"/>
                  </a:lnTo>
                  <a:lnTo>
                    <a:pt x="2502" y="344"/>
                  </a:lnTo>
                  <a:lnTo>
                    <a:pt x="2525" y="370"/>
                  </a:lnTo>
                  <a:lnTo>
                    <a:pt x="2546" y="395"/>
                  </a:lnTo>
                  <a:lnTo>
                    <a:pt x="2563" y="421"/>
                  </a:lnTo>
                  <a:lnTo>
                    <a:pt x="2578" y="448"/>
                  </a:lnTo>
                  <a:lnTo>
                    <a:pt x="2588" y="474"/>
                  </a:lnTo>
                  <a:lnTo>
                    <a:pt x="2596" y="501"/>
                  </a:lnTo>
                  <a:lnTo>
                    <a:pt x="2602" y="527"/>
                  </a:lnTo>
                  <a:lnTo>
                    <a:pt x="2603" y="555"/>
                  </a:lnTo>
                  <a:lnTo>
                    <a:pt x="2601" y="583"/>
                  </a:lnTo>
                  <a:lnTo>
                    <a:pt x="2596" y="610"/>
                  </a:lnTo>
                  <a:lnTo>
                    <a:pt x="2588" y="638"/>
                  </a:lnTo>
                  <a:lnTo>
                    <a:pt x="2577" y="664"/>
                  </a:lnTo>
                  <a:lnTo>
                    <a:pt x="2562" y="691"/>
                  </a:lnTo>
                  <a:lnTo>
                    <a:pt x="2543" y="717"/>
                  </a:lnTo>
                  <a:lnTo>
                    <a:pt x="2523" y="743"/>
                  </a:lnTo>
                  <a:lnTo>
                    <a:pt x="2500" y="768"/>
                  </a:lnTo>
                  <a:lnTo>
                    <a:pt x="2473" y="792"/>
                  </a:lnTo>
                  <a:lnTo>
                    <a:pt x="2443" y="816"/>
                  </a:lnTo>
                  <a:lnTo>
                    <a:pt x="2412" y="839"/>
                  </a:lnTo>
                  <a:lnTo>
                    <a:pt x="2378" y="861"/>
                  </a:lnTo>
                  <a:lnTo>
                    <a:pt x="2341" y="883"/>
                  </a:lnTo>
                  <a:lnTo>
                    <a:pt x="2302" y="905"/>
                  </a:lnTo>
                  <a:lnTo>
                    <a:pt x="2260" y="925"/>
                  </a:lnTo>
                  <a:lnTo>
                    <a:pt x="2218" y="944"/>
                  </a:lnTo>
                  <a:lnTo>
                    <a:pt x="2172" y="963"/>
                  </a:lnTo>
                  <a:lnTo>
                    <a:pt x="2124" y="980"/>
                  </a:lnTo>
                  <a:lnTo>
                    <a:pt x="2075" y="997"/>
                  </a:lnTo>
                  <a:lnTo>
                    <a:pt x="2023" y="1012"/>
                  </a:lnTo>
                  <a:lnTo>
                    <a:pt x="1971" y="1027"/>
                  </a:lnTo>
                  <a:lnTo>
                    <a:pt x="1916" y="1041"/>
                  </a:lnTo>
                  <a:lnTo>
                    <a:pt x="1861" y="1053"/>
                  </a:lnTo>
                  <a:lnTo>
                    <a:pt x="1803" y="1064"/>
                  </a:lnTo>
                  <a:lnTo>
                    <a:pt x="1744" y="1074"/>
                  </a:lnTo>
                  <a:lnTo>
                    <a:pt x="1684" y="1083"/>
                  </a:lnTo>
                  <a:lnTo>
                    <a:pt x="1622" y="1091"/>
                  </a:lnTo>
                  <a:lnTo>
                    <a:pt x="1560" y="1097"/>
                  </a:lnTo>
                  <a:lnTo>
                    <a:pt x="1497" y="1102"/>
                  </a:lnTo>
                  <a:lnTo>
                    <a:pt x="1433" y="1105"/>
                  </a:lnTo>
                  <a:lnTo>
                    <a:pt x="1368" y="1108"/>
                  </a:lnTo>
                  <a:lnTo>
                    <a:pt x="1302" y="1109"/>
                  </a:lnTo>
                  <a:lnTo>
                    <a:pt x="1254" y="1109"/>
                  </a:lnTo>
                  <a:lnTo>
                    <a:pt x="1207" y="1108"/>
                  </a:lnTo>
                  <a:lnTo>
                    <a:pt x="1159" y="1105"/>
                  </a:lnTo>
                  <a:lnTo>
                    <a:pt x="1112" y="1102"/>
                  </a:lnTo>
                  <a:lnTo>
                    <a:pt x="1065" y="1098"/>
                  </a:lnTo>
                  <a:lnTo>
                    <a:pt x="1019" y="1095"/>
                  </a:lnTo>
                  <a:lnTo>
                    <a:pt x="973" y="1089"/>
                  </a:lnTo>
                  <a:lnTo>
                    <a:pt x="927" y="1083"/>
                  </a:lnTo>
                  <a:lnTo>
                    <a:pt x="882" y="1078"/>
                  </a:lnTo>
                  <a:lnTo>
                    <a:pt x="838" y="1071"/>
                  </a:lnTo>
                  <a:lnTo>
                    <a:pt x="794" y="1063"/>
                  </a:lnTo>
                  <a:lnTo>
                    <a:pt x="751" y="1055"/>
                  </a:lnTo>
                  <a:lnTo>
                    <a:pt x="709" y="1045"/>
                  </a:lnTo>
                  <a:lnTo>
                    <a:pt x="667" y="1035"/>
                  </a:lnTo>
                  <a:lnTo>
                    <a:pt x="626" y="1025"/>
                  </a:lnTo>
                  <a:lnTo>
                    <a:pt x="586" y="1014"/>
                  </a:lnTo>
                  <a:lnTo>
                    <a:pt x="547" y="1003"/>
                  </a:lnTo>
                  <a:lnTo>
                    <a:pt x="509" y="990"/>
                  </a:lnTo>
                  <a:lnTo>
                    <a:pt x="472" y="978"/>
                  </a:lnTo>
                  <a:lnTo>
                    <a:pt x="436" y="965"/>
                  </a:lnTo>
                  <a:lnTo>
                    <a:pt x="402" y="950"/>
                  </a:lnTo>
                  <a:lnTo>
                    <a:pt x="367" y="936"/>
                  </a:lnTo>
                  <a:lnTo>
                    <a:pt x="335" y="921"/>
                  </a:lnTo>
                  <a:lnTo>
                    <a:pt x="303" y="906"/>
                  </a:lnTo>
                  <a:lnTo>
                    <a:pt x="273" y="890"/>
                  </a:lnTo>
                  <a:lnTo>
                    <a:pt x="244" y="874"/>
                  </a:lnTo>
                  <a:lnTo>
                    <a:pt x="216" y="857"/>
                  </a:lnTo>
                  <a:lnTo>
                    <a:pt x="191" y="839"/>
                  </a:lnTo>
                  <a:lnTo>
                    <a:pt x="166" y="821"/>
                  </a:lnTo>
                  <a:lnTo>
                    <a:pt x="143" y="804"/>
                  </a:lnTo>
                  <a:lnTo>
                    <a:pt x="121" y="785"/>
                  </a:lnTo>
                  <a:lnTo>
                    <a:pt x="101" y="766"/>
                  </a:lnTo>
                  <a:lnTo>
                    <a:pt x="77" y="740"/>
                  </a:lnTo>
                  <a:lnTo>
                    <a:pt x="56" y="715"/>
                  </a:lnTo>
                  <a:lnTo>
                    <a:pt x="39" y="689"/>
                  </a:lnTo>
                  <a:lnTo>
                    <a:pt x="25" y="662"/>
                  </a:lnTo>
                  <a:lnTo>
                    <a:pt x="14" y="636"/>
                  </a:lnTo>
                  <a:lnTo>
                    <a:pt x="6" y="609"/>
                  </a:lnTo>
                  <a:lnTo>
                    <a:pt x="1" y="583"/>
                  </a:lnTo>
                  <a:lnTo>
                    <a:pt x="0" y="5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581120" y="3970440"/>
              <a:ext cx="1732680" cy="723600"/>
            </a:xfrm>
            <a:custGeom>
              <a:avLst/>
              <a:gdLst/>
              <a:ahLst/>
              <a:rect l="l" t="t" r="r" b="b"/>
              <a:pathLst>
                <a:path w="1800" h="566">
                  <a:moveTo>
                    <a:pt x="35" y="149"/>
                  </a:moveTo>
                  <a:lnTo>
                    <a:pt x="58" y="139"/>
                  </a:lnTo>
                  <a:lnTo>
                    <a:pt x="82" y="131"/>
                  </a:lnTo>
                  <a:lnTo>
                    <a:pt x="106" y="123"/>
                  </a:lnTo>
                  <a:lnTo>
                    <a:pt x="130" y="115"/>
                  </a:lnTo>
                  <a:lnTo>
                    <a:pt x="155" y="107"/>
                  </a:lnTo>
                  <a:lnTo>
                    <a:pt x="179" y="99"/>
                  </a:lnTo>
                  <a:lnTo>
                    <a:pt x="205" y="92"/>
                  </a:lnTo>
                  <a:lnTo>
                    <a:pt x="231" y="85"/>
                  </a:lnTo>
                  <a:lnTo>
                    <a:pt x="256" y="78"/>
                  </a:lnTo>
                  <a:lnTo>
                    <a:pt x="283" y="71"/>
                  </a:lnTo>
                  <a:lnTo>
                    <a:pt x="309" y="66"/>
                  </a:lnTo>
                  <a:lnTo>
                    <a:pt x="336" y="60"/>
                  </a:lnTo>
                  <a:lnTo>
                    <a:pt x="362" y="54"/>
                  </a:lnTo>
                  <a:lnTo>
                    <a:pt x="390" y="48"/>
                  </a:lnTo>
                  <a:lnTo>
                    <a:pt x="418" y="44"/>
                  </a:lnTo>
                  <a:lnTo>
                    <a:pt x="445" y="38"/>
                  </a:lnTo>
                  <a:lnTo>
                    <a:pt x="473" y="33"/>
                  </a:lnTo>
                  <a:lnTo>
                    <a:pt x="500" y="30"/>
                  </a:lnTo>
                  <a:lnTo>
                    <a:pt x="529" y="25"/>
                  </a:lnTo>
                  <a:lnTo>
                    <a:pt x="558" y="22"/>
                  </a:lnTo>
                  <a:lnTo>
                    <a:pt x="587" y="18"/>
                  </a:lnTo>
                  <a:lnTo>
                    <a:pt x="616" y="15"/>
                  </a:lnTo>
                  <a:lnTo>
                    <a:pt x="644" y="13"/>
                  </a:lnTo>
                  <a:lnTo>
                    <a:pt x="673" y="9"/>
                  </a:lnTo>
                  <a:lnTo>
                    <a:pt x="702" y="8"/>
                  </a:lnTo>
                  <a:lnTo>
                    <a:pt x="732" y="6"/>
                  </a:lnTo>
                  <a:lnTo>
                    <a:pt x="761" y="3"/>
                  </a:lnTo>
                  <a:lnTo>
                    <a:pt x="791" y="2"/>
                  </a:lnTo>
                  <a:lnTo>
                    <a:pt x="821" y="1"/>
                  </a:lnTo>
                  <a:lnTo>
                    <a:pt x="849" y="1"/>
                  </a:lnTo>
                  <a:lnTo>
                    <a:pt x="879" y="0"/>
                  </a:lnTo>
                  <a:lnTo>
                    <a:pt x="909" y="0"/>
                  </a:lnTo>
                  <a:lnTo>
                    <a:pt x="938" y="0"/>
                  </a:lnTo>
                  <a:lnTo>
                    <a:pt x="967" y="1"/>
                  </a:lnTo>
                  <a:lnTo>
                    <a:pt x="997" y="1"/>
                  </a:lnTo>
                  <a:lnTo>
                    <a:pt x="1026" y="2"/>
                  </a:lnTo>
                  <a:lnTo>
                    <a:pt x="1054" y="3"/>
                  </a:lnTo>
                  <a:lnTo>
                    <a:pt x="1083" y="6"/>
                  </a:lnTo>
                  <a:lnTo>
                    <a:pt x="1111" y="7"/>
                  </a:lnTo>
                  <a:lnTo>
                    <a:pt x="1140" y="9"/>
                  </a:lnTo>
                  <a:lnTo>
                    <a:pt x="1168" y="12"/>
                  </a:lnTo>
                  <a:lnTo>
                    <a:pt x="1196" y="15"/>
                  </a:lnTo>
                  <a:lnTo>
                    <a:pt x="1225" y="17"/>
                  </a:lnTo>
                  <a:lnTo>
                    <a:pt x="1252" y="21"/>
                  </a:lnTo>
                  <a:lnTo>
                    <a:pt x="1281" y="24"/>
                  </a:lnTo>
                  <a:lnTo>
                    <a:pt x="1309" y="29"/>
                  </a:lnTo>
                  <a:lnTo>
                    <a:pt x="1335" y="32"/>
                  </a:lnTo>
                  <a:lnTo>
                    <a:pt x="1363" y="37"/>
                  </a:lnTo>
                  <a:lnTo>
                    <a:pt x="1391" y="41"/>
                  </a:lnTo>
                  <a:lnTo>
                    <a:pt x="1417" y="46"/>
                  </a:lnTo>
                  <a:lnTo>
                    <a:pt x="1443" y="52"/>
                  </a:lnTo>
                  <a:lnTo>
                    <a:pt x="1470" y="58"/>
                  </a:lnTo>
                  <a:lnTo>
                    <a:pt x="1496" y="63"/>
                  </a:lnTo>
                  <a:lnTo>
                    <a:pt x="1523" y="69"/>
                  </a:lnTo>
                  <a:lnTo>
                    <a:pt x="1548" y="75"/>
                  </a:lnTo>
                  <a:lnTo>
                    <a:pt x="1574" y="82"/>
                  </a:lnTo>
                  <a:lnTo>
                    <a:pt x="1599" y="89"/>
                  </a:lnTo>
                  <a:lnTo>
                    <a:pt x="1624" y="96"/>
                  </a:lnTo>
                  <a:lnTo>
                    <a:pt x="1648" y="102"/>
                  </a:lnTo>
                  <a:lnTo>
                    <a:pt x="1673" y="111"/>
                  </a:lnTo>
                  <a:lnTo>
                    <a:pt x="1697" y="117"/>
                  </a:lnTo>
                  <a:lnTo>
                    <a:pt x="1721" y="125"/>
                  </a:lnTo>
                  <a:lnTo>
                    <a:pt x="1744" y="135"/>
                  </a:lnTo>
                  <a:lnTo>
                    <a:pt x="1767" y="143"/>
                  </a:lnTo>
                  <a:lnTo>
                    <a:pt x="1770" y="144"/>
                  </a:lnTo>
                  <a:lnTo>
                    <a:pt x="1773" y="146"/>
                  </a:lnTo>
                  <a:lnTo>
                    <a:pt x="1776" y="147"/>
                  </a:lnTo>
                  <a:lnTo>
                    <a:pt x="1777" y="147"/>
                  </a:lnTo>
                  <a:lnTo>
                    <a:pt x="1800" y="159"/>
                  </a:lnTo>
                  <a:lnTo>
                    <a:pt x="1776" y="169"/>
                  </a:lnTo>
                  <a:lnTo>
                    <a:pt x="906" y="564"/>
                  </a:lnTo>
                  <a:lnTo>
                    <a:pt x="900" y="566"/>
                  </a:lnTo>
                  <a:lnTo>
                    <a:pt x="895" y="564"/>
                  </a:lnTo>
                  <a:lnTo>
                    <a:pt x="24" y="176"/>
                  </a:lnTo>
                  <a:lnTo>
                    <a:pt x="0" y="166"/>
                  </a:lnTo>
                  <a:lnTo>
                    <a:pt x="24" y="154"/>
                  </a:lnTo>
                  <a:lnTo>
                    <a:pt x="25" y="153"/>
                  </a:lnTo>
                  <a:lnTo>
                    <a:pt x="28" y="152"/>
                  </a:lnTo>
                  <a:lnTo>
                    <a:pt x="32" y="151"/>
                  </a:lnTo>
                  <a:lnTo>
                    <a:pt x="35" y="14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204200" y="4161600"/>
              <a:ext cx="1763640" cy="1225080"/>
            </a:xfrm>
            <a:custGeom>
              <a:avLst/>
              <a:gdLst/>
              <a:ahLst/>
              <a:rect l="l" t="t" r="r" b="b"/>
              <a:pathLst>
                <a:path w="1833" h="958">
                  <a:moveTo>
                    <a:pt x="0" y="404"/>
                  </a:moveTo>
                  <a:lnTo>
                    <a:pt x="1" y="375"/>
                  </a:lnTo>
                  <a:lnTo>
                    <a:pt x="7" y="348"/>
                  </a:lnTo>
                  <a:lnTo>
                    <a:pt x="15" y="320"/>
                  </a:lnTo>
                  <a:lnTo>
                    <a:pt x="28" y="292"/>
                  </a:lnTo>
                  <a:lnTo>
                    <a:pt x="43" y="265"/>
                  </a:lnTo>
                  <a:lnTo>
                    <a:pt x="61" y="238"/>
                  </a:lnTo>
                  <a:lnTo>
                    <a:pt x="83" y="212"/>
                  </a:lnTo>
                  <a:lnTo>
                    <a:pt x="107" y="186"/>
                  </a:lnTo>
                  <a:lnTo>
                    <a:pt x="135" y="161"/>
                  </a:lnTo>
                  <a:lnTo>
                    <a:pt x="166" y="136"/>
                  </a:lnTo>
                  <a:lnTo>
                    <a:pt x="200" y="113"/>
                  </a:lnTo>
                  <a:lnTo>
                    <a:pt x="237" y="88"/>
                  </a:lnTo>
                  <a:lnTo>
                    <a:pt x="277" y="65"/>
                  </a:lnTo>
                  <a:lnTo>
                    <a:pt x="321" y="44"/>
                  </a:lnTo>
                  <a:lnTo>
                    <a:pt x="367" y="23"/>
                  </a:lnTo>
                  <a:lnTo>
                    <a:pt x="416" y="2"/>
                  </a:lnTo>
                  <a:lnTo>
                    <a:pt x="416" y="2"/>
                  </a:lnTo>
                  <a:lnTo>
                    <a:pt x="417" y="2"/>
                  </a:lnTo>
                  <a:lnTo>
                    <a:pt x="418" y="2"/>
                  </a:lnTo>
                  <a:lnTo>
                    <a:pt x="418" y="2"/>
                  </a:lnTo>
                  <a:lnTo>
                    <a:pt x="423" y="0"/>
                  </a:lnTo>
                  <a:lnTo>
                    <a:pt x="424" y="0"/>
                  </a:lnTo>
                  <a:lnTo>
                    <a:pt x="425" y="1"/>
                  </a:lnTo>
                  <a:lnTo>
                    <a:pt x="426" y="2"/>
                  </a:lnTo>
                  <a:lnTo>
                    <a:pt x="427" y="2"/>
                  </a:lnTo>
                  <a:lnTo>
                    <a:pt x="1306" y="397"/>
                  </a:lnTo>
                  <a:lnTo>
                    <a:pt x="1308" y="398"/>
                  </a:lnTo>
                  <a:lnTo>
                    <a:pt x="1309" y="399"/>
                  </a:lnTo>
                  <a:lnTo>
                    <a:pt x="1817" y="891"/>
                  </a:lnTo>
                  <a:lnTo>
                    <a:pt x="1833" y="907"/>
                  </a:lnTo>
                  <a:lnTo>
                    <a:pt x="1830" y="907"/>
                  </a:lnTo>
                  <a:lnTo>
                    <a:pt x="1822" y="908"/>
                  </a:lnTo>
                  <a:lnTo>
                    <a:pt x="1813" y="911"/>
                  </a:lnTo>
                  <a:lnTo>
                    <a:pt x="1810" y="911"/>
                  </a:lnTo>
                  <a:lnTo>
                    <a:pt x="1808" y="912"/>
                  </a:lnTo>
                  <a:lnTo>
                    <a:pt x="1777" y="917"/>
                  </a:lnTo>
                  <a:lnTo>
                    <a:pt x="1746" y="922"/>
                  </a:lnTo>
                  <a:lnTo>
                    <a:pt x="1716" y="928"/>
                  </a:lnTo>
                  <a:lnTo>
                    <a:pt x="1683" y="932"/>
                  </a:lnTo>
                  <a:lnTo>
                    <a:pt x="1652" y="936"/>
                  </a:lnTo>
                  <a:lnTo>
                    <a:pt x="1621" y="940"/>
                  </a:lnTo>
                  <a:lnTo>
                    <a:pt x="1590" y="943"/>
                  </a:lnTo>
                  <a:lnTo>
                    <a:pt x="1558" y="946"/>
                  </a:lnTo>
                  <a:lnTo>
                    <a:pt x="1527" y="949"/>
                  </a:lnTo>
                  <a:lnTo>
                    <a:pt x="1495" y="951"/>
                  </a:lnTo>
                  <a:lnTo>
                    <a:pt x="1462" y="953"/>
                  </a:lnTo>
                  <a:lnTo>
                    <a:pt x="1430" y="955"/>
                  </a:lnTo>
                  <a:lnTo>
                    <a:pt x="1399" y="957"/>
                  </a:lnTo>
                  <a:lnTo>
                    <a:pt x="1367" y="957"/>
                  </a:lnTo>
                  <a:lnTo>
                    <a:pt x="1334" y="958"/>
                  </a:lnTo>
                  <a:lnTo>
                    <a:pt x="1302" y="958"/>
                  </a:lnTo>
                  <a:lnTo>
                    <a:pt x="1254" y="958"/>
                  </a:lnTo>
                  <a:lnTo>
                    <a:pt x="1207" y="957"/>
                  </a:lnTo>
                  <a:lnTo>
                    <a:pt x="1159" y="954"/>
                  </a:lnTo>
                  <a:lnTo>
                    <a:pt x="1112" y="951"/>
                  </a:lnTo>
                  <a:lnTo>
                    <a:pt x="1065" y="947"/>
                  </a:lnTo>
                  <a:lnTo>
                    <a:pt x="1019" y="944"/>
                  </a:lnTo>
                  <a:lnTo>
                    <a:pt x="973" y="938"/>
                  </a:lnTo>
                  <a:lnTo>
                    <a:pt x="927" y="932"/>
                  </a:lnTo>
                  <a:lnTo>
                    <a:pt x="882" y="927"/>
                  </a:lnTo>
                  <a:lnTo>
                    <a:pt x="838" y="920"/>
                  </a:lnTo>
                  <a:lnTo>
                    <a:pt x="794" y="912"/>
                  </a:lnTo>
                  <a:lnTo>
                    <a:pt x="751" y="904"/>
                  </a:lnTo>
                  <a:lnTo>
                    <a:pt x="709" y="894"/>
                  </a:lnTo>
                  <a:lnTo>
                    <a:pt x="667" y="884"/>
                  </a:lnTo>
                  <a:lnTo>
                    <a:pt x="626" y="874"/>
                  </a:lnTo>
                  <a:lnTo>
                    <a:pt x="586" y="863"/>
                  </a:lnTo>
                  <a:lnTo>
                    <a:pt x="547" y="852"/>
                  </a:lnTo>
                  <a:lnTo>
                    <a:pt x="509" y="839"/>
                  </a:lnTo>
                  <a:lnTo>
                    <a:pt x="472" y="827"/>
                  </a:lnTo>
                  <a:lnTo>
                    <a:pt x="436" y="814"/>
                  </a:lnTo>
                  <a:lnTo>
                    <a:pt x="402" y="799"/>
                  </a:lnTo>
                  <a:lnTo>
                    <a:pt x="367" y="785"/>
                  </a:lnTo>
                  <a:lnTo>
                    <a:pt x="335" y="770"/>
                  </a:lnTo>
                  <a:lnTo>
                    <a:pt x="303" y="755"/>
                  </a:lnTo>
                  <a:lnTo>
                    <a:pt x="273" y="739"/>
                  </a:lnTo>
                  <a:lnTo>
                    <a:pt x="244" y="723"/>
                  </a:lnTo>
                  <a:lnTo>
                    <a:pt x="216" y="706"/>
                  </a:lnTo>
                  <a:lnTo>
                    <a:pt x="191" y="688"/>
                  </a:lnTo>
                  <a:lnTo>
                    <a:pt x="166" y="670"/>
                  </a:lnTo>
                  <a:lnTo>
                    <a:pt x="143" y="653"/>
                  </a:lnTo>
                  <a:lnTo>
                    <a:pt x="121" y="634"/>
                  </a:lnTo>
                  <a:lnTo>
                    <a:pt x="101" y="615"/>
                  </a:lnTo>
                  <a:lnTo>
                    <a:pt x="77" y="589"/>
                  </a:lnTo>
                  <a:lnTo>
                    <a:pt x="56" y="564"/>
                  </a:lnTo>
                  <a:lnTo>
                    <a:pt x="39" y="538"/>
                  </a:lnTo>
                  <a:lnTo>
                    <a:pt x="25" y="511"/>
                  </a:lnTo>
                  <a:lnTo>
                    <a:pt x="14" y="485"/>
                  </a:lnTo>
                  <a:lnTo>
                    <a:pt x="6" y="458"/>
                  </a:lnTo>
                  <a:lnTo>
                    <a:pt x="1" y="432"/>
                  </a:lnTo>
                  <a:lnTo>
                    <a:pt x="0" y="4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28" name=""/>
            <p:cNvGrpSpPr/>
            <p:nvPr/>
          </p:nvGrpSpPr>
          <p:grpSpPr>
            <a:xfrm>
              <a:off x="1189080" y="3985200"/>
              <a:ext cx="2544120" cy="1666440"/>
              <a:chOff x="1189080" y="3985200"/>
              <a:chExt cx="2544120" cy="1666440"/>
            </a:xfrm>
          </p:grpSpPr>
          <p:sp>
            <p:nvSpPr>
              <p:cNvPr id="129" name=""/>
              <p:cNvSpPr/>
              <p:nvPr/>
            </p:nvSpPr>
            <p:spPr>
              <a:xfrm>
                <a:off x="1189080" y="4206960"/>
                <a:ext cx="2544120" cy="1444680"/>
              </a:xfrm>
              <a:custGeom>
                <a:avLst/>
                <a:gdLst/>
                <a:ahLst/>
                <a:rect l="l" t="t" r="r" b="b"/>
                <a:pathLst>
                  <a:path w="2647" h="1129">
                    <a:moveTo>
                      <a:pt x="16" y="557"/>
                    </a:moveTo>
                    <a:lnTo>
                      <a:pt x="10" y="525"/>
                    </a:lnTo>
                    <a:lnTo>
                      <a:pt x="6" y="493"/>
                    </a:lnTo>
                    <a:lnTo>
                      <a:pt x="2" y="462"/>
                    </a:lnTo>
                    <a:lnTo>
                      <a:pt x="0" y="430"/>
                    </a:lnTo>
                    <a:lnTo>
                      <a:pt x="2" y="397"/>
                    </a:lnTo>
                    <a:lnTo>
                      <a:pt x="7" y="362"/>
                    </a:lnTo>
                    <a:lnTo>
                      <a:pt x="15" y="325"/>
                    </a:lnTo>
                    <a:lnTo>
                      <a:pt x="29" y="286"/>
                    </a:lnTo>
                    <a:lnTo>
                      <a:pt x="40" y="262"/>
                    </a:lnTo>
                    <a:lnTo>
                      <a:pt x="53" y="239"/>
                    </a:lnTo>
                    <a:lnTo>
                      <a:pt x="70" y="218"/>
                    </a:lnTo>
                    <a:lnTo>
                      <a:pt x="88" y="198"/>
                    </a:lnTo>
                    <a:lnTo>
                      <a:pt x="109" y="179"/>
                    </a:lnTo>
                    <a:lnTo>
                      <a:pt x="133" y="162"/>
                    </a:lnTo>
                    <a:lnTo>
                      <a:pt x="159" y="145"/>
                    </a:lnTo>
                    <a:lnTo>
                      <a:pt x="186" y="130"/>
                    </a:lnTo>
                    <a:lnTo>
                      <a:pt x="216" y="116"/>
                    </a:lnTo>
                    <a:lnTo>
                      <a:pt x="249" y="102"/>
                    </a:lnTo>
                    <a:lnTo>
                      <a:pt x="283" y="90"/>
                    </a:lnTo>
                    <a:lnTo>
                      <a:pt x="319" y="79"/>
                    </a:lnTo>
                    <a:lnTo>
                      <a:pt x="357" y="69"/>
                    </a:lnTo>
                    <a:lnTo>
                      <a:pt x="396" y="59"/>
                    </a:lnTo>
                    <a:lnTo>
                      <a:pt x="437" y="51"/>
                    </a:lnTo>
                    <a:lnTo>
                      <a:pt x="480" y="43"/>
                    </a:lnTo>
                    <a:lnTo>
                      <a:pt x="524" y="36"/>
                    </a:lnTo>
                    <a:lnTo>
                      <a:pt x="570" y="31"/>
                    </a:lnTo>
                    <a:lnTo>
                      <a:pt x="617" y="25"/>
                    </a:lnTo>
                    <a:lnTo>
                      <a:pt x="664" y="20"/>
                    </a:lnTo>
                    <a:lnTo>
                      <a:pt x="715" y="17"/>
                    </a:lnTo>
                    <a:lnTo>
                      <a:pt x="766" y="12"/>
                    </a:lnTo>
                    <a:lnTo>
                      <a:pt x="816" y="10"/>
                    </a:lnTo>
                    <a:lnTo>
                      <a:pt x="869" y="8"/>
                    </a:lnTo>
                    <a:lnTo>
                      <a:pt x="923" y="5"/>
                    </a:lnTo>
                    <a:lnTo>
                      <a:pt x="977" y="3"/>
                    </a:lnTo>
                    <a:lnTo>
                      <a:pt x="1033" y="2"/>
                    </a:lnTo>
                    <a:lnTo>
                      <a:pt x="1089" y="1"/>
                    </a:lnTo>
                    <a:lnTo>
                      <a:pt x="1145" y="1"/>
                    </a:lnTo>
                    <a:lnTo>
                      <a:pt x="1203" y="0"/>
                    </a:lnTo>
                    <a:lnTo>
                      <a:pt x="1261" y="0"/>
                    </a:lnTo>
                    <a:lnTo>
                      <a:pt x="1318" y="0"/>
                    </a:lnTo>
                    <a:lnTo>
                      <a:pt x="1373" y="0"/>
                    </a:lnTo>
                    <a:lnTo>
                      <a:pt x="1428" y="0"/>
                    </a:lnTo>
                    <a:lnTo>
                      <a:pt x="1483" y="1"/>
                    </a:lnTo>
                    <a:lnTo>
                      <a:pt x="1537" y="2"/>
                    </a:lnTo>
                    <a:lnTo>
                      <a:pt x="1590" y="3"/>
                    </a:lnTo>
                    <a:lnTo>
                      <a:pt x="1643" y="4"/>
                    </a:lnTo>
                    <a:lnTo>
                      <a:pt x="1696" y="6"/>
                    </a:lnTo>
                    <a:lnTo>
                      <a:pt x="1748" y="9"/>
                    </a:lnTo>
                    <a:lnTo>
                      <a:pt x="1800" y="12"/>
                    </a:lnTo>
                    <a:lnTo>
                      <a:pt x="1849" y="16"/>
                    </a:lnTo>
                    <a:lnTo>
                      <a:pt x="1899" y="19"/>
                    </a:lnTo>
                    <a:lnTo>
                      <a:pt x="1947" y="24"/>
                    </a:lnTo>
                    <a:lnTo>
                      <a:pt x="1995" y="29"/>
                    </a:lnTo>
                    <a:lnTo>
                      <a:pt x="2041" y="35"/>
                    </a:lnTo>
                    <a:lnTo>
                      <a:pt x="2086" y="41"/>
                    </a:lnTo>
                    <a:lnTo>
                      <a:pt x="2131" y="48"/>
                    </a:lnTo>
                    <a:lnTo>
                      <a:pt x="2174" y="56"/>
                    </a:lnTo>
                    <a:lnTo>
                      <a:pt x="2214" y="65"/>
                    </a:lnTo>
                    <a:lnTo>
                      <a:pt x="2254" y="74"/>
                    </a:lnTo>
                    <a:lnTo>
                      <a:pt x="2292" y="85"/>
                    </a:lnTo>
                    <a:lnTo>
                      <a:pt x="2329" y="96"/>
                    </a:lnTo>
                    <a:lnTo>
                      <a:pt x="2364" y="108"/>
                    </a:lnTo>
                    <a:lnTo>
                      <a:pt x="2397" y="122"/>
                    </a:lnTo>
                    <a:lnTo>
                      <a:pt x="2428" y="135"/>
                    </a:lnTo>
                    <a:lnTo>
                      <a:pt x="2458" y="150"/>
                    </a:lnTo>
                    <a:lnTo>
                      <a:pt x="2486" y="166"/>
                    </a:lnTo>
                    <a:lnTo>
                      <a:pt x="2511" y="184"/>
                    </a:lnTo>
                    <a:lnTo>
                      <a:pt x="2534" y="201"/>
                    </a:lnTo>
                    <a:lnTo>
                      <a:pt x="2555" y="221"/>
                    </a:lnTo>
                    <a:lnTo>
                      <a:pt x="2574" y="241"/>
                    </a:lnTo>
                    <a:lnTo>
                      <a:pt x="2591" y="263"/>
                    </a:lnTo>
                    <a:lnTo>
                      <a:pt x="2604" y="286"/>
                    </a:lnTo>
                    <a:lnTo>
                      <a:pt x="2616" y="312"/>
                    </a:lnTo>
                    <a:lnTo>
                      <a:pt x="2626" y="346"/>
                    </a:lnTo>
                    <a:lnTo>
                      <a:pt x="2637" y="386"/>
                    </a:lnTo>
                    <a:lnTo>
                      <a:pt x="2644" y="431"/>
                    </a:lnTo>
                    <a:lnTo>
                      <a:pt x="2647" y="478"/>
                    </a:lnTo>
                    <a:lnTo>
                      <a:pt x="2646" y="526"/>
                    </a:lnTo>
                    <a:lnTo>
                      <a:pt x="2640" y="572"/>
                    </a:lnTo>
                    <a:lnTo>
                      <a:pt x="2627" y="614"/>
                    </a:lnTo>
                    <a:lnTo>
                      <a:pt x="2615" y="644"/>
                    </a:lnTo>
                    <a:lnTo>
                      <a:pt x="2600" y="673"/>
                    </a:lnTo>
                    <a:lnTo>
                      <a:pt x="2584" y="701"/>
                    </a:lnTo>
                    <a:lnTo>
                      <a:pt x="2565" y="727"/>
                    </a:lnTo>
                    <a:lnTo>
                      <a:pt x="2544" y="754"/>
                    </a:lnTo>
                    <a:lnTo>
                      <a:pt x="2523" y="780"/>
                    </a:lnTo>
                    <a:lnTo>
                      <a:pt x="2497" y="804"/>
                    </a:lnTo>
                    <a:lnTo>
                      <a:pt x="2472" y="828"/>
                    </a:lnTo>
                    <a:lnTo>
                      <a:pt x="2443" y="852"/>
                    </a:lnTo>
                    <a:lnTo>
                      <a:pt x="2413" y="875"/>
                    </a:lnTo>
                    <a:lnTo>
                      <a:pt x="2382" y="896"/>
                    </a:lnTo>
                    <a:lnTo>
                      <a:pt x="2349" y="917"/>
                    </a:lnTo>
                    <a:lnTo>
                      <a:pt x="2313" y="937"/>
                    </a:lnTo>
                    <a:lnTo>
                      <a:pt x="2276" y="955"/>
                    </a:lnTo>
                    <a:lnTo>
                      <a:pt x="2237" y="974"/>
                    </a:lnTo>
                    <a:lnTo>
                      <a:pt x="2196" y="991"/>
                    </a:lnTo>
                    <a:lnTo>
                      <a:pt x="2154" y="1007"/>
                    </a:lnTo>
                    <a:lnTo>
                      <a:pt x="2109" y="1022"/>
                    </a:lnTo>
                    <a:lnTo>
                      <a:pt x="2063" y="1037"/>
                    </a:lnTo>
                    <a:lnTo>
                      <a:pt x="2016" y="1050"/>
                    </a:lnTo>
                    <a:lnTo>
                      <a:pt x="1966" y="1062"/>
                    </a:lnTo>
                    <a:lnTo>
                      <a:pt x="1916" y="1074"/>
                    </a:lnTo>
                    <a:lnTo>
                      <a:pt x="1863" y="1084"/>
                    </a:lnTo>
                    <a:lnTo>
                      <a:pt x="1809" y="1093"/>
                    </a:lnTo>
                    <a:lnTo>
                      <a:pt x="1753" y="1101"/>
                    </a:lnTo>
                    <a:lnTo>
                      <a:pt x="1696" y="1108"/>
                    </a:lnTo>
                    <a:lnTo>
                      <a:pt x="1636" y="1115"/>
                    </a:lnTo>
                    <a:lnTo>
                      <a:pt x="1576" y="1120"/>
                    </a:lnTo>
                    <a:lnTo>
                      <a:pt x="1514" y="1124"/>
                    </a:lnTo>
                    <a:lnTo>
                      <a:pt x="1451" y="1127"/>
                    </a:lnTo>
                    <a:lnTo>
                      <a:pt x="1385" y="1129"/>
                    </a:lnTo>
                    <a:lnTo>
                      <a:pt x="1318" y="1129"/>
                    </a:lnTo>
                    <a:lnTo>
                      <a:pt x="1248" y="1128"/>
                    </a:lnTo>
                    <a:lnTo>
                      <a:pt x="1179" y="1127"/>
                    </a:lnTo>
                    <a:lnTo>
                      <a:pt x="1111" y="1123"/>
                    </a:lnTo>
                    <a:lnTo>
                      <a:pt x="1046" y="1119"/>
                    </a:lnTo>
                    <a:lnTo>
                      <a:pt x="982" y="1113"/>
                    </a:lnTo>
                    <a:lnTo>
                      <a:pt x="921" y="1106"/>
                    </a:lnTo>
                    <a:lnTo>
                      <a:pt x="861" y="1098"/>
                    </a:lnTo>
                    <a:lnTo>
                      <a:pt x="802" y="1089"/>
                    </a:lnTo>
                    <a:lnTo>
                      <a:pt x="746" y="1078"/>
                    </a:lnTo>
                    <a:lnTo>
                      <a:pt x="692" y="1067"/>
                    </a:lnTo>
                    <a:lnTo>
                      <a:pt x="639" y="1054"/>
                    </a:lnTo>
                    <a:lnTo>
                      <a:pt x="588" y="1040"/>
                    </a:lnTo>
                    <a:lnTo>
                      <a:pt x="540" y="1025"/>
                    </a:lnTo>
                    <a:lnTo>
                      <a:pt x="493" y="1009"/>
                    </a:lnTo>
                    <a:lnTo>
                      <a:pt x="449" y="992"/>
                    </a:lnTo>
                    <a:lnTo>
                      <a:pt x="406" y="974"/>
                    </a:lnTo>
                    <a:lnTo>
                      <a:pt x="365" y="955"/>
                    </a:lnTo>
                    <a:lnTo>
                      <a:pt x="327" y="934"/>
                    </a:lnTo>
                    <a:lnTo>
                      <a:pt x="290" y="914"/>
                    </a:lnTo>
                    <a:lnTo>
                      <a:pt x="255" y="892"/>
                    </a:lnTo>
                    <a:lnTo>
                      <a:pt x="223" y="869"/>
                    </a:lnTo>
                    <a:lnTo>
                      <a:pt x="193" y="845"/>
                    </a:lnTo>
                    <a:lnTo>
                      <a:pt x="166" y="819"/>
                    </a:lnTo>
                    <a:lnTo>
                      <a:pt x="140" y="794"/>
                    </a:lnTo>
                    <a:lnTo>
                      <a:pt x="116" y="767"/>
                    </a:lnTo>
                    <a:lnTo>
                      <a:pt x="95" y="740"/>
                    </a:lnTo>
                    <a:lnTo>
                      <a:pt x="76" y="711"/>
                    </a:lnTo>
                    <a:lnTo>
                      <a:pt x="60" y="682"/>
                    </a:lnTo>
                    <a:lnTo>
                      <a:pt x="45" y="652"/>
                    </a:lnTo>
                    <a:lnTo>
                      <a:pt x="33" y="621"/>
                    </a:lnTo>
                    <a:lnTo>
                      <a:pt x="23" y="589"/>
                    </a:lnTo>
                    <a:lnTo>
                      <a:pt x="16" y="55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30" name=""/>
              <p:cNvGrpSpPr/>
              <p:nvPr/>
            </p:nvGrpSpPr>
            <p:grpSpPr>
              <a:xfrm>
                <a:off x="1200240" y="3985200"/>
                <a:ext cx="2520720" cy="1650600"/>
                <a:chOff x="1200240" y="3985200"/>
                <a:chExt cx="2520720" cy="1650600"/>
              </a:xfrm>
            </p:grpSpPr>
            <p:sp>
              <p:nvSpPr>
                <p:cNvPr id="131" name=""/>
                <p:cNvSpPr/>
                <p:nvPr/>
              </p:nvSpPr>
              <p:spPr>
                <a:xfrm>
                  <a:off x="1200240" y="4222800"/>
                  <a:ext cx="2520720" cy="1413000"/>
                </a:xfrm>
                <a:custGeom>
                  <a:avLst/>
                  <a:gdLst/>
                  <a:ahLst/>
                  <a:rect l="l" t="t" r="r" b="b"/>
                  <a:pathLst>
                    <a:path w="2622" h="1106">
                      <a:moveTo>
                        <a:pt x="1306" y="1106"/>
                      </a:moveTo>
                      <a:lnTo>
                        <a:pt x="1368" y="1106"/>
                      </a:lnTo>
                      <a:lnTo>
                        <a:pt x="1431" y="1104"/>
                      </a:lnTo>
                      <a:lnTo>
                        <a:pt x="1490" y="1102"/>
                      </a:lnTo>
                      <a:lnTo>
                        <a:pt x="1550" y="1098"/>
                      </a:lnTo>
                      <a:lnTo>
                        <a:pt x="1608" y="1094"/>
                      </a:lnTo>
                      <a:lnTo>
                        <a:pt x="1665" y="1088"/>
                      </a:lnTo>
                      <a:lnTo>
                        <a:pt x="1721" y="1081"/>
                      </a:lnTo>
                      <a:lnTo>
                        <a:pt x="1775" y="1073"/>
                      </a:lnTo>
                      <a:lnTo>
                        <a:pt x="1828" y="1065"/>
                      </a:lnTo>
                      <a:lnTo>
                        <a:pt x="1880" y="1055"/>
                      </a:lnTo>
                      <a:lnTo>
                        <a:pt x="1930" y="1044"/>
                      </a:lnTo>
                      <a:lnTo>
                        <a:pt x="1979" y="1033"/>
                      </a:lnTo>
                      <a:lnTo>
                        <a:pt x="2027" y="1020"/>
                      </a:lnTo>
                      <a:lnTo>
                        <a:pt x="2072" y="1006"/>
                      </a:lnTo>
                      <a:lnTo>
                        <a:pt x="2117" y="991"/>
                      </a:lnTo>
                      <a:lnTo>
                        <a:pt x="2159" y="976"/>
                      </a:lnTo>
                      <a:lnTo>
                        <a:pt x="2201" y="959"/>
                      </a:lnTo>
                      <a:lnTo>
                        <a:pt x="2240" y="942"/>
                      </a:lnTo>
                      <a:lnTo>
                        <a:pt x="2278" y="923"/>
                      </a:lnTo>
                      <a:lnTo>
                        <a:pt x="2315" y="904"/>
                      </a:lnTo>
                      <a:lnTo>
                        <a:pt x="2349" y="884"/>
                      </a:lnTo>
                      <a:lnTo>
                        <a:pt x="2382" y="862"/>
                      </a:lnTo>
                      <a:lnTo>
                        <a:pt x="2413" y="841"/>
                      </a:lnTo>
                      <a:lnTo>
                        <a:pt x="2442" y="817"/>
                      </a:lnTo>
                      <a:lnTo>
                        <a:pt x="2469" y="793"/>
                      </a:lnTo>
                      <a:lnTo>
                        <a:pt x="2494" y="768"/>
                      </a:lnTo>
                      <a:lnTo>
                        <a:pt x="2518" y="742"/>
                      </a:lnTo>
                      <a:lnTo>
                        <a:pt x="2539" y="715"/>
                      </a:lnTo>
                      <a:lnTo>
                        <a:pt x="2558" y="687"/>
                      </a:lnTo>
                      <a:lnTo>
                        <a:pt x="2575" y="659"/>
                      </a:lnTo>
                      <a:lnTo>
                        <a:pt x="2591" y="629"/>
                      </a:lnTo>
                      <a:lnTo>
                        <a:pt x="2604" y="599"/>
                      </a:lnTo>
                      <a:lnTo>
                        <a:pt x="2617" y="557"/>
                      </a:lnTo>
                      <a:lnTo>
                        <a:pt x="2622" y="512"/>
                      </a:lnTo>
                      <a:lnTo>
                        <a:pt x="2622" y="465"/>
                      </a:lnTo>
                      <a:lnTo>
                        <a:pt x="2619" y="419"/>
                      </a:lnTo>
                      <a:lnTo>
                        <a:pt x="2612" y="375"/>
                      </a:lnTo>
                      <a:lnTo>
                        <a:pt x="2603" y="336"/>
                      </a:lnTo>
                      <a:lnTo>
                        <a:pt x="2592" y="304"/>
                      </a:lnTo>
                      <a:lnTo>
                        <a:pt x="2582" y="281"/>
                      </a:lnTo>
                      <a:lnTo>
                        <a:pt x="2568" y="259"/>
                      </a:lnTo>
                      <a:lnTo>
                        <a:pt x="2552" y="237"/>
                      </a:lnTo>
                      <a:lnTo>
                        <a:pt x="2534" y="218"/>
                      </a:lnTo>
                      <a:lnTo>
                        <a:pt x="2513" y="198"/>
                      </a:lnTo>
                      <a:lnTo>
                        <a:pt x="2491" y="181"/>
                      </a:lnTo>
                      <a:lnTo>
                        <a:pt x="2466" y="164"/>
                      </a:lnTo>
                      <a:lnTo>
                        <a:pt x="2439" y="149"/>
                      </a:lnTo>
                      <a:lnTo>
                        <a:pt x="2410" y="134"/>
                      </a:lnTo>
                      <a:lnTo>
                        <a:pt x="2379" y="120"/>
                      </a:lnTo>
                      <a:lnTo>
                        <a:pt x="2346" y="107"/>
                      </a:lnTo>
                      <a:lnTo>
                        <a:pt x="2313" y="96"/>
                      </a:lnTo>
                      <a:lnTo>
                        <a:pt x="2276" y="84"/>
                      </a:lnTo>
                      <a:lnTo>
                        <a:pt x="2238" y="74"/>
                      </a:lnTo>
                      <a:lnTo>
                        <a:pt x="2199" y="65"/>
                      </a:lnTo>
                      <a:lnTo>
                        <a:pt x="2158" y="56"/>
                      </a:lnTo>
                      <a:lnTo>
                        <a:pt x="2116" y="48"/>
                      </a:lnTo>
                      <a:lnTo>
                        <a:pt x="2072" y="41"/>
                      </a:lnTo>
                      <a:lnTo>
                        <a:pt x="2028" y="35"/>
                      </a:lnTo>
                      <a:lnTo>
                        <a:pt x="1982" y="29"/>
                      </a:lnTo>
                      <a:lnTo>
                        <a:pt x="1935" y="24"/>
                      </a:lnTo>
                      <a:lnTo>
                        <a:pt x="1887" y="20"/>
                      </a:lnTo>
                      <a:lnTo>
                        <a:pt x="1837" y="16"/>
                      </a:lnTo>
                      <a:lnTo>
                        <a:pt x="1788" y="13"/>
                      </a:lnTo>
                      <a:lnTo>
                        <a:pt x="1736" y="9"/>
                      </a:lnTo>
                      <a:lnTo>
                        <a:pt x="1684" y="7"/>
                      </a:lnTo>
                      <a:lnTo>
                        <a:pt x="1632" y="5"/>
                      </a:lnTo>
                      <a:lnTo>
                        <a:pt x="1579" y="3"/>
                      </a:lnTo>
                      <a:lnTo>
                        <a:pt x="1525" y="2"/>
                      </a:lnTo>
                      <a:lnTo>
                        <a:pt x="1471" y="1"/>
                      </a:lnTo>
                      <a:lnTo>
                        <a:pt x="1417" y="0"/>
                      </a:lnTo>
                      <a:lnTo>
                        <a:pt x="1361" y="0"/>
                      </a:lnTo>
                      <a:lnTo>
                        <a:pt x="1306" y="0"/>
                      </a:lnTo>
                      <a:lnTo>
                        <a:pt x="1250" y="0"/>
                      </a:lnTo>
                      <a:lnTo>
                        <a:pt x="1193" y="0"/>
                      </a:lnTo>
                      <a:lnTo>
                        <a:pt x="1138" y="1"/>
                      </a:lnTo>
                      <a:lnTo>
                        <a:pt x="1083" y="1"/>
                      </a:lnTo>
                      <a:lnTo>
                        <a:pt x="1028" y="2"/>
                      </a:lnTo>
                      <a:lnTo>
                        <a:pt x="973" y="3"/>
                      </a:lnTo>
                      <a:lnTo>
                        <a:pt x="920" y="6"/>
                      </a:lnTo>
                      <a:lnTo>
                        <a:pt x="868" y="7"/>
                      </a:lnTo>
                      <a:lnTo>
                        <a:pt x="815" y="9"/>
                      </a:lnTo>
                      <a:lnTo>
                        <a:pt x="764" y="13"/>
                      </a:lnTo>
                      <a:lnTo>
                        <a:pt x="713" y="16"/>
                      </a:lnTo>
                      <a:lnTo>
                        <a:pt x="665" y="21"/>
                      </a:lnTo>
                      <a:lnTo>
                        <a:pt x="617" y="25"/>
                      </a:lnTo>
                      <a:lnTo>
                        <a:pt x="569" y="30"/>
                      </a:lnTo>
                      <a:lnTo>
                        <a:pt x="524" y="36"/>
                      </a:lnTo>
                      <a:lnTo>
                        <a:pt x="479" y="43"/>
                      </a:lnTo>
                      <a:lnTo>
                        <a:pt x="437" y="51"/>
                      </a:lnTo>
                      <a:lnTo>
                        <a:pt x="395" y="59"/>
                      </a:lnTo>
                      <a:lnTo>
                        <a:pt x="356" y="68"/>
                      </a:lnTo>
                      <a:lnTo>
                        <a:pt x="318" y="77"/>
                      </a:lnTo>
                      <a:lnTo>
                        <a:pt x="283" y="89"/>
                      </a:lnTo>
                      <a:lnTo>
                        <a:pt x="248" y="100"/>
                      </a:lnTo>
                      <a:lnTo>
                        <a:pt x="216" y="113"/>
                      </a:lnTo>
                      <a:lnTo>
                        <a:pt x="186" y="127"/>
                      </a:lnTo>
                      <a:lnTo>
                        <a:pt x="158" y="142"/>
                      </a:lnTo>
                      <a:lnTo>
                        <a:pt x="132" y="158"/>
                      </a:lnTo>
                      <a:lnTo>
                        <a:pt x="109" y="175"/>
                      </a:lnTo>
                      <a:lnTo>
                        <a:pt x="88" y="193"/>
                      </a:lnTo>
                      <a:lnTo>
                        <a:pt x="68" y="213"/>
                      </a:lnTo>
                      <a:lnTo>
                        <a:pt x="52" y="234"/>
                      </a:lnTo>
                      <a:lnTo>
                        <a:pt x="38" y="257"/>
                      </a:lnTo>
                      <a:lnTo>
                        <a:pt x="28" y="280"/>
                      </a:lnTo>
                      <a:lnTo>
                        <a:pt x="15" y="318"/>
                      </a:lnTo>
                      <a:lnTo>
                        <a:pt x="6" y="352"/>
                      </a:lnTo>
                      <a:lnTo>
                        <a:pt x="2" y="386"/>
                      </a:lnTo>
                      <a:lnTo>
                        <a:pt x="0" y="418"/>
                      </a:lnTo>
                      <a:lnTo>
                        <a:pt x="2" y="449"/>
                      </a:lnTo>
                      <a:lnTo>
                        <a:pt x="5" y="480"/>
                      </a:lnTo>
                      <a:lnTo>
                        <a:pt x="10" y="511"/>
                      </a:lnTo>
                      <a:lnTo>
                        <a:pt x="15" y="543"/>
                      </a:lnTo>
                      <a:lnTo>
                        <a:pt x="24" y="578"/>
                      </a:lnTo>
                      <a:lnTo>
                        <a:pt x="34" y="613"/>
                      </a:lnTo>
                      <a:lnTo>
                        <a:pt x="48" y="645"/>
                      </a:lnTo>
                      <a:lnTo>
                        <a:pt x="64" y="677"/>
                      </a:lnTo>
                      <a:lnTo>
                        <a:pt x="82" y="707"/>
                      </a:lnTo>
                      <a:lnTo>
                        <a:pt x="103" y="737"/>
                      </a:lnTo>
                      <a:lnTo>
                        <a:pt x="127" y="765"/>
                      </a:lnTo>
                      <a:lnTo>
                        <a:pt x="152" y="792"/>
                      </a:lnTo>
                      <a:lnTo>
                        <a:pt x="180" y="817"/>
                      </a:lnTo>
                      <a:lnTo>
                        <a:pt x="210" y="843"/>
                      </a:lnTo>
                      <a:lnTo>
                        <a:pt x="243" y="866"/>
                      </a:lnTo>
                      <a:lnTo>
                        <a:pt x="277" y="889"/>
                      </a:lnTo>
                      <a:lnTo>
                        <a:pt x="314" y="910"/>
                      </a:lnTo>
                      <a:lnTo>
                        <a:pt x="352" y="930"/>
                      </a:lnTo>
                      <a:lnTo>
                        <a:pt x="392" y="950"/>
                      </a:lnTo>
                      <a:lnTo>
                        <a:pt x="435" y="967"/>
                      </a:lnTo>
                      <a:lnTo>
                        <a:pt x="478" y="984"/>
                      </a:lnTo>
                      <a:lnTo>
                        <a:pt x="524" y="1001"/>
                      </a:lnTo>
                      <a:lnTo>
                        <a:pt x="572" y="1014"/>
                      </a:lnTo>
                      <a:lnTo>
                        <a:pt x="620" y="1028"/>
                      </a:lnTo>
                      <a:lnTo>
                        <a:pt x="671" y="1041"/>
                      </a:lnTo>
                      <a:lnTo>
                        <a:pt x="722" y="1052"/>
                      </a:lnTo>
                      <a:lnTo>
                        <a:pt x="775" y="1063"/>
                      </a:lnTo>
                      <a:lnTo>
                        <a:pt x="830" y="1072"/>
                      </a:lnTo>
                      <a:lnTo>
                        <a:pt x="886" y="1080"/>
                      </a:lnTo>
                      <a:lnTo>
                        <a:pt x="942" y="1087"/>
                      </a:lnTo>
                      <a:lnTo>
                        <a:pt x="1001" y="1093"/>
                      </a:lnTo>
                      <a:lnTo>
                        <a:pt x="1060" y="1098"/>
                      </a:lnTo>
                      <a:lnTo>
                        <a:pt x="1120" y="1102"/>
                      </a:lnTo>
                      <a:lnTo>
                        <a:pt x="1182" y="1104"/>
                      </a:lnTo>
                      <a:lnTo>
                        <a:pt x="1243" y="1106"/>
                      </a:lnTo>
                      <a:lnTo>
                        <a:pt x="1306" y="1106"/>
                      </a:lnTo>
                      <a:close/>
                    </a:path>
                  </a:pathLst>
                </a:custGeom>
                <a:solidFill>
                  <a:srgbClr val="3f9e9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215360" y="3985200"/>
                  <a:ext cx="2480760" cy="1387440"/>
                </a:xfrm>
                <a:custGeom>
                  <a:avLst/>
                  <a:gdLst/>
                  <a:ahLst/>
                  <a:rect l="l" t="t" r="r" b="b"/>
                  <a:pathLst>
                    <a:path w="2581" h="1084">
                      <a:moveTo>
                        <a:pt x="1291" y="1084"/>
                      </a:moveTo>
                      <a:lnTo>
                        <a:pt x="1355" y="1083"/>
                      </a:lnTo>
                      <a:lnTo>
                        <a:pt x="1417" y="1082"/>
                      </a:lnTo>
                      <a:lnTo>
                        <a:pt x="1479" y="1078"/>
                      </a:lnTo>
                      <a:lnTo>
                        <a:pt x="1540" y="1073"/>
                      </a:lnTo>
                      <a:lnTo>
                        <a:pt x="1601" y="1067"/>
                      </a:lnTo>
                      <a:lnTo>
                        <a:pt x="1661" y="1060"/>
                      </a:lnTo>
                      <a:lnTo>
                        <a:pt x="1720" y="1051"/>
                      </a:lnTo>
                      <a:lnTo>
                        <a:pt x="1777" y="1042"/>
                      </a:lnTo>
                      <a:lnTo>
                        <a:pt x="1834" y="1031"/>
                      </a:lnTo>
                      <a:lnTo>
                        <a:pt x="1889" y="1019"/>
                      </a:lnTo>
                      <a:lnTo>
                        <a:pt x="1943" y="1006"/>
                      </a:lnTo>
                      <a:lnTo>
                        <a:pt x="1995" y="992"/>
                      </a:lnTo>
                      <a:lnTo>
                        <a:pt x="2047" y="976"/>
                      </a:lnTo>
                      <a:lnTo>
                        <a:pt x="2095" y="960"/>
                      </a:lnTo>
                      <a:lnTo>
                        <a:pt x="2143" y="944"/>
                      </a:lnTo>
                      <a:lnTo>
                        <a:pt x="2188" y="925"/>
                      </a:lnTo>
                      <a:lnTo>
                        <a:pt x="2232" y="907"/>
                      </a:lnTo>
                      <a:lnTo>
                        <a:pt x="2273" y="887"/>
                      </a:lnTo>
                      <a:lnTo>
                        <a:pt x="2314" y="867"/>
                      </a:lnTo>
                      <a:lnTo>
                        <a:pt x="2351" y="845"/>
                      </a:lnTo>
                      <a:lnTo>
                        <a:pt x="2385" y="823"/>
                      </a:lnTo>
                      <a:lnTo>
                        <a:pt x="2417" y="800"/>
                      </a:lnTo>
                      <a:lnTo>
                        <a:pt x="2447" y="777"/>
                      </a:lnTo>
                      <a:lnTo>
                        <a:pt x="2474" y="753"/>
                      </a:lnTo>
                      <a:lnTo>
                        <a:pt x="2498" y="728"/>
                      </a:lnTo>
                      <a:lnTo>
                        <a:pt x="2520" y="703"/>
                      </a:lnTo>
                      <a:lnTo>
                        <a:pt x="2538" y="678"/>
                      </a:lnTo>
                      <a:lnTo>
                        <a:pt x="2553" y="651"/>
                      </a:lnTo>
                      <a:lnTo>
                        <a:pt x="2565" y="625"/>
                      </a:lnTo>
                      <a:lnTo>
                        <a:pt x="2574" y="597"/>
                      </a:lnTo>
                      <a:lnTo>
                        <a:pt x="2579" y="570"/>
                      </a:lnTo>
                      <a:lnTo>
                        <a:pt x="2581" y="542"/>
                      </a:lnTo>
                      <a:lnTo>
                        <a:pt x="2579" y="514"/>
                      </a:lnTo>
                      <a:lnTo>
                        <a:pt x="2574" y="487"/>
                      </a:lnTo>
                      <a:lnTo>
                        <a:pt x="2565" y="459"/>
                      </a:lnTo>
                      <a:lnTo>
                        <a:pt x="2553" y="433"/>
                      </a:lnTo>
                      <a:lnTo>
                        <a:pt x="2538" y="406"/>
                      </a:lnTo>
                      <a:lnTo>
                        <a:pt x="2520" y="381"/>
                      </a:lnTo>
                      <a:lnTo>
                        <a:pt x="2498" y="355"/>
                      </a:lnTo>
                      <a:lnTo>
                        <a:pt x="2474" y="331"/>
                      </a:lnTo>
                      <a:lnTo>
                        <a:pt x="2447" y="307"/>
                      </a:lnTo>
                      <a:lnTo>
                        <a:pt x="2417" y="284"/>
                      </a:lnTo>
                      <a:lnTo>
                        <a:pt x="2385" y="261"/>
                      </a:lnTo>
                      <a:lnTo>
                        <a:pt x="2351" y="239"/>
                      </a:lnTo>
                      <a:lnTo>
                        <a:pt x="2314" y="217"/>
                      </a:lnTo>
                      <a:lnTo>
                        <a:pt x="2273" y="197"/>
                      </a:lnTo>
                      <a:lnTo>
                        <a:pt x="2232" y="177"/>
                      </a:lnTo>
                      <a:lnTo>
                        <a:pt x="2188" y="159"/>
                      </a:lnTo>
                      <a:lnTo>
                        <a:pt x="2143" y="140"/>
                      </a:lnTo>
                      <a:lnTo>
                        <a:pt x="2095" y="124"/>
                      </a:lnTo>
                      <a:lnTo>
                        <a:pt x="2047" y="108"/>
                      </a:lnTo>
                      <a:lnTo>
                        <a:pt x="1995" y="92"/>
                      </a:lnTo>
                      <a:lnTo>
                        <a:pt x="1943" y="78"/>
                      </a:lnTo>
                      <a:lnTo>
                        <a:pt x="1889" y="65"/>
                      </a:lnTo>
                      <a:lnTo>
                        <a:pt x="1834" y="53"/>
                      </a:lnTo>
                      <a:lnTo>
                        <a:pt x="1777" y="42"/>
                      </a:lnTo>
                      <a:lnTo>
                        <a:pt x="1720" y="33"/>
                      </a:lnTo>
                      <a:lnTo>
                        <a:pt x="1661" y="24"/>
                      </a:lnTo>
                      <a:lnTo>
                        <a:pt x="1601" y="17"/>
                      </a:lnTo>
                      <a:lnTo>
                        <a:pt x="1540" y="11"/>
                      </a:lnTo>
                      <a:lnTo>
                        <a:pt x="1479" y="5"/>
                      </a:lnTo>
                      <a:lnTo>
                        <a:pt x="1417" y="2"/>
                      </a:lnTo>
                      <a:lnTo>
                        <a:pt x="1355" y="1"/>
                      </a:lnTo>
                      <a:lnTo>
                        <a:pt x="1291" y="0"/>
                      </a:lnTo>
                      <a:lnTo>
                        <a:pt x="1228" y="1"/>
                      </a:lnTo>
                      <a:lnTo>
                        <a:pt x="1166" y="2"/>
                      </a:lnTo>
                      <a:lnTo>
                        <a:pt x="1104" y="5"/>
                      </a:lnTo>
                      <a:lnTo>
                        <a:pt x="1043" y="11"/>
                      </a:lnTo>
                      <a:lnTo>
                        <a:pt x="981" y="17"/>
                      </a:lnTo>
                      <a:lnTo>
                        <a:pt x="922" y="24"/>
                      </a:lnTo>
                      <a:lnTo>
                        <a:pt x="863" y="33"/>
                      </a:lnTo>
                      <a:lnTo>
                        <a:pt x="805" y="42"/>
                      </a:lnTo>
                      <a:lnTo>
                        <a:pt x="748" y="53"/>
                      </a:lnTo>
                      <a:lnTo>
                        <a:pt x="692" y="65"/>
                      </a:lnTo>
                      <a:lnTo>
                        <a:pt x="638" y="78"/>
                      </a:lnTo>
                      <a:lnTo>
                        <a:pt x="587" y="92"/>
                      </a:lnTo>
                      <a:lnTo>
                        <a:pt x="536" y="108"/>
                      </a:lnTo>
                      <a:lnTo>
                        <a:pt x="486" y="124"/>
                      </a:lnTo>
                      <a:lnTo>
                        <a:pt x="438" y="140"/>
                      </a:lnTo>
                      <a:lnTo>
                        <a:pt x="393" y="159"/>
                      </a:lnTo>
                      <a:lnTo>
                        <a:pt x="349" y="177"/>
                      </a:lnTo>
                      <a:lnTo>
                        <a:pt x="308" y="197"/>
                      </a:lnTo>
                      <a:lnTo>
                        <a:pt x="268" y="217"/>
                      </a:lnTo>
                      <a:lnTo>
                        <a:pt x="231" y="239"/>
                      </a:lnTo>
                      <a:lnTo>
                        <a:pt x="196" y="261"/>
                      </a:lnTo>
                      <a:lnTo>
                        <a:pt x="164" y="284"/>
                      </a:lnTo>
                      <a:lnTo>
                        <a:pt x="134" y="307"/>
                      </a:lnTo>
                      <a:lnTo>
                        <a:pt x="108" y="331"/>
                      </a:lnTo>
                      <a:lnTo>
                        <a:pt x="83" y="355"/>
                      </a:lnTo>
                      <a:lnTo>
                        <a:pt x="61" y="381"/>
                      </a:lnTo>
                      <a:lnTo>
                        <a:pt x="43" y="406"/>
                      </a:lnTo>
                      <a:lnTo>
                        <a:pt x="28" y="433"/>
                      </a:lnTo>
                      <a:lnTo>
                        <a:pt x="17" y="459"/>
                      </a:lnTo>
                      <a:lnTo>
                        <a:pt x="7" y="487"/>
                      </a:lnTo>
                      <a:lnTo>
                        <a:pt x="3" y="514"/>
                      </a:lnTo>
                      <a:lnTo>
                        <a:pt x="0" y="542"/>
                      </a:lnTo>
                      <a:lnTo>
                        <a:pt x="3" y="570"/>
                      </a:lnTo>
                      <a:lnTo>
                        <a:pt x="7" y="597"/>
                      </a:lnTo>
                      <a:lnTo>
                        <a:pt x="17" y="625"/>
                      </a:lnTo>
                      <a:lnTo>
                        <a:pt x="28" y="651"/>
                      </a:lnTo>
                      <a:lnTo>
                        <a:pt x="43" y="678"/>
                      </a:lnTo>
                      <a:lnTo>
                        <a:pt x="61" y="703"/>
                      </a:lnTo>
                      <a:lnTo>
                        <a:pt x="83" y="728"/>
                      </a:lnTo>
                      <a:lnTo>
                        <a:pt x="108" y="753"/>
                      </a:lnTo>
                      <a:lnTo>
                        <a:pt x="134" y="777"/>
                      </a:lnTo>
                      <a:lnTo>
                        <a:pt x="164" y="800"/>
                      </a:lnTo>
                      <a:lnTo>
                        <a:pt x="196" y="823"/>
                      </a:lnTo>
                      <a:lnTo>
                        <a:pt x="231" y="845"/>
                      </a:lnTo>
                      <a:lnTo>
                        <a:pt x="268" y="867"/>
                      </a:lnTo>
                      <a:lnTo>
                        <a:pt x="308" y="887"/>
                      </a:lnTo>
                      <a:lnTo>
                        <a:pt x="349" y="907"/>
                      </a:lnTo>
                      <a:lnTo>
                        <a:pt x="393" y="925"/>
                      </a:lnTo>
                      <a:lnTo>
                        <a:pt x="438" y="944"/>
                      </a:lnTo>
                      <a:lnTo>
                        <a:pt x="486" y="960"/>
                      </a:lnTo>
                      <a:lnTo>
                        <a:pt x="536" y="976"/>
                      </a:lnTo>
                      <a:lnTo>
                        <a:pt x="587" y="992"/>
                      </a:lnTo>
                      <a:lnTo>
                        <a:pt x="638" y="1006"/>
                      </a:lnTo>
                      <a:lnTo>
                        <a:pt x="692" y="1019"/>
                      </a:lnTo>
                      <a:lnTo>
                        <a:pt x="748" y="1031"/>
                      </a:lnTo>
                      <a:lnTo>
                        <a:pt x="805" y="1042"/>
                      </a:lnTo>
                      <a:lnTo>
                        <a:pt x="863" y="1051"/>
                      </a:lnTo>
                      <a:lnTo>
                        <a:pt x="922" y="1060"/>
                      </a:lnTo>
                      <a:lnTo>
                        <a:pt x="981" y="1067"/>
                      </a:lnTo>
                      <a:lnTo>
                        <a:pt x="1043" y="1073"/>
                      </a:lnTo>
                      <a:lnTo>
                        <a:pt x="1104" y="1078"/>
                      </a:lnTo>
                      <a:lnTo>
                        <a:pt x="1166" y="1082"/>
                      </a:lnTo>
                      <a:lnTo>
                        <a:pt x="1228" y="1083"/>
                      </a:lnTo>
                      <a:lnTo>
                        <a:pt x="1291" y="1084"/>
                      </a:lnTo>
                      <a:close/>
                    </a:path>
                  </a:pathLst>
                </a:custGeom>
                <a:solidFill>
                  <a:srgbClr val="72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1609560" y="3985200"/>
                  <a:ext cx="1674720" cy="692280"/>
                </a:xfrm>
                <a:custGeom>
                  <a:avLst/>
                  <a:gdLst/>
                  <a:ahLst/>
                  <a:rect l="l" t="t" r="r" b="b"/>
                  <a:pathLst>
                    <a:path w="1744" h="541">
                      <a:moveTo>
                        <a:pt x="0" y="152"/>
                      </a:moveTo>
                      <a:lnTo>
                        <a:pt x="872" y="541"/>
                      </a:lnTo>
                      <a:lnTo>
                        <a:pt x="1744" y="145"/>
                      </a:lnTo>
                      <a:lnTo>
                        <a:pt x="1742" y="145"/>
                      </a:lnTo>
                      <a:lnTo>
                        <a:pt x="1740" y="144"/>
                      </a:lnTo>
                      <a:lnTo>
                        <a:pt x="1738" y="142"/>
                      </a:lnTo>
                      <a:lnTo>
                        <a:pt x="1734" y="141"/>
                      </a:lnTo>
                      <a:lnTo>
                        <a:pt x="1713" y="133"/>
                      </a:lnTo>
                      <a:lnTo>
                        <a:pt x="1690" y="125"/>
                      </a:lnTo>
                      <a:lnTo>
                        <a:pt x="1668" y="117"/>
                      </a:lnTo>
                      <a:lnTo>
                        <a:pt x="1643" y="110"/>
                      </a:lnTo>
                      <a:lnTo>
                        <a:pt x="1620" y="103"/>
                      </a:lnTo>
                      <a:lnTo>
                        <a:pt x="1596" y="95"/>
                      </a:lnTo>
                      <a:lnTo>
                        <a:pt x="1572" y="88"/>
                      </a:lnTo>
                      <a:lnTo>
                        <a:pt x="1548" y="83"/>
                      </a:lnTo>
                      <a:lnTo>
                        <a:pt x="1523" y="76"/>
                      </a:lnTo>
                      <a:lnTo>
                        <a:pt x="1497" y="70"/>
                      </a:lnTo>
                      <a:lnTo>
                        <a:pt x="1472" y="64"/>
                      </a:lnTo>
                      <a:lnTo>
                        <a:pt x="1445" y="58"/>
                      </a:lnTo>
                      <a:lnTo>
                        <a:pt x="1419" y="53"/>
                      </a:lnTo>
                      <a:lnTo>
                        <a:pt x="1392" y="47"/>
                      </a:lnTo>
                      <a:lnTo>
                        <a:pt x="1366" y="42"/>
                      </a:lnTo>
                      <a:lnTo>
                        <a:pt x="1339" y="38"/>
                      </a:lnTo>
                      <a:lnTo>
                        <a:pt x="1312" y="33"/>
                      </a:lnTo>
                      <a:lnTo>
                        <a:pt x="1284" y="28"/>
                      </a:lnTo>
                      <a:lnTo>
                        <a:pt x="1257" y="25"/>
                      </a:lnTo>
                      <a:lnTo>
                        <a:pt x="1229" y="22"/>
                      </a:lnTo>
                      <a:lnTo>
                        <a:pt x="1200" y="18"/>
                      </a:lnTo>
                      <a:lnTo>
                        <a:pt x="1173" y="15"/>
                      </a:lnTo>
                      <a:lnTo>
                        <a:pt x="1144" y="12"/>
                      </a:lnTo>
                      <a:lnTo>
                        <a:pt x="1115" y="10"/>
                      </a:lnTo>
                      <a:lnTo>
                        <a:pt x="1086" y="8"/>
                      </a:lnTo>
                      <a:lnTo>
                        <a:pt x="1057" y="5"/>
                      </a:lnTo>
                      <a:lnTo>
                        <a:pt x="1029" y="3"/>
                      </a:lnTo>
                      <a:lnTo>
                        <a:pt x="999" y="2"/>
                      </a:lnTo>
                      <a:lnTo>
                        <a:pt x="970" y="1"/>
                      </a:lnTo>
                      <a:lnTo>
                        <a:pt x="940" y="1"/>
                      </a:lnTo>
                      <a:lnTo>
                        <a:pt x="911" y="0"/>
                      </a:lnTo>
                      <a:lnTo>
                        <a:pt x="881" y="0"/>
                      </a:lnTo>
                      <a:lnTo>
                        <a:pt x="851" y="0"/>
                      </a:lnTo>
                      <a:lnTo>
                        <a:pt x="820" y="1"/>
                      </a:lnTo>
                      <a:lnTo>
                        <a:pt x="790" y="1"/>
                      </a:lnTo>
                      <a:lnTo>
                        <a:pt x="760" y="2"/>
                      </a:lnTo>
                      <a:lnTo>
                        <a:pt x="730" y="4"/>
                      </a:lnTo>
                      <a:lnTo>
                        <a:pt x="700" y="5"/>
                      </a:lnTo>
                      <a:lnTo>
                        <a:pt x="672" y="8"/>
                      </a:lnTo>
                      <a:lnTo>
                        <a:pt x="642" y="10"/>
                      </a:lnTo>
                      <a:lnTo>
                        <a:pt x="613" y="12"/>
                      </a:lnTo>
                      <a:lnTo>
                        <a:pt x="583" y="16"/>
                      </a:lnTo>
                      <a:lnTo>
                        <a:pt x="554" y="19"/>
                      </a:lnTo>
                      <a:lnTo>
                        <a:pt x="525" y="23"/>
                      </a:lnTo>
                      <a:lnTo>
                        <a:pt x="498" y="26"/>
                      </a:lnTo>
                      <a:lnTo>
                        <a:pt x="469" y="31"/>
                      </a:lnTo>
                      <a:lnTo>
                        <a:pt x="441" y="34"/>
                      </a:lnTo>
                      <a:lnTo>
                        <a:pt x="414" y="39"/>
                      </a:lnTo>
                      <a:lnTo>
                        <a:pt x="386" y="45"/>
                      </a:lnTo>
                      <a:lnTo>
                        <a:pt x="358" y="49"/>
                      </a:lnTo>
                      <a:lnTo>
                        <a:pt x="332" y="55"/>
                      </a:lnTo>
                      <a:lnTo>
                        <a:pt x="304" y="61"/>
                      </a:lnTo>
                      <a:lnTo>
                        <a:pt x="279" y="66"/>
                      </a:lnTo>
                      <a:lnTo>
                        <a:pt x="253" y="72"/>
                      </a:lnTo>
                      <a:lnTo>
                        <a:pt x="227" y="79"/>
                      </a:lnTo>
                      <a:lnTo>
                        <a:pt x="202" y="86"/>
                      </a:lnTo>
                      <a:lnTo>
                        <a:pt x="177" y="93"/>
                      </a:lnTo>
                      <a:lnTo>
                        <a:pt x="151" y="100"/>
                      </a:lnTo>
                      <a:lnTo>
                        <a:pt x="127" y="107"/>
                      </a:lnTo>
                      <a:lnTo>
                        <a:pt x="103" y="115"/>
                      </a:lnTo>
                      <a:lnTo>
                        <a:pt x="80" y="123"/>
                      </a:lnTo>
                      <a:lnTo>
                        <a:pt x="57" y="131"/>
                      </a:lnTo>
                      <a:lnTo>
                        <a:pt x="34" y="139"/>
                      </a:lnTo>
                      <a:lnTo>
                        <a:pt x="12" y="147"/>
                      </a:lnTo>
                      <a:lnTo>
                        <a:pt x="8" y="148"/>
                      </a:lnTo>
                      <a:lnTo>
                        <a:pt x="5" y="149"/>
                      </a:lnTo>
                      <a:lnTo>
                        <a:pt x="2" y="152"/>
                      </a:lnTo>
                      <a:lnTo>
                        <a:pt x="0" y="152"/>
                      </a:lnTo>
                      <a:close/>
                    </a:path>
                  </a:pathLst>
                </a:custGeom>
                <a:solidFill>
                  <a:srgbClr val="dd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1215360" y="4179240"/>
                  <a:ext cx="1726560" cy="1193400"/>
                </a:xfrm>
                <a:custGeom>
                  <a:avLst/>
                  <a:gdLst/>
                  <a:ahLst/>
                  <a:rect l="l" t="t" r="r" b="b"/>
                  <a:pathLst>
                    <a:path w="1797" h="934">
                      <a:moveTo>
                        <a:pt x="1291" y="934"/>
                      </a:moveTo>
                      <a:lnTo>
                        <a:pt x="1323" y="934"/>
                      </a:lnTo>
                      <a:lnTo>
                        <a:pt x="1357" y="933"/>
                      </a:lnTo>
                      <a:lnTo>
                        <a:pt x="1389" y="932"/>
                      </a:lnTo>
                      <a:lnTo>
                        <a:pt x="1421" y="931"/>
                      </a:lnTo>
                      <a:lnTo>
                        <a:pt x="1454" y="930"/>
                      </a:lnTo>
                      <a:lnTo>
                        <a:pt x="1486" y="927"/>
                      </a:lnTo>
                      <a:lnTo>
                        <a:pt x="1517" y="925"/>
                      </a:lnTo>
                      <a:lnTo>
                        <a:pt x="1549" y="922"/>
                      </a:lnTo>
                      <a:lnTo>
                        <a:pt x="1580" y="919"/>
                      </a:lnTo>
                      <a:lnTo>
                        <a:pt x="1611" y="916"/>
                      </a:lnTo>
                      <a:lnTo>
                        <a:pt x="1642" y="911"/>
                      </a:lnTo>
                      <a:lnTo>
                        <a:pt x="1673" y="908"/>
                      </a:lnTo>
                      <a:lnTo>
                        <a:pt x="1705" y="903"/>
                      </a:lnTo>
                      <a:lnTo>
                        <a:pt x="1735" y="899"/>
                      </a:lnTo>
                      <a:lnTo>
                        <a:pt x="1764" y="894"/>
                      </a:lnTo>
                      <a:lnTo>
                        <a:pt x="1794" y="888"/>
                      </a:lnTo>
                      <a:lnTo>
                        <a:pt x="1796" y="888"/>
                      </a:lnTo>
                      <a:lnTo>
                        <a:pt x="1796" y="887"/>
                      </a:lnTo>
                      <a:lnTo>
                        <a:pt x="1797" y="887"/>
                      </a:lnTo>
                      <a:lnTo>
                        <a:pt x="1797" y="887"/>
                      </a:lnTo>
                      <a:lnTo>
                        <a:pt x="1290" y="397"/>
                      </a:lnTo>
                      <a:lnTo>
                        <a:pt x="412" y="0"/>
                      </a:lnTo>
                      <a:lnTo>
                        <a:pt x="412" y="0"/>
                      </a:lnTo>
                      <a:lnTo>
                        <a:pt x="410" y="0"/>
                      </a:lnTo>
                      <a:lnTo>
                        <a:pt x="410" y="2"/>
                      </a:lnTo>
                      <a:lnTo>
                        <a:pt x="409" y="2"/>
                      </a:lnTo>
                      <a:lnTo>
                        <a:pt x="364" y="21"/>
                      </a:lnTo>
                      <a:lnTo>
                        <a:pt x="321" y="41"/>
                      </a:lnTo>
                      <a:lnTo>
                        <a:pt x="279" y="62"/>
                      </a:lnTo>
                      <a:lnTo>
                        <a:pt x="241" y="83"/>
                      </a:lnTo>
                      <a:lnTo>
                        <a:pt x="204" y="105"/>
                      </a:lnTo>
                      <a:lnTo>
                        <a:pt x="171" y="128"/>
                      </a:lnTo>
                      <a:lnTo>
                        <a:pt x="140" y="152"/>
                      </a:lnTo>
                      <a:lnTo>
                        <a:pt x="112" y="177"/>
                      </a:lnTo>
                      <a:lnTo>
                        <a:pt x="87" y="202"/>
                      </a:lnTo>
                      <a:lnTo>
                        <a:pt x="65" y="227"/>
                      </a:lnTo>
                      <a:lnTo>
                        <a:pt x="45" y="254"/>
                      </a:lnTo>
                      <a:lnTo>
                        <a:pt x="29" y="280"/>
                      </a:lnTo>
                      <a:lnTo>
                        <a:pt x="17" y="308"/>
                      </a:lnTo>
                      <a:lnTo>
                        <a:pt x="7" y="336"/>
                      </a:lnTo>
                      <a:lnTo>
                        <a:pt x="3" y="363"/>
                      </a:lnTo>
                      <a:lnTo>
                        <a:pt x="0" y="392"/>
                      </a:lnTo>
                      <a:lnTo>
                        <a:pt x="3" y="420"/>
                      </a:lnTo>
                      <a:lnTo>
                        <a:pt x="7" y="447"/>
                      </a:lnTo>
                      <a:lnTo>
                        <a:pt x="17" y="475"/>
                      </a:lnTo>
                      <a:lnTo>
                        <a:pt x="28" y="501"/>
                      </a:lnTo>
                      <a:lnTo>
                        <a:pt x="43" y="528"/>
                      </a:lnTo>
                      <a:lnTo>
                        <a:pt x="61" y="553"/>
                      </a:lnTo>
                      <a:lnTo>
                        <a:pt x="83" y="578"/>
                      </a:lnTo>
                      <a:lnTo>
                        <a:pt x="108" y="603"/>
                      </a:lnTo>
                      <a:lnTo>
                        <a:pt x="134" y="627"/>
                      </a:lnTo>
                      <a:lnTo>
                        <a:pt x="164" y="650"/>
                      </a:lnTo>
                      <a:lnTo>
                        <a:pt x="196" y="673"/>
                      </a:lnTo>
                      <a:lnTo>
                        <a:pt x="231" y="695"/>
                      </a:lnTo>
                      <a:lnTo>
                        <a:pt x="268" y="717"/>
                      </a:lnTo>
                      <a:lnTo>
                        <a:pt x="308" y="737"/>
                      </a:lnTo>
                      <a:lnTo>
                        <a:pt x="349" y="757"/>
                      </a:lnTo>
                      <a:lnTo>
                        <a:pt x="393" y="775"/>
                      </a:lnTo>
                      <a:lnTo>
                        <a:pt x="438" y="794"/>
                      </a:lnTo>
                      <a:lnTo>
                        <a:pt x="486" y="810"/>
                      </a:lnTo>
                      <a:lnTo>
                        <a:pt x="536" y="826"/>
                      </a:lnTo>
                      <a:lnTo>
                        <a:pt x="587" y="842"/>
                      </a:lnTo>
                      <a:lnTo>
                        <a:pt x="638" y="856"/>
                      </a:lnTo>
                      <a:lnTo>
                        <a:pt x="692" y="869"/>
                      </a:lnTo>
                      <a:lnTo>
                        <a:pt x="748" y="881"/>
                      </a:lnTo>
                      <a:lnTo>
                        <a:pt x="805" y="892"/>
                      </a:lnTo>
                      <a:lnTo>
                        <a:pt x="863" y="901"/>
                      </a:lnTo>
                      <a:lnTo>
                        <a:pt x="922" y="910"/>
                      </a:lnTo>
                      <a:lnTo>
                        <a:pt x="981" y="917"/>
                      </a:lnTo>
                      <a:lnTo>
                        <a:pt x="1043" y="923"/>
                      </a:lnTo>
                      <a:lnTo>
                        <a:pt x="1104" y="928"/>
                      </a:lnTo>
                      <a:lnTo>
                        <a:pt x="1166" y="932"/>
                      </a:lnTo>
                      <a:lnTo>
                        <a:pt x="1228" y="933"/>
                      </a:lnTo>
                      <a:lnTo>
                        <a:pt x="1291" y="934"/>
                      </a:lnTo>
                      <a:close/>
                    </a:path>
                  </a:pathLst>
                </a:custGeom>
                <a:solidFill>
                  <a:srgbClr val="bfbf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 name=""/>
            <p:cNvSpPr/>
            <p:nvPr/>
          </p:nvSpPr>
          <p:spPr>
            <a:xfrm>
              <a:off x="3260520" y="4678200"/>
              <a:ext cx="32400" cy="46080"/>
            </a:xfrm>
            <a:custGeom>
              <a:avLst/>
              <a:gdLst/>
              <a:ahLst/>
              <a:rect l="l" t="t" r="r" b="b"/>
              <a:pathLst>
                <a:path w="36" h="35">
                  <a:moveTo>
                    <a:pt x="5" y="31"/>
                  </a:moveTo>
                  <a:lnTo>
                    <a:pt x="2" y="29"/>
                  </a:lnTo>
                  <a:lnTo>
                    <a:pt x="1" y="25"/>
                  </a:lnTo>
                  <a:lnTo>
                    <a:pt x="0" y="22"/>
                  </a:lnTo>
                  <a:lnTo>
                    <a:pt x="0" y="18"/>
                  </a:lnTo>
                  <a:lnTo>
                    <a:pt x="0" y="15"/>
                  </a:lnTo>
                  <a:lnTo>
                    <a:pt x="1" y="11"/>
                  </a:lnTo>
                  <a:lnTo>
                    <a:pt x="2" y="8"/>
                  </a:lnTo>
                  <a:lnTo>
                    <a:pt x="5" y="6"/>
                  </a:lnTo>
                  <a:lnTo>
                    <a:pt x="7" y="3"/>
                  </a:lnTo>
                  <a:lnTo>
                    <a:pt x="10" y="1"/>
                  </a:lnTo>
                  <a:lnTo>
                    <a:pt x="14" y="0"/>
                  </a:lnTo>
                  <a:lnTo>
                    <a:pt x="17" y="0"/>
                  </a:lnTo>
                  <a:lnTo>
                    <a:pt x="21" y="0"/>
                  </a:lnTo>
                  <a:lnTo>
                    <a:pt x="24" y="1"/>
                  </a:lnTo>
                  <a:lnTo>
                    <a:pt x="28" y="3"/>
                  </a:lnTo>
                  <a:lnTo>
                    <a:pt x="31" y="6"/>
                  </a:lnTo>
                  <a:lnTo>
                    <a:pt x="33" y="8"/>
                  </a:lnTo>
                  <a:lnTo>
                    <a:pt x="35" y="11"/>
                  </a:lnTo>
                  <a:lnTo>
                    <a:pt x="36" y="15"/>
                  </a:lnTo>
                  <a:lnTo>
                    <a:pt x="36" y="18"/>
                  </a:lnTo>
                  <a:lnTo>
                    <a:pt x="36" y="22"/>
                  </a:lnTo>
                  <a:lnTo>
                    <a:pt x="35" y="25"/>
                  </a:lnTo>
                  <a:lnTo>
                    <a:pt x="33" y="29"/>
                  </a:lnTo>
                  <a:lnTo>
                    <a:pt x="31" y="31"/>
                  </a:lnTo>
                  <a:lnTo>
                    <a:pt x="28" y="33"/>
                  </a:lnTo>
                  <a:lnTo>
                    <a:pt x="24" y="34"/>
                  </a:lnTo>
                  <a:lnTo>
                    <a:pt x="21" y="35"/>
                  </a:lnTo>
                  <a:lnTo>
                    <a:pt x="17" y="35"/>
                  </a:lnTo>
                  <a:lnTo>
                    <a:pt x="14" y="35"/>
                  </a:lnTo>
                  <a:lnTo>
                    <a:pt x="10" y="34"/>
                  </a:lnTo>
                  <a:lnTo>
                    <a:pt x="7" y="33"/>
                  </a:lnTo>
                  <a:lnTo>
                    <a:pt x="5" y="31"/>
                  </a:lnTo>
                  <a:close/>
                </a:path>
              </a:pathLst>
            </a:custGeom>
            <a:solidFill>
              <a:srgbClr val="72cccc"/>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6" name=""/>
            <p:cNvSpPr/>
            <p:nvPr/>
          </p:nvSpPr>
          <p:spPr>
            <a:xfrm>
              <a:off x="2096640" y="4878000"/>
              <a:ext cx="34200" cy="45720"/>
            </a:xfrm>
            <a:custGeom>
              <a:avLst/>
              <a:gdLst/>
              <a:ahLst/>
              <a:rect l="l" t="t" r="r" b="b"/>
              <a:pathLst>
                <a:path w="37" h="36">
                  <a:moveTo>
                    <a:pt x="6" y="31"/>
                  </a:moveTo>
                  <a:lnTo>
                    <a:pt x="3" y="29"/>
                  </a:lnTo>
                  <a:lnTo>
                    <a:pt x="1" y="26"/>
                  </a:lnTo>
                  <a:lnTo>
                    <a:pt x="0" y="22"/>
                  </a:lnTo>
                  <a:lnTo>
                    <a:pt x="0" y="19"/>
                  </a:lnTo>
                  <a:lnTo>
                    <a:pt x="0" y="15"/>
                  </a:lnTo>
                  <a:lnTo>
                    <a:pt x="1" y="12"/>
                  </a:lnTo>
                  <a:lnTo>
                    <a:pt x="3" y="8"/>
                  </a:lnTo>
                  <a:lnTo>
                    <a:pt x="6" y="6"/>
                  </a:lnTo>
                  <a:lnTo>
                    <a:pt x="8" y="4"/>
                  </a:lnTo>
                  <a:lnTo>
                    <a:pt x="12" y="2"/>
                  </a:lnTo>
                  <a:lnTo>
                    <a:pt x="15" y="0"/>
                  </a:lnTo>
                  <a:lnTo>
                    <a:pt x="18" y="0"/>
                  </a:lnTo>
                  <a:lnTo>
                    <a:pt x="22" y="0"/>
                  </a:lnTo>
                  <a:lnTo>
                    <a:pt x="25" y="2"/>
                  </a:lnTo>
                  <a:lnTo>
                    <a:pt x="29" y="4"/>
                  </a:lnTo>
                  <a:lnTo>
                    <a:pt x="31" y="6"/>
                  </a:lnTo>
                  <a:lnTo>
                    <a:pt x="33" y="8"/>
                  </a:lnTo>
                  <a:lnTo>
                    <a:pt x="36" y="12"/>
                  </a:lnTo>
                  <a:lnTo>
                    <a:pt x="37" y="15"/>
                  </a:lnTo>
                  <a:lnTo>
                    <a:pt x="37" y="19"/>
                  </a:lnTo>
                  <a:lnTo>
                    <a:pt x="37" y="22"/>
                  </a:lnTo>
                  <a:lnTo>
                    <a:pt x="36" y="26"/>
                  </a:lnTo>
                  <a:lnTo>
                    <a:pt x="33" y="29"/>
                  </a:lnTo>
                  <a:lnTo>
                    <a:pt x="31" y="31"/>
                  </a:lnTo>
                  <a:lnTo>
                    <a:pt x="29" y="34"/>
                  </a:lnTo>
                  <a:lnTo>
                    <a:pt x="25" y="35"/>
                  </a:lnTo>
                  <a:lnTo>
                    <a:pt x="22" y="36"/>
                  </a:lnTo>
                  <a:lnTo>
                    <a:pt x="18" y="36"/>
                  </a:lnTo>
                  <a:lnTo>
                    <a:pt x="15" y="36"/>
                  </a:lnTo>
                  <a:lnTo>
                    <a:pt x="12" y="35"/>
                  </a:lnTo>
                  <a:lnTo>
                    <a:pt x="8" y="34"/>
                  </a:lnTo>
                  <a:lnTo>
                    <a:pt x="6" y="31"/>
                  </a:lnTo>
                  <a:close/>
                </a:path>
              </a:pathLst>
            </a:custGeom>
            <a:solidFill>
              <a:srgbClr val="bfbfdd"/>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37" name=""/>
            <p:cNvSpPr/>
            <p:nvPr/>
          </p:nvSpPr>
          <p:spPr>
            <a:xfrm>
              <a:off x="2642760" y="4313160"/>
              <a:ext cx="36360" cy="43200"/>
            </a:xfrm>
            <a:custGeom>
              <a:avLst/>
              <a:gdLst/>
              <a:ahLst/>
              <a:rect l="l" t="t" r="r" b="b"/>
              <a:pathLst>
                <a:path w="37" h="36">
                  <a:moveTo>
                    <a:pt x="6" y="30"/>
                  </a:moveTo>
                  <a:lnTo>
                    <a:pt x="3" y="28"/>
                  </a:lnTo>
                  <a:lnTo>
                    <a:pt x="1" y="24"/>
                  </a:lnTo>
                  <a:lnTo>
                    <a:pt x="0" y="21"/>
                  </a:lnTo>
                  <a:lnTo>
                    <a:pt x="0" y="17"/>
                  </a:lnTo>
                  <a:lnTo>
                    <a:pt x="0" y="14"/>
                  </a:lnTo>
                  <a:lnTo>
                    <a:pt x="1" y="10"/>
                  </a:lnTo>
                  <a:lnTo>
                    <a:pt x="3" y="7"/>
                  </a:lnTo>
                  <a:lnTo>
                    <a:pt x="6" y="5"/>
                  </a:lnTo>
                  <a:lnTo>
                    <a:pt x="8" y="2"/>
                  </a:lnTo>
                  <a:lnTo>
                    <a:pt x="11" y="1"/>
                  </a:lnTo>
                  <a:lnTo>
                    <a:pt x="15" y="0"/>
                  </a:lnTo>
                  <a:lnTo>
                    <a:pt x="18" y="0"/>
                  </a:lnTo>
                  <a:lnTo>
                    <a:pt x="22" y="0"/>
                  </a:lnTo>
                  <a:lnTo>
                    <a:pt x="25" y="1"/>
                  </a:lnTo>
                  <a:lnTo>
                    <a:pt x="29" y="2"/>
                  </a:lnTo>
                  <a:lnTo>
                    <a:pt x="31" y="5"/>
                  </a:lnTo>
                  <a:lnTo>
                    <a:pt x="33" y="7"/>
                  </a:lnTo>
                  <a:lnTo>
                    <a:pt x="36" y="10"/>
                  </a:lnTo>
                  <a:lnTo>
                    <a:pt x="37" y="14"/>
                  </a:lnTo>
                  <a:lnTo>
                    <a:pt x="37" y="17"/>
                  </a:lnTo>
                  <a:lnTo>
                    <a:pt x="37" y="21"/>
                  </a:lnTo>
                  <a:lnTo>
                    <a:pt x="36" y="24"/>
                  </a:lnTo>
                  <a:lnTo>
                    <a:pt x="33" y="28"/>
                  </a:lnTo>
                  <a:lnTo>
                    <a:pt x="31" y="30"/>
                  </a:lnTo>
                  <a:lnTo>
                    <a:pt x="29" y="32"/>
                  </a:lnTo>
                  <a:lnTo>
                    <a:pt x="25" y="35"/>
                  </a:lnTo>
                  <a:lnTo>
                    <a:pt x="22" y="36"/>
                  </a:lnTo>
                  <a:lnTo>
                    <a:pt x="18" y="36"/>
                  </a:lnTo>
                  <a:lnTo>
                    <a:pt x="15" y="36"/>
                  </a:lnTo>
                  <a:lnTo>
                    <a:pt x="11" y="35"/>
                  </a:lnTo>
                  <a:lnTo>
                    <a:pt x="8" y="32"/>
                  </a:lnTo>
                  <a:lnTo>
                    <a:pt x="6" y="30"/>
                  </a:lnTo>
                  <a:close/>
                </a:path>
              </a:pathLst>
            </a:custGeom>
            <a:solidFill>
              <a:srgbClr val="ddbfb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mmon Interpretation Errors</a:t>
            </a:r>
            <a:endParaRPr b="0" lang="en-US" sz="4400" spc="-1" strike="noStrike">
              <a:solidFill>
                <a:srgbClr val="ebebeb"/>
              </a:solidFill>
              <a:latin typeface="Times New Roman"/>
            </a:endParaRPr>
          </a:p>
        </p:txBody>
      </p:sp>
      <p:sp>
        <p:nvSpPr>
          <p:cNvPr id="13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ssuming that if two events occur together, one must be causing the other.</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ailure to consider alternative explanations.</a:t>
            </a:r>
            <a:endParaRPr b="0" lang="en-US" sz="3200" spc="-1" strike="noStrike">
              <a:solidFill>
                <a:srgbClr val="ebebeb"/>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Extending conclusions beyond what is supported by the data.</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cience is a Way of Knowing</a:t>
            </a:r>
            <a:endParaRPr b="0" lang="en-US" sz="4400" spc="-1" strike="noStrike">
              <a:solidFill>
                <a:srgbClr val="ebebeb"/>
              </a:solidFill>
              <a:latin typeface="Times New Roman"/>
            </a:endParaRPr>
          </a:p>
        </p:txBody>
      </p:sp>
      <p:sp>
        <p:nvSpPr>
          <p:cNvPr id="141" name="PlaceHolder 2"/>
          <p:cNvSpPr>
            <a:spLocks noGrp="1"/>
          </p:cNvSpPr>
          <p:nvPr>
            <p:ph/>
          </p:nvPr>
        </p:nvSpPr>
        <p:spPr>
          <a:xfrm>
            <a:off x="228240" y="1981080"/>
            <a:ext cx="8915400" cy="4114800"/>
          </a:xfrm>
          <a:prstGeom prst="rect">
            <a:avLst/>
          </a:prstGeom>
          <a:noFill/>
          <a:ln w="0">
            <a:noFill/>
          </a:ln>
        </p:spPr>
        <p:txBody>
          <a:bodyPr lIns="90000" rIns="90000" tIns="46800" bIns="46800" anchor="t">
            <a:normAutofit fontScale="93000"/>
          </a:bodyPr>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OBSERVATION: </a:t>
            </a:r>
            <a:r>
              <a:rPr b="0" i="1" lang="en-US" sz="2600" spc="-1" strike="noStrike">
                <a:solidFill>
                  <a:srgbClr val="ebebeb"/>
                </a:solidFill>
                <a:latin typeface="Times New Roman"/>
              </a:rPr>
              <a:t>What is happening?</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QUESTION: </a:t>
            </a:r>
            <a:r>
              <a:rPr b="0" i="1" lang="en-US" sz="2600" spc="-1" strike="noStrike">
                <a:solidFill>
                  <a:srgbClr val="ebebeb"/>
                </a:solidFill>
                <a:latin typeface="Times New Roman"/>
              </a:rPr>
              <a:t>What would happen if .....?</a:t>
            </a:r>
            <a:r>
              <a:rPr b="0" lang="en-US" sz="2600" spc="-1" strike="noStrike">
                <a:solidFill>
                  <a:srgbClr val="ebebeb"/>
                </a:solidFill>
                <a:latin typeface="Times New Roman"/>
              </a:rPr>
              <a:t>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HYPOTHESIS: </a:t>
            </a:r>
            <a:r>
              <a:rPr b="0" i="1" lang="en-US" sz="2600" spc="-1" strike="noStrike">
                <a:solidFill>
                  <a:srgbClr val="ebebeb"/>
                </a:solidFill>
                <a:latin typeface="Times New Roman"/>
              </a:rPr>
              <a:t>________ should happen if...…</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ALTERNATIVE HYPOTHESES: </a:t>
            </a:r>
            <a:r>
              <a:rPr b="0" i="1" lang="en-US" sz="2600" spc="-1" strike="noStrike">
                <a:solidFill>
                  <a:srgbClr val="ebebeb"/>
                </a:solidFill>
                <a:latin typeface="Times New Roman"/>
              </a:rPr>
              <a:t>_________or _________ or _________ should happen if ..…</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EXPERIMENT: </a:t>
            </a:r>
            <a:r>
              <a:rPr b="0" i="1" lang="en-US" sz="2600" spc="-1" strike="noStrike">
                <a:solidFill>
                  <a:srgbClr val="ebebeb"/>
                </a:solidFill>
                <a:latin typeface="Times New Roman"/>
              </a:rPr>
              <a:t>Collect the data.</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RESULTS: </a:t>
            </a:r>
            <a:r>
              <a:rPr b="0" i="1" lang="en-US" sz="2600" spc="-1" strike="noStrike">
                <a:solidFill>
                  <a:srgbClr val="ebebeb"/>
                </a:solidFill>
                <a:latin typeface="Times New Roman"/>
              </a:rPr>
              <a:t>What actually happened?</a:t>
            </a:r>
            <a:endParaRPr b="0" lang="en-US" sz="2600" spc="-1" strike="noStrike">
              <a:solidFill>
                <a:srgbClr val="ebebeb"/>
              </a:solidFill>
              <a:latin typeface="Times New Roman"/>
            </a:endParaRPr>
          </a:p>
          <a:p>
            <a:pPr lvl="2" marL="534240" indent="-3214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ebebeb"/>
                </a:solidFill>
                <a:latin typeface="Times New Roman"/>
              </a:rPr>
              <a:t>CONCLUSION: </a:t>
            </a:r>
            <a:r>
              <a:rPr b="0" i="1" lang="en-US" sz="2600" spc="-1" strike="noStrike">
                <a:solidFill>
                  <a:srgbClr val="ebebeb"/>
                </a:solidFill>
                <a:latin typeface="Times New Roman"/>
              </a:rPr>
              <a:t>The hypothesis was correct/incorrect because.....</a:t>
            </a:r>
            <a:endParaRPr b="0" lang="en-US" sz="2600" spc="-1" strike="noStrike">
              <a:solidFill>
                <a:srgbClr val="ebebeb"/>
              </a:solidFill>
              <a:latin typeface="Times New Roman"/>
            </a:endParaRPr>
          </a:p>
        </p:txBody>
      </p:sp>
      <p:sp>
        <p:nvSpPr>
          <p:cNvPr id="142" name="PlaceHolder 3"/>
          <p:cNvSpPr>
            <a:spLocks noGrp="1"/>
          </p:cNvSpPr>
          <p:nvPr>
            <p:ph/>
          </p:nvPr>
        </p:nvSpPr>
        <p:spPr>
          <a:xfrm>
            <a:off x="685440" y="914400"/>
            <a:ext cx="8001000" cy="1447920"/>
          </a:xfrm>
          <a:prstGeom prst="rect">
            <a:avLst/>
          </a:prstGeom>
          <a:noFill/>
          <a:ln w="0">
            <a:noFill/>
          </a:ln>
        </p:spPr>
        <p:txBody>
          <a:bodyPr lIns="90000" rIns="90000" tIns="46800" bIns="46800" anchor="t">
            <a:norm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ebebeb"/>
                </a:solidFill>
                <a:latin typeface="Times New Roman"/>
              </a:rPr>
              <a:t>The process of research can involve several steps. These levels are summarized below.</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Science Builds on Good Observations</a:t>
            </a:r>
            <a:endParaRPr b="0" lang="en-US" sz="4000" spc="-1" strike="noStrike">
              <a:solidFill>
                <a:srgbClr val="ebebeb"/>
              </a:solidFill>
              <a:latin typeface="Times New Roman"/>
            </a:endParaRPr>
          </a:p>
        </p:txBody>
      </p:sp>
      <p:sp>
        <p:nvSpPr>
          <p:cNvPr id="53" name="PlaceHolder 2"/>
          <p:cNvSpPr>
            <a:spLocks noGrp="1"/>
          </p:cNvSpPr>
          <p:nvPr>
            <p:ph/>
          </p:nvPr>
        </p:nvSpPr>
        <p:spPr>
          <a:xfrm>
            <a:off x="685800" y="2327400"/>
            <a:ext cx="7772400" cy="3533760"/>
          </a:xfrm>
          <a:prstGeom prst="rect">
            <a:avLst/>
          </a:prstGeom>
          <a:noFill/>
          <a:ln w="0">
            <a:noFill/>
          </a:ln>
        </p:spPr>
        <p:txBody>
          <a:bodyPr lIns="90000" rIns="90000" tIns="46800" bIns="46800" anchor="t">
            <a:normAutofit/>
          </a:bodyPr>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bserving and reflecting on what other scientists have don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343080">
              <a:lnSpc>
                <a:spcPct val="80000"/>
              </a:lnSpc>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May be done by one’s own careful and thoughtful observations (seeing what others do not see)</a:t>
            </a:r>
            <a:endParaRPr b="0" lang="en-US" sz="2400" spc="-1" strike="noStrike">
              <a:solidFill>
                <a:srgbClr val="ebebeb"/>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ebebeb"/>
                </a:solidFill>
                <a:latin typeface="Times New Roman"/>
              </a:rPr>
              <a:t>Can you think like a scientist?</a:t>
            </a:r>
            <a:endParaRPr b="0" lang="en-US" sz="3200" spc="-1" strike="noStrike">
              <a:solidFill>
                <a:srgbClr val="ebebeb"/>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est your own powers of observation next </a:t>
            </a:r>
            <a:r>
              <a:rPr b="1" lang="en-US" sz="3200" spc="-1" strike="noStrike">
                <a:solidFill>
                  <a:srgbClr val="ebebeb"/>
                </a:solidFill>
                <a:latin typeface="Times New Roman"/>
                <a:ea typeface="Arial"/>
              </a:rPr>
              <a:t>→</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1752120"/>
            <a:ext cx="77724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ebebeb"/>
                </a:solidFill>
                <a:latin typeface="Times New Roman"/>
              </a:rPr>
              <a:t>In science, decisions are based on </a:t>
            </a:r>
            <a:r>
              <a:rPr b="0" i="1" lang="en-US" sz="6000" spc="-1" strike="noStrike">
                <a:solidFill>
                  <a:srgbClr val="ebebeb"/>
                </a:solidFill>
                <a:latin typeface="Times New Roman"/>
              </a:rPr>
              <a:t>evidence!</a:t>
            </a:r>
            <a:endParaRPr b="0" lang="en-US" sz="6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685800" y="2285640"/>
            <a:ext cx="7772400" cy="3352680"/>
          </a:xfrm>
          <a:prstGeom prst="rect">
            <a:avLst/>
          </a:prstGeom>
          <a:noFill/>
          <a:ln w="0">
            <a:noFill/>
          </a:ln>
        </p:spPr>
        <p:txBody>
          <a:bodyPr lIns="90000" rIns="90000" tIns="46800" bIns="46800" anchor="t">
            <a:normAutofit/>
          </a:bodyPr>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VIDENCE-BASED DECISIONS: What do we want to make happen as a result of the evidence?</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VALUES: What happenings do we want to preserve and extend?</a:t>
            </a:r>
            <a:endParaRPr b="0" lang="en-US" sz="2800" spc="-1" strike="noStrike">
              <a:solidFill>
                <a:srgbClr val="ebebeb"/>
              </a:solidFill>
              <a:latin typeface="Times New Roman"/>
            </a:endParaRPr>
          </a:p>
          <a:p>
            <a:pPr marL="343080" indent="-343080">
              <a:spcBef>
                <a:spcPts val="499"/>
              </a:spcBef>
              <a:spcAft>
                <a:spcPts val="499"/>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FUTURE DIRECTIONS: What do we want to make happen next?  Where will these results lead us in the future?</a:t>
            </a:r>
            <a:endParaRPr b="0" lang="en-US" sz="2800" spc="-1" strike="noStrike">
              <a:solidFill>
                <a:srgbClr val="ebebeb"/>
              </a:solidFill>
              <a:latin typeface="Times New Roman"/>
            </a:endParaRPr>
          </a:p>
        </p:txBody>
      </p:sp>
      <p:sp>
        <p:nvSpPr>
          <p:cNvPr id="145" name=""/>
          <p:cNvSpPr/>
          <p:nvPr/>
        </p:nvSpPr>
        <p:spPr>
          <a:xfrm>
            <a:off x="914400" y="304920"/>
            <a:ext cx="731520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onsequences of Scientific Evidence</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Theories in Science</a:t>
            </a:r>
            <a:endParaRPr b="0" lang="en-US" sz="4400" spc="-1" strike="noStrike">
              <a:solidFill>
                <a:srgbClr val="ebebeb"/>
              </a:solidFill>
              <a:latin typeface="Times New Roman"/>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can be more important than isolated facts.</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ories guide the direction of research, providing the context in which ideas and hypotheses are generated.</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how how many isolated facts are compatible and consistent with each other.</a:t>
            </a:r>
            <a:endParaRPr b="0" lang="en-US" sz="2800" spc="-1" strike="noStrike">
              <a:solidFill>
                <a:srgbClr val="ebebeb"/>
              </a:solidFill>
              <a:latin typeface="Times New Roman"/>
            </a:endParaRPr>
          </a:p>
          <a:p>
            <a:pPr marL="343080" indent="-34308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Good theories stand the test of time, but may be replaced when a better theory comes along.</a:t>
            </a:r>
            <a:endParaRPr b="0" lang="en-US" sz="28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Everybody Can Think Like a Scientist</a:t>
            </a:r>
            <a:endParaRPr b="0" lang="en-US" sz="4000" spc="-1" strike="noStrike">
              <a:solidFill>
                <a:srgbClr val="ebebeb"/>
              </a:solidFill>
              <a:latin typeface="Times New Roman"/>
            </a:endParaRPr>
          </a:p>
        </p:txBody>
      </p:sp>
      <p:sp>
        <p:nvSpPr>
          <p:cNvPr id="1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Observe. Listen. Read.</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sk questions.</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hat is the evidence? </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Do I have access to all the evidence?</a:t>
            </a:r>
            <a:endParaRPr b="0" lang="en-US" sz="28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s the evidence good?</a:t>
            </a:r>
            <a:endParaRPr b="0" lang="en-US" sz="28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much evidence is there?</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Is evidence based on fact or opinion?</a:t>
            </a:r>
            <a:endParaRPr b="0" lang="en-US" sz="2400" spc="-1" strike="noStrike">
              <a:solidFill>
                <a:srgbClr val="ebebeb"/>
              </a:solidFill>
              <a:latin typeface="Times New Roman"/>
            </a:endParaRPr>
          </a:p>
          <a:p>
            <a:pPr lvl="1" marL="690840" indent="-265680">
              <a:lnSpc>
                <a:spcPct val="90000"/>
              </a:lnSpc>
              <a:spcBef>
                <a:spcPts val="601"/>
              </a:spcBef>
              <a:buClr>
                <a:srgbClr val="ebebeb"/>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oes evidence come from several INDEPENDENT sources?</a:t>
            </a:r>
            <a:endParaRPr b="0" lang="en-US" sz="2400" spc="-1" strike="noStrike">
              <a:solidFill>
                <a:srgbClr val="ebebeb"/>
              </a:solidFill>
              <a:latin typeface="Times New Roman"/>
            </a:endParaRPr>
          </a:p>
          <a:p>
            <a:pPr marL="318960" indent="-318960">
              <a:lnSpc>
                <a:spcPct val="90000"/>
              </a:lnSpc>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ow can I test to see if the evidence is correct?</a:t>
            </a:r>
            <a:endParaRPr b="0" lang="en-US" sz="2800" spc="-1" strike="noStrike">
              <a:solidFill>
                <a:srgbClr val="ebebeb"/>
              </a:solidFill>
              <a:latin typeface="Times New Roman"/>
            </a:endParaRPr>
          </a:p>
        </p:txBody>
      </p:sp>
      <p:pic>
        <p:nvPicPr>
          <p:cNvPr id="150" name="" descr=""/>
          <p:cNvPicPr/>
          <p:nvPr/>
        </p:nvPicPr>
        <p:blipFill>
          <a:blip r:embed="rId2"/>
          <a:stretch/>
        </p:blipFill>
        <p:spPr>
          <a:xfrm>
            <a:off x="6585120" y="1386000"/>
            <a:ext cx="1650960" cy="2481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1143000" y="0"/>
            <a:ext cx="3657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ok at these five trees closely. How many testable hypotheses can you gener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142640" y="30456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ints to Find Three Hypothesis</a:t>
            </a:r>
            <a:r>
              <a:rPr b="0" lang="en-US" sz="4400" spc="-1" strike="noStrike">
                <a:solidFill>
                  <a:srgbClr val="ebebeb"/>
                </a:solidFill>
                <a:latin typeface="Times New Roman"/>
              </a:rPr>
              <a:t>	</a:t>
            </a:r>
            <a:endParaRPr b="0" lang="en-US" sz="4400" spc="-1" strike="noStrike">
              <a:solidFill>
                <a:srgbClr val="ebebeb"/>
              </a:solidFill>
              <a:latin typeface="Times New Roman"/>
            </a:endParaRPr>
          </a:p>
        </p:txBody>
      </p:sp>
      <p:sp>
        <p:nvSpPr>
          <p:cNvPr id="57" name="PlaceHolder 2"/>
          <p:cNvSpPr>
            <a:spLocks noGrp="1"/>
          </p:cNvSpPr>
          <p:nvPr>
            <p:ph/>
          </p:nvPr>
        </p:nvSpPr>
        <p:spPr>
          <a:xfrm>
            <a:off x="457200" y="1981080"/>
            <a:ext cx="830592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different sizes of the tree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number of trunks each tree ha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how the two smaller trees differ from each other</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nk about the bushes growing under the trees</a:t>
            </a: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990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Good Research is </a:t>
            </a:r>
            <a:br>
              <a:rPr sz="4400"/>
            </a:br>
            <a:r>
              <a:rPr b="0" lang="en-US" sz="4400" spc="-1" strike="noStrike">
                <a:solidFill>
                  <a:srgbClr val="ebebeb"/>
                </a:solidFill>
                <a:latin typeface="Times New Roman"/>
              </a:rPr>
              <a:t>Hypothesis-Driven.</a:t>
            </a:r>
            <a:endParaRPr b="0" lang="en-US" sz="4400" spc="-1" strike="noStrike">
              <a:solidFill>
                <a:srgbClr val="ebebeb"/>
              </a:solidFill>
              <a:latin typeface="Times New Roman"/>
            </a:endParaRPr>
          </a:p>
        </p:txBody>
      </p:sp>
      <p:sp>
        <p:nvSpPr>
          <p:cNvPr id="59" name="PlaceHolder 2"/>
          <p:cNvSpPr>
            <a:spLocks noGrp="1"/>
          </p:cNvSpPr>
          <p:nvPr>
            <p:ph type="subTitle"/>
          </p:nvPr>
        </p:nvSpPr>
        <p:spPr>
          <a:xfrm>
            <a:off x="990720" y="2743200"/>
            <a:ext cx="73152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Why is this true? </a:t>
            </a:r>
            <a:endParaRPr b="0" lang="en-US" sz="3200" spc="-1" strike="noStrike">
              <a:solidFill>
                <a:srgbClr val="ebebeb"/>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3045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So What’s an Hypothesis?</a:t>
            </a:r>
            <a:endParaRPr b="0" lang="en-US" sz="4400" spc="-1" strike="noStrike">
              <a:solidFill>
                <a:srgbClr val="ebebeb"/>
              </a:solidFill>
              <a:latin typeface="Times New Roman"/>
            </a:endParaRPr>
          </a:p>
        </p:txBody>
      </p:sp>
      <p:sp>
        <p:nvSpPr>
          <p:cNvPr id="61" name="PlaceHolder 2"/>
          <p:cNvSpPr>
            <a:spLocks noGrp="1"/>
          </p:cNvSpPr>
          <p:nvPr>
            <p:ph/>
          </p:nvPr>
        </p:nvSpPr>
        <p:spPr>
          <a:xfrm>
            <a:off x="838080" y="2362320"/>
            <a:ext cx="7772400" cy="41148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ased on something you think you know.</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logical conclusion (de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an be a creative synthesis (induction).</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hould be testable.</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al design should predict certain results.</a:t>
            </a:r>
            <a:endParaRPr b="0" lang="en-US" sz="2800" spc="-1" strike="noStrike">
              <a:solidFill>
                <a:srgbClr val="ebebeb"/>
              </a:solidFill>
              <a:latin typeface="Times New Roman"/>
            </a:endParaRPr>
          </a:p>
        </p:txBody>
      </p:sp>
      <p:sp>
        <p:nvSpPr>
          <p:cNvPr id="62" name=""/>
          <p:cNvSpPr/>
          <p:nvPr/>
        </p:nvSpPr>
        <p:spPr>
          <a:xfrm>
            <a:off x="533520" y="1600200"/>
            <a:ext cx="8153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ranges from an educated guess to an inspired insigh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
          <p:cNvSpPr/>
          <p:nvPr/>
        </p:nvSpPr>
        <p:spPr>
          <a:xfrm>
            <a:off x="1676520" y="304920"/>
            <a:ext cx="6553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Science is a Cyclic Process</a:t>
            </a:r>
            <a:endParaRPr b="0" lang="en-US" sz="4000" spc="-1" strike="noStrike">
              <a:solidFill>
                <a:srgbClr val="000000"/>
              </a:solidFill>
              <a:latin typeface="Times New Roman"/>
            </a:endParaRPr>
          </a:p>
        </p:txBody>
      </p:sp>
      <p:sp>
        <p:nvSpPr>
          <p:cNvPr id="64" name=""/>
          <p:cNvSpPr/>
          <p:nvPr/>
        </p:nvSpPr>
        <p:spPr>
          <a:xfrm>
            <a:off x="3886200" y="1371600"/>
            <a:ext cx="1752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bserve</a:t>
            </a:r>
            <a:endParaRPr b="0" lang="en-US" sz="3200" spc="-1" strike="noStrike">
              <a:solidFill>
                <a:srgbClr val="000000"/>
              </a:solidFill>
              <a:latin typeface="Times New Roman"/>
            </a:endParaRPr>
          </a:p>
        </p:txBody>
      </p:sp>
      <p:sp>
        <p:nvSpPr>
          <p:cNvPr id="65" name=""/>
          <p:cNvSpPr/>
          <p:nvPr/>
        </p:nvSpPr>
        <p:spPr>
          <a:xfrm>
            <a:off x="6019920" y="3962520"/>
            <a:ext cx="23619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Hypothesize</a:t>
            </a:r>
            <a:endParaRPr b="0" lang="en-US" sz="3200" spc="-1" strike="noStrike">
              <a:solidFill>
                <a:srgbClr val="000000"/>
              </a:solidFill>
              <a:latin typeface="Times New Roman"/>
            </a:endParaRPr>
          </a:p>
        </p:txBody>
      </p:sp>
      <p:sp>
        <p:nvSpPr>
          <p:cNvPr id="66" name=""/>
          <p:cNvSpPr/>
          <p:nvPr/>
        </p:nvSpPr>
        <p:spPr>
          <a:xfrm>
            <a:off x="3429000" y="5257800"/>
            <a:ext cx="297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sign Test of    </a:t>
            </a:r>
            <a:br>
              <a:rPr sz="3200"/>
            </a:br>
            <a:r>
              <a:rPr b="1" lang="en-US" sz="3200" spc="-1" strike="noStrike">
                <a:solidFill>
                  <a:srgbClr val="ffffff"/>
                </a:solidFill>
                <a:latin typeface="Times New Roman"/>
              </a:rPr>
              <a:t>   Hypothesis</a:t>
            </a:r>
            <a:endParaRPr b="0" lang="en-US" sz="3200" spc="-1" strike="noStrike">
              <a:solidFill>
                <a:srgbClr val="000000"/>
              </a:solidFill>
              <a:latin typeface="Times New Roman"/>
            </a:endParaRPr>
          </a:p>
        </p:txBody>
      </p:sp>
      <p:sp>
        <p:nvSpPr>
          <p:cNvPr id="67" name=""/>
          <p:cNvSpPr/>
          <p:nvPr/>
        </p:nvSpPr>
        <p:spPr>
          <a:xfrm>
            <a:off x="914400" y="3809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3200" spc="-1" strike="noStrike">
                <a:solidFill>
                  <a:srgbClr val="ffffff"/>
                </a:solidFill>
                <a:latin typeface="Times New Roman"/>
              </a:rPr>
              <a:t>Conduct Experiment</a:t>
            </a:r>
            <a:endParaRPr b="0" lang="en-US" sz="3200" spc="-1" strike="noStrike">
              <a:solidFill>
                <a:srgbClr val="000000"/>
              </a:solidFill>
              <a:latin typeface="Times New Roman"/>
            </a:endParaRPr>
          </a:p>
        </p:txBody>
      </p:sp>
      <p:sp>
        <p:nvSpPr>
          <p:cNvPr id="68" name=""/>
          <p:cNvSpPr/>
          <p:nvPr/>
        </p:nvSpPr>
        <p:spPr>
          <a:xfrm>
            <a:off x="838080" y="2209680"/>
            <a:ext cx="2743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Evaluate Data</a:t>
            </a:r>
            <a:endParaRPr b="0" lang="en-US" sz="3200" spc="-1" strike="noStrike">
              <a:solidFill>
                <a:srgbClr val="000000"/>
              </a:solidFill>
              <a:latin typeface="Times New Roman"/>
            </a:endParaRPr>
          </a:p>
        </p:txBody>
      </p:sp>
      <p:sp>
        <p:nvSpPr>
          <p:cNvPr id="69" name=""/>
          <p:cNvSpPr/>
          <p:nvPr/>
        </p:nvSpPr>
        <p:spPr>
          <a:xfrm>
            <a:off x="5791320" y="2209680"/>
            <a:ext cx="2819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sk Questions</a:t>
            </a:r>
            <a:endParaRPr b="0" lang="en-US" sz="3200" spc="-1" strike="noStrike">
              <a:solidFill>
                <a:srgbClr val="000000"/>
              </a:solidFill>
              <a:latin typeface="Times New Roman"/>
            </a:endParaRPr>
          </a:p>
        </p:txBody>
      </p:sp>
      <p:sp>
        <p:nvSpPr>
          <p:cNvPr id="70" name=""/>
          <p:cNvSpPr/>
          <p:nvPr/>
        </p:nvSpPr>
        <p:spPr>
          <a:xfrm rot="1498800">
            <a:off x="5879880" y="1704600"/>
            <a:ext cx="1309680" cy="266760"/>
          </a:xfrm>
          <a:custGeom>
            <a:avLst/>
            <a:gdLst>
              <a:gd name="textAreaLeft" fmla="*/ 228960 w 1309680"/>
              <a:gd name="textAreaRight" fmla="*/ 949680 w 1309680"/>
              <a:gd name="textAreaTop" fmla="*/ 35640 h 266760"/>
              <a:gd name="textAreaBottom" fmla="*/ 231120 h 2667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rot="1391400">
            <a:off x="6705360" y="472392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7021800">
            <a:off x="2171160" y="4838400"/>
            <a:ext cx="457200" cy="1143000"/>
          </a:xfrm>
          <a:custGeom>
            <a:avLst/>
            <a:gdLst>
              <a:gd name="textAreaLeft" fmla="*/ 61200 w 457200"/>
              <a:gd name="textAreaRight" fmla="*/ 396000 w 457200"/>
              <a:gd name="textAreaTop" fmla="*/ 199800 h 1143000"/>
              <a:gd name="textAreaBottom" fmla="*/ 828720 h 1143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rot="20180400">
            <a:off x="2142720" y="1652760"/>
            <a:ext cx="1435320" cy="350640"/>
          </a:xfrm>
          <a:custGeom>
            <a:avLst/>
            <a:gdLst>
              <a:gd name="textAreaLeft" fmla="*/ 250920 w 1435320"/>
              <a:gd name="textAreaRight" fmla="*/ 1040760 w 1435320"/>
              <a:gd name="textAreaTop" fmla="*/ 46800 h 350640"/>
              <a:gd name="textAreaBottom" fmla="*/ 303840 h 35064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6934320" y="2971800"/>
            <a:ext cx="347400" cy="914400"/>
          </a:xfrm>
          <a:prstGeom prst="downArrow">
            <a:avLst>
              <a:gd name="adj1" fmla="val 50000"/>
              <a:gd name="adj2" fmla="val 65803"/>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V="1">
            <a:off x="1981080" y="2895480"/>
            <a:ext cx="347760" cy="914400"/>
          </a:xfrm>
          <a:prstGeom prst="downArrow">
            <a:avLst>
              <a:gd name="adj1" fmla="val 50000"/>
              <a:gd name="adj2" fmla="val 65735"/>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ypothesis Example</a:t>
            </a:r>
            <a:endParaRPr b="0" lang="en-US" sz="4400" spc="-1" strike="noStrike">
              <a:solidFill>
                <a:srgbClr val="ebebeb"/>
              </a:solidFill>
              <a:latin typeface="Times New Roman"/>
            </a:endParaRPr>
          </a:p>
        </p:txBody>
      </p:sp>
      <p:sp>
        <p:nvSpPr>
          <p:cNvPr id="77" name="PlaceHolder 2"/>
          <p:cNvSpPr>
            <a:spLocks noGrp="1"/>
          </p:cNvSpPr>
          <p:nvPr>
            <p:ph/>
          </p:nvPr>
        </p:nvSpPr>
        <p:spPr>
          <a:xfrm>
            <a:off x="380520" y="1676520"/>
            <a:ext cx="5715000" cy="4572000"/>
          </a:xfrm>
          <a:prstGeom prst="rect">
            <a:avLst/>
          </a:prstGeom>
          <a:noFill/>
          <a:ln w="0">
            <a:noFill/>
          </a:ln>
        </p:spPr>
        <p:txBody>
          <a:bodyPr lIns="90000" rIns="90000" tIns="46800" bIns="46800" anchor="t">
            <a:normAutofit/>
          </a:bodyPr>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Fact</a:t>
            </a:r>
            <a:r>
              <a:rPr b="0" lang="en-US" sz="2800" spc="-1" strike="noStrike">
                <a:solidFill>
                  <a:srgbClr val="ebebeb"/>
                </a:solidFill>
                <a:latin typeface="Times New Roman"/>
              </a:rPr>
              <a:t>: we know that lead is a poison. </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Hypothesis</a:t>
            </a:r>
            <a:r>
              <a:rPr b="0" lang="en-US" sz="2800" spc="-1" strike="noStrike">
                <a:solidFill>
                  <a:srgbClr val="ebebeb"/>
                </a:solidFill>
                <a:latin typeface="Times New Roman"/>
              </a:rPr>
              <a:t>: other heavy metals might be toxi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Test</a:t>
            </a:r>
            <a:r>
              <a:rPr b="0" lang="en-US" sz="2800" spc="-1" strike="noStrike">
                <a:solidFill>
                  <a:srgbClr val="ebebeb"/>
                </a:solidFill>
                <a:latin typeface="Times New Roman"/>
              </a:rPr>
              <a:t>: expose one group of experimental animals to lead, another to cadmium, another to uranium, etc.</a:t>
            </a:r>
            <a:endParaRPr b="0" lang="en-US" sz="2800" spc="-1" strike="noStrike">
              <a:solidFill>
                <a:srgbClr val="ebebeb"/>
              </a:solidFill>
              <a:latin typeface="Times New Roman"/>
            </a:endParaRPr>
          </a:p>
          <a:p>
            <a:pPr marL="343080" indent="-343080">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ebebeb"/>
                </a:solidFill>
                <a:uFillTx/>
                <a:latin typeface="Times New Roman"/>
              </a:rPr>
              <a:t>Prediction</a:t>
            </a:r>
            <a:r>
              <a:rPr b="0" lang="en-US" sz="2800" spc="-1" strike="noStrike">
                <a:solidFill>
                  <a:srgbClr val="ebebeb"/>
                </a:solidFill>
                <a:latin typeface="Times New Roman"/>
              </a:rPr>
              <a:t>: one or more of the metals will prove to be toxic.</a:t>
            </a:r>
            <a:endParaRPr b="0" lang="en-US" sz="2800" spc="-1" strike="noStrike">
              <a:solidFill>
                <a:srgbClr val="ebebeb"/>
              </a:solidFill>
              <a:latin typeface="Times New Roman"/>
            </a:endParaRPr>
          </a:p>
        </p:txBody>
      </p:sp>
      <p:pic>
        <p:nvPicPr>
          <p:cNvPr id="78" name="" descr=""/>
          <p:cNvPicPr/>
          <p:nvPr/>
        </p:nvPicPr>
        <p:blipFill>
          <a:blip r:embed="rId2"/>
          <a:stretch/>
        </p:blipFill>
        <p:spPr>
          <a:xfrm>
            <a:off x="5638680" y="2666880"/>
            <a:ext cx="2952720" cy="2305080"/>
          </a:xfrm>
          <a:prstGeom prst="rect">
            <a:avLst/>
          </a:prstGeom>
          <a:ln w="0">
            <a:noFill/>
          </a:ln>
        </p:spPr>
      </p:pic>
      <p:sp>
        <p:nvSpPr>
          <p:cNvPr id="79" name=""/>
          <p:cNvSpPr/>
          <p:nvPr/>
        </p:nvSpPr>
        <p:spPr>
          <a:xfrm>
            <a:off x="5943600" y="5334120"/>
            <a:ext cx="28195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Click here</a:t>
            </a:r>
            <a:r>
              <a:rPr b="0" lang="en-US" sz="2400" spc="-1" strike="noStrike" u="sng">
                <a:solidFill>
                  <a:srgbClr val="ffff00"/>
                </a:solidFill>
                <a:uFillTx/>
                <a:latin typeface="Times New Roman"/>
              </a:rPr>
              <a:t> to learn about the periodic table of the elemen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ow to Design an Experiment</a:t>
            </a:r>
            <a:endParaRPr b="0" lang="en-US" sz="4400" spc="-1" strike="noStrike">
              <a:solidFill>
                <a:srgbClr val="ebebeb"/>
              </a:solidFill>
              <a:latin typeface="Times New Roman"/>
            </a:endParaRPr>
          </a:p>
        </p:txBody>
      </p:sp>
      <p:sp>
        <p:nvSpPr>
          <p:cNvPr id="81" name="PlaceHolder 2"/>
          <p:cNvSpPr>
            <a:spLocks noGrp="1"/>
          </p:cNvSpPr>
          <p:nvPr>
            <p:ph/>
          </p:nvPr>
        </p:nvSpPr>
        <p:spPr>
          <a:xfrm>
            <a:off x="4495320" y="2133720"/>
            <a:ext cx="4343400" cy="4114800"/>
          </a:xfrm>
          <a:prstGeom prst="rect">
            <a:avLst/>
          </a:prstGeom>
          <a:noFill/>
          <a:ln w="0">
            <a:noFill/>
          </a:ln>
        </p:spPr>
        <p:txBody>
          <a:bodyPr lIns="90000" rIns="90000" tIns="46800" bIns="46800" anchor="t">
            <a:normAutofit/>
          </a:bodyPr>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xperiment must test the hypothesi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ccount for all known variables.</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Have a control group.</a:t>
            </a:r>
            <a:endParaRPr b="0" lang="en-US" sz="2800" spc="-1" strike="noStrike">
              <a:solidFill>
                <a:srgbClr val="ebebeb"/>
              </a:solidFill>
              <a:latin typeface="Times New Roman"/>
            </a:endParaRPr>
          </a:p>
          <a:p>
            <a:pPr marL="343080" indent="-343080">
              <a:lnSpc>
                <a:spcPct val="95000"/>
              </a:lnSpc>
              <a:spcBef>
                <a:spcPts val="700"/>
              </a:spcBef>
              <a:spcAft>
                <a:spcPts val="700"/>
              </a:spcAft>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ake sure you have the tools needed to perform the experiment.</a:t>
            </a: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a:p>
            <a:pPr marL="343080" indent="0">
              <a:lnSpc>
                <a:spcPct val="95000"/>
              </a:lnSpc>
              <a:spcBef>
                <a:spcPts val="700"/>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bebeb"/>
              </a:solidFill>
              <a:latin typeface="Times New Roman"/>
            </a:endParaRPr>
          </a:p>
        </p:txBody>
      </p:sp>
      <p:graphicFrame>
        <p:nvGraphicFramePr>
          <p:cNvPr id="82" name=""/>
          <p:cNvGraphicFramePr/>
          <p:nvPr/>
        </p:nvGraphicFramePr>
        <p:xfrm>
          <a:off x="609480" y="2057400"/>
          <a:ext cx="3546720" cy="3809880"/>
        </p:xfrm>
        <a:graphic>
          <a:graphicData uri="http://schemas.openxmlformats.org/presentationml/2006/ole">
            <p:oleObj r:id="rId2" spid="">
              <p:embed/>
              <p:pic>
                <p:nvPicPr>
                  <p:cNvPr id="83" name="" descr=""/>
                  <p:cNvPicPr/>
                  <p:nvPr/>
                </p:nvPicPr>
                <p:blipFill>
                  <a:blip r:embed="rId3"/>
                  <a:stretch/>
                </p:blipFill>
                <p:spPr>
                  <a:xfrm>
                    <a:off x="609480" y="2057400"/>
                    <a:ext cx="3546720" cy="3809880"/>
                  </a:xfrm>
                  <a:prstGeom prst="rect">
                    <a:avLst/>
                  </a:prstGeom>
                  <a:ln w="0">
                    <a:noFill/>
                  </a:ln>
                </p:spPr>
              </p:pic>
            </p:oleObj>
          </a:graphicData>
        </a:graphic>
      </p:graphicFrame>
      <p:sp>
        <p:nvSpPr>
          <p:cNvPr id="84" name=""/>
          <p:cNvSpPr/>
          <p:nvPr/>
        </p:nvSpPr>
        <p:spPr>
          <a:xfrm>
            <a:off x="1066680" y="1066680"/>
            <a:ext cx="6858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How do we test and control what happens in our experiments so the results can be trust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1-03T15:34:34Z</dcterms:created>
  <dc:creator>Klemm</dc:creator>
  <dc:description/>
  <dc:language>en-US</dc:language>
  <cp:lastModifiedBy>Jeremiah McNichols</cp:lastModifiedBy>
  <dcterms:modified xsi:type="dcterms:W3CDTF">2006-04-04T15:05:27Z</dcterms:modified>
  <cp:revision>74</cp:revision>
  <dc:subject/>
  <dc:title>Science Appendix</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1c05000000000001023620</vt:lpwstr>
  </property>
</Properties>
</file>