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3 (A, 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Describe Proportions using Rat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Represent Ratios/Percents with Models, Fractions, Dec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D245-A2DC-4867-9775-F21FD74AF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E91D6-0DE5-4D34-8764-0C00376BF8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7A8F-C7E3-4318-8E03-756928130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05AE9-F7A2-412C-83AA-59F7FF0858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89BC7-46C9-4803-8133-3A0BAE3D02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93E1-CCAE-4801-9E29-C44622653C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2821-E25E-4F09-AD61-B2BC9BEBC6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CC52-55DA-4601-9F42-CAF67D2E68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D7DF3-C657-4A7B-A8C0-BBCDEA3F18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7BFC3-D030-4112-BF37-8548C28FD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999E4-35D0-4D8F-8419-4C4BF7B06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76C69-6E7F-4BAC-8169-3E9EFDC86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42F4C-FE19-4C75-9384-44CE4339E031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A ratio is a comparison of two numbers by division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 comparing 1 to 4 can be stated as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to 4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:4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 out of 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40075-89AD-4C88-ADFD-D75750549C49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4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1 part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1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4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1/4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943600" y="914400"/>
            <a:ext cx="2664000" cy="349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577DE-D2F4-437C-856D-9AF74D0E8150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294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Model the ratio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: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Start by separating a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le into 5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Shade 3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ee how 3 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out of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5 parts are shaded?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*Note that the model also represents the fraction 3/5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791320" y="1143000"/>
            <a:ext cx="2778120" cy="283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3B3F8-74B0-43D9-8EED-2B38F498A69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7240" y="-228600"/>
            <a:ext cx="77709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534160" cy="569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Compare the ratios 4/6 and 2/3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1. Draw a rectangle with 6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. Draw another rectangle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with 3 equal parts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3. Shade 4 parts of the upper 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rectangle and shade</a:t>
            </a:r>
            <a:br>
              <a:rPr sz="2800"/>
            </a:b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2 parts of the lower rectangle.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nce the areas shaded are the same,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the ratios are equivalent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990720"/>
            <a:ext cx="2286000" cy="403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EF10-6779-47BD-8829-DB385C14C6E5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7240" y="0"/>
            <a:ext cx="77709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Ratio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09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nce ratios can be written as fractions,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:6 and 2:3 are equivalent ratios </a:t>
            </a:r>
            <a:br>
              <a:rPr sz="3200"/>
            </a:b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just a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4/6 and 2/3 are equivalent fraction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÷ 2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6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x 2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    ÷ 2</a:t>
            </a:r>
            <a:endParaRPr b="0" lang="en-US" sz="27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52864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097320" y="4557600"/>
            <a:ext cx="44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05120" y="3809880"/>
            <a:ext cx="1603080" cy="92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1905120" y="4820400"/>
            <a:ext cx="1599120" cy="87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2" y="9473"/>
                </a:moveTo>
                <a:arcTo wR="10800" hR="10800" stAng="-10376525" swAng="10376525"/>
                <a:lnTo>
                  <a:pt x="10800" y="10800"/>
                </a:lnTo>
                <a:close/>
              </a:path>
              <a:path fill="none" w="21600" h="21600">
                <a:moveTo>
                  <a:pt x="82" y="9473"/>
                </a:moveTo>
                <a:arcTo wR="10800" hR="10800" stAng="-10376525" swAng="10376525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5562720" y="4897080"/>
            <a:ext cx="1599120" cy="87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8" y="9501"/>
                </a:moveTo>
                <a:arcTo wR="10800" hR="10800" stAng="-10385669" swAng="10385669"/>
                <a:lnTo>
                  <a:pt x="10800" y="10800"/>
                </a:lnTo>
                <a:close/>
              </a:path>
              <a:path fill="none" w="21600" h="21600">
                <a:moveTo>
                  <a:pt x="78" y="9501"/>
                </a:moveTo>
                <a:arcTo wR="10800" hR="10800" stAng="-10385669" swAng="10385669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562720" y="3733920"/>
            <a:ext cx="1603080" cy="919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" y="10579"/>
                </a:moveTo>
                <a:arcTo wR="10800" hR="10800" stAng="-10729577" swAng="10418481"/>
                <a:lnTo>
                  <a:pt x="10800" y="10800"/>
                </a:lnTo>
                <a:close/>
              </a:path>
              <a:path fill="none" w="21600" h="21600">
                <a:moveTo>
                  <a:pt x="2" y="10579"/>
                </a:moveTo>
                <a:arcTo wR="10800" hR="10800" stAng="-10729577" swAng="10418481"/>
              </a:path>
            </a:pathLst>
          </a:cu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/>
          <p:nvPr/>
        </p:nvCxnSpPr>
        <p:spPr>
          <a:xfrm>
            <a:off x="3504960" y="419076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99" name=""/>
          <p:cNvCxnSpPr/>
          <p:nvPr/>
        </p:nvCxnSpPr>
        <p:spPr>
          <a:xfrm>
            <a:off x="7162560" y="411444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0" name=""/>
          <p:cNvCxnSpPr/>
          <p:nvPr/>
        </p:nvCxnSpPr>
        <p:spPr>
          <a:xfrm flipV="1">
            <a:off x="3504960" y="5181120"/>
            <a:ext cx="76680" cy="15336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cxnSp>
        <p:nvCxnSpPr>
          <p:cNvPr id="101" name=""/>
          <p:cNvCxnSpPr/>
          <p:nvPr/>
        </p:nvCxnSpPr>
        <p:spPr>
          <a:xfrm flipV="1">
            <a:off x="7162560" y="5257080"/>
            <a:ext cx="76680" cy="153000"/>
          </a:xfrm>
          <a:prstGeom prst="straightConnector1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15238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26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814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4724280"/>
            <a:ext cx="5335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F8340-1C76-4F4A-BA2A-7C803D730909}" type="slidenum">
              <a:t>5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20:00Z</dcterms:modified>
  <cp:revision>219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e01000000000001023620</vt:lpwstr>
  </property>
</Properties>
</file>