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8CAF-6AEB-40A4-B49B-8DB268E40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7D8B4-5398-46E7-918F-5504C2AE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F66-6589-4E91-AEE8-AA85A1644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B89-0D92-4A7A-904B-26D26F674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267-D2A8-4FA9-96BB-88333580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C4D4-7B87-490E-B3DE-2D709FC23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DFEC-9BF2-4453-B12B-B1A6C559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9E6D-00CB-4F0E-9566-2A34B53E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1156-EE67-4A91-A3AE-F2F27A95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223E-52B2-4452-8883-BC04A01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4A87-7E35-42C1-97FC-39E81C4A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FA74-4D2B-4CCA-B70A-2317E3FB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0387-E926-4AE2-BCBA-E1BECD8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BA7E-551B-4488-9678-79E1426E4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151920"/>
            <a:ext cx="77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lume &amp; Weight Conversi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366920"/>
            <a:ext cx="7770960" cy="47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Volum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lons per Liter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Liter = .264 gall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Weigh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unds per Kilogram 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 kilogram = 2.20 lb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219320"/>
            <a:ext cx="1782720" cy="16682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858000" y="3733920"/>
            <a:ext cx="1793880" cy="143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29:54Z</dcterms:created>
  <dc:creator>ITWorkstation</dc:creator>
  <dc:description/>
  <dc:language>en-US</dc:language>
  <cp:lastModifiedBy>Vince Hardy</cp:lastModifiedBy>
  <dcterms:modified xsi:type="dcterms:W3CDTF">2007-05-08T18:40:12Z</dcterms:modified>
  <cp:revision>11</cp:revision>
  <dc:subject/>
  <dc:title>Volume &amp; Weight Convers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200000000000001023620</vt:lpwstr>
  </property>
</Properties>
</file>