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6E5-BC1F-4076-A000-7B81DEEC3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9DC9-A2AD-40A0-824F-27473A1D5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C0CB-FEA4-40C7-9951-A634EE01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E14D-9761-4689-A515-8B60B8F6E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0795-8FE3-4B19-9F8C-E8E69E38A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FD88-6606-405E-9C37-BA7CA4BF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E19F-0431-4DC1-8A3E-A789D79C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52E-642A-4634-A021-69FE10F1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5B17-F005-44D6-8DA0-F46EBB0F2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C7C6-F4FC-410F-B110-883C7775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7BE-0C1C-441B-9B8B-883C9FA5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AD4B-2C8D-4431-8A51-D54C8304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CA76-E575-4C1A-AA4B-0F039FB176B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“per” problem is a problem in which you can use the word per to describe one or more of the numbers involved.  Here are some everyday exampl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le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ers Per Seco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llars Per H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urs Per Wee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ids Per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419720" y="3733920"/>
            <a:ext cx="4371840" cy="27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er Problems cont.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se problems often require us to use the word per in our units to find the solution.  They can also be called “Unit Conversions.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we can master using the word “per”, these problems become very eas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problems are some of the most versatile problems that a person can learn to use.  The key is deciding when and how to use them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47920" y="5638680"/>
            <a:ext cx="655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When To Use Per Unit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$5 an hour = $5 per hour = $5/hou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helves can fit on each wall = 3 shelves per wall = 3 shelves/wa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 meters in one second = 10 meters per second = 10 meters/seco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word per can be very useful in many different situations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E: 10 meters/second is the same 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second/10 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How To Use Units With The </a:t>
            </a:r>
            <a:br>
              <a:rPr sz="4000"/>
            </a:b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Word Per </a:t>
            </a: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en solving per problems, the goal usually is to cross out the units until you have the units of your solu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Man gets paid $10 per hour to paint a house which has four walls.  If each wall takes the man 2 hours, how much will he get pai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units will I need?  Ultimately, the payment will be in dolla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933560" y="4267080"/>
            <a:ext cx="52578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Another Exampl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I run for 13 meters per second for one hour, how far will I ru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units do I need?  Ultimately, distance in me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677960" y="3200400"/>
            <a:ext cx="578664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21:49:22Z</dcterms:created>
  <dc:creator>vtpp</dc:creator>
  <dc:description/>
  <dc:language>en-US</dc:language>
  <cp:lastModifiedBy>vhardy</cp:lastModifiedBy>
  <dcterms:modified xsi:type="dcterms:W3CDTF">2003-05-23T21:31:07Z</dcterms:modified>
  <cp:revision>13</cp:revision>
  <dc:subject/>
  <dc:title>Per Problems</dc:title>
</cp:coreProperties>
</file>