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20.png" ContentType="image/png"/>
  <Override PartName="/ppt/media/image6.png" ContentType="image/png"/>
  <Override PartName="/ppt/media/image3.gif" ContentType="image/gif"/>
  <Override PartName="/ppt/media/image21.jpeg" ContentType="image/jpeg"/>
  <Override PartName="/ppt/media/image16.png" ContentType="image/png"/>
  <Override PartName="/ppt/media/image19.gif" ContentType="image/gif"/>
  <Override PartName="/ppt/media/image1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5.png" ContentType="image/png"/>
  <Override PartName="/ppt/media/image14.jpeg" ContentType="image/jpeg"/>
  <Override PartName="/ppt/media/image2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487E5-862B-45E6-BF72-8EDEAA654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mma is confusing on this slide and needs to be fix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cotine molecule has two rings of carbon and each ring has a nitrogen atom. The two diagrams show the structure in the two common ways that chemists describe molecules. On the right, black balls = carbon, white balls = hydrogen, blue balls = nitrogen. The three-dimensional diagram on the right helps to visualize how nicotine needs to find a place on cell membranes where it can fit, like a hand in a glove. See next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0E6C-A9B7-4CE7-8CDB-B82A2A9B3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B155-D1B1-410B-AFFE-AD990BE4C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5353-281E-4D06-A241-6A026A22C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E9D2-AFE0-4C06-BFF7-A034803E0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C6EE7-4F8F-44E2-956D-51091459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EBE8-8323-4D11-96F6-3C785596B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A3498-29D9-4FE1-8E92-8E01E5421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8E88-DF1F-489B-A9D4-2B006CB99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E1F86-9088-4DDA-9257-4CC331A7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FF81-36B1-4F15-A304-CDC37E45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148E6-AB1D-487F-81B3-1819C65A9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F58C-3A20-48DA-83F0-18CD03F5B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6D0C-DCC8-48B6-9E4C-AB99A4C7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F1B1B-41F9-4A33-8242-8FB92E92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02B29-66CC-45A4-A0AF-1F8889148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D19A-2194-479A-A6B8-E1DB70C5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2416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14800" y="22096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3352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2416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14800" y="423720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B095-A8A9-463C-A697-7DAC1C886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AF02-AA74-41FD-9A35-16727836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6E20-A5A9-4DAC-BF81-C3B3CD2F7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53BF-9B54-4D69-A0D1-57502E4B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079640" y="45684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99FE-794E-4EE0-83B0-1F2AB966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BD7E-9304-4AAD-974F-B65B33C2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11240" y="423720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ED4C-3EF0-4741-B8E0-56EA1B65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11240" y="22096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33520" y="423720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81A2-58C9-4C83-B8D2-929C4D9B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698400" indent="-268560">
              <a:spcBef>
                <a:spcPts val="799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2" marL="1020600" indent="-214560">
              <a:spcBef>
                <a:spcPts val="799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3" marL="1342800" indent="-214560">
              <a:spcBef>
                <a:spcPts val="7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4" marL="1665000" indent="-21456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3131640" y="6377040"/>
            <a:ext cx="3086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54B4-7BE7-4206-8D4F-136D7FB3D286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E9F3-092B-406C-93EB-03685D9F50DA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2" marL="857160" algn="ctr">
              <a:spcBef>
                <a:spcPts val="601"/>
              </a:spcBef>
              <a:buClr>
                <a:srgbClr val="ffffff"/>
              </a:buClr>
              <a:buSzPct val="65000"/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3" marL="1200240" algn="ctr">
              <a:spcBef>
                <a:spcPts val="499"/>
              </a:spcBef>
              <a:buClr>
                <a:srgbClr val="ffffff"/>
              </a:buClr>
              <a:buSzPct val="8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eeeee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eeeee"/>
              </a:solidFill>
              <a:latin typeface="Times New Roman"/>
            </a:endParaRPr>
          </a:p>
          <a:p>
            <a:pPr lvl="4" marL="1542960" algn="ctr">
              <a:spcBef>
                <a:spcPts val="4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eeeee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hyperlink" Target="http://peer.tamu.edu/curriculum_modules/Cell_Biology/CellBiol/Proteins/whatweknow4.htm" TargetMode="External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153800" y="609480"/>
            <a:ext cx="738036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eee"/>
                </a:solidFill>
                <a:latin typeface="Times New Roman"/>
              </a:rPr>
              <a:t>Tobacco and Nicotine Addiction</a:t>
            </a:r>
            <a:endParaRPr b="0" lang="en-US" sz="40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90720" y="6354720"/>
            <a:ext cx="716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dapted from a presentation by George Sanchez, 4</a:t>
            </a:r>
            <a:r>
              <a:rPr b="0" lang="en-US" sz="1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year Biomedical Science major, Texas A&amp;M Universit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2209680" y="2209680"/>
            <a:ext cx="4648320" cy="33465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3048120" y="289548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2"/>
          <a:stretch/>
        </p:blipFill>
        <p:spPr>
          <a:xfrm>
            <a:off x="2416320" y="2136600"/>
            <a:ext cx="3806640" cy="3578400"/>
          </a:xfrm>
          <a:prstGeom prst="rect">
            <a:avLst/>
          </a:prstGeom>
          <a:ln w="0">
            <a:noFill/>
          </a:ln>
        </p:spPr>
      </p:pic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79640" y="2282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to Smoking: </a:t>
            </a:r>
            <a:br>
              <a:rPr sz="4400"/>
            </a:b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 Global Problem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57200" y="1905120"/>
            <a:ext cx="2895480" cy="1371600"/>
            <a:chOff x="457200" y="1905120"/>
            <a:chExt cx="2895480" cy="1371600"/>
          </a:xfrm>
        </p:grpSpPr>
        <p:sp>
          <p:nvSpPr>
            <p:cNvPr id="363" name=""/>
            <p:cNvSpPr/>
            <p:nvPr/>
          </p:nvSpPr>
          <p:spPr>
            <a:xfrm flipH="1">
              <a:off x="532800" y="1905120"/>
              <a:ext cx="2819160" cy="137160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57200" y="2013120"/>
              <a:ext cx="2895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One-third of the global adult population smokes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181480" y="4266720"/>
            <a:ext cx="3657600" cy="1676520"/>
            <a:chOff x="5181480" y="4266720"/>
            <a:chExt cx="3657600" cy="1676520"/>
          </a:xfrm>
        </p:grpSpPr>
        <p:sp>
          <p:nvSpPr>
            <p:cNvPr id="366" name=""/>
            <p:cNvSpPr/>
            <p:nvPr/>
          </p:nvSpPr>
          <p:spPr>
            <a:xfrm flipV="1">
              <a:off x="5181480" y="4266360"/>
              <a:ext cx="3657600" cy="1676520"/>
            </a:xfrm>
            <a:prstGeom prst="wedgeRoundRectCallout">
              <a:avLst>
                <a:gd name="adj1" fmla="val -48004"/>
                <a:gd name="adj2" fmla="val 69314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81480" y="4343400"/>
              <a:ext cx="365760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Times New Roman"/>
                </a:rPr>
                <a:t>Of those who smoke during adolescence and throughout life, one-half die from smoke-related diseases.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533520" y="4572000"/>
            <a:ext cx="2971800" cy="1371600"/>
            <a:chOff x="533520" y="4572000"/>
            <a:chExt cx="2971800" cy="1371600"/>
          </a:xfrm>
        </p:grpSpPr>
        <p:sp>
          <p:nvSpPr>
            <p:cNvPr id="369" name=""/>
            <p:cNvSpPr/>
            <p:nvPr/>
          </p:nvSpPr>
          <p:spPr>
            <a:xfrm flipH="1" flipV="1">
              <a:off x="609120" y="4572000"/>
              <a:ext cx="2819520" cy="1371600"/>
            </a:xfrm>
            <a:prstGeom prst="wedgeRoundRectCallout">
              <a:avLst>
                <a:gd name="adj1" fmla="val -43518"/>
                <a:gd name="adj2" fmla="val 66666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33520" y="4680000"/>
              <a:ext cx="29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oking causes one-third of deaths in men aged 35-69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5562720" y="1905120"/>
            <a:ext cx="2971800" cy="1222920"/>
            <a:chOff x="5562720" y="1905120"/>
            <a:chExt cx="2971800" cy="1222920"/>
          </a:xfrm>
        </p:grpSpPr>
        <p:sp>
          <p:nvSpPr>
            <p:cNvPr id="372" name=""/>
            <p:cNvSpPr/>
            <p:nvPr/>
          </p:nvSpPr>
          <p:spPr>
            <a:xfrm>
              <a:off x="5562720" y="1905120"/>
              <a:ext cx="2971800" cy="121896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38680" y="1936800"/>
              <a:ext cx="2743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t is one of few causes of mortality that is increasing.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is Addictiv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191120" y="2133360"/>
            <a:ext cx="45720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80% of attempts to quit smoking fail within a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 the U.S., 70% of smokers say they would like to quit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542160" indent="-5421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5% are successful each year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6" name="" descr="a smoker"/>
          <p:cNvPicPr/>
          <p:nvPr/>
        </p:nvPicPr>
        <p:blipFill>
          <a:blip r:embed="rId2"/>
          <a:srcRect l="0" t="0" r="0" b="-296"/>
          <a:stretch/>
        </p:blipFill>
        <p:spPr>
          <a:xfrm>
            <a:off x="533520" y="2057400"/>
            <a:ext cx="3276360" cy="34732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796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moking Kill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838080" y="3809880"/>
            <a:ext cx="7958160" cy="159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Normal Lung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eeeeee"/>
                </a:solidFill>
                <a:latin typeface="Times New Roman"/>
              </a:rPr>
              <a:t>Smoker’s Lung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274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The complex mixture called tobacco ‘tar’, and carbon monoxide, are mainly responsible for most of the diseases that are associated with the long-term use of tobacco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2"/>
          <a:srcRect l="0" t="0" r="-17" b="272"/>
          <a:stretch/>
        </p:blipFill>
        <p:spPr>
          <a:xfrm>
            <a:off x="4876920" y="1295280"/>
            <a:ext cx="3581280" cy="24386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pic>
        <p:nvPicPr>
          <p:cNvPr id="380" name="" descr=""/>
          <p:cNvPicPr/>
          <p:nvPr/>
        </p:nvPicPr>
        <p:blipFill>
          <a:blip r:embed="rId3"/>
          <a:srcRect l="0" t="0" r="-17" b="78"/>
          <a:stretch/>
        </p:blipFill>
        <p:spPr>
          <a:xfrm>
            <a:off x="533520" y="1295280"/>
            <a:ext cx="3733560" cy="2416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Nicotine Addictive Component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produces effects that are commonly seen with other addictive drugs such as amphetamines and cocaine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and self-administration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ncrease in movements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Reinforces place reference (learned associations – bars, restaurants, etc.)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Structure of Nicotin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129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533520" y="2533680"/>
            <a:ext cx="4206600" cy="2800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386" name=""/>
          <p:cNvSpPr/>
          <p:nvPr/>
        </p:nvSpPr>
        <p:spPr>
          <a:xfrm>
            <a:off x="1676520" y="586728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Times New Roman"/>
                <a:hlinkClick r:id="rId3"/>
              </a:rPr>
              <a:t>Click here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to learn more about how molecules interact with protein “receptors” on cell membranes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5181480" y="1905120"/>
            <a:ext cx="344664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Idea of Molecular Receptor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5639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Drugs bind to cell membran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Regions on membrane where this binding occurs are called molecular receptors or binding sites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Binding sites are proteins that are specific matches to the drug molecule (fit together like a key in  a lock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Effect of the drug is achieved by this binding (like the key and lock, think of it as opening a function in the cell)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5791320" y="2590920"/>
            <a:ext cx="297180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Long-Term Use Leads to Cigarette Craving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41907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Long-term use increases the number of molecular receptors in brains of humans.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Increased number of receptors increases the “demand” for nicotine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eeeee"/>
                </a:solidFill>
                <a:latin typeface="Times New Roman"/>
              </a:rPr>
              <a:t>When receptors are unoccupied by nicotine, they “complain” – “Where is our nicotine?”</a:t>
            </a:r>
            <a:endParaRPr b="0" lang="en-US" sz="26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640400" y="1752480"/>
            <a:ext cx="404640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Why Do Smokers Crave Nicotine?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icotine acts in nervous system circuits that release a “reward” chemical –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Brain learns to “like” the release of dopamine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When nicotine is withdrawn, the brain’s reward system signals the craving to restore nicotine level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66320" y="68544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for Nicotine 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high when nicotine is at low concentrations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Craving is satisfied when nicotine levels are restored to levels to which nerve cells have become accustomed.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Nerve cells learn that nicotine is normal, lack of nicotine is abnormal</a:t>
            </a:r>
            <a:endParaRPr b="0" lang="en-US" sz="32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Craving Pattern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9047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After a night of abstinence, dopamine concentration in brain is at its lowest level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First cigarette strongly activates dopamine release.  Greatest pleasure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olerance occurs quickly, because receptors adapt quickly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Throughout a day, episodes of cigarette smoking are separated by short periods of abstinence; nicotine levels drop and receptors “cry out for their nicotine fix.”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Method of Deliv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863960" y="17524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products include cigarettes, cigars, and pipe tobacco, which are smoked; snuff, which is inhaled into the nose; and chewing tobacco, which is chewed but</a:t>
            </a:r>
            <a:r>
              <a:rPr b="0" lang="en-US" sz="2400" spc="-1" strike="noStrike">
                <a:solidFill>
                  <a:srgbClr val="eeeeee"/>
                </a:solidFill>
                <a:latin typeface="Verdan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ot swallowed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Inhalation of tobacco smoke is the fastest and most efficient way yet discovered to deliver nicotine to the brain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27500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Addiction Process is Still a Myste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If an individual quits smoking for a few weeks, the number of nicotine receptors returns toward normal (like that of non smokers)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BUT …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</a:rPr>
              <a:t>Craving can still exist even years after quitting.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Long-term changes have occurred in neural circuits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Smokers remember the behaviors that were linked to sensory cues and reinforced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37720" y="456840"/>
            <a:ext cx="73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ink Before You Act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048120" y="1752480"/>
            <a:ext cx="2819160" cy="35053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404" name=""/>
          <p:cNvSpPr/>
          <p:nvPr/>
        </p:nvSpPr>
        <p:spPr>
          <a:xfrm>
            <a:off x="1143000" y="5562720"/>
            <a:ext cx="647712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eeeee"/>
                </a:solidFill>
                <a:latin typeface="Times New Roman"/>
              </a:rPr>
              <a:t>Smoking is the leading cause of premature death!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7720" y="533520"/>
            <a:ext cx="73789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History of Tobacco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2"/>
          <a:srcRect l="0" t="0" r="-139" b="-27"/>
          <a:stretch/>
        </p:blipFill>
        <p:spPr>
          <a:xfrm>
            <a:off x="684360" y="2166840"/>
            <a:ext cx="3879720" cy="316548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935240" y="2209680"/>
            <a:ext cx="390348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obacco was first used by the peoples of the pre-Columbian America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Native Americans apparently cultivated the plant and smoked it in pipes for medicinal and ceremonial purposes.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Spreads to Europe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rcRect l="0" t="0" r="-109" b="143"/>
          <a:stretch/>
        </p:blipFill>
        <p:spPr>
          <a:xfrm>
            <a:off x="1595520" y="1450800"/>
            <a:ext cx="5790960" cy="142560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grpSp>
        <p:nvGrpSpPr>
          <p:cNvPr id="310" name=""/>
          <p:cNvGrpSpPr/>
          <p:nvPr/>
        </p:nvGrpSpPr>
        <p:grpSpPr>
          <a:xfrm>
            <a:off x="304920" y="3200400"/>
            <a:ext cx="8610480" cy="3204000"/>
            <a:chOff x="304920" y="3200400"/>
            <a:chExt cx="8610480" cy="3204000"/>
          </a:xfrm>
        </p:grpSpPr>
        <p:sp>
          <p:nvSpPr>
            <p:cNvPr id="311" name=""/>
            <p:cNvSpPr/>
            <p:nvPr/>
          </p:nvSpPr>
          <p:spPr>
            <a:xfrm>
              <a:off x="380880" y="4876560"/>
              <a:ext cx="8305920" cy="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05120" y="4572000"/>
              <a:ext cx="0" cy="30456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04920" y="3200400"/>
              <a:ext cx="327636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0f0f0"/>
                  </a:solidFill>
                  <a:latin typeface="Times New Roman"/>
                </a:rPr>
                <a:t>Adventurers like Jean Nicot of France (where nicotine derives its name) popularize tobacco</a:t>
              </a:r>
              <a:endParaRPr b="0" lang="en-US" sz="22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990720" y="4800600"/>
              <a:ext cx="17524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mid 1500’s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8620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27672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6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743200" y="5181480"/>
              <a:ext cx="2286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France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3412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41972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Portugal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001000" y="44193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05720" y="4876560"/>
              <a:ext cx="0" cy="457200"/>
            </a:xfrm>
            <a:prstGeom prst="line">
              <a:avLst/>
            </a:prstGeom>
            <a:ln w="57240">
              <a:solidFill>
                <a:srgbClr val="99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791320" y="521316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Spain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086600" y="3308400"/>
              <a:ext cx="1828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0f0f0"/>
                  </a:solidFill>
                  <a:latin typeface="Times New Roman"/>
                </a:rPr>
                <a:t>Tobacco introduced to England </a:t>
              </a: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72428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8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095880" y="44640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59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91520" y="4800600"/>
              <a:ext cx="11430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e3e2c7"/>
                  </a:solidFill>
                  <a:latin typeface="Times New Roman"/>
                </a:rPr>
                <a:t>1565</a:t>
              </a:r>
              <a:endParaRPr b="0" lang="en-US" sz="26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51040" y="1519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 the Colonies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rcRect l="0" t="0" r="0" b="-63"/>
          <a:stretch/>
        </p:blipFill>
        <p:spPr>
          <a:xfrm>
            <a:off x="708120" y="1979640"/>
            <a:ext cx="3787560" cy="373392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863960" y="182880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first successful commercial crop was cultivated in Virginia in 1612 by Englishman John Rolfe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Within seven years, it was the colony's </a:t>
            </a:r>
            <a:r>
              <a:rPr b="0" i="1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largest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 export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Over the next two centuries, the growth of tobacco as a cash crop fueled the demand in North America for slave labor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7720" y="609480"/>
            <a:ext cx="73789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Early Discoveries of the Effects of Smoking:</a:t>
            </a:r>
            <a:br>
              <a:rPr sz="3600"/>
            </a:b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The 20</a:t>
            </a:r>
            <a:r>
              <a:rPr b="0" lang="en-US" sz="3600" spc="-1" strike="noStrike" baseline="30000">
                <a:solidFill>
                  <a:srgbClr val="eeeeee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eeeeee"/>
                </a:solidFill>
                <a:latin typeface="Times New Roman"/>
              </a:rPr>
              <a:t> Century</a:t>
            </a:r>
            <a:endParaRPr b="0" lang="en-US" sz="36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30, researchers in Cologne, Germany, noticed that many cancer patients were 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Eight years later, Dr. Raymond Pearl of Johns Hopkins University reported that smokers do not live as long as non-smokers.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44, the American Cancer Society began to warn about possible ill effects of smoking, although it admitted that "no definite evidence exists" linking smoking and lung cance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eeeee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79640" y="45684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The Tobacco Industry Responded Swiftly</a:t>
            </a: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1640" y="2057400"/>
            <a:ext cx="42800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By 1954 the major U.S. tobacco companies had formed the tobacco industry research council to counter the growing health concern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ass-marketing began for filtered and low-tar cigarettes that promised a "healthier" smoke (now we know smokers compensate by smoking more and inhaling longer)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914400" y="2133720"/>
            <a:ext cx="3086280" cy="3794040"/>
          </a:xfrm>
          <a:prstGeom prst="rect">
            <a:avLst/>
          </a:prstGeom>
          <a:ln w="8892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14400" y="3805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he Next Big Blow to Tobacco Industry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863960" y="1981080"/>
            <a:ext cx="390384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1964,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urgeon General's Advisory Committee on Smoking and Health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</a:rPr>
              <a:t> put out a 387-page report stating that </a:t>
            </a: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cigarette smoking is causally related to lung cancer.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In 1965, Congress passed the Federal Cigarette Labeling and Advertising Act requiring the Surgeon General's warnings on all cigarette packages. </a:t>
            </a:r>
            <a:endParaRPr b="0" lang="en-US" sz="2400" spc="-1" strike="noStrike">
              <a:solidFill>
                <a:srgbClr val="eeeeee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380880" y="2666880"/>
            <a:ext cx="4495680" cy="1600200"/>
            <a:chOff x="380880" y="2666880"/>
            <a:chExt cx="4495680" cy="1600200"/>
          </a:xfrm>
        </p:grpSpPr>
        <p:sp>
          <p:nvSpPr>
            <p:cNvPr id="338" name=""/>
            <p:cNvSpPr/>
            <p:nvPr/>
          </p:nvSpPr>
          <p:spPr>
            <a:xfrm>
              <a:off x="380880" y="2666880"/>
              <a:ext cx="4495680" cy="1600200"/>
            </a:xfrm>
            <a:prstGeom prst="rect">
              <a:avLst/>
            </a:prstGeom>
            <a:solidFill>
              <a:srgbClr val="cccc99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33160" y="2895480"/>
              <a:ext cx="4191120" cy="119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SURGEON GENERAL’S WARNING: Smoking Causes Lung Cancer, Heart Disease, Emphysema, And May Complicate Pregnancy.</a:t>
              </a:r>
              <a:endParaRPr b="0" lang="en-US" sz="18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5334120" y="1066680"/>
            <a:ext cx="358128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President Clinton announces Food and Drug Administration’s plan to regulate tobacco, especially sales and advertising aimed at minor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76520" y="1371600"/>
            <a:ext cx="2819160" cy="26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Smoking is banned on all interstate buses and all domestic airline flights lasting 6 hours or les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37856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eee"/>
                </a:solidFill>
                <a:latin typeface="Times New Roman"/>
              </a:rPr>
              <a:t>Tobacco Industry on the Run</a:t>
            </a:r>
            <a:endParaRPr b="0" lang="en-US" sz="4400" spc="-1" strike="noStrike">
              <a:solidFill>
                <a:srgbClr val="eeeeee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4394160"/>
            <a:ext cx="28195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All broadcast advertising was bann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57200" y="3813120"/>
            <a:ext cx="8001000" cy="0"/>
          </a:xfrm>
          <a:prstGeom prst="line">
            <a:avLst/>
          </a:prstGeom>
          <a:ln w="7632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295280" y="3813120"/>
            <a:ext cx="0" cy="6858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048120"/>
            <a:ext cx="0" cy="76500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105520" y="3813120"/>
            <a:ext cx="0" cy="987480"/>
          </a:xfrm>
          <a:prstGeom prst="line">
            <a:avLst/>
          </a:prstGeom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736640" y="3473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8195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71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724280" y="343224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934320" y="3736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3e2c7"/>
                </a:solidFill>
                <a:latin typeface="Times New Roman"/>
              </a:rPr>
              <a:t>1995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526104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4727520"/>
            <a:ext cx="4038480" cy="22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eeeee"/>
                </a:solidFill>
                <a:latin typeface="Times New Roman"/>
                <a:ea typeface="Times New Roman"/>
              </a:rPr>
              <a:t>Mississippi files the first of 22 state lawsuits seeking to recoup millions of dollars from tobacco companies for smokers’ Medicaid bill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965160" y="2832120"/>
            <a:ext cx="685800" cy="617400"/>
          </a:xfrm>
          <a:prstGeom prst="rect">
            <a:avLst/>
          </a:prstGeom>
          <a:ln w="0">
            <a:noFill/>
          </a:ln>
        </p:spPr>
      </p:pic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2666880" y="4114800"/>
            <a:ext cx="1211400" cy="39996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808520" y="2717640"/>
            <a:ext cx="754200" cy="800280"/>
          </a:xfrm>
          <a:prstGeom prst="rect">
            <a:avLst/>
          </a:prstGeom>
          <a:ln w="0">
            <a:noFill/>
          </a:ln>
        </p:spPr>
      </p:pic>
      <p:pic>
        <p:nvPicPr>
          <p:cNvPr id="359" name="" descr=""/>
          <p:cNvPicPr/>
          <p:nvPr/>
        </p:nvPicPr>
        <p:blipFill>
          <a:blip r:embed="rId5"/>
          <a:stretch/>
        </p:blipFill>
        <p:spPr>
          <a:xfrm>
            <a:off x="6934320" y="4140360"/>
            <a:ext cx="811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9T19:27:21Z</dcterms:created>
  <dc:creator>Brian S. Davis</dc:creator>
  <dc:description/>
  <dc:language>en-US</dc:language>
  <cp:lastModifiedBy>Texas A&amp;M Veterinary Medicine</cp:lastModifiedBy>
  <dcterms:modified xsi:type="dcterms:W3CDTF">2004-10-29T20:51:58Z</dcterms:modified>
  <cp:revision>33</cp:revision>
  <dc:subject/>
  <dc:title>Tobacco and the Cellular Mechanisms of Nicotine Addi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a09000000000001023620</vt:lpwstr>
  </property>
</Properties>
</file>