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E0D1-CF15-4D8B-830C-EFF1942F7B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subject is (B), the simple subject is “station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 for Entire Unlocking Languag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4C: The student is expected to: access how language, medium, and presentation contribute to the message (6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21A: collaborate with other writers to compose, organize, and revise various types of texts. . .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A: offer observations, make connections, react, speculate, interpret, and raise questions in response to texts (4-8)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C: use multiple reference aids, including a thesaurus, a synonym finder, a dictionary, and software, to clarify meanings and usage (4-8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mplete predicate is (C), the simple predicate is “called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B) A rough, dry vo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) op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Th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C) H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B108-4B46-4950-A5E4-2737A24C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EF9F-27E7-4FDC-A5D6-9228F3B1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3FEA-20CF-4811-B19E-B333B26B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2A3B-EB66-4F28-B3A5-79431A4A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7DFD-7E94-47AA-91FE-0DCFCAD20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57C8-B03D-4561-85D7-548403ED9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22EF-82F4-47D2-A953-93BA1437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4BAA-3D96-4AD6-A26A-CFF3617A1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294E-CB25-4D93-ADD1-E71AAE522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508D-E9F3-4DF0-A8C4-8CE15C70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7FF3-0835-4183-B624-BD5533AF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07B2-5BB6-49CF-8824-136C7098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59992-DBC7-4F6F-B0F6-2FED44FCB1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Unlocking Languag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mprove your writing and speech by understanding language construction and correct usag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 the Unlocking Language Quiz for “The Jade Dragon” to test your knowledge of language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 Choose the complete subject and underline the simple subject.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hongqing station was a madhouse of people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unds, and smells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madhouse of people, sounds, and smells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hongqing 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as a madhou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2933640" cy="307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5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6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 Choose the complete predicate and underline the simple predica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82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hoarse voice called from within for them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nter.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ars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lled from within for them to en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r them to ent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1143000" y="318276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1143000" y="38289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1143000" y="45068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1143000" y="517356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 A hoarse voice is…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omeone that sounds like a hors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rough, dry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gentle vo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wboy t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1143000" y="1935000"/>
            <a:ext cx="374760" cy="465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143000" y="261936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143000" y="33163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143000" y="401148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66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.  A good synonym for ajar i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0080"/>
            <a:ext cx="7772400" cy="255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p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os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f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29200" y="2590920"/>
            <a:ext cx="3097080" cy="3154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1143000" y="19447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1143000" y="25909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143000" y="32688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1143000" y="39355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6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.  The following is a letter written to Jace by his grandfather. Correct the letter by identifying the error in each numbered sentence or phra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357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1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dearest Jace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2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I hope this letter find’s you in good health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 miss you very much,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and I wish I could see you.  I have some tragic news from China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3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Have you heard of the Three Gorges Dam.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 It is a new project t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provide China with hydroelectric power. (4) 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When the dam is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complete however the water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 will flood the shrine of the Jade Dragon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This is a very unfortunate time for our family. What am I to do?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(5) </a:t>
            </a:r>
            <a:r>
              <a:rPr b="0" lang="en-US" sz="1900" spc="-1" strike="noStrike" u="sng">
                <a:solidFill>
                  <a:srgbClr val="ffffff"/>
                </a:solidFill>
                <a:uFillTx/>
                <a:latin typeface="Times New Roman"/>
              </a:rPr>
              <a:t>Sincerily</a:t>
            </a: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imes New Roman"/>
              </a:rPr>
              <a:t>Grandfather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784872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6.  Fill in the first blank with the correct choice from the column on the left and the second blank with the correct choice from the column on the right.</a:t>
            </a:r>
            <a:br>
              <a:rPr sz="2400"/>
            </a:br>
            <a:br>
              <a:rPr sz="2400"/>
            </a:br>
            <a:r>
              <a:rPr b="0" lang="en-US" sz="1900" spc="-1" strike="noStrike">
                <a:solidFill>
                  <a:srgbClr val="ccccff"/>
                </a:solidFill>
                <a:latin typeface="Times New Roman"/>
              </a:rPr>
              <a:t>Jace and K.T. decided to take the train because ______ only had ten dollars.  K.T. was excited to ride the train, but Jace was too worried about _______ grandfather to be excited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711520" y="4038120"/>
            <a:ext cx="184608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h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4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08600" y="4043520"/>
            <a:ext cx="18460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Times New Roman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ord Explorer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ad the “Jade Dragon” again and highlight words that are unfamili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ocabulary list (on the next slide) or a dictionary to help you understand the difficult word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apabilities - abilities that someone or something has the power to perform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ade - a hard, green, blue, or white stone from which ornaments are carved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eirloom - a possession that has been handed down in a family for several generations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rail - not strong, physically weak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ulevard - a wide stre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467480" y="4419720"/>
            <a:ext cx="11890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5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03:16:59Z</dcterms:created>
  <dc:creator>Gina Balducci</dc:creator>
  <dc:description/>
  <dc:language>en-US</dc:language>
  <cp:lastModifiedBy>Texas A&amp;M Veterinary Medicine</cp:lastModifiedBy>
  <dcterms:modified xsi:type="dcterms:W3CDTF">2007-10-09T19:19:40Z</dcterms:modified>
  <cp:revision>51</cp:revision>
  <dc:subject/>
  <dc:title>1. Choose the complete subject and underline the simple subject.                     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405000000000001023620</vt:lpwstr>
  </property>
</Properties>
</file>