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C41E-1E88-4926-B6F6-AC146D55C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S TO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Jace and K.T.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to rescue a family heirloo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o avoid flooding caused by completion of the new da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the apartment of Jace’s grandfath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 (crowd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 (cough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co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(smok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 (they find a clue in the photograph of the Jade Drago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 (dar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ntire Investigator’s Challenge Quiz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C, H, K, M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H) Drawing infere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Answering different types and levels of ques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) Using study strategies to work on ide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upporting responses by referring to text and own experienc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, G, K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) Analyzing charac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G) Recognizing and analyzing story plot, setting, and problem res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K) Recognizing how style, tone, and mood contribute to the affect of t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10 (C, H, K, M), 7.11 (C), 7.12 (F, G, K), 8.10 (C, H, K, M), 8.11 (C), 8.12 (F, G, 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 Science-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A) Identify energy transformations during the human production of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B) Compare methods used for transforming energy in de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 Research and describe energy types from their source to their u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swer: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C8903-5AFE-44DA-8095-40A66FA5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0B91-A847-449A-A50C-9C276567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8C0-F3AD-4EDF-8960-28D090695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625E-1F74-4F0B-926B-CFE68928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1A2-9934-4DAF-A2E5-49F73739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EB9C-C7EC-453B-9746-04BB2F46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F73E-EDFD-488D-BEAF-8C937E8D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BBA0-296B-46BF-9558-34C8C2ADE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B5B5-B470-4EC2-84F6-777CB2C07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548-E9AB-4C5D-AC02-5BB31D680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49F5-9B98-4E8E-BA6F-6D73566E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F5BD-CBBA-458F-B150-BCAA3A58B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811A9-F72E-46C6-ADC5-2D6272864F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9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9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the travelers find their way to the correct cav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29920" indent="0">
              <a:lnSpc>
                <a:spcPct val="9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sk the train conductor for directio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guess which cave is the correct on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grandfather’s directions provide all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ormation neede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find a clue in the photograph of the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de Drag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306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 is only one cave, so it is easy to fin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1378080" y="58593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371600" y="28544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1374840" y="340524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6"/>
          <a:stretch/>
        </p:blipFill>
        <p:spPr>
          <a:xfrm>
            <a:off x="1376280" y="404640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1374840" y="497052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10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cave is …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y larg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k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eerfu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ded by bat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371600" y="247968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374840" y="3036960"/>
            <a:ext cx="369720" cy="4651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376280" y="3595680"/>
            <a:ext cx="370080" cy="4651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374840" y="4154400"/>
            <a:ext cx="36972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3154320" y="2851200"/>
            <a:ext cx="2790720" cy="1257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4205160" y="5016600"/>
            <a:ext cx="96228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o travels to China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K.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and his moth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.T., Jace and the captain of the soccer tea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 one.  Jace only dreams he goes to Chi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 travels alone because the trip is so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ngerou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1370160" y="4665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1373040" y="3011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6"/>
          <a:stretch/>
        </p:blipFill>
        <p:spPr>
          <a:xfrm>
            <a:off x="1374840" y="35640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7"/>
          <a:stretch/>
        </p:blipFill>
        <p:spPr>
          <a:xfrm>
            <a:off x="1373040" y="411624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2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is a trip to China neede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90000"/>
              </a:lnSpc>
              <a:spcBef>
                <a:spcPts val="224"/>
              </a:spcBef>
              <a:spcAft>
                <a:spcPts val="224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elebrate the 100th birthday of Jace’s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andmo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see the Three Gorges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rescue a family heirlo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test Jace’s new backpack compu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608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collect information for a history repor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1370160" y="5103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1370160" y="256860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1373040" y="3462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1374840" y="4008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3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46404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must the trip to China be made immediately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6404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cold weather that occurs later i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e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cause the government will only allow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ravelers in at certain ti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 they can get back in time for a soccer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urna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9524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avoid the flooding caused by completion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 the new da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370160" y="30067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1373040" y="3944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5"/>
          <a:stretch/>
        </p:blipFill>
        <p:spPr>
          <a:xfrm>
            <a:off x="1374840" y="4871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6"/>
          <a:stretch/>
        </p:blipFill>
        <p:spPr>
          <a:xfrm>
            <a:off x="1373040" y="581832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4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re in China do they travel first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Yangtze Ri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apartment of Jace’s grandfa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ace’s family farm in Beij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emete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in station in Fengd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6280" y="46846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1376280" y="2460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1379520" y="30178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380960" y="3576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7"/>
          <a:stretch/>
        </p:blipFill>
        <p:spPr>
          <a:xfrm>
            <a:off x="1379520" y="4129200"/>
            <a:ext cx="374760" cy="4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5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atmosphere in the city of Chongqing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eacefu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rowd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ert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2142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e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137628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137628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1379520" y="34495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6"/>
          <a:stretch/>
        </p:blipFill>
        <p:spPr>
          <a:xfrm>
            <a:off x="137160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7"/>
          <a:stretch/>
        </p:blipFill>
        <p:spPr>
          <a:xfrm>
            <a:off x="137952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6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health problem do Jace and his grandfather shar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or eyesigh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omach a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ither have any health problem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m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2392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ug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"/>
          <a:stretch/>
        </p:blipFill>
        <p:spPr>
          <a:xfrm>
            <a:off x="1379520" y="28926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5"/>
          <a:stretch/>
        </p:blipFill>
        <p:spPr>
          <a:xfrm>
            <a:off x="1373040" y="34434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6"/>
          <a:stretch/>
        </p:blipFill>
        <p:spPr>
          <a:xfrm>
            <a:off x="1378080" y="4002120"/>
            <a:ext cx="374400" cy="4651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7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type of fuel was used to power the train from Chongqing to Fengdu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oo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ectric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clear powe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1890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atural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1379520" y="511020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1379520" y="289548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5"/>
          <a:stretch/>
        </p:blipFill>
        <p:spPr>
          <a:xfrm>
            <a:off x="1373040" y="344664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6"/>
          <a:stretch/>
        </p:blipFill>
        <p:spPr>
          <a:xfrm>
            <a:off x="1374840" y="4002120"/>
            <a:ext cx="374760" cy="4651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7"/>
          <a:stretch/>
        </p:blipFill>
        <p:spPr>
          <a:xfrm>
            <a:off x="1373040" y="4554360"/>
            <a:ext cx="374760" cy="4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108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761760" y="167652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8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ich of the following best describes the conditions on the train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mok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Qui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a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rganiz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106200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1146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90234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374840" y="510696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1374840" y="2895480"/>
            <a:ext cx="374760" cy="4701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378080" y="3446640"/>
            <a:ext cx="374400" cy="469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379520" y="3998880"/>
            <a:ext cx="374760" cy="4698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1378080" y="4551480"/>
            <a:ext cx="374400" cy="4698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5800" y="27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vestigator’s Challenge Quiz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7"/>
          <a:stretch/>
        </p:blipFill>
        <p:spPr>
          <a:xfrm>
            <a:off x="8026560" y="6265800"/>
            <a:ext cx="882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6T11:30:21Z</dcterms:created>
  <dc:creator>John</dc:creator>
  <dc:description/>
  <dc:language>en-US</dc:language>
  <cp:lastModifiedBy>College of Veterinary Medicine</cp:lastModifiedBy>
  <cp:lastPrinted>2001-06-06T11:58:46Z</cp:lastPrinted>
  <dcterms:modified xsi:type="dcterms:W3CDTF">2007-11-19T18:34:42Z</dcterms:modified>
  <cp:revision>105</cp:revision>
  <dc:subject/>
  <dc:title>Traveler’s Quiz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e05000000000001023620</vt:lpwstr>
  </property>
</Properties>
</file>