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14710-2934-455C-9EDC-FA3E43DF6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ing on the sensory details will take you to a description and an oral exercise for the class to brainsto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well organized description is very important. Explain more about how to describe an object or a scene in a well-organized mann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the sound devices and figures of speech, have the students go through a descriptive paragraph in the story and take out these devices. How did it change the story? Is it as interesting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literary devices effective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A, 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018A-0360-42D0-8801-DC64EC6F1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C774-9004-4DD3-AB23-655F29372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0E84-4663-482F-B86F-D8D04A29B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2CDD-C6AF-42D8-84AC-BC65684440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2FBD-11B9-4C1E-A62B-A662E874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9D60-39C2-44DF-B78E-BD9A66AAB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5B03-8727-4601-BB33-155CF1222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9F0B-5F52-47DB-ACF5-D3B7B264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575C-7892-40D1-A2C8-75AA1BC1A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B9B7-9706-49C7-BDBA-1503F3115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DE25-63A6-43CB-BBD5-2647F43AE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E54C-C152-4C2E-9418-629CD8B28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6BEC-0BCF-4350-A5DE-719228246054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SensDet.ppt" TargetMode="Externa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escriptive Writing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you ever seen something so beautiful that words could not describe it?  Have you ever gone somewhere so enchanting that a picture could not capture it?  Was it a place in your own imaginatio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0" name="Roadway" descr=""/>
          <p:cNvPicPr/>
          <p:nvPr/>
        </p:nvPicPr>
        <p:blipFill>
          <a:blip r:embed="rId2"/>
          <a:stretch/>
        </p:blipFill>
        <p:spPr>
          <a:xfrm>
            <a:off x="990720" y="4114800"/>
            <a:ext cx="710856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Behold! The Power of Words!</a:t>
            </a: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ebebeb"/>
                </a:solidFill>
                <a:latin typeface="Times New Roman"/>
              </a:rPr>
              <a:t>Good descriptive writing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llows the reader to see, hear, smell, taste and even feel what is being described.  It describes a particular person, place, or thing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 describes details that appeal to one or more of the five senses using 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sensory word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ave fun!  Use good descriptive writing to paint a  vivid picture with precise and specific detail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ut It Into Practic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ink of something interesting to describe. Are there so many details to mention that you don’t know where to begin?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ational charts can help organize your thoughts for descriptive writing</a:t>
            </a: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5" name="PutItIntoPractice" descr=""/>
          <p:cNvPicPr/>
          <p:nvPr/>
        </p:nvPicPr>
        <p:blipFill>
          <a:blip r:embed="rId2"/>
          <a:stretch/>
        </p:blipFill>
        <p:spPr>
          <a:xfrm>
            <a:off x="4876920" y="1752480"/>
            <a:ext cx="3725640" cy="44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Organizational Chart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7" name="Senses" descr=""/>
          <p:cNvPicPr/>
          <p:nvPr/>
        </p:nvPicPr>
        <p:blipFill>
          <a:blip r:embed="rId1"/>
          <a:srcRect l="0" t="0" r="53" b="101"/>
          <a:stretch/>
        </p:blipFill>
        <p:spPr>
          <a:xfrm>
            <a:off x="914400" y="1523880"/>
            <a:ext cx="7391520" cy="47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</a:t>
            </a:r>
            <a:br>
              <a:rPr sz="20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Figurative Language</a:t>
            </a:r>
            <a:br>
              <a:rPr sz="36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imile – a comparison using “like” or “as”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Fly like a butterfly, sting like a be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Metaphor – a statement that compares two things without using like or a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My brother is a turtle. He is too s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ersonification – gives human qualities to animals or objects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wind whispered in my ea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dd Some Spice to Your Writing </a:t>
            </a:r>
            <a:br>
              <a:rPr sz="3600"/>
            </a:b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with Sound Devices</a:t>
            </a:r>
            <a:br>
              <a:rPr sz="3600"/>
            </a:br>
            <a:br>
              <a:rPr sz="2000"/>
            </a:b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lliteration – repetition of the same consonant sound at the beginning of multiple words in a sentenc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The busy bees are buzzing about the garden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omatopoeia – the use of words that imitate or suggest the sounds they mak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Clackety-clackety-clackety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Get It Together!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ganize your description. Use different types of organization to make your paper flow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patial order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op to bottom, left to right, near to far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rder of impor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List details in order of the most to the least importan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1T01:47:30Z</dcterms:created>
  <dc:creator>Gina Balducci</dc:creator>
  <dc:description/>
  <dc:language>en-US</dc:language>
  <cp:lastModifiedBy>Vince Hardy</cp:lastModifiedBy>
  <dcterms:modified xsi:type="dcterms:W3CDTF">2007-01-12T21:47:12Z</dcterms:modified>
  <cp:revision>29</cp:revision>
  <dc:subject/>
  <dc:title>Descriptive Writin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c01000000000001023620</vt:lpwstr>
  </property>
</Properties>
</file>