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1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3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C4B2D-5D93-4C85-B50E-5BB4EF801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6 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6 (B) Using structural analysis to identify root words with prefixes and suffix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6.6 (C) Locating words using dictionaries, glossaries and other sourc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7 (D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 various sources of read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8 (C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for varied purpos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9 (C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B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E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the text’s structure or progression of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F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ing a text’s mai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I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similarities and differences across text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K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0 (M)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observ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6.12 (F)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7.7 (D), 7.8 (B, C), 7.10 (B, F, I, K, M), 7.12 (F)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8.7 (D), 8.8 (B, C), 8.10 (B, F, I, K, M), 8.12 (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6240" y="685800"/>
            <a:ext cx="4568760" cy="34275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6 (A, B, 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knowledge of language structure to recognize wo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Using structural analysis to identify root words with prefixes and suffi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Locating words using dictionaries, glossaries and other sour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r text:  suppl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vocabulary challe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, 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 various sources of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for varied purpo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F, I, K, 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F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alyzing character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D) Identifying different points of view about an issue or a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H, K, 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rawing inferen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observa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3 (C, E, F, G, H, I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Using multiple sources to locate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Summarizing and organizing information from multipl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Producing research projects and reports in effective form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 Drawing conclusions from information gathered from multiple 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) Using compiled information and knowledge to raise additional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) Presenting organized statemen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D) Identifying different points of view about an issue or a top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persuas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termining a text’s mai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similarities and differences across tex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I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inding similarities and differences across tex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multiple reference kit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B) Describe traits that define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C) Analyze how culture traits sp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F) Evaluate the consequences of improved communication among cul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1 (B) Analyze information using various meth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A) Use social studies terminology correct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compare and contrast compare contr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8BA4-4FF8-4539-9DF6-DC69BA510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9822-F527-4F87-85A1-E0AA3728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A5C2-C77F-4124-9BB0-5B8B3DF9B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BDA1-3A52-4EC2-AED6-CCBFD5E4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F365-68FB-41AB-9B9E-D1F73C6E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3A3B-9B11-4FCC-A792-453179F4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F618-FC69-47AE-A85B-321151FA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9C73-553D-44CD-8A5B-2B20CFAA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7554-B79E-42DE-A2D2-1725F3D9C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83E8-5E4E-44DF-AC7F-5F707237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5245-8E58-4C55-8063-3CBCBB8B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9654-A4A5-4CE0-83EA-4C2DC33D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BCBE-55F6-45B2-B8DE-498E31D4C62E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peer.tamu.edu/forms/Curricula_Survey.shtml" TargetMode="External"/><Relationship Id="rId3" Type="http://schemas.openxmlformats.org/officeDocument/2006/relationships/hyperlink" Target="http://peer.tamu.edu/forms/Curricula_Survey.shtml" TargetMode="External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jpe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hGraVoc.ppt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Persuas.ppt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Appendices/Compar.ppt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3" name="" descr=""/>
            <p:cNvPicPr/>
            <p:nvPr/>
          </p:nvPicPr>
          <p:blipFill>
            <a:blip r:embed="rId4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" descr=""/>
            <p:cNvPicPr/>
            <p:nvPr/>
          </p:nvPicPr>
          <p:blipFill>
            <a:blip r:embed="rId5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6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7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8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89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1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dentify different opinions in the stor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nderstand the descriptive detail the author uses to compare and contrast character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ompare and contrast in writing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iscover what and who are “ancestors.”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Vocabulary Challeng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Look closely at “The Jade Dragon” for context clues to words that might have hidden meanings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66"/>
                </a:solidFill>
                <a:latin typeface="Times New Roman"/>
              </a:rPr>
              <a:t>Check your vocabulary and language skills by taking the </a:t>
            </a:r>
            <a:r>
              <a:rPr b="0" lang="en-US" sz="3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Unlocking Language Challenge.</a:t>
            </a: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65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7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an you believe what you hear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n the train, Jace and K.T. overhear two conversations between fellow passenger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ocate both of these conversations in the story and re-read them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is the main topic of both conversation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9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76440" y="35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Yin and the Ya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61800" y="1498320"/>
            <a:ext cx="8382240" cy="47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does the perspective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f each speaker differ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o do you think is right?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search the topic and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repare a short persuasive essay that outlines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ree supportive arguments for your position about the advantages or disadvantages of the Three Gorges Dam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 to find out more about persuasive writing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334120" y="1542960"/>
            <a:ext cx="3352680" cy="21812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9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nding Clu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Often times the author will include clues about a character such as the way they dress or talk…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do you know about the individuals talking in these conversation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are they different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are they similar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ompare/ Contras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nk of another book you have read… who were some of the characters and how did the author mark them as different or alike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rite two paragraphs comparing and contrasting these characters. 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cestor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Ancestor:  person from whom one is descended, especially if more remote than a grandparent; a forebear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o all people have ancestor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What might be some of the similarities and differences between K.T. and Jace’s ancestors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8.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amily Histo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90760" y="1981080"/>
            <a:ext cx="4647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3160" indent="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Jace tells K.T. that the Jade Dragon is the guardian of his ancestors.  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Research the importance of “ancestors” in Chinese society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173160" indent="0">
              <a:lnSpc>
                <a:spcPct val="10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sk your parent or guardian about your family culture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0" y="60958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Click here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to find out more about comparing and contrasting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3112920" cy="38098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8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19:21Z</dcterms:created>
  <dc:creator>Texas A&amp;M Veterinary Medicine</dc:creator>
  <dc:description/>
  <dc:language>en-US</dc:language>
  <cp:lastModifiedBy>Jeremiah McNichols</cp:lastModifiedBy>
  <dcterms:modified xsi:type="dcterms:W3CDTF">2008-09-17T16:25:38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003000000000001023620</vt:lpwstr>
  </property>
</Properties>
</file>