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8A2A-6C3F-41E4-85C0-ABC5C91640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952560" y="0"/>
            <a:ext cx="5010120" cy="375912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0" y="3860640"/>
            <a:ext cx="6858000" cy="5283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Social Studies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22 (A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ing social studies terminology correctl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22 (A), 8.31 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7750-8C9C-47EF-86AF-2AC78AB0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289A-04E0-44CD-A7DB-400BBB5E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AA6A-A914-425A-893B-2454C7C94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752E-8FE7-47D7-9AAE-7120B20B7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4E55-7A29-489A-AAEC-8D6DACB30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7DFD-8367-40E8-B18D-DA011CDDA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D60C-36D5-4788-BABB-02CCF9B8A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00FD-AA39-4ABC-9A22-2DEC2C0B1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D13B-4F4F-451C-A0A6-ABF2AA47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9E43-FD5D-4524-8F9A-B2EE91839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4825-44D6-42E3-BA66-504BC4AC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DB81-872F-4E51-BB36-042AEF2F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bebeb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D1B6-C487-4292-A80D-90039DAAA711}" type="slidenum">
              <a:rPr b="0" lang="en-US" sz="14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7240" y="304920"/>
            <a:ext cx="77709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ebeb"/>
                </a:solidFill>
                <a:latin typeface="Times New Roman"/>
              </a:rPr>
              <a:t>What’s the difference between weather and climate?</a:t>
            </a:r>
            <a:endParaRPr b="0" lang="en-US" sz="44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7240" y="1904760"/>
            <a:ext cx="77709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Climate is the average condition of the atmosphere (like temperature and precipitation) over a long period of time.  It is the average of weather conditions in a place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buClr>
                <a:srgbClr val="ebebe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ebebeb"/>
                </a:solidFill>
                <a:latin typeface="Times New Roman"/>
              </a:rPr>
              <a:t>For example, over the past 40 years, in February, New Jersey has had an average temperature of 32 º F and an average precipitation of 2.8 inches.</a:t>
            </a:r>
            <a:endParaRPr b="0" lang="en-US" sz="29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5T19:49:56Z</dcterms:created>
  <dc:creator>ITMD</dc:creator>
  <dc:description/>
  <dc:language>en-US</dc:language>
  <cp:lastModifiedBy>ljlab</cp:lastModifiedBy>
  <dcterms:modified xsi:type="dcterms:W3CDTF">2003-09-11T17:22:49Z</dcterms:modified>
  <cp:revision>9</cp:revision>
  <dc:subject/>
  <dc:title>What’s the difference between weather and climate?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e00000000000001023620</vt:lpwstr>
  </property>
</Properties>
</file>