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9ED64-F5C0-4B72-981C-F51C76A602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Number, Operation, and Quantitative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4 (A) Represent Proportions/Conversions using Tables and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FADA-7223-4E12-9980-D1D67463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0413-E6E5-4E5A-9731-4C4DE8E80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8D65-756C-4BDC-9040-CF5FCF412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FD1-DD15-4044-9FB3-5E27E3D683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D266-8D8A-43BF-A088-1FF8E50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2619-6D5A-4642-BF0C-0C342223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26C0-E175-4EDB-ACF7-9E95F4E9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BD91-F334-4CCE-9DF4-5E29A566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49A-600F-4BFC-9917-C850C03AF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5781-C7D4-4E78-B42A-8DA5D4774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ACDC-9AFD-40A3-92AF-7BB53146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5DFA5-6044-4467-8A5B-1D9FF0D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AD115-661D-4FE6-9227-99174F946A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75960"/>
            <a:ext cx="77709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etric Multiplication Factor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685440"/>
            <a:ext cx="8534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Multiplication Facto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Prefix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Symbo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i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ega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,0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il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ct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 = 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ent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c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ll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icr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μ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0.000000001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10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-9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an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9:31:03Z</dcterms:created>
  <dc:creator>ITWorkstation</dc:creator>
  <dc:description/>
  <dc:language>en-US</dc:language>
  <cp:lastModifiedBy>ljlab</cp:lastModifiedBy>
  <dcterms:modified xsi:type="dcterms:W3CDTF">2003-09-11T17:19:02Z</dcterms:modified>
  <cp:revision>6</cp:revision>
  <dc:subject/>
  <dc:title>Metric Multiplication Factor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c200000000000001023620</vt:lpwstr>
  </property>
</Properties>
</file>