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9AD57-2B3B-447C-BF20-7E21B2FC2C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H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ing cohesive written text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ing and using writing processes for self-initiated and assigned writing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just a skeleton of a story map to assist in summary. These are the elements the students should use to complete the summary. Filling out a story map will help them in the organization of the summa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0 (D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izing and organizing ideas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B95F-0902-42C3-9322-AB7D274D2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66C8-A29C-4483-B069-F2AC85D2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921D-F593-44E0-B36D-832CD1FA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F0DA-6662-44CC-9EDE-BF5FF2AF0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40FB-E3B1-47F2-8F18-EC6E5A847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1FC6-5B9F-499E-BBAE-D4215CF80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C804-6BD0-4D6F-ADC9-C3D8A1A2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078-D0D7-44E1-BA6D-485B447DA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3F54-3116-4B9F-89B5-6EAD50AA0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3143-BF25-4ED2-BF9D-B2E400C4D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E1DD-4748-4168-81C6-5A15922F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8D471-08F7-4BEB-A760-7F64865B0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85D1E-500D-4EA6-8E98-E5B6DFE3DABF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To Sum It All Up…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 summary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names characters,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lls about their problems and goals, and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escribes how the characters try to solve their problems and reach their goal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ap It Ou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 story map lists  important details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e included in the summary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ett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haract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Details of the plot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Problem-solving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An example of a story map is shown on the next slid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52" name="j0299203" descr=""/>
          <p:cNvPicPr/>
          <p:nvPr/>
        </p:nvPicPr>
        <p:blipFill>
          <a:blip r:embed="rId2"/>
          <a:stretch/>
        </p:blipFill>
        <p:spPr>
          <a:xfrm>
            <a:off x="4932360" y="1828800"/>
            <a:ext cx="305928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Story Map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Setting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aracters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lot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blem Solving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utcom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338040" y="2133720"/>
            <a:ext cx="8534160" cy="3657600"/>
            <a:chOff x="338040" y="2133720"/>
            <a:chExt cx="8534160" cy="3657600"/>
          </a:xfrm>
        </p:grpSpPr>
        <p:sp>
          <p:nvSpPr>
            <p:cNvPr id="56" name=""/>
            <p:cNvSpPr/>
            <p:nvPr/>
          </p:nvSpPr>
          <p:spPr>
            <a:xfrm>
              <a:off x="33804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38040" y="57913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8872200" y="2133720"/>
              <a:ext cx="0" cy="3657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38040" y="21337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8040" y="27432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8040" y="342900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8040" y="3962520"/>
              <a:ext cx="85341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4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53040" y="3429000"/>
              <a:ext cx="0" cy="236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6T15:13:49Z</dcterms:created>
  <dc:creator>Gina Balducci</dc:creator>
  <dc:description/>
  <dc:language>en-US</dc:language>
  <cp:lastModifiedBy>ljlab</cp:lastModifiedBy>
  <dcterms:modified xsi:type="dcterms:W3CDTF">2003-09-11T17:16:25Z</dcterms:modified>
  <cp:revision>24</cp:revision>
  <dc:subject/>
  <dc:title>To Sum It All Up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c00000000000001023620</vt:lpwstr>
  </property>
</Properties>
</file>