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3.jpeg" ContentType="image/jpeg"/>
  <Override PartName="/ppt/media/image14.png" ContentType="image/png"/>
  <Override PartName="/ppt/media/image1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A26F-A0E7-4960-9F83-C4E936408A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elcome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This “NOTES” section contains teacher notes for each slide including a variety of infor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h as activity instructions, quiz answers, etc.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se notes identify the specific TE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ddressed on each slid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  Identified TEKS in these notes are intended to be a guide to,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bstitute for, the full text of the TE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To view in Slide Show mode, one must select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lide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th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View Show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n the PowerPoint pull down menu.  The ESC key will allow one to “escape” ou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667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the Slide Show vie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K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B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D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M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0 (L)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6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C) Writing with accurate spelling of syllable constru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6 (D) Writing with accurate spelling of roots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7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A) Using regular and irregular plurals correc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B) Writing in complete sent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C) Using conjun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D) Using adjectives and adverbs appropri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E) Using prepositional phrases to elabora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F) Employing standard English usage in writing for audienc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G) Using verb tenses appropriately and consistent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H) Writing with increasing accuracy when using apostrophes in contrac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7 (I) Writing with increasing accuracy when using pronoun cas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19 (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(B) Responding constructively to others’ writing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6.19 (C) Evaluating how well own writing achieves purpose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.7 (D), 7.9 (E), 7.10 (B, L), 7.15 (C), 7.16 (B-D), 7.17 (A-I)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8.10 (B, L), 8.15 (C), 8.16 (B-D), 8.17 (A-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 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ading of independent materi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8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 Selecting various sources of rea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Reading for varied purpo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Read to tak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cognizing the distinguishing features of genr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investigator’s challenge quiz challenge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E, K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the text’s structure or progression of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swering different types and levels of questio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aking observ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EYWORDS: simile personification symbol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C, D, E, F, G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Monitoring comprehension and making mod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Describing mental im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the text’s structure or progression of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Determining a text’s main id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 Paraphrasing and summarizing text to work on id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1 (B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terpreting text ideas through various mean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3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ummarizing and organizing information from multiple sourc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A, C, F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express, discover, record, develop, reflect on ideas and problem sol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hoosing the appropriate form for own purpose for writ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 summary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L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ing text information in different sty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5 (C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riting to infor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6 (B-D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Capitalizing and punctuating correctly to clarify and enhance m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Writing with accurate spelling of syllable co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 Writing with accurate spelling of roo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7 (A-I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Using regular and irregular plurals correc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Writing in complete sent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 Using conj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) Using adjectives and adverbs appropri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) Using prepositional phrases to elabo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) Employing standard English usage in writing for audi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) Using verb tenses appropriately and consist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H) Writing with increasing accuracy when using apostrophes in contr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) Writing with increasing accuracy when using pronoun cas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B) Incorporate main and supporting ideas in verbal and written mess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descriptiv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9 (A-C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) Applying criteria to evaluate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) Responding constructively to others’ wri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) Evaluating how well own writing achieves purpos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4 (A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ing, organizing, or producing visuals to complement and exten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-Social Studies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22 (D) Create written and visual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language activ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KS: English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7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djustment of reading r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9 (E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ystematic study of word meaning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0 (B, D, M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tablishing and adjusting purposes for rea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scribing mental imag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sing study strategies to work on idea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12 (D)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erstanding and identifying literary term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WORDS: sim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DAB3-C664-4D3A-884A-770FB1BE7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503-D946-4842-8AD6-01637F88D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DAFF-10A4-4F1D-B8D6-DBE6CD4D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EBB5-D25B-414F-A3EA-62E98507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9E08-22F9-4190-81D2-C3A6E578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97C-6571-442F-A7B7-6E3B40A7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D36A-1B9C-40EA-B5C5-EF43D886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E529-3EC7-4281-9689-376FE705B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1B2-96BD-4DB3-A48D-5E51F322F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B2F-E2AA-4899-8555-28D3CD11F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C50-5340-4C62-895E-09598E2B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507-D4AE-4F6A-B21C-9931E8D7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2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3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4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5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6" marL="318960" indent="-31896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A6BB-455D-453A-8482-D80DB4C2DCAB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peer.tamu.edu/" TargetMode="Externa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image" Target="../media/image13.jpe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09480" y="1143000"/>
            <a:ext cx="7979040" cy="1703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09480" y="3124080"/>
            <a:ext cx="7925040" cy="26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ntegrated Middle School Curricul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Partnership for Environmental Education and Rural Health (PEER; </a:t>
            </a: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peer.tamu.edu</a:t>
            </a:r>
            <a:r>
              <a:rPr b="0" lang="en-US" sz="3200" spc="-1" strike="noStrike" u="sng">
                <a:solidFill>
                  <a:srgbClr val="ffff66"/>
                </a:solidFill>
                <a:uFillTx/>
                <a:latin typeface="Times New Roman"/>
              </a:rPr>
              <a:t>)                Texas A&amp;M Un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Demonstrate reading comprehensi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Use descriptive writing to describe an object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ffff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to others read their example of descriptive writing and create a visual from the reading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o You Recall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14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Read “The Jade Dragon” carefull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est your memory and understanding of important details by completing the Investigator’s Challenge Quiz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233520" cy="358128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1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anguage “Treasure Hunt”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648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Find examples of each of the following in the story: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imile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Personification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ymbolism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How do these improve the story?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5638680" y="1752480"/>
            <a:ext cx="2957760" cy="4560840"/>
          </a:xfrm>
          <a:prstGeom prst="rect">
            <a:avLst/>
          </a:prstGeom>
          <a:ln w="88920">
            <a:solidFill>
              <a:srgbClr val="85a59a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6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76440" y="35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ss the Story Along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At the end of the story, Jace’s mother calls him home. How will Jace explain his absence and the presence of the Jade Dragon to his mother?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Summarize the key points of the story as Jace might have told the story to his mother. Limit your summary to 250 word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marL="47520" indent="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Click here to find out more about summaries.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90720" y="5943600"/>
            <a:ext cx="70866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CH-82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Imagine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The Jade Dragon is described twice in the story. Find and re-read the two description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Now close your eyes and imagine how the dragon looks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Write a short descriptive essay that captures your mental image of the dragon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Click here to find out more about descriptive writing.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3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an you “see” the Jade Dragon?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Select a partner from among your classmat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Listen as your partner reads his or her description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Based only on this description, draw a picture of the Jade Dragon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Now switch roles and repeat the activity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0952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5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aint a Picture with Wor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Jace uses two similes to describe the weight of the dragon. 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ffff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ffff66"/>
                </a:solidFill>
                <a:latin typeface="Times New Roman"/>
              </a:rPr>
              <a:t>It’s as light as the souls it guards and as heavy as the burden of the centuries.”</a:t>
            </a:r>
            <a:endParaRPr b="0" lang="en-US" sz="28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Identify the two similes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Think of two new similes to add to the description of the dragon that you wrote.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924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95120" y="6491160"/>
            <a:ext cx="172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CH-84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7800" y="944280"/>
            <a:ext cx="846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his product is available through the cooperation of the following: 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480" y="4419720"/>
            <a:ext cx="2514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27840" y="1805040"/>
            <a:ext cx="2862000" cy="26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4920" y="30492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eachers, please click on this link to complete a short survey concerning this module: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ttp://peer.tamu.edu/forms/Curricula_Survey.shtml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80880" y="1981080"/>
            <a:ext cx="8570880" cy="4502160"/>
            <a:chOff x="380880" y="1981080"/>
            <a:chExt cx="8570880" cy="4502160"/>
          </a:xfrm>
        </p:grpSpPr>
        <p:pic>
          <p:nvPicPr>
            <p:cNvPr id="84" name="" descr=""/>
            <p:cNvPicPr/>
            <p:nvPr/>
          </p:nvPicPr>
          <p:blipFill>
            <a:blip r:embed="rId2"/>
            <a:stretch/>
          </p:blipFill>
          <p:spPr>
            <a:xfrm>
              <a:off x="380880" y="198612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" descr=""/>
            <p:cNvPicPr/>
            <p:nvPr/>
          </p:nvPicPr>
          <p:blipFill>
            <a:blip r:embed="rId3"/>
            <a:stretch/>
          </p:blipFill>
          <p:spPr>
            <a:xfrm>
              <a:off x="3808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4"/>
            <a:stretch/>
          </p:blipFill>
          <p:spPr>
            <a:xfrm>
              <a:off x="380880" y="5033880"/>
              <a:ext cx="1359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5"/>
            <a:stretch/>
          </p:blipFill>
          <p:spPr>
            <a:xfrm>
              <a:off x="4724280" y="3510000"/>
              <a:ext cx="1371600" cy="13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6"/>
            <a:stretch/>
          </p:blipFill>
          <p:spPr>
            <a:xfrm>
              <a:off x="4724280" y="5029200"/>
              <a:ext cx="1371600" cy="1371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" name=""/>
            <p:cNvGrpSpPr/>
            <p:nvPr/>
          </p:nvGrpSpPr>
          <p:grpSpPr>
            <a:xfrm>
              <a:off x="4643280" y="1981080"/>
              <a:ext cx="1546560" cy="1371600"/>
              <a:chOff x="4643280" y="1981080"/>
              <a:chExt cx="1546560" cy="1371600"/>
            </a:xfrm>
          </p:grpSpPr>
          <p:sp>
            <p:nvSpPr>
              <p:cNvPr id="90" name=""/>
              <p:cNvSpPr/>
              <p:nvPr/>
            </p:nvSpPr>
            <p:spPr>
              <a:xfrm>
                <a:off x="4724280" y="1981080"/>
                <a:ext cx="1371600" cy="1371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643280" y="2170080"/>
                <a:ext cx="1546560" cy="101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2" name=""/>
            <p:cNvSpPr/>
            <p:nvPr/>
          </p:nvSpPr>
          <p:spPr>
            <a:xfrm>
              <a:off x="1898640" y="2206800"/>
              <a:ext cx="2617920" cy="427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National Institute of Environmental Health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Scien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Partnership for Environmental Education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222960" y="2166840"/>
              <a:ext cx="2728800" cy="426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Department of Agricultural Education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The Center for Environmental and Rural Health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Times New Roman"/>
                </a:rPr>
                <a:t>College of Veterinary Medicine, Texas A&amp;M Univers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16:17:31Z</dcterms:created>
  <dc:creator>Texas A&amp;M Veterinary Medicine</dc:creator>
  <dc:description/>
  <dc:language>en-US</dc:language>
  <cp:lastModifiedBy>Jeremiah McNichols</cp:lastModifiedBy>
  <dcterms:modified xsi:type="dcterms:W3CDTF">2008-09-17T16:11:26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404000000000001023620</vt:lpwstr>
  </property>
</Properties>
</file>