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1BA91-27CC-4753-8F3C-4B4871C66C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C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Writing to express, discover, record, develop, reflect on ideas and problem sol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 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 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k students to provide some good adjectives that appeal to all five senses. You may want to show a few of these words first to help get them started. What do they hear? What do they smell? Give them the liberty to make up a story as they describe the pictu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6.17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adjectives and adverbs appropriat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E88C-A2DA-49D3-9375-80F49166F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26F5-0CE8-4DCA-86F0-108958818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89CB-5230-48FC-B381-AC1DDA4BD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5980-7BA9-4047-961B-32DBD2B0E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664A-7737-47E7-A0DC-7B7116772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267B-D7B3-4317-B631-649E60D10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90AD-4904-465B-84D3-AE5E4F09C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9FB7-9F38-4D65-90A9-5C9B27B29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8663-693A-44DF-84B8-414E5A6EB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3594-457B-4C83-B0CE-05CFF4FA7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40C6-8118-410B-834B-68A1AFE70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F678-8723-441C-ADCB-AD3C9B84A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1EF7C-E42D-4BFF-8571-DA7DB44D59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liff-in-Clouds1" descr=""/>
          <p:cNvPicPr/>
          <p:nvPr/>
        </p:nvPicPr>
        <p:blipFill>
          <a:blip r:embed="rId2"/>
          <a:stretch/>
        </p:blipFill>
        <p:spPr>
          <a:xfrm>
            <a:off x="206280" y="104760"/>
            <a:ext cx="8793360" cy="6642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nsory Detail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12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nsory details are details that appeal to any of the five sens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Good sensory details and words in a descriptive essay actually take a person to a place where they can see, hear, smell, and even feel the descrip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Smokey-Light1" descr=""/>
          <p:cNvPicPr/>
          <p:nvPr/>
        </p:nvPicPr>
        <p:blipFill>
          <a:blip r:embed="rId2"/>
          <a:stretch/>
        </p:blipFill>
        <p:spPr>
          <a:xfrm>
            <a:off x="206280" y="100080"/>
            <a:ext cx="8785440" cy="66466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Times New Roman"/>
              </a:rPr>
              <a:t>Describe This Pi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38080" y="1752480"/>
            <a:ext cx="266724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257800" y="1752480"/>
            <a:ext cx="2666880" cy="41911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3760" y="1752480"/>
            <a:ext cx="2514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h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l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es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lorio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Awak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Ear pierc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Warm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urre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837720" y="1752120"/>
            <a:ext cx="2590920" cy="41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Dam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Gent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Fragr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Cri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li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Brilli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imes New Roman"/>
              </a:rPr>
              <a:t>Sweet aro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20:08:20Z</dcterms:created>
  <dc:creator>ITMD</dc:creator>
  <dc:description/>
  <dc:language>en-US</dc:language>
  <cp:lastModifiedBy>Vince Hardy</cp:lastModifiedBy>
  <cp:lastPrinted>2002-01-04T15:57:18Z</cp:lastPrinted>
  <dcterms:modified xsi:type="dcterms:W3CDTF">2007-01-12T21:47:28Z</dcterms:modified>
  <cp:revision>29</cp:revision>
  <dc:subject/>
  <dc:title>Sensory Details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803000000000001023620</vt:lpwstr>
  </property>
</Properties>
</file>