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9 (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9 (A, B)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Construct Sample Spaces using Lists, Tree Diagrams, Combin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) Describe Relationship Between Probabilities of Two Ev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28FA1-ABF1-439F-B534-BD34CF1265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36FF-C3FE-4EF4-AFD7-CF81B157E4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B7808-6C82-4B39-8ED9-E884FDE91B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51BB1D-B02D-451F-977C-377A962A76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88CAC4-BE5A-4F8D-B319-A8C394340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873B3-D052-489D-B6D1-F7C6F04244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1BFB0-C31C-4BAE-8B95-829B36E7F8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BDC1A-267A-4840-9DFA-89A00177F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48957-A0E4-4779-91D0-83D31B87E0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6195-960E-4684-B88A-551B69A0D9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A1DDA-795B-4D71-91D3-265BCADD9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9CCD9-822F-45BF-9CC7-021CEDFFA4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DE8E-6F5D-4BBA-AB54-4802346B212D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Theoretical 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- the ratio of the number of ways the event can occur to the number of possible outcomes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P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(event)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ways the event can occur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umber of possible outcomes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590920" y="4191120"/>
            <a:ext cx="601956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DDC9C-DBDA-467A-9A5D-5B552B9C6ED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560" y="1213920"/>
            <a:ext cx="7770960" cy="42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	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Probability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 u="sng">
                <a:solidFill>
                  <a:srgbClr val="ebebeb"/>
                </a:solidFill>
                <a:uFillTx/>
                <a:latin typeface="Times New Roman"/>
              </a:rPr>
              <a:t>Occurre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0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Cannot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Not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/2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50-50 chance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3/4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Very likely to occur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1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Always occurs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C806B-F6C3-4D04-82F1-A7F27D7CDD1F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Probability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40080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438280" y="2438280"/>
            <a:ext cx="228600" cy="228600"/>
          </a:xfrm>
          <a:prstGeom prst="flowChartConnector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2514600"/>
            <a:ext cx="7315200" cy="0"/>
          </a:xfrm>
          <a:prstGeom prst="line">
            <a:avLst/>
          </a:prstGeom>
          <a:ln w="5724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annot      Not Likely     50-50      Very Likely      Certain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Occur        to Occur       Chance      to Occur         to Occu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P = 0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P = 1/4          P = 1/2           P = 3/4         P = 1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= 0 %      = 25%         = 50%         = 75%     = 100%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Note: The closer the probability is to 1, the more likely the event is to occur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0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55308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305920" y="3352680"/>
            <a:ext cx="0" cy="53352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295280"/>
            <a:ext cx="12189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828800" y="1295280"/>
            <a:ext cx="175248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1295280"/>
            <a:ext cx="121932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81480" y="1295280"/>
            <a:ext cx="198144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391520" y="1295280"/>
            <a:ext cx="1447560" cy="9907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1D7EF-2A0A-47B3-8DB5-570DDBD15F14}" type="slidenum">
              <a:t>3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9:50Z</dcterms:modified>
  <cp:revision>20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1000000000001023620</vt:lpwstr>
  </property>
</Properties>
</file>