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705040" y="456840"/>
            <a:ext cx="3733920" cy="2800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2666880" y="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705040" y="457200"/>
            <a:ext cx="3733920" cy="2800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 (B) Equivalent Forms of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 (B) Solve Fractions/Decimals using Addition/Subtr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FF481-35EA-44AA-BC86-0ED2141B46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3F6E4-ED97-46D2-9F8A-F2A8CC27A4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A59C6-9A8A-4991-B93F-781FF5D710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AF8A9-7394-434E-9311-0E2F01F0E5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C5B35-240E-4D7A-8906-53E3B448C0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0FE55-4FA6-4D18-9981-AF210718BE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FBDBE-B48E-4FE3-81B1-AB0B7E6BC7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CA47C-E3E5-4D04-9948-3E91569E6E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9438C-2D75-4EE5-B4C8-5432B3B087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FAABB-C8C4-4FCB-B850-6D9E63A62A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7AFEB-9A2D-42C8-B0BB-C8A1E82616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66003-434B-48E0-8D03-7E140A4AB9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C07B3-A77C-478C-82B8-B77700F5D8F3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0960" cy="42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Remember that a decimal is a fractional number : 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it is a part of something whole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Do the following steps to convert a fraction to a decimal.</a:t>
            </a:r>
            <a:endParaRPr b="0" lang="en-US" sz="36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DCAF8-93B2-431D-AB29-8E7A790BA3C0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7240" y="-3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Fractions to Decimals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1920" y="1295280"/>
            <a:ext cx="89917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   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For example: Convert 4/9 to a decimal.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1) Divide the numerator of the fraction by the denominator (e.g. 4 ÷ 9 = 0.44444). 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2) Then round the number to the 10th, 100th or 1000th place (e.g. 0.4, 0.44, 0.444).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1.00 (whole in blue)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                .4444  (part in green)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8120" y="5105520"/>
            <a:ext cx="2982960" cy="200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83805-F42C-4BAD-918B-2CC7157E8E5E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7:21Z</dcterms:modified>
  <cp:revision>208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e01000000000001023620</vt:lpwstr>
  </property>
</Properties>
</file>