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9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0040" y="690120"/>
            <a:ext cx="4599000" cy="344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739360"/>
            <a:ext cx="297180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2A01-7EE8-464E-BD62-C6E5DDA6E5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30400" y="690480"/>
            <a:ext cx="4599000" cy="34498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70400"/>
            <a:ext cx="5029200" cy="41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4 (A) Locate major historical and contemporary societies on globes and m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Math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Locate and name points on a coordinate plane using non- negative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A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 Locate and name points on a coordinate plane using ordered 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2DAD-C593-4718-A0F3-839B7CB5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FF12-9B4A-4DA0-AA4D-05B58F62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C94B-E462-4168-B76E-27E928D1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083F-B2C2-4AD4-A8A6-327C18ED2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83CF-3E97-4E83-BDE8-8D2A2FCF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019A7-593C-4CFF-AECB-DBC87C4C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A263-E66A-406C-863A-D68B262D9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861-84F5-4C19-992B-6076ACA50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0BAB-5764-4CB7-8CB0-236EF575E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BB5B-BEF8-4E47-963D-B4A15401D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B923-5924-4A09-B076-0FE8DB49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26B-D3BF-4A32-BCAA-DF06923FF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4C13-8C1E-4E8B-9625-C7D473DC40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hyperlink" Target="file:///../../../../5-Africa/PowerPoint%20Files/Africa_v%200.1/Appendices/Social%20Studies/AbsoLoca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131904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lcome to the “Absolute Location” Challenge Qui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39264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f you think you are up to the challenge, proceed to the next slid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2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23° N.L., 113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1447920" y="4419720"/>
            <a:ext cx="605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.  What city is located at 46° N.L., 12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7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turn to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304920" y="123840"/>
            <a:ext cx="85341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 The lat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S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63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 The longitude for the center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0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/>
          </p:cNvPr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1143000" y="609480"/>
            <a:ext cx="6858000" cy="3864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1181160" y="4952880"/>
            <a:ext cx="7715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 The absolute location of China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0° N.L. and 10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780160" y="1387440"/>
            <a:ext cx="925560" cy="655560"/>
          </a:xfrm>
          <a:custGeom>
            <a:avLst/>
            <a:gdLst/>
            <a:ahLst/>
            <a:rect l="l" t="t" r="r" b="b"/>
            <a:pathLst>
              <a:path w="583" h="413">
                <a:moveTo>
                  <a:pt x="107" y="50"/>
                </a:moveTo>
                <a:cubicBezTo>
                  <a:pt x="108" y="51"/>
                  <a:pt x="125" y="72"/>
                  <a:pt x="127" y="74"/>
                </a:cubicBezTo>
                <a:cubicBezTo>
                  <a:pt x="141" y="88"/>
                  <a:pt x="162" y="97"/>
                  <a:pt x="175" y="110"/>
                </a:cubicBezTo>
                <a:cubicBezTo>
                  <a:pt x="182" y="117"/>
                  <a:pt x="187" y="127"/>
                  <a:pt x="195" y="134"/>
                </a:cubicBezTo>
                <a:cubicBezTo>
                  <a:pt x="198" y="136"/>
                  <a:pt x="222" y="142"/>
                  <a:pt x="223" y="142"/>
                </a:cubicBezTo>
                <a:cubicBezTo>
                  <a:pt x="257" y="133"/>
                  <a:pt x="285" y="135"/>
                  <a:pt x="319" y="142"/>
                </a:cubicBezTo>
                <a:cubicBezTo>
                  <a:pt x="335" y="140"/>
                  <a:pt x="354" y="144"/>
                  <a:pt x="367" y="134"/>
                </a:cubicBezTo>
                <a:cubicBezTo>
                  <a:pt x="387" y="118"/>
                  <a:pt x="363" y="114"/>
                  <a:pt x="395" y="106"/>
                </a:cubicBezTo>
                <a:cubicBezTo>
                  <a:pt x="407" y="94"/>
                  <a:pt x="418" y="94"/>
                  <a:pt x="423" y="78"/>
                </a:cubicBezTo>
                <a:cubicBezTo>
                  <a:pt x="407" y="68"/>
                  <a:pt x="399" y="74"/>
                  <a:pt x="379" y="70"/>
                </a:cubicBezTo>
                <a:cubicBezTo>
                  <a:pt x="373" y="52"/>
                  <a:pt x="385" y="49"/>
                  <a:pt x="395" y="34"/>
                </a:cubicBezTo>
                <a:cubicBezTo>
                  <a:pt x="385" y="5"/>
                  <a:pt x="380" y="15"/>
                  <a:pt x="399" y="2"/>
                </a:cubicBezTo>
                <a:cubicBezTo>
                  <a:pt x="403" y="3"/>
                  <a:pt x="407" y="6"/>
                  <a:pt x="411" y="6"/>
                </a:cubicBezTo>
                <a:cubicBezTo>
                  <a:pt x="415" y="6"/>
                  <a:pt x="419" y="0"/>
                  <a:pt x="423" y="2"/>
                </a:cubicBezTo>
                <a:cubicBezTo>
                  <a:pt x="427" y="4"/>
                  <a:pt x="428" y="10"/>
                  <a:pt x="431" y="14"/>
                </a:cubicBezTo>
                <a:cubicBezTo>
                  <a:pt x="449" y="36"/>
                  <a:pt x="435" y="19"/>
                  <a:pt x="455" y="30"/>
                </a:cubicBezTo>
                <a:cubicBezTo>
                  <a:pt x="455" y="30"/>
                  <a:pt x="485" y="50"/>
                  <a:pt x="491" y="54"/>
                </a:cubicBezTo>
                <a:cubicBezTo>
                  <a:pt x="495" y="57"/>
                  <a:pt x="503" y="62"/>
                  <a:pt x="503" y="62"/>
                </a:cubicBezTo>
                <a:cubicBezTo>
                  <a:pt x="521" y="56"/>
                  <a:pt x="526" y="65"/>
                  <a:pt x="539" y="78"/>
                </a:cubicBezTo>
                <a:cubicBezTo>
                  <a:pt x="554" y="74"/>
                  <a:pt x="570" y="60"/>
                  <a:pt x="563" y="82"/>
                </a:cubicBezTo>
                <a:cubicBezTo>
                  <a:pt x="583" y="113"/>
                  <a:pt x="564" y="76"/>
                  <a:pt x="567" y="106"/>
                </a:cubicBezTo>
                <a:cubicBezTo>
                  <a:pt x="568" y="114"/>
                  <a:pt x="575" y="130"/>
                  <a:pt x="575" y="130"/>
                </a:cubicBezTo>
                <a:cubicBezTo>
                  <a:pt x="549" y="139"/>
                  <a:pt x="535" y="146"/>
                  <a:pt x="519" y="170"/>
                </a:cubicBezTo>
                <a:cubicBezTo>
                  <a:pt x="490" y="160"/>
                  <a:pt x="503" y="160"/>
                  <a:pt x="479" y="166"/>
                </a:cubicBezTo>
                <a:cubicBezTo>
                  <a:pt x="466" y="179"/>
                  <a:pt x="433" y="193"/>
                  <a:pt x="471" y="206"/>
                </a:cubicBezTo>
                <a:cubicBezTo>
                  <a:pt x="500" y="202"/>
                  <a:pt x="513" y="197"/>
                  <a:pt x="503" y="226"/>
                </a:cubicBezTo>
                <a:cubicBezTo>
                  <a:pt x="507" y="245"/>
                  <a:pt x="526" y="275"/>
                  <a:pt x="543" y="286"/>
                </a:cubicBezTo>
                <a:cubicBezTo>
                  <a:pt x="550" y="308"/>
                  <a:pt x="564" y="318"/>
                  <a:pt x="539" y="334"/>
                </a:cubicBezTo>
                <a:cubicBezTo>
                  <a:pt x="536" y="343"/>
                  <a:pt x="536" y="354"/>
                  <a:pt x="531" y="362"/>
                </a:cubicBezTo>
                <a:cubicBezTo>
                  <a:pt x="519" y="382"/>
                  <a:pt x="488" y="382"/>
                  <a:pt x="471" y="394"/>
                </a:cubicBezTo>
                <a:cubicBezTo>
                  <a:pt x="460" y="401"/>
                  <a:pt x="435" y="410"/>
                  <a:pt x="435" y="410"/>
                </a:cubicBezTo>
                <a:cubicBezTo>
                  <a:pt x="389" y="402"/>
                  <a:pt x="427" y="413"/>
                  <a:pt x="407" y="382"/>
                </a:cubicBezTo>
                <a:cubicBezTo>
                  <a:pt x="374" y="393"/>
                  <a:pt x="391" y="389"/>
                  <a:pt x="355" y="394"/>
                </a:cubicBezTo>
                <a:cubicBezTo>
                  <a:pt x="351" y="395"/>
                  <a:pt x="347" y="400"/>
                  <a:pt x="343" y="398"/>
                </a:cubicBezTo>
                <a:cubicBezTo>
                  <a:pt x="339" y="396"/>
                  <a:pt x="339" y="389"/>
                  <a:pt x="335" y="386"/>
                </a:cubicBezTo>
                <a:cubicBezTo>
                  <a:pt x="328" y="380"/>
                  <a:pt x="318" y="379"/>
                  <a:pt x="311" y="374"/>
                </a:cubicBezTo>
                <a:cubicBezTo>
                  <a:pt x="304" y="352"/>
                  <a:pt x="311" y="326"/>
                  <a:pt x="287" y="318"/>
                </a:cubicBezTo>
                <a:cubicBezTo>
                  <a:pt x="264" y="323"/>
                  <a:pt x="219" y="330"/>
                  <a:pt x="219" y="330"/>
                </a:cubicBezTo>
                <a:cubicBezTo>
                  <a:pt x="197" y="323"/>
                  <a:pt x="177" y="332"/>
                  <a:pt x="155" y="326"/>
                </a:cubicBezTo>
                <a:cubicBezTo>
                  <a:pt x="151" y="323"/>
                  <a:pt x="148" y="319"/>
                  <a:pt x="143" y="318"/>
                </a:cubicBezTo>
                <a:cubicBezTo>
                  <a:pt x="139" y="317"/>
                  <a:pt x="135" y="324"/>
                  <a:pt x="131" y="322"/>
                </a:cubicBezTo>
                <a:cubicBezTo>
                  <a:pt x="127" y="320"/>
                  <a:pt x="127" y="313"/>
                  <a:pt x="123" y="310"/>
                </a:cubicBezTo>
                <a:cubicBezTo>
                  <a:pt x="116" y="304"/>
                  <a:pt x="106" y="303"/>
                  <a:pt x="99" y="298"/>
                </a:cubicBezTo>
                <a:cubicBezTo>
                  <a:pt x="93" y="280"/>
                  <a:pt x="85" y="288"/>
                  <a:pt x="79" y="270"/>
                </a:cubicBezTo>
                <a:cubicBezTo>
                  <a:pt x="82" y="266"/>
                  <a:pt x="89" y="262"/>
                  <a:pt x="87" y="258"/>
                </a:cubicBezTo>
                <a:cubicBezTo>
                  <a:pt x="82" y="250"/>
                  <a:pt x="63" y="242"/>
                  <a:pt x="63" y="242"/>
                </a:cubicBezTo>
                <a:cubicBezTo>
                  <a:pt x="55" y="230"/>
                  <a:pt x="47" y="218"/>
                  <a:pt x="39" y="206"/>
                </a:cubicBezTo>
                <a:cubicBezTo>
                  <a:pt x="34" y="198"/>
                  <a:pt x="15" y="190"/>
                  <a:pt x="15" y="190"/>
                </a:cubicBezTo>
                <a:cubicBezTo>
                  <a:pt x="0" y="167"/>
                  <a:pt x="11" y="166"/>
                  <a:pt x="35" y="158"/>
                </a:cubicBezTo>
                <a:cubicBezTo>
                  <a:pt x="43" y="155"/>
                  <a:pt x="51" y="149"/>
                  <a:pt x="59" y="146"/>
                </a:cubicBezTo>
                <a:cubicBezTo>
                  <a:pt x="49" y="116"/>
                  <a:pt x="40" y="125"/>
                  <a:pt x="67" y="98"/>
                </a:cubicBezTo>
                <a:cubicBezTo>
                  <a:pt x="75" y="75"/>
                  <a:pt x="84" y="74"/>
                  <a:pt x="103" y="62"/>
                </a:cubicBezTo>
                <a:cubicBezTo>
                  <a:pt x="104" y="58"/>
                  <a:pt x="107" y="50"/>
                  <a:pt x="107" y="50"/>
                </a:cubicBezTo>
                <a:close/>
              </a:path>
            </a:pathLst>
          </a:custGeom>
          <a:noFill/>
          <a:ln w="255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125280"/>
            <a:ext cx="853416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986520" y="6286680"/>
            <a:ext cx="19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lick here for hel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6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8320" y="4952880"/>
            <a:ext cx="527220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The lat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9° N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38320" y="4952880"/>
            <a:ext cx="60501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longitude for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7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W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23920" y="77760"/>
            <a:ext cx="7905960" cy="41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  10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120°E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4952880"/>
            <a:ext cx="590076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The absolute location of Chongqing i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06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 and 120° E.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0° N.L. and 77° W.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743120" y="457200"/>
            <a:ext cx="5715000" cy="404640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2666880" y="53658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2670120" y="578160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673360" y="6238800"/>
            <a:ext cx="264960" cy="33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1446480" y="4419720"/>
            <a:ext cx="57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7.  What city is located at 39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° N.L., 75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0400" y="76320"/>
            <a:ext cx="6387840" cy="36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80°E                        100° E                 120°E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40°N</a:t>
            </a: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20°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52480" y="415800"/>
            <a:ext cx="5143680" cy="36226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448280" y="4419720"/>
            <a:ext cx="589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8.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city is located at 39° N.L., 116° E.L.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971800" y="4876920"/>
            <a:ext cx="5486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arbin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as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ij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uangzh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7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74800" y="6257880"/>
            <a:ext cx="265320" cy="328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2666880" y="494028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2670120" y="5381640"/>
            <a:ext cx="265320" cy="3301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6"/>
          <a:stretch/>
        </p:blipFill>
        <p:spPr>
          <a:xfrm>
            <a:off x="2673360" y="5813280"/>
            <a:ext cx="264960" cy="3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7:50:52Z</dcterms:created>
  <dc:creator>vtpp</dc:creator>
  <dc:description/>
  <dc:language>en-US</dc:language>
  <cp:lastModifiedBy>ljlab</cp:lastModifiedBy>
  <cp:lastPrinted>2001-09-05T16:54:47Z</cp:lastPrinted>
  <dcterms:modified xsi:type="dcterms:W3CDTF">2007-10-24T15:48:51Z</dcterms:modified>
  <cp:revision>74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8000000000001023620</vt:lpwstr>
  </property>
</Properties>
</file>