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.)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66688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1AE9-105F-43E8-A056-17CB65B731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97899-BCCB-4A7D-85FC-A5844A67E7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56CEA-0390-4328-A5F3-C6437AC9A1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C0DD3-B8C5-4C0B-9D68-4156DC9C20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99B4A-AEDB-45BF-849D-C3AC4D2592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FEFDA-AC45-44FE-B6B9-49EA55D504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BADE5-0300-4A64-901F-489BDF1877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CE46-CE1E-49CF-8CA2-B8A023624C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37D4-B754-4320-90FA-9CB4A9573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7062F-4D70-47B1-B492-C3C18368DE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A546C-328D-42D7-B41D-ED0C0D5219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F02C9-C84F-4E8D-B0E0-5E395A0535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1549D-41B8-48F2-ACC6-D18D9C576E9A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width, height, and length of a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box or rectangular prism can b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fferent. If all three are the same,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n the box is a cub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volume, or the amount of space inside a box, is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 × 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he surface area of a box is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(h × w) + 2(h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+ 2(w ×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A shoe box is a rectangular prism with a volume of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ebebeb"/>
                </a:solidFill>
                <a:latin typeface="Times New Roman"/>
              </a:rPr>
              <a:t>6287 cm</a:t>
            </a:r>
            <a:r>
              <a:rPr b="0" i="1" lang="en-US" sz="28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486400" y="990720"/>
            <a:ext cx="3200400" cy="17668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57200" y="990720"/>
            <a:ext cx="464832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105520" y="129528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848720" y="2286000"/>
            <a:ext cx="15228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2971800"/>
            <a:ext cx="8153640" cy="29718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136BC-7CE2-4FA1-8A01-C32A38A4B348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Rectangular Prism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jewelry box by using the equation for a rectangular prism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Jewelry Box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Length = 3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Width = 18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4 x 30 x 18  =  7,56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276720" y="2514600"/>
            <a:ext cx="2479680" cy="2354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6C886-9123-4580-BA8B-2E5A3911383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079960" y="974880"/>
            <a:ext cx="3225960" cy="20732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or the distanc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rom the center of a sphere to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, is the defining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property of a spher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sphere that passes    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 sphere is 4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enclosed by a sphere is 4/3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=3.1415926535.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buClr>
                <a:srgbClr val="ebebeb"/>
              </a:buClr>
              <a:buFont typeface="Times New Roman"/>
              <a:buChar char="•"/>
              <a:tabLst>
                <a:tab algn="l" pos="452520"/>
                <a:tab algn="l" pos="905040"/>
                <a:tab algn="l" pos="1357200"/>
                <a:tab algn="l" pos="1809720"/>
                <a:tab algn="l" pos="2262240"/>
                <a:tab algn="l" pos="2714760"/>
                <a:tab algn="l" pos="3166920"/>
                <a:tab algn="l" pos="3619440"/>
                <a:tab algn="l" pos="4071960"/>
                <a:tab algn="l" pos="4524480"/>
                <a:tab algn="l" pos="4976640"/>
                <a:tab algn="l" pos="5429160"/>
                <a:tab algn="l" pos="5881680"/>
                <a:tab algn="l" pos="6334200"/>
                <a:tab algn="l" pos="6786720"/>
                <a:tab algn="l" pos="7238880"/>
                <a:tab algn="l" pos="7691400"/>
                <a:tab algn="l" pos="8143920"/>
                <a:tab algn="l" pos="8596440"/>
                <a:tab algn="l" pos="90486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basketball has a volume of 7700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520" y="3276720"/>
            <a:ext cx="8076960" cy="28191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990720"/>
            <a:ext cx="3809880" cy="16002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343400" y="1295280"/>
            <a:ext cx="152388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D8128-CC40-4036-A121-34DB8628587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Spher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076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Find the volume of this basketball by using the equation for a sphere: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imensions of the Basketball: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1.9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4/3 x 3.14 x 11.9 x 11.9 x 11.9  =  7,05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505320" y="2514600"/>
            <a:ext cx="2193840" cy="221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CC07F-9B97-463D-8CC1-CFFBC57B88EC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352680" y="914400"/>
            <a:ext cx="2737080" cy="1542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172200" y="609480"/>
            <a:ext cx="2743200" cy="19051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914400"/>
            <a:ext cx="27432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13320"/>
            <a:ext cx="7848720" cy="271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   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800"/>
            </a:br>
            <a:br>
              <a:rPr sz="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radius, r, is the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a cone to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its edge.</a:t>
            </a:r>
            <a:br>
              <a:rPr sz="2000"/>
            </a:b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576360"/>
            <a:ext cx="876312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height, h, is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istance from the tip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f the cone to th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enter of the base of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                                                       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con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diameter, or the distance across the base of the cone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rough the center, is 2r (twice the radius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surface area of a cone is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   h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+ 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+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he volume of a cone is 1/3 </a:t>
            </a:r>
            <a:r>
              <a:rPr b="0" lang="en-US" sz="24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400" spc="-1" strike="noStrike" baseline="30000">
                <a:solidFill>
                  <a:srgbClr val="ebebeb"/>
                </a:solidFill>
                <a:latin typeface="Times New Roman"/>
              </a:rPr>
              <a:t> 2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h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Note that </a:t>
            </a:r>
            <a:r>
              <a:rPr b="0" lang="en-US" sz="25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=3.1415926535! But you can round to the 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lvl="1" marL="7444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ebebeb"/>
                </a:solidFill>
                <a:latin typeface="Times New Roman"/>
              </a:rPr>
              <a:t>hundredths place and use 3.14.</a:t>
            </a:r>
            <a:endParaRPr b="0" lang="en-US" sz="25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An ice cream cone is a cone with a volume of 180cm</a:t>
            </a:r>
            <a:r>
              <a:rPr b="0" i="1" lang="en-US" sz="24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00400" y="1143000"/>
            <a:ext cx="685800" cy="30492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715000" y="1295280"/>
            <a:ext cx="457200" cy="22860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960" y="342900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bebeb"/>
                </a:solidFill>
                <a:latin typeface="Times New Roman"/>
              </a:rPr>
              <a:t>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24280" y="4114800"/>
            <a:ext cx="81000" cy="763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800600" y="3885840"/>
            <a:ext cx="81000" cy="304920"/>
          </a:xfrm>
          <a:prstGeom prst="line">
            <a:avLst/>
          </a:prstGeom>
          <a:ln w="22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2666880"/>
            <a:ext cx="8076960" cy="33530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9C464-030E-470B-9AA4-3F4F5D984AB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one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120" y="9903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ice cream cone by using the equation for a cone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Ice Cream Cone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3.5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 = 14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1/3 x 3.14 x 3.5 x 3.5 x 14  =  179.5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962520" y="2286000"/>
            <a:ext cx="1074600" cy="286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CDAE0-4AEE-44D5-BBFB-2A127A643E0A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505320" y="914400"/>
            <a:ext cx="2577960" cy="1477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8377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Geometry</a:t>
            </a:r>
            <a:br>
              <a:rPr sz="48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If your cylinder is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The radius, r, is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standing upright, you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distance from the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might call the “length”,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center of a cylinder </a:t>
            </a:r>
            <a:br>
              <a:rPr sz="2400"/>
            </a:b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1" i="1" lang="en-US" sz="27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,  a "height" instead.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700" spc="-1" strike="noStrike">
                <a:solidFill>
                  <a:srgbClr val="ebebeb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to its edge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160" y="2666880"/>
            <a:ext cx="79246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diameter, or the distance across a cylinder that passes through the center point, is 2r (twice the radius)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surface area of an open ended cylinder (as shown)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If the cylinder has caps on the ends, then the surface area is 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 +2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 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The volume of a cylinder is </a:t>
            </a:r>
            <a:r>
              <a:rPr b="0" lang="en-US" sz="2600" spc="-1" strike="noStrike">
                <a:solidFill>
                  <a:srgbClr val="ebebeb"/>
                </a:solidFill>
                <a:latin typeface="Symbol"/>
                <a:ea typeface="Symbol"/>
              </a:rPr>
              <a:t>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r</a:t>
            </a:r>
            <a:r>
              <a:rPr b="0" lang="en-US" sz="2600" spc="-1" strike="noStrike" baseline="30000">
                <a:solidFill>
                  <a:srgbClr val="ebebeb"/>
                </a:solidFill>
                <a:latin typeface="Times New Roman"/>
              </a:rPr>
              <a:t>2 </a:t>
            </a:r>
            <a:r>
              <a:rPr b="1" i="1" lang="en-US" sz="2800" spc="-1" strike="noStrike">
                <a:solidFill>
                  <a:srgbClr val="ebebeb"/>
                </a:solidFill>
                <a:latin typeface="Times New Roman"/>
              </a:rPr>
              <a:t>l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ebebeb"/>
                </a:solidFill>
                <a:latin typeface="Times New Roman"/>
              </a:rPr>
              <a:t>A soda can has a volume of 335 cm</a:t>
            </a:r>
            <a:r>
              <a:rPr b="0" i="1" lang="en-US" sz="2600" spc="-1" strike="noStrike" baseline="30000">
                <a:solidFill>
                  <a:srgbClr val="ebebeb"/>
                </a:solidFill>
                <a:latin typeface="Times New Roman"/>
              </a:rPr>
              <a:t>3 </a:t>
            </a:r>
            <a:r>
              <a:rPr b="0" lang="en-US" sz="2600" spc="-1" strike="noStrike">
                <a:solidFill>
                  <a:srgbClr val="ebebeb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1371600"/>
            <a:ext cx="914400" cy="38088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5791320" y="1294920"/>
            <a:ext cx="457200" cy="381240"/>
          </a:xfrm>
          <a:prstGeom prst="line">
            <a:avLst/>
          </a:prstGeom>
          <a:ln w="28440">
            <a:solidFill>
              <a:srgbClr val="ff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1676520"/>
            <a:ext cx="76320" cy="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762120"/>
            <a:ext cx="297180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762120"/>
            <a:ext cx="2590560" cy="15238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2666880"/>
            <a:ext cx="8153280" cy="350532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C6373-FD74-4ED1-8A81-FF4BBE645982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bebeb"/>
                </a:solidFill>
                <a:latin typeface="Times New Roman"/>
              </a:rPr>
              <a:t>Cylinder</a:t>
            </a:r>
            <a:endParaRPr b="0" lang="en-US" sz="4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7240" y="1066680"/>
            <a:ext cx="777096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3700" spc="-1" strike="noStrike">
                <a:solidFill>
                  <a:srgbClr val="ebebeb"/>
                </a:solidFill>
                <a:latin typeface="Times New Roman"/>
              </a:rPr>
              <a:t>Find the volume of this spray can by using the equation for a cylinder:</a:t>
            </a:r>
            <a:endParaRPr b="0" lang="en-US" sz="37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Dimensions of the Spray Can: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 = 10 cm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 = 50 cm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bebeb"/>
              </a:solidFill>
              <a:latin typeface="Times New Roman"/>
            </a:endParaRPr>
          </a:p>
          <a:p>
            <a:pPr marL="33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(ANSWER: 3.14 x 10 x 10 x 50  =  15,700 cm</a:t>
            </a:r>
            <a:r>
              <a:rPr b="0" lang="en-US" sz="1600" spc="-1" strike="noStrike" baseline="30000">
                <a:solidFill>
                  <a:srgbClr val="ebebeb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114800" y="2362320"/>
            <a:ext cx="949320" cy="284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D7F9-3444-4775-95ED-456F2436DD7B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cp:keywords/>
  <dc:language>en-US</dc:language>
  <cp:lastModifiedBy>Vince Hardy</cp:lastModifiedBy>
  <cp:lastPrinted>2001-01-16T19:55:21Z</cp:lastPrinted>
  <dcterms:modified xsi:type="dcterms:W3CDTF">2007-05-03T16:18:47Z</dcterms:modified>
  <cp:revision>241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a02000000000001023620</vt:lpwstr>
  </property>
</Properties>
</file>