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AFBE9-8985-4A78-9973-8304D3E09D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853920" y="0"/>
            <a:ext cx="4978440" cy="37339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68CD-06AC-466D-ACD4-03800766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4810-6F59-4E0A-8070-24C97B4A8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FB988-A32F-49DB-9229-6BCDF23B1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040F-9B7F-4C89-80E5-966469C5D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928E-3C6E-4629-9DBF-40517D4C3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29DD-973A-430E-A85F-0334EAB8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5BB1-EC7A-46CB-9847-E2FEF903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521-D5A7-48B9-9495-232ED767C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29EA-005F-4A61-9518-62FDBE42F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90BA-BB9A-4F34-99E0-642341D2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416A-CB5F-421D-9658-DFF51B55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A18-A140-464A-B8CC-1D210CD1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9117-486C-437D-9993-CC63024E6D70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Weather is the state of the atmosphere at a given place and time.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right now the temperature in New Jersey is 56º F and it is snowing.  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Just as weather differs from day to day, climate differs from place to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50:41Z</dcterms:created>
  <dc:creator>ITMD</dc:creator>
  <dc:description/>
  <dc:language>en-US</dc:language>
  <cp:lastModifiedBy>ljlab</cp:lastModifiedBy>
  <dcterms:modified xsi:type="dcterms:W3CDTF">2003-09-11T17:23:21Z</dcterms:modified>
  <cp:revision>8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