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898200" y="619200"/>
            <a:ext cx="5062680" cy="3797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898560" y="619200"/>
            <a:ext cx="5062680" cy="379728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does not contain the full text of the TEKS.  It is intended to be a guide to, not a substitute for, the TEKS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53854-6B84-4E5C-9A8B-29390AA6AB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BFCEF-68AA-43AE-95B5-57CE3E2898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4E070-7FB1-4272-8BAC-E34C224920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D839C-1536-4460-AE4E-8DCC8CF81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F1E59C-DAD5-4A6B-8E16-61068DD3A8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49D13-E6E7-417C-B2D7-C3E15F4768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EB308-7810-407E-9319-F377E3B543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38150-85D1-4D74-80A7-53385FDB1A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0356D-D799-4FFA-A72D-631A4CEE54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2BA92-3821-4E77-BEA6-E35D6B30E6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34868-D5DA-459A-9469-B368F3F18E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14A7-5BAC-464E-A2AA-8360A9E2D2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CBCD0-1C0E-4E32-A425-A370CADBD124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Percent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87627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cimals can take you from fractions to percents because decimals are fractional number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Fraction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Decimal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Percen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(  6/8 =       6 ÷ 8 =          .75 =       .75 x 100 =     75%  )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hole=8                                 Whole=100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3138480"/>
            <a:ext cx="129564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34120" y="3138480"/>
            <a:ext cx="1295280" cy="0"/>
          </a:xfrm>
          <a:prstGeom prst="line">
            <a:avLst/>
          </a:prstGeom>
          <a:ln w="1908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051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80060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6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1932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2320" y="40528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 par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4343400"/>
            <a:ext cx="106668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553080" y="4038480"/>
            <a:ext cx="276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2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47242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75 part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5029200"/>
            <a:ext cx="457200" cy="0"/>
          </a:xfrm>
          <a:prstGeom prst="line">
            <a:avLst/>
          </a:prstGeom>
          <a:ln w="12600">
            <a:solidFill>
              <a:srgbClr val="99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4038480"/>
            <a:ext cx="441972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38480"/>
            <a:ext cx="4114800" cy="198144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Cutout25%25" descr=""/>
          <p:cNvPicPr/>
          <p:nvPr/>
        </p:nvPicPr>
        <p:blipFill>
          <a:blip r:embed="rId2"/>
          <a:stretch/>
        </p:blipFill>
        <p:spPr>
          <a:xfrm>
            <a:off x="762120" y="4267080"/>
            <a:ext cx="1211040" cy="1165320"/>
          </a:xfrm>
          <a:prstGeom prst="rect">
            <a:avLst/>
          </a:prstGeom>
          <a:ln w="0">
            <a:noFill/>
          </a:ln>
        </p:spPr>
      </p:pic>
      <p:pic>
        <p:nvPicPr>
          <p:cNvPr id="94" name="Cutout25%25" descr=""/>
          <p:cNvPicPr/>
          <p:nvPr/>
        </p:nvPicPr>
        <p:blipFill>
          <a:blip r:embed="rId3"/>
          <a:stretch/>
        </p:blipFill>
        <p:spPr>
          <a:xfrm>
            <a:off x="4960800" y="4267080"/>
            <a:ext cx="1211400" cy="116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FAD9-3EF7-44A6-BC81-45A181BD2E39}" type="slidenum">
              <a:t>1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40Z</dcterms:modified>
  <cp:revision>210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c01000000000001023620</vt:lpwstr>
  </property>
</Properties>
</file>