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C4F52-7DD2-4536-990A-E665D3CCFA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ing on the sensory details will take you to a description and an oral exercise for the class to brainsto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well organized description is very important. Explain more about how to describe an object or a scene in a well-organized mann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literary devices effectiv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the sound devices and figures of speech, have the students go through a descriptive paragraph in the story and take out these devices. How did it change the story? Is it as interesting now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literary devices effectiv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3068B-F4D5-4EEE-AD84-E18E1C527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7F02A-9EC1-4495-BF6F-D0596CCE7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02953-677E-417B-A04C-5ABA6002E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2FAB2-AE66-41E2-83D0-5AC0A7D62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E20F8-BFA0-4C79-869F-B5E561D7F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82B8C-3759-4EB2-A79F-9F84FC8B7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06D8E-4DF5-4BDA-8E90-D16877F60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DBA9E-95E1-4D8B-8900-554F97251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AC34A-C622-4600-A4B3-21CB99CF6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E03C6-5FB1-4ACB-A9F2-AB62C6AE2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DF385-F338-44D8-9CBA-1712FD8E0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F29D9-11C3-4C4C-A5FF-5368752E7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6CB57-0B9D-4E5F-A77F-FB4170D50E8A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SensDet.ppt" TargetMode="External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Descriptive Writing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ave you ever seen something so beautiful that words could not describe it?  Have you ever gone somewhere so enchanting that a picture could not capture it?  Was it a place in your own imagination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Roadway" descr=""/>
          <p:cNvPicPr/>
          <p:nvPr/>
        </p:nvPicPr>
        <p:blipFill>
          <a:blip r:embed="rId2"/>
          <a:stretch/>
        </p:blipFill>
        <p:spPr>
          <a:xfrm>
            <a:off x="990720" y="4114800"/>
            <a:ext cx="7108560" cy="14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Behold! The Power of Words!</a:t>
            </a:r>
            <a:br>
              <a:rPr sz="2000"/>
            </a:b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ebebeb"/>
                </a:solidFill>
                <a:latin typeface="Times New Roman"/>
              </a:rPr>
              <a:t>Good descriptive writing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allows the reader to see, hear, smell, taste and even feel what is being described.  It describes a particular person, place, or thing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 describes details that appeal to one or more of the five senses using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sensory word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ave fun!  Use good descriptive writing to paint a  vivid picture with precise and specific detail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Put It Into Practice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ink of something interesting to describe. Are there so many details to mention that you don’t know where to begin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rganizational charts can help organize your thoughts for descriptive writing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5" name="PutItIntoPractice" descr=""/>
          <p:cNvPicPr/>
          <p:nvPr/>
        </p:nvPicPr>
        <p:blipFill>
          <a:blip r:embed="rId2"/>
          <a:stretch/>
        </p:blipFill>
        <p:spPr>
          <a:xfrm>
            <a:off x="4876920" y="1752480"/>
            <a:ext cx="3725640" cy="442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Organizational Chart</a:t>
            </a:r>
            <a:br>
              <a:rPr sz="4400"/>
            </a:br>
            <a:br>
              <a:rPr sz="2000"/>
            </a:b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7" name="Senses" descr=""/>
          <p:cNvPicPr/>
          <p:nvPr/>
        </p:nvPicPr>
        <p:blipFill>
          <a:blip r:embed="rId1"/>
          <a:srcRect l="0" t="0" r="53" b="101"/>
          <a:stretch/>
        </p:blipFill>
        <p:spPr>
          <a:xfrm>
            <a:off x="914400" y="1523880"/>
            <a:ext cx="7391520" cy="47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Add Some Spice to Your Writing</a:t>
            </a:r>
            <a:br>
              <a:rPr sz="20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with Figurative Language</a:t>
            </a:r>
            <a:br>
              <a:rPr sz="3600"/>
            </a:b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imile – a comparison using “like” or “as”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Fly like a butterfly, sting like a be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Metaphor – a statement that compares two things without using like or a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My brother is a turtle. He is too slow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ersonification – gives human qualities to animals or object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The wind whispered in my ear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212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Add Some Spice to Your Writing </a:t>
            </a:r>
            <a:br>
              <a:rPr sz="36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with Sound Devices</a:t>
            </a:r>
            <a:br>
              <a:rPr sz="3600"/>
            </a:br>
            <a:br>
              <a:rPr sz="2000"/>
            </a:b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lliteration – repetition of the same consonant sound at the beginning of multiple words in a sentenc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The busy bees are buzzing about the garden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nomatopoeia – the use of words that imitate or suggest the sounds they mak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Clackety-clackety-clackety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Get It Together!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rganize your description. Use different types of organization to make your paper flow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patial order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Top to bottom, left to right, near to far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rder of importanc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List details in order of the most to the least important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1T01:47:30Z</dcterms:created>
  <dc:creator>Gina Balducci</dc:creator>
  <dc:description/>
  <dc:language>en-US</dc:language>
  <cp:lastModifiedBy>Vince Hardy</cp:lastModifiedBy>
  <dcterms:modified xsi:type="dcterms:W3CDTF">2007-01-12T21:47:12Z</dcterms:modified>
  <cp:revision>29</cp:revision>
  <dc:subject/>
  <dc:title>Descriptive Writin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8c01000000000001023620</vt:lpwstr>
  </property>
</Properties>
</file>