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0315-447C-4775-9A00-DC01CA511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7 (D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9 (E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atic study of word meaning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B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D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M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L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ing text information in different styl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2 (D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dentifying literary term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5 (C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infor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6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6 (C) Writing with accurate spelling of syllable constru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6 (D) Writing with accurate spelling of roo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7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A) Using regular and irregular plurals correct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B) Writing in complete sent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C) Using conjun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D) Using adjectives and adverbs appropri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E) Using prepositional phrases to elabo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F) Employing standard English usage in writing for audi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G) Using verb tenses appropriately and consistent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H) Writing with increasing accuracy when using apostrophes in contra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I) Writing with increasing accuracy when using pronoun c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9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criteria to evaluate wri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9(B) Responding constructively to others’ writ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9 (C) Evaluating how well own writing achieves purpos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24 (A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, organizing, or producing visuals to complement and extend meaning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7 (D), 7.9 (E), 7.10 (B, L), 7.15 (C), 7.16 (B-D), 7.17 (A-I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10 (B, L), 8.15 (C), 8.16 (B-D), 8.17 (A-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of independent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 Selecting various sources 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Reading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Read to tak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the distinguishing features of gen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investigator’s challenge quiz challen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E, K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the text’s structure or progression of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EYWORDS: simile personification sym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, D, E, F, G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Describing mental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Using the text’s structure or progression of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Determining a text’s mai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 Paraphrasing and summarizing text to work on id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ext ideas through various me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3 (E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izing and organizing information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, C, F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 Writing with accurate spelling of ro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-I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Using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Writing in complet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Using conj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Using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Using prepositional phrases to elab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Employing standard English usage in writing for aud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 Using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) Writing with increasing accuracy when using apostrophes in cont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) Writing with increasing accuracy when using pronoun c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summary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D, L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ing text information in different sty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 Writing with accurate spelling of ro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-I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Using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Writing in complet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Using conj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Using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Using prepositional phrases to elab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Employing standard English usage in writing for aud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 Using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) Writing with increasing accuracy when using apostrophes in cont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) Writing with increasing accuracy when using pronoun c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descrip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9 (A-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criteria to evaluat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Responding constructively to others’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 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, organizing, or producing visuals to complement and extend meanin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-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languag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E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atic study of word meanin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D, 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dentifying literary ter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si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FA7-1B30-48BC-87B7-045BB345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87E-79E9-4457-AB47-853E9613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7AD-E66F-4EE2-ACC8-DD7B7906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C16-6BD2-43A9-A7CE-D2427710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B5F-F916-434A-8EE8-928297C2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FE4-93C3-4979-AA83-8F887A8A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555-6779-491F-BB0B-E48A31A8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785-C9A6-4193-9C10-8E941584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BCD-6F70-4738-8D27-DBF521F5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9EB-7E2F-4E62-B573-6BF9FC14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EA1-C0A6-48DD-92E4-58134140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120-8633-4B74-B945-F1FB0589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E284-D3EF-42BF-A565-2CE53FC9C41D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emonstrate reading comprehens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descriptive writing to describe an objec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isten to others read their example of descriptive writing and create a visual from the reading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o You Recall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ad “The Jade Dragon” carefull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est your memory and understanding of important details by completing the Investigator’s Challenge Quiz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3233520" cy="35812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anguage “Treasure Hunt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nd examples of each of the following in the story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mil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ersonificatio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ymbolism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do these improve the story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638680" y="1752480"/>
            <a:ext cx="2957760" cy="45608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6440" y="35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ass the Story Alo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5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t the end of the story, Jace’s mother calls him home. How will Jace explain his absence and the presence of the Jade Dragon to his mother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ummarize the key points of the story as Jace might have told the story to his mother. Limit your summary to 250 word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here to find out more about summarie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59436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an you Imagine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Jade Dragon is described twice in the story. Find and re-read the two description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w close your eyes and imagine how the dragon look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rite a short descriptive essay that captures your mental image of the dragon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here to find out more about descriptive writing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an you “see” the Jade Drag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lect a partner from among your classmate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isten as your partner reads his or her description of the Jade Drag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Based only on this description, draw a picture of the Jade Drag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ow switch roles and repeat the activit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aint a Picture with Wor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Jace uses two similes to describe the weight of the dragon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’s as light as the souls it guards and as heavy as the burden of the centuries.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dentify the two simile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nk of two new similes to add to the description of the dragon that you wrot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17:31Z</dcterms:created>
  <dc:creator>Texas A&amp;M Veterinary Medicine</dc:creator>
  <dc:description/>
  <dc:language>en-US</dc:language>
  <cp:lastModifiedBy>Jeremiah McNichols</cp:lastModifiedBy>
  <dcterms:modified xsi:type="dcterms:W3CDTF">2008-09-17T16:11:26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4000000000001023620</vt:lpwstr>
  </property>
</Properties>
</file>