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3.gif" ContentType="image/gif"/>
  <Override PartName="/ppt/media/image21.jpeg" ContentType="image/jpeg"/>
  <Override PartName="/ppt/media/image16.png" ContentType="image/png"/>
  <Override PartName="/ppt/media/image19.gif" ContentType="image/gif"/>
  <Override PartName="/ppt/media/image1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18.jpeg" ContentType="image/jpeg"/>
  <Override PartName="/ppt/media/image12.png" ContentType="image/png"/>
  <Override PartName="/ppt/media/image17.png" ContentType="image/png"/>
  <Override PartName="/ppt/media/image15.png" ContentType="image/png"/>
  <Override PartName="/ppt/media/image14.jpeg" ContentType="image/jpeg"/>
  <Override PartName="/ppt/media/image2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A9151-78AA-4320-8D09-677E496B43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ma is confusing on this slide and needs to be fix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otine molecule has two rings of carbon and each ring has a nitrogen atom. The two diagrams show the structure in the two common ways that chemists describe molecules. On the right, black balls = carbon, white balls = hydrogen, blue balls = nitrogen. The three-dimensional diagram on the right helps to visualize how nicotine needs to find a place on cell membranes where it can fit, like a hand in a glove. Se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C796-2C3B-4EF6-9B25-57BFEC8F4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7156-7E91-4E40-96E8-6F44BD24A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B6CB-D131-4380-A60F-CBB666701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B793-7336-462C-857B-8B5016647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052E9-23E5-43AA-8433-E05E1AFC6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3D397-94E0-4336-889E-C5C6DE57A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DD00E-2308-455F-9FFD-45D32DA15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55E95-430C-4B1E-A4BD-BE028155D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1C774-1926-4BC1-90D1-A990315F2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FD4F5-4F26-4AB4-9B59-8A163B37F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9FEB2-148E-4CBF-9B9F-3261D84E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2F19-FD3F-41D0-B732-EA96F5060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93DF3-30BE-4236-BD30-76B19B6FA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520F5-CEF8-43C4-8761-599F9F72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9D026-966C-40F9-BCC9-FFEE50B15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E8A92-CF20-46B6-AA4F-68CFEF9A6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9FEF8-52FC-454A-847B-4BAAE8983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4000-035B-42A1-922E-FF43BB33F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76F2-564E-4512-91EC-CFBA669AE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7054-E4E8-4865-8AB5-860CAF085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F587-70F5-443C-B141-886FCE278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785A-8788-4873-B70A-04AF05805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A468-0E3B-4FBE-8B14-EF8622727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CDE6-CE3E-4D43-8818-C88A69012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7A6AB-03D9-4DCE-A2CB-694F19B3D22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033A7-DD93-4CFB-A758-49EA1444649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eeeee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hyperlink" Target="http://peer.tamu.edu/curriculum_modules/Cell_Biology/CellBiol/Proteins/whatweknow4.htm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3800" y="609480"/>
            <a:ext cx="738036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Tobacco and Nicotine Addiction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90720" y="6354720"/>
            <a:ext cx="71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apted from a presentation by George Sanchez, 4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year Biomedical Science major, Texas A&amp;M Universit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2209680" y="2209680"/>
            <a:ext cx="4648320" cy="33465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3048120" y="2895480"/>
            <a:ext cx="1218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2416320" y="2136600"/>
            <a:ext cx="3806640" cy="35784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79640" y="2282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to Smoking: </a:t>
            </a:r>
            <a:br>
              <a:rPr sz="4400"/>
            </a:b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 Global Problem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57200" y="1905120"/>
            <a:ext cx="2895480" cy="1371600"/>
            <a:chOff x="457200" y="1905120"/>
            <a:chExt cx="2895480" cy="1371600"/>
          </a:xfrm>
        </p:grpSpPr>
        <p:sp>
          <p:nvSpPr>
            <p:cNvPr id="363" name=""/>
            <p:cNvSpPr/>
            <p:nvPr/>
          </p:nvSpPr>
          <p:spPr>
            <a:xfrm flipH="1">
              <a:off x="532800" y="1905120"/>
              <a:ext cx="2819160" cy="137160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57200" y="2013120"/>
              <a:ext cx="2895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ne-third of the global adult population smokes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5181480" y="4266720"/>
            <a:ext cx="3657600" cy="1676520"/>
            <a:chOff x="5181480" y="4266720"/>
            <a:chExt cx="3657600" cy="1676520"/>
          </a:xfrm>
        </p:grpSpPr>
        <p:sp>
          <p:nvSpPr>
            <p:cNvPr id="366" name=""/>
            <p:cNvSpPr/>
            <p:nvPr/>
          </p:nvSpPr>
          <p:spPr>
            <a:xfrm flipV="1">
              <a:off x="5181480" y="4266360"/>
              <a:ext cx="3657600" cy="1676520"/>
            </a:xfrm>
            <a:prstGeom prst="wedgeRoundRectCallout">
              <a:avLst>
                <a:gd name="adj1" fmla="val -48004"/>
                <a:gd name="adj2" fmla="val 69314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181480" y="4343400"/>
              <a:ext cx="36576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Of those who smoke during adolescence and throughout life, one-half die from smoke-related diseases.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533520" y="4572000"/>
            <a:ext cx="2971800" cy="1371600"/>
            <a:chOff x="533520" y="4572000"/>
            <a:chExt cx="2971800" cy="1371600"/>
          </a:xfrm>
        </p:grpSpPr>
        <p:sp>
          <p:nvSpPr>
            <p:cNvPr id="369" name=""/>
            <p:cNvSpPr/>
            <p:nvPr/>
          </p:nvSpPr>
          <p:spPr>
            <a:xfrm flipH="1" flipV="1">
              <a:off x="609120" y="4572000"/>
              <a:ext cx="2819520" cy="1371600"/>
            </a:xfrm>
            <a:prstGeom prst="wedgeRoundRectCallout">
              <a:avLst>
                <a:gd name="adj1" fmla="val -43518"/>
                <a:gd name="adj2" fmla="val 66666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33520" y="4680000"/>
              <a:ext cx="29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moking causes one-third of deaths in men aged 35-69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562720" y="1905120"/>
            <a:ext cx="2971800" cy="1222920"/>
            <a:chOff x="5562720" y="1905120"/>
            <a:chExt cx="2971800" cy="1222920"/>
          </a:xfrm>
        </p:grpSpPr>
        <p:sp>
          <p:nvSpPr>
            <p:cNvPr id="372" name=""/>
            <p:cNvSpPr/>
            <p:nvPr/>
          </p:nvSpPr>
          <p:spPr>
            <a:xfrm>
              <a:off x="5562720" y="1905120"/>
              <a:ext cx="2971800" cy="121896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38680" y="1936800"/>
              <a:ext cx="27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t is one of few causes of mortality that is increasing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is Addictiv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191120" y="2133360"/>
            <a:ext cx="4572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80% of attempts to quit smoking fail within a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 the U.S., 70% of smokers say they would like to quit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5% are successful each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6" name="" descr="a smoker"/>
          <p:cNvPicPr/>
          <p:nvPr/>
        </p:nvPicPr>
        <p:blipFill>
          <a:blip r:embed="rId2"/>
          <a:srcRect l="0" t="0" r="0" b="-296"/>
          <a:stretch/>
        </p:blipFill>
        <p:spPr>
          <a:xfrm>
            <a:off x="533520" y="2057400"/>
            <a:ext cx="3276360" cy="34732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796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Kill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8080" y="3809880"/>
            <a:ext cx="795816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Normal Lung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Smoker’s Lung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e complex mixture called tobacco ‘tar’, and carbon monoxide, are mainly responsible for most of the diseases that are associated with the long-term use of tobacco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rcRect l="0" t="0" r="-17" b="272"/>
          <a:stretch/>
        </p:blipFill>
        <p:spPr>
          <a:xfrm>
            <a:off x="4876920" y="1295280"/>
            <a:ext cx="3581280" cy="24386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380" name="" descr=""/>
          <p:cNvPicPr/>
          <p:nvPr/>
        </p:nvPicPr>
        <p:blipFill>
          <a:blip r:embed="rId3"/>
          <a:srcRect l="0" t="0" r="-17" b="78"/>
          <a:stretch/>
        </p:blipFill>
        <p:spPr>
          <a:xfrm>
            <a:off x="533520" y="1295280"/>
            <a:ext cx="3733560" cy="2416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Nicotine Addictive Component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produces effects that are commonly seen with other addictive drugs such as amphetamines and cocaine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and self-administration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crease in movements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Reinforces place reference (learned associations – bars, restaurants, etc.)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tructure of Nicotin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20968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533520" y="2533680"/>
            <a:ext cx="4206600" cy="2800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86" name=""/>
          <p:cNvSpPr/>
          <p:nvPr/>
        </p:nvSpPr>
        <p:spPr>
          <a:xfrm>
            <a:off x="1676520" y="58672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hlinkClick r:id="rId3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o learn more about how molecules interact with protein “receptors” on cell membran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5181480" y="1905120"/>
            <a:ext cx="34466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Idea of Molecular Receptor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5639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Drugs bind to cell membran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Regions on membrane where this binding occurs are called molecular receptors or binding sit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Binding sites are proteins that are specific matches to the drug molecule (fit together like a key in  a lock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Effect of the drug is achieved by this binding (like the key and lock, think of it as opening a function in the cell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5791320" y="2590920"/>
            <a:ext cx="297180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Long-Term Use Leads to Cigarette Craving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4190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Long-term use increases the number of molecular receptors in brains of humans.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Increased number of receptors increases the “demand” for nicotine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When receptors are unoccupied by nicotine, they “complain” – “Where is our nicotine?”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4640400" y="1752480"/>
            <a:ext cx="404640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Why Do Smokers Crave Nicotine?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acts in nervous system circuits that release a “reward” chemical –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Brain learns to “like” the release of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When nicotine is withdrawn, the brain’s reward system signals the craving to restore nicotine level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for Nicotine 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high when nicotine is at low concentration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satisfied when nicotine levels are restored to levels to which nerve cells have become accustomed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erve cells learn that nicotine is normal, lack of nicotine is abnorma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Pattern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After a night of abstinence, dopamine concentration in brain is at its lowest level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First cigarette strongly activates dopamine release.  Greatest pleasure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olerance occurs quickly, because receptors adapt quickly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hroughout a day, episodes of cigarette smoking are separated by short periods of abstinence; nicotine levels drop and receptors “cry out for their nicotine fix.”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Method of Deliv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863960" y="17524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products include cigarettes, cigars, and pipe tobacco, which are smoked; snuff, which is inhaled into the nose; and chewing tobacco, which is chewed but</a:t>
            </a:r>
            <a:r>
              <a:rPr b="0" lang="en-US" sz="2400" spc="-1" strike="noStrike">
                <a:solidFill>
                  <a:srgbClr val="eeeeee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ot swallowed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Inhalation of tobacco smoke is the fastest and most efficient way yet discovered to deliver nicotine to the brain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2750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Process is Still a Myst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f an individual quits smoking for a few weeks, the number of nicotine receptors returns toward normal (like that of non smokers)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BUT …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can still exist even years after quitting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Long-term changes have occurred in neural circuits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Smokers remember the behaviors that were linked to sensory cues and reinforced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ink Before You Ac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3048120" y="1752480"/>
            <a:ext cx="2819160" cy="3505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404" name=""/>
          <p:cNvSpPr/>
          <p:nvPr/>
        </p:nvSpPr>
        <p:spPr>
          <a:xfrm>
            <a:off x="1143000" y="5562720"/>
            <a:ext cx="64771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moking is the leading cause of premature death!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378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History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rcRect l="0" t="0" r="-139" b="-27"/>
          <a:stretch/>
        </p:blipFill>
        <p:spPr>
          <a:xfrm>
            <a:off x="684360" y="2166840"/>
            <a:ext cx="3879720" cy="31654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935240" y="2209680"/>
            <a:ext cx="390348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was first used by the peoples of the pre-Columbian America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ative Americans apparently cultivated the plant and smoked it in pipes for medicinal and ceremonial purposes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Spreads to Europ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rcRect l="0" t="0" r="-109" b="143"/>
          <a:stretch/>
        </p:blipFill>
        <p:spPr>
          <a:xfrm>
            <a:off x="1595520" y="1450800"/>
            <a:ext cx="5790960" cy="142560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grpSp>
        <p:nvGrpSpPr>
          <p:cNvPr id="310" name=""/>
          <p:cNvGrpSpPr/>
          <p:nvPr/>
        </p:nvGrpSpPr>
        <p:grpSpPr>
          <a:xfrm>
            <a:off x="304920" y="3200400"/>
            <a:ext cx="8610480" cy="3204000"/>
            <a:chOff x="304920" y="3200400"/>
            <a:chExt cx="8610480" cy="3204000"/>
          </a:xfrm>
        </p:grpSpPr>
        <p:sp>
          <p:nvSpPr>
            <p:cNvPr id="311" name=""/>
            <p:cNvSpPr/>
            <p:nvPr/>
          </p:nvSpPr>
          <p:spPr>
            <a:xfrm>
              <a:off x="380880" y="4876560"/>
              <a:ext cx="830592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05120" y="4572000"/>
              <a:ext cx="0" cy="30456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04920" y="3200400"/>
              <a:ext cx="3276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0f0f0"/>
                  </a:solidFill>
                  <a:latin typeface="Times New Roman"/>
                </a:rPr>
                <a:t>Adventurers like Jean Nicot of France (where nicotine derives its name) popularize tobacco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990720" y="4800600"/>
              <a:ext cx="175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mid 1500’s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8620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7672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6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43200" y="5181480"/>
              <a:ext cx="228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Franc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3412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1972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Portugal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00100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70572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91320" y="521316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Spain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08660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Engl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2428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8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9588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9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9152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65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510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 the Colonie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rcRect l="0" t="0" r="0" b="-63"/>
          <a:stretch/>
        </p:blipFill>
        <p:spPr>
          <a:xfrm>
            <a:off x="708120" y="1979640"/>
            <a:ext cx="3787560" cy="37339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863960" y="182880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first successful commercial crop was cultivated in Virginia in 1612 by Englishman John Rolfe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Within seven years, it was the colony's </a:t>
            </a:r>
            <a:r>
              <a:rPr b="0" i="1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largest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 export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Over the next two centuries, the growth of tobacco as a cash crop fueled the demand in North America for slave labo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378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Early Discoveries of the Effects of Smoking:</a:t>
            </a:r>
            <a:br>
              <a:rPr sz="3600"/>
            </a:b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The 20</a:t>
            </a:r>
            <a:r>
              <a:rPr b="0" lang="en-US" sz="3600" spc="-1" strike="noStrike" baseline="30000">
                <a:solidFill>
                  <a:srgbClr val="eeeeee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 Century</a:t>
            </a:r>
            <a:endParaRPr b="0" lang="en-US" sz="36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30, researchers in Cologne, Germany, noticed that many cancer patients were 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Eight years later, Dr. Raymond Pearl of Johns Hopkins University reported that smokers do not live as long as non-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44, the American Cancer Society began to warn about possible ill effects of smoking, although it admitted that "no definite evidence exists" linking smoking and lung cance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Tobacco Industry Responded Swiftly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1640" y="2057400"/>
            <a:ext cx="4280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54 the major U.S. tobacco companies had formed the tobacco industry research council to counter the growing health concern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ass-marketing began for filtered and low-tar cigarettes that promised a "healthier" smoke (now we know smokers compensate by smoking more and inhaling longer)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914400" y="2133720"/>
            <a:ext cx="3086280" cy="37940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Next Big Blow to Tobacco Indust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863960" y="19810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1964,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urgeon General's Advisory Committee on Smoking and Health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put out a 387-page report stating that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cigarette smoking is causally related to lung cancer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65, Congress passed the Federal Cigarette Labeling and Advertising Act requiring the Surgeon General's warnings on all cigarette package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80880" y="2666880"/>
            <a:ext cx="4495680" cy="1600200"/>
            <a:chOff x="380880" y="2666880"/>
            <a:chExt cx="4495680" cy="1600200"/>
          </a:xfrm>
        </p:grpSpPr>
        <p:sp>
          <p:nvSpPr>
            <p:cNvPr id="338" name=""/>
            <p:cNvSpPr/>
            <p:nvPr/>
          </p:nvSpPr>
          <p:spPr>
            <a:xfrm>
              <a:off x="380880" y="2666880"/>
              <a:ext cx="4495680" cy="16002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3160" y="2895480"/>
              <a:ext cx="419112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URGEON GENERAL’S WARNING: Smoking Causes Lung Cancer, Heart Disease, Emphysema, And May Complicate Pregnancy.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5334120" y="1066680"/>
            <a:ext cx="358128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President Clinton announces Food and Drug Administration’s plan to regulate tobacco, especially sales and advertising aimed at mino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76520" y="1371600"/>
            <a:ext cx="281916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moking is banned on all interstate buses and all domestic airline flights lasting 6 hours or les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785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dustry on the Run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4394160"/>
            <a:ext cx="281952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All broadcast advertising was bann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" y="3813120"/>
            <a:ext cx="8001000" cy="0"/>
          </a:xfrm>
          <a:prstGeom prst="line">
            <a:avLst/>
          </a:prstGeom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95280" y="3813120"/>
            <a:ext cx="0" cy="6858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05520" y="3813120"/>
            <a:ext cx="0" cy="9874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736640" y="3473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195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7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72428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4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5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526104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8120" y="4727520"/>
            <a:ext cx="403848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ississippi files the first of 22 state lawsuits seeking to recoup millions of dollars from tobacco companies for smokers’ Medicaid bill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965160" y="2832120"/>
            <a:ext cx="685800" cy="6174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2666880" y="4114800"/>
            <a:ext cx="1211400" cy="3999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4808520" y="2717640"/>
            <a:ext cx="754200" cy="80028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5"/>
          <a:stretch/>
        </p:blipFill>
        <p:spPr>
          <a:xfrm>
            <a:off x="6934320" y="4140360"/>
            <a:ext cx="81108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19:27:21Z</dcterms:created>
  <dc:creator>Brian S. Davis</dc:creator>
  <dc:description/>
  <dc:language>en-US</dc:language>
  <cp:lastModifiedBy>Texas A&amp;M Veterinary Medicine</cp:lastModifiedBy>
  <dcterms:modified xsi:type="dcterms:W3CDTF">2004-10-29T20:51:58Z</dcterms:modified>
  <cp:revision>33</cp:revision>
  <dc:subject/>
  <dc:title>Tobacco and the Cellular Mechanisms of Nicotine Addi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a09000000000001023620</vt:lpwstr>
  </property>
</Properties>
</file>