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4CB8D-132F-4380-B04C-52A7591D9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Unlocking Langua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4C: The student is expected to: access how language, medium, and presentation contribute to the message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A: collaborate with other writers to compose, organize, and revise various types of texts. . .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A: offer observations, make connections, react, speculate, interpret, and raise questions in response to text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C: use multiple reference aids, including a thesaurus, a synonym finder, a dictionary, and software, to clarify meanings and usage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mplete subject is (B), the simple subject is “stat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Unlocking Langua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4C: The student is expected to: access how language, medium, and presentation contribute to the message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A: collaborate with other writers to compose, organize, and revise various types of texts. . .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A: offer observations, make connections, react, speculate, interpret, and raise questions in response to text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C: use multiple reference aids, including a thesaurus, a synonym finder, a dictionary, and software, to clarify meanings and usage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mplete predicate is (C), the simple predicate is “called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B) A rough, dry vo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) 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) Th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) H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2F6F-B3B4-44B6-8519-C89E76ED5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491F-B695-460F-B208-08BBEBFE2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CF7E-7E87-45EB-B196-A1650C5F8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AD4F-446D-41AF-A34F-3B39E84A4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9E6D-D204-4C5D-98F2-EFB59FEC7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473A-1F0D-4815-9A41-C0FE03A26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DEF5-F8DD-41FE-A2FA-18F8FF29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6DDE-44FC-4495-A094-23256CF6E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A63E-F99C-424E-9F4A-9C577BD6F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940C-A444-4ADA-B733-ED0C4ABF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315B-19CC-4202-A6AE-8B52AA3A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7398-1C19-4359-9188-5465C0FB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66843-8DC0-47A8-89CB-E351B02739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rove your writing and speech by understanding language construction and correct usa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e the Unlocking Language Quiz for “The Jade Dragon” to test your knowledge of languag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Choose the complete subject and underline the simple subject.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hongqing station was a madhouse of people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nds, and smells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adhouse of people, sounds, and smells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ongqing station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ion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s a madho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76920" y="3276720"/>
            <a:ext cx="2933640" cy="3076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143000" y="318276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1143000" y="382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1143000" y="4506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1143000" y="5173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Choose the complete predicate and underline the simple predic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hoarse voice called from within for them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ter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arse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ed from within for them to en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them to ent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143000" y="318276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143000" y="382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1143000" y="4506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1143000" y="5173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A hoarse voice is…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255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one that sounds like a hor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rough, dry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gentle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wboy tal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143000" y="19350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143000" y="2619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143000" y="3316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143000" y="40114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667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A good synonym for ajar i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00080"/>
            <a:ext cx="7772400" cy="255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o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029200" y="2590920"/>
            <a:ext cx="3097080" cy="3154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143000" y="194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1143000" y="2590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143000" y="3268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1143000" y="3935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following is a letter written to Jace by his grandfather. Correct the letter by identifying the error in each numbered sentence or phr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35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1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dearest Jace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2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I hope this letter find’s you in good health.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I miss you very much,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and I wish I could see you.  I have some tragic news from China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3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Have you heard of the Three Gorges Dam.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It is a new project t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provide China with hydroelectric power. (4) 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When the dam is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complete however the water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will flood the shrine of the Jade Dragon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This is a very unfortunate time for our family. What am I to do?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5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Sincerily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Grandfathe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8487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Fill in the first blank with the correct choice from the column on the left and the second blank with the correct choice from the column on the right.</a:t>
            </a:r>
            <a:br>
              <a:rPr sz="2400"/>
            </a:br>
            <a:br>
              <a:rPr sz="2400"/>
            </a:br>
            <a:r>
              <a:rPr b="0" lang="en-US" sz="1900" spc="-1" strike="noStrike">
                <a:solidFill>
                  <a:srgbClr val="ccccff"/>
                </a:solidFill>
                <a:latin typeface="Times New Roman"/>
              </a:rPr>
              <a:t>Jace and K.T. decided to take the train because ______ only had ten dollars.  K.T. was excited to ride the train, but Jace was too worried about _______ grandfather to be excited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711520" y="4038120"/>
            <a:ext cx="18460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08600" y="4043520"/>
            <a:ext cx="1846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Explor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the “Jade Dragon” again and highlight words that are unfamili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the vocabulary list (on the next slide) or a dictionary to help you understand the difficult wor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467480" y="4419720"/>
            <a:ext cx="1189080" cy="20574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5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pabilities - abilities that someone or something has the power to perfor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de - a hard, green, blue, or white stone from which ornaments are carved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irloom - a possession that has been handed down in a family for several generations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ail - not strong, physically weak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ulevard - a wide stre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467480" y="4419720"/>
            <a:ext cx="1189080" cy="20574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5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5T03:16:59Z</dcterms:created>
  <dc:creator>Gina Balducci</dc:creator>
  <dc:description/>
  <dc:language>en-US</dc:language>
  <cp:lastModifiedBy>Texas A&amp;M Veterinary Medicine</cp:lastModifiedBy>
  <dcterms:modified xsi:type="dcterms:W3CDTF">2007-10-09T19:19:40Z</dcterms:modified>
  <cp:revision>51</cp:revision>
  <dc:subject/>
  <dc:title>1. Choose the complete subject and underline the simple subject.                                     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405000000000001023620</vt:lpwstr>
  </property>
</Properties>
</file>