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CDF9-9166-4366-80ED-54D355139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D4EC-0759-4E73-A19C-0669A39E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1158-FCB8-4118-AC62-15182104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0F43-6E58-48D1-8EEB-6A709555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7090-23F2-452A-975D-88BD2D67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4F40-3A20-4741-8CB5-694A56C8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CFEF-CA82-41D3-A6DD-426675F6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B130-33C5-411C-B502-769331E5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49D2-4D6F-4C91-BF45-ECFC3EE2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2EA8-3031-47AF-9C3C-E544107A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CB99-7D1D-4259-BD50-CD42F3B4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8E64-7CF2-4F07-A370-0EC4AE48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178E-8A46-4A1C-A112-EDD460E5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9582-F67E-4C05-B4B4-BC796E8C5D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8080" y="58593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1600" y="28544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4840" y="34052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6280" y="404640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497052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1600" y="247968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4840" y="30369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6280" y="359568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4840" y="415440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54320" y="28512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05160" y="50166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0160" y="4665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3040" y="301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484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3040" y="411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0160" y="5103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0160" y="2568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3040" y="3462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4840" y="4008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0160" y="300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3040" y="3944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4840" y="487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5818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6280" y="46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379520" y="3017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380960" y="357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379520" y="41292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37628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37628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379520" y="34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37160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37952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7952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373040" y="344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8080" y="40021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379520" y="2895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373040" y="34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484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02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4840" y="510696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4840" y="2895480"/>
            <a:ext cx="374760" cy="47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8080" y="3446640"/>
            <a:ext cx="37440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379520" y="399888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378080" y="4551480"/>
            <a:ext cx="374400" cy="469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College of Veterinary Medicine</cp:lastModifiedBy>
  <cp:lastPrinted>2001-06-06T11:58:46Z</cp:lastPrinted>
  <dcterms:modified xsi:type="dcterms:W3CDTF">2007-11-19T18:34:42Z</dcterms:modified>
  <cp:revision>105</cp:revision>
  <dc:subject/>
  <dc:title>Traveler’s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5000000000001023620</vt:lpwstr>
  </property>
</Properties>
</file>