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AE06-F1FF-4E8F-B9E2-41226F56C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 (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 (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various sources of read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for varied purpo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text’s structure or progression of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a text’s mai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, 7.8 (B, C), 7.10 (B, F, I, K, M), 7.12 (F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, 8.8 (B, C), 8.10 (B, F, I, K, M), 8.12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vocabulary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various sources of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for varied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F, I, K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F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D) Identifying different points of view about an issue or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H, K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C, E, F, G, H, 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Producing research projects and reports in effective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Using compiled information and knowledge to raise addition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Presenting organized stat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D) Identifying different points of view about an issue or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suas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a text’s mai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I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B) Describe traits that define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Analyze how culture traits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F) Evaluate the consequences of improved communication among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mpare and contrast compare 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AE4-801C-455F-A86C-50C730F9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9B5-657B-4565-B1B4-1D3D51FD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E32-772F-4DBA-9DD3-DC266225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12C-3872-48F5-9439-23003020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635-A1CB-41BA-98A5-FD478CE6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55D-5B36-4EAB-863D-AF3C4B7F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6E9-C001-40EF-8E45-4201E0A1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1C3-5B3B-4E84-A74E-627F968E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3AB-4653-4D10-9013-71A89048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B78-099C-49A7-B70E-6EFB4A9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9BC-8C1F-41AD-9431-7BD1F618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B35-E3D8-4394-8DB5-9121526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9F65-5567-4627-BC54-7E5B2AD10617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GraVoc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rsuas.ppt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ompar.ppt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89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dentify different opinions in the stor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nderstand the descriptive detail the author uses to compare and contrast character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ompare and contrast in writi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iscover what and who are “ancestors.”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ook closely at “The Jade Dragon” for context clues to words that might have hidden meanings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heck your vocabulary and language skills by taking the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locking Language Challenge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believe what you hea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n the train, Jace and K.T. overhear two conversations between fellow passenger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cate both of these conversations in the story and re-read th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the main topic of both conversation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Yin and the Ya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498320"/>
            <a:ext cx="8382240" cy="47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does the perspective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f each speaker differ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o do you think is right?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search the topic and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epare a short persuasive essay that outlines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ree supportive arguments for your position about the advantages or disadvantages of the Three Gorges Da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to find out more about persuasive writ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4120" y="1542960"/>
            <a:ext cx="3352680" cy="2181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nding Clu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ften times the author will include clues about a character such as the way they dress or talk…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do you know about the individuals talking in these conversation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are they different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are they similar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pare/ Contra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nk of another book you have read… who were some of the characters and how did the author mark them as different or alike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rite two paragraphs comparing and contrasting these characters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cest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cestor:  person from whom one is descended, especially if more remote than a grandparent; a forebear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 all people have ancesto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might be some of the similarities and differences between K.T. and Jace’s ancesto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8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mily His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Jace tells K.T. that the Jade Dragon is the guardian of his ancestors.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search the importance of “ancestors” in Chinese society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sk your parent or guardian about your family cultur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o find out more about comparing and contrasting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3112920" cy="38098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19:21Z</dcterms:created>
  <dc:creator>Texas A&amp;M Veterinary Medicine</dc:creator>
  <dc:description/>
  <dc:language>en-US</dc:language>
  <cp:lastModifiedBy>Jeremiah McNichols</cp:lastModifiedBy>
  <dcterms:modified xsi:type="dcterms:W3CDTF">2008-09-17T16:25:38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3000000000001023620</vt:lpwstr>
  </property>
</Properties>
</file>