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3.gif" ContentType="image/gif"/>
  <Override PartName="/ppt/media/image21.jpeg" ContentType="image/jpeg"/>
  <Override PartName="/ppt/media/image16.png" ContentType="image/png"/>
  <Override PartName="/ppt/media/image19.gif" ContentType="image/gif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17B6-9AA1-4F12-A0E2-81309CE66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863B-0AE2-4B3A-B1C5-07793272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5AF4-C854-4D22-8F7D-288EE900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1255-942F-41F8-8490-AE38AC2E3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01AB-2700-46DB-A622-541494F86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5644-BFA0-4C42-A541-FE26D695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3F97-212C-4F9A-9C5B-4C71233E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0D7A-C36F-4C55-A422-2A9D922A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4DD7-8C34-4320-9D24-F8C06643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F12E-FD4F-4564-A3E1-E5FD95C3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203A-44A1-45BD-AD99-0B1E2573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7232-D352-49E5-A2D0-0EF0E673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2734-B018-4F18-B765-10266C7F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57D9-DFC6-47BA-8625-00D9CCEE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0733-3D1F-4872-833E-A473E624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8312-DBA1-4EE9-ADDD-5975E771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E884-BFE1-4792-BFDB-F99037D16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5D82-851B-4461-9CBD-88C36F09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521E-EA40-4186-AA10-82D74BF0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41F3-5FEC-4D69-876C-B3DAF64E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D052-D5CA-4CF0-8D32-6C11480B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CBC5-2795-4071-A85B-5306B4CC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F03B-CA52-4590-AD0A-1B0A708E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CFDF-4D24-4B6E-9AD1-F025D600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FDDF-CEB3-46FB-8E50-01DC898A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C4B2-FB22-45E8-8CBB-4E73EE6618F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4F3C-4B74-460D-97DB-C0D8B3A62DB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-296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0" t="0" r="-17" b="272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0" t="0" r="-17" b="78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0" t="0" r="-139" b="-27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0" t="0" r="-109" b="143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0" t="0" r="0" b="-63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9000000000001023620</vt:lpwstr>
  </property>
</Properties>
</file>