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9E9-32C4-496D-AA93-1F7FA846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, 7.8 (B, C), 7.10 (B, F, I, K, M), 7.12 (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, 8.8 (B, C), 8.10 (B, F, I, K, M), 8.12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cabulary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F, I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H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C, E, F, G, H, 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Producing research projects and reports in effectiv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Using compiled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Presenting organized stat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valuate the consequences of improved communication among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mpare and contrast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96D-75CA-4560-990C-025031C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DE2-822B-4FC9-AF21-1EF873BE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0FC-95DB-43D3-8D37-9C5FE6F7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04C-FC4A-4D9C-9091-3199E789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847-B1C1-4E82-BA70-AE490354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959-CA16-4345-8D68-06962B6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446-7645-4342-AA8F-6A0103D5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DDE-A03B-4B0E-BE51-61E3A390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AB6-7D7E-4AB7-877B-7793DA9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F2C-8F82-460F-BAFE-C93B323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BC9-1E65-4177-96FD-59FCE7A4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91D-E2FB-4D72-A556-687900F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3A1-2C04-4E67-BC7E-AB25BD5A4B17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GraVoc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rsuas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mpar.ppt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different opinions in the stor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nderstand the descriptive detail the author uses to compare and contrast charact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mpare and contrast in writ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scover what and who are “ancestors.”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ook closely at “The Jade Dragon” for context clues to words that might have hidden mean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eck your vocabulary and language skills by taking th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Challenge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believe what you hea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n the train, Jace and K.T. overhear two conversations between fellow passeng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cate both of these conversations in the story and re-read th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the main topic of both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Yin and the Ya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498320"/>
            <a:ext cx="8382240" cy="4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es the perspectiv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 each speaker diffe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do you think is right?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search the topic and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epare a short persuasive essay that outline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ree supportive arguments for your position about the advantages or disadvantages of the Three Gorges Da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to find out more about persuas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1542960"/>
            <a:ext cx="3352680" cy="2181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ding Cl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ten times the author will include clues about a character such as the way they dress or talk…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do you know about the individuals talking in these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different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simila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are/ Contra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another book you have read… who were some of the characters and how did the author mark them as different or alik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rite two paragraphs comparing and contrasting these characters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cest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cestor:  person from whom one is descended, especially if more remote than a grandparent; a forebear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all people have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might be some of the similarities and differences between K.T. and Jace’s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ace tells K.T. that the Jade Dragon is the guardian of his ancestors.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search the importance of “ancestors” in Chinese societ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k your parent or guardian about your family cult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o find out more about comparing and contrasting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3112920" cy="38098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9:21Z</dcterms:created>
  <dc:creator>Texas A&amp;M Veterinary Medicine</dc:creator>
  <dc:description/>
  <dc:language>en-US</dc:language>
  <cp:lastModifiedBy>Jeremiah McNichols</cp:lastModifiedBy>
  <dcterms:modified xsi:type="dcterms:W3CDTF">2008-09-17T16:25:38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3000000000001023620</vt:lpwstr>
  </property>
</Properties>
</file>