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D56A-0413-4EB6-984D-A48D9237C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Chongq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hongq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Hous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Kas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eij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Guangz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Har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 1) 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deg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Global address 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absolute location challeng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 Social Stud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sing and answering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 1) Northern Hemisphe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astern Hemi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Geography world geography Latitude Longitude Global hemisphere 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pproximat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3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° N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100° E.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30° N.L., 100° E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“Chongqing” was removed from the map; however, a dot still remains at its location along the Yangtze river.  See next slide for highlighted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2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° N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106° E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29° N.L., 106° E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D32-0816-4F1D-BA44-7A744F27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58B-F3CA-46D0-9D2C-3F094F23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752-FB50-4D82-8C42-ECA8BED8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648E-372C-4D0B-BD6F-C63F47A7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B56-2BAF-4215-90BB-51B393C0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8B2-E6A2-4F8E-8228-32421106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FA8-017C-44F9-8ED3-B938F10F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445-E6F1-461C-B54B-60C36F41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AC5-D4D0-4073-9FE4-8A342233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4B0A-FD16-4085-AA04-FCD7092F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9A6-5298-474D-A18D-FD0F522C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06A0-41EB-4FE0-B291-7B195BF1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AD73-2348-4FB2-AEE5-DC997D362ADA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ChSSQ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file:///Appendices/AbsoLoca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10476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4876560"/>
            <a:ext cx="8572320" cy="6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793764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The absolute location for Chongqing, China is 29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106° E.L. 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793764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absolute location of Houston, Texas is 30° N.L., 95° W.L. 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5638680"/>
            <a:ext cx="7619760" cy="10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71600"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ich city is closer to the Equator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1371600"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ich city is located in the Eastern Hemisphere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1371600"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ich city is located in the Western Hemisphere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9920"/>
            <a:ext cx="7772400" cy="371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4273560"/>
            <a:ext cx="8915400" cy="25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Use the map to find which city matches each of the addresses below. 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.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hat city is located at 3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75° E.L.? ______________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.   What city is located at 39° N.L., 116° E.L.? _____________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.   What city is located at 23° N.L., 113° E.L.? _____________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4.   What city is located at 46° N.L., 126° E.L.? _____________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62120" y="4038480"/>
            <a:ext cx="7772400" cy="28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ere you correct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Kashi is located at 3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75° E.L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eijing is located at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9° N.L., 116° E.L.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Guangzho is located at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3° N.L., 113° E.L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Harbin is located at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46° N.L., 126° E.L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019240" y="30492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64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14200"/>
            <a:ext cx="777240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global address of a place using latitude and longitude is known as _____________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lobal addresses north of the Equator are referred to as North ______________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lobal addresses west of the Prime Meridian are referred to as West ______________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oth latitude and longitude are measured in ______________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66880" y="1160640"/>
            <a:ext cx="7512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est your understanding of latitude and longitude by taking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bsolute Location Challenge Quiz</a:t>
            </a:r>
            <a:r>
              <a:rPr b="0" lang="en-US" sz="3600" spc="-1" strike="noStrike" u="sng">
                <a:solidFill>
                  <a:srgbClr val="ffff66"/>
                </a:solidFill>
                <a:uFillTx/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5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6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7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22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4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earn the concept of absolute locat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pply this concept to find cities on a map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earn to describe a city’s location by its absolute locat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is absolute locati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bsolute location is locating a place using the coordinate system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t involves using the latitude and longitude lines to determine the locat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et’s use it to find where China is located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ere is China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global address or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bsolute location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of China (being the center of China) is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0° N.L. and 100° E.L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s China in the Northern or Southern Hemisphere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s China in the Eastern or Western Hemisphere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43000" y="5333760"/>
            <a:ext cx="6858000" cy="10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oint to China on the map. 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3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100° E.L.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348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335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3032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838080" y="4724280"/>
            <a:ext cx="792504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ere you correct?  Look for the circle around China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hat is the latitude for China?  _______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orth or South?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at is the longitude for China? _______° West or East?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absolute location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 for China is _____________________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ere is Chongqing, China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002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global address or absolute location of Chongqing, China is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 and 106° E.L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838080"/>
            <a:ext cx="58676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14479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4114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808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38088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80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246240"/>
            <a:ext cx="77724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oint to Chongqing, China on the map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2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106° E.L.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Look carefully!  The label was removed!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38098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447920" y="515880"/>
          <a:ext cx="5943600" cy="420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515880"/>
                    <a:ext cx="594360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121932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88620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152280"/>
            <a:ext cx="53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152280"/>
            <a:ext cx="60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15228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4692240"/>
            <a:ext cx="8686800" cy="203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ere you correct?  Look for the highlight around Chongqing, China.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hat is the latitude for Chongqing? _________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orth or South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at is the longitude for Chongqing? _________° West or East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absolute location for Chongqing, China is________________ .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7:40:41Z</dcterms:created>
  <dc:creator>Texas A&amp;M Veterinary Medicine</dc:creator>
  <dc:description/>
  <dc:language>en-US</dc:language>
  <cp:lastModifiedBy>Jeremiah McNichols</cp:lastModifiedBy>
  <dcterms:modified xsi:type="dcterms:W3CDTF">2008-09-22T14:26:03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811000000000001023620</vt:lpwstr>
  </property>
</Properties>
</file>