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805A-01E3-40C5-B3A1-36BA004C9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BB66-F5B3-4589-9E2E-E675878F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D7BC-6A17-4C79-B643-DAC6E0B3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BC1B-0EE6-4924-9BBD-3C94FC501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CDE7-F96A-4573-AE7C-2FEB1E48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A84A-47C4-4771-B548-CE4F8BB0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5F79-9128-4ED2-B113-EC61E79A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8829-CEC8-46F9-B652-78A6E1C3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163F-4BA9-4D2D-ACBE-556A41F1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B019-F392-4731-BFDF-E3E18452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381B-D1D7-4B23-9CE8-166C3EC3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8D96-D9C1-45D0-8C59-8FC4EDA7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A4ED-F443-4500-BB35-C1BDD95F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C862-DAD0-4F75-96EE-00F5B36DD7D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itstudent</cp:lastModifiedBy>
  <dcterms:modified xsi:type="dcterms:W3CDTF">2002-08-06T19:36:29Z</dcterms:modified>
  <cp:revision>23</cp:revision>
  <dc:subject/>
  <dc:title>To Sum It All Up…</dc:title>
</cp:coreProperties>
</file>