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9C69-1DDF-4215-8715-DC1A3B0F9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30C4-9EE0-41C9-9DD2-ECE35BA03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76EB-7C59-4CC2-ACC2-0F94C7E28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C192-3A18-48B6-A853-397ED5E96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DA03-B8B2-42ED-A08A-9B15E5BF9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B8A7-2C2C-49FF-A7F9-370569259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30B5-2ADD-40CE-A905-C45EA8A4B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A58A-7F50-46D2-A2C2-38627786C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7A1E-6D48-4044-800F-0F4BCB93B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25F9-DA80-4591-A6D1-72DF0711A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1406-40F3-4E65-BF22-095CB7BF5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B90B-59E3-428E-AA13-3751FA485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880-86D8-4A6D-989F-068A4538166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Fixed%20Rectangle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3F3D-4805-4BD6-B002-062FAC97FAD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JBox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2B80-2DD4-433E-B37E-6102634082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BA35-A2A6-4A78-BE4D-C697041CABE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3D26-3EAB-43CC-B7D8-13376CB893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D430-89C5-4A1F-AA09-E8BE7E2789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6427-74A0-4761-B41D-8EE5B7CC82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1A23-EBB1-4107-9A22-9B51E39F96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3076-E515-4F4D-A87E-DEE88AEF83F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27Z</dcterms:modified>
  <cp:revision>238</cp:revision>
  <dc:subject/>
  <dc:title>VTPP 423 - PHYSIOLOGY</dc:title>
</cp:coreProperties>
</file>