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ECAA-BCA6-423B-AE2A-11970F4BD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7E80-E9C4-4317-8952-8B59AB23E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FC5F-E9B6-41F7-AE9F-B163AB486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8CED-87B4-446D-ACFD-A7B60D53C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DF2B-CCE1-4CD0-A6C2-F4504567E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3725-3037-4920-A3D8-9CBC972E3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F97D-D0AC-449B-8BFE-DAFE166C7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0138-7B7D-48CA-A2FF-5417DDB15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195A-38F1-4C52-9A7A-1984EED9F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4E58-6697-4911-819D-354150BED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2675-2743-4C94-9163-1F9E33A63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3357-E0B7-46C4-921A-E07654A5A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FDE1-DABF-4035-9BE3-40CBDE34D7D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904F-7480-4D5E-8CA1-6A0E5C3CC7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577E-28CA-420F-A2D7-0191DCFBE6E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2368-0EA4-42A0-8F44-26297A492D98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7:11Z</dcterms:modified>
  <cp:revision>206</cp:revision>
  <dc:subject/>
  <dc:title>VTPP 423 - PHYSIOLOGY</dc:title>
</cp:coreProperties>
</file>