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66E4-AF16-4CF9-B3FC-22A9A9173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K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Guangz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Har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Global address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Social Stud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Northern Hemi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a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Latitude Longitude Global hemispher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pproximat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0° E.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30° N.L., 100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“Chongqing” was removed from the map; however, a dot still remains at its location along the Yangtze river.  See next slide for highlighted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29° N.L.,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47A-1950-46A7-ADE2-185B2E3F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F57-D2EB-4F2D-A33C-B2CDBCEA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7DE-FE4E-48ED-81D5-BC1D72A0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F4A-A7A6-4777-AAC4-4AA76F40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1FC-2927-41C8-B4FA-E4205C93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00C-7758-45CE-8678-2DBBD4F2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3FB-0F90-4181-ABCB-0659FBA3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88D-6353-4708-9AF2-CF14022B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2A9-06E4-4F5B-AE39-80085D3F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9CF-96B7-49AF-907A-A1172BEB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02C-6881-47DB-9AB2-5B42F265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E87-DD7D-4996-99FB-771F8D6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0000-A323-49A8-BFC5-BBD07293788C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4876560"/>
            <a:ext cx="85723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absolute location for Chongqing, China is 29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of Houston, Texas is 30° N.L., 95° W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5638680"/>
            <a:ext cx="7619760" cy="10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We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4273560"/>
            <a:ext cx="8915400" cy="25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the map to find which city matches each of the addresses below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 _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   What city is located at 39° N.L., 11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   What city is located at 23° N.L., 113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.   What city is located at 46° N.L., 12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4038480"/>
            <a:ext cx="7772400" cy="28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ere you correct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ashi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ijing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9° N.L., 116° E.L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uangzho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3° N.L., 113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arbin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6° N.L., 126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19240" y="30492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64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200"/>
            <a:ext cx="77724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he concept of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pply this concept to find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o describe a city’s location by its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absolute loca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bsolute location is locating a place using the coordinate syst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t involves using the latitude and longitude lines to determine th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t’s use it to find where China is located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of China (being the center of China)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Northern or South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Eastern or West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3000" y="5333760"/>
            <a:ext cx="6858000" cy="10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ina on the map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0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348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303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4724280"/>
            <a:ext cx="79250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re you correct?  Look for the circle around China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hat is the latitude for China?  _______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ina? _______° West or East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 for China is _____________________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ongqing,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absolute location of Chongqing, China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838080"/>
            <a:ext cx="586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4479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114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0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808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80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4624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ongqing, China on the map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ook carefully!  The label was removed!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8098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515880"/>
          <a:ext cx="5943600" cy="42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15880"/>
                    <a:ext cx="59436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2193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862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5228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1522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22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4692240"/>
            <a:ext cx="8686800" cy="20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ere you correct?  Look for the highlight around Chongqing, China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is the latitude for Chongqing? _________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ongqing? _________° West or East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for Chongqing, China is________________ 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0:41Z</dcterms:created>
  <dc:creator>Texas A&amp;M Veterinary Medicine</dc:creator>
  <dc:description/>
  <dc:language>en-US</dc:language>
  <cp:lastModifiedBy>Jeremiah McNichols</cp:lastModifiedBy>
  <dcterms:modified xsi:type="dcterms:W3CDTF">2008-09-22T14:26:0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1000000000001023620</vt:lpwstr>
  </property>
</Properties>
</file>