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E8055-D3AC-48B3-A154-186AE23D2D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5F133-9B00-46ED-9DB8-6DE29C204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94E57-DD57-47AA-BF09-5B922C0E4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54441-F099-445A-9F56-CF307B0E9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E8D01-4258-4C88-90AD-0A98A8A48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68682-E098-4153-AA27-0C6C865E0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6A78E-B6BE-48A1-B7D0-3078EBB62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F7E5B-1BAE-4B31-A123-B2D14F2B4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9E8C3-6096-45C9-A2B1-5D54B96AF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E2BCB-2B66-4791-8C43-09FA0B166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56009-A39E-4AF9-A357-51D2B74E4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7D3F6-A805-40B3-B8D4-9055E4362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76A7D-98D6-4432-8809-458FAAFD3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B683E-9442-4287-91B0-5139A99239A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151920"/>
            <a:ext cx="77709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lume &amp; Weight Conversion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366920"/>
            <a:ext cx="7770960" cy="472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Volume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allons per Liter 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 Liter = .264 gallon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Weight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ounds per Kilogram 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 kilogram = 2.20 lb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6858000" y="1219320"/>
            <a:ext cx="1782720" cy="16682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6858000" y="3733920"/>
            <a:ext cx="1793880" cy="1439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3T19:29:54Z</dcterms:created>
  <dc:creator>ITWorkstation</dc:creator>
  <dc:description/>
  <dc:language>en-US</dc:language>
  <cp:lastModifiedBy>Vince Hardy</cp:lastModifiedBy>
  <dcterms:modified xsi:type="dcterms:W3CDTF">2007-05-08T18:40:12Z</dcterms:modified>
  <cp:revision>11</cp:revision>
  <dc:subject/>
  <dc:title>Volume &amp; Weight Convers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f200000000000001023620</vt:lpwstr>
  </property>
</Properties>
</file>