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9FA38-3426-437D-B11B-A4BB3D7AF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se notes identify the specific TE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ed on each sl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titute for, the full text of the TE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o view in Slide Show mode, one must select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8,000,000 people / 1,120,000,000 people = 0.288 people / 1.12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288 people / 1.12 people = 0.2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t to percen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257 x 100% =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5.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Math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B) Generate equivalent forms of 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B),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 (B) Convert between fractions, decimals, whole numbers, and per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 (B) Use the correct form of rational numbers to solve real-lif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ratio ratios percent percen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: For China with a population of 1.12 bi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120,000,000 people/ 9,597,000 k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16.70 people/ km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United States with a population of 288 mill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8,000,000 people/ 9,629,000 k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9.91 people/ km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e China’s population density by the United State’s population den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16.70 people/ k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/ (29.91 people/ k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90 times grea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Math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B) Generate equivalent forms of 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C), Integers in real-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5, Formulate equation from problem si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 (A),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 (B) Convert between fractions, decimals, whole numbers, and per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 (B) Use the correct form of rational numbers to solve real-lif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conversions conversion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7C1C-54A1-47BB-ADBF-67FFE95B2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20A9-C83D-440B-8F1C-EB0FD6531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3BBA-963A-458F-A884-69FAB8278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7CE3-7615-467B-B2A4-92E1DE662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543B-CFB3-4ED1-A539-02B09F333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5D55-0AD7-4F04-A976-B9EFA35C1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10AA-0319-45A7-A3A3-39D551DC5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AF19-1E29-4097-953A-5E01B6BB1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A944-1FB5-4A0A-A404-1A3AE8D96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DA60-ABB0-4EF6-8E2D-1CFCD4E3D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B6BA-6C71-40E1-9C62-985BFF9F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10AE-645D-41E7-9D90-4D54230F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1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2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3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4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5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6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44FBD-F704-450E-AD81-0569E9607268}" type="slidenum"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peer.tamu.edu/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hyperlink" Target="Appendices/Ratios.ppt" TargetMode="External"/><Relationship Id="rId4" Type="http://schemas.openxmlformats.org/officeDocument/2006/relationships/hyperlink" Target="Appendices/FraToPer.ppt" TargetMode="External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hyperlink" Target="Appendices/FraToDec.ppt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forms/Curricula_Survey.shtml" TargetMode="External"/><Relationship Id="rId3" Type="http://schemas.openxmlformats.org/officeDocument/2006/relationships/hyperlink" Target="http://peer.tamu.edu/forms/Curricula_Survey.shtml" TargetMode="Externa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7979040" cy="1703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09480" y="3124080"/>
            <a:ext cx="79250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peer.tamu.edu</a:t>
            </a:r>
            <a:r>
              <a:rPr b="0" lang="en-US" sz="3200" spc="-1" strike="noStrike" u="sng">
                <a:solidFill>
                  <a:srgbClr val="ffff66"/>
                </a:solidFill>
                <a:uFillTx/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Use percentages and fractions to calculate population density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 Little Too Crowded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In the story Jace states that in China there are over 30 million people in an area the size of Maine.  The population of China is 1.12 billion; the population of the United States is 288 million.  Express the ratio of the population of the United States to China as a percentage.  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163160" y="6269040"/>
            <a:ext cx="681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For more information on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ratios</a:t>
            </a:r>
            <a:r>
              <a:rPr b="0" lang="en-US" sz="1800" spc="-1" strike="noStrike" u="sng">
                <a:solidFill>
                  <a:srgbClr val="ffff66"/>
                </a:solidFill>
                <a:uFillTx/>
                <a:latin typeface="Times New Roman"/>
              </a:rPr>
              <a:t> and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percentages</a:t>
            </a:r>
            <a:r>
              <a:rPr b="0" lang="en-US" sz="1800" spc="-1" strike="noStrike" u="sng">
                <a:solidFill>
                  <a:srgbClr val="ffff66"/>
                </a:solidFill>
                <a:uFillTx/>
                <a:latin typeface="Times New Roman"/>
              </a:rPr>
              <a:t>, click on the hyperlin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7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opulation Densit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66"/>
                </a:solidFill>
                <a:latin typeface="Times New Roman"/>
              </a:rPr>
              <a:t>If China has an area of 9,597,000 km</a:t>
            </a:r>
            <a:r>
              <a:rPr b="0" lang="en-US" sz="3000" spc="-1" strike="noStrike" baseline="30000">
                <a:solidFill>
                  <a:srgbClr val="ffff66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ffff66"/>
                </a:solidFill>
                <a:latin typeface="Times New Roman"/>
              </a:rPr>
              <a:t> and the U.S. covers an area of 9,629,000 km</a:t>
            </a:r>
            <a:r>
              <a:rPr b="0" lang="en-US" sz="3000" spc="-1" strike="noStrike" baseline="30000">
                <a:solidFill>
                  <a:srgbClr val="ffff66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ffff66"/>
                </a:solidFill>
                <a:latin typeface="Times New Roman"/>
              </a:rPr>
              <a:t>, what is the population density of each country? Express the answer in people / km</a:t>
            </a:r>
            <a:r>
              <a:rPr b="0" lang="en-US" sz="3000" spc="-1" strike="noStrike" baseline="30000">
                <a:solidFill>
                  <a:srgbClr val="ffff66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ffff66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66"/>
                </a:solidFill>
                <a:latin typeface="Times New Roman"/>
              </a:rPr>
              <a:t>Assume the population of China is 1.12 billion and that of the United States is 288 million. </a:t>
            </a:r>
            <a:endParaRPr b="0" lang="en-US" sz="30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66"/>
                </a:solidFill>
                <a:latin typeface="Times New Roman"/>
              </a:rPr>
              <a:t>How many times greater is China’s population density than the United States’?</a:t>
            </a:r>
            <a:endParaRPr b="0" lang="en-US" sz="30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440720" y="6172200"/>
            <a:ext cx="609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Click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ere</a:t>
            </a:r>
            <a:r>
              <a:rPr b="0" lang="en-US" sz="2400" spc="-1" strike="noStrike" u="sng">
                <a:solidFill>
                  <a:srgbClr val="ffff66"/>
                </a:solidFill>
                <a:uFillTx/>
                <a:latin typeface="Times New Roman"/>
              </a:rPr>
              <a:t> for more information on conver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7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7800" y="944280"/>
            <a:ext cx="846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4419720"/>
            <a:ext cx="2514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peer.tamu.edu/forms/Curricula_Survey.shtm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380880" y="1981080"/>
            <a:ext cx="8570880" cy="4502160"/>
            <a:chOff x="380880" y="1981080"/>
            <a:chExt cx="8570880" cy="4502160"/>
          </a:xfrm>
        </p:grpSpPr>
        <p:pic>
          <p:nvPicPr>
            <p:cNvPr id="67" name="" descr=""/>
            <p:cNvPicPr/>
            <p:nvPr/>
          </p:nvPicPr>
          <p:blipFill>
            <a:blip r:embed="rId4"/>
            <a:stretch/>
          </p:blipFill>
          <p:spPr>
            <a:xfrm>
              <a:off x="380880" y="19861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5"/>
            <a:stretch/>
          </p:blipFill>
          <p:spPr>
            <a:xfrm>
              <a:off x="3808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6"/>
            <a:stretch/>
          </p:blipFill>
          <p:spPr>
            <a:xfrm>
              <a:off x="380880" y="5033880"/>
              <a:ext cx="1359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7"/>
            <a:stretch/>
          </p:blipFill>
          <p:spPr>
            <a:xfrm>
              <a:off x="47242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8"/>
            <a:stretch/>
          </p:blipFill>
          <p:spPr>
            <a:xfrm>
              <a:off x="4724280" y="50292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2" name=""/>
            <p:cNvGrpSpPr/>
            <p:nvPr/>
          </p:nvGrpSpPr>
          <p:grpSpPr>
            <a:xfrm>
              <a:off x="4643280" y="1981080"/>
              <a:ext cx="1546560" cy="1371600"/>
              <a:chOff x="4643280" y="1981080"/>
              <a:chExt cx="1546560" cy="1371600"/>
            </a:xfrm>
          </p:grpSpPr>
          <p:sp>
            <p:nvSpPr>
              <p:cNvPr id="73" name=""/>
              <p:cNvSpPr/>
              <p:nvPr/>
            </p:nvSpPr>
            <p:spPr>
              <a:xfrm>
                <a:off x="4724280" y="1981080"/>
                <a:ext cx="1371600" cy="1371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643280" y="2170080"/>
                <a:ext cx="1546560" cy="1012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5" name=""/>
            <p:cNvSpPr/>
            <p:nvPr/>
          </p:nvSpPr>
          <p:spPr>
            <a:xfrm>
              <a:off x="1898640" y="2206800"/>
              <a:ext cx="2617920" cy="42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National Institute of Environmental Health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Sci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Partnership for Environmental Education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College of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22960" y="2166840"/>
              <a:ext cx="2728800" cy="426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Department of Agricultural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The Center for Environmental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College of Veterinary Medicine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2T16:43:34Z</dcterms:created>
  <dc:creator>Texas A&amp;M Veterinary Medicine</dc:creator>
  <dc:description/>
  <dc:language>en-US</dc:language>
  <cp:lastModifiedBy>Jeremiah McNichols</cp:lastModifiedBy>
  <dcterms:modified xsi:type="dcterms:W3CDTF">2008-09-16T15:43:21Z</dcterms:modified>
  <cp:revision>1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a02000000000001023620</vt:lpwstr>
  </property>
</Properties>
</file>