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3EF75-CED3-46E1-A004-40FE56019E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Represent Proportions/Conversions using Tables and Symb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6461-03F9-4B67-8951-09522E61B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A79F-CE43-4A18-A424-78D2B3ACF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B439-0ECF-4A8A-A77B-39DCFE0C7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991D-B866-403D-A9C9-92630116A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F1DC-5FE9-4641-BF4A-EEDD5DB7F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ADB8-12D5-411C-8533-DE568658B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513C-F669-4706-89F8-33C80310B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84AE-0DAA-4087-AEF7-F3DB9B779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8060-28A8-4275-8DE2-2CDCC0A28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DE47-1526-41B2-8CA2-994DF81D6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0EC4-7B0E-4E54-82C6-3F8D437F0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8452-F290-4C6A-B4DF-34CFD30FE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4F312-0248-46D8-903E-E1D431F90A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75960"/>
            <a:ext cx="77709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etric Multiplication Factor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685440"/>
            <a:ext cx="85345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Multiplication Facto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refix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ymb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,000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9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ig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g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il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ct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 = 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ent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ll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0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6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cr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μ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0000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9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n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31:03Z</dcterms:created>
  <dc:creator>ITWorkstation</dc:creator>
  <dc:description/>
  <dc:language>en-US</dc:language>
  <cp:lastModifiedBy>ljlab</cp:lastModifiedBy>
  <dcterms:modified xsi:type="dcterms:W3CDTF">2003-09-11T17:19:02Z</dcterms:modified>
  <cp:revision>6</cp:revision>
  <dc:subject/>
  <dc:title>Metric Multiplication Factor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200000000000001023620</vt:lpwstr>
  </property>
</Properties>
</file>