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E0AE-67A5-41DD-ABFB-DD6E76437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DDEA-1707-494E-BDB4-D79A8EC90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D74-620B-40EE-9064-AE412456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EAF-80A9-4611-9A77-F91975E5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584-DCAE-40D9-9AC3-2F1D4DD8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19D-93B8-464C-9AFE-821BDB47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45A-C58E-4DB9-BDF1-3F164C92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E37-0A6B-4ACF-A51D-724F3852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F000-593E-4F53-87D2-DD47BF5E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416-AFF7-4000-990E-B841860A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200-4FFE-4C59-9775-D21221FE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F85-7C73-439C-9B2C-1EB6579A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8BA-7A50-4CCB-8198-015F189E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7B7-7AF9-4D5F-892E-0733AD2E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6B4D-9806-4574-8801-CF64E9D3AA2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itstudent</cp:lastModifiedBy>
  <dcterms:modified xsi:type="dcterms:W3CDTF">2002-08-06T19:40:48Z</dcterms:modified>
  <cp:revision>22</cp:revision>
  <dc:subject/>
  <dc:title>What’s the difference between weather and climate?</dc:title>
</cp:coreProperties>
</file>