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8A8-9F86-4B81-A782-54E0CC45C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 and Eu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plates are still moving, the Himalayas are still growing.  This is how the Himalayas are the tallest mountain in the worl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Analyze, review, and critique scientific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8F7-CD90-4A12-82C3-0BE749FA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D1E-447B-4864-A1F6-8BB7747F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6A6-B009-405D-BC99-C35D81A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F92-0F6B-4E3C-83D8-326BE7D4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EA2-800E-4B76-8287-3E420E07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FDE-8B29-4146-9BF4-3086D74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5E6-0E22-4D71-A013-362C85D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258-1BA6-40C9-B4D5-B23DB93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C51-251C-4FCC-85FC-73468CCD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DD1-D560-4AD7-A98E-B088F64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966-7819-4F1C-984F-6BEEDE5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1A6-9FA0-4771-AF2C-0B47C4F0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76A6-C729-43D2-9BE2-75544DCA192A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olcanoes form when magma within the earth pushes its way up through the crus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ile pushing through the crust, the pressure causes the surrounding crust to rise, forming a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gma is deposited on the surface, sometimes creating a cone shaped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305240" y="27050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rosional mountains form when wind or water wear down some materials on the earth’s surface, leaving other materials behin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me materials erode faster than others.  In the picture above, some of the rock material eroded much faster than the other material.  The brown rock material left behind forms a mountai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3319560"/>
            <a:ext cx="2209680" cy="163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43440" y="3319560"/>
            <a:ext cx="225756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14640" y="3776760"/>
            <a:ext cx="1447920" cy="609480"/>
          </a:xfrm>
          <a:prstGeom prst="rightArrow">
            <a:avLst>
              <a:gd name="adj1" fmla="val 50000"/>
              <a:gd name="adj2" fmla="val 593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ault-block mountains form when rock layers break and form a fault line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the two blocks are being pushed together, the pressure forces one block up and the other block dow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block that is forced upward forms a mountai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4315320"/>
            <a:ext cx="5486400" cy="2341080"/>
            <a:chOff x="1981080" y="4315320"/>
            <a:chExt cx="5486400" cy="23410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0" t="0" r="0" b="28"/>
            <a:stretch/>
          </p:blipFill>
          <p:spPr>
            <a:xfrm>
              <a:off x="1981080" y="4343400"/>
              <a:ext cx="380988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9274200">
              <a:off x="3656520" y="495324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174600">
              <a:off x="3352320" y="5333760"/>
              <a:ext cx="228600" cy="914400"/>
            </a:xfrm>
            <a:prstGeom prst="up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5257800"/>
              <a:ext cx="1371600" cy="457200"/>
            </a:xfrm>
            <a:prstGeom prst="leftArrow">
              <a:avLst>
                <a:gd name="adj1" fmla="val 50000"/>
                <a:gd name="adj2" fmla="val 7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750000">
              <a:off x="2437200" y="479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ded mountains form as two plates move toward each other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lates push against each other causing the crust to fold or rip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is like when you push 2 ends of a piece of paper together and the middle bends or fold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19320" y="2811600"/>
            <a:ext cx="7086600" cy="1531440"/>
            <a:chOff x="1219320" y="2811600"/>
            <a:chExt cx="7086600" cy="15314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183"/>
            <a:stretch/>
          </p:blipFill>
          <p:spPr>
            <a:xfrm>
              <a:off x="5562720" y="2811600"/>
              <a:ext cx="2743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219320" y="3039840"/>
              <a:ext cx="259056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3497040"/>
              <a:ext cx="838440" cy="533160"/>
            </a:xfrm>
            <a:prstGeom prst="rightArrow">
              <a:avLst>
                <a:gd name="adj1" fmla="val 50000"/>
                <a:gd name="adj2" fmla="val 39315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magma within the earth pushes its way up through the crust. __________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wind or water wear down some materials on the earth’s surface, leaving other materials behind. 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a plate cracks and forms a fault lin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plates push up against each other causing the crust to fold or rippl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ill in the blank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Himalayas formed as a result of the Indian Plate and the Eurasian Plate moving toward one anothe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en two plates collide, they will do one of the following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one plate is denser (heavier) than the other, it will sink below the other pla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both plates have the same density, they will continue to push against one another resulting in folded mountains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900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76320" y="3276720"/>
            <a:ext cx="4219560" cy="1104840"/>
            <a:chOff x="1876320" y="3276720"/>
            <a:chExt cx="4219560" cy="11048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009680" y="3276720"/>
              <a:ext cx="20862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23880" y="381024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6320" y="3657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Verdana"/>
                </a:rPr>
                <a:t>Denser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0" t="6279" r="0" b="183"/>
          <a:stretch/>
        </p:blipFill>
        <p:spPr>
          <a:xfrm>
            <a:off x="3978360" y="5181480"/>
            <a:ext cx="2085840" cy="110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5181480" y="5409720"/>
            <a:ext cx="19051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111720" y="5638680"/>
            <a:ext cx="9748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th of these plates are the same density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s the plates keep pushing against each other, there is no place for the crust to go except to bend up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plates are still running into each other and the Himalayas are growing by more than 1 cm each yea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28800" y="1635120"/>
            <a:ext cx="3430440" cy="202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0" t="0" r="0" b="-235"/>
          <a:stretch/>
        </p:blipFill>
        <p:spPr>
          <a:xfrm>
            <a:off x="1325520" y="4340160"/>
            <a:ext cx="244008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4127400"/>
            <a:ext cx="39528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41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57280" y="5835600"/>
            <a:ext cx="9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4920" y="5835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rcRect l="3935" t="0" r="0" b="4948"/>
          <a:stretch/>
        </p:blipFill>
        <p:spPr>
          <a:xfrm>
            <a:off x="3103560" y="2489040"/>
            <a:ext cx="1544760" cy="164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57280" y="2209680"/>
            <a:ext cx="461880" cy="48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 ___________ mountain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result of what two plates running into each othe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________________  and  _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of these two plates is sinking because they are both the same ___________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still growing at a rate of ___________ each year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assify mountains according to how they are formed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escribe the Himalaya Mountain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lore the relationship between plate tectonics and mountain formation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tallest mountains in the world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are located on the border of China and India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322236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at do you think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were the Himalayas formed?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are the Himalayas the tallest mountains in the worl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vestigating the Questi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untain ranges are formed by plates made from the earth’s crust that move against each other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lates that form the Himalayas are still moving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do you think this affects the mountains today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earth’s crust is split into several plate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se plates float on top of magma (a hot, thick, gel-like substance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en currents inside the earth move the magma, the plates move, too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movement sometimes causes mountains to form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earth’s crust is split into 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hot, thick, gel-like substance found within the earth is called _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re are 4 types of mountain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Jeremiah McNichols</cp:lastModifiedBy>
  <dcterms:modified xsi:type="dcterms:W3CDTF">2008-09-18T19:46:32Z</dcterms:modified>
  <cp:revision>76</cp:revision>
  <dc:subject/>
  <dc:title>Social Studies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8000000000001023620</vt:lpwstr>
  </property>
</Properties>
</file>