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1CE5-7B11-4376-BBD1-A79C6CEDE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0F0-FD97-4CF6-AB85-02142338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C95-57DC-47B1-B99D-80A959F0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385-1A21-44D3-804D-31C2A490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6EF-A70C-46B4-A909-DD5D2B39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E47-4258-4A05-B029-F90BFCC3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82F-F133-4072-B07A-1F47F634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CDFE-B318-408D-BF60-EB545B09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FA4-4606-4BC4-9A84-D61CA820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31D-BACD-414E-8B6B-EE1B34BB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EB27-39AA-4D6F-8249-1E2E26A9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BAD-0F7D-4C84-A646-83D7B46F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D24-A6F4-4657-803A-A4B9EDA4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A3CE-D63F-463E-9286-7DB76F588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Wine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WeightLifting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ljlab</cp:lastModifiedBy>
  <dcterms:modified xsi:type="dcterms:W3CDTF">2003-06-19T18:56:08Z</dcterms:modified>
  <cp:revision>9</cp:revision>
  <dc:subject/>
  <dc:title>Volume &amp; Weight Conversions</dc:title>
</cp:coreProperties>
</file>