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7E789-C264-4A46-B32B-7BDAE513D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69717-86ED-4A9E-9701-E9A6E5FD7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0F05A-AF52-47DD-A4B2-059015CED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DAF68-818E-4FAF-8573-D76BFABE8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372C8-D337-4D10-A019-A526364EE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2B1A4-4AA8-409A-A7EC-E8BD563E1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728C0-0CA9-450A-86AB-5C10715FB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E772A-054F-40D8-90CE-C243476BD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7AA7D-EB34-4C75-AB2B-1E4527FB2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52478-DE22-4F7F-941D-B36E27DA0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9C676-8B48-423B-839A-BB0141C1F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744DA-345E-4EB1-8F7B-97034A369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4CA51-16C5-491D-BE86-5E5BAB05E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DC54A-3FC5-493C-B8D2-2F999D3D236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vhardy</cp:lastModifiedBy>
  <dcterms:modified xsi:type="dcterms:W3CDTF">2003-05-28T22:05:18Z</dcterms:modified>
  <cp:revision>105</cp:revision>
  <dc:subject/>
  <dc:title>Locating Places</dc:title>
</cp:coreProperties>
</file>