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2179-A495-493C-BFA1-E4F876940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A926-AE00-493C-98EA-6BA664CD3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D658-1940-4363-A3E0-24BAE0DD7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AD7A-804B-418F-8F9E-CBED16858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8721-0AE3-4375-B0E4-0F5BCFE44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532C-E404-4ECF-8978-40800ABF2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3272-3079-4D7F-AC8E-1DD800417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73C1-F578-47FA-8AF7-607D49981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A72F-1367-4A2F-BB19-ECA924CD8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6E64-D0C8-4B6A-95D4-ED9C0CEC1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B8E2-EA2F-4E76-86C3-6E8B6C9E6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9BE9-0B8C-4285-B7BA-0A797C40E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592F-4922-426B-8C6F-9B0BB1AF018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74D8-DD24-40EF-94DF-788716118FE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A827-6CE2-4A90-8FDA-11AFBFF7B4F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7-28T15:13:04Z</dcterms:modified>
  <cp:revision>207</cp:revision>
  <dc:subject/>
  <dc:title>VTPP 423 - PHYSIOLOGY</dc:title>
</cp:coreProperties>
</file>