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C2D1-77E5-49E5-81BE-91AC9AC55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E696-0EAE-4700-852C-6E0C2DDD2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E9E3-B6E1-4DD7-AAFE-580FC5653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6144-04C1-4552-8695-F8DB3F77D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E5E5-1B6C-489B-8F52-1E0DB3EA8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6AF7-F017-4A51-B62E-7F67BD6A6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57F0-92DE-48CA-900C-84E949EA9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903B-88ED-4B5E-A4B1-FAB9473A4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39E6-84A7-4FD5-BCA9-EF63CE8CE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CC2B-E5D3-4493-915E-2C3E0CBEE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5410-F4D3-41E9-BEDB-AABC7D7A8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923D-3779-4EA5-9849-7CD514099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F49D-C0C6-4546-87D0-73F1522A831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9943-D0FD-43B9-A743-46EB7AC1CEA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BBF1-5477-4D40-BE40-A01D5CD8A7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07Z</dcterms:modified>
  <cp:revision>207</cp:revision>
  <dc:subject/>
  <dc:title>VTPP 423 - PHYSIOLOGY</dc:title>
</cp:coreProperties>
</file>