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BCB9-C486-4631-98A5-27232A340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188-CBC3-4FDB-ABBC-3DDC4C36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5CC-C6CB-4810-ABDE-2BEBCC3F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DDC-39B7-402F-B953-35D4E362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FF7-30B8-4AFD-947D-554374EC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236-5A92-4262-A0D1-7AC14ADB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53B-1A48-4F16-95E2-78BA9297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2B2-A83E-454E-A8F1-E2F601E8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488-9387-475F-B4B4-F2730907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EDB-B09A-4725-AC99-FB54C151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5B6-6D3C-407E-B236-EBA04AD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B5A-A21B-4213-90ED-A9584A3C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5CB-7761-4D89-9518-1ADB8E91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0551-D35D-4D05-AF84-0C000F394CD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itstudent</cp:lastModifiedBy>
  <dcterms:modified xsi:type="dcterms:W3CDTF">2002-08-06T19:40:55Z</dcterms:modified>
  <cp:revision>7</cp:revision>
  <dc:subject/>
  <dc:title>What’s the difference between weather and climate?</dc:title>
</cp:coreProperties>
</file>