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FB0A5-6C44-42BF-AF27-9C56DD5DFB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 for Entire Unlocking Language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4C: The student is expected to: access how language, medium, and presentation contribute to the message (6-8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1A: collaborate with other writers to compose, organize, and revise various types of texts. . .(4-8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1A: offer observations, make connections, react, speculate, interpret, and raise questions in response to texts (4-8)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C: use multiple reference aids, including a thesaurus, a synonym finder, a dictionary, and software, to clarify meanings and usage (4-8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complete subject is (B), the simple subject is “station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 for Entire Unlocking Language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4C: The student is expected to: access how language, medium, and presentation contribute to the message (6-8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1A: collaborate with other writers to compose, organize, and revise various types of texts. . .(4-8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1A: offer observations, make connections, react, speculate, interpret, and raise questions in response to texts (4-8)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C: use multiple reference aids, including a thesaurus, a synonym finder, a dictionary, and software, to clarify meanings and usage (4-8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complete predicate is (C), the simple predicate is “called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B) A rough, dry voi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A) op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C) Th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C) H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A948E-3537-432A-9727-F3A447CF4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A2141-50C8-47FD-A2D0-BDFC5CA9A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E9331-C525-4831-80BA-6F716F318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C84BD-BB7D-4B0A-B5E6-E2B76FFC0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ECF5A-6676-463F-8683-2882E3700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28C6C-84F1-4D0E-8B4E-50C59311E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0ADB3-1172-4103-A922-36169EB98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FB901-71C8-413F-B1F8-EAC8E3C33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BBB4D-9985-4601-A9A6-7C006E974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46238-7C31-4EAF-BFEC-93EF07191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9323E-36CC-4949-AA5D-E8F320249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9872D-A14C-4063-A8D1-9653A08F3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9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9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9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A0FD1-2FB5-4DEA-A3B7-FE73DC3CC7F7}" type="slidenum">
              <a:rPr b="0" lang="en-US" sz="1400" spc="-1" strike="noStrike">
                <a:solidFill>
                  <a:srgbClr val="ffff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image" Target="../media/image4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image" Target="../media/image4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3.png"/><Relationship Id="rId4" Type="http://schemas.openxmlformats.org/officeDocument/2006/relationships/image" Target="../media/image5.png"/><Relationship Id="rId5" Type="http://schemas.openxmlformats.org/officeDocument/2006/relationships/image" Target="../media/image4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<Relationship Id="rId11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Unlocking Language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Improve your writing and speech by understanding language construction and correct usage.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Take the Unlocking Language Quiz for “The Jade Dragon” to test your knowledge of language. 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4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66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1. Choose the complete subject and underline the simple subject.                                       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The Chongqing station was a madhouse of people, 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sounds, and smells.”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a madhouse of people, sounds, and smells.</a:t>
            </a:r>
            <a:br>
              <a:rPr sz="2400"/>
            </a:b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Chongqing station</a:t>
            </a:r>
            <a:br>
              <a:rPr sz="2400"/>
            </a:b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station</a:t>
            </a:r>
            <a:br>
              <a:rPr sz="2400"/>
            </a:b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was a madhouse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4876920" y="3276720"/>
            <a:ext cx="2933640" cy="30765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1209600" y="3267000"/>
            <a:ext cx="314280" cy="3906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1219320" y="4486320"/>
            <a:ext cx="314280" cy="3906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1219320" y="3876840"/>
            <a:ext cx="314280" cy="3902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6"/>
          <a:stretch/>
        </p:blipFill>
        <p:spPr>
          <a:xfrm>
            <a:off x="1219320" y="5095800"/>
            <a:ext cx="314280" cy="3906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4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66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2. Choose the complete predicate and underline the simple predicate.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827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A hoarse voice called from within for them to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enter.”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hoarse voice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called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called from within for them to enter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for them to enter.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1206360" y="3191040"/>
            <a:ext cx="314640" cy="3902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1219320" y="3876840"/>
            <a:ext cx="314280" cy="3902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1219320" y="4562640"/>
            <a:ext cx="314280" cy="3902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5"/>
          <a:stretch/>
        </p:blipFill>
        <p:spPr>
          <a:xfrm>
            <a:off x="1219320" y="5248440"/>
            <a:ext cx="314280" cy="39024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4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66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3. A hoarse voice is…..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255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someone that sounds like a horse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6033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99"/>
              </a:solidFill>
              <a:latin typeface="Times New Roman"/>
            </a:endParaRPr>
          </a:p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a rough, dry voice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6033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99"/>
              </a:solidFill>
              <a:latin typeface="Times New Roman"/>
            </a:endParaRPr>
          </a:p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a gentle voice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6033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99"/>
              </a:solidFill>
              <a:latin typeface="Times New Roman"/>
            </a:endParaRPr>
          </a:p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cowboy talk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1206360" y="2043000"/>
            <a:ext cx="314640" cy="3906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1209600" y="2666880"/>
            <a:ext cx="314280" cy="3906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1209600" y="3352680"/>
            <a:ext cx="314280" cy="3906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5"/>
          <a:stretch/>
        </p:blipFill>
        <p:spPr>
          <a:xfrm>
            <a:off x="1209600" y="4038480"/>
            <a:ext cx="314280" cy="3906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4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667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4.  A good synonym for ajar is…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00080"/>
            <a:ext cx="7772400" cy="255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open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6033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99"/>
              </a:solidFill>
              <a:latin typeface="Times New Roman"/>
            </a:endParaRPr>
          </a:p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closed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6033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99"/>
              </a:solidFill>
              <a:latin typeface="Times New Roman"/>
            </a:endParaRPr>
          </a:p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can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6033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99"/>
              </a:solidFill>
              <a:latin typeface="Times New Roman"/>
            </a:endParaRPr>
          </a:p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left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5029200" y="2590920"/>
            <a:ext cx="3097080" cy="31543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1206360" y="1981080"/>
            <a:ext cx="314640" cy="3906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4"/>
          <a:stretch/>
        </p:blipFill>
        <p:spPr>
          <a:xfrm>
            <a:off x="1209600" y="2604960"/>
            <a:ext cx="314280" cy="3906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5"/>
          <a:stretch/>
        </p:blipFill>
        <p:spPr>
          <a:xfrm>
            <a:off x="1209600" y="3281400"/>
            <a:ext cx="314280" cy="3906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6"/>
          <a:stretch/>
        </p:blipFill>
        <p:spPr>
          <a:xfrm>
            <a:off x="1209600" y="3967200"/>
            <a:ext cx="314280" cy="3906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4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66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5.  The following is a letter written to Jace by his grandfather. Correct the letter by identifying the error in each numbered sentence or phrase.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2357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99"/>
                </a:solidFill>
                <a:latin typeface="Times New Roman"/>
              </a:rPr>
              <a:t>(1) </a:t>
            </a:r>
            <a:r>
              <a:rPr b="0" lang="en-US" sz="1900" spc="-1" strike="noStrike" u="sng">
                <a:solidFill>
                  <a:srgbClr val="ffff99"/>
                </a:solidFill>
                <a:uFillTx/>
                <a:latin typeface="Times New Roman"/>
              </a:rPr>
              <a:t>dearest Jace</a:t>
            </a:r>
            <a:r>
              <a:rPr b="0" lang="en-US" sz="1900" spc="-1" strike="noStrike">
                <a:solidFill>
                  <a:srgbClr val="ffff99"/>
                </a:solidFill>
                <a:latin typeface="Times New Roman"/>
              </a:rPr>
              <a:t>,</a:t>
            </a:r>
            <a:endParaRPr b="0" lang="en-US" sz="19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99"/>
                </a:solidFill>
                <a:latin typeface="Times New Roman"/>
              </a:rPr>
              <a:t>(2) </a:t>
            </a:r>
            <a:r>
              <a:rPr b="0" lang="en-US" sz="1900" spc="-1" strike="noStrike" u="sng">
                <a:solidFill>
                  <a:srgbClr val="ffff99"/>
                </a:solidFill>
                <a:uFillTx/>
                <a:latin typeface="Times New Roman"/>
              </a:rPr>
              <a:t>I hope this letter find’s you in good health.</a:t>
            </a:r>
            <a:r>
              <a:rPr b="0" lang="en-US" sz="1900" spc="-1" strike="noStrike">
                <a:solidFill>
                  <a:srgbClr val="ffff99"/>
                </a:solidFill>
                <a:latin typeface="Times New Roman"/>
              </a:rPr>
              <a:t>  I miss you very much, </a:t>
            </a:r>
            <a:endParaRPr b="0" lang="en-US" sz="19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99"/>
                </a:solidFill>
                <a:latin typeface="Times New Roman"/>
              </a:rPr>
              <a:t>and I wish I could see you.  I have some tragic news from China.</a:t>
            </a:r>
            <a:endParaRPr b="0" lang="en-US" sz="19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99"/>
                </a:solidFill>
                <a:latin typeface="Times New Roman"/>
              </a:rPr>
              <a:t>(3) </a:t>
            </a:r>
            <a:r>
              <a:rPr b="0" lang="en-US" sz="1900" spc="-1" strike="noStrike" u="sng">
                <a:solidFill>
                  <a:srgbClr val="ffff99"/>
                </a:solidFill>
                <a:uFillTx/>
                <a:latin typeface="Times New Roman"/>
              </a:rPr>
              <a:t>Have you heard of the Three Gorges Dam.</a:t>
            </a:r>
            <a:r>
              <a:rPr b="0" lang="en-US" sz="1900" spc="-1" strike="noStrike">
                <a:solidFill>
                  <a:srgbClr val="ffff99"/>
                </a:solidFill>
                <a:latin typeface="Times New Roman"/>
              </a:rPr>
              <a:t>  It is a new project to</a:t>
            </a:r>
            <a:endParaRPr b="0" lang="en-US" sz="19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99"/>
                </a:solidFill>
                <a:latin typeface="Times New Roman"/>
              </a:rPr>
              <a:t>provide China with hydroelectric power. (4)  </a:t>
            </a:r>
            <a:r>
              <a:rPr b="0" lang="en-US" sz="1900" spc="-1" strike="noStrike" u="sng">
                <a:solidFill>
                  <a:srgbClr val="ffff99"/>
                </a:solidFill>
                <a:uFillTx/>
                <a:latin typeface="Times New Roman"/>
              </a:rPr>
              <a:t>When the dam is </a:t>
            </a:r>
            <a:endParaRPr b="0" lang="en-US" sz="19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 u="sng">
                <a:solidFill>
                  <a:srgbClr val="ffff99"/>
                </a:solidFill>
                <a:uFillTx/>
                <a:latin typeface="Times New Roman"/>
              </a:rPr>
              <a:t>complete however the water</a:t>
            </a:r>
            <a:r>
              <a:rPr b="0" lang="en-US" sz="1900" spc="-1" strike="noStrike">
                <a:solidFill>
                  <a:srgbClr val="ffff99"/>
                </a:solidFill>
                <a:latin typeface="Times New Roman"/>
              </a:rPr>
              <a:t> will flood the shrine of the Jade Dragon.</a:t>
            </a:r>
            <a:endParaRPr b="0" lang="en-US" sz="19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99"/>
                </a:solidFill>
                <a:latin typeface="Times New Roman"/>
              </a:rPr>
              <a:t>This is a very unfortunate time for our family. What am I to do?</a:t>
            </a:r>
            <a:endParaRPr b="0" lang="en-US" sz="19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99"/>
                </a:solidFill>
                <a:latin typeface="Times New Roman"/>
              </a:rPr>
              <a:t>(5) </a:t>
            </a:r>
            <a:r>
              <a:rPr b="0" lang="en-US" sz="1900" spc="-1" strike="noStrike" u="sng">
                <a:solidFill>
                  <a:srgbClr val="ffff99"/>
                </a:solidFill>
                <a:uFillTx/>
                <a:latin typeface="Times New Roman"/>
              </a:rPr>
              <a:t>Sincerily</a:t>
            </a:r>
            <a:r>
              <a:rPr b="0" lang="en-US" sz="1900" spc="-1" strike="noStrike">
                <a:solidFill>
                  <a:srgbClr val="ffff99"/>
                </a:solidFill>
                <a:latin typeface="Times New Roman"/>
              </a:rPr>
              <a:t>,</a:t>
            </a:r>
            <a:endParaRPr b="0" lang="en-US" sz="19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99"/>
                </a:solidFill>
                <a:latin typeface="Times New Roman"/>
              </a:rPr>
              <a:t>Grandfather</a:t>
            </a:r>
            <a:r>
              <a:rPr b="0" lang="en-US" sz="1800" spc="-1" strike="noStrike">
                <a:solidFill>
                  <a:srgbClr val="ffff99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4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838080"/>
            <a:ext cx="784872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6.  Fill in the first blank with the correct choice from the column on the left and the second blank with the correct choice from the column on the right.</a:t>
            </a:r>
            <a:br>
              <a:rPr sz="2400"/>
            </a:br>
            <a:br>
              <a:rPr sz="2400"/>
            </a:br>
            <a:r>
              <a:rPr b="0" lang="en-US" sz="1900" spc="-1" strike="noStrike">
                <a:solidFill>
                  <a:srgbClr val="ccccff"/>
                </a:solidFill>
                <a:latin typeface="Times New Roman"/>
              </a:rPr>
              <a:t>Jace and K.T. decided to take the train because ______ only had ten dollars.  K.T. was excited to ride the train, but Jace was too worried about _______ grandfather to be excited.</a:t>
            </a:r>
            <a:endParaRPr b="0" lang="en-US" sz="19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362320" y="4038120"/>
            <a:ext cx="579096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she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this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6094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99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them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her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6094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99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they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his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6094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99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it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their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1828800" y="5943600"/>
            <a:ext cx="314280" cy="390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5410080" y="5943600"/>
            <a:ext cx="314280" cy="3906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1828800" y="5334120"/>
            <a:ext cx="314280" cy="39024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5410080" y="5334120"/>
            <a:ext cx="314280" cy="3902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6"/>
          <a:stretch/>
        </p:blipFill>
        <p:spPr>
          <a:xfrm>
            <a:off x="1828800" y="4724280"/>
            <a:ext cx="314280" cy="3906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7"/>
          <a:stretch/>
        </p:blipFill>
        <p:spPr>
          <a:xfrm>
            <a:off x="5410080" y="4724280"/>
            <a:ext cx="314280" cy="3906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8"/>
          <a:stretch/>
        </p:blipFill>
        <p:spPr>
          <a:xfrm>
            <a:off x="1828800" y="4114800"/>
            <a:ext cx="314280" cy="3906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9"/>
          <a:stretch/>
        </p:blipFill>
        <p:spPr>
          <a:xfrm>
            <a:off x="5410080" y="4114800"/>
            <a:ext cx="314280" cy="3906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4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Word Explorers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Read the “Jade Dragon” again and highlight words that are unfamiliar.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Use the vocabulary list (on the next slide) or a dictionary to help you understand the difficult words.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7467480" y="4419720"/>
            <a:ext cx="1189080" cy="20574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5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Vocabulary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capabilities - abilities that someone or something has the power to perform</a:t>
            </a:r>
            <a:br>
              <a:rPr sz="2400"/>
            </a:b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jade - a hard, green, blue, or white stone from which ornaments are carved.</a:t>
            </a:r>
            <a:br>
              <a:rPr sz="2400"/>
            </a:b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heirloom - a possession that has been handed down in a family for several generations.</a:t>
            </a:r>
            <a:br>
              <a:rPr sz="2400"/>
            </a:b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frail - not strong, physically weak</a:t>
            </a:r>
            <a:br>
              <a:rPr sz="2400"/>
            </a:b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boulevard - a wide street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7467480" y="4419720"/>
            <a:ext cx="1189080" cy="20574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5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15T03:16:59Z</dcterms:created>
  <dc:creator>Gina Balducci</dc:creator>
  <dc:description/>
  <dc:language>en-US</dc:language>
  <cp:lastModifiedBy>Texas A&amp;M Veterinary Medicine</cp:lastModifiedBy>
  <dcterms:modified xsi:type="dcterms:W3CDTF">2005-05-17T17:08:42Z</dcterms:modified>
  <cp:revision>45</cp:revision>
  <dc:subject/>
  <dc:title>1. Choose the complete subject and underline the simple subject.                                       </dc:title>
</cp:coreProperties>
</file>