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BB03-6C27-4186-AD7E-00E52DC2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697-2DA3-4298-A603-14062B49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160-97D1-4D17-BE79-D04A5F8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A01-23A6-4A31-821D-DFCA5AB3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71A-7F39-4EF8-9708-E18C24FF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A3E-957A-4DA6-9374-9687AF27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189-3905-4695-ADCD-50DD0E4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9C4-7346-4A62-8BBB-FE8F127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7D8-B3C6-4D8F-A626-6282A45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099-C190-4866-A91D-95023A2C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AE7-D1D6-438C-8BA8-FBF0555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AF8-AC38-4E95-8196-27526A5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A59-0E02-48F1-99B1-C900DD65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2C6-11CD-4BDF-A40D-E72DB8C2F9B9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Read “The Jade Dragon” carefully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880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927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9877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454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8954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514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0607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619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1781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502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0733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619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165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711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14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67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0132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572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143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933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873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826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740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0520" y="2502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0520" y="3073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0520" y="36194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60520" y="4165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0520" y="4737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1562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0640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505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946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946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4923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51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168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0640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505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2959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933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505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0640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5168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Texas A&amp;M Veterinary Medicine</cp:lastModifiedBy>
  <cp:lastPrinted>2001-06-06T11:58:46Z</cp:lastPrinted>
  <dcterms:modified xsi:type="dcterms:W3CDTF">2005-05-17T17:07:46Z</dcterms:modified>
  <cp:revision>85</cp:revision>
  <dc:subject/>
  <dc:title>Traveler’s Quiz</dc:title>
</cp:coreProperties>
</file>