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A499-1309-4BB9-A62A-782B8EA55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1F8E-6501-4F37-A98C-A9A819A8C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7B4E-F637-4BC5-814E-113656B4D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0869-87EC-4742-A045-9C21C6A27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516E-EA78-41C4-BA10-A50D09903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C7C9-6FEB-4B8D-99F1-035195E6B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310C-847D-4CF6-8289-01D0FF7A5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A9042-353E-4BE2-8741-FFB88572D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50F65-5E9A-493A-BD5F-CAF34580F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777C-36A4-4748-A226-5887F6CE6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987B-B44E-49CF-9CEC-37F14943D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8BF0-45B2-4270-A4AE-B8ED8A9C6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CCDB-D17E-453C-A909-8B4F96DAA57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C889-52AC-41D2-9676-BDC51CD966E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2FA1-3BE3-4C45-A7A3-79214F19913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EFF4-5063-4891-B440-F550A495140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4044-7FD5-4118-ACD0-BB3F20C3981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0FBC-A399-4A5B-8595-C3126218A0D9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6-19T18:46:08Z</dcterms:modified>
  <cp:revision>218</cp:revision>
  <dc:subject/>
  <dc:title>VTPP 423 - PHYSIOLOGY</dc:title>
</cp:coreProperties>
</file>