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5A56-654A-400C-8CD8-FAA1AFBED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454F-8B88-49FA-94D3-91EADE2F2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A8C6-107D-44C0-860E-82FB71945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DA46-AEE4-4798-8830-899EA7604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DE4D-B7FC-4156-852E-B5B5DCC92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372C-AE17-440D-9C04-46D234D31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3E65-BF72-441C-8614-D86DC2596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C2CD-BFF7-416B-82A1-22C4793D0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DE80-BC01-48B8-BE16-4F61B1E0B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5CF8-279D-417A-AD88-7746095AF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5037-ED2A-49F2-994E-6EFFA2CE5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99DC-E716-4D59-9CD6-303A52C7E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8B5C-D977-41BD-9CE9-51A63311115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6222-74F9-411A-BD02-8CE45E7C5F9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19:48Z</dcterms:modified>
  <cp:revision>207</cp:revision>
  <dc:subject/>
  <dc:title>VTPP 423 - PHYSIOLOGY</dc:title>
</cp:coreProperties>
</file>