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938-FC55-455C-B614-D4D2E47FD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CDD-4E28-45F9-BE03-6C83588F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A96-2A07-452E-BB8F-EBC300A1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202-4AD1-485A-9464-78C82BEF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56C-27E7-4E07-BAB1-33F33C02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DC3-BC53-47FF-AABB-D553E9F6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3DF-FB44-4E4D-9E4E-8CC25AC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D70-3140-41A6-95A1-5178FC93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DB1-8983-4059-B9C7-861B67EC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357-0EF5-4E5E-8F5A-C73AE779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3AF-9D19-4BE5-BE52-7F87E49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21E-A503-4E73-9D47-BD3EB30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4D4-9BEB-4890-9F9D-8EEA796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B6F-1E6A-43D1-BDA3-1B5499B2B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vhardy</cp:lastModifiedBy>
  <dcterms:modified xsi:type="dcterms:W3CDTF">2003-05-23T21:26:30Z</dcterms:modified>
  <cp:revision>5</cp:revision>
  <dc:subject/>
  <dc:title>Metric Multiplication Factors</dc:title>
</cp:coreProperties>
</file>