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06E-ECE0-4CAD-9535-569F63C98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84C-7B3E-4B00-A8B0-27A46280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BBF-3B10-4DC7-A323-7A131D3F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75D-1D5D-4466-9413-488B9C37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ED1-9727-4528-8E89-74A1E30C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1B1-2205-4578-81CB-6CCB2DF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3BD-7317-458C-852E-C8F39D71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1C6-E18B-4C25-A6AD-C60CC2F5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D2C-1FBA-45E8-8CC1-7B4EC7E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19B-C124-4A6B-9143-7C29FDB2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933-DBEF-4EC6-9B80-2C54BB48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D38-F70C-486E-B789-5D7B2C9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DC2-4DDD-4EB0-909E-9D30B24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3443-75A7-4E2F-B74B-6EAF0C94D754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Read “The Jade Dragon” carefully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Take the Investigator’s Challenge Quiz to determine how carefully you read the story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After you complete the quiz and see your score, review each question.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Find the part of the story that provides the correct answer to the question. 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Underline or highlight the important details you find.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8802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927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9877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454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895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514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0607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619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1781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02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073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6194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165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711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67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013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572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1436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933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873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4826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7405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0520" y="2502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0520" y="3073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0520" y="36194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60520" y="4165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60520" y="4737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51562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946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9462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4923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051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29592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93364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505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0640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46101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5168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d705f"/>
          </a:solidFill>
          <a:ln w="9360">
            <a:solidFill>
              <a:srgbClr val="3d7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Texas A&amp;M Veterinary Medicine</cp:lastModifiedBy>
  <cp:lastPrinted>2001-06-06T11:58:46Z</cp:lastPrinted>
  <dcterms:modified xsi:type="dcterms:W3CDTF">2005-05-17T17:07:46Z</dcterms:modified>
  <cp:revision>85</cp:revision>
  <dc:subject/>
  <dc:title>Traveler’s Quiz</dc:title>
</cp:coreProperties>
</file>