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3A92-8FE3-4B21-A438-B0C5A0BA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D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L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6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C) Writing with accurate spelling of syllable constr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D) Writing with accurate spelling of roo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 Using regular and irregular plurals correc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B) Writing in complete sent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C) Using conj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D) Using adjectives and adverbs appropri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E) Using prepositional phrases to elab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F) Employing standard English usage in writing for aud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G) Using verb tenses appropriately and consisten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H) Writing with increasing accuracy when using apostrophes in contr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I) Writing with increasing accuracy when using pronoun c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9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(B) Responding constructively to others’ wri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 (C) Evaluating how well own writing achieves purpos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7 (D), 7.9 (E), 7.10 (B, L), 7.15 (C), 7.16 (B-D), 7.17 (A-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10 (B, L), 8.15 (C), 8.16 (B-D), 8.17 (A-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 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Read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investigator’s challenge quiz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E, K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simile personification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, D, E, F, G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Describing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the text’s structure or progression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Determining a text’s mai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 Paraphrasing and summarizing text to work on id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ext ideas through various me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ing and organizing information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, F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ummary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-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Responding constructively to others’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 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-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nguag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i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973-97C4-4287-B50F-78B1F6AF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89B-E1E7-4206-8700-9C1EFE1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FFF-BC4A-49A8-89FF-7FF5000B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FD5-06DD-4C82-8181-0CED2F12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477-3871-4BF1-89C6-0A910D53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0A6-E1E9-472F-80F0-DED5F18B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17E-E2B0-47B3-A6E4-ECD4E7D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586-B86F-4A33-B6B7-A2571E7C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134-9E8B-44D3-BE3F-D0EB10B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D08-77F1-4274-88D7-18CDA9B2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E65-4E7A-4D21-926D-09F6909B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2C0-519F-40DF-BE72-5E8D382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4D0-493D-4C35-993C-5CB7BBB29A2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monstrate reading comprehens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descriptive writing to describe an objec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to others read their example of descriptive writing and create a visual from the read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ad “The Jade Dragon” carefull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st your memory and understanding of important details by completing the Investigator’s Challenge Qui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233520" cy="3581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nguage “Treasure Hunt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nd examples of each of the following in the story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mil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ersonific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ymbolis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 these improve the story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57760" cy="45608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s the Story Al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t the end of the story, Jace’s mother calls him home. How will Jace explain his absence and the presence of the Jade Dragon to his mother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mmarize the key points of the story as Jace might have told the story to his mother. Limit your summary to 250 word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here to find out more about summari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Imagin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Jade Dragon is described twice in the story. Find and re-read the two descrip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w close your eyes and imagine how the dragon look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rite a short descriptive essay that captures your mental image of the drag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here to find out more about descript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“see” the Jade Drag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lect a partner from among your classmat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as your partner reads his or her description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sed only on this description, draw a picture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ow switch roles and repeat the activ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int a Picture with Wo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ce uses two similes to describe the weight of the drago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’s as light as the souls it guards and as heavy as the burden of the centuries.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the two simil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two new similes to add to the description of the dragon that you wrot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7:31Z</dcterms:created>
  <dc:creator>Texas A&amp;M Veterinary Medicine</dc:creator>
  <dc:description/>
  <dc:language>en-US</dc:language>
  <cp:lastModifiedBy>Jeremiah McNichols</cp:lastModifiedBy>
  <dcterms:modified xsi:type="dcterms:W3CDTF">2008-09-17T16:11:2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4000000000001023620</vt:lpwstr>
  </property>
</Properties>
</file>