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61022-21EF-4A73-8DEA-20DFD2E53A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DAAE9-8EF9-44CA-953F-259AE57265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2172E-DEC2-4375-B680-4B17C36D51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07B62-EA47-4F50-87FE-4968B32F97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A164A-DE21-4361-8161-06BCDA3374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0D2DA-6FDA-4878-A81F-00A14F1115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F2C1A-8AA8-4D76-84F2-6C41404CA6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7C254-D8A1-4645-A5ED-9A7CC09CE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0FC51-9DE4-49A8-A635-C998F5F436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B4C7C-396B-4F90-B027-74A3ABCC6B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F02B9-D232-4FD6-8C14-3CD60A059D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36E4B-37A3-4CA8-B007-6DBF535478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4D19-8AD8-4C4F-9BA5-EB36850E022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2975A-0310-4FB5-BF83-6F5F4C4D406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FAF16-4F79-49A8-9DB5-7BF34AD1775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5:25Z</dcterms:modified>
  <cp:revision>210</cp:revision>
  <dc:subject/>
  <dc:title>VTPP 423 - PHYSIOLOGY</dc:title>
</cp:coreProperties>
</file>