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E82-1D73-4408-ACBE-262C0C0CB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E3E-16B2-4D8B-8742-7C532D4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1AFF-B9AB-40A7-AC6F-7DBB9461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0ED-CA13-4D17-B47B-97C7B4BB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1F3-3063-4F08-BC33-32E7A9DB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C66-416A-4DB9-B390-CFDA324E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285-4492-4180-BB98-CF230F37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45D-AB3A-4E99-AF8E-4633273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CB4-6677-4086-850C-EE9002B5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3AB-12C1-4606-86EE-F0332D6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140-3958-4CB4-9FE1-86CE0B5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0BE-A1DC-45FC-B5F5-2FECEE18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8D0-76A1-44AB-B157-67E9110F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FD31-C1D2-4855-9CE1-67BE95E0A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Wine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WeightLifting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ljlab</cp:lastModifiedBy>
  <dcterms:modified xsi:type="dcterms:W3CDTF">2003-06-19T18:56:08Z</dcterms:modified>
  <cp:revision>9</cp:revision>
  <dc:subject/>
  <dc:title>Volume &amp; Weight Conversions</dc:title>
</cp:coreProperties>
</file>