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B30C-5980-4D8B-9C21-D6BAF4C8C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8FA6-6A08-46BD-ACA3-34998262E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F647-88E4-4170-BE83-9545BAAC5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6A78-42B4-44DA-B8E4-D88FB6F0C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D81B-FD08-4CA3-9913-A281241DB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C0B3-AE42-4D4C-A72D-F24D75195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360B-53D6-4463-BE34-619BE1B87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0C3A-40DF-469B-8C55-4D4DEC2B4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19A7-7272-4657-B7FA-F0B9777CD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4490-B2EE-4121-92E7-AE68CBD9B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FEE0-9352-4598-AF53-88F61299A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51DD-4E9F-4602-A359-A285D03CA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1C1F-3CCC-4520-A70E-6436B15183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3E2C-D604-40C3-8480-103680D9AA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D872-B268-460F-9783-33AFAD2D9E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0:07Z</dcterms:modified>
  <cp:revision>207</cp:revision>
  <dc:subject/>
  <dc:title>VTPP 423 - PHYSIOLOGY</dc:title>
</cp:coreProperties>
</file>