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BFF5-4861-43A3-A8B3-BE187CD1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CD4-D7F5-491C-8A01-BF69FFAA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377-4DC4-4CAD-AA89-FAC0C086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521-04D5-4F4C-ADB7-008CF4AD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CD3-1DE3-44CE-B647-831612C1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72B-079B-4D10-B5D8-3C309BA3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732-CA14-4926-A4C9-5942B07A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411-54B2-40BB-8AB8-AC0EB2B0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A6C-9681-41CF-9340-38716A31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2CD-34F9-4436-A931-D8267DA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B89-6526-4E22-B1FF-454E3937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BB7-975F-4E67-9D0E-DA402773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0A7-3530-4601-B0F5-57D0DC2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8F48-E50B-4E66-89A9-B14661F0F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itstudent</cp:lastModifiedBy>
  <dcterms:modified xsi:type="dcterms:W3CDTF">2002-08-06T19:40:40Z</dcterms:modified>
  <cp:revision>18</cp:revision>
  <dc:subject/>
  <dc:title>What’s the difference between weather and climate?</dc:title>
</cp:coreProperties>
</file>