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5452-649A-45A1-9361-A1D58F4284A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A6AFF-7641-4E33-AF09-C64448BCD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97575-057F-4099-9B18-F5D180516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D3E77-8352-4ED8-80CC-6E8CCDEE1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91540-D1B8-4055-A99A-97AEF8346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ED0B-D264-4FE3-868E-A699B5A47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B1E91-0903-47D9-84A3-C13799622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9151A-D772-4324-B3E4-2ED31F2E4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C08AD-EB25-4617-88D0-8219D50EE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DB898-C7CF-429C-8343-3B28EC703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A33B-74F4-408F-B079-EE8FC509B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ACEB3-39BF-40A0-A2F2-7DDA5B046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5A4E-DF7B-4642-A107-610D28276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30DA-06EA-4798-AB0B-979B03EB5B4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t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wklemm</cp:lastModifiedBy>
  <dcterms:modified xsi:type="dcterms:W3CDTF">2003-06-23T21:09:03Z</dcterms:modified>
  <cp:revision>284</cp:revision>
  <dc:subject/>
  <dc:title>Combating Infections</dc:title>
</cp:coreProperties>
</file>