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3CD9-DDDC-4739-A09C-A50174301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533-1049-439D-A4C2-045E73E0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64C-7A07-48A1-B851-0F288D99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D9E-91E2-47E9-ACF6-B556B590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91A-05AE-4B17-9FDF-5529C288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175-85F9-4CD7-A034-C7F32D52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860-913C-4366-AACD-1E82A9FD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838-1AF8-471A-884E-A2518F8F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972-7E1B-4B34-9241-D901F71C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936-E67F-4432-A0AD-EC961746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522-B9D4-4461-B22F-5558D8FF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09F-4430-4E7C-9F34-58BB07EC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C3E-A673-4894-B2F1-9D0AA98F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E8A9-12EE-4BC3-8258-C2EF31F9A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meter = 1.6 mi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ljlab</cp:lastModifiedBy>
  <dcterms:modified xsi:type="dcterms:W3CDTF">2003-06-19T18:38:52Z</dcterms:modified>
  <cp:revision>6</cp:revision>
  <dc:subject/>
  <dc:title>Length Conversions</dc:title>
</cp:coreProperties>
</file>