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A17-F9DC-480B-8B02-2B0DD68D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A1F-F879-4DFF-9B0D-714A850E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CD5-B67E-46A0-8B58-16D7FA0D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D10-A0B3-409C-94BF-C6F6741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89D-E59A-4959-8D26-6F4B04A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251-320C-4E00-9CED-B922411C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530-6DC6-498E-BACB-71A41FF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5F32-F60B-4E89-B04B-487E89C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62F-13A6-44EE-B2C2-2B57F06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640-0D8B-42EC-BF09-07DE1F2F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45E-E0D1-4130-ACCC-F36E06F5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5B2-8C04-44A2-B5CA-53AB740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71-BB97-459B-B834-89B494C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1E3-5E82-4D7B-8534-AB7023FC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4443-A9CE-4A4D-8A6E-594FB03308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8Z</dcterms:modified>
  <cp:revision>22</cp:revision>
  <dc:subject/>
  <dc:title>What’s the difference between weather and climate?</dc:title>
</cp:coreProperties>
</file>