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E4DD-72A4-497F-B6D1-F8E596882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905-998F-422C-A75D-BF8908CA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FB1-7A2F-47D5-A040-CC3C04A4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F0B-6C8C-435C-BEE8-AB8FA4F3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563-C4A9-4D9B-BE74-4C7ECFEB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699-1417-42CC-A12D-1E01BA43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CDC-6D78-4D33-BCAF-690045C2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300-87E3-46DC-A3AF-60103535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8EB-5A8C-47BE-B5FB-4618469E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631-396B-4584-A637-B56AA626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FC9-63A5-46FE-8744-81698B41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E1F-8138-4983-A31A-E30D99CC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210-CFC7-4B39-929B-BEB225D1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40E3-3311-487F-9AAE-6A01D9459CFF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209600" y="326700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219320" y="448632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219320" y="3876840"/>
            <a:ext cx="314280" cy="390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219320" y="5095800"/>
            <a:ext cx="314280" cy="390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06360" y="3191040"/>
            <a:ext cx="314640" cy="390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219320" y="3876840"/>
            <a:ext cx="314280" cy="390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219320" y="4562640"/>
            <a:ext cx="314280" cy="390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219320" y="5248440"/>
            <a:ext cx="314280" cy="390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06360" y="2043000"/>
            <a:ext cx="314640" cy="39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209600" y="266688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209600" y="335268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209600" y="4038480"/>
            <a:ext cx="314280" cy="390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06360" y="1981080"/>
            <a:ext cx="314640" cy="390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209600" y="260496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209600" y="328140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1209600" y="3967200"/>
            <a:ext cx="314280" cy="390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99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99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99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99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99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99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362320" y="4038120"/>
            <a:ext cx="5790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he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m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y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28800" y="594360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410080" y="594360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828800" y="5334120"/>
            <a:ext cx="314280" cy="390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410080" y="5334120"/>
            <a:ext cx="314280" cy="390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1828800" y="472428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5410080" y="472428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1828800" y="411480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5410080" y="4114800"/>
            <a:ext cx="314280" cy="390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5-05-17T17:08:42Z</dcterms:modified>
  <cp:revision>45</cp:revision>
  <dc:subject/>
  <dc:title>1. Choose the complete subject and underline the simple subject.                                       </dc:title>
</cp:coreProperties>
</file>