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E2D7B-AF7A-4A79-80ED-D25E67F6F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2A144-2CC8-4B9C-B327-5898DE394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202BC-FD1F-4388-A3D5-0235EE571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265E-D5EB-4DB8-9F38-2BD25BB4D9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1F7F7-64C2-4F61-B1CA-CEF4B02EA9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A32E-5E04-423F-B522-8BE13855B3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D7BE9-3F25-4EC8-BE76-946168747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C1C60-EC3B-419C-BCFD-5D201E5D5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1269-6737-4E59-B36A-E86C279BE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D8908-5CF1-4319-B533-8C3243378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CDA52-4A6C-4E7B-B76C-5BA8E36950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FC61E-7336-4A63-AB21-67632C8BD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36B9-1776-4A4A-80DE-BFC89206077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7750D-16CA-436E-B06D-73DAE80C39A5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5:38Z</dcterms:modified>
  <cp:revision>209</cp:revision>
  <dc:subject/>
  <dc:title>VTPP 423 - PHYSIOLOGY</dc:title>
</cp:coreProperties>
</file>