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AD7E-F471-497A-B862-B1AA76C02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9A6F-C057-4507-BECE-E5475C555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095FA-95CD-4D29-B395-0E9F9ABDF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464BF-EF7D-45B3-8198-E4590D2D8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A322A-1DDC-4749-8488-9C1FB807E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AD546-E012-491E-8DCA-3C1BC6EE4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6440E-EEA0-429D-A4ED-2F4929CFB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89B6-9A59-41D4-B6BB-289FDB8A8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E3C6C-9536-4F50-B152-E1167ED204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72431-B579-4A7D-A88A-3C9B76038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37CC1-B009-4A4F-8FF8-12C9C1985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1C856-8ADE-4113-9055-AA997C167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7DF7-3496-4128-8CCF-EB3709411FD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C2FC0-595C-489A-B519-AADB3541614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A68FE-3021-4481-B566-6AC238A5C43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5:58Z</dcterms:modified>
  <cp:revision>211</cp:revision>
  <dc:subject/>
  <dc:title>VTPP 423 - PHYSIOLOGY</dc:title>
</cp:coreProperties>
</file>