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D268-7050-4C6B-916B-2B99E3798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FF08A-1262-429F-969F-C59558A3E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6959-1242-4516-A896-1FD0F68CC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CF081-8F0F-48A8-8408-6FE5BAC56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844CF-BA80-4AE3-A6EE-6F93DB981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6A085-B98A-46DB-B5BA-7254AB449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DE56C-CBF5-43C8-99B4-C012EBA78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45090-5CB6-467B-AB7F-F12D2C90E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48530-864A-4216-9DD2-EBD3DCF6A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94267-A3DD-4931-9D6F-3204C08B2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73E8-E283-4B7C-A477-12ED21E04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72506-4E15-4388-B125-892A66857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8A45-AE79-441B-9B5F-DFC5DA34F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D16C-F332-425C-B403-5407238133E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vhardy</cp:lastModifiedBy>
  <dcterms:modified xsi:type="dcterms:W3CDTF">2003-05-28T22:05:18Z</dcterms:modified>
  <cp:revision>105</cp:revision>
  <dc:subject/>
  <dc:title>Locating Places</dc:title>
</cp:coreProperties>
</file>