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E313-4619-4675-9ADC-DCB3743DA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0057-3475-47E0-8ED9-C326D595F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6E5A-8A1A-4AB7-99D5-A164CCF25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A54D-347D-41B2-B336-3EEC056B9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F2FC-14BE-432D-88D3-C57D7C7CE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3472-6AF3-4F9D-83C4-C4A1D6678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EC03-3395-4E30-820A-41E95F15C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6573-BF4E-454B-96E1-C61B98A72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56A1-BC40-491F-B770-7D7A13AC4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7122-9914-46A5-BF0C-82AAE47DA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19DF-DF4D-4899-8713-D8873F33E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817D-76B5-4F07-A4DF-0C82C64E9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E47-ACDA-4B5B-9066-5709CDDC45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Rectangle2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0DFA-2FDD-4D06-906C-E7D7A21C541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6:54Z</dcterms:modified>
  <cp:revision>205</cp:revision>
  <dc:subject/>
  <dc:title>VTPP 423 - PHYSIOLOGY</dc:title>
</cp:coreProperties>
</file>