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746FA-0ADC-447C-8812-FE622221EC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18AC3-CC81-4C3A-9053-B0D13D4EB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BE5D-7BC8-49BB-9940-682534DEF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0D0C9-E162-4F1A-827C-0BDC26B18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FADA2-FF28-4939-ACB9-6001AC38F0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894D1-8855-4A03-A44F-301CD5AF3F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21BF9-8019-49B1-BD4E-5989B3295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93DFD-A1D8-4F58-B56C-4FA135C71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985B7-E220-4443-8860-8437933094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A7F0-0B30-4B9E-9C6A-AA84E2AD8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65241-0DF4-494D-A0F2-AF8A79174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54650-468D-4A67-948D-0A13EF5E61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E9A3-1867-4663-8951-ED5D41B63D5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0156E-68C6-4DB1-9FBA-46119892B29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79912-7D9D-40F7-906A-783CF418857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4:23Z</dcterms:modified>
  <cp:revision>210</cp:revision>
  <dc:subject/>
  <dc:title>VTPP 423 - PHYSIOLOGY</dc:title>
</cp:coreProperties>
</file>