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B2F-5557-4C68-A235-14854068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 and Eu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DC3-6C9A-4672-ADF2-D246C6C2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77C-7C03-4786-A6CF-198C154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F26-2C6A-4302-AC08-2991FD6E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B72-D32D-41FF-BD43-71831152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B73-0F8A-4857-B6C1-E04BC81C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13B-FD55-4FFD-A868-97831C59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EE7-F686-4901-A5A5-D426335E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7F4-C868-48BD-9455-E0D8016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E2B-968E-4E0D-B749-12A84D3F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18E-89DE-44C7-B4E6-B54D3493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93A-2824-4771-994C-0EB4ED8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46E-3A11-419A-B6E3-E84F3AE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61C-2CD7-4068-9B42-B3DC2050C813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6324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Himalayas are the tallest mountains in the world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y are located on the border of China and India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4572000" cy="322272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ded mountains form as two plates move toward each other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lates push against each other causing the crust to fold or rip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is like when you push 2 ends of a piece of paper together and the middle bends or fold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26328" r="0" b="0"/>
          <a:stretch/>
        </p:blipFill>
        <p:spPr>
          <a:xfrm>
            <a:off x="5334120" y="22096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38096" r="0" b="0"/>
          <a:stretch/>
        </p:blipFill>
        <p:spPr>
          <a:xfrm>
            <a:off x="990720" y="2438280"/>
            <a:ext cx="2590560" cy="1303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480" y="289548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magma within the earth pushes its way up through the crust. __________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wind or water wear down some materials on the earth’s surface, leaving other materials behind. 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a plate cracks and forms a fault lin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plates push up against each other causing the crust to fold or rippl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Himalayas formed as a result of the Indian Plate and the Eurasian Plate moving toward one another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en two plates run into each other, they will do one of the following: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one plate is denser (heavier) than the other, it will sink below the other pla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both plates have the same density, they will continue to push against one another resulting in folded mountains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922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61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30963" r="0" b="0"/>
          <a:stretch/>
        </p:blipFill>
        <p:spPr>
          <a:xfrm>
            <a:off x="3581280" y="2971800"/>
            <a:ext cx="2086200" cy="1104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95480" y="350532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352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ser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0" t="30963" r="0" b="0"/>
          <a:stretch/>
        </p:blipFill>
        <p:spPr>
          <a:xfrm>
            <a:off x="3581280" y="5105520"/>
            <a:ext cx="2086200" cy="1104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4800240" y="5029200"/>
            <a:ext cx="1600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714640" y="5029200"/>
            <a:ext cx="6858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7440" y="14479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th of these plates are the same density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s the plates keep pushing against each other, there is no place for the crust to go except bend up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plates are still running into each other and the Himalayas are growing by more than 1 cm each yea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962520" cy="21621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3880" y="2133720"/>
            <a:ext cx="5335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rcRect l="0" t="13456" r="0" b="0"/>
          <a:stretch/>
        </p:blipFill>
        <p:spPr>
          <a:xfrm>
            <a:off x="1371600" y="4343400"/>
            <a:ext cx="281952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411480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5943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943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rcRect l="4109" t="0" r="0" b="5163"/>
          <a:stretch/>
        </p:blipFill>
        <p:spPr>
          <a:xfrm>
            <a:off x="3429000" y="2362320"/>
            <a:ext cx="1781280" cy="175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 ___________ mountain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result of what two plates running into each othe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________________  and  _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of these two plates is sinking because they are both the same ___________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still growing at a rate of ___________ each year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at do you think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were the Himalayas formed?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are the Himalayas the tallest mountains in the worl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 this activity you will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earn of the different ways that mountains form.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earn why the Himalayas are so tall.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earth’s crust is split into several plates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se plates float on top of magma (a hot, thick, gel-like substance).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en currents inside the earth move the magma, the plates move, too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is movement sometimes causes mountains to form.  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5791320" cy="315936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219320" y="23623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19320" y="159984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81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1523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earth’s crust is split into 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hot, thick, gel-like substance found within the earth is called _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re are 4 types of mountain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8655" t="0" r="8222" b="6075"/>
          <a:stretch/>
        </p:blipFill>
        <p:spPr>
          <a:xfrm>
            <a:off x="2895480" y="1295280"/>
            <a:ext cx="3657600" cy="2210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Volcanoes form when magma within the earth pushes its way up through the crust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le pushing through the crust, the pressure causes the surrounding crust to rise, forming a mountain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gma is deposited on the surface, sometimes creating a cone shaped mountain.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305240" y="27050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rosional mountains form when wind or water wear down some materials on the earth’s surface, leaving other materials behind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me materials erode faster than others.  In the picture above, some of the rock material eroded much faster than the other material.  The brown rock material left behind forms a mountain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219320" y="2666880"/>
            <a:ext cx="2209680" cy="1633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638680" y="2666880"/>
            <a:ext cx="22575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9880" y="3124080"/>
            <a:ext cx="1447920" cy="609840"/>
          </a:xfrm>
          <a:prstGeom prst="rightArrow">
            <a:avLst>
              <a:gd name="adj1" fmla="val 50000"/>
              <a:gd name="adj2" fmla="val 5935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20860" r="0" b="0"/>
          <a:stretch/>
        </p:blipFill>
        <p:spPr>
          <a:xfrm>
            <a:off x="2514600" y="1143000"/>
            <a:ext cx="3809880" cy="2313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ault-block mountains form when rock layers break and form a fault line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the two blocks are being pushed together, the pressure forces one block up and the other block dow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block that is forced upward forms a mountai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9274200">
            <a:off x="4190400" y="175212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9174600">
            <a:off x="3885840" y="213336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05740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3750000">
            <a:off x="2970720" y="1599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JMcNichols</cp:lastModifiedBy>
  <dcterms:modified xsi:type="dcterms:W3CDTF">2006-05-27T17:10:06Z</dcterms:modified>
  <cp:revision>58</cp:revision>
  <dc:subject/>
  <dc:title>Social Studies Mystery:</dc:title>
</cp:coreProperties>
</file>