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61AD-F82C-46CE-B444-54E108171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81D-0A9B-4311-ABC6-8EBD1876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3BB6-6F21-4022-9DFC-23FDCF82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E887-D978-451F-A04A-D673F4FE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DF07-5C90-433A-A2CA-68B973C6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EC5-86C3-442F-92C7-6FBAB730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428-3880-420C-AC34-E66B2CAE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CB64-892B-45F6-B21A-C0F1FF69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1F0-49B7-42AF-AD1B-B074833F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1D5-DCCC-4B3C-8939-1B196FAB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0B00-E584-40C4-B971-A10F16DF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B18-CF59-4AD4-B402-CB878195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A89-CAD4-4F77-A053-B6F04304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FD34-6E79-407E-A388-D966B44E1CF7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../../../../5-Africa/PowerPoint%20Files/Africa_v%200.1/Appendices/Social%20Studies/AbsoLoca.ppt" TargetMode="External"/><Relationship Id="rId7" Type="http://schemas.openxmlformats.org/officeDocument/2006/relationships/hyperlink" Target="file:///../Appendices/Social%20Studies/AbsoLoca.pp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../../../../5-Africa/PowerPoint%20Files/Africa_v%200.1/Appendices/Social%20Studies/AbsoLoca.ppt" TargetMode="External"/><Relationship Id="rId7" Type="http://schemas.openxmlformats.org/officeDocument/2006/relationships/hyperlink" Target="file:///../Appendices/Social%20Studies/AbsoLoca.pp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../../../../5-Africa/PowerPoint%20Files/Africa_v%200.1/Appendices/Social%20Studies/AbsoLoca.ppt" TargetMode="External"/><Relationship Id="rId7" Type="http://schemas.openxmlformats.org/officeDocument/2006/relationships/hyperlink" Target="file:///../Appendices/Social%20Studies/AbsoLoca.pp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-8497440"/>
            <a:ext cx="7772400" cy="208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80°E                         100° E                     120°E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40°N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20°N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629080" y="581652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629080" y="536580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629080" y="493092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2643120" y="6273720"/>
            <a:ext cx="265320" cy="333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-8497440"/>
            <a:ext cx="7772400" cy="208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80°E                         100° E                     120°E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40°N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20°N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629080" y="5829480"/>
            <a:ext cx="266400" cy="334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629080" y="536580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2629080" y="493092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2643120" y="6273720"/>
            <a:ext cx="265320" cy="333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629080" y="623880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629080" y="5800680"/>
            <a:ext cx="266400" cy="327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6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ere</a:t>
            </a:r>
            <a:r>
              <a:rPr b="0" lang="en-US" sz="1600" spc="-1" strike="noStrike" u="sng">
                <a:solidFill>
                  <a:srgbClr val="ffff66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629080" y="623880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629080" y="5800680"/>
            <a:ext cx="266400" cy="32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6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ere</a:t>
            </a:r>
            <a:r>
              <a:rPr b="0" lang="en-US" sz="1600" spc="-1" strike="noStrike" u="sng">
                <a:solidFill>
                  <a:srgbClr val="ffff66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629080" y="623880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629080" y="5800680"/>
            <a:ext cx="266400" cy="327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rId6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ere</a:t>
            </a:r>
            <a:r>
              <a:rPr b="0" lang="en-US" sz="1600" spc="-1" strike="noStrike" u="sng">
                <a:solidFill>
                  <a:srgbClr val="ffff66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638440" y="6251400"/>
            <a:ext cx="266760" cy="335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629080" y="582624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629080" y="625140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629080" y="582624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619360" y="6251400"/>
            <a:ext cx="266760" cy="335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610000" y="582624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619360" y="5391000"/>
            <a:ext cx="266760" cy="327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-8497440"/>
            <a:ext cx="7772400" cy="208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80°E                         100° E                     120°E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40°N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20°N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629080" y="5791320"/>
            <a:ext cx="266400" cy="334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629080" y="535320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629080" y="494352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2643120" y="6248520"/>
            <a:ext cx="265320" cy="333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8497440"/>
            <a:ext cx="7772400" cy="208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80°E                         100° E                     120°E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40°N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20°N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629080" y="581652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629080" y="536580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629080" y="493092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2643120" y="6273720"/>
            <a:ext cx="265320" cy="33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Texas A&amp;M Veterinary Medicine</cp:lastModifiedBy>
  <cp:lastPrinted>2001-09-05T16:54:47Z</cp:lastPrinted>
  <dcterms:modified xsi:type="dcterms:W3CDTF">2005-05-17T17:12:42Z</dcterms:modified>
  <cp:revision>733</cp:revision>
  <dc:subject/>
  <dc:title>No Slide Title</dc:title>
</cp:coreProperties>
</file>