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3CC1-E9F4-4EE3-A3B0-B47C3517C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,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1) From a location in North America the response could be either eas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. West would be a shorter, less expensive ro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C) Express ideas orally based on research and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Mongolia or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1) Beij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Plateau of Ti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1) Possible answers include Eastern hemispheres, on the continent of Asia, West of the 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Possible answers: You could travel either east or west, but it would be closer/faster to travel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C.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Geography World Geography Relativ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EBB-F91B-429D-BC6A-18AED3C5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F74-E167-4F7D-A829-717AC822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D34-0D26-496A-A522-D6BB2612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0DAE-2E19-4D0E-A531-4EDFE7B3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219-1338-41D5-B43F-81BD1B74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933-D74C-4791-AF5E-4BC18172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FB4-2CDB-4175-A845-A90FF7BE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EB1-8528-4736-A881-0541D460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C9B-9C9C-485B-BB7F-AA7C19FC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244-012E-41AC-9E3D-DD456818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CB9-561A-4E5E-9A41-F4A95AEF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401-2F4C-4B48-BD69-199638AE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DCAB-DE3E-45CC-91F8-095045497751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6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the concept of relative location to locate cities on a map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escribe a city’s location by its relativ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lative location is a way of defining where places are located in comparison to other plac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xample: your neighbor is to the left of you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en we use relative location in maps, we use north, south, east, and wes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6440" y="54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eography: 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52440"/>
            <a:ext cx="777240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ere In the World is Chongqing, China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China is outlined in yellow on the map above.  Study the map, then answer the questions on the next slide.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27480" y="5164200"/>
            <a:ext cx="384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154320"/>
            <a:ext cx="38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97760" y="3154320"/>
            <a:ext cx="38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71640" y="1903320"/>
            <a:ext cx="720072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5854680" y="2684520"/>
            <a:ext cx="93672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240" y="3792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29960" y="378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89480" y="148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73280" y="578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536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00320" y="1288800"/>
            <a:ext cx="6543360" cy="11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8520"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On what continent is China located?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98520"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continent is southeast of China?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98520"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continent is south and west of China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90840" y="3352680"/>
            <a:ext cx="300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32160" y="5743440"/>
            <a:ext cx="298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4525920"/>
            <a:ext cx="300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7600" y="4525920"/>
            <a:ext cx="299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68360" y="2716200"/>
            <a:ext cx="6405480" cy="36082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861840" y="424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69600" y="425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89480" y="2297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0000" y="6367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66760" y="1247400"/>
            <a:ext cx="85932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Notice that China is now positioned near the center of the map.  This is because we are looking at the Earth from a different position. The Pacific Ocean, rather than the Atlantic Ocean, is now near the center of the map.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Using the map, explain which direction you would travel if you were to travel from China to your home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2276640"/>
            <a:ext cx="7620120" cy="3657600"/>
            <a:chOff x="685800" y="2276640"/>
            <a:chExt cx="7620120" cy="3657600"/>
          </a:xfrm>
        </p:grpSpPr>
        <p:sp>
          <p:nvSpPr>
            <p:cNvPr id="82" name=""/>
            <p:cNvSpPr/>
            <p:nvPr/>
          </p:nvSpPr>
          <p:spPr>
            <a:xfrm>
              <a:off x="4309920" y="2276640"/>
              <a:ext cx="37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35400" y="5429160"/>
              <a:ext cx="37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8242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88240" y="38242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295280" y="2428920"/>
              <a:ext cx="6658200" cy="3505320"/>
            </a:xfrm>
            <a:prstGeom prst="rect">
              <a:avLst/>
            </a:prstGeom>
            <a:ln w="88920">
              <a:solidFill>
                <a:srgbClr val="85a59a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1905120" y="3648240"/>
              <a:ext cx="8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f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5019840"/>
              <a:ext cx="111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ntarc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34320" y="3876840"/>
              <a:ext cx="1022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outh Am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886120"/>
              <a:ext cx="1182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orth Am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2809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86200" y="4181400"/>
              <a:ext cx="10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ustra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2320" y="3038400"/>
              <a:ext cx="8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ur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920" y="4105440"/>
              <a:ext cx="88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tlant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9720" y="2581200"/>
              <a:ext cx="162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ct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3952800"/>
              <a:ext cx="81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dian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81480" y="3724200"/>
              <a:ext cx="81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cif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3191040"/>
              <a:ext cx="88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tlant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294000" y="3179880"/>
              <a:ext cx="112572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4771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China is highlighted on the map above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ocean is to the east of China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large country is to the southwest of China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ame a country on the map to the north of China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09640" y="1344600"/>
            <a:ext cx="5699160" cy="335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1120" y="536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423800"/>
            <a:ext cx="327636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city is China’s  capital?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is city is located in what direction from Chongqing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e city of Guangzhou is located in what direction from Chongqing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If you were to travel northwest from Chongqing, what is the name of the plateau you would cross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5246640" cy="3749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4038480" y="5330880"/>
            <a:ext cx="4584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Chongqing is highlighted on the m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11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br>
              <a:rPr sz="4400"/>
            </a:br>
            <a:br>
              <a:rPr sz="16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You are talking with a friend. She asks, “Where is China?” How would you respond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you were to travel from Texas to China, in what direction would you travel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you were to travel from China to Paris, France, in what direction would you travel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ich of the following is closer to China?       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.  Germany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.  USA  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.  Indi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1447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Just Checking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7:42:41Z</dcterms:created>
  <dc:creator>Texas A&amp;M Veterinary Medicine</dc:creator>
  <dc:description/>
  <dc:language>en-US</dc:language>
  <cp:lastModifiedBy>Jeremiah McNichols</cp:lastModifiedBy>
  <dcterms:modified xsi:type="dcterms:W3CDTF">2008-09-22T14:27:11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5000000000001023620</vt:lpwstr>
  </property>
</Properties>
</file>