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E8BA5-B9D3-4E72-8DAB-000B6CC9AA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1912E8-DA73-4B86-BA30-30BF1117C1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0C538-7FB9-4942-97A9-6D2EE546E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DA58FD-81D7-4553-BE1A-675AB89CC0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7A6C6-76AC-4602-A4BC-E070B8BAE1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D4DE7-08C3-4BD1-BEAA-EB1403DB7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27F4E-E517-414C-9604-6D3236964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4C993-678B-465E-BFBF-5F0684513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2B142-25CA-4748-B97E-95C5454CE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A7FBE-D6F0-42F1-BCC1-BEB927DF4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F5711-26DC-4C5F-99C9-3B7BCD5AD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487BE-51A0-4D49-8140-90A3D7B21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7FE6B-39BD-4DF3-8F02-48A078C9A6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43DEE-F96A-4868-B794-B6E225CF39E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vhardy</cp:lastModifiedBy>
  <dcterms:modified xsi:type="dcterms:W3CDTF">2003-05-21T21:23:34Z</dcterms:modified>
  <cp:revision>25</cp:revision>
  <dc:subject/>
  <dc:title>Persuasive Writing</dc:title>
</cp:coreProperties>
</file>