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C0AEA-FA9E-4122-AC39-1C65BF352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 Social Studies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3 (B, C)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Posing and answering questions about geographic distributions and patter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Comparing regions using data from maps, charts, models, and datab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 Social Studies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3 (B, C)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Posing and answering questions about geographic distributions and patter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Comparing regions using data from maps, charts, models, and datab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3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° N.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EKS: Social Studies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3 (B, C)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Posing and answering questions about geographic distributions and patter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Comparing regions using data from maps, charts, models, and datab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6.21 (C), Organizing and interpreting inform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100° E.L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EKS: Social Studies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3 (B, C)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Posing and answering questions about geographic distributions and patter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Comparing regions using data from maps, charts, models, and datab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6.21 (C), Organizing and interpreting inform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30° N.L., 100° E.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EKS: Social Studies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3 (B, C)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Posing and answering questions about geographic distributions and patter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Comparing regions using data from maps, charts, models, and datab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6.21 (C), Organizing and interpreting inform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EKS: Social Studies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3 (B, C)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Posing and answering questions about geographic distributions and patter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Comparing regions using data from maps, charts, models, and datab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EKS: Social Studies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3 (B, C)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Posing and answering questions about geographic distributions and patter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Comparing regions using data from maps, charts, models, and datab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EKS: Social Studies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3 (B, C)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Posing and answering questions about geographic distributions and patter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Comparing regions using data from maps, charts, models, and datab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 Social Studies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3 (B, C)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Posing and answering questions about geographic distributions and patter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Comparing regions using data from maps, charts, models, and datab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 Social Studies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3 (B, C)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Posing and answering questions about geographic distributions and patter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Comparing regions using data from maps, charts, models, and datab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3CEF-A0D5-471D-AD51-92BAC1AA9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727F-5446-4BFA-9864-DE3F2BF54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314E-F414-4AD0-8BE0-FF47331EA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269F-3238-4030-89EF-BE9CCFC08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3CD9-091E-4A22-8334-A2C4DF113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28B0-0DD0-4168-8F7D-4F25ED79D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00BE-E86A-4817-9BD3-293C4BA86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5F53-8CBC-433E-BDA5-58D32C0F5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981A-9C6E-4916-BFAB-2FD29ED74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5424-6798-4761-8A5D-C1B52EC6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1867-0EBD-43E0-961A-F7AC60E0B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87C1-6CDB-48FC-97D9-0DC6C5E2C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0BD89-DC76-4685-8DF2-13227CF91B54}" type="slidenum"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8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5335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Social Studie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260676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is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7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1448280" y="4419720"/>
            <a:ext cx="640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QUIZ: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What city is located at 23° N.L., 113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533520" y="79920"/>
            <a:ext cx="7772400" cy="371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                                             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80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E                         100°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E                     120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r>
              <a:rPr b="0" lang="en-US" sz="200" spc="-1" strike="noStrike">
                <a:solidFill>
                  <a:srgbClr val="ffff66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            </a:t>
            </a:r>
            <a:br>
              <a:rPr sz="1400"/>
            </a:b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              40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r>
              <a:rPr b="0" lang="en-US" sz="200" spc="-1" strike="noStrike">
                <a:solidFill>
                  <a:srgbClr val="ffff66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            20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N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2629080" y="5816520"/>
            <a:ext cx="266400" cy="3351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2629080" y="5365800"/>
            <a:ext cx="266400" cy="3268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2629080" y="4930920"/>
            <a:ext cx="266400" cy="3268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6"/>
          <a:stretch/>
        </p:blipFill>
        <p:spPr>
          <a:xfrm>
            <a:off x="2643120" y="6273720"/>
            <a:ext cx="265320" cy="3333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8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33" name=""/>
          <p:cNvSpPr/>
          <p:nvPr/>
        </p:nvSpPr>
        <p:spPr>
          <a:xfrm>
            <a:off x="1448280" y="4419720"/>
            <a:ext cx="640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QUIZ: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What city is located at 46° N.L., 126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533520" y="79920"/>
            <a:ext cx="7772400" cy="371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                                             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80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E                         100°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E                     120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r>
              <a:rPr b="0" lang="en-US" sz="200" spc="-1" strike="noStrike">
                <a:solidFill>
                  <a:srgbClr val="ffff66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            </a:t>
            </a:r>
            <a:br>
              <a:rPr sz="1400"/>
            </a:b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              40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r>
              <a:rPr b="0" lang="en-US" sz="200" spc="-1" strike="noStrike">
                <a:solidFill>
                  <a:srgbClr val="ffff66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            20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N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-83808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2629080" y="5829480"/>
            <a:ext cx="266400" cy="3348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2629080" y="5365800"/>
            <a:ext cx="266400" cy="3268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2629080" y="4930920"/>
            <a:ext cx="266400" cy="3268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6"/>
          <a:stretch/>
        </p:blipFill>
        <p:spPr>
          <a:xfrm>
            <a:off x="2643120" y="6273720"/>
            <a:ext cx="265320" cy="3333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8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QUIZ:  The latitude for the center of Chin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30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80160" y="1387440"/>
            <a:ext cx="92556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2629080" y="6238800"/>
            <a:ext cx="266400" cy="3351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2629080" y="5800680"/>
            <a:ext cx="266400" cy="3272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2629080" y="5391000"/>
            <a:ext cx="266400" cy="3272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125280"/>
            <a:ext cx="85341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QUIZ:  The longitude for the center of Chin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100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780160" y="1387440"/>
            <a:ext cx="92556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2629080" y="6238800"/>
            <a:ext cx="266400" cy="3351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2629080" y="5800680"/>
            <a:ext cx="266400" cy="3272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2629080" y="5391000"/>
            <a:ext cx="266400" cy="3272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8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70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QUIZ:  The absolute location of Chin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30° N.L. and 10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 N.L. and 10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780160" y="1387440"/>
            <a:ext cx="92556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25280"/>
            <a:ext cx="85341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629080" y="6238800"/>
            <a:ext cx="266400" cy="3351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2629080" y="5800680"/>
            <a:ext cx="266400" cy="3272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2629080" y="5391000"/>
            <a:ext cx="266400" cy="3272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8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QUIZ:  The latitude for Chongqing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2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4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                                                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80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E                          100°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E                      120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r>
              <a:rPr b="0" lang="en-US" sz="200" spc="-1" strike="noStrike">
                <a:solidFill>
                  <a:srgbClr val="ffff66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            40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r>
              <a:rPr b="0" lang="en-US" sz="200" spc="-1" strike="noStrike">
                <a:solidFill>
                  <a:srgbClr val="ffff66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             20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N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600200" y="457200"/>
            <a:ext cx="5715000" cy="404640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8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2629080" y="6251400"/>
            <a:ext cx="266400" cy="3351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2629080" y="5826240"/>
            <a:ext cx="266400" cy="326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2629080" y="5391000"/>
            <a:ext cx="266400" cy="3272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8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QUIZ:  The longitude for Chongqing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120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106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                                                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80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E                          100°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E                      120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r>
              <a:rPr b="0" lang="en-US" sz="200" spc="-1" strike="noStrike">
                <a:solidFill>
                  <a:srgbClr val="ffff66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            40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r>
              <a:rPr b="0" lang="en-US" sz="200" spc="-1" strike="noStrike">
                <a:solidFill>
                  <a:srgbClr val="ffff66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             20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N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600200" y="457200"/>
            <a:ext cx="5715000" cy="404640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2629080" y="6251400"/>
            <a:ext cx="266400" cy="3351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2629080" y="5826240"/>
            <a:ext cx="266400" cy="3268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2629080" y="5391000"/>
            <a:ext cx="266400" cy="3272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8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QUIZ:  The absolute location of Chongqing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 N.L. and 106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40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 N.L. and 12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                                                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80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E                          100°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E                      120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r>
              <a:rPr b="0" lang="en-US" sz="200" spc="-1" strike="noStrike">
                <a:solidFill>
                  <a:srgbClr val="ffff66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            40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r>
              <a:rPr b="0" lang="en-US" sz="200" spc="-1" strike="noStrike">
                <a:solidFill>
                  <a:srgbClr val="ffff66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             20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N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600200" y="457200"/>
            <a:ext cx="5715000" cy="404640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2629080" y="6251400"/>
            <a:ext cx="266400" cy="3351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2629080" y="5826240"/>
            <a:ext cx="266400" cy="3268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2629080" y="5391000"/>
            <a:ext cx="266400" cy="3272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8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1446480" y="4419720"/>
            <a:ext cx="625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QUIZ: What city is located at 39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 N.L., 75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533520" y="79920"/>
            <a:ext cx="7772400" cy="371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                                             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80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E                         100°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E                     120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r>
              <a:rPr b="0" lang="en-US" sz="200" spc="-1" strike="noStrike">
                <a:solidFill>
                  <a:srgbClr val="ffff66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            </a:t>
            </a:r>
            <a:br>
              <a:rPr sz="1400"/>
            </a:b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              40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r>
              <a:rPr b="0" lang="en-US" sz="200" spc="-1" strike="noStrike">
                <a:solidFill>
                  <a:srgbClr val="ffff66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            20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N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2629080" y="5791320"/>
            <a:ext cx="266400" cy="3348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2629080" y="5353200"/>
            <a:ext cx="266400" cy="3268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2629080" y="4943520"/>
            <a:ext cx="266400" cy="326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2643120" y="6248520"/>
            <a:ext cx="265320" cy="3333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8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13" name=""/>
          <p:cNvSpPr/>
          <p:nvPr/>
        </p:nvSpPr>
        <p:spPr>
          <a:xfrm>
            <a:off x="1448280" y="4419720"/>
            <a:ext cx="640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QUIZ: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What city is located at 39° N.L., 116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533520" y="79920"/>
            <a:ext cx="7772400" cy="371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                                             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80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E                         100°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E                     120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r>
              <a:rPr b="0" lang="en-US" sz="200" spc="-1" strike="noStrike">
                <a:solidFill>
                  <a:srgbClr val="ffff66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            </a:t>
            </a:r>
            <a:br>
              <a:rPr sz="1400"/>
            </a:b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              40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r>
              <a:rPr b="0" lang="en-US" sz="200" spc="-1" strike="noStrike">
                <a:solidFill>
                  <a:srgbClr val="ffff66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            20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N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2629080" y="5816520"/>
            <a:ext cx="266400" cy="335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2629080" y="5365800"/>
            <a:ext cx="266400" cy="326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2629080" y="4930920"/>
            <a:ext cx="266400" cy="3268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6"/>
          <a:stretch/>
        </p:blipFill>
        <p:spPr>
          <a:xfrm>
            <a:off x="2643120" y="6273720"/>
            <a:ext cx="265320" cy="3333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8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02:13:17Z</dcterms:created>
  <dc:creator>Unknown User</dc:creator>
  <dc:description/>
  <dc:language>en-US</dc:language>
  <cp:lastModifiedBy>Texas A&amp;M Veterinary Medicine</cp:lastModifiedBy>
  <dcterms:modified xsi:type="dcterms:W3CDTF">2005-05-06T15:33:18Z</dcterms:modified>
  <cp:revision>58</cp:revision>
  <dc:subject/>
  <dc:title>Social Studies Mystery:</dc:title>
</cp:coreProperties>
</file>