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7125-B22F-4D0E-B23D-F18435460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0AD8-AE75-4A74-98E3-D4FF0E339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4EB9-9D06-49BB-8E8C-D315E56C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1115-14D6-46B4-A644-0693585F8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86F4-DAB2-44AC-A202-3754B2CEF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194F-990F-4391-B8EE-CB1B95925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F388-9CB9-420E-A6F4-B3EF38752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7C2C-5532-4C37-8AB6-C4DB54295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B346-06AA-4A2F-B210-DAE4D6A21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B467-2E66-4700-94B4-2F71B11D8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1761-6B88-44F7-B5E3-A8C201186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8348-CDF5-495E-BF4F-4C5309B79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799A-F31D-42F8-BCC0-2B98806B501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AE56-F904-478A-B16C-C110F560E4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9374-7F06-4EA3-B992-AD377635C57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A9E3-1BD8-4355-834A-D9B70F34FC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203E-176F-4E3B-A4B8-0D86BAA6ABE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vhardy</cp:lastModifiedBy>
  <cp:lastPrinted>2001-01-16T19:55:21Z</cp:lastPrinted>
  <dcterms:modified xsi:type="dcterms:W3CDTF">2003-05-23T21:25:11Z</dcterms:modified>
  <cp:revision>216</cp:revision>
  <dc:subject/>
  <dc:title>VTPP 423 - PHYSIOLOGY</dc:title>
</cp:coreProperties>
</file>