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B28C-B87C-4E8E-80C1-8A3B592F5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4D9-3DB1-4EDE-AFAF-4EFAF4AE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91D-216E-491B-A1A9-9BD33838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178-37E9-4A6C-A89C-77613032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3AE-A653-4835-BA39-65CC4A70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8584-4815-4743-A900-4D11834F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AEE4-E73B-40C3-B84A-94290600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2F0D-EB04-4BF6-BC8D-D10DA7CA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773F-99B7-4EC3-98B6-052D823F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3DCA-8C9A-4C78-809D-A20F77F7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24B0-1CED-4EA0-9DD6-3B836BC8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63FE-31AE-49B3-8AD0-2444FEE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D38-780C-47DA-AB16-E8CF511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B923-C6C5-479E-A588-A486BA90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D31B-6310-489F-B0D8-66349B3D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CAD4-C924-49F5-8D0C-DF8358BE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376C-A8BA-4DD9-B83F-FF914FBD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3B4F-3914-49E1-B491-931B6580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D3F-C9A3-4F8C-BD78-E6B0AA2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C10-1D52-4F7E-B824-56F44C9A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9E0-708E-4A6D-9591-EE635BD6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A0D-8913-46B9-AAD0-30E27A52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3EE-E261-4107-8690-A642A67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1D7-23DE-420F-897D-4D4A4DFA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08C-1EF6-4CF6-B43E-0820530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62DF-CD76-417F-B970-0911012D35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48FA-D10A-4720-875A-01F6E9DDAB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peer.tamu.edu/curriculum_modules/Cell_Biology/CellBiol/Proteins/whatweknow4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lobe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3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smoker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876920" y="1512720"/>
            <a:ext cx="4057560" cy="412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CigsToBrain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SmokeInLungs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j0178822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NoSmoking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Airplane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Money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laying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vhardy</cp:lastModifiedBy>
  <dcterms:modified xsi:type="dcterms:W3CDTF">2003-02-06T05:01:02Z</dcterms:modified>
  <cp:revision>28</cp:revision>
  <dc:subject/>
  <dc:title>Tobacco and the Cellular Mechanisms of Nicotine Addiction</dc:title>
</cp:coreProperties>
</file>