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53996-078B-494A-8D7A-6005AF3DAE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317E-E3CF-4C8D-9776-4AF8483BF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533D-CB72-44D5-BA52-DA4A54133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9F16-D4E5-4C67-850A-CA947549A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6F6D-44D9-4CC9-932E-AF056C899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1946-75CA-4F62-8961-610FE3CC4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5636-0849-4EEB-93BD-C0545EFA5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1741-51EC-4811-80F2-21E4A4444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5D35-382E-443A-A23E-A6729E4DC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05F2-A51E-4944-8C45-58A01FF0D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70DA-E901-4CAD-A0D7-1F7C1CE7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4DAA-E5F7-4527-82CD-CA52FA40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E905-C066-483F-AED4-999C1380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8B132-49DA-494C-B05A-F01E768D79C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0" t="0" r="53" b="101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Vince Hardy</cp:lastModifiedBy>
  <dcterms:modified xsi:type="dcterms:W3CDTF">2007-01-12T21:47:12Z</dcterms:modified>
  <cp:revision>29</cp:revision>
  <dc:subject/>
  <dc:title>Descriptive Wri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c01000000000001023620</vt:lpwstr>
  </property>
</Properties>
</file>