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C145-DA04-46B6-9093-A14608D47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DACD-5DD7-47F7-B52D-135B1261D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A711-114B-4333-82E5-B815C3176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DBC1-DE77-416B-BF23-FCFF0EEB4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451E-53E5-43F3-B07C-8309312A6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ECE6-7772-40EE-AAAE-DE23FCF5C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76F5-809C-4087-AAB1-E9963EC2E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8796-0353-4F12-8251-5C6155717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6E9D-4CEA-400C-AC34-4957CF5A1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65D4-D7A9-492C-8FB4-46F2C0AC4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362D-A2A3-4CC2-B1EF-3B39042D3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58DC-4DF1-4D1C-9334-9D12DE9FA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DCE7-AFD5-4129-AAC3-BA57161EF6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Fixed%20Rectangle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F534-99BE-40A6-99E1-2DB1CDC589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JBox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4578-D636-4837-A430-D947A48846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2D0A-ABC5-4E4E-AC46-9AF70E6603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7AFA-03B0-4205-A5BD-A935759ECE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78B1-8147-41E0-8E92-15A48C4195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F30B-BAC8-48F8-B8F7-FB6B163F36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ACAA-7F17-4CE8-82D0-E5DC1760A8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BE3F-525A-4D9A-8D53-B279CFD7420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27Z</dcterms:modified>
  <cp:revision>238</cp:revision>
  <dc:subject/>
  <dc:title>VTPP 423 - PHYSIOLOGY</dc:title>
</cp:coreProperties>
</file>