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ACE7-5341-4D3F-9835-18C05F6ED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9C64-8B7B-4830-814B-C300D967F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64B5-D508-4A89-B686-6E11E64EE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2A74-8915-4EBF-AC0E-EC885DE98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E13B-2920-4AB1-A122-14B55DC92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7C4B-412E-458F-A712-FA1D9AF7B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16A1-F28B-4194-9A8D-0EDA90809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4D1D-CFAA-40DA-9E62-35A635ACB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F505-C077-458D-99D5-A70522987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921E-C9FD-4614-89C4-E1F276287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0451-96BE-4A04-B362-AAD8A9434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EFA0-356C-4667-8998-04B37AA0C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0D79-0821-46BD-9A31-95AA405CD1D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2098-6036-4D30-92A1-5623D451A26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19:48Z</dcterms:modified>
  <cp:revision>207</cp:revision>
  <dc:subject/>
  <dc:title>VTPP 423 - PHYSIOLOGY</dc:title>
</cp:coreProperties>
</file>