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F2B7-F784-4D13-8604-F6D3271A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3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1 (C), Organizing and interpreting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0° E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1 (C), Organizing and interpreting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30° N.L., 100° E.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1 (C), Organizing and interpreting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152-9BFD-47D5-8D53-042FF5B1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E7F-4EA7-4054-A1B2-E2CB7834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227-4C7A-4B69-818F-A4D27736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83F-4E80-4CC6-9ACB-29EA40E8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128-058E-4A8E-B637-A407CE00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654-E768-44E7-A399-50CA57E5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B89-9611-4102-9659-DEE79EC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304-01D8-40F5-B82B-23932792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539-9351-4926-A4A4-F32243D1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DCE-6F7C-4665-920F-1D1132BE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6D6-4507-4B59-950D-0C8A097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D83-2332-4357-90AE-8E1D9A8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27C-A1EA-4B69-B4DA-88D65A20D58B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533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Social Studie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60676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is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448280" y="44197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1448280" y="44197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83808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629080" y="582948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629080" y="62388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629080" y="5800680"/>
            <a:ext cx="266400" cy="327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29080" y="625140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29080" y="582624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29080" y="5391000"/>
            <a:ext cx="266400" cy="327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446480" y="4419720"/>
            <a:ext cx="62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629080" y="5791320"/>
            <a:ext cx="266400" cy="334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629080" y="53532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629080" y="49435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643120" y="62485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48280" y="44197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UIZ: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629080" y="5816520"/>
            <a:ext cx="266400" cy="335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629080" y="536580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2629080" y="4930920"/>
            <a:ext cx="266400" cy="326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643120" y="6273720"/>
            <a:ext cx="265320" cy="333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Texas A&amp;M Veterinary Medicine</cp:lastModifiedBy>
  <dcterms:modified xsi:type="dcterms:W3CDTF">2005-05-06T15:33:18Z</dcterms:modified>
  <cp:revision>58</cp:revision>
  <dc:subject/>
  <dc:title>Social Studies Mystery:</dc:title>
</cp:coreProperties>
</file>