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CB70-4F21-4495-9E22-E4B729043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30DB-53DA-4AA8-9FB8-45D3BCC14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AA96-7343-4616-8234-1343F038E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1F1F-519F-41EA-ADF5-C03FBFBCF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5491-A8BE-44CF-9DFE-388DA2EB7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3D04-367B-4CF7-AC47-521E422CF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0219-1191-42F6-8ABF-9E5B359D7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4F0B-B9B1-41EA-81F6-79FF09C24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54B6-4481-4568-A2EE-58170E7F2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3D13-0E9E-4FB1-B373-F6EB781A7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807F-45BB-4C56-9C2A-994438246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CF67-0E66-4F6F-A6CE-E3C20A5AE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975F-E5C2-4DDC-8533-8DDE679F5F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1C9B-1611-4B84-9D97-3F57D8549FD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4587-DBAA-4FA7-9B75-65CFEDE2BCE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4:23Z</dcterms:modified>
  <cp:revision>210</cp:revision>
  <dc:subject/>
  <dc:title>VTPP 423 - PHYSIOLOGY</dc:title>
</cp:coreProperties>
</file>