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AE9A-5139-4AD7-A449-9E3D1BB15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A85-18B4-45A9-A4F8-B39EE33E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FCB-9457-4E38-A76E-B0AAC7F4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6E0A-4188-454A-9093-3CA25715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34A3-AD19-4BE4-B7FE-A70293AC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8ED-BFA1-4694-9148-25A1FB87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E8D7-925B-4E00-A19C-A192724D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ADAB-D0E7-4E62-B4DC-B231ADFC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442-9DCD-4861-8D0B-D80C537B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050-9E36-42CB-A181-596AE7CF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003C-A204-474B-9696-C091043B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8A9A-BC20-4B6B-9BC4-94B450B6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6E9-855E-4AC2-8428-5BA128D0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FFBE-06E9-452A-8BCE-CF0DC4AADC1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itstudent</cp:lastModifiedBy>
  <dcterms:modified xsi:type="dcterms:W3CDTF">2002-08-06T19:40:55Z</dcterms:modified>
  <cp:revision>7</cp:revision>
  <dc:subject/>
  <dc:title>What’s the difference between weather and climate?</dc:title>
</cp:coreProperties>
</file>