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9208-CBD5-47E8-993C-FFD535F4F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03BA9-BD1D-4AF3-A249-52637FA15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2BCF1-4763-4357-989F-D40ADAFF2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09B14-FB73-4641-A98C-55595B631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09717-31B4-4AF5-A1E9-8B1A62A38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10919-5081-4721-A91A-9CF696E87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F40B7-485C-401B-B1C3-F30F54606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CB61-ACEB-402F-87EA-5E2A85891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412A1-9AD9-4F81-B04C-29E7E411D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F7B0-6A9B-4D55-996C-A072714B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0F3A-E2B5-4C37-8D2C-9428FDAAD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63729-CB2C-4FC2-BF86-5EEC7ADB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8649-2E31-4590-81AC-FEF12FF0C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5E80-42DC-49D6-A3EC-F4F26E00B4C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Laconia"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vhardy</cp:lastModifiedBy>
  <dcterms:modified xsi:type="dcterms:W3CDTF">2003-02-06T02:02:45Z</dcterms:modified>
  <cp:revision>22</cp:revision>
  <dc:subject/>
  <dc:title>What Do We Do To Purify Water Today?</dc:title>
</cp:coreProperties>
</file>