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73B9-8820-48CE-896C-B281AC7A6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B6D9-6E70-4397-B55D-555E9CC0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0DA-575E-4764-9E0D-9BAB13CE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E395-90A3-4323-B297-8A93D97E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861E-0730-400E-B790-FE0AA1CD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76D9-8274-4546-A3D0-8F4C104A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629C-40F7-4833-8015-EF108E5B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AC24-5CA0-4123-A921-1136DB3A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6FC1-55D6-4FF8-9D8B-8A08E3DD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B921-7A7E-473E-A47B-57A2B79B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7540-43DB-43FF-AB45-6EA9DBC5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D9CE-6F26-4B84-AE27-8B960726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CC6-809D-4855-8DE7-45862B65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1DD0-4EBE-4D0E-B06C-5B55769083C1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../../../../5-Africa/PowerPoint%20Files/Africa_v%200.1/Appendices/Social%20Studies/AbsoLoca.ppt" TargetMode="External"/><Relationship Id="rId7" Type="http://schemas.openxmlformats.org/officeDocument/2006/relationships/hyperlink" Target="file:///../Appendices/Social%20Studies/AbsoLoca.ppt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../../../../5-Africa/PowerPoint%20Files/Africa_v%200.1/Appendices/Social%20Studies/AbsoLoca.ppt" TargetMode="External"/><Relationship Id="rId7" Type="http://schemas.openxmlformats.org/officeDocument/2006/relationships/hyperlink" Target="file:///../Appendices/Social%20Studies/AbsoLoca.ppt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../../../../5-Africa/PowerPoint%20Files/Africa_v%200.1/Appendices/Social%20Studies/AbsoLoca.ppt" TargetMode="External"/><Relationship Id="rId7" Type="http://schemas.openxmlformats.org/officeDocument/2006/relationships/hyperlink" Target="file:///../Appendices/Social%20Studies/AbsoLoca.ppt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-8497440"/>
            <a:ext cx="7772400" cy="208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80°E                         100° E                     120°E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      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40°N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       20°N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629080" y="581652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629080" y="536580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2629080" y="493092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2643120" y="6273720"/>
            <a:ext cx="265320" cy="333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-8497440"/>
            <a:ext cx="7772400" cy="208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80°E                         100° E                     120°E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      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40°N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       20°N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629080" y="5829480"/>
            <a:ext cx="266400" cy="334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629080" y="536580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2629080" y="493092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2643120" y="6273720"/>
            <a:ext cx="265320" cy="333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629080" y="623880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629080" y="5800680"/>
            <a:ext cx="266400" cy="327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629080" y="5391000"/>
            <a:ext cx="266400" cy="32724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rId6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ere</a:t>
            </a:r>
            <a:r>
              <a:rPr b="0" lang="en-US" sz="1600" spc="-1" strike="noStrike" u="sng">
                <a:solidFill>
                  <a:srgbClr val="ffff66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629080" y="623880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629080" y="5800680"/>
            <a:ext cx="266400" cy="327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29080" y="5391000"/>
            <a:ext cx="266400" cy="3272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rId6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ere</a:t>
            </a:r>
            <a:r>
              <a:rPr b="0" lang="en-US" sz="1600" spc="-1" strike="noStrike" u="sng">
                <a:solidFill>
                  <a:srgbClr val="ffff66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629080" y="623880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629080" y="5800680"/>
            <a:ext cx="266400" cy="327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2629080" y="5391000"/>
            <a:ext cx="266400" cy="32724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rId6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ere</a:t>
            </a:r>
            <a:r>
              <a:rPr b="0" lang="en-US" sz="1600" spc="-1" strike="noStrike" u="sng">
                <a:solidFill>
                  <a:srgbClr val="ffff66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638440" y="6251400"/>
            <a:ext cx="266760" cy="335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629080" y="582624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629080" y="5391000"/>
            <a:ext cx="266400" cy="327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629080" y="625140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2629080" y="582624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629080" y="5391000"/>
            <a:ext cx="266400" cy="327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619360" y="6251400"/>
            <a:ext cx="266760" cy="335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610000" y="582624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2619360" y="5391000"/>
            <a:ext cx="266760" cy="327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-8497440"/>
            <a:ext cx="7772400" cy="208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80°E                         100° E                     120°E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      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40°N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       20°N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629080" y="5791320"/>
            <a:ext cx="266400" cy="334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629080" y="535320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629080" y="494352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2643120" y="6248520"/>
            <a:ext cx="265320" cy="333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-8497440"/>
            <a:ext cx="7772400" cy="208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80°E                         100° E                     120°E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      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40°N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                     20°N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629080" y="581652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629080" y="536580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2629080" y="493092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2643120" y="6273720"/>
            <a:ext cx="265320" cy="33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Texas A&amp;M Veterinary Medicine</cp:lastModifiedBy>
  <cp:lastPrinted>2001-09-05T16:54:47Z</cp:lastPrinted>
  <dcterms:modified xsi:type="dcterms:W3CDTF">2005-05-17T17:12:42Z</dcterms:modified>
  <cp:revision>733</cp:revision>
  <dc:subject/>
  <dc:title>No Slide Title</dc:title>
</cp:coreProperties>
</file>