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BBFC-905E-4F81-A168-F3C337458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B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D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M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L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6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C) Writing with accurate spelling of syllable constru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D) Writing with accurate spelling of roo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7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 Using regular and irregular plurals correc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B) Writing in complete sent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C) Using conjun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D) Using adjectives and adverbs appropri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E) Using prepositional phrases to elabo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F) Employing standard English usage in writing for aud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G) Using verb tenses appropriately and consisten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H) Writing with increasing accuracy when using apostrophes in contr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I) Writing with increasing accuracy when using pronoun c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9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(B) Responding constructively to others’ writ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 (C) Evaluating how well own writing achieves purpos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7 (D), 7.9 (E), 7.10 (B, L), 7.15 (C), 7.16 (B-D), 7.17 (A-I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10 (B, L), 8.15 (C), 8.16 (B-D), 8.17 (A-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of independent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 Selecting various sources 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Reading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Read to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the distinguishing features of gen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investigator’s challenge quiz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E, K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text’s structure or progression of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simile personification 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, D, E, F, G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Describing mental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the text’s structure or progression o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Determining a text’s mai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 Paraphrasing and summarizing text to work on id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ext ideas through various me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izing and organizing information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, F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ummary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L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9 (A-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Responding constructively to others’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 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-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languag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i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58F-A73F-44FB-9A7A-229D3084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C40-8652-4756-8CB1-00FCBDD4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65A-1B6C-4F11-980D-5A79C39D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81B-3AB3-4337-A586-84804AB0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E1B-35A7-4243-853D-1CE46439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734-12E3-45D5-8985-9429A5E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07F-483F-42AE-9BCD-8D1049FC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0F1-64AB-4523-BEA1-7F37081A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89D-4F74-499E-8860-3D94BC5D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B32-716F-4A77-88C3-D4D6724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02C-90C0-44D5-A5C0-5035B6CD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E3E-0F34-4F8C-AB3A-F4EDA27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B5E7-6593-48F7-8B57-A623D58B3BDC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emonstrate reading comprehens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descriptive writing to describe an objec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to others read their example of descriptive writing and create a visual from the readi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 You Recall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ad “The Jade Dragon” carefull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est your memory and understanding of important details by completing the Investigator’s Challenge Qui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233520" cy="35812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nguage “Treasure Hunt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nd examples of each of the following in the story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mil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ersonificatio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ymbolism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do these improve the story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2957760" cy="45608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ss the Story Alo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t the end of the story, Jace’s mother calls him home. How will Jace explain his absence and the presence of the Jade Dragon to his mother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mmarize the key points of the story as Jace might have told the story to his mother. Limit your summary to 250 word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here to find out more about summari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943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Imagin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Jade Dragon is described twice in the story. Find and re-read the two description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w close your eyes and imagine how the dragon look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rite a short descriptive essay that captures your mental image of the drago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here to find out more about descriptive writ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“see” the Jade Drag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lect a partner from among your classmat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as your partner reads his or her description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Based only on this description, draw a picture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ow switch roles and repeat the activ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int a Picture with Wo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Jace uses two similes to describe the weight of the drago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’s as light as the souls it guards and as heavy as the burden of the centuries.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dentify the two simil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nk of two new similes to add to the description of the dragon that you wrot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17:31Z</dcterms:created>
  <dc:creator>Texas A&amp;M Veterinary Medicine</dc:creator>
  <dc:description/>
  <dc:language>en-US</dc:language>
  <cp:lastModifiedBy>Jeremiah McNichols</cp:lastModifiedBy>
  <dcterms:modified xsi:type="dcterms:W3CDTF">2008-09-17T16:11:26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4000000000001023620</vt:lpwstr>
  </property>
</Properties>
</file>