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43631-7FB1-4A3B-8F8F-EF1046FA3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E1C4-F9DC-400E-819F-AC008D6ED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8A92-BC97-4B85-8C9E-9BFBFC4DF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89E4-DB7A-4FFF-A6BA-5515C64C4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3314-2262-4D74-AB07-E4D6DF307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2A357-565C-4377-8A4C-EA3BAADAA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CE5C-681D-44D5-AD4C-CC170AAAF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15B9-FA8F-4294-B55F-1D08C3F20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C4F74-43D6-48CE-AF5A-EF7455B94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A54B-10D2-48D8-8BB0-F4C9E0178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C0D4-F969-43FA-AB37-F2BE4D683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5E25-3B13-4893-AE17-3718F8581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7613-F5EC-45D0-BF4B-B184BD1A4F5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3BC4A-A3E8-42F6-848A-5FA2ACA7C43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F982-3497-4812-9522-63578D8D6B9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7-28T15:13:04Z</dcterms:modified>
  <cp:revision>207</cp:revision>
  <dc:subject/>
  <dc:title>VTPP 423 - PHYSIOLOGY</dc:title>
</cp:coreProperties>
</file>