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04F8-4BE9-4417-837A-8DBD20A0679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0D764-561E-4AFC-A1B9-4A993FCD5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850B3-5AD2-4FDD-8BDD-BD394AB39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C046A-AE83-48DD-9059-1511765F9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E685D-C59A-463E-9E07-03AB08293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4CACC-5BE8-4FB5-BE02-743B22E82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BA16-EC2A-4F9F-A4EA-BFD0E38ED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B5794-9FB4-4315-9821-3C1AE88F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A022-A9BA-44D7-B50C-184BA3EF1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80533-B01B-49F3-9196-620991D5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1C8A-3B58-4E46-8AE8-6E1E727D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694D7-8FA0-4B6D-A6DB-47C768B57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0229-B2EF-4B09-8447-251E3314F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C7FB-1969-4987-9772-ABBFD113098A}"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wklemm</cp:lastModifiedBy>
  <dcterms:modified xsi:type="dcterms:W3CDTF">2003-06-23T21:09:03Z</dcterms:modified>
  <cp:revision>284</cp:revision>
  <dc:subject/>
  <dc:title>Combating Infections</dc:title>
</cp:coreProperties>
</file>