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3.gif" ContentType="image/gif"/>
  <Override PartName="/ppt/media/image21.jpeg" ContentType="image/jpeg"/>
  <Override PartName="/ppt/media/image16.png" ContentType="image/png"/>
  <Override PartName="/ppt/media/image19.gif" ContentType="image/gif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CB4A-9A8A-4D9A-ACC7-5895B1849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2EC7-F72C-4135-88C6-40066CD5F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B93C-23AC-4C52-A8C1-41E1EE8E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B450-1DB4-480C-BD14-40DDBBFA4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05A2-C5A4-49AB-AEDA-543AC97A5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7B4B-75D8-40E2-B392-B8560A136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01FB-E127-4971-AA10-CE8D9B43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999E-78DD-4C1F-A993-C7D70A85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DBA8-80A4-4D0E-9B56-A1A39881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15BC-014E-4D8F-9DE2-0DDB514F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B61E-CC07-459F-BD58-87758FD9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AA69-5F15-43AA-8990-D11EB10C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31F7-3390-48C7-B948-96F21F12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786F-8142-4CC8-A262-C59B4AFE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C76C-683D-44B9-B21C-16F5F3E1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A7B3-66E6-4C49-83C6-70E32512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8006-6721-495A-BF1E-92F239D71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E2E6-06A4-4957-B034-6B3F48E5A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15B8-91C0-41E2-A305-7F14DC1C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4975-7A34-4C88-BF0D-1C05473E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595C-CA56-4C83-A866-6DB83406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5619-58B5-475C-8E94-582AF2A0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34DA-788F-413D-A1E2-C64C1598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E54D-DFEB-4A96-A5DA-52AFA459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A9C9-5EF4-43B5-8654-B79E5926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C051-1911-489A-9D29-BE15AA9E1B2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DB2B-1EB3-4F2F-8A09-00707E3A407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-296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0" t="0" r="-17" b="272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0" t="0" r="-17" b="78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0" t="0" r="-139" b="-27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0" t="0" r="-109" b="143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0" t="0" r="0" b="-63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9000000000001023620</vt:lpwstr>
  </property>
</Properties>
</file>