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1CCA-DB19-4FC1-AC38-FFD0CF98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812-F75A-450B-B083-1EE6FEF2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8659-DC3B-4A9B-B499-3768C372E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1581-5CC4-4954-880B-B6AED29C6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40FB-E0BA-4261-A448-92E2E365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356-4D9F-47ED-9C94-C3551D0D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13A-1B59-4729-B222-50DF5005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A0A-E7A1-4A7E-B0DF-590FAF32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670-B3FC-4C13-8BA4-4F3F7562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E23-6040-4E33-B53D-A03C470B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C05-4D6E-4C4D-8D25-FAA33BF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E6C-6EC1-4CA8-BEC8-ACEEE9DA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479-6134-401E-A2E2-85DE9C22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D20-EEB7-433A-8879-94CFEA63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DBD-359E-4EAB-B647-7E01F98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E2D-906A-4D2E-B22A-D162A50D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961-DBA2-4996-8DDC-A6FD034D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F173-90E5-4B92-B395-5B87DBAE27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vhardy</cp:lastModifiedBy>
  <dcterms:modified xsi:type="dcterms:W3CDTF">2003-05-23T21:24:10Z</dcterms:modified>
  <cp:revision>31</cp:revision>
  <dc:subject/>
  <dc:title>Fractions to Decimals</dc:title>
</cp:coreProperties>
</file>