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481-B7BD-4D96-B29C-9BEC6696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D40-773D-478F-8ABA-682CFB46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927-BFCD-46B8-A94C-B0AC3F2C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E2D-1EAB-46E1-9AEC-7B64B43C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81D-CD27-4050-95ED-BC22E4F6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AD0-DF90-4A92-BD04-3AF61B2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E63-79DF-4413-9CE1-2BC70AC2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B9E-A016-4069-B2AF-C2C22556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F4D-6E78-46A6-A59E-C597C7B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3B3-C8B8-4B31-A9E5-5D637BA8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EB9-5431-40DF-9CF6-142126A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6B0-E4D2-449C-801E-C40C11E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A53-548D-4E0B-A4A3-83D1E0B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972A-FA46-444F-8E26-37DC131AF18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4572000" cy="322272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26328" r="0" b="0"/>
          <a:stretch/>
        </p:blipFill>
        <p:spPr>
          <a:xfrm>
            <a:off x="5334120" y="22096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38096" r="0" b="0"/>
          <a:stretch/>
        </p:blipFill>
        <p:spPr>
          <a:xfrm>
            <a:off x="990720" y="2438280"/>
            <a:ext cx="2590560" cy="130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2895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en two plates run into each other, they will do one of the following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22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30963" r="0" b="0"/>
          <a:stretch/>
        </p:blipFill>
        <p:spPr>
          <a:xfrm>
            <a:off x="3581280" y="2971800"/>
            <a:ext cx="2086200" cy="110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95480" y="35053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ser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0" t="30963" r="0" b="0"/>
          <a:stretch/>
        </p:blipFill>
        <p:spPr>
          <a:xfrm>
            <a:off x="3581280" y="5105520"/>
            <a:ext cx="2086200" cy="1104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4800240" y="5029200"/>
            <a:ext cx="1600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14640" y="5029200"/>
            <a:ext cx="6858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44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962520" cy="216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3880" y="2133720"/>
            <a:ext cx="5335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0" t="13456" r="0" b="0"/>
          <a:stretch/>
        </p:blipFill>
        <p:spPr>
          <a:xfrm>
            <a:off x="1371600" y="4343400"/>
            <a:ext cx="281952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411480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5943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rcRect l="4109" t="0" r="0" b="5163"/>
          <a:stretch/>
        </p:blipFill>
        <p:spPr>
          <a:xfrm>
            <a:off x="3429000" y="2362320"/>
            <a:ext cx="1781280" cy="175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 this activity you will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earn of the different ways that mountains form.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earn why the Himalayas are so tall.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791320" cy="3159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219320" y="23623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19320" y="159984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523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8655" t="0" r="8222" b="6075"/>
          <a:stretch/>
        </p:blipFill>
        <p:spPr>
          <a:xfrm>
            <a:off x="2895480" y="1295280"/>
            <a:ext cx="3657600" cy="2210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2209680" cy="163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9880" y="3124080"/>
            <a:ext cx="1447920" cy="609840"/>
          </a:xfrm>
          <a:prstGeom prst="rightArrow">
            <a:avLst>
              <a:gd name="adj1" fmla="val 50000"/>
              <a:gd name="adj2" fmla="val 5935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20860" r="0" b="0"/>
          <a:stretch/>
        </p:blipFill>
        <p:spPr>
          <a:xfrm>
            <a:off x="2514600" y="1143000"/>
            <a:ext cx="3809880" cy="231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9274200">
            <a:off x="4190400" y="175212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9174600">
            <a:off x="3885840" y="213336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057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750000">
            <a:off x="2970720" y="1599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McNichols</cp:lastModifiedBy>
  <dcterms:modified xsi:type="dcterms:W3CDTF">2006-05-27T17:10:06Z</dcterms:modified>
  <cp:revision>58</cp:revision>
  <dc:subject/>
  <dc:title>Social Studies Mystery:</dc:title>
</cp:coreProperties>
</file>