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8.jpeg" ContentType="image/jpeg"/>
  <Override PartName="/ppt/media/image5.png" ContentType="image/png"/>
  <Override PartName="/ppt/media/image4.png" ContentType="image/png"/>
  <Override PartName="/ppt/media/image21.jpeg" ContentType="image/jpeg"/>
  <Override PartName="/ppt/media/image16.png" ContentType="image/png"/>
  <Override PartName="/ppt/media/image19.gif" ContentType="image/gif"/>
  <Override PartName="/ppt/media/image10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jpeg" ContentType="image/jpe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AA25-161D-4C49-98E8-294B1E707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molecule has two rings of carbon and each ring has a nitrogen atom. The two diagrams show the structure in the two common ways that chemists describe molecules. On the right, black balls = carbon, white balls = hydrogen, blue balls = nitrogen. The three-dimensional diagram on the right helps to visualize how nicotine needs to find a place on cell membranes where it can fit, like a hand in a glove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FB8D-1C82-4289-86AE-79FAFC130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42D0-4CB7-46A9-AA5A-554841804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6838-4905-4692-A9A9-D2461B325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76D9-7BBC-491C-82CC-197E3CC77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F7FA8-825C-4F54-A192-37E5C9576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9ADB2-7A78-483E-BAC2-F903B736D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E854C-71B0-4F1F-92F4-008001FDC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729F9-25DA-41D9-A3A9-D9D9AF1CB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8E14C-8FEF-49BB-9839-23E044225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57994-35DC-45AC-B160-7D5D5A34F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441F5-CDA9-4A3D-8ABD-EAB5AC7A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35B8-5159-4BAB-8A42-962BB4FA3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6B44F-8673-4D07-A232-D28EA07D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15A5C-D6C0-4942-B5B0-C9A73914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269C3-94B3-448A-B56A-D87BAFC98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DA139-8234-4DB7-AA54-971457BCD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05A64-E4A9-498B-BE13-1A8E17FDC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9D00-9F5D-4E7E-880B-F7992FDD7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D477-C4C4-4DF2-809F-4A487089E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9E56-8C1F-450E-97EF-15C0347C9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5575-9114-415F-B8D2-D3D96ADE1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BDD1-1B71-4678-881E-7E4E396A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3AEA-F417-4433-9363-1D168C56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625D-A342-4F42-A372-E90D2254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F99A4-3841-47D5-85C8-4202C19C1EF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AD0C-41C6-4FFD-A7D5-DBA235AD05C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eeeee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hyperlink" Target="http://peer.tamu.edu/curriculum_modules/Cell_Biology/CellBiol/Proteins/whatweknow4.htm" TargetMode="External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3800" y="609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Tobacco and Nicotine Addiction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35472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a presentation by George Sanchez,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year Biomedical Science major, Texas A&amp;M Univers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648320" cy="33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Globe" descr=""/>
          <p:cNvPicPr/>
          <p:nvPr/>
        </p:nvPicPr>
        <p:blipFill>
          <a:blip r:embed="rId2"/>
          <a:stretch/>
        </p:blipFill>
        <p:spPr>
          <a:xfrm>
            <a:off x="2416320" y="2136600"/>
            <a:ext cx="3806640" cy="35784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to Smoking: </a:t>
            </a:r>
            <a:br>
              <a:rPr sz="4400"/>
            </a:b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 Global Problem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905120"/>
            <a:ext cx="2895480" cy="1371600"/>
            <a:chOff x="457200" y="1905120"/>
            <a:chExt cx="2895480" cy="1371600"/>
          </a:xfrm>
        </p:grpSpPr>
        <p:sp>
          <p:nvSpPr>
            <p:cNvPr id="363" name=""/>
            <p:cNvSpPr/>
            <p:nvPr/>
          </p:nvSpPr>
          <p:spPr>
            <a:xfrm flipH="1">
              <a:off x="532800" y="1905120"/>
              <a:ext cx="2819160" cy="13716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" y="201312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-third of the global adult population smokes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181480" y="4266720"/>
            <a:ext cx="3657600" cy="1676520"/>
            <a:chOff x="5181480" y="4266720"/>
            <a:chExt cx="3657600" cy="1676520"/>
          </a:xfrm>
        </p:grpSpPr>
        <p:sp>
          <p:nvSpPr>
            <p:cNvPr id="366" name=""/>
            <p:cNvSpPr/>
            <p:nvPr/>
          </p:nvSpPr>
          <p:spPr>
            <a:xfrm flipV="1">
              <a:off x="5181480" y="4266360"/>
              <a:ext cx="3657600" cy="1676520"/>
            </a:xfrm>
            <a:prstGeom prst="wedgeRoundRectCallout">
              <a:avLst>
                <a:gd name="adj1" fmla="val -48004"/>
                <a:gd name="adj2" fmla="val 69314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343400"/>
              <a:ext cx="3657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Of those who smoke during adolescence and throughout life, one-half die from smoke-related diseases.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4572000"/>
            <a:ext cx="2971800" cy="1371600"/>
            <a:chOff x="533520" y="4572000"/>
            <a:chExt cx="2971800" cy="1371600"/>
          </a:xfrm>
        </p:grpSpPr>
        <p:sp>
          <p:nvSpPr>
            <p:cNvPr id="369" name=""/>
            <p:cNvSpPr/>
            <p:nvPr/>
          </p:nvSpPr>
          <p:spPr>
            <a:xfrm flipH="1" flipV="1">
              <a:off x="609120" y="4572000"/>
              <a:ext cx="2819520" cy="1371600"/>
            </a:xfrm>
            <a:prstGeom prst="wedgeRoundRectCallout">
              <a:avLst>
                <a:gd name="adj1" fmla="val -43518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6800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king causes one-third of deaths in men aged 35-69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1905120"/>
            <a:ext cx="2971800" cy="1222920"/>
            <a:chOff x="5562720" y="1905120"/>
            <a:chExt cx="2971800" cy="1222920"/>
          </a:xfrm>
        </p:grpSpPr>
        <p:sp>
          <p:nvSpPr>
            <p:cNvPr id="372" name=""/>
            <p:cNvSpPr/>
            <p:nvPr/>
          </p:nvSpPr>
          <p:spPr>
            <a:xfrm>
              <a:off x="5562720" y="1905120"/>
              <a:ext cx="2971800" cy="12189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38680" y="19368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one of few causes of mortality that is increasing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is Addictiv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91120" y="21333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80% of attempts to quit smoking fail within a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 the U.S., 70% of smokers say they would like to quit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3% are successful each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6" name="smoker" descr="a smoker"/>
          <p:cNvPicPr/>
          <p:nvPr/>
        </p:nvPicPr>
        <p:blipFill>
          <a:blip r:embed="rId2"/>
          <a:srcRect l="0" t="0" r="0" b="6992"/>
          <a:stretch/>
        </p:blipFill>
        <p:spPr>
          <a:xfrm>
            <a:off x="533520" y="2057400"/>
            <a:ext cx="3276360" cy="347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6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Kill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3809880"/>
            <a:ext cx="7958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Normal Lung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Smoker’s Lung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e complex mixture called tobacco ‘tar’, and carbon monoxide, are mainly responsible for most of the diseases that are associated with the long-term use of tobacco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35996" t="33926" r="35996" b="40648"/>
          <a:stretch/>
        </p:blipFill>
        <p:spPr>
          <a:xfrm>
            <a:off x="4876920" y="1295280"/>
            <a:ext cx="3581280" cy="243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35996" t="33926" r="35996" b="41927"/>
          <a:stretch/>
        </p:blipFill>
        <p:spPr>
          <a:xfrm>
            <a:off x="533520" y="1295280"/>
            <a:ext cx="3733560" cy="2416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Nicotine Addictive Component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produces effects that are commonly seen with other addictive drugs such as amphetamines and cocaine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and self-administration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crease in movements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Reinforces place reference (learned associations – bars, restaurants, etc.)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tructure of Nicotin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3520" y="2533680"/>
            <a:ext cx="4206600" cy="28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4876920" y="1512720"/>
            <a:ext cx="4057560" cy="412596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765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4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earn more about how molecules interact with protein “receptors” on cell membra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Idea of Molecular Receptor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Drugs bind to cell membran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Regions on membrane where this binding occurs are called molecular receptors or binding sit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Binding sites are proteins that are specific matches to the drug molecule (fit together like a key in  a lock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Effect of the drug is achieved by this binding (like the key and lock, think of it as opening a function in the cell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Long-Term Use Leads to Cigarette Craving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Long-term use increases the number of molecular receptors in brains of humans.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Increased number of receptors increases the “demand” for nicotine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When receptors are unoccupied by nicotine, they “complain” – “Where is our nicotine?”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3" name="CigsToBrain" descr=""/>
          <p:cNvPicPr/>
          <p:nvPr/>
        </p:nvPicPr>
        <p:blipFill>
          <a:blip r:embed="rId2"/>
          <a:stretch/>
        </p:blipFill>
        <p:spPr>
          <a:xfrm>
            <a:off x="4640400" y="1752480"/>
            <a:ext cx="4046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Why Do Smokers Crave Nicotine?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acts in nervous system circuits that release a “reward” chemical –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Brain learns to “like” the release of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When nicotine is withdrawn, the brain’s reward system signals the craving to restore nicotine level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for Nicotine 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high when nicotine is at low concentration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satisfied when nicotine levels are restored to levels to which nerve cells have become accustomed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erve cells learn that nicotine is normal, lack of nicotine is abnorma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Pattern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After a night of abstinence, dopamine concentration in brain is at its lowest level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First cigarette strongly activates dopamine release.  Greatest pleasure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olerance occurs quickly, because receptors adapt quickly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hroughout a day, episodes of cigarette smoking are separated by short periods of abstinence; nicotine levels drop and receptors “cry out for their nicotine fix.”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Method of Deliv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17524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products include cigarettes, cigars, and pipe tobacco, which are smoked; snuff, which is inhaled into the nose; and chewing tobacco, which is chewed but</a:t>
            </a:r>
            <a:r>
              <a:rPr b="0" lang="en-US" sz="2400" spc="-1" strike="noStrike">
                <a:solidFill>
                  <a:srgbClr val="eeeeee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ot swallowed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Inhalation of tobacco smoke is the fastest and most efficient way yet discovered to deliver nicotine to the brain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4" name="SmokeInLungs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275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Process is Still a Myst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f an individual quits smoking for a few weeks, the number of nicotine receptors returns toward normal (like that of non smokers)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BUT …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can still exist even years after quitting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Long-term changes have occurred in neural circuits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Smokers remember the behaviors that were linked to sensory cues and reinforced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ink Before You Ac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403" name="j0178822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819160" cy="350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1143000" y="5562720"/>
            <a:ext cx="647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moking is the leading cause of premature death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378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History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35878" t="33289" r="36837" b="43205"/>
          <a:stretch/>
        </p:blipFill>
        <p:spPr>
          <a:xfrm>
            <a:off x="684360" y="2166840"/>
            <a:ext cx="3879720" cy="3165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5240" y="220968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was first used by the peoples of the pre-Columbian America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ative Americans apparently cultivated the plant and smoked it in pipes for medicinal and ceremonial purposes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Spreads to Europ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29997" t="27525" r="30956" b="35368"/>
          <a:stretch/>
        </p:blipFill>
        <p:spPr>
          <a:xfrm>
            <a:off x="1595520" y="1450800"/>
            <a:ext cx="5790960" cy="1425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grpSp>
        <p:nvGrpSpPr>
          <p:cNvPr id="310" name=""/>
          <p:cNvGrpSpPr/>
          <p:nvPr/>
        </p:nvGrpSpPr>
        <p:grpSpPr>
          <a:xfrm>
            <a:off x="304920" y="3200400"/>
            <a:ext cx="8610480" cy="3204000"/>
            <a:chOff x="304920" y="3200400"/>
            <a:chExt cx="8610480" cy="3204000"/>
          </a:xfrm>
        </p:grpSpPr>
        <p:sp>
          <p:nvSpPr>
            <p:cNvPr id="311" name=""/>
            <p:cNvSpPr/>
            <p:nvPr/>
          </p:nvSpPr>
          <p:spPr>
            <a:xfrm>
              <a:off x="380880" y="4876560"/>
              <a:ext cx="83059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572000"/>
              <a:ext cx="0" cy="304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920" y="3200400"/>
              <a:ext cx="32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0f0f0"/>
                  </a:solidFill>
                  <a:latin typeface="Times New Roman"/>
                </a:rPr>
                <a:t>Adventurers like Jean Nicot of France (where nicotine derives its name) popularize tobacc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90720" y="480060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mid 1500’s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6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51814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Fran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412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Portugal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0100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52131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Spai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Engl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8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9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65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10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 the Colonie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12481" t="7680" r="11399" b="13766"/>
          <a:stretch/>
        </p:blipFill>
        <p:spPr>
          <a:xfrm>
            <a:off x="708120" y="1979640"/>
            <a:ext cx="3787560" cy="3733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182880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first successful commercial crop was cultivated in Virginia in 1612 by Englishman John Rolfe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Within seven years, it was the colony's </a:t>
            </a:r>
            <a:r>
              <a:rPr b="0" i="1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 export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Over the next two centuries, the growth of tobacco as a cash crop fueled the demand in North America for slave lab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378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Early Discoveries of the Effects of Smoking: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The 20</a:t>
            </a:r>
            <a:r>
              <a:rPr b="0" lang="en-US" sz="3600" spc="-1" strike="noStrike" baseline="30000">
                <a:solidFill>
                  <a:srgbClr val="eeeeee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30, researchers in Cologne, Germany, noticed that many cancer patients were 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Eight years later, Dr. Raymond Pearl of Johns Hopkins University reported that smokers do not live as long as non-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44, the American Cancer Society began to warn about possible ill effects of smoking, although it admitted that "no definite evidence exists" linking smoking and lung canc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Tobacco Industry Responded Swiftly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80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54 the major U.S. tobacco companies had formed the tobacco industry research council to counter the growing health concern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ass-marketing began for filtered and low-tar cigarettes that promised a "healthier" smoke (now we know smokers compensate by smoking more and inhaling longer)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86280" cy="3794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Next Big Blow to Tobacco Indust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3960" y="19810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1964,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urgeon General's Advisory Committee on Smoking and Health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put out a 387-page report stating that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cigarette smoking is causally related to lung cancer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65, Congress passed the Federal Cigarette Labeling and Advertising Act requiring the Surgeon General's warnings on all cigarette package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666880"/>
            <a:ext cx="4495680" cy="1600200"/>
            <a:chOff x="380880" y="2666880"/>
            <a:chExt cx="4495680" cy="1600200"/>
          </a:xfrm>
        </p:grpSpPr>
        <p:sp>
          <p:nvSpPr>
            <p:cNvPr id="338" name=""/>
            <p:cNvSpPr/>
            <p:nvPr/>
          </p:nvSpPr>
          <p:spPr>
            <a:xfrm>
              <a:off x="380880" y="2666880"/>
              <a:ext cx="4495680" cy="1600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160" y="2895480"/>
              <a:ext cx="4191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RGEON GENERAL’S WARNING: Smoking Causes Lung Cancer, Heart Disease, Emphysema, And May Complicate Pregnancy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4120" y="1066680"/>
            <a:ext cx="3581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President Clinton announces Food and Drug Administration’s plan to regulate tobacco, especially sales and advertising aimed at min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371600"/>
            <a:ext cx="2819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moking is banned on all interstate buses and all domestic airline flights lasting 6 hours or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dustry on the Run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94160"/>
            <a:ext cx="2819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All broadcast advertising was ban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13120"/>
            <a:ext cx="8001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813120"/>
            <a:ext cx="0" cy="685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13120"/>
            <a:ext cx="0" cy="9874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347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7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2610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472752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ississippi files the first of 22 state lawsuits seeking to recoup millions of dollars from tobacco companies for smokers’ Medicaid bi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NoSmoking" descr=""/>
          <p:cNvPicPr/>
          <p:nvPr/>
        </p:nvPicPr>
        <p:blipFill>
          <a:blip r:embed="rId2"/>
          <a:stretch/>
        </p:blipFill>
        <p:spPr>
          <a:xfrm>
            <a:off x="965160" y="2832120"/>
            <a:ext cx="685800" cy="617400"/>
          </a:xfrm>
          <a:prstGeom prst="rect">
            <a:avLst/>
          </a:prstGeom>
          <a:ln w="0">
            <a:noFill/>
          </a:ln>
        </p:spPr>
      </p:pic>
      <p:pic>
        <p:nvPicPr>
          <p:cNvPr id="357" name="Airplane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211400" cy="399960"/>
          </a:xfrm>
          <a:prstGeom prst="rect">
            <a:avLst/>
          </a:prstGeom>
          <a:ln w="0">
            <a:noFill/>
          </a:ln>
        </p:spPr>
      </p:pic>
      <p:pic>
        <p:nvPicPr>
          <p:cNvPr id="358" name="Money" descr=""/>
          <p:cNvPicPr/>
          <p:nvPr/>
        </p:nvPicPr>
        <p:blipFill>
          <a:blip r:embed="rId4"/>
          <a:stretch/>
        </p:blipFill>
        <p:spPr>
          <a:xfrm>
            <a:off x="4808520" y="2717640"/>
            <a:ext cx="75420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Playing" descr=""/>
          <p:cNvPicPr/>
          <p:nvPr/>
        </p:nvPicPr>
        <p:blipFill>
          <a:blip r:embed="rId5"/>
          <a:stretch/>
        </p:blipFill>
        <p:spPr>
          <a:xfrm>
            <a:off x="6934320" y="4140360"/>
            <a:ext cx="811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9:27:21Z</dcterms:created>
  <dc:creator>Brian S. Davis</dc:creator>
  <dc:description/>
  <dc:language>en-US</dc:language>
  <cp:lastModifiedBy>vhardy</cp:lastModifiedBy>
  <dcterms:modified xsi:type="dcterms:W3CDTF">2003-02-06T05:01:02Z</dcterms:modified>
  <cp:revision>28</cp:revision>
  <dc:subject/>
  <dc:title>Tobacco and the Cellular Mechanisms of Nicotine Addiction</dc:title>
</cp:coreProperties>
</file>