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1D65-3D50-4BD5-9713-B785C5A5B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4C74-C95A-4B48-A144-2158C5831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DF15-5E38-404C-982B-E7EB1B73D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533520" y="5592600"/>
            <a:ext cx="5029200" cy="15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:    Determine the total number of years smo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s smoked = 60yrs – 20yrs = 40y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total number of cigarettes smo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 pack per day x 20 cigarettes per pack) x (365 days per year x 40yrs)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92,000 cigarettes smok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In 40 years, the 10 extra days associated with leap years would add 200 cigarettes to the to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 Represent real-life situations with inte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E) Use order of operations to simplify whole number expressions (without exponents) in problem solving situ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Subtraction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5400" y="4570560"/>
            <a:ext cx="4867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6.5, 6.1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garettes smoked = 1 pack x 20 cigarettes / pack x 365 days/year x 4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garettes smoked = 292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7118-A1A6-4753-9B9C-AFF58EC07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ars spent = 40 years x 365 days/year x $3.00 /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ars spent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 43,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approximate cost.  Recognize that depending upon the year in which the Grandfather died, approximately 10 leap years (i.e. 366 days/year) need to be taken into account as well as inflation; however, $ 43,800 is a reasonable estim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D) Estimate and round to approximate 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3 (B) Estimate and find solutions to application problems involving propor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(B) Find solutions to problems involving percent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Multiplication Monetary un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A734-7B43-479D-B549-7219D76CE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give you the answer,  but you could turn this into an advanced problem and work it out with your studen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evant formula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P {([1+i/12]^N) – 1} / (i/12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$90 (monthly payment), i = .05 (annual interest rate), N = 480 months (40 yrs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137,485.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the students do not need to calculate this, but only need to appreciate that the investment makes mone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 -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D) Estimate and round to approximate 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3 (A) Estimate and find solutions to application problems involving perc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(B) Find solutions to problems involving percent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Estimation Ratios Ratio Percent Perce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6BCE-27A7-486A-BF44-3B81EF334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. Do all of the abo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bin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ima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new cars = $42,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ge expenses for 2 students for 4 years = $64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ls: 2 meals per day for 4 years at $10 per meal = $29,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es:40 pairs at $50 per pair = $2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costs = $137,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 -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 Represent real-life situations with inte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 Identify and apply mathematics to everyday experien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A) Identify and apply mathematics to everyday experien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smoking nicto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9 mg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 nicot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/ kg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 human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dose per kg by the weight of the individ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0.9mg / kg) x 70kg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3mg nico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 Represent real life situations with inte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 Use multiplication and division in problems with equal ratio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B) Add, subtract, multiply, and divide fractions and decimals to find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3 (B) Estimate and find solutions to application problems involving propor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B) Use the correct form of rational numbers to solve real-lif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D) Use multiplication by a unit rate to represent proportional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100% absorption as w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mg / (8mg/cigarette)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.875 or 8 cigaret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 Use multiplication and division in problems with equal ratio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B) Add, subtract, multiply, and divide fractions and decimals to find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3 (B) Estimate and find solutions to application problems involving propor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B) Use the correct form of rational numbers to solve real-lif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D) Use multiplication by a unit rate to represent proportional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conversions conver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9418-20CB-4A9A-B602-D9AF53148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AAA9-E494-46F0-9189-47972EA1F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5B9C-A850-4CAA-9123-4E4AD510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6E55-5C1D-4C29-B914-659D589C8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DCC1-091C-4926-A146-D2177180C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B7C6-74B9-4F6E-901A-CE4491D6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688A-6919-4977-A461-3517D0B6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5E7E-C264-4CA2-92C3-4FC0B888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A0CC-BE39-4A66-9E22-8C931899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381E-4949-4F26-8350-E9F89716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9531-0587-49D7-8C72-B88BC4F3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0CD8-512C-43DF-A586-25537A9C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EB08-67A5-4625-BEFC-32654E89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F1CC-6E8E-4F8B-A220-54EE3431A612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TbccoAp.ppt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hyperlink" Target="file:///Appendices/FraToDec.ppt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4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979040" cy="1703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3124080"/>
            <a:ext cx="79250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Use estimation to solve problems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Explore the use of rates in word problems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alculate compound interest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Lifetime in Cigarett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Unfortunately, Jace’s grandfather smoked a pack of cigarettes every day from the age of 20 until he died at the age of 60.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f there are 20 cigarettes in a pack, how many cigarettes did Jace’s Grandfather smoke during his life?</a:t>
            </a:r>
            <a:br>
              <a:rPr sz="3600"/>
            </a:b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4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utting a Price on Grandfather’s Smoki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13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f cigarettes cost $3.00 per pack, approximately how many dollars did Jace’s grandfather spend during the 40 years that he smoked?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4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hat if Grandfather had invested his money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9656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159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f Jace’s grandfather had put $3.00 a day into a savings account everyday for 40 years instead of buying cigarettes, he would have accumulated more than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$137,000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in savings.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51"/>
              </a:spcBef>
              <a:spcAft>
                <a:spcPts val="901"/>
              </a:spcAft>
              <a:buNone/>
              <a:tabLst>
                <a:tab algn="l" pos="0"/>
                <a:tab algn="l" pos="159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4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hat a Savings Account!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$137,500, is approximately enough money to: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Buy 2 new pick-up trucks (Ford or Chevy)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33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end Jace and K.T. to Texas A&amp;M University for 4 year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33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ay for 2 meals/day for 4 year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3308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33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Buy 40 pairs of shoe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3308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 for more about smoking and nicotine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4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icotine BAD!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Nicotine is a lethal substance.  It only takes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0.9 mg of nicotine per 1 kg of human weight to kill a person.  Jace’s grandfather weighed 70 kg. 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How much nicotine would he need to ingest to reach toxic levels?</a:t>
            </a:r>
            <a:br>
              <a:rPr sz="3200"/>
            </a:b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is Is Tast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 cigarette contains about 8 mg of nicotine.  How many cigarettes would Jace’s grandfather have to ingest to receive a toxic dose of nicotine?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ssume the lethal dose is 0.9 mg/kg and Jace’s grandfather weighs 70kg.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624680" y="6218280"/>
            <a:ext cx="607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 for more information on conversions</a:t>
            </a: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7800" y="94428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5120" y="6491160"/>
            <a:ext cx="1721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80880" y="1981080"/>
            <a:ext cx="8570880" cy="4502160"/>
            <a:chOff x="380880" y="1981080"/>
            <a:chExt cx="8570880" cy="4502160"/>
          </a:xfrm>
        </p:grpSpPr>
        <p:pic>
          <p:nvPicPr>
            <p:cNvPr id="84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90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2" name=""/>
            <p:cNvSpPr/>
            <p:nvPr/>
          </p:nvSpPr>
          <p:spPr>
            <a:xfrm>
              <a:off x="1898640" y="2206800"/>
              <a:ext cx="2617920" cy="42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222960" y="2166840"/>
              <a:ext cx="2728800" cy="42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6:31:07Z</dcterms:created>
  <dc:creator>Texas A&amp;M Veterinary Medicine</dc:creator>
  <dc:description/>
  <dc:language>en-US</dc:language>
  <cp:lastModifiedBy>Jeremiah McNichols</cp:lastModifiedBy>
  <dcterms:modified xsi:type="dcterms:W3CDTF">2008-09-16T15:31:42Z</dcterms:modified>
  <cp:revision>2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003000000000001023620</vt:lpwstr>
  </property>
</Properties>
</file>