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6750B-2C70-4CC7-858E-450FA4AE2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6FEC9-573B-4F8F-8113-118E0BC7CF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E9412-ADFC-4E1D-A7B0-27444F96D8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29F1C-A7BE-4A94-BEE6-7FF1F09711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074C4-6A50-4774-83AC-7A1C67B4ED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0F4B3-B988-4A8F-BF44-61BB914E67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746DA-B783-4BB0-8EB4-CE9C31159D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D741B-3034-4641-B99C-59DEAAE270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18490-BE00-4931-8105-9487F2D13C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16360-6744-47D4-A760-BBDF196114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D9DA0-E8B4-4B0D-B9DE-2BACB9327C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4564D-B27D-4075-A0AD-D5E2959DF9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2C84-CF1F-4049-BD2C-50519475E83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509BC-948D-4D61-8234-E8125BE9B18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E9E78-AE88-4EB4-9A07-863C95989DD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76DF2-B43A-4812-B9FC-438BF238023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3862D-FC35-4F46-A77F-BABD352F6901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5:11Z</dcterms:modified>
  <cp:revision>216</cp:revision>
  <dc:subject/>
  <dc:title>VTPP 423 - PHYSIOLOGY</dc:title>
</cp:coreProperties>
</file>