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A6F2-0A31-4F90-AA25-EB0641D03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such as activity instructions, quiz answers, etc.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notes identify the specific TEKS addressed on each sli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a substitute for, the full text of the TEK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Explain how physical processes made physical patterns on the su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an and Eu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Centi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A) Plan and implement investigative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B) Collect data by observing and measu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D) Communicate valid conclus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A) Plan and implement investigative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B) Collect data by observing and measu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D) Communicate valid conclu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A) Plan and implement investigative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Collect data by observing and measu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D) Communicate valid conclu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Explain how physical processes made physical patterns on the su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he plates are still moving, the Himalayas are still growing.  This is how the Himalayas are the tallest mountain in the worl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A) Analyze, review, and critique scientific explan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C119-800A-4965-8305-B695C15C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6220-4201-47A6-A18A-4CE2D8B4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C58A-F362-4E4F-A123-44982203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99E8-CB62-42F7-9778-6E0E7CE7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5F6C-1498-4E84-8773-54D05552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1AD5-6E6B-43B1-A6CC-AF4D70FC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D85C-B81F-4CAB-87FE-74C587EE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78D-E47F-441E-BC6E-DADD5721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5A7B-2BCC-4169-AA42-A65C98F1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470-6F75-46DB-A97F-21A6F3C5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619-5DD8-4FB8-AFEE-7F7B51CE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940A-9E5C-4F3C-8B56-B427E1C2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A3BE-A92E-4CFC-8282-7C77AE101044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895480" y="1600200"/>
            <a:ext cx="3657600" cy="2209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Volcanic Mountain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38095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Volcanoes form when magma within the earth pushes its way up through the crust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While pushing through the crust, the pressure causes the surrounding crust to rise, forming a mountain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gma is deposited on the surface, sometimes creating a cone shaped mountain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4305240" y="270504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ffff99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Erosional Mountain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rosional mountains form when wind or water wear down some materials on the earth’s surface, leaving other materials behind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ome materials erode faster than others.  In the picture above, some of the rock material eroded much faster than the other material.  The brown rock material left behind forms a mountain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19320" y="3319560"/>
            <a:ext cx="2209680" cy="163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43440" y="3319560"/>
            <a:ext cx="2257560" cy="1600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14640" y="3776760"/>
            <a:ext cx="1447920" cy="609480"/>
          </a:xfrm>
          <a:prstGeom prst="rightArrow">
            <a:avLst>
              <a:gd name="adj1" fmla="val 50000"/>
              <a:gd name="adj2" fmla="val 593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Fault-block Mountain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ault-block mountains form when rock layers break and form a fault line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s the two blocks are being pushed together, the pressure forces one block up and the other block down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block that is forced upward forms a mountain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981080" y="4315320"/>
            <a:ext cx="5486400" cy="2341080"/>
            <a:chOff x="1981080" y="4315320"/>
            <a:chExt cx="5486400" cy="234108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rcRect l="0" t="0" r="0" b="28"/>
            <a:stretch/>
          </p:blipFill>
          <p:spPr>
            <a:xfrm>
              <a:off x="1981080" y="4343400"/>
              <a:ext cx="3809880" cy="23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rot="9274200">
              <a:off x="3656520" y="4953240"/>
              <a:ext cx="228600" cy="838080"/>
            </a:xfrm>
            <a:prstGeom prst="downArrow">
              <a:avLst>
                <a:gd name="adj1" fmla="val 50000"/>
                <a:gd name="adj2" fmla="val 9165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9174600">
              <a:off x="3352320" y="5333760"/>
              <a:ext cx="228600" cy="914400"/>
            </a:xfrm>
            <a:prstGeom prst="upArrow">
              <a:avLst>
                <a:gd name="adj1" fmla="val 50000"/>
                <a:gd name="adj2" fmla="val 10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95880" y="5257800"/>
              <a:ext cx="1371600" cy="457200"/>
            </a:xfrm>
            <a:prstGeom prst="leftArrow">
              <a:avLst>
                <a:gd name="adj1" fmla="val 50000"/>
                <a:gd name="adj2" fmla="val 7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3750000">
              <a:off x="2437200" y="47998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Folded Mountain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olded mountains form as two plates move toward each other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plates push against each other causing the crust to fold or rippl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is is like when you push 2 ends of a piece of paper together and the middle bends or fold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219320" y="2811600"/>
            <a:ext cx="7086600" cy="1531440"/>
            <a:chOff x="1219320" y="2811600"/>
            <a:chExt cx="7086600" cy="153144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0" t="0" r="0" b="183"/>
            <a:stretch/>
          </p:blipFill>
          <p:spPr>
            <a:xfrm>
              <a:off x="5562720" y="2811600"/>
              <a:ext cx="27432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1219320" y="3039840"/>
              <a:ext cx="259056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267080" y="3497040"/>
              <a:ext cx="838440" cy="533160"/>
            </a:xfrm>
            <a:prstGeom prst="rightArrow">
              <a:avLst>
                <a:gd name="adj1" fmla="val 50000"/>
                <a:gd name="adj2" fmla="val 39315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Just Checking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ountains that form when magma within the earth pushes its way up through the crust. __________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ountains that form when wind or water wear down some materials on the earth’s surface, leaving other materials behind. ____________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ountains that form when a plate cracks and forms a fault line. ______________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ountains that form when plates push up against each other causing the crust to fold or ripple. ______________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1523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ill in the blanks on your work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Himalaya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Himalayas formed as a result of the Indian Plate and the Eurasian Plate moving toward one another.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523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en two plates collide, they will do one of the following: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1.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f one plate is denser (heavier) than the other, it will sink below the other plate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2.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f both plates have the same density, they will continue to push against one another resulting in folded mountains.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                        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1900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Same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Density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876320" y="3276720"/>
            <a:ext cx="4219560" cy="1104840"/>
            <a:chOff x="1876320" y="3276720"/>
            <a:chExt cx="4219560" cy="110484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4009680" y="3276720"/>
              <a:ext cx="208620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323880" y="381024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6320" y="36576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Verdana"/>
                </a:rPr>
                <a:t>Denser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rcRect l="0" t="6279" r="0" b="183"/>
          <a:stretch/>
        </p:blipFill>
        <p:spPr>
          <a:xfrm>
            <a:off x="3978360" y="5181480"/>
            <a:ext cx="2085840" cy="1105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 flipV="1">
            <a:off x="5181480" y="5409720"/>
            <a:ext cx="190512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111720" y="5638680"/>
            <a:ext cx="97488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Himalaya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oth of these plates are the same density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s the plates keep pushing against each other, there is no place for the crust to go except to bend upward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plates are still running into each other and the Himalayas are growing by more than 1 cm each year.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28800" y="1635120"/>
            <a:ext cx="3430440" cy="2021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rcRect l="0" t="0" r="0" b="-235"/>
          <a:stretch/>
        </p:blipFill>
        <p:spPr>
          <a:xfrm>
            <a:off x="1325520" y="4340160"/>
            <a:ext cx="2440080" cy="1567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258920" y="4127400"/>
            <a:ext cx="395280" cy="212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41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imalay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57280" y="5835600"/>
            <a:ext cx="9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Ind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44920" y="5835600"/>
            <a:ext cx="12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Euras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rcRect l="3935" t="0" r="0" b="4948"/>
          <a:stretch/>
        </p:blipFill>
        <p:spPr>
          <a:xfrm>
            <a:off x="3103560" y="2489040"/>
            <a:ext cx="1544760" cy="1641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1457280" y="2209680"/>
            <a:ext cx="461880" cy="489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Just Checking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Himalayas are  ___________ mountains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Himalayas are the result of what two plates running into each other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________________  and  _______________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either of these two plates is sinking because they are both the same ___________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Himalayas are still growing at a rate of ___________ each year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1523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nswer the following questions on your work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53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assify mountains according to how they are formed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Describe the Himalaya Mountains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Explore the relationship between plate tectonics and mountain formation.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The Himalaya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Himalayas are the tallest mountains in the world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y are located on the border of China and India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09680" y="1676520"/>
            <a:ext cx="4572000" cy="3222360"/>
          </a:xfrm>
          <a:prstGeom prst="rect">
            <a:avLst/>
          </a:prstGeom>
          <a:ln w="88920">
            <a:solidFill>
              <a:srgbClr val="3d705f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What do you think?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How were the Himalayas formed? 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hy are the Himalayas the tallest mountains in the world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Investigating the Question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Mountain ranges are formed by plates made from the earth’s crust that move against each other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plates that form the Himalayas are still moving!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How do you think this affects the mountains today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Plate Tectonic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earth’s crust is split into several plates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se plates float on top of magma (a hot, thick, gel-like substance)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3880" y="1641600"/>
            <a:ext cx="5791320" cy="3159000"/>
          </a:xfrm>
          <a:prstGeom prst="rect">
            <a:avLst/>
          </a:prstGeom>
          <a:ln w="88920">
            <a:solidFill>
              <a:srgbClr val="3d705f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1219320" y="27082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219320" y="19458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2920" y="24843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Pl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18702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uras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3165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Plate Tectonic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49525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When currents inside the earth move the magma, the plates move, too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is movement sometimes causes mountains to form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3880" y="1641600"/>
            <a:ext cx="5791320" cy="3159000"/>
          </a:xfrm>
          <a:prstGeom prst="rect">
            <a:avLst/>
          </a:prstGeom>
          <a:ln w="88920">
            <a:solidFill>
              <a:srgbClr val="3d705f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1219320" y="27082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219320" y="19458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2920" y="24843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Pl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18702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uras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3165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Just Checking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earth’s crust is split into __________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289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hot, thick, gel-like substance found within the earth is called ___________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600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nswer the following questions on your work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There are 4 types of mountains: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Volcanic Mountai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Erosional Mountai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ault-block Mountai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lded Mountai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02:13:17Z</dcterms:created>
  <dc:creator>Unknown User</dc:creator>
  <dc:description/>
  <dc:language>en-US</dc:language>
  <cp:lastModifiedBy>Jeremiah McNichols</cp:lastModifiedBy>
  <dcterms:modified xsi:type="dcterms:W3CDTF">2008-09-18T19:46:32Z</dcterms:modified>
  <cp:revision>76</cp:revision>
  <dc:subject/>
  <dc:title>Social Studies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08000000000001023620</vt:lpwstr>
  </property>
</Properties>
</file>