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C159-40B2-454A-991F-A25A7D6B9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7C1D-3375-4EF6-B327-664C744C0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F77E-A3CC-4BB6-BD72-33D695708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CD54-60BF-47C3-8B24-848497862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5010-0B0F-43EC-8E12-5E64075EA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45C9-52D2-48DE-9385-63230F17A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FF4E-AD99-4BD3-8BC0-58A7BAA75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F1F2-3019-4457-AAA4-95BADF000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F1EA-F63A-4D15-A310-A24B1B363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E51F-A38A-481D-B378-5B2C42F8B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4545-2420-4DB0-8E44-51266B3B8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5C01-5AD9-4E62-8C9C-A8D84FCA0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001-73D0-4F90-BCAF-69788C61726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31E4-0D8B-47C5-AEFB-BEA99A0295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CB1C-7668-41E6-9F4D-C8A742BCFE6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58Z</dcterms:modified>
  <cp:revision>211</cp:revision>
  <dc:subject/>
  <dc:title>VTPP 423 - PHYSIOLOGY</dc:title>
</cp:coreProperties>
</file>