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BCE-CE69-4A06-AA69-2D4F9108A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,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1) From a location in North America the response could be either eas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. West would be a shorter, less expensive r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Mongolia or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1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Plateau of Ti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1) Possible answers include Eastern hemispheres, on the continent of Asia, West of the 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Possible answers: You could travel either east or west, but it would be closer/faster to travel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C.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F56-8732-4814-9AB2-1CA22B47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738-C7E2-4227-8C95-D38B72C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148-22D1-4BBC-80CF-AE8E8B38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3EF-EB35-46F8-9087-E5CE4430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396-0015-4E52-8B94-96E2588D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CAC-C6D3-4016-8529-D6A72F67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B55-D4A4-4273-A144-E4F19370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7D5-AA9F-407E-A1DA-5D5CAAE6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AC5-C915-4A7F-8EE1-19504703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F0A-2D4B-4F72-A3C1-B1C3A3F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5EA-F8CE-4197-B740-70AD4BF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A91-129B-455B-8544-30E2EAE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62B3-E5C0-46E1-973D-D7A3D831BCB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6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the concept of relative location to locate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scribe a city’s location by its relativ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lative location is a way of defining where places are located in comparison to other plac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ample: your neighbor is to the left of you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en we use relative location in maps, we use north, south, east, and w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54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ography: 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2440"/>
            <a:ext cx="77724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ere In the World is Chongqing,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outlined in yellow on the map above.  Study the map, then answer the questions on the next slide.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27480" y="5164200"/>
            <a:ext cx="38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9776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903320"/>
            <a:ext cx="720072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854680" y="2684520"/>
            <a:ext cx="93672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240" y="3792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29960" y="378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89480" y="148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7328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00320" y="1288800"/>
            <a:ext cx="6543360" cy="11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On what continent is China located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east of China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 and west of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90840" y="335268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32160" y="5743440"/>
            <a:ext cx="298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452592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7600" y="4525920"/>
            <a:ext cx="29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68360" y="2716200"/>
            <a:ext cx="6405480" cy="3608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861840" y="424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69600" y="42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89480" y="2297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0000" y="6367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66760" y="1247400"/>
            <a:ext cx="85932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otice that China is now positioned near the center of the map.  This is because we are looking at the Earth from a different position. The Pacific Ocean, rather than the Atlantic Ocean, is now near the center of the map.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sing the map, explain which direction you would travel if you were to travel from China to your home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2276640"/>
            <a:ext cx="7620120" cy="3657600"/>
            <a:chOff x="685800" y="2276640"/>
            <a:chExt cx="7620120" cy="3657600"/>
          </a:xfrm>
        </p:grpSpPr>
        <p:sp>
          <p:nvSpPr>
            <p:cNvPr id="82" name=""/>
            <p:cNvSpPr/>
            <p:nvPr/>
          </p:nvSpPr>
          <p:spPr>
            <a:xfrm>
              <a:off x="4309920" y="2276640"/>
              <a:ext cx="37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35400" y="5429160"/>
              <a:ext cx="37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8824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295280" y="2428920"/>
              <a:ext cx="6658200" cy="3505320"/>
            </a:xfrm>
            <a:prstGeom prst="rect">
              <a:avLst/>
            </a:prstGeom>
            <a:ln w="88920">
              <a:solidFill>
                <a:srgbClr val="85a59a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1905120" y="364824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5019840"/>
              <a:ext cx="11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ntar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3876840"/>
              <a:ext cx="1022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886120"/>
              <a:ext cx="118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2809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86200" y="4181400"/>
              <a:ext cx="10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2320" y="303840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r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41054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2581200"/>
              <a:ext cx="162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39528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dian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1480" y="37242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cif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31910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294000" y="3179880"/>
              <a:ext cx="112572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771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highlighted on the map above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ocean is to the ea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large country is to the southwe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me a country on the map to the north of China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09640" y="1344600"/>
            <a:ext cx="5699160" cy="335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112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423800"/>
            <a:ext cx="327636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ity is China’s  capital?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is city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city of Guangzhou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If you were to travel northwest from Chongqing, what is the name of the plateau you would cross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5246640" cy="3749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038480" y="5330880"/>
            <a:ext cx="4584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ongqing is highlighted on th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11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br>
              <a:rPr sz="4400"/>
            </a:br>
            <a:br>
              <a:rPr sz="16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You are talking with a friend. She asks, “Where is China?” How would you respond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Texas to China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China to Paris, France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ich of the following is closer to China?      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.  Germany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.  USA  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.  Indi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ust Check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2:41Z</dcterms:created>
  <dc:creator>Texas A&amp;M Veterinary Medicine</dc:creator>
  <dc:description/>
  <dc:language>en-US</dc:language>
  <cp:lastModifiedBy>Jeremiah McNichols</cp:lastModifiedBy>
  <dcterms:modified xsi:type="dcterms:W3CDTF">2008-09-22T14:27:1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5000000000001023620</vt:lpwstr>
  </property>
</Properties>
</file>