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033C-E699-476C-9CDE-B17BAF9DB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D7D6-B3A8-4093-B994-8ED61DD16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2416-EECB-4F7A-8C41-17E176930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6BD6-76BF-40DF-AF7E-679341084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A9AF-604A-4A37-A30D-1AE6338A7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BA38-FC55-432C-9A20-60806BA02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F9A1-E976-4E99-AF93-89FD62760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96F1-5FD1-4641-B5D4-CFF7071E5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CD48-A6E6-43E6-A01B-4E1485526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3D1C-2DE0-4770-91AF-D865CED08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ED0F-9F75-42EF-BC69-E1E07F790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AD87-0A39-473A-9ED0-C3561984A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02E-EF44-450F-8634-DF413C0CD6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002F-C471-4671-92E9-C7F90C91F1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1183-27E0-4E0C-AFA5-F82B8F93EB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25Z</dcterms:modified>
  <cp:revision>210</cp:revision>
  <dc:subject/>
  <dc:title>VTPP 423 - PHYSIOLOGY</dc:title>
</cp:coreProperties>
</file>