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AA4E-14ED-4806-8748-591FC7A40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D181-AD0E-4E2A-979B-C532E4EC8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4035-B07D-4BA0-90A7-64DB32C0C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3F91-43D4-482A-B5E0-C87D1F3A4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A1C3-277E-4C73-BC8E-37CB95CBE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0886-5632-4BAD-9BD2-F01914B5D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E022-5C15-46FD-ACE8-44B4CC441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4A8F-83F9-4E92-B537-FCACF8BAF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1FF3-5050-40FA-834E-E7AE00EC4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80E5-3BBB-4991-9A6F-33F8FE1D8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AD4E-C97F-4883-9535-58E5D239A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815D-1617-47AC-842C-CDE516909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03C-A7AC-4668-AD1B-19891C88E5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A47C-6D38-4BD4-A853-7F784F456EE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3F2E-4734-4EA9-B2C2-2AE38CD7E3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5912-B7B6-4AAE-BC63-563832972F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8E76-11CE-4A95-82E0-F195A15E53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AC65-1B55-42E5-9790-C84157F10A1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6-19T18:46:08Z</dcterms:modified>
  <cp:revision>218</cp:revision>
  <dc:subject/>
  <dc:title>VTPP 423 - PHYSIOLOGY</dc:title>
</cp:coreProperties>
</file>