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E8B3-1E61-41F4-B924-1C22239F981C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62E-F25B-43A9-87E4-CBA14ADD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E08-7C82-4953-94E5-04EB16AD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BF4-BCEF-41C9-973D-A8B0FC31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B39-5FE9-4102-B7D6-A628681B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0C1-89F6-4F49-86B3-212DAD5C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6BC-E096-4DD6-A568-C1AB2BB0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800-BD05-4A01-B675-84DD8927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4B2-AFDD-498C-A49E-DC4459ED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D00-1701-420C-8820-6EF92DC2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CD7-6467-44C8-82DA-85DECE08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A8E-9C59-4621-ABEA-0BE08BC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629-E7AE-4BF4-9612-ED89604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8334-8CFD-4286-9BFE-A7F09BE12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en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4-02-12T17:05:58Z</dcterms:modified>
  <cp:revision>15</cp:revision>
  <dc:subject/>
  <dc:title>Informative Essay</dc:title>
</cp:coreProperties>
</file>