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9535-CBD9-46F9-84C3-7E4DF7336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408-552B-44CD-BDC9-6C9B70E9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E4C-C72C-4532-A46B-B53E7CA9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FDF-A08C-4FAA-B247-5AE58289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88E-ED36-417C-AB60-A32948CC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121-63A1-4B8E-AA6D-B5ED3FA5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713-5550-41A8-9465-0AC8F196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131-CB3C-4E58-9265-F3536387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7B7-DA15-4F6B-A91A-EE066F18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D21-86CA-49E1-A2A3-17421A8D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BE5-739A-44CC-84B1-F6868B47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F37-3EA4-43D5-9E4F-CA99081D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200-79A3-427C-8751-C40242E6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B811-9C9F-4AC2-A5B2-E260241D1B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itstudent</cp:lastModifiedBy>
  <dcterms:modified xsi:type="dcterms:W3CDTF">2002-08-06T19:40:15Z</dcterms:modified>
  <cp:revision>8</cp:revision>
  <dc:subject/>
  <dc:title>What’s the difference between weather and climate?</dc:title>
</cp:coreProperties>
</file>