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A593-DB4A-49D0-B25B-2D05BE4F7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0EA-3B11-4048-9A5C-21222BB8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D79-3DDD-4AAB-8C8A-63639852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F13-D389-4D2B-87F0-DD7646EE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DCB-C7CF-44B7-8595-32261B82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0BC-9235-4178-9824-AB14C525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B91-C641-41ED-8A54-4D50CE75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BCA-FE32-4611-A526-ED34BFE4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151-D1DF-4659-A5FE-7565EA9A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0A0-5176-43F2-89FF-40B3D872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A21-CF06-485F-9317-7F7A043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5B0-FC41-4714-89C5-52BC4CA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BCD-6C31-412E-B40F-CCFF2485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AB76-CB4C-49BF-AAAE-C4E240EA9C5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itstudent</cp:lastModifiedBy>
  <dcterms:modified xsi:type="dcterms:W3CDTF">2002-08-06T19:40:15Z</dcterms:modified>
  <cp:revision>8</cp:revision>
  <dc:subject/>
  <dc:title>What’s the difference between weather and climate?</dc:title>
</cp:coreProperties>
</file>