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AA5F5D-9701-41EA-B483-DDAE1052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A72-D9D4-442D-8F07-7BE15830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6FD-B4CF-4978-8FA1-0E56C8B6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CFD-1175-4B83-B628-9569BFE0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ADE-43B2-4B71-B6D1-243DE739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8A2-B8CA-45DB-A35D-BA460AF0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6A5-AEA2-47D2-A410-4F9BCE1F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A0B-6D9B-4F45-A25C-806C2FA2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4C4-58BE-43D5-BBB1-5D948213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6FC-B639-44DE-891A-A5FC630E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2DC-7211-49EC-9F5B-7F830C1B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924-61E9-4AFD-8F6E-E2D047D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ABD-6ECD-4D7F-BCC1-B4920C81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12D5-A551-4ADC-B456-F47EBA2DFC2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vhardy</cp:lastModifiedBy>
  <cp:lastPrinted>2002-05-15T14:22:53Z</cp:lastPrinted>
  <dcterms:modified xsi:type="dcterms:W3CDTF">2003-04-22T14:40:03Z</dcterms:modified>
  <cp:revision>68</cp:revision>
  <dc:subject/>
  <dc:title>Climograph</dc:title>
</cp:coreProperties>
</file>