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927-944E-40F8-8F52-1AFFD38789D2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010-17D0-4D39-8F28-705EF0CE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B14-F5CE-4501-8D92-4B3ACC0B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E1A-D79E-496F-B5CC-D26A8FC4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438-F7E5-4895-A32A-970C2CF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0B4-A32D-4EEB-BA0E-4C03F023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2CD-8FD9-4C54-9088-3B1C582D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B8F-72D3-4976-80D7-49D799A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BA3-B51B-4A9B-B37D-A498263C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873-7159-4C78-B94A-E91DAC72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501-C0E0-45E2-854A-D849320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EDB-6852-4C4C-A4A9-8DD4703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4C4-5C5F-49AC-B14A-F194BA0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924B-209E-462D-A6C8-6F9794CCE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en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4-02-12T17:05:58Z</dcterms:modified>
  <cp:revision>15</cp:revision>
  <dc:subject/>
  <dc:title>Informative Essay</dc:title>
</cp:coreProperties>
</file>