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4971-B5C0-42DB-A050-E731402BE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subject is (B), the simple subject is “stat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predicate is (C), the simple predicate is “called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) A rough, dry v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Th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275C-ADC2-48D2-84F7-6C0F40ECE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F784-EE48-4498-A68B-5970DCA4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2914-B3A2-4C66-9A00-A9F752844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90C8-E718-4600-A331-5CC3E4911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CEBE-36E1-40D7-A31A-189232C6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B23C-24B8-4A62-9A35-01907627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BCE5-385B-468D-B5F1-1CC714DA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BC94-EFD9-42DB-8473-81B05E38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E507-699E-409D-BB00-D322FAB0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4164-FA39-44B8-B237-62052185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47F1-94EC-4AA8-81AA-95D64EFE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C7CA-5301-432D-BB20-59DC8A5E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A93F-15B9-4A1F-B6D5-5CBE0F76D1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 your writing and speech by understanding language construction and correct u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the Unlocking Language Quiz for “The Jade Dragon” to test your knowledge of languag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hoose the complete subject and underline the simple subject.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hongqing station was a madhouse of peopl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nds, and smells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dhouse of people, sounds, and smell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ngqing 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 a mad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2933640" cy="307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Choose the complete predicate and underline the simple predic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oarse voice called from within for them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ars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 from within for them to 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them to en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A hoarse voice is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one that sounds like a h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ough, dry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gentl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wboy t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43000" y="19350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143000" y="261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143000" y="3316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143000" y="4011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66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A good synonym for ajar i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008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097080" cy="315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143000" y="194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43000" y="259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43000" y="32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143000" y="3935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following is a letter written to Jace by his grandfather. Correct the letter by identifying the error in each numbered sentence or phr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dearest Jace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I hope this letter find’s you in good health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 miss you very much,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and I wish I could see you.  I have some tragic news from Chin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Have you heard of the Three Gorges Dam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t is a new project t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rovide China with hydroelectric power. (4) 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When the dam is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complete however the water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will flood the shrine of the Jade Dragon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his is a very unfortunate time for our family. What am I to do?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5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Sincerily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Grandfath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Fill in the first blank with the correct choice from the column on the left and the second blank with the correct choice from the column on the right.</a:t>
            </a:r>
            <a:br>
              <a:rPr sz="2400"/>
            </a:br>
            <a:br>
              <a:rPr sz="2400"/>
            </a:br>
            <a:r>
              <a:rPr b="0" lang="en-US" sz="1900" spc="-1" strike="noStrike">
                <a:solidFill>
                  <a:srgbClr val="ccccff"/>
                </a:solidFill>
                <a:latin typeface="Times New Roman"/>
              </a:rPr>
              <a:t>Jace and K.T. decided to take the train because ______ only had ten dollars.  K.T. was excited to ride the train, but Jace was too worried about _______ grandfather to be excited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11520" y="4038120"/>
            <a:ext cx="184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08600" y="4043520"/>
            <a:ext cx="184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Explor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“Jade Dragon” again and highlight words that are unfamili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ocabulary list (on the next slide) or a dictionary to help you understand the difficult wo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bilities - abilities that someone or something has the power to perfor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de - a hard, green, blue, or white stone from which ornaments are carv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rloom - a possession that has been handed down in a family for several generation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il - not strong, physically wea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ulevard - a wide str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03:16:59Z</dcterms:created>
  <dc:creator>Gina Balducci</dc:creator>
  <dc:description/>
  <dc:language>en-US</dc:language>
  <cp:lastModifiedBy>Texas A&amp;M Veterinary Medicine</cp:lastModifiedBy>
  <dcterms:modified xsi:type="dcterms:W3CDTF">2007-10-09T19:19:40Z</dcterms:modified>
  <cp:revision>51</cp:revision>
  <dc:subject/>
  <dc:title>1. Choose the complete subject and underline the simple subject.                   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5000000000001023620</vt:lpwstr>
  </property>
</Properties>
</file>