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CD18-9060-46E3-AAA6-01BDAC9A1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F87C-B9F8-49F5-96E1-CBA08D5A2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433B-BAF4-43B2-9528-BE6869CA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33520" y="5592600"/>
            <a:ext cx="50292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:    Determine the total number of years smo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s smoked = 60yrs – 20yrs = 40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otal number of cigarettes smo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pack per day x 20 cigarettes per pack) x (365 days per year x 40yrs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2,000 cigarettes smo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n 40 years, the 10 extra days associated with leap years would add 200 cigarettes to the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E) Use order of operations to simplify whole number expressions (without exponents) in problem solving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Subtraction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5400" y="4570560"/>
            <a:ext cx="486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6.5, 6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s smoked = 1 pack x 20 cigarettes / pack x 365 days/year x 4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s smoked = 29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424F-9C54-449C-AF03-14336F786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ars spent = 40 years x 365 days/year x $3.00 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ars spent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 43,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approximate cost.  Recognize that depending upon the year in which the Grandfather died, approximately 10 leap years (i.e. 366 days/year) need to be taken into account as well as inflation; however, $ 43,800 is a reasonable esti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Multiplication Monetary un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D713-4025-4D1A-B57A-7C758315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give you the answer,  but you could turn this into an advanced problem and work it out with your studen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evant formul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P {([1+i/12]^N) – 1} / (i/12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$90 (monthly payment), i = .05 (annual interest rate), N = 480 months (40 yrs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37,485.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students do not need to calculate this, but only need to appreciate that the investment makes mo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Estimation Ratios Ratio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B046-F692-43B5-B82A-8CCADF8C7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Do all of the abo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bin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im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ew cars = $42,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expenses for 2 students for 4 years = $6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ls: 2 meals per day for 4 years at $10 per meal = $29,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:40 pairs at $50 per pair = $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osts = $137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smoking nict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9 m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 nicot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k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 human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dose per kg by the weight of the 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9mg / kg) x 70kg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mg 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 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% absorption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mg / (8mg/cigarette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875 or 8 cigaret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027C-0818-48F5-8441-A54472F63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3BD-BD13-40E4-9E83-BDED8FC0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333-81C4-438C-BC3C-B21BE053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B43-1F6F-435E-A3B2-6DCF9B40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853-3A14-4D6F-A81A-8BA6AE26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FBB-7BC2-4C56-9358-29E3E732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CFE-C3FC-4AF5-9B53-19CA898F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7C3-7024-43B5-981B-CC398230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4D1-5458-4ED2-9CBB-BA0AA09F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361-EF5F-42EC-8129-3B2E627A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1F6-BF7F-4589-9322-81D7E01A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423-4412-4648-841A-16579715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314-1ABF-47EE-8AC4-005BA451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6B26-B542-40BD-818F-BC5EDDF29DCD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TbccoAp.ppt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file:///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estimation to solve problem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plore the use of rates in word problem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alculate compound intere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fetime in Cigaret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fortunately, Jace’s grandfather smoked a pack of cigarettes every day from the age of 20 until he died at the age of 60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there are 20 cigarettes in a pack, how many cigarettes did Jace’s Grandfather smoke during his life?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tting a Price on Grandfather’s Smok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cigarettes cost $3.00 per pack, approximately how many dollars did Jace’s grandfather spend during the 40 years that he smoked?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f Grandfather had invested his mone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9656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Jace’s grandfather had put $3.00 a day into a savings account everyday for 40 years instead of buying cigarettes, he would have accumulated more than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$137,000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 savings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a Savings Account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$137,500, is approximately enough money to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y 2 new pick-up trucks (Ford or Chevy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nd Jace and K.T. to Texas A&amp;M University for 4 yea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ay for 2 meals/day for 4 yea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y 40 pairs of sho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 for more about smoking and nicotin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icotine BAD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icotine is a lethal substance.  It only tak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0.9 mg of nicotine per 1 kg of human weight to kill a person.  Jace’s grandfather weighed 70 kg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much nicotine would he need to ingest to reach toxic levels?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is Is Tas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igarette contains about 8 mg of nicotine.  How many cigarettes would Jace’s grandfather have to ingest to receive a toxic dose of nicotine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ssume the lethal dose is 0.9 mg/kg and Jace’s grandfather weighs 70kg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24680" y="6218280"/>
            <a:ext cx="60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31:07Z</dcterms:created>
  <dc:creator>Texas A&amp;M Veterinary Medicine</dc:creator>
  <dc:description/>
  <dc:language>en-US</dc:language>
  <cp:lastModifiedBy>Jeremiah McNichols</cp:lastModifiedBy>
  <dcterms:modified xsi:type="dcterms:W3CDTF">2008-09-16T15:31:42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3000000000001023620</vt:lpwstr>
  </property>
</Properties>
</file>