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8CE1-0075-422A-9DE1-F1E32E7D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B696-9E27-4CBF-AFE0-06729996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0A9F-8870-4167-BBB3-188B9881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33520" y="5592600"/>
            <a:ext cx="50292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:    Determine the total number of year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s smoked = 60yrs – 20yrs = 40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otal number of cigarettes smo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pack per day x 20 cigarettes per pack) x (365 days per year x 40yrs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2,000 cigarettes smo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n 40 years, the 10 extra days associated with leap years would add 200 cigarettes to the to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E) Use order of operations to simplify whole number expressions (without exponents) in problem solving situ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ubtraction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5400" y="4570560"/>
            <a:ext cx="486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6.5, 6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1 pack x 20 cigarettes / pack x 365 days/year x 4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s smoked = 29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5820-F6C4-4339-9DCA-E8DE459E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40 years x 365 days/year x $3.00 /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ars spent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 43,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pproximate cost.  Recognize that depending upon the year in which the Grandfather died, approximately 10 leap years (i.e. 366 days/year) need to be taken into account as well as inflation; however, $ 43,800 is a reasonable esti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B) Add, subtract, multiply, and divide rational numbers in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ultiplication Monetary un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2A7A-8309-49A5-8A29-C4C3D624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give you the answer,  but you could turn this into an advanced problem and work it out with your studen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evant formula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P {([1+i/12]^N) – 1} / (i/12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$90 (monthly payment), i = .05 (annual interest rate), N = 480 months (40 yrs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137,485.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students do not need to calculate this, but only need to appreciate that the investment makes mo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 Estimate and round to approximate 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A) Estimate and find solutions to application problems involving per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3 (B) Find solutions to problems involving percent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Estimation Ratios Ratio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98E5-F3B9-43B9-BAA5-BD64FC69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 Do all of the abo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bin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im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ew cars = $42,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ge expenses for 2 students for 4 years = $6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ls: 2 meals per day for 4 years at $10 per meal = $29,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:40 pairs at $50 per pair = $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osts = $137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-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3 (A) Identify and 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4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moking nict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9 m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nicot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kg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 human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dose per kg by the weight of the individ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9mg / kg) x 70kg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mg 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 Represent real life situations with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100% absorption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mg / (8mg/cigarette)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875 or 8 cigaret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 Use multiplication and division in problems with equal ratios and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(B) Add, subtract, multiply, and divide fractions and decimals to find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(B) Estimate and find solutions to application problems involving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2 (D) Use multiplication by a unit rate to represent proportional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F8AB-0435-4025-A248-4B447B6C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2D3-600D-4972-9376-56EA0038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2ED-923A-42F3-93FB-9EFEF71D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7C1-0B1D-4385-B03E-DB154DFF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A14-9588-4961-8540-038148E3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0BE-BBA1-4A2D-8C56-D6BD0487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FAA-848C-4ED1-B462-02D6896E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4F3-FC99-4CFC-AB79-692A448B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91D-C89C-48F5-A7BF-B69D1F7A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941-B0F3-4F94-86B1-BACB3BCB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2DC-2805-41D9-A72D-31F3C498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232-0FBD-47D5-B8C8-27D336A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376-5A3F-49FD-B1EB-AB741293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6B3F-662A-45F6-97EB-A21432CF3693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TbccoAp.ppt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file:///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estimation to solve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xplore the use of rates in word problem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alculate compound intere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fetime in Cigaret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fortunately, Jace’s grandfather smoked a pack of cigarettes every day from the age of 20 until he died at the age of 60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there are 20 cigarettes in a pack, how many cigarettes did Jace’s Grandfather smoke during his life?</a:t>
            </a:r>
            <a:br>
              <a:rPr sz="3600"/>
            </a:b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tting a Price on Grandfather’s Smok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13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cigarettes cost $3.00 per pack, approximately how many dollars did Jace’s grandfather spend during the 40 years that he smoked?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if Grandfather had invested his mone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9656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f Jace’s grandfather had put $3.00 a day into a savings account everyday for 40 years instead of buying cigarettes, he would have accumulated more than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$137,000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n sav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spcAft>
                <a:spcPts val="901"/>
              </a:spcAft>
              <a:buNone/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hat a Savings Account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$137,500, is approximately enough money to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2 new pick-up trucks (Ford or Chevy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nd Jace and K.T. to Texas A&amp;M Universit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ay for 2 meals/day for 4 year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uy 40 pairs of sho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3308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 for more about smoking and nicotin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icotine BAD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icotine is a lethal substance.  It only tak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0.9 mg of nicotine per 1 kg of human weight to kill a person.  Jace’s grandfather weighed 70 kg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much nicotine would he need to ingest to reach toxic levels?</a:t>
            </a:r>
            <a:br>
              <a:rPr sz="3200"/>
            </a:b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is Is Tas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igarette contains about 8 mg of nicotine.  How many cigarettes would Jace’s grandfather have to ingest to receive a toxic dose of nicotin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ssume the lethal dose is 0.9 mg/kg and Jace’s grandfather weighs 70kg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24680" y="6218280"/>
            <a:ext cx="60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31:07Z</dcterms:created>
  <dc:creator>Texas A&amp;M Veterinary Medicine</dc:creator>
  <dc:description/>
  <dc:language>en-US</dc:language>
  <cp:lastModifiedBy>Jeremiah McNichols</cp:lastModifiedBy>
  <dcterms:modified xsi:type="dcterms:W3CDTF">2008-09-16T15:31:42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3000000000001023620</vt:lpwstr>
  </property>
</Properties>
</file>