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9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30040" y="690120"/>
            <a:ext cx="4599000" cy="344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7C00A-B459-48E5-9738-78A466457E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Math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Math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Math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Math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Math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Math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B445-7BE3-496F-930B-CD29F62D9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2F91-5943-4D41-B956-35C2D110D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A9AB-A7CF-4290-A559-8883D8268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45CF-B0BA-4FC0-AB9C-A110186BD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7D68-9B59-4A84-8A70-D2BB3E0BD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CDEE-F78F-435F-86FA-D637E54EF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A8AC-A1E6-419F-A06A-DD5990581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D477-F106-4886-BE14-FAB7E86C9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FCD3-F4FD-4A8F-872C-9CEF1ECBE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3523-24D7-4C20-AD8D-0AEAD0D6F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2D07-3A70-44F6-A8B3-DC63D774C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694C-92AE-4838-B692-37C7A1618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A7811-3D7E-4F4E-B1C6-18D6997158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hyperlink" Target="file:///../../../../5-Africa/PowerPoint%20Files/Africa_v%200.1/Appendices/Social%20Studies/AbsoLoca.ppt" TargetMode="External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hyperlink" Target="file:///../../../../5-Africa/PowerPoint%20Files/Africa_v%200.1/Appendices/Social%20Studies/AbsoLoca.ppt" TargetMode="External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38080" y="131904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elcome to the “Absolute Location”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90720" y="339264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you think you are up to the challenge, proceed to the next slid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6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130400" y="76320"/>
            <a:ext cx="6387840" cy="36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80°E                        100° E                 120°E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40°N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0°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752480" y="415800"/>
            <a:ext cx="5143680" cy="362268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127" name=""/>
          <p:cNvSpPr/>
          <p:nvPr/>
        </p:nvSpPr>
        <p:spPr>
          <a:xfrm>
            <a:off x="1448280" y="4419720"/>
            <a:ext cx="589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9.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city is located at 23° N.L., 113° E.L.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4876920"/>
            <a:ext cx="5486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rbin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as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ij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uangzh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7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2674800" y="6257880"/>
            <a:ext cx="265320" cy="3286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2666880" y="494028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5"/>
          <a:stretch/>
        </p:blipFill>
        <p:spPr>
          <a:xfrm>
            <a:off x="2670120" y="538164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6"/>
          <a:stretch/>
        </p:blipFill>
        <p:spPr>
          <a:xfrm>
            <a:off x="2673360" y="5813280"/>
            <a:ext cx="264960" cy="3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30400" y="76320"/>
            <a:ext cx="6387840" cy="36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80°E                        100° E                 120°E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40°N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0°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1752480" y="415800"/>
            <a:ext cx="5143680" cy="362268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137" name=""/>
          <p:cNvSpPr/>
          <p:nvPr/>
        </p:nvSpPr>
        <p:spPr>
          <a:xfrm>
            <a:off x="1447920" y="4419720"/>
            <a:ext cx="605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.  What city is located at 46° N.L., 126° E.L.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971800" y="4876920"/>
            <a:ext cx="5486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rbin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as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ij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uangzh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7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674800" y="6257880"/>
            <a:ext cx="265320" cy="3286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2666880" y="494028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5"/>
          <a:stretch/>
        </p:blipFill>
        <p:spPr>
          <a:xfrm>
            <a:off x="2670120" y="538164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6"/>
          <a:stretch/>
        </p:blipFill>
        <p:spPr>
          <a:xfrm>
            <a:off x="2673360" y="5813280"/>
            <a:ext cx="264960" cy="3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turn to the Present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7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143000" y="609480"/>
            <a:ext cx="6858000" cy="386424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52" name=""/>
          <p:cNvSpPr/>
          <p:nvPr/>
        </p:nvSpPr>
        <p:spPr>
          <a:xfrm>
            <a:off x="304920" y="12384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 The latitude for the center of Chin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780160" y="1387440"/>
            <a:ext cx="925560" cy="655560"/>
          </a:xfrm>
          <a:custGeom>
            <a:avLst/>
            <a:gdLst/>
            <a:ahLst/>
            <a:rect l="l" t="t" r="r" b="b"/>
            <a:pathLst>
              <a:path w="583" h="413">
                <a:moveTo>
                  <a:pt x="107" y="50"/>
                </a:moveTo>
                <a:cubicBezTo>
                  <a:pt x="108" y="51"/>
                  <a:pt x="125" y="72"/>
                  <a:pt x="127" y="74"/>
                </a:cubicBezTo>
                <a:cubicBezTo>
                  <a:pt x="141" y="88"/>
                  <a:pt x="162" y="97"/>
                  <a:pt x="175" y="110"/>
                </a:cubicBezTo>
                <a:cubicBezTo>
                  <a:pt x="182" y="117"/>
                  <a:pt x="187" y="127"/>
                  <a:pt x="195" y="134"/>
                </a:cubicBezTo>
                <a:cubicBezTo>
                  <a:pt x="198" y="136"/>
                  <a:pt x="222" y="142"/>
                  <a:pt x="223" y="142"/>
                </a:cubicBezTo>
                <a:cubicBezTo>
                  <a:pt x="257" y="133"/>
                  <a:pt x="285" y="135"/>
                  <a:pt x="319" y="142"/>
                </a:cubicBezTo>
                <a:cubicBezTo>
                  <a:pt x="335" y="140"/>
                  <a:pt x="354" y="144"/>
                  <a:pt x="367" y="134"/>
                </a:cubicBezTo>
                <a:cubicBezTo>
                  <a:pt x="387" y="118"/>
                  <a:pt x="363" y="114"/>
                  <a:pt x="395" y="106"/>
                </a:cubicBezTo>
                <a:cubicBezTo>
                  <a:pt x="407" y="94"/>
                  <a:pt x="418" y="94"/>
                  <a:pt x="423" y="78"/>
                </a:cubicBezTo>
                <a:cubicBezTo>
                  <a:pt x="407" y="68"/>
                  <a:pt x="399" y="74"/>
                  <a:pt x="379" y="70"/>
                </a:cubicBezTo>
                <a:cubicBezTo>
                  <a:pt x="373" y="52"/>
                  <a:pt x="385" y="49"/>
                  <a:pt x="395" y="34"/>
                </a:cubicBezTo>
                <a:cubicBezTo>
                  <a:pt x="385" y="5"/>
                  <a:pt x="380" y="15"/>
                  <a:pt x="399" y="2"/>
                </a:cubicBezTo>
                <a:cubicBezTo>
                  <a:pt x="403" y="3"/>
                  <a:pt x="407" y="6"/>
                  <a:pt x="411" y="6"/>
                </a:cubicBezTo>
                <a:cubicBezTo>
                  <a:pt x="415" y="6"/>
                  <a:pt x="419" y="0"/>
                  <a:pt x="423" y="2"/>
                </a:cubicBezTo>
                <a:cubicBezTo>
                  <a:pt x="427" y="4"/>
                  <a:pt x="428" y="10"/>
                  <a:pt x="431" y="14"/>
                </a:cubicBezTo>
                <a:cubicBezTo>
                  <a:pt x="449" y="36"/>
                  <a:pt x="435" y="19"/>
                  <a:pt x="455" y="30"/>
                </a:cubicBezTo>
                <a:cubicBezTo>
                  <a:pt x="455" y="30"/>
                  <a:pt x="485" y="50"/>
                  <a:pt x="491" y="54"/>
                </a:cubicBezTo>
                <a:cubicBezTo>
                  <a:pt x="495" y="57"/>
                  <a:pt x="503" y="62"/>
                  <a:pt x="503" y="62"/>
                </a:cubicBezTo>
                <a:cubicBezTo>
                  <a:pt x="521" y="56"/>
                  <a:pt x="526" y="65"/>
                  <a:pt x="539" y="78"/>
                </a:cubicBezTo>
                <a:cubicBezTo>
                  <a:pt x="554" y="74"/>
                  <a:pt x="570" y="60"/>
                  <a:pt x="563" y="82"/>
                </a:cubicBezTo>
                <a:cubicBezTo>
                  <a:pt x="583" y="113"/>
                  <a:pt x="564" y="76"/>
                  <a:pt x="567" y="106"/>
                </a:cubicBezTo>
                <a:cubicBezTo>
                  <a:pt x="568" y="114"/>
                  <a:pt x="575" y="130"/>
                  <a:pt x="575" y="130"/>
                </a:cubicBezTo>
                <a:cubicBezTo>
                  <a:pt x="549" y="139"/>
                  <a:pt x="535" y="146"/>
                  <a:pt x="519" y="170"/>
                </a:cubicBezTo>
                <a:cubicBezTo>
                  <a:pt x="490" y="160"/>
                  <a:pt x="503" y="160"/>
                  <a:pt x="479" y="166"/>
                </a:cubicBezTo>
                <a:cubicBezTo>
                  <a:pt x="466" y="179"/>
                  <a:pt x="433" y="193"/>
                  <a:pt x="471" y="206"/>
                </a:cubicBezTo>
                <a:cubicBezTo>
                  <a:pt x="500" y="202"/>
                  <a:pt x="513" y="197"/>
                  <a:pt x="503" y="226"/>
                </a:cubicBezTo>
                <a:cubicBezTo>
                  <a:pt x="507" y="245"/>
                  <a:pt x="526" y="275"/>
                  <a:pt x="543" y="286"/>
                </a:cubicBezTo>
                <a:cubicBezTo>
                  <a:pt x="550" y="308"/>
                  <a:pt x="564" y="318"/>
                  <a:pt x="539" y="334"/>
                </a:cubicBezTo>
                <a:cubicBezTo>
                  <a:pt x="536" y="343"/>
                  <a:pt x="536" y="354"/>
                  <a:pt x="531" y="362"/>
                </a:cubicBezTo>
                <a:cubicBezTo>
                  <a:pt x="519" y="382"/>
                  <a:pt x="488" y="382"/>
                  <a:pt x="471" y="394"/>
                </a:cubicBezTo>
                <a:cubicBezTo>
                  <a:pt x="460" y="401"/>
                  <a:pt x="435" y="410"/>
                  <a:pt x="435" y="410"/>
                </a:cubicBezTo>
                <a:cubicBezTo>
                  <a:pt x="389" y="402"/>
                  <a:pt x="427" y="413"/>
                  <a:pt x="407" y="382"/>
                </a:cubicBezTo>
                <a:cubicBezTo>
                  <a:pt x="374" y="393"/>
                  <a:pt x="391" y="389"/>
                  <a:pt x="355" y="394"/>
                </a:cubicBezTo>
                <a:cubicBezTo>
                  <a:pt x="351" y="395"/>
                  <a:pt x="347" y="400"/>
                  <a:pt x="343" y="398"/>
                </a:cubicBezTo>
                <a:cubicBezTo>
                  <a:pt x="339" y="396"/>
                  <a:pt x="339" y="389"/>
                  <a:pt x="335" y="386"/>
                </a:cubicBezTo>
                <a:cubicBezTo>
                  <a:pt x="328" y="380"/>
                  <a:pt x="318" y="379"/>
                  <a:pt x="311" y="374"/>
                </a:cubicBezTo>
                <a:cubicBezTo>
                  <a:pt x="304" y="352"/>
                  <a:pt x="311" y="326"/>
                  <a:pt x="287" y="318"/>
                </a:cubicBezTo>
                <a:cubicBezTo>
                  <a:pt x="264" y="323"/>
                  <a:pt x="219" y="330"/>
                  <a:pt x="219" y="330"/>
                </a:cubicBezTo>
                <a:cubicBezTo>
                  <a:pt x="197" y="323"/>
                  <a:pt x="177" y="332"/>
                  <a:pt x="155" y="326"/>
                </a:cubicBezTo>
                <a:cubicBezTo>
                  <a:pt x="151" y="323"/>
                  <a:pt x="148" y="319"/>
                  <a:pt x="143" y="318"/>
                </a:cubicBezTo>
                <a:cubicBezTo>
                  <a:pt x="139" y="317"/>
                  <a:pt x="135" y="324"/>
                  <a:pt x="131" y="322"/>
                </a:cubicBezTo>
                <a:cubicBezTo>
                  <a:pt x="127" y="320"/>
                  <a:pt x="127" y="313"/>
                  <a:pt x="123" y="310"/>
                </a:cubicBezTo>
                <a:cubicBezTo>
                  <a:pt x="116" y="304"/>
                  <a:pt x="106" y="303"/>
                  <a:pt x="99" y="298"/>
                </a:cubicBezTo>
                <a:cubicBezTo>
                  <a:pt x="93" y="280"/>
                  <a:pt x="85" y="288"/>
                  <a:pt x="79" y="270"/>
                </a:cubicBezTo>
                <a:cubicBezTo>
                  <a:pt x="82" y="266"/>
                  <a:pt x="89" y="262"/>
                  <a:pt x="87" y="258"/>
                </a:cubicBezTo>
                <a:cubicBezTo>
                  <a:pt x="82" y="250"/>
                  <a:pt x="63" y="242"/>
                  <a:pt x="63" y="242"/>
                </a:cubicBezTo>
                <a:cubicBezTo>
                  <a:pt x="55" y="230"/>
                  <a:pt x="47" y="218"/>
                  <a:pt x="39" y="206"/>
                </a:cubicBezTo>
                <a:cubicBezTo>
                  <a:pt x="34" y="198"/>
                  <a:pt x="15" y="190"/>
                  <a:pt x="15" y="190"/>
                </a:cubicBezTo>
                <a:cubicBezTo>
                  <a:pt x="0" y="167"/>
                  <a:pt x="11" y="166"/>
                  <a:pt x="35" y="158"/>
                </a:cubicBezTo>
                <a:cubicBezTo>
                  <a:pt x="43" y="155"/>
                  <a:pt x="51" y="149"/>
                  <a:pt x="59" y="146"/>
                </a:cubicBezTo>
                <a:cubicBezTo>
                  <a:pt x="49" y="116"/>
                  <a:pt x="40" y="125"/>
                  <a:pt x="67" y="98"/>
                </a:cubicBezTo>
                <a:cubicBezTo>
                  <a:pt x="75" y="75"/>
                  <a:pt x="84" y="74"/>
                  <a:pt x="103" y="62"/>
                </a:cubicBezTo>
                <a:cubicBezTo>
                  <a:pt x="104" y="58"/>
                  <a:pt x="107" y="50"/>
                  <a:pt x="107" y="50"/>
                </a:cubicBezTo>
                <a:close/>
              </a:path>
            </a:pathLst>
          </a:custGeom>
          <a:noFill/>
          <a:ln w="2556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3"/>
          </p:cNvPr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here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6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2666880" y="53658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2670120" y="57816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6"/>
          <a:stretch/>
        </p:blipFill>
        <p:spPr>
          <a:xfrm>
            <a:off x="2673360" y="6238800"/>
            <a:ext cx="264960" cy="3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04920" y="125280"/>
            <a:ext cx="85341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143000" y="609480"/>
            <a:ext cx="6858000" cy="386424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63" name="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 The longitude for the center of Chin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7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0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780160" y="1387440"/>
            <a:ext cx="925560" cy="655560"/>
          </a:xfrm>
          <a:custGeom>
            <a:avLst/>
            <a:gdLst/>
            <a:ahLst/>
            <a:rect l="l" t="t" r="r" b="b"/>
            <a:pathLst>
              <a:path w="583" h="413">
                <a:moveTo>
                  <a:pt x="107" y="50"/>
                </a:moveTo>
                <a:cubicBezTo>
                  <a:pt x="108" y="51"/>
                  <a:pt x="125" y="72"/>
                  <a:pt x="127" y="74"/>
                </a:cubicBezTo>
                <a:cubicBezTo>
                  <a:pt x="141" y="88"/>
                  <a:pt x="162" y="97"/>
                  <a:pt x="175" y="110"/>
                </a:cubicBezTo>
                <a:cubicBezTo>
                  <a:pt x="182" y="117"/>
                  <a:pt x="187" y="127"/>
                  <a:pt x="195" y="134"/>
                </a:cubicBezTo>
                <a:cubicBezTo>
                  <a:pt x="198" y="136"/>
                  <a:pt x="222" y="142"/>
                  <a:pt x="223" y="142"/>
                </a:cubicBezTo>
                <a:cubicBezTo>
                  <a:pt x="257" y="133"/>
                  <a:pt x="285" y="135"/>
                  <a:pt x="319" y="142"/>
                </a:cubicBezTo>
                <a:cubicBezTo>
                  <a:pt x="335" y="140"/>
                  <a:pt x="354" y="144"/>
                  <a:pt x="367" y="134"/>
                </a:cubicBezTo>
                <a:cubicBezTo>
                  <a:pt x="387" y="118"/>
                  <a:pt x="363" y="114"/>
                  <a:pt x="395" y="106"/>
                </a:cubicBezTo>
                <a:cubicBezTo>
                  <a:pt x="407" y="94"/>
                  <a:pt x="418" y="94"/>
                  <a:pt x="423" y="78"/>
                </a:cubicBezTo>
                <a:cubicBezTo>
                  <a:pt x="407" y="68"/>
                  <a:pt x="399" y="74"/>
                  <a:pt x="379" y="70"/>
                </a:cubicBezTo>
                <a:cubicBezTo>
                  <a:pt x="373" y="52"/>
                  <a:pt x="385" y="49"/>
                  <a:pt x="395" y="34"/>
                </a:cubicBezTo>
                <a:cubicBezTo>
                  <a:pt x="385" y="5"/>
                  <a:pt x="380" y="15"/>
                  <a:pt x="399" y="2"/>
                </a:cubicBezTo>
                <a:cubicBezTo>
                  <a:pt x="403" y="3"/>
                  <a:pt x="407" y="6"/>
                  <a:pt x="411" y="6"/>
                </a:cubicBezTo>
                <a:cubicBezTo>
                  <a:pt x="415" y="6"/>
                  <a:pt x="419" y="0"/>
                  <a:pt x="423" y="2"/>
                </a:cubicBezTo>
                <a:cubicBezTo>
                  <a:pt x="427" y="4"/>
                  <a:pt x="428" y="10"/>
                  <a:pt x="431" y="14"/>
                </a:cubicBezTo>
                <a:cubicBezTo>
                  <a:pt x="449" y="36"/>
                  <a:pt x="435" y="19"/>
                  <a:pt x="455" y="30"/>
                </a:cubicBezTo>
                <a:cubicBezTo>
                  <a:pt x="455" y="30"/>
                  <a:pt x="485" y="50"/>
                  <a:pt x="491" y="54"/>
                </a:cubicBezTo>
                <a:cubicBezTo>
                  <a:pt x="495" y="57"/>
                  <a:pt x="503" y="62"/>
                  <a:pt x="503" y="62"/>
                </a:cubicBezTo>
                <a:cubicBezTo>
                  <a:pt x="521" y="56"/>
                  <a:pt x="526" y="65"/>
                  <a:pt x="539" y="78"/>
                </a:cubicBezTo>
                <a:cubicBezTo>
                  <a:pt x="554" y="74"/>
                  <a:pt x="570" y="60"/>
                  <a:pt x="563" y="82"/>
                </a:cubicBezTo>
                <a:cubicBezTo>
                  <a:pt x="583" y="113"/>
                  <a:pt x="564" y="76"/>
                  <a:pt x="567" y="106"/>
                </a:cubicBezTo>
                <a:cubicBezTo>
                  <a:pt x="568" y="114"/>
                  <a:pt x="575" y="130"/>
                  <a:pt x="575" y="130"/>
                </a:cubicBezTo>
                <a:cubicBezTo>
                  <a:pt x="549" y="139"/>
                  <a:pt x="535" y="146"/>
                  <a:pt x="519" y="170"/>
                </a:cubicBezTo>
                <a:cubicBezTo>
                  <a:pt x="490" y="160"/>
                  <a:pt x="503" y="160"/>
                  <a:pt x="479" y="166"/>
                </a:cubicBezTo>
                <a:cubicBezTo>
                  <a:pt x="466" y="179"/>
                  <a:pt x="433" y="193"/>
                  <a:pt x="471" y="206"/>
                </a:cubicBezTo>
                <a:cubicBezTo>
                  <a:pt x="500" y="202"/>
                  <a:pt x="513" y="197"/>
                  <a:pt x="503" y="226"/>
                </a:cubicBezTo>
                <a:cubicBezTo>
                  <a:pt x="507" y="245"/>
                  <a:pt x="526" y="275"/>
                  <a:pt x="543" y="286"/>
                </a:cubicBezTo>
                <a:cubicBezTo>
                  <a:pt x="550" y="308"/>
                  <a:pt x="564" y="318"/>
                  <a:pt x="539" y="334"/>
                </a:cubicBezTo>
                <a:cubicBezTo>
                  <a:pt x="536" y="343"/>
                  <a:pt x="536" y="354"/>
                  <a:pt x="531" y="362"/>
                </a:cubicBezTo>
                <a:cubicBezTo>
                  <a:pt x="519" y="382"/>
                  <a:pt x="488" y="382"/>
                  <a:pt x="471" y="394"/>
                </a:cubicBezTo>
                <a:cubicBezTo>
                  <a:pt x="460" y="401"/>
                  <a:pt x="435" y="410"/>
                  <a:pt x="435" y="410"/>
                </a:cubicBezTo>
                <a:cubicBezTo>
                  <a:pt x="389" y="402"/>
                  <a:pt x="427" y="413"/>
                  <a:pt x="407" y="382"/>
                </a:cubicBezTo>
                <a:cubicBezTo>
                  <a:pt x="374" y="393"/>
                  <a:pt x="391" y="389"/>
                  <a:pt x="355" y="394"/>
                </a:cubicBezTo>
                <a:cubicBezTo>
                  <a:pt x="351" y="395"/>
                  <a:pt x="347" y="400"/>
                  <a:pt x="343" y="398"/>
                </a:cubicBezTo>
                <a:cubicBezTo>
                  <a:pt x="339" y="396"/>
                  <a:pt x="339" y="389"/>
                  <a:pt x="335" y="386"/>
                </a:cubicBezTo>
                <a:cubicBezTo>
                  <a:pt x="328" y="380"/>
                  <a:pt x="318" y="379"/>
                  <a:pt x="311" y="374"/>
                </a:cubicBezTo>
                <a:cubicBezTo>
                  <a:pt x="304" y="352"/>
                  <a:pt x="311" y="326"/>
                  <a:pt x="287" y="318"/>
                </a:cubicBezTo>
                <a:cubicBezTo>
                  <a:pt x="264" y="323"/>
                  <a:pt x="219" y="330"/>
                  <a:pt x="219" y="330"/>
                </a:cubicBezTo>
                <a:cubicBezTo>
                  <a:pt x="197" y="323"/>
                  <a:pt x="177" y="332"/>
                  <a:pt x="155" y="326"/>
                </a:cubicBezTo>
                <a:cubicBezTo>
                  <a:pt x="151" y="323"/>
                  <a:pt x="148" y="319"/>
                  <a:pt x="143" y="318"/>
                </a:cubicBezTo>
                <a:cubicBezTo>
                  <a:pt x="139" y="317"/>
                  <a:pt x="135" y="324"/>
                  <a:pt x="131" y="322"/>
                </a:cubicBezTo>
                <a:cubicBezTo>
                  <a:pt x="127" y="320"/>
                  <a:pt x="127" y="313"/>
                  <a:pt x="123" y="310"/>
                </a:cubicBezTo>
                <a:cubicBezTo>
                  <a:pt x="116" y="304"/>
                  <a:pt x="106" y="303"/>
                  <a:pt x="99" y="298"/>
                </a:cubicBezTo>
                <a:cubicBezTo>
                  <a:pt x="93" y="280"/>
                  <a:pt x="85" y="288"/>
                  <a:pt x="79" y="270"/>
                </a:cubicBezTo>
                <a:cubicBezTo>
                  <a:pt x="82" y="266"/>
                  <a:pt x="89" y="262"/>
                  <a:pt x="87" y="258"/>
                </a:cubicBezTo>
                <a:cubicBezTo>
                  <a:pt x="82" y="250"/>
                  <a:pt x="63" y="242"/>
                  <a:pt x="63" y="242"/>
                </a:cubicBezTo>
                <a:cubicBezTo>
                  <a:pt x="55" y="230"/>
                  <a:pt x="47" y="218"/>
                  <a:pt x="39" y="206"/>
                </a:cubicBezTo>
                <a:cubicBezTo>
                  <a:pt x="34" y="198"/>
                  <a:pt x="15" y="190"/>
                  <a:pt x="15" y="190"/>
                </a:cubicBezTo>
                <a:cubicBezTo>
                  <a:pt x="0" y="167"/>
                  <a:pt x="11" y="166"/>
                  <a:pt x="35" y="158"/>
                </a:cubicBezTo>
                <a:cubicBezTo>
                  <a:pt x="43" y="155"/>
                  <a:pt x="51" y="149"/>
                  <a:pt x="59" y="146"/>
                </a:cubicBezTo>
                <a:cubicBezTo>
                  <a:pt x="49" y="116"/>
                  <a:pt x="40" y="125"/>
                  <a:pt x="67" y="98"/>
                </a:cubicBezTo>
                <a:cubicBezTo>
                  <a:pt x="75" y="75"/>
                  <a:pt x="84" y="74"/>
                  <a:pt x="103" y="62"/>
                </a:cubicBezTo>
                <a:cubicBezTo>
                  <a:pt x="104" y="58"/>
                  <a:pt x="107" y="50"/>
                  <a:pt x="107" y="50"/>
                </a:cubicBezTo>
                <a:close/>
              </a:path>
            </a:pathLst>
          </a:custGeom>
          <a:noFill/>
          <a:ln w="2556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>
            <a:hlinkClick r:id="rId3"/>
          </p:cNvPr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here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6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2666880" y="53658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2670120" y="57816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6"/>
          <a:stretch/>
        </p:blipFill>
        <p:spPr>
          <a:xfrm>
            <a:off x="2673360" y="6238800"/>
            <a:ext cx="264960" cy="3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143000" y="609480"/>
            <a:ext cx="6858000" cy="386424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72" name="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.  The absolute location of Chin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° N.L. and 100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 and 100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° N.L. and 77° W.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780160" y="1387440"/>
            <a:ext cx="925560" cy="655560"/>
          </a:xfrm>
          <a:custGeom>
            <a:avLst/>
            <a:gdLst/>
            <a:ahLst/>
            <a:rect l="l" t="t" r="r" b="b"/>
            <a:pathLst>
              <a:path w="583" h="413">
                <a:moveTo>
                  <a:pt x="107" y="50"/>
                </a:moveTo>
                <a:cubicBezTo>
                  <a:pt x="108" y="51"/>
                  <a:pt x="125" y="72"/>
                  <a:pt x="127" y="74"/>
                </a:cubicBezTo>
                <a:cubicBezTo>
                  <a:pt x="141" y="88"/>
                  <a:pt x="162" y="97"/>
                  <a:pt x="175" y="110"/>
                </a:cubicBezTo>
                <a:cubicBezTo>
                  <a:pt x="182" y="117"/>
                  <a:pt x="187" y="127"/>
                  <a:pt x="195" y="134"/>
                </a:cubicBezTo>
                <a:cubicBezTo>
                  <a:pt x="198" y="136"/>
                  <a:pt x="222" y="142"/>
                  <a:pt x="223" y="142"/>
                </a:cubicBezTo>
                <a:cubicBezTo>
                  <a:pt x="257" y="133"/>
                  <a:pt x="285" y="135"/>
                  <a:pt x="319" y="142"/>
                </a:cubicBezTo>
                <a:cubicBezTo>
                  <a:pt x="335" y="140"/>
                  <a:pt x="354" y="144"/>
                  <a:pt x="367" y="134"/>
                </a:cubicBezTo>
                <a:cubicBezTo>
                  <a:pt x="387" y="118"/>
                  <a:pt x="363" y="114"/>
                  <a:pt x="395" y="106"/>
                </a:cubicBezTo>
                <a:cubicBezTo>
                  <a:pt x="407" y="94"/>
                  <a:pt x="418" y="94"/>
                  <a:pt x="423" y="78"/>
                </a:cubicBezTo>
                <a:cubicBezTo>
                  <a:pt x="407" y="68"/>
                  <a:pt x="399" y="74"/>
                  <a:pt x="379" y="70"/>
                </a:cubicBezTo>
                <a:cubicBezTo>
                  <a:pt x="373" y="52"/>
                  <a:pt x="385" y="49"/>
                  <a:pt x="395" y="34"/>
                </a:cubicBezTo>
                <a:cubicBezTo>
                  <a:pt x="385" y="5"/>
                  <a:pt x="380" y="15"/>
                  <a:pt x="399" y="2"/>
                </a:cubicBezTo>
                <a:cubicBezTo>
                  <a:pt x="403" y="3"/>
                  <a:pt x="407" y="6"/>
                  <a:pt x="411" y="6"/>
                </a:cubicBezTo>
                <a:cubicBezTo>
                  <a:pt x="415" y="6"/>
                  <a:pt x="419" y="0"/>
                  <a:pt x="423" y="2"/>
                </a:cubicBezTo>
                <a:cubicBezTo>
                  <a:pt x="427" y="4"/>
                  <a:pt x="428" y="10"/>
                  <a:pt x="431" y="14"/>
                </a:cubicBezTo>
                <a:cubicBezTo>
                  <a:pt x="449" y="36"/>
                  <a:pt x="435" y="19"/>
                  <a:pt x="455" y="30"/>
                </a:cubicBezTo>
                <a:cubicBezTo>
                  <a:pt x="455" y="30"/>
                  <a:pt x="485" y="50"/>
                  <a:pt x="491" y="54"/>
                </a:cubicBezTo>
                <a:cubicBezTo>
                  <a:pt x="495" y="57"/>
                  <a:pt x="503" y="62"/>
                  <a:pt x="503" y="62"/>
                </a:cubicBezTo>
                <a:cubicBezTo>
                  <a:pt x="521" y="56"/>
                  <a:pt x="526" y="65"/>
                  <a:pt x="539" y="78"/>
                </a:cubicBezTo>
                <a:cubicBezTo>
                  <a:pt x="554" y="74"/>
                  <a:pt x="570" y="60"/>
                  <a:pt x="563" y="82"/>
                </a:cubicBezTo>
                <a:cubicBezTo>
                  <a:pt x="583" y="113"/>
                  <a:pt x="564" y="76"/>
                  <a:pt x="567" y="106"/>
                </a:cubicBezTo>
                <a:cubicBezTo>
                  <a:pt x="568" y="114"/>
                  <a:pt x="575" y="130"/>
                  <a:pt x="575" y="130"/>
                </a:cubicBezTo>
                <a:cubicBezTo>
                  <a:pt x="549" y="139"/>
                  <a:pt x="535" y="146"/>
                  <a:pt x="519" y="170"/>
                </a:cubicBezTo>
                <a:cubicBezTo>
                  <a:pt x="490" y="160"/>
                  <a:pt x="503" y="160"/>
                  <a:pt x="479" y="166"/>
                </a:cubicBezTo>
                <a:cubicBezTo>
                  <a:pt x="466" y="179"/>
                  <a:pt x="433" y="193"/>
                  <a:pt x="471" y="206"/>
                </a:cubicBezTo>
                <a:cubicBezTo>
                  <a:pt x="500" y="202"/>
                  <a:pt x="513" y="197"/>
                  <a:pt x="503" y="226"/>
                </a:cubicBezTo>
                <a:cubicBezTo>
                  <a:pt x="507" y="245"/>
                  <a:pt x="526" y="275"/>
                  <a:pt x="543" y="286"/>
                </a:cubicBezTo>
                <a:cubicBezTo>
                  <a:pt x="550" y="308"/>
                  <a:pt x="564" y="318"/>
                  <a:pt x="539" y="334"/>
                </a:cubicBezTo>
                <a:cubicBezTo>
                  <a:pt x="536" y="343"/>
                  <a:pt x="536" y="354"/>
                  <a:pt x="531" y="362"/>
                </a:cubicBezTo>
                <a:cubicBezTo>
                  <a:pt x="519" y="382"/>
                  <a:pt x="488" y="382"/>
                  <a:pt x="471" y="394"/>
                </a:cubicBezTo>
                <a:cubicBezTo>
                  <a:pt x="460" y="401"/>
                  <a:pt x="435" y="410"/>
                  <a:pt x="435" y="410"/>
                </a:cubicBezTo>
                <a:cubicBezTo>
                  <a:pt x="389" y="402"/>
                  <a:pt x="427" y="413"/>
                  <a:pt x="407" y="382"/>
                </a:cubicBezTo>
                <a:cubicBezTo>
                  <a:pt x="374" y="393"/>
                  <a:pt x="391" y="389"/>
                  <a:pt x="355" y="394"/>
                </a:cubicBezTo>
                <a:cubicBezTo>
                  <a:pt x="351" y="395"/>
                  <a:pt x="347" y="400"/>
                  <a:pt x="343" y="398"/>
                </a:cubicBezTo>
                <a:cubicBezTo>
                  <a:pt x="339" y="396"/>
                  <a:pt x="339" y="389"/>
                  <a:pt x="335" y="386"/>
                </a:cubicBezTo>
                <a:cubicBezTo>
                  <a:pt x="328" y="380"/>
                  <a:pt x="318" y="379"/>
                  <a:pt x="311" y="374"/>
                </a:cubicBezTo>
                <a:cubicBezTo>
                  <a:pt x="304" y="352"/>
                  <a:pt x="311" y="326"/>
                  <a:pt x="287" y="318"/>
                </a:cubicBezTo>
                <a:cubicBezTo>
                  <a:pt x="264" y="323"/>
                  <a:pt x="219" y="330"/>
                  <a:pt x="219" y="330"/>
                </a:cubicBezTo>
                <a:cubicBezTo>
                  <a:pt x="197" y="323"/>
                  <a:pt x="177" y="332"/>
                  <a:pt x="155" y="326"/>
                </a:cubicBezTo>
                <a:cubicBezTo>
                  <a:pt x="151" y="323"/>
                  <a:pt x="148" y="319"/>
                  <a:pt x="143" y="318"/>
                </a:cubicBezTo>
                <a:cubicBezTo>
                  <a:pt x="139" y="317"/>
                  <a:pt x="135" y="324"/>
                  <a:pt x="131" y="322"/>
                </a:cubicBezTo>
                <a:cubicBezTo>
                  <a:pt x="127" y="320"/>
                  <a:pt x="127" y="313"/>
                  <a:pt x="123" y="310"/>
                </a:cubicBezTo>
                <a:cubicBezTo>
                  <a:pt x="116" y="304"/>
                  <a:pt x="106" y="303"/>
                  <a:pt x="99" y="298"/>
                </a:cubicBezTo>
                <a:cubicBezTo>
                  <a:pt x="93" y="280"/>
                  <a:pt x="85" y="288"/>
                  <a:pt x="79" y="270"/>
                </a:cubicBezTo>
                <a:cubicBezTo>
                  <a:pt x="82" y="266"/>
                  <a:pt x="89" y="262"/>
                  <a:pt x="87" y="258"/>
                </a:cubicBezTo>
                <a:cubicBezTo>
                  <a:pt x="82" y="250"/>
                  <a:pt x="63" y="242"/>
                  <a:pt x="63" y="242"/>
                </a:cubicBezTo>
                <a:cubicBezTo>
                  <a:pt x="55" y="230"/>
                  <a:pt x="47" y="218"/>
                  <a:pt x="39" y="206"/>
                </a:cubicBezTo>
                <a:cubicBezTo>
                  <a:pt x="34" y="198"/>
                  <a:pt x="15" y="190"/>
                  <a:pt x="15" y="190"/>
                </a:cubicBezTo>
                <a:cubicBezTo>
                  <a:pt x="0" y="167"/>
                  <a:pt x="11" y="166"/>
                  <a:pt x="35" y="158"/>
                </a:cubicBezTo>
                <a:cubicBezTo>
                  <a:pt x="43" y="155"/>
                  <a:pt x="51" y="149"/>
                  <a:pt x="59" y="146"/>
                </a:cubicBezTo>
                <a:cubicBezTo>
                  <a:pt x="49" y="116"/>
                  <a:pt x="40" y="125"/>
                  <a:pt x="67" y="98"/>
                </a:cubicBezTo>
                <a:cubicBezTo>
                  <a:pt x="75" y="75"/>
                  <a:pt x="84" y="74"/>
                  <a:pt x="103" y="62"/>
                </a:cubicBezTo>
                <a:cubicBezTo>
                  <a:pt x="104" y="58"/>
                  <a:pt x="107" y="50"/>
                  <a:pt x="107" y="50"/>
                </a:cubicBezTo>
                <a:close/>
              </a:path>
            </a:pathLst>
          </a:custGeom>
          <a:noFill/>
          <a:ln w="2556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125280"/>
            <a:ext cx="85341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here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6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2666880" y="53658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2670120" y="57816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2673360" y="6238800"/>
            <a:ext cx="264960" cy="3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123920" y="77760"/>
            <a:ext cx="7905960" cy="41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80°E                          100°E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20°E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40°N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0°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38320" y="4952880"/>
            <a:ext cx="527220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.  The latitude for Chongqing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9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0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743120" y="457200"/>
            <a:ext cx="5715000" cy="404640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8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7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2666880" y="53658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2670120" y="57816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5"/>
          <a:stretch/>
        </p:blipFill>
        <p:spPr>
          <a:xfrm>
            <a:off x="2673360" y="6238800"/>
            <a:ext cx="264960" cy="3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123920" y="77760"/>
            <a:ext cx="7905960" cy="41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80°E                          100°E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20°E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40°N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0°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038320" y="4952880"/>
            <a:ext cx="6050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.  The longitude for Chongqing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7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6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743120" y="457200"/>
            <a:ext cx="5715000" cy="404640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7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666880" y="53658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2670120" y="57816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2673360" y="6238800"/>
            <a:ext cx="264960" cy="3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123920" y="77760"/>
            <a:ext cx="7905960" cy="41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80°E                          100°E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20°E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40°N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0°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752480" y="4952880"/>
            <a:ext cx="59007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.  The absolute location of Chongqing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9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 and 106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 and 120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° N.L. and 77° W.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743120" y="457200"/>
            <a:ext cx="5715000" cy="404640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10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7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2666880" y="53658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2670120" y="57816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5"/>
          <a:stretch/>
        </p:blipFill>
        <p:spPr>
          <a:xfrm>
            <a:off x="2673360" y="6238800"/>
            <a:ext cx="264960" cy="3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130400" y="76320"/>
            <a:ext cx="6387840" cy="36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80°E                        100° E                 120°E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40°N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0°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971800" y="4876920"/>
            <a:ext cx="5486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rbin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as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ij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uangzh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752480" y="415800"/>
            <a:ext cx="5143680" cy="362268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108" name=""/>
          <p:cNvSpPr/>
          <p:nvPr/>
        </p:nvSpPr>
        <p:spPr>
          <a:xfrm>
            <a:off x="1446480" y="4419720"/>
            <a:ext cx="574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.  What city is located at 39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, 75° E.L.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7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2674800" y="6257880"/>
            <a:ext cx="265320" cy="3286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2666880" y="494028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5"/>
          <a:stretch/>
        </p:blipFill>
        <p:spPr>
          <a:xfrm>
            <a:off x="2670120" y="538164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6"/>
          <a:stretch/>
        </p:blipFill>
        <p:spPr>
          <a:xfrm>
            <a:off x="2673360" y="5813280"/>
            <a:ext cx="264960" cy="3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130400" y="76320"/>
            <a:ext cx="6387840" cy="36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80°E                        100° E                 120°E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40°N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0°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752480" y="415800"/>
            <a:ext cx="5143680" cy="362268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117" name=""/>
          <p:cNvSpPr/>
          <p:nvPr/>
        </p:nvSpPr>
        <p:spPr>
          <a:xfrm>
            <a:off x="1448280" y="4419720"/>
            <a:ext cx="589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8.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city is located at 39° N.L., 116° E.L.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971800" y="4876920"/>
            <a:ext cx="5486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rbin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as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ij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uangzh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7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2674800" y="6257880"/>
            <a:ext cx="265320" cy="3286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2666880" y="494028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2670120" y="538164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6"/>
          <a:stretch/>
        </p:blipFill>
        <p:spPr>
          <a:xfrm>
            <a:off x="2673360" y="5813280"/>
            <a:ext cx="264960" cy="3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3T17:50:52Z</dcterms:created>
  <dc:creator>vtpp</dc:creator>
  <dc:description/>
  <dc:language>en-US</dc:language>
  <cp:lastModifiedBy>ljlab</cp:lastModifiedBy>
  <cp:lastPrinted>2001-09-05T16:54:47Z</cp:lastPrinted>
  <dcterms:modified xsi:type="dcterms:W3CDTF">2007-10-24T15:48:51Z</dcterms:modified>
  <cp:revision>743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608000000000001023620</vt:lpwstr>
  </property>
</Properties>
</file>