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315B-F1BC-494B-8C6C-BBAFD46A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 / 1,120,000,000 people = 0.288 people / 1.12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88 people / 1.12 people = 0.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perce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7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atio ratios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 For China with a population of 1.12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120,000,000 people/ 9,597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6.70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United States with a population of 288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/ 9,629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91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China’s population density by the United State’s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16.70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(29.91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90 times gre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DD45-3B9D-4045-BBA2-6221C0E7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F5C-F019-4BBC-97DB-95CC6CB0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0F8-25ED-425B-999C-57F4EF6E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6150-7D5A-4015-8E50-9783C9C9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B0F9-1D8D-4F94-BA04-66C64F9D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967-B230-434D-A5E9-8FE0D27B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319-60AC-4951-99E4-902C1275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05A-3110-4262-8472-4B5F64CE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AC4-5194-4DE2-A5A5-0A065950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B08F-3648-42AF-A3AD-89B8218F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B33-7E09-4FB9-B8AB-6E505674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72D-39A0-4C08-A1F1-35215B8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77F5-C699-47C7-A5C3-15A624698CA3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percentages and fractions to calculate population dens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ttle Too Crowd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story Jace states that in China there are over 30 million people in an area the size of Maine.  The population of China is 1.12 billion; the population of the United States is 288 million.  Express the ratio of the population of the United States to China as a percentage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63160" y="626904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For more information o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ercentage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, click on the hyper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f China has an area of 9,597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 and the U.S. covers an area of 9,629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, what is the population density of each country? Express the answer in people /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ssume the population of China is 1.12 billion and that of the United States is 288 million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How many times greater is China’s population density than the United States’?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0720" y="6172200"/>
            <a:ext cx="60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43:34Z</dcterms:created>
  <dc:creator>Texas A&amp;M Veterinary Medicine</dc:creator>
  <dc:description/>
  <dc:language>en-US</dc:language>
  <cp:lastModifiedBy>Jeremiah McNichols</cp:lastModifiedBy>
  <dcterms:modified xsi:type="dcterms:W3CDTF">2008-09-16T15:43:21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2000000000001023620</vt:lpwstr>
  </property>
</Properties>
</file>