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1B56-30A7-4EB7-B55D-0E3183B13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 / 1,120,000,000 people = 0.288 people / 1.12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88 people / 1.12 people = 0.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o perce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7 x 100%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atio ratios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 For China with a population of 1.12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120,000,000 people/ 9,597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6.70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United States with a population of 288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/ 9,629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91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China’s population density by the United State’s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16.70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(29.91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90 times gre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onversi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E26-67FA-4285-B146-229AD6C8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023-0FB1-405A-BF53-5F424F99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30F-42D5-481C-AB56-8F2E24C9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020-6830-4B6F-A4FD-D6A119DC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B28-2696-4386-A43D-3A4D39E6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55B-A444-4233-BF86-BBBDA0A5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AC0-0AA0-410B-BADB-A895F178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D9A-D5DC-4404-A1A0-F32E43EC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95E-4AC5-4819-81DE-ECF611A3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A96-862C-4D08-8F37-DB0CED37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3F2-8DD3-49C3-AFF1-2FFB59D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96A-B0BB-44FF-BAAA-2E0B8364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1FF2-245D-4C5C-A29F-8734EDEF51F7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Ratios.ppt" TargetMode="External"/><Relationship Id="rId4" Type="http://schemas.openxmlformats.org/officeDocument/2006/relationships/hyperlink" Target="Appendices/FraToPer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FraToDec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percentages and fractions to calculate population densit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Little Too Crowd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 the story Jace states that in China there are over 30 million people in an area the size of Maine.  The population of China is 1.12 billion; the population of the United States is 288 million.  Express the ratio of the population of the United States to China as a percentage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63160" y="6269040"/>
            <a:ext cx="68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For more information o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atio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ercentage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, click on the hyper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pulation Dens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If China has an area of 9,597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 and the U.S. covers an area of 9,629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, what is the population density of each country? Express the answer in people /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ssume the population of China is 1.12 billion and that of the United States is 288 million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How many times greater is China’s population density than the United States’?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0720" y="6172200"/>
            <a:ext cx="60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for more information on conver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7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43:34Z</dcterms:created>
  <dc:creator>Texas A&amp;M Veterinary Medicine</dc:creator>
  <dc:description/>
  <dc:language>en-US</dc:language>
  <cp:lastModifiedBy>Jeremiah McNichols</cp:lastModifiedBy>
  <dcterms:modified xsi:type="dcterms:W3CDTF">2008-09-16T15:43:21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2000000000001023620</vt:lpwstr>
  </property>
</Properties>
</file>