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67A22-F8C4-4F58-9262-30858F375B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4A3E-5F71-4805-87BC-ACB264C34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B859-0921-4630-80A8-DB5C3581F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A1B2-971E-4460-A7D8-6C194C1D9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4432-7FD9-4A46-9CCB-FA860C6CD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CCB1-18F9-4DF8-B2AC-A17D2EBF3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ABC5-309F-47D4-AE6E-4C0F1A011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9C5B-5505-4196-975B-D2BAF7202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5EE9-2FD4-4944-B01B-E8333CF4A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23C8-A20B-4E16-901F-DD7E349F8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9BFF-587F-4F24-B594-1117C883C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883E-A659-4A59-8FCE-47C99B5E5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0F2C-DEF5-483A-AB94-50CCF7FA0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72824-1365-48EF-BB20-8E667F0AB72C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eather is the state of the atmosphere at a given place and time.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right now the temperature in New Jersey is 56º F and it is snowing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50:41Z</dcterms:created>
  <dc:creator>ITMD</dc:creator>
  <dc:description/>
  <dc:language>en-US</dc:language>
  <cp:lastModifiedBy>ljlab</cp:lastModifiedBy>
  <dcterms:modified xsi:type="dcterms:W3CDTF">2003-09-11T17:23:21Z</dcterms:modified>
  <cp:revision>8</cp:revision>
  <dc:subject/>
  <dc:title>What’s the difference between weather and climate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200000000000001023620</vt:lpwstr>
  </property>
</Properties>
</file>