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54B-9548-4EFF-B314-2F2CF8A2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81D-E561-4CD6-B3C7-E90180AB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2F23-BE96-4E6F-86FF-D3926238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3520" y="5592600"/>
            <a:ext cx="50292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    Determine the total number of year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s smoked = 60yrs – 20yrs = 40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otal number of cigarette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pack per day x 20 cigarettes per pack) x (365 days per year x 40yrs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2,000 cigarettes sm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n 40 years, the 10 extra days associated with leap years would add 200 cigarettes to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Use order of operations to simplify whole number expressions (without exponents) in problem solving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ubtraction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400" y="4570560"/>
            <a:ext cx="486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6.5, 6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1 pack x 20 cigarettes / pack x 365 days/year x 4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29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B73-CE35-4D17-A452-DA992105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40 years x 365 days/year x $3.00 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 43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pproximate cost.  Recognize that depending upon the year in which the Grandfather died, approximately 10 leap years (i.e. 366 days/year) need to be taken into account as well as inflation; however, $ 43,800 is a reasonable esti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ultiplication Monetary un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3C53-8E26-45AA-8DAD-282C7DB4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give you the answer,  but you could turn this into an advanced problem and work it out with your stud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evant formul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P {([1+i/12]^N) – 1} / (i/1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$90 (monthly payment), i = .05 (annual interest rate), N = 480 months (40 yr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7,485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students do not need to calculate this, but only need to appreciate that the investment makes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stimation Ratios Ratio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4A0E-EAEB-4293-831C-570AE6BE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Do all of th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im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ew cars = $42,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expenses for 2 students for 4 years = $6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ls: 2 meals per day for 4 years at $10 per meal = $29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:40 pairs at $50 per pair = $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osts = $137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moking nict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 m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nicot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k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human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dose per kg by the weight of the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9mg / kg) x 70k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mg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 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% absorption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g / (8mg/cigarette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75 or 8 cigar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494-2C7A-47E8-8449-DB64593C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FC3-4D3D-4770-B034-54147E1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71-84DB-4AD5-97BD-C55551D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A0B-1451-4D2E-ABD7-CFFD6AB6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535-EFD9-4573-BE2E-46E8728E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830-A94B-42B4-838C-0BCB752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333-C883-4C54-AD8B-39821A8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E58-761B-405D-9213-37300E9C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8F7-1E2D-4B48-AF72-3990C92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398-381D-499E-BBDA-192A5A7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527-62CA-4FC4-95B7-B9AF36D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231-40E5-4526-8FCF-1AF21D6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D1B-6A0E-4548-B5A9-4BCDD7A6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052-88AF-4850-BD5D-31AA6CD22B10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TbccoAp.ppt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estimation to solve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plore the use of rates in word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lculate compound inter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fetime in Cigaret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fortunately, Jace’s grandfather smoked a pack of cigarettes every day from the age of 20 until he died at the age of 60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there are 20 cigarettes in a pack, how many cigarettes did Jace’s Grandfather smoke during his life?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tting a Price on Grandfather’s Smo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cigarettes cost $3.00 per pack, approximately how many dollars did Jace’s grandfather spend during the 40 years that he smoked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f Grandfather had invested his mone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9656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Jace’s grandfather had put $3.00 a day into a savings account everyday for 40 years instead of buying cigarettes, he would have accumulated more than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$137,000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 sav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a Savings Account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$137,500, is approximately enough money to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2 new pick-up trucks (Ford or Chev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nd Jace and K.T. to Texas A&amp;M Universit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y for 2 meals/da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40 pairs of sho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 for more about smoking and nicotin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cotine BAD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icotine is a lethal substance.  It only tak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.9 mg of nicotine per 1 kg of human weight to kill a person.  Jace’s grandfather weighed 70 kg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much nicotine would he need to ingest to reach toxic level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is Is Tas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igarette contains about 8 mg of nicotine.  How many cigarettes would Jace’s grandfather have to ingest to receive a toxic dose of nicotin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sume the lethal dose is 0.9 mg/kg and Jace’s grandfather weighs 70k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4680" y="621828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31:07Z</dcterms:created>
  <dc:creator>Texas A&amp;M Veterinary Medicine</dc:creator>
  <dc:description/>
  <dc:language>en-US</dc:language>
  <cp:lastModifiedBy>Jeremiah McNichols</cp:lastModifiedBy>
  <dcterms:modified xsi:type="dcterms:W3CDTF">2008-09-16T15:31:4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3000000000001023620</vt:lpwstr>
  </property>
</Properties>
</file>