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379B8-AB36-43B4-AEC2-B8D31C4940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AEF4A-C50E-44D9-957F-AFA311EBEB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40306-ED7C-4A19-8512-AD3A998AB1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79317-794F-4019-9224-EFC3E2D74D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4A618-B0B7-4E18-834E-6771A81950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95236-7601-42FB-8ED0-854E230D1D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DC356-7915-455E-A603-DEA7A26E6F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F9ADE-C48B-4C84-9094-830644638A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1572C-7F4D-4C2A-9707-0EBE345AED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F1433-8D3D-428C-9F92-1C05EEEB41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A27BB-3F49-4390-B05C-1A3C9338BA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EBEC4-7BA5-4561-814E-DCB62F0E71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D1A49-8D24-4750-9C93-D42859713BCB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Remember that a decimal is a fractional number :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it is a part of something who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54C7A-1FBD-4EB6-9F6D-DDF196857CC1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 = 0.44444). 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1000th place (e.g. 0.4, 0.44, 0.444).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.4444  (part in green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048120" y="5105520"/>
            <a:ext cx="2982960" cy="2000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3BCE1-9D51-43B4-9C39-81CAB4950678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21Z</dcterms:modified>
  <cp:revision>208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e01000000000001023620</vt:lpwstr>
  </property>
</Properties>
</file>