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74059-94C3-4D59-AE3D-B8083435B9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D4AB-0B18-4A39-A9CB-733BB6E6A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4E15-CA2C-41EC-899B-F09627330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2039-4CDA-4BF9-997B-E12ECE74C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2D50-91A2-4391-BA9B-3D5784FB6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571E-5EE3-41D0-918C-0A3C936B8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F0F9-A577-4A72-88FA-635C2ECE5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1A89-E3A2-42EC-9656-DACDDD848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E9AC-4823-47CA-9528-C924289B8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0DD6-2065-4624-932B-B77AB6B0E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F9BE-AEAB-4A97-81D4-C3DA8FDC1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36FA-F403-4C19-9F0A-8726D17B0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8B25-53B6-48AB-8094-10F8D7298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BA487-B1E3-478C-8281-9EDD14A870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Vince Hardy</cp:lastModifiedBy>
  <cp:lastPrinted>2002-01-04T15:57:18Z</cp:lastPrinted>
  <dcterms:modified xsi:type="dcterms:W3CDTF">2007-01-12T21:47:28Z</dcterms:modified>
  <cp:revision>29</cp:revision>
  <dc:subject/>
  <dc:title>Sensory Detail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803000000000001023620</vt:lpwstr>
  </property>
</Properties>
</file>