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09221-B589-4443-9414-9047F66170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S TO QUIZ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 (Jace and K.T.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 (to rescue a family heirloo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 (to avoid flooding caused by completion of the new da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 (the apartment of Jace’s grandfathe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 (crowd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 (coug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 (co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 (smok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 (they find a clue in the photograph of the Jade Dragon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 (dark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tire Investigator’s Challenge Quiz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English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 (C, H, K, M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) Monitoring comprehension and making modific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H) Drawing inferen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K) Answering different types and levels of ques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M) Using study strategies to work on ide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1 (C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upporting responses by referring to text and own experienc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2 (F, G, K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) Analyzing charac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G) Recognizing and analyzing story plot, setting, and problem resolu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K) Recognizing how style, tone, and mood contribute to the affect of t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0 (C, H, K, M), 7.11 (C), 7.12 (F, G, K), 8.10 (C, H, K, M), 8.11 (C), 8.12 (F, G, K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cience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A) Identify energy transformations during the human production of energ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B) Compare methods used for transforming energy in devi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C) Research and describe energy types from their source to their u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13B35-54E9-48E4-AD29-C2AC36D9F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DD6E5-73B0-48D7-890D-16045CED5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D287C-F59C-42C1-9A3E-20672C0EB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1D14D-AA62-42C8-8513-DABCE184D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D3BA0-51AA-43D2-9A63-814E78C47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C192C-86D1-4952-A8B8-8103EB10D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48989-4024-4810-A4EB-E3FD0A49D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6FB58-D68E-4D85-B681-1C160664A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3F55C-65AC-4A79-8230-2024D73C1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1384E-1851-47D7-A94E-C0492FD76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A7772-2C86-447E-9D37-BEEE138D3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2DC9E-0162-4BDD-BE1A-D66448028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CD123-2C42-45CA-9D89-53A66AD3F2E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0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761760" y="167652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52992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9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do the travelers find their way to the correct cav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29920" indent="0">
              <a:lnSpc>
                <a:spcPct val="9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  <a:p>
            <a:pPr lvl="1" marL="930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y ask the train conductor for direction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30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y guess which cave is the correct on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30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grandfather’s directions provide all th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formation neede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30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y find a clue in the photograph of th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ade Drag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30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re is only one cave, so it is easy to fin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1378080" y="5859360"/>
            <a:ext cx="369720" cy="4651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4"/>
          <a:stretch/>
        </p:blipFill>
        <p:spPr>
          <a:xfrm>
            <a:off x="1371600" y="2854440"/>
            <a:ext cx="369720" cy="4651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5"/>
          <a:stretch/>
        </p:blipFill>
        <p:spPr>
          <a:xfrm>
            <a:off x="1374840" y="3405240"/>
            <a:ext cx="369720" cy="4651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6"/>
          <a:stretch/>
        </p:blipFill>
        <p:spPr>
          <a:xfrm>
            <a:off x="1376280" y="4046400"/>
            <a:ext cx="370080" cy="4651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7"/>
          <a:stretch/>
        </p:blipFill>
        <p:spPr>
          <a:xfrm>
            <a:off x="1374840" y="4970520"/>
            <a:ext cx="36972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1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761760" y="167652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0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cave is …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ery larg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rk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eerfu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uarded by bat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1371600" y="2479680"/>
            <a:ext cx="369720" cy="46512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4"/>
          <a:stretch/>
        </p:blipFill>
        <p:spPr>
          <a:xfrm>
            <a:off x="1374840" y="3036960"/>
            <a:ext cx="369720" cy="4651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5"/>
          <a:stretch/>
        </p:blipFill>
        <p:spPr>
          <a:xfrm>
            <a:off x="1376280" y="3595680"/>
            <a:ext cx="370080" cy="46512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6"/>
          <a:stretch/>
        </p:blipFill>
        <p:spPr>
          <a:xfrm>
            <a:off x="1374840" y="4154400"/>
            <a:ext cx="36972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3154320" y="2851200"/>
            <a:ext cx="2790720" cy="125712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4205160" y="5016600"/>
            <a:ext cx="962280" cy="5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0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61760" y="167652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o travels to China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1" marL="980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ace and K.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80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ace and his moth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80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.T., Jace and the captain of the soccer tea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80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 one.  Jace only dreams he goes to Chin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80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ace travels alone because the trip is so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ngerou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1370160" y="46656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1376280" y="24606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5"/>
          <a:stretch/>
        </p:blipFill>
        <p:spPr>
          <a:xfrm>
            <a:off x="1373040" y="30114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6"/>
          <a:stretch/>
        </p:blipFill>
        <p:spPr>
          <a:xfrm>
            <a:off x="1374840" y="3564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7"/>
          <a:stretch/>
        </p:blipFill>
        <p:spPr>
          <a:xfrm>
            <a:off x="1373040" y="411624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0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761760" y="167652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y is a trip to China needed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9112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9608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celebrate the 100th birthday of Jace’s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randmoth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608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see the Three Gorges Da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608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rescue a family heirloo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608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test Jace’s new backpack compu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608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collect information for a history repor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1370160" y="51037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1370160" y="25686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1373040" y="34624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6"/>
          <a:stretch/>
        </p:blipFill>
        <p:spPr>
          <a:xfrm>
            <a:off x="1374840" y="40086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7"/>
          <a:stretch/>
        </p:blipFill>
        <p:spPr>
          <a:xfrm>
            <a:off x="1373040" y="4554360"/>
            <a:ext cx="374760" cy="4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0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761760" y="167652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46404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y must the trip to China be made immediately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6404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1" marL="7952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avoid the cold weather that occurs later in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yea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952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cause the government will only allow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ravelers in at certain ti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952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 they can get back in time for a soccer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urna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952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avoid the flooding caused by completion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f the new da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1370160" y="30067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4"/>
          <a:stretch/>
        </p:blipFill>
        <p:spPr>
          <a:xfrm>
            <a:off x="1373040" y="39448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5"/>
          <a:stretch/>
        </p:blipFill>
        <p:spPr>
          <a:xfrm>
            <a:off x="1374840" y="48718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6"/>
          <a:stretch/>
        </p:blipFill>
        <p:spPr>
          <a:xfrm>
            <a:off x="1373040" y="581832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0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761760" y="167652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4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ere in China do they travel first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Yangtze Riv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apartment of Jace’s grandfath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ace’s family farm in Beij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cemete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in station in Fengd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1376280" y="46846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4"/>
          <a:stretch/>
        </p:blipFill>
        <p:spPr>
          <a:xfrm>
            <a:off x="1376280" y="24606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5"/>
          <a:stretch/>
        </p:blipFill>
        <p:spPr>
          <a:xfrm>
            <a:off x="1379520" y="30178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6"/>
          <a:stretch/>
        </p:blipFill>
        <p:spPr>
          <a:xfrm>
            <a:off x="1380960" y="35766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7"/>
          <a:stretch/>
        </p:blipFill>
        <p:spPr>
          <a:xfrm>
            <a:off x="1379520" y="412920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0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761760" y="167652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5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ich of the following best describes the atmosphere in the city of Chongqing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1" marL="12142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eacefu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2142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Quie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2142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rowd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2142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ser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2142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ea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1376280" y="51102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1376280" y="28926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5"/>
          <a:stretch/>
        </p:blipFill>
        <p:spPr>
          <a:xfrm>
            <a:off x="1379520" y="34495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6"/>
          <a:stretch/>
        </p:blipFill>
        <p:spPr>
          <a:xfrm>
            <a:off x="1371600" y="40021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7"/>
          <a:stretch/>
        </p:blipFill>
        <p:spPr>
          <a:xfrm>
            <a:off x="1379520" y="4554360"/>
            <a:ext cx="374760" cy="4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0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761760" y="167652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6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health problem do Jace and his grandfather shar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239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or eyesigh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239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omach ach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239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ither have any health proble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239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m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239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ug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1379520" y="51102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1379520" y="28926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5"/>
          <a:stretch/>
        </p:blipFill>
        <p:spPr>
          <a:xfrm>
            <a:off x="1373040" y="34434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6"/>
          <a:stretch/>
        </p:blipFill>
        <p:spPr>
          <a:xfrm>
            <a:off x="1378080" y="40021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1373040" y="4554360"/>
            <a:ext cx="374760" cy="4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0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761760" y="167652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7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type of fuel was used to power the train from Chongqing to Fengdu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89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oo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89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lectric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89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uclear power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89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89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atural g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1379520" y="51102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1379520" y="28954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5"/>
          <a:stretch/>
        </p:blipFill>
        <p:spPr>
          <a:xfrm>
            <a:off x="1373040" y="34466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6"/>
          <a:stretch/>
        </p:blipFill>
        <p:spPr>
          <a:xfrm>
            <a:off x="1374840" y="40021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7"/>
          <a:stretch/>
        </p:blipFill>
        <p:spPr>
          <a:xfrm>
            <a:off x="1373040" y="4554360"/>
            <a:ext cx="374760" cy="4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0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761760" y="167652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8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ich of the following best describes the conditions on the train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620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mok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620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Quie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620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leasa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620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rganiz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620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mp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0"/>
            <a:ext cx="90234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1374840" y="5106960"/>
            <a:ext cx="374760" cy="4698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1374840" y="2895480"/>
            <a:ext cx="374760" cy="47016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4"/>
          <a:stretch/>
        </p:blipFill>
        <p:spPr>
          <a:xfrm>
            <a:off x="1378080" y="3446640"/>
            <a:ext cx="374400" cy="4698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5"/>
          <a:stretch/>
        </p:blipFill>
        <p:spPr>
          <a:xfrm>
            <a:off x="1379520" y="3998880"/>
            <a:ext cx="374760" cy="4698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6"/>
          <a:stretch/>
        </p:blipFill>
        <p:spPr>
          <a:xfrm>
            <a:off x="1378080" y="4551480"/>
            <a:ext cx="374400" cy="46980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2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7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06T11:30:21Z</dcterms:created>
  <dc:creator>John</dc:creator>
  <dc:description/>
  <dc:language>en-US</dc:language>
  <cp:lastModifiedBy>College of Veterinary Medicine</cp:lastModifiedBy>
  <cp:lastPrinted>2001-06-06T11:58:46Z</cp:lastPrinted>
  <dcterms:modified xsi:type="dcterms:W3CDTF">2007-11-19T18:34:42Z</dcterms:modified>
  <cp:revision>105</cp:revision>
  <dc:subject/>
  <dc:title>Traveler’s Quiz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e05000000000001023620</vt:lpwstr>
  </property>
</Properties>
</file>