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F91C-575B-44F9-BE84-F8F6B198A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04EC-00F2-430D-9F53-9F11B168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EA01-90DD-448C-A8D7-CAB0D7A7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C490-6D94-436E-913C-DC8CF528F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0709-7472-4181-8EAA-1C795B28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5AC2-FF5E-4606-97A7-A678680C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CD7C-4079-4731-9F56-76F4D217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FB91-056E-4F95-BC42-94F5469C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912D-87B4-40B2-8DC7-25BBAE51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5281-0905-4CAA-8BE2-E6B528FF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9992-E5D7-4FBF-BB03-D73FD889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6FEA-B516-42F0-B5EF-AE921289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E98F-D622-429A-B13E-D6BA980A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6E11-77C0-4686-8F6D-C46F14AB8C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23° N.L., 113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447920" y="4419720"/>
            <a:ext cx="60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46° N.L., 12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 and 10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38320" y="4952880"/>
            <a:ext cx="5272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The lat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8320" y="4952880"/>
            <a:ext cx="6050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4952880"/>
            <a:ext cx="5900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absolute location of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2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446480" y="4419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3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75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39° N.L., 11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7:50:52Z</dcterms:created>
  <dc:creator>vtpp</dc:creator>
  <dc:description/>
  <dc:language>en-US</dc:language>
  <cp:lastModifiedBy>ljlab</cp:lastModifiedBy>
  <cp:lastPrinted>2001-09-05T16:54:47Z</cp:lastPrinted>
  <dcterms:modified xsi:type="dcterms:W3CDTF">2007-10-24T15:48:51Z</dcterms:modified>
  <cp:revision>7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8000000000001023620</vt:lpwstr>
  </property>
</Properties>
</file>