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D6BE-F4B2-4EC5-A526-F20A29D2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 / 1,120,000,000 people = 0.288 people / 1.12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88 people / 1.12 people = 0.2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 to perce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7 x 100%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ratio ratios percent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 For China with a population of 1.12 bi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120,000,000 people/ 9,597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6.70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United States with a population of 288 mill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8,000,000 people/ 9,629,000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.91 people/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China’s population density by the United State’s population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16.70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/ (29.91 people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90 times gre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B) Generate equivalent forms of 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(B) Convert between fractions, decimals, whole numbers, and perc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1 (B) Use the correct form of rational numbers to solve real-lif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nversions conversi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2D7A-95B7-4589-8F32-8BFEEF5E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9E1-92E9-4405-8FEA-2BC5AA9B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B10-575D-4CC1-BF58-D418B3EE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63E-9244-4056-9881-E154C95F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830-1C8F-4FD7-8DEB-B6030465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A418-BB67-4AD4-BD48-DC1998C0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ED7-1CFF-484D-8618-C2F4E878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4B1-A0FD-48EB-8B70-19DF5CB8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CF0-B1F1-41BE-A26D-FE3B7315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631-4395-413A-B24F-ECCF7CEC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1A9-D53F-422D-B5CC-9A7CDBDE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1E47-40D4-4C11-8425-D387ACCD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5B1A-E822-43AB-9FF2-A1482EF42158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Ratios.ppt" TargetMode="External"/><Relationship Id="rId4" Type="http://schemas.openxmlformats.org/officeDocument/2006/relationships/hyperlink" Target="Appendices/FraToPer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Appendices/FraToDec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percentages and fractions to calculate population dens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Little Too Crowd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 the story Jace states that in China there are over 30 million people in an area the size of Maine.  The population of China is 1.12 billion; the population of the United States is 288 million.  Express the ratio of the population of the United States to China as a percentage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63160" y="6269040"/>
            <a:ext cx="68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Times New Roman"/>
              </a:rPr>
              <a:t>For more information on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atio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 and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ercentages</a:t>
            </a:r>
            <a:r>
              <a:rPr b="0" lang="en-US" sz="1800" spc="-1" strike="noStrike" u="sng">
                <a:solidFill>
                  <a:srgbClr val="ffff66"/>
                </a:solidFill>
                <a:uFillTx/>
                <a:latin typeface="Times New Roman"/>
              </a:rPr>
              <a:t>, click on the hyper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opulation Densit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If China has an area of 9,597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 and the U.S. covers an area of 9,629,000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, what is the population density of each country? Express the answer in people / km</a:t>
            </a:r>
            <a:r>
              <a:rPr b="0" lang="en-US" sz="3000" spc="-1" strike="noStrike" baseline="30000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Assume the population of China is 1.12 billion and that of the United States is 288 million. 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66"/>
                </a:solidFill>
                <a:latin typeface="Times New Roman"/>
              </a:rPr>
              <a:t>How many times greater is China’s population density than the United States’?</a:t>
            </a:r>
            <a:endParaRPr b="0" lang="en-US" sz="3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440720" y="6172200"/>
            <a:ext cx="60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Times New Roman"/>
              </a:rPr>
              <a:t> for more information on conver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7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73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43:34Z</dcterms:created>
  <dc:creator>Texas A&amp;M Veterinary Medicine</dc:creator>
  <dc:description/>
  <dc:language>en-US</dc:language>
  <cp:lastModifiedBy>Jeremiah McNichols</cp:lastModifiedBy>
  <dcterms:modified xsi:type="dcterms:W3CDTF">2008-09-16T15:43:21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2000000000001023620</vt:lpwstr>
  </property>
</Properties>
</file>