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3.gif" ContentType="image/gif"/>
  <Override PartName="/ppt/media/image21.jpeg" ContentType="image/jpeg"/>
  <Override PartName="/ppt/media/image16.png" ContentType="image/png"/>
  <Override PartName="/ppt/media/image19.gif" ContentType="image/gif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587D-93F6-4F8D-89E5-00FB2444C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B0D4-3547-4894-B362-99186D314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C354-5001-42F5-8EE5-8CF36C52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9B55-744F-420E-A176-7F2AA7E7E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B4E5-63D5-4E61-8484-BE84203C4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BEA3-2A7D-454D-B182-C2BC89AEE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A226-BC5A-4579-8DFB-EFF82DCE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B4749-BF4B-43DD-8741-DAA6CA8A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312B-78BF-4504-9330-E02A3DB1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297A-D697-421C-8AEB-5DC4DD27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5F6C-7FE7-4118-9DE9-C1CAE1E7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C2F9-1430-41E4-A4B2-58A7233A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180E-3F63-4D67-8919-C13DB1B4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A1A8-B464-4888-9ECD-46D867B7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66D5-C58B-4A62-942D-3DF4D864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6323-7A16-4EFD-8A1F-E6C60982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C362-55CE-463B-BCC7-61ADA10F0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B630-3B8C-4459-AE3A-198675C81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B87A-0FB5-4C91-AD0F-05F8133D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4EE1-7F7B-4613-8EDC-047283AA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E99C-6013-4222-B3D6-CEAEAECF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55BC-2EAA-44F3-9C55-47F58314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A512-2547-4C37-820A-7BEF37A6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C864-B951-4274-8682-8F8CF5EC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2DEB-1725-485E-96F7-D5383020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EB8C-3575-458C-8467-76C49BB7B25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6884-D3C2-40BF-99E8-E6DFD01067D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-296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0" t="0" r="-17" b="272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0" t="0" r="-17" b="78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0" t="0" r="-139" b="-27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0" t="0" r="-109" b="143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0" t="0" r="0" b="-63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9000000000001023620</vt:lpwstr>
  </property>
</Properties>
</file>