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74E7-5AC9-441A-B2AD-05071300C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 / 1,120,000,000 people = 0.288 people / 1.12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88 people / 1.12 people = 0.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perce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7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atio ratios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 For China with a population of 1.12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120,000,000 people/ 9,597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6.70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United States with a population of 288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/ 9,629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91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China’s population density by the United State’s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16.70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(29.91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90 times gre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F67-B144-4758-82C5-4AFECE2E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FB9-E852-46A1-BC30-BB0D55F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1AA-A436-4414-BAE6-7AF6F309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BB4-2625-407C-B431-9DC467E0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5FF-436D-4A0F-886C-1DA3C92C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2A3-DEFE-4C0B-A7C9-B8C00893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02C-7B64-4DDA-BAA5-6208A351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55E-ECA1-4E27-A7C6-8C67B32E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F9D-52C4-499D-841E-F23B534D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9EF-8F3A-4D4C-9599-DA3DF718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958-175E-4285-8AB2-A407EB32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056-7A6B-4781-AFAA-34531E80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C702-7309-4577-958C-8634DE0E39A6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percentages and fractions to calculate population dens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ttle Too Crowd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story Jace states that in China there are over 30 million people in an area the size of Maine.  The population of China is 1.12 billion; the population of the United States is 288 million.  Express the ratio of the population of the United States to China as a percentage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63160" y="626904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For more information o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ercentage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, click on the hyper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f China has an area of 9,597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 and the U.S. covers an area of 9,629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, what is the population density of each country? Express the answer in people /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ssume the population of China is 1.12 billion and that of the United States is 288 million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How many times greater is China’s population density than the United States’?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0720" y="6172200"/>
            <a:ext cx="60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43:34Z</dcterms:created>
  <dc:creator>Texas A&amp;M Veterinary Medicine</dc:creator>
  <dc:description/>
  <dc:language>en-US</dc:language>
  <cp:lastModifiedBy>Jeremiah McNichols</cp:lastModifiedBy>
  <dcterms:modified xsi:type="dcterms:W3CDTF">2008-09-16T15:43:21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2000000000001023620</vt:lpwstr>
  </property>
</Properties>
</file>