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9.png" ContentType="image/png"/>
  <Override PartName="/ppt/media/image11.png" ContentType="image/png"/>
  <Override PartName="/ppt/media/image7.jpeg" ContentType="image/jpeg"/>
  <Override PartName="/ppt/media/image20.png" ContentType="image/png"/>
  <Override PartName="/ppt/media/image6.png" ContentType="image/png"/>
  <Override PartName="/ppt/media/image3.gif" ContentType="image/gif"/>
  <Override PartName="/ppt/media/image21.jpeg" ContentType="image/jpeg"/>
  <Override PartName="/ppt/media/image16.png" ContentType="image/png"/>
  <Override PartName="/ppt/media/image19.gif" ContentType="image/gif"/>
  <Override PartName="/ppt/media/image1.jpeg" ContentType="image/jpeg"/>
  <Override PartName="/ppt/media/image10.png" ContentType="image/png"/>
  <Override PartName="/ppt/media/image8.jpeg" ContentType="image/jpeg"/>
  <Override PartName="/ppt/media/image5.png" ContentType="image/png"/>
  <Override PartName="/ppt/media/image18.jpeg" ContentType="image/jpeg"/>
  <Override PartName="/ppt/media/image12.png" ContentType="image/png"/>
  <Override PartName="/ppt/media/image17.png" ContentType="image/png"/>
  <Override PartName="/ppt/media/image15.png" ContentType="image/png"/>
  <Override PartName="/ppt/media/image14.jpeg" ContentType="image/jpeg"/>
  <Override PartName="/ppt/media/image2.jpeg" ContentType="image/jpe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eeeee"/>
                </a:solidFill>
                <a:latin typeface="Times New Roman"/>
              </a:rPr>
              <a:t>Click to move the slide</a:t>
            </a:r>
            <a:endParaRPr b="0" lang="en-US" sz="40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6D234-5AFF-4C71-8831-BCB68F72FE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mma is confusing on this slide and needs to be fix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icotine molecule has two rings of carbon and each ring has a nitrogen atom. The two diagrams show the structure in the two common ways that chemists describe molecules. On the right, black balls = carbon, white balls = hydrogen, blue balls = nitrogen. The three-dimensional diagram on the right helps to visualize how nicotine needs to find a place on cell membranes where it can fit, like a hand in a glove. See next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B1E20-F9A0-446F-B701-C9681D965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33520" y="423720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7C09E-77E1-4FA8-B58C-95ED7160C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61124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CBEF7-6C16-4FC8-80A5-7D5400F44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22416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91480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53352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22416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591480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6B0F0-C52B-48DD-B94C-6FCA49DD8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23485-C8AE-4B0D-9061-D09B5985D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E1958-2DF1-4C9D-8197-B1E1D22C2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C9861-E269-48FD-B75B-7033644AD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90240-35D7-42E8-BDAF-7CEC1BE16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BDBB9-3D35-4BDB-AD03-CEA498135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079640" y="45684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17B24-23DA-45C4-A90B-E0836C0CA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45706-840F-41AB-828B-A6E61EDB1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31B25-883B-4E0F-84E2-57ABF5256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1124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CF3DD-87DE-4F15-BEA1-C1C52B1EE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7A160-1A32-4587-9950-068EFEE04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33520" y="423720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912B3-DAED-4907-BC45-883D9E1D6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1124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A3FA9-15A2-4BA5-B830-1D69B511C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2416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91480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53352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2416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591480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18F2C-701A-4774-9930-703F67A62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A0CAF-DDBF-4650-8D6B-B2AAE135D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03AC5-A0C8-4D24-86D7-BE884D994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AC55A-7AB8-4281-900B-755E5A67A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079640" y="45684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C9CB7-9F21-4567-BFB8-1F18682CF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985B6-566C-430A-A566-8E5D51C37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61124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40764-5D07-4070-B25B-8252A8454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3BF1A-1838-4E09-97A7-B7EBE6FC1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8400"/>
            <a:ext cx="8915400" cy="6713280"/>
            <a:chOff x="0" y="68400"/>
            <a:chExt cx="8915400" cy="6713280"/>
          </a:xfrm>
        </p:grpSpPr>
        <p:grpSp>
          <p:nvGrpSpPr>
            <p:cNvPr id="1" name=""/>
            <p:cNvGrpSpPr/>
            <p:nvPr/>
          </p:nvGrpSpPr>
          <p:grpSpPr>
            <a:xfrm>
              <a:off x="0" y="68400"/>
              <a:ext cx="647640" cy="6713280"/>
              <a:chOff x="0" y="68400"/>
              <a:chExt cx="647640" cy="671328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6672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72948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781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652932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6453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660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58197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57769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63817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6181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6053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6348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5853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59389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6253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6219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55720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56293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5681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54291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53532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500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47196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4676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52815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508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0" y="49528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0" y="52484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0" y="47530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0" y="4838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0" y="515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0" y="51195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0" y="449424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0" y="43657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0" y="4251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0" y="4565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0" y="45324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0" y="4054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0" y="4111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0" y="41641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0" y="391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0" y="3835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0" y="398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0" y="3763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0" y="35640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0" y="37306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0" y="36352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36021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0" y="3381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0" y="3438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3490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0" y="3238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3162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0" y="3309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0" y="25290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24861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09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2890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762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3057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621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6478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0" y="29624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0" y="29289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0" y="2281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0" y="2338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0" y="23907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0" y="21384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0" y="22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0" y="16128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0" y="1569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0" y="19749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0" y="1846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0" y="1646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0" y="17319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0" y="20462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0" y="2013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0" y="1365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0" y="1422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0" y="1474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0" y="12222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0" y="1293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0" y="1139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10256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828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885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9381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0" y="685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0" y="6094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0" y="7570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0" y="538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0" y="504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0" y="4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0" y="111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0" y="6840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0" y="144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0" y="230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0" y="320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635040" y="325440"/>
              <a:ext cx="8280360" cy="1782720"/>
              <a:chOff x="635040" y="325440"/>
              <a:chExt cx="8280360" cy="1782720"/>
            </a:xfrm>
          </p:grpSpPr>
          <p:sp>
            <p:nvSpPr>
              <p:cNvPr id="101" name=""/>
              <p:cNvSpPr/>
              <p:nvPr/>
            </p:nvSpPr>
            <p:spPr>
              <a:xfrm>
                <a:off x="884160" y="325440"/>
                <a:ext cx="496800" cy="145080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35040" y="457200"/>
                <a:ext cx="5662440" cy="7776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300800" y="1770120"/>
                <a:ext cx="1474920" cy="33804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252960" y="1922400"/>
                <a:ext cx="5662440" cy="7776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2" marL="1020600" indent="-214560">
              <a:spcBef>
                <a:spcPts val="799"/>
              </a:spcBef>
              <a:buClr>
                <a:srgbClr val="ffff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3" marL="1342800" indent="-214560">
              <a:spcBef>
                <a:spcPts val="799"/>
              </a:spcBef>
              <a:buClr>
                <a:srgbClr val="ffffff"/>
              </a:buClr>
              <a:buSzPct val="8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4" marL="1665000" indent="-214560">
              <a:spcBef>
                <a:spcPts val="799"/>
              </a:spcBef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1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2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3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22E4C-B51B-4645-9F48-6BACD6F1B59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0" y="68400"/>
            <a:ext cx="8678880" cy="6713280"/>
            <a:chOff x="0" y="68400"/>
            <a:chExt cx="8678880" cy="6713280"/>
          </a:xfrm>
        </p:grpSpPr>
        <p:sp>
          <p:nvSpPr>
            <p:cNvPr id="147" name=""/>
            <p:cNvSpPr/>
            <p:nvPr/>
          </p:nvSpPr>
          <p:spPr>
            <a:xfrm>
              <a:off x="1098720" y="784080"/>
              <a:ext cx="7580160" cy="14860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0" y="68400"/>
              <a:ext cx="990720" cy="6713280"/>
              <a:chOff x="0" y="68400"/>
              <a:chExt cx="990720" cy="6713280"/>
            </a:xfrm>
          </p:grpSpPr>
          <p:sp>
            <p:nvSpPr>
              <p:cNvPr id="149" name=""/>
              <p:cNvSpPr/>
              <p:nvPr/>
            </p:nvSpPr>
            <p:spPr>
              <a:xfrm>
                <a:off x="0" y="6672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0" y="672948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0" y="6781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0" y="652932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0" y="6453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0" y="660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0" y="58197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0" y="57769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0" y="63817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0" y="6181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0" y="6053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0" y="6348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0" y="5853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0" y="59389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0" y="6253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6219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55720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56293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5681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0" y="54291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0" y="53532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0" y="5500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0" y="47196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0" y="4676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0" y="52815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0" y="508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0" y="49528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0" y="52484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0" y="47530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0" y="4838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0" y="515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0" y="51195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0" y="449424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0" y="43657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0" y="4251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0" y="4565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0" y="45324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0" y="4054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0" y="4111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0" y="41641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0" y="391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0" y="3835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0" y="398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0" y="3763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0" y="35640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0" y="37306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0" y="36352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0" y="36021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0" y="3381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0" y="3438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0" y="3490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0" y="3238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0" y="3162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0" y="3309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0" y="25290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0" y="24861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0" y="309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0" y="2890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0" y="2762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0" y="3057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0" y="25621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0" y="26478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0" y="29624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0" y="29289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0" y="2281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0" y="2338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0" y="23907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0" y="21384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0" y="22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0" y="16128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0" y="1569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0" y="19749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0" y="1846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0" y="1646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0" y="17319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0" y="20462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0" y="2013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0" y="1365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0" y="1422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0" y="1474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0" y="12222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0" y="1293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0" y="1139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0" y="10256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0" y="828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0" y="885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0" y="9381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685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0" y="6094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0" y="7570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538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0" y="504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0" y="4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0" y="111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0" y="6840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144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0" y="230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0" y="320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7" name="PlaceHolder 1"/>
          <p:cNvSpPr>
            <a:spLocks noGrp="1"/>
          </p:cNvSpPr>
          <p:nvPr>
            <p:ph type="dt" idx="4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5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6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D4C6E-8540-47E6-AD9A-B96E22C8F24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eeeee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017880" y="2120760"/>
            <a:ext cx="5662440" cy="77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098720" y="861840"/>
            <a:ext cx="5662440" cy="78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lvl="2" marL="857160" algn="ctr">
              <a:spcBef>
                <a:spcPts val="601"/>
              </a:spcBef>
              <a:buClr>
                <a:srgbClr val="ffffff"/>
              </a:buClr>
              <a:buSzPct val="65000"/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lvl="3" marL="1200240" algn="ctr">
              <a:spcBef>
                <a:spcPts val="499"/>
              </a:spcBef>
              <a:buClr>
                <a:srgbClr val="ffffff"/>
              </a:buClr>
              <a:buSzPct val="85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eeeee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eeeee"/>
              </a:solidFill>
              <a:latin typeface="Times New Roman"/>
            </a:endParaRPr>
          </a:p>
          <a:p>
            <a:pPr lvl="4" marL="1542960" algn="ctr">
              <a:spcBef>
                <a:spcPts val="451"/>
              </a:spcBef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eeeee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eeeeee"/>
              </a:solidFill>
              <a:latin typeface="Times New Roman"/>
            </a:endParaRPr>
          </a:p>
          <a:p>
            <a:pPr lvl="5" marL="1542960">
              <a:spcBef>
                <a:spcPts val="451"/>
              </a:spcBef>
              <a:buClr>
                <a:srgbClr val="003366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eeeee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eeeeee"/>
              </a:solidFill>
              <a:latin typeface="Times New Roman"/>
            </a:endParaRPr>
          </a:p>
          <a:p>
            <a:pPr lvl="6" marL="1542960">
              <a:spcBef>
                <a:spcPts val="451"/>
              </a:spcBef>
              <a:buClr>
                <a:srgbClr val="003366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eeeee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hyperlink" Target="http://peer.tamu.edu/curriculum_modules/Cell_Biology/CellBiol/Proteins/whatweknow4.htm" TargetMode="External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153800" y="609480"/>
            <a:ext cx="738036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eeeee"/>
                </a:solidFill>
                <a:latin typeface="Times New Roman"/>
              </a:rPr>
              <a:t>Tobacco and Nicotine Addiction</a:t>
            </a:r>
            <a:endParaRPr b="0" lang="en-US" sz="40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1566720" y="2693520"/>
            <a:ext cx="6662880" cy="29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990720" y="6354720"/>
            <a:ext cx="7162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dapted from a presentation by George Sanchez, 4</a:t>
            </a:r>
            <a:r>
              <a:rPr b="0" lang="en-US" sz="12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year Biomedical Science major, Texas A&amp;M University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2"/>
          <a:stretch/>
        </p:blipFill>
        <p:spPr>
          <a:xfrm>
            <a:off x="2209680" y="2209680"/>
            <a:ext cx="4648320" cy="334656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pic>
        <p:nvPicPr>
          <p:cNvPr id="301" name="" descr=""/>
          <p:cNvPicPr/>
          <p:nvPr/>
        </p:nvPicPr>
        <p:blipFill>
          <a:blip r:embed="rId3"/>
          <a:stretch/>
        </p:blipFill>
        <p:spPr>
          <a:xfrm>
            <a:off x="3048120" y="2895480"/>
            <a:ext cx="121896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" descr=""/>
          <p:cNvPicPr/>
          <p:nvPr/>
        </p:nvPicPr>
        <p:blipFill>
          <a:blip r:embed="rId2"/>
          <a:stretch/>
        </p:blipFill>
        <p:spPr>
          <a:xfrm>
            <a:off x="2416320" y="2136600"/>
            <a:ext cx="3806640" cy="3578400"/>
          </a:xfrm>
          <a:prstGeom prst="rect">
            <a:avLst/>
          </a:prstGeom>
          <a:ln w="0">
            <a:noFill/>
          </a:ln>
        </p:spPr>
      </p:pic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079640" y="2282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Addiction to Smoking: </a:t>
            </a:r>
            <a:br>
              <a:rPr sz="4400"/>
            </a:b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A Global Problem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457200" y="1905120"/>
            <a:ext cx="2895480" cy="1371600"/>
            <a:chOff x="457200" y="1905120"/>
            <a:chExt cx="2895480" cy="1371600"/>
          </a:xfrm>
        </p:grpSpPr>
        <p:sp>
          <p:nvSpPr>
            <p:cNvPr id="363" name=""/>
            <p:cNvSpPr/>
            <p:nvPr/>
          </p:nvSpPr>
          <p:spPr>
            <a:xfrm flipH="1">
              <a:off x="532800" y="1905120"/>
              <a:ext cx="2819160" cy="1371600"/>
            </a:xfrm>
            <a:prstGeom prst="wedgeRoundRectCallout">
              <a:avLst>
                <a:gd name="adj1" fmla="val -43518"/>
                <a:gd name="adj2" fmla="val 70000"/>
                <a:gd name="adj3" fmla="val 16667"/>
              </a:avLst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57200" y="2013120"/>
              <a:ext cx="28954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One-third of the global adult population smokes.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65" name=""/>
          <p:cNvGrpSpPr/>
          <p:nvPr/>
        </p:nvGrpSpPr>
        <p:grpSpPr>
          <a:xfrm>
            <a:off x="5181480" y="4266720"/>
            <a:ext cx="3657600" cy="1676520"/>
            <a:chOff x="5181480" y="4266720"/>
            <a:chExt cx="3657600" cy="1676520"/>
          </a:xfrm>
        </p:grpSpPr>
        <p:sp>
          <p:nvSpPr>
            <p:cNvPr id="366" name=""/>
            <p:cNvSpPr/>
            <p:nvPr/>
          </p:nvSpPr>
          <p:spPr>
            <a:xfrm flipV="1">
              <a:off x="5181480" y="4266360"/>
              <a:ext cx="3657600" cy="1676520"/>
            </a:xfrm>
            <a:prstGeom prst="wedgeRoundRectCallout">
              <a:avLst>
                <a:gd name="adj1" fmla="val -48004"/>
                <a:gd name="adj2" fmla="val 69314"/>
                <a:gd name="adj3" fmla="val 16667"/>
              </a:avLst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181480" y="4343400"/>
              <a:ext cx="365760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Of those who smoke during adolescence and throughout life, one-half die from smoke-related diseases.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68" name=""/>
          <p:cNvGrpSpPr/>
          <p:nvPr/>
        </p:nvGrpSpPr>
        <p:grpSpPr>
          <a:xfrm>
            <a:off x="533520" y="4572000"/>
            <a:ext cx="2971800" cy="1371600"/>
            <a:chOff x="533520" y="4572000"/>
            <a:chExt cx="2971800" cy="1371600"/>
          </a:xfrm>
        </p:grpSpPr>
        <p:sp>
          <p:nvSpPr>
            <p:cNvPr id="369" name=""/>
            <p:cNvSpPr/>
            <p:nvPr/>
          </p:nvSpPr>
          <p:spPr>
            <a:xfrm flipH="1" flipV="1">
              <a:off x="609120" y="4572000"/>
              <a:ext cx="2819520" cy="1371600"/>
            </a:xfrm>
            <a:prstGeom prst="wedgeRoundRectCallout">
              <a:avLst>
                <a:gd name="adj1" fmla="val -43518"/>
                <a:gd name="adj2" fmla="val 66666"/>
                <a:gd name="adj3" fmla="val 16667"/>
              </a:avLst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33520" y="4680000"/>
              <a:ext cx="2971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0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moking causes one-third of deaths in men aged 35-69.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71" name=""/>
          <p:cNvGrpSpPr/>
          <p:nvPr/>
        </p:nvGrpSpPr>
        <p:grpSpPr>
          <a:xfrm>
            <a:off x="5562720" y="1905120"/>
            <a:ext cx="2971800" cy="1222920"/>
            <a:chOff x="5562720" y="1905120"/>
            <a:chExt cx="2971800" cy="1222920"/>
          </a:xfrm>
        </p:grpSpPr>
        <p:sp>
          <p:nvSpPr>
            <p:cNvPr id="372" name=""/>
            <p:cNvSpPr/>
            <p:nvPr/>
          </p:nvSpPr>
          <p:spPr>
            <a:xfrm>
              <a:off x="5562720" y="1905120"/>
              <a:ext cx="2971800" cy="1218960"/>
            </a:xfrm>
            <a:prstGeom prst="wedgeRoundRectCallout">
              <a:avLst>
                <a:gd name="adj1" fmla="val -43518"/>
                <a:gd name="adj2" fmla="val 70000"/>
                <a:gd name="adj3" fmla="val 16667"/>
              </a:avLst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638680" y="1936800"/>
              <a:ext cx="2743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0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It is one of few causes of mortality that is increasing.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Smoking is Addictive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191120" y="2133360"/>
            <a:ext cx="45720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542160" indent="-5421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80% of attempts to quit smoking fail within a year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542160" indent="-5421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In the U.S., 70% of smokers say they would like to quit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542160" indent="-5421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5% are successful each year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76" name="" descr="a smoker"/>
          <p:cNvPicPr/>
          <p:nvPr/>
        </p:nvPicPr>
        <p:blipFill>
          <a:blip r:embed="rId2"/>
          <a:srcRect l="0" t="0" r="0" b="-296"/>
          <a:stretch/>
        </p:blipFill>
        <p:spPr>
          <a:xfrm>
            <a:off x="533520" y="2057400"/>
            <a:ext cx="3276360" cy="347328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079640" y="1519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Smoking Kills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838080" y="3809880"/>
            <a:ext cx="795816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eeeeee"/>
                </a:solidFill>
                <a:latin typeface="Times New Roman"/>
              </a:rPr>
              <a:t>Normal Lung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                          </a:t>
            </a:r>
            <a:r>
              <a:rPr b="1" lang="en-US" sz="2800" spc="-1" strike="noStrike">
                <a:solidFill>
                  <a:srgbClr val="eeeeee"/>
                </a:solidFill>
                <a:latin typeface="Times New Roman"/>
              </a:rPr>
              <a:t>Smoker’s Lung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The complex mixture called tobacco ‘tar’, and carbon monoxide, are mainly responsible for most of the diseases that are associated with the long-term use of tobacco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2"/>
          <a:srcRect l="0" t="0" r="-17" b="272"/>
          <a:stretch/>
        </p:blipFill>
        <p:spPr>
          <a:xfrm>
            <a:off x="4876920" y="1295280"/>
            <a:ext cx="3581280" cy="243864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pic>
        <p:nvPicPr>
          <p:cNvPr id="380" name="" descr=""/>
          <p:cNvPicPr/>
          <p:nvPr/>
        </p:nvPicPr>
        <p:blipFill>
          <a:blip r:embed="rId3"/>
          <a:srcRect l="0" t="0" r="-17" b="78"/>
          <a:stretch/>
        </p:blipFill>
        <p:spPr>
          <a:xfrm>
            <a:off x="533520" y="1295280"/>
            <a:ext cx="3733560" cy="241632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Nicotine Addictive Component of Tobacco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Nicotine produces effects that are commonly seen with other addictive drugs such as amphetamines and cocaine.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Craving and self-administration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Increase in movements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Reinforces place reference (learned associations – bars, restaurants, etc.)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Structure of Nicotine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209680" y="129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2"/>
          <a:stretch/>
        </p:blipFill>
        <p:spPr>
          <a:xfrm>
            <a:off x="533520" y="2533680"/>
            <a:ext cx="4206600" cy="28004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386" name=""/>
          <p:cNvSpPr/>
          <p:nvPr/>
        </p:nvSpPr>
        <p:spPr>
          <a:xfrm>
            <a:off x="1676520" y="5867280"/>
            <a:ext cx="693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Times New Roman"/>
                <a:hlinkClick r:id="rId3"/>
              </a:rPr>
              <a:t>Click her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to learn more about how molecules interact with protein “receptors” on cell membranes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4"/>
          <a:stretch/>
        </p:blipFill>
        <p:spPr>
          <a:xfrm>
            <a:off x="5181480" y="1905120"/>
            <a:ext cx="344664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he Idea of Molecular Receptors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56390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Drugs bind to cell membranes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Regions on membrane where this binding occurs are called molecular receptors or binding sites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Binding sites are proteins that are specific matches to the drug molecule (fit together like a key in  a lock)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Effect of the drug is achieved by this binding (like the key and lock, think of it as opening a function in the cell)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90" name="" descr=""/>
          <p:cNvPicPr/>
          <p:nvPr/>
        </p:nvPicPr>
        <p:blipFill>
          <a:blip r:embed="rId2"/>
          <a:stretch/>
        </p:blipFill>
        <p:spPr>
          <a:xfrm>
            <a:off x="5791320" y="2590920"/>
            <a:ext cx="2971800" cy="15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Long-Term Use Leads to Cigarette Cravings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41907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eeeee"/>
                </a:solidFill>
                <a:latin typeface="Times New Roman"/>
              </a:rPr>
              <a:t>Long-term use increases the number of molecular receptors in brains of humans.</a:t>
            </a:r>
            <a:endParaRPr b="0" lang="en-US" sz="26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eeeee"/>
                </a:solidFill>
                <a:latin typeface="Times New Roman"/>
              </a:rPr>
              <a:t>Increased number of receptors increases the “demand” for nicotine</a:t>
            </a:r>
            <a:endParaRPr b="0" lang="en-US" sz="26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eeeee"/>
                </a:solidFill>
                <a:latin typeface="Times New Roman"/>
              </a:rPr>
              <a:t>When receptors are unoccupied by nicotine, they “complain” – “Where is our nicotine?”</a:t>
            </a:r>
            <a:endParaRPr b="0" lang="en-US" sz="26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93" name="" descr=""/>
          <p:cNvPicPr/>
          <p:nvPr/>
        </p:nvPicPr>
        <p:blipFill>
          <a:blip r:embed="rId2"/>
          <a:stretch/>
        </p:blipFill>
        <p:spPr>
          <a:xfrm>
            <a:off x="4640400" y="1752480"/>
            <a:ext cx="4046400" cy="464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Why Do Smokers Crave Nicotine?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Nicotine acts in nervous system circuits that release a “reward” chemical – dopamine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Brain learns to “like” the release of dopamine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When nicotine is withdrawn, the brain’s reward system signals the craving to restore nicotine levels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066320" y="68544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Craving for Nicotine </a:t>
            </a: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Craving is high when nicotine is at low concentrations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Craving is satisfied when nicotine levels are restored to levels to which nerve cells have become accustomed.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Nerve cells learn that nicotine is normal, lack of nicotine is abnorma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Craving Patterns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33520" y="19047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After a night of abstinence, dopamine concentration in brain is at its lowest level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First cigarette strongly activates dopamine release.  Greatest pleasure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Tolerance occurs quickly, because receptors adapt quickly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Throughout a day, episodes of cigarette smoking are separated by short periods of abstinence; nicotine levels drop and receptors “cry out for their nicotine fix.”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Method of Delivery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863960" y="1752480"/>
            <a:ext cx="39038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Tobacco products include cigarettes, cigars, and pipe tobacco, which are smoked; snuff, which is inhaled into the nose; and chewing tobacco, which is chewed but</a:t>
            </a:r>
            <a:r>
              <a:rPr b="0" lang="en-US" sz="2400" spc="-1" strike="noStrike">
                <a:solidFill>
                  <a:srgbClr val="eeeeee"/>
                </a:solidFill>
                <a:latin typeface="Verdan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not swallowed.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Inhalation of tobacco smoke is the fastest and most efficient way yet discovered to deliver nicotine to the brain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2"/>
          <a:stretch/>
        </p:blipFill>
        <p:spPr>
          <a:xfrm>
            <a:off x="457200" y="1447920"/>
            <a:ext cx="427500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Addiction Process is Still a Mystery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If an individual quits smoking for a few weeks, the number of nicotine receptors returns toward normal (like that of non smokers)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BUT …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Craving can still exist even years after quitting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Long-term changes have occurred in neural circuits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Smokers remember the behaviors that were linked to sensory cues and reinforced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378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hink Before You Act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3048120" y="1752480"/>
            <a:ext cx="2819160" cy="350532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sp>
        <p:nvSpPr>
          <p:cNvPr id="404" name=""/>
          <p:cNvSpPr/>
          <p:nvPr/>
        </p:nvSpPr>
        <p:spPr>
          <a:xfrm>
            <a:off x="1143000" y="5562720"/>
            <a:ext cx="647712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Smoking is the leading cause of premature death!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7720" y="533520"/>
            <a:ext cx="73789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History of Tobacco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2"/>
          <a:srcRect l="0" t="0" r="-139" b="-27"/>
          <a:stretch/>
        </p:blipFill>
        <p:spPr>
          <a:xfrm>
            <a:off x="684360" y="2166840"/>
            <a:ext cx="3879720" cy="316548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935240" y="2209680"/>
            <a:ext cx="390348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Tobacco was first used by the peoples of the pre-Columbian Americas.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Native Americans apparently cultivated the plant and smoked it in pipes for medicinal and ceremonial purposes.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obacco Spreads to Europe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2"/>
          <a:srcRect l="0" t="0" r="-109" b="143"/>
          <a:stretch/>
        </p:blipFill>
        <p:spPr>
          <a:xfrm>
            <a:off x="1595520" y="1450800"/>
            <a:ext cx="5790960" cy="142560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grpSp>
        <p:nvGrpSpPr>
          <p:cNvPr id="310" name=""/>
          <p:cNvGrpSpPr/>
          <p:nvPr/>
        </p:nvGrpSpPr>
        <p:grpSpPr>
          <a:xfrm>
            <a:off x="304920" y="3200400"/>
            <a:ext cx="8610480" cy="3204000"/>
            <a:chOff x="304920" y="3200400"/>
            <a:chExt cx="8610480" cy="3204000"/>
          </a:xfrm>
        </p:grpSpPr>
        <p:sp>
          <p:nvSpPr>
            <p:cNvPr id="311" name=""/>
            <p:cNvSpPr/>
            <p:nvPr/>
          </p:nvSpPr>
          <p:spPr>
            <a:xfrm>
              <a:off x="380880" y="4876560"/>
              <a:ext cx="8305920" cy="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905120" y="4572000"/>
              <a:ext cx="0" cy="30456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04920" y="3200400"/>
              <a:ext cx="327636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0f0f0"/>
                  </a:solidFill>
                  <a:latin typeface="Times New Roman"/>
                </a:rPr>
                <a:t>Adventurers like Jean Nicot of France (where nicotine derives its name) popularize tobacco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990720" y="4800600"/>
              <a:ext cx="1752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3e2c7"/>
                  </a:solidFill>
                  <a:latin typeface="Times New Roman"/>
                </a:rPr>
                <a:t>mid 1500’s</a:t>
              </a:r>
              <a:endParaRPr b="0" lang="en-US" sz="2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86200" y="4876560"/>
              <a:ext cx="0" cy="45720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276720" y="4464000"/>
              <a:ext cx="1143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3e2c7"/>
                  </a:solidFill>
                  <a:latin typeface="Times New Roman"/>
                </a:rPr>
                <a:t>1556</a:t>
              </a:r>
              <a:endParaRPr b="0" lang="en-US" sz="2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743200" y="5181480"/>
              <a:ext cx="22860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0f0f0"/>
                  </a:solidFill>
                  <a:latin typeface="Times New Roman"/>
                </a:rPr>
                <a:t>Tobacco introduced to France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334120" y="4419360"/>
              <a:ext cx="0" cy="45720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419720" y="3308400"/>
              <a:ext cx="1828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0f0f0"/>
                  </a:solidFill>
                  <a:latin typeface="Times New Roman"/>
                </a:rPr>
                <a:t>Tobacco introduced to Portugal 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8001000" y="4419360"/>
              <a:ext cx="0" cy="45720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705720" y="4876560"/>
              <a:ext cx="0" cy="45720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791320" y="5213160"/>
              <a:ext cx="1828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0f0f0"/>
                  </a:solidFill>
                  <a:latin typeface="Times New Roman"/>
                </a:rPr>
                <a:t>Tobacco introduced to Spain 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086600" y="3308400"/>
              <a:ext cx="1828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0f0f0"/>
                  </a:solidFill>
                  <a:latin typeface="Times New Roman"/>
                </a:rPr>
                <a:t>Tobacco introduced to England 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724280" y="4800600"/>
              <a:ext cx="1143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3e2c7"/>
                  </a:solidFill>
                  <a:latin typeface="Times New Roman"/>
                </a:rPr>
                <a:t>1558</a:t>
              </a:r>
              <a:endParaRPr b="0" lang="en-US" sz="2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095880" y="4464000"/>
              <a:ext cx="1143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3e2c7"/>
                  </a:solidFill>
                  <a:latin typeface="Times New Roman"/>
                </a:rPr>
                <a:t>1559</a:t>
              </a:r>
              <a:endParaRPr b="0" lang="en-US" sz="2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391520" y="4800600"/>
              <a:ext cx="1143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3e2c7"/>
                  </a:solidFill>
                  <a:latin typeface="Times New Roman"/>
                </a:rPr>
                <a:t>1565</a:t>
              </a:r>
              <a:endParaRPr b="0" lang="en-US" sz="2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51040" y="1519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obacco in the Colonies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2"/>
          <a:srcRect l="0" t="0" r="0" b="-63"/>
          <a:stretch/>
        </p:blipFill>
        <p:spPr>
          <a:xfrm>
            <a:off x="708120" y="1979640"/>
            <a:ext cx="3787560" cy="373392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863960" y="1828800"/>
            <a:ext cx="39038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The first successful commercial crop was cultivated in Virginia in 1612 by Englishman John Rolfe.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Within seven years, it was the colony's </a:t>
            </a:r>
            <a:r>
              <a:rPr b="0" i="1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largest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 export.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Over the next two centuries, the growth of tobacco as a cash crop fueled the demand in North America for slave labor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37720" y="609480"/>
            <a:ext cx="73789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eeeee"/>
                </a:solidFill>
                <a:latin typeface="Times New Roman"/>
              </a:rPr>
              <a:t>Early Discoveries of the Effects of Smoking:</a:t>
            </a:r>
            <a:br>
              <a:rPr sz="3600"/>
            </a:br>
            <a:r>
              <a:rPr b="0" lang="en-US" sz="3600" spc="-1" strike="noStrike">
                <a:solidFill>
                  <a:srgbClr val="eeeeee"/>
                </a:solidFill>
                <a:latin typeface="Times New Roman"/>
              </a:rPr>
              <a:t>The 20</a:t>
            </a:r>
            <a:r>
              <a:rPr b="0" lang="en-US" sz="3600" spc="-1" strike="noStrike" baseline="30000">
                <a:solidFill>
                  <a:srgbClr val="eeeeee"/>
                </a:solidFill>
                <a:latin typeface="Times New Roman"/>
              </a:rPr>
              <a:t>th</a:t>
            </a:r>
            <a:r>
              <a:rPr b="0" lang="en-US" sz="3600" spc="-1" strike="noStrike">
                <a:solidFill>
                  <a:srgbClr val="eeeeee"/>
                </a:solidFill>
                <a:latin typeface="Times New Roman"/>
              </a:rPr>
              <a:t> Century</a:t>
            </a:r>
            <a:endParaRPr b="0" lang="en-US" sz="36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In 1930, researchers in Cologne, Germany, noticed that many cancer patients were smokers. 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Eight years later, Dr. Raymond Pearl of Johns Hopkins University reported that smokers do not live as long as non-smokers. 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By 1944, the American Cancer Society began to warn about possible ill effects of smoking, although it admitted that "no definite evidence exists" linking smoking and lung cancer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The Tobacco Industry Responded Swiftly</a:t>
            </a: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1640" y="2057400"/>
            <a:ext cx="42800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By 1954 the major U.S. tobacco companies had formed the tobacco industry research council to counter the growing health concerns.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Mass-marketing began for filtered and low-tar cigarettes that promised a "healthier" smoke (now we know smokers compensate by smoking more and inhaling longer)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2"/>
          <a:stretch/>
        </p:blipFill>
        <p:spPr>
          <a:xfrm>
            <a:off x="914400" y="2133720"/>
            <a:ext cx="3086280" cy="379404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he Next Big Blow to Tobacco Industry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863960" y="1981080"/>
            <a:ext cx="39038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1964, 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Surgeon General's Advisory Committee on Smoking and Health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 put out a 387-page report stating that 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cigarette smoking is causally related to lung cancer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In 1965, Congress passed the Federal Cigarette Labeling and Advertising Act requiring the Surgeon General's warnings on all cigarette packages.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380880" y="2666880"/>
            <a:ext cx="4495680" cy="1600200"/>
            <a:chOff x="380880" y="2666880"/>
            <a:chExt cx="4495680" cy="1600200"/>
          </a:xfrm>
        </p:grpSpPr>
        <p:sp>
          <p:nvSpPr>
            <p:cNvPr id="338" name=""/>
            <p:cNvSpPr/>
            <p:nvPr/>
          </p:nvSpPr>
          <p:spPr>
            <a:xfrm>
              <a:off x="380880" y="2666880"/>
              <a:ext cx="4495680" cy="1600200"/>
            </a:xfrm>
            <a:prstGeom prst="rect">
              <a:avLst/>
            </a:prstGeom>
            <a:solidFill>
              <a:srgbClr val="cccc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33160" y="2895480"/>
              <a:ext cx="4191120" cy="119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SURGEON GENERAL’S WARNING: Smoking Causes Lung Cancer, Heart Disease, Emphysema, And May Complicate Pregnancy.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5334120" y="1066680"/>
            <a:ext cx="3581280" cy="26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President Clinton announces Food and Drug Administration’s plan to regulate tobacco, especially sales and advertising aimed at minor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676520" y="1371600"/>
            <a:ext cx="2819160" cy="26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Smoking is banned on all interstate buses and all domestic airline flights lasting 6 hours or les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3785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obacco Industry on the Run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0" y="4394160"/>
            <a:ext cx="2819520" cy="163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All broadcast advertising was banned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57200" y="3813120"/>
            <a:ext cx="8001000" cy="0"/>
          </a:xfrm>
          <a:prstGeom prst="line">
            <a:avLst/>
          </a:prstGeom>
          <a:ln w="7632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295280" y="3813120"/>
            <a:ext cx="0" cy="68580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200400" y="3048120"/>
            <a:ext cx="0" cy="76500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7315200" y="3048120"/>
            <a:ext cx="0" cy="76500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105520" y="3813120"/>
            <a:ext cx="0" cy="98748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736640" y="3473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819520" y="37368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2c7"/>
                </a:solidFill>
                <a:latin typeface="Times New Roman"/>
              </a:rPr>
              <a:t>1990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343224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2c7"/>
                </a:solidFill>
                <a:latin typeface="Times New Roman"/>
              </a:rPr>
              <a:t>1971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724280" y="343224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2c7"/>
                </a:solidFill>
                <a:latin typeface="Times New Roman"/>
              </a:rPr>
              <a:t>1994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934320" y="37368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2c7"/>
                </a:solidFill>
                <a:latin typeface="Times New Roman"/>
              </a:rPr>
              <a:t>1995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85800" y="526104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048120" y="4727520"/>
            <a:ext cx="4038480" cy="22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Mississippi files the first of 22 state lawsuits seeking to recoup millions of dollars from tobacco companies for smokers’ Medicaid bill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2"/>
          <a:stretch/>
        </p:blipFill>
        <p:spPr>
          <a:xfrm>
            <a:off x="965160" y="2832120"/>
            <a:ext cx="685800" cy="617400"/>
          </a:xfrm>
          <a:prstGeom prst="rect">
            <a:avLst/>
          </a:prstGeom>
          <a:ln w="0">
            <a:noFill/>
          </a:ln>
        </p:spPr>
      </p:pic>
      <p:pic>
        <p:nvPicPr>
          <p:cNvPr id="357" name="" descr=""/>
          <p:cNvPicPr/>
          <p:nvPr/>
        </p:nvPicPr>
        <p:blipFill>
          <a:blip r:embed="rId3"/>
          <a:stretch/>
        </p:blipFill>
        <p:spPr>
          <a:xfrm>
            <a:off x="2666880" y="4114800"/>
            <a:ext cx="1211400" cy="399960"/>
          </a:xfrm>
          <a:prstGeom prst="rect">
            <a:avLst/>
          </a:prstGeom>
          <a:ln w="0">
            <a:noFill/>
          </a:ln>
        </p:spPr>
      </p:pic>
      <p:pic>
        <p:nvPicPr>
          <p:cNvPr id="358" name="" descr=""/>
          <p:cNvPicPr/>
          <p:nvPr/>
        </p:nvPicPr>
        <p:blipFill>
          <a:blip r:embed="rId4"/>
          <a:stretch/>
        </p:blipFill>
        <p:spPr>
          <a:xfrm>
            <a:off x="4808520" y="2717640"/>
            <a:ext cx="754200" cy="800280"/>
          </a:xfrm>
          <a:prstGeom prst="rect">
            <a:avLst/>
          </a:prstGeom>
          <a:ln w="0">
            <a:noFill/>
          </a:ln>
        </p:spPr>
      </p:pic>
      <p:pic>
        <p:nvPicPr>
          <p:cNvPr id="359" name="" descr=""/>
          <p:cNvPicPr/>
          <p:nvPr/>
        </p:nvPicPr>
        <p:blipFill>
          <a:blip r:embed="rId5"/>
          <a:stretch/>
        </p:blipFill>
        <p:spPr>
          <a:xfrm>
            <a:off x="6934320" y="4140360"/>
            <a:ext cx="811080" cy="59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09T19:27:21Z</dcterms:created>
  <dc:creator>Brian S. Davis</dc:creator>
  <dc:description/>
  <dc:language>en-US</dc:language>
  <cp:lastModifiedBy>Texas A&amp;M Veterinary Medicine</cp:lastModifiedBy>
  <dcterms:modified xsi:type="dcterms:W3CDTF">2004-10-29T20:51:58Z</dcterms:modified>
  <cp:revision>33</cp:revision>
  <dc:subject/>
  <dc:title>Tobacco and the Cellular Mechanisms of Nicotine Addic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3a09000000000001023620</vt:lpwstr>
  </property>
</Properties>
</file>