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FF5E-479B-48C4-8620-3219165B7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such as activity instructions, quiz answers, etc.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se notes identify the specific TEKS addressed on each sli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a substitute for, the full text of the TEK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Explain how physical processes made physical patterns on the su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ian and Euras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Centime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A) Plan and implement investigative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B) Collect data by observing and measu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C) Analyze and interpret information to construct reasonable explan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 (D) Communicate valid conclus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A) Plan and implement investigative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B) Collect data by observing and measu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C) Organize, analyze, make inferences, and predict trends from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 (D) Communicate valid conclu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A) Plan and implement investigative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B) Collect data by observing and measu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C) Organize, analyze, evaluate, make inferences, and predict tre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2 (D) Communicate valid conclu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Explain how physical processes made physical patterns on the su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he plates are still moving, the Himalayas are still growing.  This is how the Himalayas are the tallest mountain in the worl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A) Analyze, review, and critique scientific explan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Identify and describe changes to an object acted on by a 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Demonstrate that changes in motion can be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Identify forces that shape the Earth’s 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A) Summarize the rock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4 (B) Analyze the effects of regional erosional deposition and weath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4 (A) Predict land features resulting from gradual chang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4DF6-8CBC-4494-8E31-E021E629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408B-3905-4D24-884D-2E89F9CC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303B-2B3D-423B-8644-C4B4E59F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C426-64B5-410A-89FE-2DECD7FC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6229-A002-4369-A1FD-506F15F3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3481-D785-4976-82FE-6ABDF1FD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ECE8-2521-43A8-B736-DB443E08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E8A7-8E39-4D39-B070-AF5FCBDE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183-483B-4217-9857-224DF2B0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C75-19DA-437B-AEC8-86C166BD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03D-2793-4795-AEAF-984703FF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9A8-7378-4A44-9B0F-C9750A72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A875-3F86-47E0-B7A7-9EE345859B4E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895480" y="1600200"/>
            <a:ext cx="3657600" cy="22096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Volcanic Mountain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38095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Volcanoes form when magma within the earth pushes its way up through the crust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While pushing through the crust, the pressure causes the surrounding crust to rise, forming a mountain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agma is deposited on the surface, sometimes creating a cone shaped mountain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4305240" y="270504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gradFill rotWithShape="0">
            <a:gsLst>
              <a:gs pos="0">
                <a:srgbClr val="ffff99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Erosional Mountain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Erosional mountains form when wind or water wear down some materials on the earth’s surface, leaving other materials behind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ome materials erode faster than others.  In the picture above, some of the rock material eroded much faster than the other material.  The brown rock material left behind forms a mountain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19320" y="3319560"/>
            <a:ext cx="2209680" cy="1633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43440" y="3319560"/>
            <a:ext cx="2257560" cy="1600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14640" y="3776760"/>
            <a:ext cx="1447920" cy="609480"/>
          </a:xfrm>
          <a:prstGeom prst="rightArrow">
            <a:avLst>
              <a:gd name="adj1" fmla="val 50000"/>
              <a:gd name="adj2" fmla="val 59392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Fault-block Mountain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ault-block mountains form when rock layers break and form a fault line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s the two blocks are being pushed together, the pressure forces one block up and the other block down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block that is forced upward forms a mountain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981080" y="4315320"/>
            <a:ext cx="5486400" cy="2341080"/>
            <a:chOff x="1981080" y="4315320"/>
            <a:chExt cx="5486400" cy="234108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rcRect l="0" t="0" r="0" b="28"/>
            <a:stretch/>
          </p:blipFill>
          <p:spPr>
            <a:xfrm>
              <a:off x="1981080" y="4343400"/>
              <a:ext cx="3809880" cy="23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rot="9274200">
              <a:off x="3656520" y="4953240"/>
              <a:ext cx="228600" cy="838080"/>
            </a:xfrm>
            <a:prstGeom prst="downArrow">
              <a:avLst>
                <a:gd name="adj1" fmla="val 50000"/>
                <a:gd name="adj2" fmla="val 9165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9174600">
              <a:off x="3352320" y="5333760"/>
              <a:ext cx="228600" cy="914400"/>
            </a:xfrm>
            <a:prstGeom prst="upArrow">
              <a:avLst>
                <a:gd name="adj1" fmla="val 50000"/>
                <a:gd name="adj2" fmla="val 10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95880" y="5257800"/>
              <a:ext cx="1371600" cy="457200"/>
            </a:xfrm>
            <a:prstGeom prst="leftArrow">
              <a:avLst>
                <a:gd name="adj1" fmla="val 50000"/>
                <a:gd name="adj2" fmla="val 75000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3750000">
              <a:off x="2437200" y="47998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Folded Mountain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olded mountains form as two plates move toward each other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plates push against each other causing the crust to fold or rippl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is is like when you push 2 ends of a piece of paper together and the middle bends or folds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219320" y="2811600"/>
            <a:ext cx="7086600" cy="1531440"/>
            <a:chOff x="1219320" y="2811600"/>
            <a:chExt cx="7086600" cy="153144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0" t="0" r="0" b="183"/>
            <a:stretch/>
          </p:blipFill>
          <p:spPr>
            <a:xfrm>
              <a:off x="5562720" y="2811600"/>
              <a:ext cx="27432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1219320" y="3039840"/>
              <a:ext cx="2590560" cy="13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267080" y="3497040"/>
              <a:ext cx="838440" cy="533160"/>
            </a:xfrm>
            <a:prstGeom prst="rightArrow">
              <a:avLst>
                <a:gd name="adj1" fmla="val 50000"/>
                <a:gd name="adj2" fmla="val 39315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Just Checking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ountains that form when magma within the earth pushes its way up through the crust. __________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ountains that form when wind or water wear down some materials on the earth’s surface, leaving other materials behind. ____________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ountains that form when a plate cracks and forms a fault line. ______________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Mountains that form when plates push up against each other causing the crust to fold or ripple. ______________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1523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ill in the blanks on your work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Himalaya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 Himalayas formed as a result of the Indian Plate and the Eurasian Plate moving toward one another.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523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en two plates collide, they will do one of the following: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1.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f one plate is denser (heavier) than the other, it will sink below the other plate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2.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f both plates have the same density, they will continue to push against one another resulting in folded mountains.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                                 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4" marL="1900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Same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Density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8517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876320" y="3276720"/>
            <a:ext cx="4219560" cy="1104840"/>
            <a:chOff x="1876320" y="3276720"/>
            <a:chExt cx="4219560" cy="110484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4009680" y="3276720"/>
              <a:ext cx="2086200" cy="11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323880" y="381024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6320" y="36576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99"/>
                  </a:solidFill>
                  <a:latin typeface="Verdana"/>
                </a:rPr>
                <a:t>Denser 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3"/>
          <a:srcRect l="0" t="6279" r="0" b="183"/>
          <a:stretch/>
        </p:blipFill>
        <p:spPr>
          <a:xfrm>
            <a:off x="3978360" y="5181480"/>
            <a:ext cx="2085840" cy="1105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H="1" flipV="1">
            <a:off x="5181480" y="5409720"/>
            <a:ext cx="190512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111720" y="5638680"/>
            <a:ext cx="974880" cy="15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Himalaya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oth of these plates are the same density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s the plates keep pushing against each other, there is no place for the crust to go except to bend upwards.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 plates are still running into each other and the Himalayas are growing by more than 1 cm each year. 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28800" y="1635120"/>
            <a:ext cx="3430440" cy="2021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rcRect l="0" t="0" r="0" b="-235"/>
          <a:stretch/>
        </p:blipFill>
        <p:spPr>
          <a:xfrm>
            <a:off x="1325520" y="4340160"/>
            <a:ext cx="2440080" cy="1567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258920" y="4127400"/>
            <a:ext cx="395280" cy="212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841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Himalay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57280" y="5835600"/>
            <a:ext cx="9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Ind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44920" y="5835600"/>
            <a:ext cx="124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Euras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rcRect l="3935" t="0" r="0" b="4948"/>
          <a:stretch/>
        </p:blipFill>
        <p:spPr>
          <a:xfrm>
            <a:off x="3103560" y="2489040"/>
            <a:ext cx="1544760" cy="1641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1457280" y="2209680"/>
            <a:ext cx="461880" cy="489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Just Checking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Himalayas are  ___________ mountains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Himalayas are the result of what two plates running into each other?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________________  and  _______________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either of these two plates is sinking because they are both the same ___________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Himalayas are still growing at a rate of ___________ each year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1523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nswer the following questions on your work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53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assify mountains according to how they are formed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Describe the Himalaya Mountains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Explore the relationship between plate tectonics and mountain formation.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The Himalaya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5028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Himalayas are the tallest mountains in the world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y are located on the border of China and India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09680" y="1676520"/>
            <a:ext cx="4572000" cy="3222360"/>
          </a:xfrm>
          <a:prstGeom prst="rect">
            <a:avLst/>
          </a:prstGeom>
          <a:ln w="88920">
            <a:solidFill>
              <a:srgbClr val="3d705f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What do you think?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How were the Himalayas formed?  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Why are the Himalayas the tallest mountains in the world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Investigating the Question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Mountain ranges are formed by plates made from the earth’s crust that move against each other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plates that form the Himalayas are still moving!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How do you think this affects the mountains today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Plate Tectonic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earth’s crust is split into several plates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se plates float on top of magma (a hot, thick, gel-like substance).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3880" y="1641600"/>
            <a:ext cx="5791320" cy="3159000"/>
          </a:xfrm>
          <a:prstGeom prst="rect">
            <a:avLst/>
          </a:prstGeom>
          <a:ln w="88920">
            <a:solidFill>
              <a:srgbClr val="3d705f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1219320" y="27082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219320" y="19458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2920" y="24843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Pl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18702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uras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3165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Plate Tectonics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49525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When currents inside the earth move the magma, the plates move, too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is movement sometimes causes mountains to form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3880" y="1641600"/>
            <a:ext cx="5791320" cy="3159000"/>
          </a:xfrm>
          <a:prstGeom prst="rect">
            <a:avLst/>
          </a:prstGeom>
          <a:ln w="88920">
            <a:solidFill>
              <a:srgbClr val="3d705f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1219320" y="27082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219320" y="19458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2920" y="24843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Pl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18702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uras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3165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ian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Just Checking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earth’s crust is split into __________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289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289080" indent="-289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hot, thick, gel-like substance found within the earth is called ___________.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600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Answer the following questions on your work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There are 4 types of mountains: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Volcanic Mountain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Erosional Mountain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ault-block Mountain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lded Mountain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02:13:17Z</dcterms:created>
  <dc:creator>Unknown User</dc:creator>
  <dc:description/>
  <dc:language>en-US</dc:language>
  <cp:lastModifiedBy>Jeremiah McNichols</cp:lastModifiedBy>
  <dcterms:modified xsi:type="dcterms:W3CDTF">2008-09-18T19:46:32Z</dcterms:modified>
  <cp:revision>76</cp:revision>
  <dc:subject/>
  <dc:title>Social Studies Mystery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408000000000001023620</vt:lpwstr>
  </property>
</Properties>
</file>