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9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6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030E-8358-4EBD-8F5E-D9FA8F0F2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such as activity instructions, quiz answers, etc.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se notes identify the specific TEKS addressed on each slid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a substitute for, the full text of the TEK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Identify and describe changes to an object acted on by a fo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Demonstrate that changes in motion can be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Identify forces that shape the Earth’s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A) Summarize the rock cy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B) Analyze the effects of regional erosional deposition and weath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Predict land features resulting from gradual chang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Identify and describe changes to an object acted on by a fo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Demonstrate that changes in motion can be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Identify forces that shape the Earth’s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A) Summarize the rock cy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B) Analyze the effects of regional erosional deposition and weath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Predict land features resulting from gradual chang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Identify and describe changes to an object acted on by a fo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Demonstrate that changes in motion can be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Identify forces that shape the Earth’s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A) Summarize the rock cy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B) Analyze the effects of regional erosional deposition and weath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Predict land features resulting from gradual chang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Identify and describe changes to an object acted on by a fo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Demonstrate that changes in motion can be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Identify forces that shape the Earth’s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A) Summarize the rock cy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B) Analyze the effects of regional erosional deposition and weath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Predict land features resulting from gradual chang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Identify and describe changes to an object acted on by a fo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Demonstrate that changes in motion can be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Identify forces that shape the Earth’s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A) Summarize the rock cy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B) Analyze the effects of regional erosional deposition and weath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Predict land features resulting from gradual chang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Identify and describe changes to an object acted on by a fo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Demonstrate that changes in motion can be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Identify forces that shape the Earth’s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A) Summarize the rock cy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B) Analyze the effects of regional erosional deposition and weath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Predict land features resulting from gradual chang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Explain how physical processes made physical patterns on the su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Identify and describe changes to an object acted on by a fo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Demonstrate that changes in motion can be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Identify forces that shape the Earth’s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A) Summarize the rock cy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B) Analyze the effects of regional erosional deposition and weath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Predict land features resulting from gradual chang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ld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dian and Euras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Centime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Identify and describe changes to an object acted on by a fo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Demonstrate that changes in motion can be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Identify forces that shape the Earth’s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A) Summarize the rock cy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B) Analyze the effects of regional erosional deposition and weath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Predict land features resulting from gradual chang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Identify forces that shape the Earth’s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A) Plan and implement investigative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B) Collect data by observing and measu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C) Analyze and interpret information to construct reasonable explan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D) Communicate valid conclus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Identify and describe changes to an object acted on by a fo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Demonstrate that changes in motion can be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Identify forces that shape the Earth’s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A) Summarize the rock cy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A) Plan and implement investigative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B) Collect data by observing and measu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C) Organize, analyze, make inferences, and predict trends from evid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D) Communicate valid conclu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B) Analyze the effects of regional erosional deposition and weath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A) Plan and implement investigative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B) Collect data by observing and measu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C) Organize, analyze, evaluate, make inferences, and predict tre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D) Communicate valid conclu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Predict land features resulting from gradual chang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Explain how physical processes made physical patterns on the su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the plates are still moving, the Himalayas are still growing.  This is how the Himalayas are the tallest mountain in the world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(A) Analyze, review, and critique scientific explan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Identify and describe changes to an object acted on by a fo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Demonstrate that changes in motion can be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Identify forces that shape the Earth’s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A) Summarize the rock cy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B) Analyze the effects of regional erosional deposition and weath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Predict land features resulting from gradual chang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Identify and describe changes to an object acted on by a fo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Demonstrate that changes in motion can be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Identify forces that shape the Earth’s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A) Summarize the rock cy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B) Analyze the effects of regional erosional deposition and weath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Predict land features resulting from gradual chang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g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Identify and describe changes to an object acted on by a fo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Demonstrate that changes in motion can be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Identify forces that shape the Earth’s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A) Summarize the rock cy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B) Analyze the effects of regional erosional deposition and weath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Predict land features resulting from gradual chang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Identify and describe changes to an object acted on by a fo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Demonstrate that changes in motion can be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Identify forces that shape the Earth’s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A) Summarize the rock cy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B) Analyze the effects of regional erosional deposition and weath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Predict land features resulting from gradual chang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20B9-12B6-49CF-B597-C99D6A5F4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EE8C-2327-43AD-B219-5D5D48A5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172C-C795-4C7F-BFC1-79874A5D3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746E-A60A-4BBB-A5AA-35C9746D4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9CDD-B0A1-41A2-9100-7981FC1F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591C-8468-4F61-912B-08A0BD79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EAE2-E3E6-4361-9C6D-C08E13AC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3398-991E-4DEA-9867-A2F49C0E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A4E8-A381-4BBD-ADA6-48EAA9EB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26E5-CAFB-4359-95C0-376CAB3B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DE74-8CE5-4921-9219-E568903F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818C-267F-45BA-8579-C93F824A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99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2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99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3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99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4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99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5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6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93C2-E68A-4472-96D8-20BC9023153B}" type="slidenum"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7979040" cy="1703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480" y="3124080"/>
            <a:ext cx="79250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895480" y="1600200"/>
            <a:ext cx="3657600" cy="22096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Volcanic Mountains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380952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Volcanoes form when magma within the earth pushes its way up through the crust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While pushing through the crust, the pressure causes the surrounding crust to rise, forming a mountain.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Magma is deposited on the surface, sometimes creating a cone shaped mountain.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6200000">
            <a:off x="4305240" y="2705040"/>
            <a:ext cx="838080" cy="457200"/>
          </a:xfrm>
          <a:prstGeom prst="rightArrow">
            <a:avLst>
              <a:gd name="adj1" fmla="val 50000"/>
              <a:gd name="adj2" fmla="val 45827"/>
            </a:avLst>
          </a:prstGeom>
          <a:gradFill rotWithShape="0">
            <a:gsLst>
              <a:gs pos="0">
                <a:srgbClr val="ffff99"/>
              </a:gs>
              <a:gs pos="100000">
                <a:srgbClr val="cc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Erosional Mountains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Erosional mountains form when wind or water wear down some materials on the earth’s surface, leaving other materials behind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Some materials erode faster than others.  In the picture above, some of the rock material eroded much faster than the other material.  The brown rock material left behind forms a mountain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219320" y="3319560"/>
            <a:ext cx="2209680" cy="1633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743440" y="3319560"/>
            <a:ext cx="2257560" cy="1600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14640" y="3776760"/>
            <a:ext cx="1447920" cy="609480"/>
          </a:xfrm>
          <a:prstGeom prst="rightArrow">
            <a:avLst>
              <a:gd name="adj1" fmla="val 50000"/>
              <a:gd name="adj2" fmla="val 59392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Fault-block Mountains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Fault-block mountains form when rock layers break and form a fault line.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As the two blocks are being pushed together, the pressure forces one block up and the other block down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block that is forced upward forms a mountain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981080" y="4315320"/>
            <a:ext cx="5486400" cy="2341080"/>
            <a:chOff x="1981080" y="4315320"/>
            <a:chExt cx="5486400" cy="2341080"/>
          </a:xfrm>
        </p:grpSpPr>
        <p:pic>
          <p:nvPicPr>
            <p:cNvPr id="100" name="" descr=""/>
            <p:cNvPicPr/>
            <p:nvPr/>
          </p:nvPicPr>
          <p:blipFill>
            <a:blip r:embed="rId2"/>
            <a:srcRect l="0" t="0" r="0" b="28"/>
            <a:stretch/>
          </p:blipFill>
          <p:spPr>
            <a:xfrm>
              <a:off x="1981080" y="4343400"/>
              <a:ext cx="3809880" cy="23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 rot="9274200">
              <a:off x="3656520" y="4953240"/>
              <a:ext cx="228600" cy="838080"/>
            </a:xfrm>
            <a:prstGeom prst="downArrow">
              <a:avLst>
                <a:gd name="adj1" fmla="val 50000"/>
                <a:gd name="adj2" fmla="val 91654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9174600">
              <a:off x="3352320" y="5333760"/>
              <a:ext cx="228600" cy="914400"/>
            </a:xfrm>
            <a:prstGeom prst="upArrow">
              <a:avLst>
                <a:gd name="adj1" fmla="val 50000"/>
                <a:gd name="adj2" fmla="val 10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095880" y="5257800"/>
              <a:ext cx="1371600" cy="457200"/>
            </a:xfrm>
            <a:prstGeom prst="leftArrow">
              <a:avLst>
                <a:gd name="adj1" fmla="val 50000"/>
                <a:gd name="adj2" fmla="val 75000"/>
              </a:avLst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3750000">
              <a:off x="2437200" y="47998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aul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Folded Mountains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Folded mountains form as two plates move toward each other.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plates push against each other causing the crust to fold or rippl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is is like when you push 2 ends of a piece of paper together and the middle bends or folds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219320" y="2811600"/>
            <a:ext cx="7086600" cy="1531440"/>
            <a:chOff x="1219320" y="2811600"/>
            <a:chExt cx="7086600" cy="1531440"/>
          </a:xfrm>
        </p:grpSpPr>
        <p:pic>
          <p:nvPicPr>
            <p:cNvPr id="110" name="" descr=""/>
            <p:cNvPicPr/>
            <p:nvPr/>
          </p:nvPicPr>
          <p:blipFill>
            <a:blip r:embed="rId2"/>
            <a:srcRect l="0" t="0" r="0" b="183"/>
            <a:stretch/>
          </p:blipFill>
          <p:spPr>
            <a:xfrm>
              <a:off x="5562720" y="2811600"/>
              <a:ext cx="27432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3"/>
            <a:stretch/>
          </p:blipFill>
          <p:spPr>
            <a:xfrm>
              <a:off x="1219320" y="3039840"/>
              <a:ext cx="2590560" cy="13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267080" y="3497040"/>
              <a:ext cx="838440" cy="533160"/>
            </a:xfrm>
            <a:prstGeom prst="rightArrow">
              <a:avLst>
                <a:gd name="adj1" fmla="val 50000"/>
                <a:gd name="adj2" fmla="val 39315"/>
              </a:avLst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Just Checking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Mountains that form when magma within the earth pushes its way up through the crust. __________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Mountains that form when wind or water wear down some materials on the earth’s surface, leaving other materials behind. ____________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Mountains that form when a plate cracks and forms a fault line. ______________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Mountains that form when plates push up against each other causing the crust to fold or ripple. ______________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15238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Fill in the blanks on your worksh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Himalayas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The Himalayas formed as a result of the Indian Plate and the Eurasian Plate moving toward one another. 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5238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When two plates collide, they will do one of the following: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85176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1.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If one plate is denser (heavier) than the other, it will sink below the other plate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85176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85176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85176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85176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2.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If both plates have the same density, they will continue to push against one another resulting in folded mountains. 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85176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                                               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4" marL="1900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                                                                                </a:t>
            </a: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Same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85176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Density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85176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876320" y="3276720"/>
            <a:ext cx="4219560" cy="1104840"/>
            <a:chOff x="1876320" y="3276720"/>
            <a:chExt cx="4219560" cy="110484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4009680" y="3276720"/>
              <a:ext cx="2086200" cy="11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323880" y="381024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76320" y="365760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99"/>
                  </a:solidFill>
                  <a:latin typeface="Verdana"/>
                </a:rPr>
                <a:t>Denser pl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4" name="" descr=""/>
          <p:cNvPicPr/>
          <p:nvPr/>
        </p:nvPicPr>
        <p:blipFill>
          <a:blip r:embed="rId3"/>
          <a:srcRect l="0" t="6279" r="0" b="183"/>
          <a:stretch/>
        </p:blipFill>
        <p:spPr>
          <a:xfrm>
            <a:off x="3978360" y="5181480"/>
            <a:ext cx="2085840" cy="1105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flipH="1" flipV="1">
            <a:off x="5181480" y="5409720"/>
            <a:ext cx="190512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111720" y="5638680"/>
            <a:ext cx="974880" cy="152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he Himalaya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Both of these plates are the same density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As the plates keep pushing against each other, there is no place for the crust to go except to bend upwards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The plates are still running into each other and the Himalayas are growing by more than 1 cm each year. 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928800" y="1635120"/>
            <a:ext cx="3430440" cy="2021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rcRect l="0" t="0" r="0" b="-235"/>
          <a:stretch/>
        </p:blipFill>
        <p:spPr>
          <a:xfrm>
            <a:off x="1325520" y="4340160"/>
            <a:ext cx="2440080" cy="1567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258920" y="4127400"/>
            <a:ext cx="395280" cy="212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841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Himalay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57280" y="5835600"/>
            <a:ext cx="98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Indian 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44920" y="5835600"/>
            <a:ext cx="124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Eurasian 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rcRect l="3935" t="0" r="0" b="4948"/>
          <a:stretch/>
        </p:blipFill>
        <p:spPr>
          <a:xfrm>
            <a:off x="3103560" y="2489040"/>
            <a:ext cx="1544760" cy="16416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1457280" y="2209680"/>
            <a:ext cx="461880" cy="489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Just Checking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Himalayas are  ___________ mountains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Himalayas are the result of what two plates running into each other?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________________  and  _______________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Neither of these two plates is sinking because they are both the same ___________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Himalayas are still growing at a rate of ___________ each year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1523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Answer the following questions on your worksh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7800" y="94428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80880" y="1981080"/>
            <a:ext cx="8570880" cy="4502160"/>
            <a:chOff x="380880" y="1981080"/>
            <a:chExt cx="8570880" cy="4502160"/>
          </a:xfrm>
        </p:grpSpPr>
        <p:pic>
          <p:nvPicPr>
            <p:cNvPr id="147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2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153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5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5" name=""/>
            <p:cNvSpPr/>
            <p:nvPr/>
          </p:nvSpPr>
          <p:spPr>
            <a:xfrm>
              <a:off x="1898640" y="2206800"/>
              <a:ext cx="2617920" cy="42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22960" y="2166840"/>
              <a:ext cx="2728800" cy="42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Classify mountains according to how they are formed.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Describe the Himalaya Mountains.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Explore the relationship between plate tectonics and mountain formation.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The Himalayas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5028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Himalayas are the tallest mountains in the world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y are located on the border of China and India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209680" y="1676520"/>
            <a:ext cx="4572000" cy="3222360"/>
          </a:xfrm>
          <a:prstGeom prst="rect">
            <a:avLst/>
          </a:prstGeom>
          <a:ln w="88920">
            <a:solidFill>
              <a:srgbClr val="3d705f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What do you think?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How were the Himalayas formed? 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Why are the Himalayas the tallest mountains in the world?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Investigating the Question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Mountain ranges are formed by plates made from the earth’s crust that move against each other.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e plates that form the Himalayas are still moving!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How do you think this affects the mountains today?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Plate Tectonics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50288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earth’s crust is split into several plates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se plates float on top of magma (a hot, thick, gel-like substance)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523880" y="1641600"/>
            <a:ext cx="5791320" cy="3159000"/>
          </a:xfrm>
          <a:prstGeom prst="rect">
            <a:avLst/>
          </a:prstGeom>
          <a:ln w="88920">
            <a:solidFill>
              <a:srgbClr val="3d705f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1219320" y="270828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219320" y="194580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2920" y="24843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Pl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18702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urasian 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31654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dian 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Plate Tectonics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4952520"/>
            <a:ext cx="8305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When currents inside the earth move the magma, the plates move, too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is movement sometimes causes mountains to form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523880" y="1641600"/>
            <a:ext cx="5791320" cy="3159000"/>
          </a:xfrm>
          <a:prstGeom prst="rect">
            <a:avLst/>
          </a:prstGeom>
          <a:ln w="88920">
            <a:solidFill>
              <a:srgbClr val="3d705f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1219320" y="270828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219320" y="194580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2920" y="24843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Pl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62320" y="18702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urasian 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31654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dian 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Just Checking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e earth’s crust is split into __________.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289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289080" indent="-289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e hot, thick, gel-like substance found within the earth is called ___________.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1600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Answer the following questions on your worksh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There are 4 types of mountains: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Volcanic Mountain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Erosional Mountain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ault-block Mountain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olded Mountain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02:13:17Z</dcterms:created>
  <dc:creator>Unknown User</dc:creator>
  <dc:description/>
  <dc:language>en-US</dc:language>
  <cp:lastModifiedBy>Jeremiah McNichols</cp:lastModifiedBy>
  <dcterms:modified xsi:type="dcterms:W3CDTF">2008-09-18T19:46:32Z</dcterms:modified>
  <cp:revision>76</cp:revision>
  <dc:subject/>
  <dc:title>Social Studies Mystery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408000000000001023620</vt:lpwstr>
  </property>
</Properties>
</file>