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3.gif" ContentType="image/gif"/>
  <Override PartName="/ppt/media/image21.jpeg" ContentType="image/jpeg"/>
  <Override PartName="/ppt/media/image16.png" ContentType="image/png"/>
  <Override PartName="/ppt/media/image19.gif" ContentType="image/gif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4719-EDB6-47A8-8BE4-E564211E2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1F10-8013-4DBD-BEE6-C9E75CF99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9D12-00FB-4648-A25A-DCCCE079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C737-106E-4F44-AC03-D857097AB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A287-2E9C-44A4-A196-8C97A4765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9D4B-2666-4122-A2FF-07E96BA7F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7493-0F9A-4C14-BD23-E1222290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DE1B-4D56-46EC-9A19-C3ED2E38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1364-06C8-4D89-A691-CD645D1B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934A2-7C1D-4956-A8E9-C242A04F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D539-5024-4803-9214-AE346EC8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3B83-5BD5-4B70-BAB7-36FF101D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F9BF-8003-45E0-BEDD-74377A5B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3CD0-79DA-4C7F-8611-D25EF6F4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17A7-025C-4BE2-9B7F-C6DF7CAA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15FF-965E-491C-AD0C-2B597ED4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E965-1621-4781-A53E-897AB2981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201B8-5D84-443B-8BEE-A63286669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6DBE-2898-42B2-86E0-B4E05248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7A9D-6C86-42C4-876D-BF4534E2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13DE-1127-4736-8CA3-4E226047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77A5-BC4E-4F8C-B627-C2601E4E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BE1E-3B9C-47E6-9173-A6143395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C468-E33D-4911-9E5E-B924A63F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30F6-1637-463A-82BB-D0E00415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C18F-6CC6-458F-91B5-8921051A685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2367-83E5-456B-AC1B-08865060DF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-296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0" t="0" r="-17" b="272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0" t="0" r="-17" b="78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0" t="0" r="-139" b="-27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0" t="0" r="-109" b="143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0" t="0" r="0" b="-63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9000000000001023620</vt:lpwstr>
  </property>
</Properties>
</file>