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841C4-7C93-43E9-BD81-96E2BB08ED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5D6C4-2309-42BB-B5B5-FCF64969F2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5EF1E-67CA-47F2-9033-43F7AF59B2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CDD94-3019-4DE7-8CEB-12F9A66A21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73D71-6652-44A5-9B2F-F52FE298F1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CC05A-41B3-431B-8DB6-ADCB6C8CD3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38243-FE63-46AD-8DA0-E3061711D2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11923-6D92-41FA-BC93-1703E372EA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BCCF1-CC62-4760-A3B9-936EDD28C4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98201-6CC7-45CF-ADE1-8D96ECB421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09666-4A4D-4598-BAF8-18D6B268D4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AA187-CA16-4151-89C9-7521E92013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EB352-DE20-4649-879B-7E6497012895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Remember that a decimal is a fractional number :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it is a part of something who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656C0-96E3-4F48-A188-F61A9DD0073F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 = 0.44444). 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1000th place (e.g. 0.4, 0.44, 0.444).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.4444  (part in green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048120" y="5105520"/>
            <a:ext cx="2982960" cy="2000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473AA-30B8-42D1-A40D-FE7198895377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21Z</dcterms:modified>
  <cp:revision>208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e01000000000001023620</vt:lpwstr>
  </property>
</Properties>
</file>