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A3D8C-2078-4417-8B81-3827C250D4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CF45-2BCA-4AE8-B406-8B5D4E49B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30CB-E4A1-4E1A-BBCF-B678BA160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482E-33B0-4314-B222-2E7CF6816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0062-75AA-47B1-9EEE-8C66B5A3D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B144-B667-44D3-92CA-D049665BB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F999-6A3C-4B0E-A26A-7D55E5D1D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30A4-D4B1-499A-8DA3-D5DFCDE78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F1DB-E1D4-456C-B4B7-D1290C2A0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CC43-FB59-452C-8BE9-B8E0A5E50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8DCF-CA2E-4E43-B3DA-B3FF20807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6C4C-865B-4970-A5FA-D52E0E39E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3A39-86F4-49D7-9C8D-E4885A3C7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2ADA4-BCA7-4788-878C-EA78594824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Vince Hardy</cp:lastModifiedBy>
  <cp:lastPrinted>2002-01-04T15:57:18Z</cp:lastPrinted>
  <dcterms:modified xsi:type="dcterms:W3CDTF">2007-01-12T21:47:28Z</dcterms:modified>
  <cp:revision>29</cp:revision>
  <dc:subject/>
  <dc:title>Sensory Detail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803000000000001023620</vt:lpwstr>
  </property>
</Properties>
</file>