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4975-721B-4518-BC87-D54831738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Jace and K.T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rescue a family heirloo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o avoid flooding caused by completion of the new d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he apartment of Jace’s grandfa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crowd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coug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smok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hey find a clue in the photograph of the Jade Drag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da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 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46EE-3564-4BEC-B2E3-31E4FC0B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5AB7-60C7-473E-B215-B2B1198B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94E4-1B01-401F-9493-7CFAB932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7822-3B60-494B-B37C-C70287B5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B934-5800-4D97-AF7F-49198034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48B1-4BE2-40B1-A61B-072F5DEE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1585-D8DB-4166-952A-A0A3ED8B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9E57-B9F8-4DA8-A29E-A8F60FD7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4437-0949-48E5-9A62-A87F9E03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8944-001D-4D9C-9797-9DE24F4E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5159-B1E1-415D-9FD1-BD1E6CC9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0FD1-9E09-4C49-A763-3D8A6C58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44E6-D5DD-4053-9FB0-925BEBC364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the travelers find their way to the correct ca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sk the train conductor for dire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guess which cave is the correct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andfather’s directions provide all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nee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find a clue in the photograph of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de Drag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only one cave, so it is easy to f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8080" y="58593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1600" y="28544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4840" y="34052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6280" y="404640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497052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ve is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er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ed by ba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1600" y="247968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4840" y="30369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6280" y="359568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4840" y="415440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154320" y="28512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205160" y="50166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travels to Chin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, Jace and the captain of the soccer te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one.  Jace only dreams he goes to Chi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travels alone because the trip is so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0160" y="4665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3040" y="301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484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3040" y="411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a trip to China need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elebrate the 100th birthday of Jace’s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the Three Gorges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rescue a family heirl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est Jace’s new backpack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llect information for a history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0160" y="5103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0160" y="2568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3040" y="3462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4840" y="4008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must the trip to China be made immediatel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cold weather that occurs later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 government will only all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ers in at certain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they can get back in time for a socc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rn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flooding caused by comple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new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0160" y="300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3040" y="3944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4840" y="487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5818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in China do they travel fir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angtz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partment of Jace’s grandf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family farm in Beij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emet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in station in Feng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6280" y="46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379520" y="3017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380960" y="357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379520" y="41292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atmosphere in the city of Chongq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w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37628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37628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379520" y="34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37160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37952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ealth problem do Jace and his grandfather sha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eyes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mach a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have any health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37952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373040" y="344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378080" y="40021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ype of fuel was used to power the train from Chongqing to Fengdu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clear pow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379520" y="2895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373040" y="34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37484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conditions on the tra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as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023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74840" y="510696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74840" y="2895480"/>
            <a:ext cx="374760" cy="47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8080" y="3446640"/>
            <a:ext cx="37440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379520" y="399888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1378080" y="4551480"/>
            <a:ext cx="374400" cy="469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11:30:21Z</dcterms:created>
  <dc:creator>John</dc:creator>
  <dc:description/>
  <dc:language>en-US</dc:language>
  <cp:lastModifiedBy>College of Veterinary Medicine</cp:lastModifiedBy>
  <cp:lastPrinted>2001-06-06T11:58:46Z</cp:lastPrinted>
  <dcterms:modified xsi:type="dcterms:W3CDTF">2007-11-19T18:34:42Z</dcterms:modified>
  <cp:revision>105</cp:revision>
  <dc:subject/>
  <dc:title>Traveler’s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5000000000001023620</vt:lpwstr>
  </property>
</Properties>
</file>