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3.gif" ContentType="image/gif"/>
  <Override PartName="/ppt/media/image21.jpeg" ContentType="image/jpeg"/>
  <Override PartName="/ppt/media/image16.png" ContentType="image/png"/>
  <Override PartName="/ppt/media/image19.gif" ContentType="image/gif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434C-93B2-4EE7-965F-D0172AE5D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0897-D8D0-4570-97FD-6ABDFB4BE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DA80-8C4B-4D56-92E5-29CCED6E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F02B-5ECB-462E-986C-5BD4751FC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67BC-9213-403C-A40E-289C24B53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76AA-AD62-4AEB-ACC4-419135DC0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8209-7E3D-4E83-9590-2CFFB6EB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C597-005B-4F33-9FFA-7A2EE2E1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FB4F-CB4E-4111-B90D-BC922368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BE74-FF30-4166-9DFB-D741B448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DB2A-0CA0-418D-AE82-5846037B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DA0C-0F66-471F-B43F-93070F53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A1AD-6AE1-43A8-9C5B-2F897DCA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CB10-53D0-4141-9092-342AE4B8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1FB5-873A-4F5D-AD26-EEDAFF7F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F20E-4206-4E2B-8D3A-C9C7614A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2861-7DBE-41F8-A59D-8DE535848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9477-3695-4C8C-AB10-5682E947B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6CCC-FF23-4B0C-A44F-5B45BB69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650A-7219-46A9-9D8C-2D268798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1080-A710-4AC1-9373-C01964F4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61BB-58F7-498F-AA09-B10D30DF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8542-B635-452B-BA19-0BDFAFDE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4973-077B-4EC9-98B6-29227CF0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0B1B-DD7C-42B5-A8C8-07345E43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BAB1-F7B7-4B19-9307-7E62E827541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7E6A-0E81-4BC5-8EA9-0845CE17DA6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-296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0" t="0" r="-17" b="272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0" t="0" r="-17" b="78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0" t="0" r="-139" b="-27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0" t="0" r="-109" b="143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0" t="0" r="0" b="-63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9000000000001023620</vt:lpwstr>
  </property>
</Properties>
</file>