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F1EEE-2BB0-4719-9DD7-96F31211B884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luenc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3 (A, B, E, G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Forming and revising questions for investig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 Using text organ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Using multiple sources to locate in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ummarizing and organizing information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) Drawing conclusions from information gathered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3 (A, B, E, G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Forming and revising questions for investig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 Using text organ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Using multiple sources to locate in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ummarizing and organizing information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) Drawing conclusions from information gathered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E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electing and using voice and style appropriate to audience and 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 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 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6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sing original texts, applying the conventions of written language to communicate clear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7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ying standard grammar and usage to communicate clearly and effectively in wri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, C, D, 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 Developing drafts by categorizing ideas and organizing th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Revising selected drafts by adding, elaborating, deleting, combining, and rearranging t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) Revising drafts for coherence, progression, and logical support of id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Editing drafts for specific purpo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E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electing and using voice and style appropriate to audience and 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 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 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E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electing and using voice and style appropriate to audience and 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 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 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01C0A-9CA6-4918-AA00-373F3BBDA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DAB53-A6DE-4A08-9C4E-5728D6D59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9095A-FA69-45E9-9057-33BE58DDC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09EB9-847B-4F26-B441-76B5211B0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4A1A5-ADAE-4B27-8C8E-336D9EA7A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A4C36-8BC4-4932-8A8A-55C30BB49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C107F-A1B8-4FB8-8785-D348CAF4B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D391B-2FEF-43E9-8FA4-5B7E273A3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0DC7D-03E0-49AF-8892-8B9ADC865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9C5E8-B1F9-4BB7-A353-FADD7E804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7EDB5-A35A-4245-AB83-7BCB82E69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387C5-2B1F-4276-88EF-D04385E54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15A1D-0180-4C49-81B0-B617ECB9F767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omparing and Contrasting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n essay that compares and contrasts explains how two or more things are alike and how they are different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1061720" y="1766880"/>
            <a:ext cx="1440" cy="1440"/>
          </a:xfrm>
          <a:prstGeom prst="rect">
            <a:avLst/>
          </a:prstGeom>
          <a:solidFill>
            <a:srgbClr val="5b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518840" y="1628640"/>
            <a:ext cx="1440" cy="1800"/>
          </a:xfrm>
          <a:prstGeom prst="rect">
            <a:avLst/>
          </a:prstGeom>
          <a:solidFill>
            <a:srgbClr val="51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0518840" y="1628640"/>
            <a:ext cx="1440" cy="1800"/>
          </a:xfrm>
          <a:prstGeom prst="rect">
            <a:avLst/>
          </a:prstGeom>
          <a:solidFill>
            <a:srgbClr val="51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1296800" y="1174680"/>
            <a:ext cx="2880" cy="1800"/>
          </a:xfrm>
          <a:custGeom>
            <a:avLst/>
            <a:gdLst/>
            <a:ahLst/>
            <a:rect l="l" t="t" r="r" b="b"/>
            <a:pathLst>
              <a:path w="3" h="0">
                <a:moveTo>
                  <a:pt x="3" y="0"/>
                </a:moveTo>
                <a:lnTo>
                  <a:pt x="3" y="0"/>
                </a:lnTo>
                <a:lnTo>
                  <a:pt x="0" y="0"/>
                </a:lnTo>
                <a:lnTo>
                  <a:pt x="3" y="0"/>
                </a:lnTo>
                <a:close/>
              </a:path>
            </a:pathLst>
          </a:custGeom>
          <a:solidFill>
            <a:srgbClr val="35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0115640" y="1217520"/>
            <a:ext cx="1440" cy="18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2514600" y="3809880"/>
            <a:ext cx="4103640" cy="23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Now You Try I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ist two things that you can compare and contrast.  For example, compare and contrast your preferences in music to those of your parent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ld a sheet of paper in half lengthwise.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ist all the ways the music you like is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different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from the music your parents like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n the other side, list all the ways that the music you like is the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same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as the music your parents prefer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Possible Points to Compar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ypes of Music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Rock and roll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Rap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Techno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lassical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ypes of instrument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Electric guitar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Violin or other symphonic instrument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4280" y="190512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rtists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Specific bands or singer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Vintage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hen was the music recorded.  For example: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Golden Oldie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ontemporary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oudnes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etting it on Paper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evelop your lists into sentences, then into paragraph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Elaborate on the details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hoose how you will organize your comparison and use that plan throughout your essay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Ways to Organize a Compare/Contrast Essay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One Approach…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escribe all the similarities in one paragraph, and all the differences in another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r example, describe the music you like in one paragraph and the music your parents like in the next paragraph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Or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More Organization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nother Way to Go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hoose a specific aspect of the subject to compare and contrast in each paragraph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r example, in the first paragraph you might explain that you like rap and your parents prefer classical (contrast/difference), but you both like rock and roll (comparison/similarity). In the second paragraph, you might explain that you like contemporary artists while your parents prefer artists of the 70’s and 80’s (contrast/ difference)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Simple Ways to Compare Objects</a:t>
            </a: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80720"/>
            <a:ext cx="38102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olo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hap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z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ast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extur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Use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4191120" y="1905120"/>
            <a:ext cx="3736800" cy="299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11T15:04:10Z</dcterms:created>
  <dc:creator>Gina Balducci</dc:creator>
  <dc:description/>
  <dc:language>en-US</dc:language>
  <cp:lastModifiedBy>ljlab</cp:lastModifiedBy>
  <dcterms:modified xsi:type="dcterms:W3CDTF">2003-09-11T17:15:11Z</dcterms:modified>
  <cp:revision>33</cp:revision>
  <dc:subject/>
  <dc:title>Comparing Apples to Orang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4803000000000001023620</vt:lpwstr>
  </property>
</Properties>
</file>