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3F9A-0CB6-4053-B682-8F335C4BE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AFF3-D7A8-46DD-9614-8ED6C80CC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606C-0167-4610-A37E-01E2F835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7F5E-415A-4F1E-80AE-4EC289E69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5D20-BC53-4305-B8A9-3FFEC7DCE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C7BE-21F6-4C04-90B5-E2C1D663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A026-6A65-401A-96D3-13CD250C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A1EE-61E4-48C7-AC89-B7DBA559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61C0-3B3A-4834-9C98-7B92C6D3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72AD-302F-4BF6-9D8B-91E3F633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B505-82B5-4282-9BE3-3A51FA94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37A6-1893-4722-9095-9F8B5D44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5341-A0FB-49E9-8F41-15F1B8A2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6D76-F8A0-4D5F-9C9E-C4E1E6D46E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23° N.L., 113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447920" y="4419720"/>
            <a:ext cx="60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46° N.L., 12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turn to the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 and 10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38320" y="4952880"/>
            <a:ext cx="5272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The lat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38320" y="4952880"/>
            <a:ext cx="6050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4952880"/>
            <a:ext cx="5900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absolute location of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2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1446480" y="441972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3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75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39° N.L., 11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7:50:52Z</dcterms:created>
  <dc:creator>vtpp</dc:creator>
  <dc:description/>
  <dc:language>en-US</dc:language>
  <cp:lastModifiedBy>ljlab</cp:lastModifiedBy>
  <cp:lastPrinted>2001-09-05T16:54:47Z</cp:lastPrinted>
  <dcterms:modified xsi:type="dcterms:W3CDTF">2007-10-24T15:48:51Z</dcterms:modified>
  <cp:revision>74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08000000000001023620</vt:lpwstr>
  </property>
</Properties>
</file>