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EA08-4572-4A62-86D5-947033D60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Jace and K.T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o rescue a family heirloo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o avoid flooding caused by completion of the new da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the apartment of Jace’s grandfa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crowd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(coug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co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smok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hey find a clue in the photograph of the Jade Drag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dar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 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 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1041-55AA-4BF4-9F91-D2E99A4C2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2F4D-BB0F-46C0-9683-1D136B5F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BEE0-9899-4DF2-BFB6-4856B8FE6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BDFB-5D68-473C-99BE-639D1209F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AE06-9C2C-40D5-BC35-916DC126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B59B-4F1B-4A8A-B610-C42B8B66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A968-EF5A-4668-8662-610DD3FC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E5C9-2800-4BF4-834E-71BB2365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8B9A-2E23-40EE-B085-08AC6AE4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87CB-9C26-47C6-9A42-6A18DB0A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5162-C53A-455F-8FAC-65D33B12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AD06-9D00-46EE-96E4-03C7776B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AE64-1DB2-4AA3-9A16-9C8EBC3DCF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the travelers find their way to the correct cav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sk the train conductor for direc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guess which cave is the correct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andfather’s directions provide all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need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find a clue in the photograph of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de Drag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is only one cave, so it is easy to fi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8080" y="58593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71600" y="28544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74840" y="34052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76280" y="404640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74840" y="497052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ve is 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er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ded by ba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71600" y="247968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374840" y="30369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376280" y="359568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374840" y="415440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154320" y="285120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205160" y="50166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travels to Chin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his m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, Jace and the captain of the soccer te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one.  Jace only dreams he goes to Chi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travels alone because the trip is so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ger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70160" y="4665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3040" y="301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374840" y="356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373040" y="4116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s a trip to China need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elebrate the 100th birthday of Jace’s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nd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ee the Three Gorges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rescue a family heirl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est Jace’s new backpack compu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ollect information for a history re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70160" y="5103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370160" y="2568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373040" y="3462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374840" y="4008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must the trip to China be made immediatel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cold weather that occurs later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 government will only all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ers in at certain ti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they can get back in time for a socc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urna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flooding caused by comple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new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0160" y="3006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3040" y="3944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374840" y="4871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373040" y="5818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in China do they travel fir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angtze R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partment of Jace’s grandfa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’s family farm in Beij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emet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in station in Feng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76280" y="46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379520" y="3017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380960" y="357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379520" y="41292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atmosphere in the city of Chongq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a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ow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e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37628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37628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379520" y="344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37160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37952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health problem do Jace and his grandfather sha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or eyes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mach ac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ither have any health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37952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373040" y="3443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378080" y="40021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type of fuel was used to power the train from Chongqing to Fengdu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i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clear pow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al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379520" y="2895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373040" y="344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37484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conditions on the trai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eas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z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p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023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374840" y="510696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374840" y="2895480"/>
            <a:ext cx="374760" cy="47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378080" y="3446640"/>
            <a:ext cx="374400" cy="46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379520" y="399888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1378080" y="4551480"/>
            <a:ext cx="374400" cy="4698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11:30:21Z</dcterms:created>
  <dc:creator>John</dc:creator>
  <dc:description/>
  <dc:language>en-US</dc:language>
  <cp:lastModifiedBy>College of Veterinary Medicine</cp:lastModifiedBy>
  <cp:lastPrinted>2001-06-06T11:58:46Z</cp:lastPrinted>
  <dcterms:modified xsi:type="dcterms:W3CDTF">2007-11-19T18:34:42Z</dcterms:modified>
  <cp:revision>105</cp:revision>
  <dc:subject/>
  <dc:title>Traveler’s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5000000000001023620</vt:lpwstr>
  </property>
</Properties>
</file>