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12F59-78DC-40B7-961F-5D87DA33E4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E205D-58ED-4A9A-B8C6-5CBAB6F385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AD793-B9AA-4832-9EB1-68DD022E1A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115A1-762F-4F25-BC73-F4B27FE315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2E7F1-33DF-4CDF-9F67-C5862D833A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D9971-15B4-42F7-AAAA-36CD39C09A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ED56C-F163-4B39-8788-1E2D0A142F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68810-9286-46DD-B8E5-5399D5D09F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A9D24-CA94-439B-B98F-F64839BB54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5D485-69E4-4D27-8E7A-C5C9378210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8F1A2-040B-4EB9-AB10-7EBB25FDAF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E1009-3AB4-46F8-9C8B-81F42C61FD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5E5E1-A516-4D72-ADF7-3A2C43971EC1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member that a decimal is a fractional number :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it is a part of something who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72C59-B0BD-49C6-8324-F140DBD3D6B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 = 0.44444). 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1000th place (e.g. 0.4, 0.44, 0.444).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.4444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8120" y="5105520"/>
            <a:ext cx="2982960" cy="20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2C98E-09FF-44F1-A57B-0AC5B8A6F07D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21Z</dcterms:modified>
  <cp:revision>208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e01000000000001023620</vt:lpwstr>
  </property>
</Properties>
</file>