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A1A63-9C56-41E5-AEA6-95D1DE59F8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for Entire Unlocking Languag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4C: The student is expected to: access how language, medium, and presentation contribute to the message (6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A: collaborate with other writers to compose, organize, and revise various types of texts. . .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A: offer observations, make connections, react, speculate, interpret, and raise questions in response to texts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C: use multiple reference aids, including a thesaurus, a synonym finder, a dictionary, and software, to clarify meanings and usage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mplete subject is (B), the simple subject is “stat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for Entire Unlocking Languag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4C: The student is expected to: access how language, medium, and presentation contribute to the message (6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A: collaborate with other writers to compose, organize, and revise various types of texts. . .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A: offer observations, make connections, react, speculate, interpret, and raise questions in response to texts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C: use multiple reference aids, including a thesaurus, a synonym finder, a dictionary, and software, to clarify meanings and usage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mplete predicate is (C), the simple predicate is “called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B) A rough, dry vo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) 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) Th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) H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FF2C-449D-4C1D-993D-99E46129B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E4CD-2945-48C1-B114-5374FB416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1BF9-B261-4623-8C65-59A9CA61D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F12D-F480-4DD8-AFE0-8AB49566C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C8CB-1A3E-48F6-ACA9-A6C796AB4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6F8B-7AD7-4341-86CB-15AA3EEEC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DD6A-E4BD-4ED6-9493-354535A87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6F65-A30D-4906-BC40-131348C91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0636-AF62-4168-9C39-B15733E9C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AD00-4C3F-47CD-80C7-5439E630B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1F27-B05D-4E6E-941E-F6182F120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2463-EBE6-429F-9F17-7DD14155F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C2AAD-B936-485D-96D9-FE2D35D27F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rove your writing and speech by understanding language construction and correct usa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ke the Unlocking Language Quiz for “The Jade Dragon” to test your knowledge of languag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Choose the complete subject and underline the simple subject.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hongqing station was a madhouse of people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unds, and smells.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adhouse of people, sounds, and smells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ongqing station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tion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s a madhou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76920" y="3276720"/>
            <a:ext cx="2933640" cy="3076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143000" y="318276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1143000" y="3828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1143000" y="4506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1143000" y="51735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Choose the complete predicate and underline the simple predica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82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hoarse voice called from within for them 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ter.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arse v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l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led from within for them to en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them to ent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143000" y="318276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143000" y="3828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1143000" y="4506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1143000" y="51735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66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A hoarse voice is…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255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meone that sounds like a hor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rough, dry v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gentle v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wboy tal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143000" y="19350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143000" y="2619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143000" y="3316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143000" y="401148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667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 A good synonym for ajar is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00080"/>
            <a:ext cx="7772400" cy="255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p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o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f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029200" y="2590920"/>
            <a:ext cx="3097080" cy="3154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1143000" y="194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1143000" y="2590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1143000" y="3268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1143000" y="39355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following is a letter written to Jace by his grandfather. Correct the letter by identifying the error in each numbered sentence or phra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357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(1)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dearest Jace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(2)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I hope this letter find’s you in good health.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I miss you very much,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and I wish I could see you.  I have some tragic news from China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(3)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Have you heard of the Three Gorges Dam.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It is a new project to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provide China with hydroelectric power. (4) 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When the dam is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complete however the water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will flood the shrine of the Jade Dragon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This is a very unfortunate time for our family. What am I to do?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(5)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Sincerily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Grandfather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8487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.  Fill in the first blank with the correct choice from the column on the left and the second blank with the correct choice from the column on the right.</a:t>
            </a:r>
            <a:br>
              <a:rPr sz="2400"/>
            </a:br>
            <a:br>
              <a:rPr sz="2400"/>
            </a:br>
            <a:r>
              <a:rPr b="0" lang="en-US" sz="1900" spc="-1" strike="noStrike">
                <a:solidFill>
                  <a:srgbClr val="ccccff"/>
                </a:solidFill>
                <a:latin typeface="Times New Roman"/>
              </a:rPr>
              <a:t>Jace and K.T. decided to take the train because ______ only had ten dollars.  K.T. was excited to ride the train, but Jace was too worried about _______ grandfather to be excited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711520" y="4038120"/>
            <a:ext cx="18460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908600" y="4043520"/>
            <a:ext cx="18460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Explor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the “Jade Dragon” again and highlight words that are unfamili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the vocabulary list (on the next slide) or a dictionary to help you understand the difficult wor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467480" y="4419720"/>
            <a:ext cx="1189080" cy="20574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5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pabilities - abilities that someone or something has the power to perform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de - a hard, green, blue, or white stone from which ornaments are carved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irloom - a possession that has been handed down in a family for several generations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ail - not strong, physically weak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ulevard - a wide stre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7467480" y="4419720"/>
            <a:ext cx="1189080" cy="20574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5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5T03:16:59Z</dcterms:created>
  <dc:creator>Gina Balducci</dc:creator>
  <dc:description/>
  <dc:language>en-US</dc:language>
  <cp:lastModifiedBy>Texas A&amp;M Veterinary Medicine</cp:lastModifiedBy>
  <dcterms:modified xsi:type="dcterms:W3CDTF">2007-10-09T19:19:40Z</dcterms:modified>
  <cp:revision>51</cp:revision>
  <dc:subject/>
  <dc:title>1. Choose the complete subject and underline the simple subject.                                     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405000000000001023620</vt:lpwstr>
  </property>
</Properties>
</file>