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A07A7-00A7-4BC4-BF2C-92853A9422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53AA-FABA-402D-9C0E-2A1C677D6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366E-613D-4925-A0F7-B4B8BCA84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6FA9-9B7F-4060-8343-FB108C8BC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F106-9315-419A-BC09-64FC7CA80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AFBB-D798-4C36-B0B0-F154E6D49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AEED-C6A6-4C48-B629-5A3C9675A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F70D-E206-4542-9AB7-58B569B12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002F-559E-4868-8FC6-598D3F2C4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EDD5-F2F8-485B-A2BB-7F9077BEA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B040-D1BA-46B7-BA04-B4EE86B8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FC24-E20A-4275-A9B0-1FA1340D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9D85-472E-4665-BF02-976E9AD0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F07A1-629B-4A52-8AD3-1C0D38DF601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3-09-11T17:16:25Z</dcterms:modified>
  <cp:revision>24</cp:revision>
  <dc:subject/>
  <dc:title>To Sum It All Up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c00000000000001023620</vt:lpwstr>
  </property>
</Properties>
</file>