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2EADA-322D-41D5-BB27-F2D46F754F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97BE1-1A8E-4FD8-B2C0-215D3019A9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E1F60-8F62-48CD-A326-CF6C941728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13D2A-BA86-40E9-A16C-343201B48A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72A24-090F-4944-89E0-F570BCBAB4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C7F51-3012-44CF-8992-08BA6C1E06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09832-C9B0-42EF-B7C4-0693E9B7FE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DED31-26EA-4955-81D2-DB66BED1B8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44167-2259-4164-B7DA-E9BBF68436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39B58-5F03-4D0C-9CAD-C715ED3535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14030-4A1A-48EF-94CB-624819C436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81DC0-821F-477D-8821-865DDBFF08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A4FDB-26F7-4B8F-8992-E849C2841564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 ratio is a comparison of two numbers by division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 comparing 1 to 4 can be stated as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to 4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:4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out of 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5C44F-E1E6-49E3-8336-7C2C3D341B10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4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1 par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1/4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943600" y="914400"/>
            <a:ext cx="2664000" cy="349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A4EF7-EE05-4082-B504-F75016C54EF4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5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3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3/5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791320" y="1143000"/>
            <a:ext cx="2778120" cy="2835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00ABB-582B-41C0-AB03-820454100063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7240" y="-228600"/>
            <a:ext cx="77709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534160" cy="569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ompare the ratios 4/6 and 2/3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Draw a rectangle with 6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Draw another rectangle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with 3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3. Shade 4 parts of the upper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rectangle and shade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2 parts of the lower rectangl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nce the areas shaded are the same,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s are equivalent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324480" y="990720"/>
            <a:ext cx="2286000" cy="4035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35D38-0DCB-432D-B5DB-6EDF1704438C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724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09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nce ratios can be written as fractions,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:6 and 2:3 are equivalent ratios </a:t>
            </a:r>
            <a:br>
              <a:rPr sz="3200"/>
            </a:b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just a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/6 and 2/3 are equivalent fraction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÷ 2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    ÷ 2</a:t>
            </a: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2864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732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05120" y="3809880"/>
            <a:ext cx="1603080" cy="92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1905120" y="4820400"/>
            <a:ext cx="1599120" cy="87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2" y="9473"/>
                </a:moveTo>
                <a:arcTo wR="10800" hR="10800" stAng="-10376525" swAng="10376525"/>
                <a:lnTo>
                  <a:pt x="10800" y="10800"/>
                </a:lnTo>
                <a:close/>
              </a:path>
              <a:path fill="none" w="21600" h="21600">
                <a:moveTo>
                  <a:pt x="82" y="9473"/>
                </a:moveTo>
                <a:arcTo wR="10800" hR="10800" stAng="-10376525" swAng="10376525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5562720" y="4897080"/>
            <a:ext cx="1599120" cy="87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8" y="9501"/>
                </a:moveTo>
                <a:arcTo wR="10800" hR="10800" stAng="-10385669" swAng="10385669"/>
                <a:lnTo>
                  <a:pt x="10800" y="10800"/>
                </a:lnTo>
                <a:close/>
              </a:path>
              <a:path fill="none" w="21600" h="21600">
                <a:moveTo>
                  <a:pt x="78" y="9501"/>
                </a:moveTo>
                <a:arcTo wR="10800" hR="10800" stAng="-10385669" swAng="10385669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562720" y="3733920"/>
            <a:ext cx="1603080" cy="91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/>
          <p:nvPr/>
        </p:nvCxnSpPr>
        <p:spPr>
          <a:xfrm>
            <a:off x="3504960" y="419076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99" name=""/>
          <p:cNvCxnSpPr/>
          <p:nvPr/>
        </p:nvCxnSpPr>
        <p:spPr>
          <a:xfrm>
            <a:off x="7162560" y="411444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0" name=""/>
          <p:cNvCxnSpPr/>
          <p:nvPr/>
        </p:nvCxnSpPr>
        <p:spPr>
          <a:xfrm flipV="1">
            <a:off x="3504960" y="5181120"/>
            <a:ext cx="76680" cy="15336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1" name=""/>
          <p:cNvCxnSpPr/>
          <p:nvPr/>
        </p:nvCxnSpPr>
        <p:spPr>
          <a:xfrm flipV="1">
            <a:off x="7162560" y="525708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15238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26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814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102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6936E-2E9F-4928-8DF0-48D1C9A10D41}" type="slidenum">
              <a:t>5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20:00Z</dcterms:modified>
  <cp:revision>219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e01000000000001023620</vt:lpwstr>
  </property>
</Properties>
</file>