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628B-F23F-41CF-8E06-B5192655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hongq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Hou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Ka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Beij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Guangz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Har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Global address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 Social Stud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regions using data from maps, charts, models, and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2(A) Use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 1) Northern Hemi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astern Hemi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Geography world geography Latitude Longitude Global hemispher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roximate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0° E.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30° N.L., 100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“Chongqing” was removed from the map; however, a dot still remains at its location along the Yangtze river.  See next slide for highlighted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2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 N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29° N.L., 106° E.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 Pose and answer questions about geographic distributions and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World Geography Geography Latitude Longitude Absolut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13D-6145-4C27-BFE6-1D21186C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112-81EC-46E7-9903-ABFDBE05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EC7-2768-4663-8436-FD969E3A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7CC-3AA3-40BF-B046-1CD0F979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0991-248B-4257-8472-DCAD6C18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90E-5DB1-4D42-B5B2-12AB5AB1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680-F457-43B3-95AB-189725D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055B-4016-4FC2-B2B3-01DA6484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10F-5A4E-458D-86F0-56528F79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991-52B6-4C7D-BA84-7BB1E926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3B4-2CB0-4D93-9862-2BA8E9B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19B-295C-4A48-9EC3-598F1593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5756-8F93-4ACD-AA34-84344E7B3A91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Appendices/AbsoLoca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4876560"/>
            <a:ext cx="85723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The absolute location for Chongqing, China is 29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793764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of Houston, Texas is 30° N.L., 95° W.L.  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5638680"/>
            <a:ext cx="7619760" cy="10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closer to the Equator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Ea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1371600" indent="0">
              <a:lnSpc>
                <a:spcPct val="80000"/>
              </a:lnSpc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ich city is located in the Western Hemisphere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9920"/>
            <a:ext cx="7772400" cy="37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4273560"/>
            <a:ext cx="8915400" cy="25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Use the map to find which city matches each of the addresses below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.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hat city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? _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.   What city is located at 39° N.L., 11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.   What city is located at 23° N.L., 113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.   What city is located at 46° N.L., 126° E.L.? _____________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8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ere you correct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ashi is located at 3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75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eijing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9° N.L., 116° E.L.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uangzho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3° N.L., 113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Harbin is located at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6° N.L., 126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19240" y="30492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64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200"/>
            <a:ext cx="777240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Challenge Quiz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5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6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22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he concept of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pply this concept to find cities on a map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arn to describe a city’s location by its absolut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s absolute loca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bsolute location is locating a place using the coordinate syst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t involves using the latitude and longitude lines to determine the locat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et’s use it to find where China is located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of China (being the center of China)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0° N.L. and 100° E.L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Northern or South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s China in the Eastern or Western Hemisphere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43000" y="5333760"/>
            <a:ext cx="6858000" cy="101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ina on the map. 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30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0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348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335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3032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4724280"/>
            <a:ext cx="792504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ere you correct?  Look for the circle around China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hat is the latitude for China?  _______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ina? _______° West or East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absolute location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 for China is _____________________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ere is Chongqing, China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02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global address or absolute location of Chongqing, China i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 and 106° E.L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838080"/>
            <a:ext cx="586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4479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808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3808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80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46240"/>
            <a:ext cx="77724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</a:t>
            </a:r>
            <a:br>
              <a:rPr sz="1400"/>
            </a:b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int to Chongqing, China on the map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(2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.L., 106° E.L.)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ook carefully!  The label was removed!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8098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515880"/>
          <a:ext cx="5943600" cy="420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15880"/>
                    <a:ext cx="594360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8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                          100°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E                      1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4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br>
              <a:rPr sz="200"/>
            </a:br>
            <a:r>
              <a:rPr b="0" lang="en-US" sz="200" spc="-1" strike="noStrike">
                <a:solidFill>
                  <a:srgbClr val="ffff66"/>
                </a:solidFill>
                <a:latin typeface="Times New Roman"/>
              </a:rPr>
              <a:t>         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              20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N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21932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8862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52280"/>
            <a:ext cx="5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15228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228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4692240"/>
            <a:ext cx="8686800" cy="20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ere you correct?  Look for the highlight around Chongqing, China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What is the latitude for Chongqing? _________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° North or South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hat is the longitude for Chongqing? _________° West or East?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absolute location for Chongqing, China is________________ .</a:t>
            </a:r>
            <a:endParaRPr b="0" lang="en-US" sz="2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7:40:41Z</dcterms:created>
  <dc:creator>Texas A&amp;M Veterinary Medicine</dc:creator>
  <dc:description/>
  <dc:language>en-US</dc:language>
  <cp:lastModifiedBy>Jeremiah McNichols</cp:lastModifiedBy>
  <dcterms:modified xsi:type="dcterms:W3CDTF">2008-09-22T14:26:03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1000000000001023620</vt:lpwstr>
  </property>
</Properties>
</file>