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E23A0-4E04-4D94-B77E-A0551853F3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47F434-E4A9-49C0-8866-23CD985F52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E5D38A-721F-43E5-9215-AFB3AC73B2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AD69F7-32D6-4DB5-A690-10DE93C851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AF1067-D588-4CE7-9B50-28E57603DA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8E4332-BA14-458F-BEFC-691111E249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69D4F2-F6E9-471D-B1A0-060547C75C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3BBBDF-701F-494A-85C9-130B2D7D7F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683D98-0F7B-4207-9F70-C6A15AABAE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F6DA84-57B8-4940-B014-DAB11FD99E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20AC5D-7AC7-4DF1-B8D6-C919C77582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EF9887-292D-4AD3-9517-38551E4C44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DDACA-091F-4FFE-9075-9568F8582D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CFAB9-A172-4335-BA24-C7DDDD235833}"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7-10-17T14:50:06Z</dcterms:modified>
  <cp:revision>106</cp:revision>
  <dc:subject/>
  <dc:title>Locating Plac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004000000000001023620</vt:lpwstr>
  </property>
</Properties>
</file>