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9869-804B-4B43-ACD0-05CE79CAE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subject is (B), the simple subject is “stat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predicate is (C), the simple predicate is “called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) A rough, dry vo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Th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1A5F-4740-4975-8210-EDEE8491D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FA98-1928-4A12-9B93-6D94A5EC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F850-3D7F-4995-B551-461561A20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BECC-8A2A-42CE-A331-BE4403C89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2DCC-2B13-43FA-A34E-CFB31E29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9904-83E2-401C-B5EC-CD059D73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0F5C-5EAC-4D3C-ABD5-699068D0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E5D8-29BF-49C7-ADE5-CE51180E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0986-7D38-4066-B902-A2AE5B9B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B02F-2B55-4F05-8FB1-A4172E3E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D237-9D75-4B69-9C2F-80C48102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F4A4-F6CD-44BF-87E5-C607BA94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C54E-3A4B-4E84-A66F-CD1AD79A12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 your writing and speech by understanding language construction and correct u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the Unlocking Language Quiz for “The Jade Dragon” to test your knowledge of languag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hoose the complete subject and underline the simple subject.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hongqing station was a madhouse of peopl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nds, and smells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dhouse of people, sounds, and smell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ngqing 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 a madho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76920" y="3276720"/>
            <a:ext cx="2933640" cy="307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Choose the complete predicate and underline the simple predic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oarse voice called from within for them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er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ars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 from within for them to 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them to en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A hoarse voice is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one that sounds like a ho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ough, dry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gentl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wboy ta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43000" y="19350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143000" y="2619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143000" y="3316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143000" y="4011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66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A good synonym for ajar i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008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29200" y="2590920"/>
            <a:ext cx="3097080" cy="3154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143000" y="194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43000" y="259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143000" y="3268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143000" y="3935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following is a letter written to Jace by his grandfather. Correct the letter by identifying the error in each numbered sentence or phr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35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dearest Jace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I hope this letter find’s you in good health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 miss you very much,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and I wish I could see you.  I have some tragic news from Chin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3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Have you heard of the Three Gorges Dam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t is a new project t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rovide China with hydroelectric power. (4) 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When the dam is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complete however the water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will flood the shrine of the Jade Dragon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This is a very unfortunate time for our family. What am I to do?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5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Sincerily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Grandfath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Fill in the first blank with the correct choice from the column on the left and the second blank with the correct choice from the column on the right.</a:t>
            </a:r>
            <a:br>
              <a:rPr sz="2400"/>
            </a:br>
            <a:br>
              <a:rPr sz="2400"/>
            </a:br>
            <a:r>
              <a:rPr b="0" lang="en-US" sz="1900" spc="-1" strike="noStrike">
                <a:solidFill>
                  <a:srgbClr val="ccccff"/>
                </a:solidFill>
                <a:latin typeface="Times New Roman"/>
              </a:rPr>
              <a:t>Jace and K.T. decided to take the train because ______ only had ten dollars.  K.T. was excited to ride the train, but Jace was too worried about _______ grandfather to be excited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11520" y="4038120"/>
            <a:ext cx="184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08600" y="4043520"/>
            <a:ext cx="184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Explor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“Jade Dragon” again and highlight words that are unfamili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vocabulary list (on the next slide) or a dictionary to help you understand the difficult wor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abilities - abilities that someone or something has the power to perfor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de - a hard, green, blue, or white stone from which ornaments are carve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rloom - a possession that has been handed down in a family for several generation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il - not strong, physically wea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ulevard - a wide str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5T03:16:59Z</dcterms:created>
  <dc:creator>Gina Balducci</dc:creator>
  <dc:description/>
  <dc:language>en-US</dc:language>
  <cp:lastModifiedBy>Texas A&amp;M Veterinary Medicine</cp:lastModifiedBy>
  <dcterms:modified xsi:type="dcterms:W3CDTF">2007-10-09T19:19:40Z</dcterms:modified>
  <cp:revision>51</cp:revision>
  <dc:subject/>
  <dc:title>1. Choose the complete subject and underline the simple subject.                                 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5000000000001023620</vt:lpwstr>
  </property>
</Properties>
</file>