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CA88-4BED-44B4-9B97-5079F0FA9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Chongq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hongq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Hou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Kas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eij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Guangz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Har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Global address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absolute location challen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 Social Stud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ing and answering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Northern Hemisphe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astern Hemi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Geography world geography Latitude Longitude Global hemisphere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pproximat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 N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100° E.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30° N.L., 100° E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“Chongqing” was removed from the map; however, a dot still remains at its location along the Yangtze river.  See next slide for highlighted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2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 N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106° E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29° N.L., 106° E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42A-EC9E-4932-94C3-74D0A158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4A8-C17A-43CF-81FF-86A9D00A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840-7A53-4EBC-B7F8-E535661A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8E5-DFA0-43D4-8575-3E06F2F4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57F-1DAC-404D-B41C-3D06B5B8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FBB-9E47-444B-A55E-75F24948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AC9-744E-484F-94A2-AD820080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85D6-3FD4-4617-ACAC-20F9ECE5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7DC-86A5-4F3E-B1C1-0201F1E7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6F5-036B-4CE4-92FA-E635E621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24F-F4F1-4DCF-90FE-AF3F9060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1CE-B364-442E-B978-F9E3CE4C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BC9E-B8F3-4E3D-9D9F-8C1294F6DE8B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ChSSQ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Appendices/AbsoLoca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0476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4876560"/>
            <a:ext cx="8572320" cy="6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793764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The absolute location for Chongqing, China is 29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106° E.L.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793764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absolute location of Houston, Texas is 30° N.L., 95° W.L.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5638680"/>
            <a:ext cx="7619760" cy="10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160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ch city is closer to the Equator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37160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ch city is located in the Eastern Hemisphere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37160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ch city is located in the Western Hemisphere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9920"/>
            <a:ext cx="7772400" cy="37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4273560"/>
            <a:ext cx="8915400" cy="25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se the map to find which city matches each of the addresses below. 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.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at city is located at 3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75° E.L.? _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.   What city is located at 39° N.L., 116° E.L.? 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.   What city is located at 23° N.L., 113° E.L.? 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4.   What city is located at 46° N.L., 126° E.L.? 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62120" y="4038480"/>
            <a:ext cx="7772400" cy="28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ere you correct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Kashi is located at 3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75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eijing is located a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9° N.L., 116° E.L.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uangzho is located a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3° N.L., 113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arbin is located a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46° N.L., 126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019240" y="30492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64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14200"/>
            <a:ext cx="777240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global address of a place using latitude and longitude is known as 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lobal addresses north of the Equator are referred to as North _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lobal addresses west of the Prime Meridian are referred to as West _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oth latitude and longitude are measured in _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66880" y="116064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bsolute Location Challenge Quiz</a:t>
            </a:r>
            <a:r>
              <a:rPr b="0" lang="en-US" sz="3600" spc="-1" strike="noStrike" u="sng">
                <a:solidFill>
                  <a:srgbClr val="ffff66"/>
                </a:solidFill>
                <a:uFillTx/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5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6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7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22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arn the concept of absolut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pply this concept to find cities on a map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arn to describe a city’s location by its absolut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is absolute loca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bsolute location is locating a place using the coordinate system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t involves using the latitude and longitude lines to determine th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t’s use it to find where China is located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re is China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global address or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bsolute location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of China (being the center of China) is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0° N.L. and 100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s China in the Northern or Southern Hemisphere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s China in the Eastern or Western Hemisphere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43000" y="5333760"/>
            <a:ext cx="6858000" cy="10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oint to China on the map. 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3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100° E.L.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348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335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3032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38080" y="4724280"/>
            <a:ext cx="792504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ere you correct?  Look for the circle around China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hat is the latitude for China?  _______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orth or South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is the longitude for China? _______° West or East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absolute location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 for China is _____________________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re is Chongqing, China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02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global address or absolute location of Chongqing, China is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 and 106° E.L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838080"/>
            <a:ext cx="58676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14479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114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808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38088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80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46240"/>
            <a:ext cx="77724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oint to Chongqing, China on the map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2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106° E.L.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ook carefully!  The label was removed!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38098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47920" y="515880"/>
          <a:ext cx="5943600" cy="420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515880"/>
                    <a:ext cx="594360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21932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88620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152280"/>
            <a:ext cx="53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152280"/>
            <a:ext cx="60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5228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4692240"/>
            <a:ext cx="8686800" cy="203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ere you correct?  Look for the highlight around Chongqing, China.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at is the latitude for Chongqing? _________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orth or South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is the longitude for Chongqing? _________° West or East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absolute location for Chongqing, China is________________ .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7:40:41Z</dcterms:created>
  <dc:creator>Texas A&amp;M Veterinary Medicine</dc:creator>
  <dc:description/>
  <dc:language>en-US</dc:language>
  <cp:lastModifiedBy>Jeremiah McNichols</cp:lastModifiedBy>
  <dcterms:modified xsi:type="dcterms:W3CDTF">2008-09-22T14:26:03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11000000000001023620</vt:lpwstr>
  </property>
</Properties>
</file>