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5BAF9-104B-47D9-BCC8-F4B6336AC2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 for Entire Unlocking Language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4C: The student is expected to: access how language, medium, and presentation contribute to the message (6-8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1A: collaborate with other writers to compose, organize, and revise various types of texts. . .(4-8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1A: offer observations, make connections, react, speculate, interpret, and raise questions in response to texts (4-8)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C: use multiple reference aids, including a thesaurus, a synonym finder, a dictionary, and software, to clarify meanings and usage (4-8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complete subject is (B), the simple subject is “station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 for Entire Unlocking Language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4C: The student is expected to: access how language, medium, and presentation contribute to the message (6-8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1A: collaborate with other writers to compose, organize, and revise various types of texts. . .(4-8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1A: offer observations, make connections, react, speculate, interpret, and raise questions in response to texts (4-8)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C: use multiple reference aids, including a thesaurus, a synonym finder, a dictionary, and software, to clarify meanings and usage (4-8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complete predicate is (C), the simple predicate is “called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B) A rough, dry voi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A) op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C) Th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C) H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2255C-2B7A-4D32-BD03-0F766921C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8724C-DB33-489F-8C7B-3C8B67CE3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C020E-420A-45DA-A462-B41A6DE64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7A307-B2A4-4637-BD6D-F46012F12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D3E1D-DDF1-4F5D-8125-2ABECB436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DBAA1-1458-4059-A134-413986455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E0908-43C8-440C-A28F-77F382451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6B258-30A4-43F2-A007-FB2ECEC77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73774-5F6C-474F-A9A7-350BB165D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0B161-0B23-4C5F-B7B5-7C8459A4F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24990-2704-48E1-ADC7-415A0176D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41FCC-BB5A-4F10-82CF-368756A88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1FAAB-A756-446F-815D-EA316A9464D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nlocking Langua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mprove your writing and speech by understanding language construction and correct usag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ake the Unlocking Language Quiz for “The Jade Dragon” to test your knowledge of language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4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66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. Choose the complete subject and underline the simple subject.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Chongqing station was a madhouse of people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unds, and smells.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madhouse of people, sounds, and smells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ongqing station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ation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as a madhou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76920" y="3276720"/>
            <a:ext cx="2933640" cy="30765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4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1143000" y="3182760"/>
            <a:ext cx="374760" cy="4654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1143000" y="38289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5"/>
          <a:stretch/>
        </p:blipFill>
        <p:spPr>
          <a:xfrm>
            <a:off x="1143000" y="45068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6"/>
          <a:stretch/>
        </p:blipFill>
        <p:spPr>
          <a:xfrm>
            <a:off x="1143000" y="517356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66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. Choose the complete predicate and underline the simple predicat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827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hoarse voice called from within for them 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ter.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oarse voi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ll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lled from within for them to en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r them to ente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4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1143000" y="3182760"/>
            <a:ext cx="374760" cy="4654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1143000" y="38289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4"/>
          <a:stretch/>
        </p:blipFill>
        <p:spPr>
          <a:xfrm>
            <a:off x="1143000" y="45068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1143000" y="517356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66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. A hoarse voice is…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255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meone that sounds like a hor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rough, dry voi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gentle voi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wboy tal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4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1143000" y="1935000"/>
            <a:ext cx="374760" cy="4654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1143000" y="26193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4"/>
          <a:stretch/>
        </p:blipFill>
        <p:spPr>
          <a:xfrm>
            <a:off x="1143000" y="33163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5"/>
          <a:stretch/>
        </p:blipFill>
        <p:spPr>
          <a:xfrm>
            <a:off x="1143000" y="401148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667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.  A good synonym for ajar is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00080"/>
            <a:ext cx="7772400" cy="255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p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os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ef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5029200" y="2590920"/>
            <a:ext cx="3097080" cy="31543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4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1143000" y="19447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4"/>
          <a:stretch/>
        </p:blipFill>
        <p:spPr>
          <a:xfrm>
            <a:off x="1143000" y="25909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5"/>
          <a:stretch/>
        </p:blipFill>
        <p:spPr>
          <a:xfrm>
            <a:off x="1143000" y="32688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6"/>
          <a:stretch/>
        </p:blipFill>
        <p:spPr>
          <a:xfrm>
            <a:off x="1143000" y="393552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66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.  The following is a letter written to Jace by his grandfather. Correct the letter by identifying the error in each numbered sentence or phras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2357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(1) </a:t>
            </a:r>
            <a:r>
              <a:rPr b="0" lang="en-US" sz="1900" spc="-1" strike="noStrike" u="sng">
                <a:solidFill>
                  <a:srgbClr val="ffffff"/>
                </a:solidFill>
                <a:uFillTx/>
                <a:latin typeface="Times New Roman"/>
              </a:rPr>
              <a:t>dearest Jace</a:t>
            </a: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,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(2) </a:t>
            </a:r>
            <a:r>
              <a:rPr b="0" lang="en-US" sz="1900" spc="-1" strike="noStrike" u="sng">
                <a:solidFill>
                  <a:srgbClr val="ffffff"/>
                </a:solidFill>
                <a:uFillTx/>
                <a:latin typeface="Times New Roman"/>
              </a:rPr>
              <a:t>I hope this letter find’s you in good health.</a:t>
            </a: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  I miss you very much, 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and I wish I could see you.  I have some tragic news from China.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(3) </a:t>
            </a:r>
            <a:r>
              <a:rPr b="0" lang="en-US" sz="1900" spc="-1" strike="noStrike" u="sng">
                <a:solidFill>
                  <a:srgbClr val="ffffff"/>
                </a:solidFill>
                <a:uFillTx/>
                <a:latin typeface="Times New Roman"/>
              </a:rPr>
              <a:t>Have you heard of the Three Gorges Dam.</a:t>
            </a: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  It is a new project to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provide China with hydroelectric power. (4)  </a:t>
            </a:r>
            <a:r>
              <a:rPr b="0" lang="en-US" sz="1900" spc="-1" strike="noStrike" u="sng">
                <a:solidFill>
                  <a:srgbClr val="ffffff"/>
                </a:solidFill>
                <a:uFillTx/>
                <a:latin typeface="Times New Roman"/>
              </a:rPr>
              <a:t>When the dam is 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 u="sng">
                <a:solidFill>
                  <a:srgbClr val="ffffff"/>
                </a:solidFill>
                <a:uFillTx/>
                <a:latin typeface="Times New Roman"/>
              </a:rPr>
              <a:t>complete however the water</a:t>
            </a: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 will flood the shrine of the Jade Dragon.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This is a very unfortunate time for our family. What am I to do?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(5) </a:t>
            </a:r>
            <a:r>
              <a:rPr b="0" lang="en-US" sz="1900" spc="-1" strike="noStrike" u="sng">
                <a:solidFill>
                  <a:srgbClr val="ffffff"/>
                </a:solidFill>
                <a:uFillTx/>
                <a:latin typeface="Times New Roman"/>
              </a:rPr>
              <a:t>Sincerily</a:t>
            </a: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,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Grandfather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4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838080"/>
            <a:ext cx="784872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6.  Fill in the first blank with the correct choice from the column on the left and the second blank with the correct choice from the column on the right.</a:t>
            </a:r>
            <a:br>
              <a:rPr sz="2400"/>
            </a:br>
            <a:br>
              <a:rPr sz="2400"/>
            </a:br>
            <a:r>
              <a:rPr b="0" lang="en-US" sz="1900" spc="-1" strike="noStrike">
                <a:solidFill>
                  <a:srgbClr val="ccccff"/>
                </a:solidFill>
                <a:latin typeface="Times New Roman"/>
              </a:rPr>
              <a:t>Jace and K.T. decided to take the train because ______ only had ten dollars.  K.T. was excited to ride the train, but Jace was too worried about _______ grandfather to be excited.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711520" y="4038120"/>
            <a:ext cx="184608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h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Times New Roman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Times New Roman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Times New Roman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4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908600" y="4043520"/>
            <a:ext cx="184608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Times New Roman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Times New Roman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Times New Roman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 Explorer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ad the “Jade Dragon” again and highlight words that are unfamilia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e the vocabulary list (on the next slide) or a dictionary to help you understand the difficult word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467480" y="4419720"/>
            <a:ext cx="1189080" cy="20574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5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cabular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pabilities - abilities that someone or something has the power to perform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ade - a hard, green, blue, or white stone from which ornaments are carved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eirloom - a possession that has been handed down in a family for several generations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rail - not strong, physically weak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oulevard - a wide stre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7467480" y="4419720"/>
            <a:ext cx="1189080" cy="20574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5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15T03:16:59Z</dcterms:created>
  <dc:creator>Gina Balducci</dc:creator>
  <dc:description/>
  <dc:language>en-US</dc:language>
  <cp:lastModifiedBy>Texas A&amp;M Veterinary Medicine</cp:lastModifiedBy>
  <dcterms:modified xsi:type="dcterms:W3CDTF">2007-10-09T19:19:40Z</dcterms:modified>
  <cp:revision>51</cp:revision>
  <dc:subject/>
  <dc:title>1. Choose the complete subject and underline the simple subject.                                      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405000000000001023620</vt:lpwstr>
  </property>
</Properties>
</file>