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05CF-8425-4FCD-BA0F-144D0663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,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1) From a location in North America the response could be either eas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. West would be a shorter, less expensive ro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C) Express ideas orally based on research and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Mongolia or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1) 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Plateau of Ti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1) Possible answers include Eastern hemispheres, on the continent of Asia, West of the 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Possible answers: You could travel either east or west, but it would be closer/faster to travel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C.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Geography World Geography Relativ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04C-1346-4CA4-B925-EFEAFBBB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996-524E-4513-9773-FD566435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451-9973-41FE-ACF0-34C11731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61D-429E-4779-8BDC-D11ECBB6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D4F-F2DC-46FE-9E38-B52E06D9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ADB-6395-42D8-8C4D-8A91E936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0FC-6E82-43BB-82BB-2EC2F3EE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9D9-BB15-4DE9-91CB-1A4518A8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885-1B6E-4127-952B-F7A6B5BA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840-8CD7-497F-A240-38B44A66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2B3-9AF7-474B-AB37-BF7CFCE6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16E-78ED-4CE4-A964-56F4574E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4FAC-E07B-402B-9B43-039728C49B69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6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the concept of relative location to locate cities on a map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escribe a city’s location by its relativ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lative location is a way of defining where places are located in comparison to other plac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ample: your neighbor is to the left of you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en we use relative location in maps, we use north, south, east, and we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54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eography: 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52440"/>
            <a:ext cx="777240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ere In the World is Chongqing, China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ina is outlined in yellow on the map above.  Study the map, then answer the questions on the next slide.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27480" y="5164200"/>
            <a:ext cx="384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154320"/>
            <a:ext cx="38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97760" y="3154320"/>
            <a:ext cx="38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1903320"/>
            <a:ext cx="720072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854680" y="2684520"/>
            <a:ext cx="93672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240" y="3792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29960" y="378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89480" y="148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73280" y="578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536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00320" y="1288800"/>
            <a:ext cx="6543360" cy="11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On what continent is China located?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ontinent is southeast of China?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ontinent is south and west of China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90840" y="3352680"/>
            <a:ext cx="30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32160" y="5743440"/>
            <a:ext cx="298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4525920"/>
            <a:ext cx="30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7600" y="4525920"/>
            <a:ext cx="299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68360" y="2716200"/>
            <a:ext cx="6405480" cy="36082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861840" y="424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69600" y="425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89480" y="2297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0000" y="6367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66760" y="1247400"/>
            <a:ext cx="85932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Notice that China is now positioned near the center of the map.  This is because we are looking at the Earth from a different position. The Pacific Ocean, rather than the Atlantic Ocean, is now near the center of the map.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Using the map, explain which direction you would travel if you were to travel from China to your home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2276640"/>
            <a:ext cx="7620120" cy="3657600"/>
            <a:chOff x="685800" y="2276640"/>
            <a:chExt cx="7620120" cy="3657600"/>
          </a:xfrm>
        </p:grpSpPr>
        <p:sp>
          <p:nvSpPr>
            <p:cNvPr id="82" name=""/>
            <p:cNvSpPr/>
            <p:nvPr/>
          </p:nvSpPr>
          <p:spPr>
            <a:xfrm>
              <a:off x="4309920" y="2276640"/>
              <a:ext cx="37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35400" y="5429160"/>
              <a:ext cx="37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8242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88240" y="38242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295280" y="2428920"/>
              <a:ext cx="6658200" cy="3505320"/>
            </a:xfrm>
            <a:prstGeom prst="rect">
              <a:avLst/>
            </a:prstGeom>
            <a:ln w="88920">
              <a:solidFill>
                <a:srgbClr val="85a59a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1905120" y="3648240"/>
              <a:ext cx="8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f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5019840"/>
              <a:ext cx="111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ntarc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4320" y="3876840"/>
              <a:ext cx="1022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886120"/>
              <a:ext cx="1182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or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2809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86200" y="4181400"/>
              <a:ext cx="10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ustra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2320" y="3038400"/>
              <a:ext cx="8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ur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920" y="4105440"/>
              <a:ext cx="88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lan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9720" y="2581200"/>
              <a:ext cx="162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c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3952800"/>
              <a:ext cx="81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dian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81480" y="3724200"/>
              <a:ext cx="81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cif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3191040"/>
              <a:ext cx="88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lan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294000" y="3179880"/>
              <a:ext cx="112572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771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ina is highlighted on the map above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ocean is to the east of China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large country is to the southwest of China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me a country on the map to the north of China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09640" y="1344600"/>
            <a:ext cx="5699160" cy="335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1120" y="536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423800"/>
            <a:ext cx="327636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ity is China’s  capital?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is city is located in what direction from Chongqing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e city of Guangzhou is located in what direction from Chongqing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If you were to travel northwest from Chongqing, what is the name of the plateau you would cross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5246640" cy="3749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038480" y="5330880"/>
            <a:ext cx="4584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ongqing is highlighted on th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11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br>
              <a:rPr sz="4400"/>
            </a:br>
            <a:br>
              <a:rPr sz="16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You are talking with a friend. She asks, “Where is China?” How would you respond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you were to travel from Texas to China, in what direction would you travel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you were to travel from China to Paris, France, in what direction would you travel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ich of the following is closer to China?      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.  Germany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.  USA  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.  Indi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Just Checkin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7:42:41Z</dcterms:created>
  <dc:creator>Texas A&amp;M Veterinary Medicine</dc:creator>
  <dc:description/>
  <dc:language>en-US</dc:language>
  <cp:lastModifiedBy>Jeremiah McNichols</cp:lastModifiedBy>
  <dcterms:modified xsi:type="dcterms:W3CDTF">2008-09-22T14:27:1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5000000000001023620</vt:lpwstr>
  </property>
</Properties>
</file>