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C291A-F38F-41E3-AE07-0C9EDAA49D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Represent Proportions/Conversions using Tables and 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C25A-8D59-46A1-BB74-89E34EEF2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9344-2BEC-4386-9C7E-BDC59C3B9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24FB-DBF8-470E-AE8A-525288825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131A-6302-464A-AB4F-F92A2D60D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3197-0545-4365-84C0-EFCD4E87D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C4D9-0EA7-42F3-8E0B-6971DF48E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5E62-809A-45E3-B020-3D2C49125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2FE5-8366-4BE3-9794-DE9F243F8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843A-ED3D-4FEA-9E92-D310D0300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AF0F-F2CE-41DC-98AA-72B4597DA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BBA0-E1F2-48E3-ADD7-53525EC9E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A159-DFD2-42F8-865C-8611B1D2F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95D87-8724-4331-AA91-4196995F89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75960"/>
            <a:ext cx="7770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etric Multiplication Facto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6854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ultiplication Fact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efix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ymb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l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ct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=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nt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ll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c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n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31:03Z</dcterms:created>
  <dc:creator>ITWorkstation</dc:creator>
  <dc:description/>
  <dc:language>en-US</dc:language>
  <cp:lastModifiedBy>ljlab</cp:lastModifiedBy>
  <dcterms:modified xsi:type="dcterms:W3CDTF">2003-09-11T17:19:02Z</dcterms:modified>
  <cp:revision>6</cp:revision>
  <dc:subject/>
  <dc:title>Metric Multiplication Facto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200000000000001023620</vt:lpwstr>
  </property>
</Properties>
</file>