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3A8AF-E48C-4EB2-B4AE-96DAECE8D2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H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ing and using writing processes for self-initiated and assigned writing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just a skeleton of a story map to assist in summary. These are the elements the students should use to complete the summary. Filling out a story map will help them in the organization of the summa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E708-6190-4FC1-AA8F-160B0192D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9FC7-5C3F-44E9-97E3-A4C49085F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CEB6-6868-4159-A6CD-11D1D3CBB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9AA8-F2BF-4420-90C2-D5A5904F0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0919-C7D2-4049-A9EB-03F8E045F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8E90-1B33-4A0F-9CF3-5C1ABB9A6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4E73-1C2C-4CD0-AFC8-CFED9C2A8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6951-E4BD-4D88-9167-B40E1F681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38A3-BAC1-487E-A452-1613A66CC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02E9-75C7-4CF3-A583-4859C33C5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2E06-1AC4-4534-809C-40C55A583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87C7-6DEC-4F0C-98E6-B53B64E1C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78F53-C996-4003-B089-F89281FF57FC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o Sum It All Up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 summary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ames characters,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lls about their problems and goals, a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scribes how the characters try to solve their problems and reach their goal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ap It Ou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story map lists  important details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e included in the summary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ett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haracte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Details of the plo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Problem-solv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n example of a story map is shown on the next slid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2" name="j0299203" descr=""/>
          <p:cNvPicPr/>
          <p:nvPr/>
        </p:nvPicPr>
        <p:blipFill>
          <a:blip r:embed="rId2"/>
          <a:stretch/>
        </p:blipFill>
        <p:spPr>
          <a:xfrm>
            <a:off x="4932360" y="1828800"/>
            <a:ext cx="3059280" cy="35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Story Map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5341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tting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haracters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lot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blem Solving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338040" y="2133720"/>
            <a:ext cx="8534160" cy="3657600"/>
            <a:chOff x="338040" y="2133720"/>
            <a:chExt cx="8534160" cy="3657600"/>
          </a:xfrm>
        </p:grpSpPr>
        <p:sp>
          <p:nvSpPr>
            <p:cNvPr id="56" name=""/>
            <p:cNvSpPr/>
            <p:nvPr/>
          </p:nvSpPr>
          <p:spPr>
            <a:xfrm>
              <a:off x="33804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38040" y="57913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887220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38040" y="21337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38040" y="27432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38040" y="34290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38040" y="39625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624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53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6T15:13:49Z</dcterms:created>
  <dc:creator>Gina Balducci</dc:creator>
  <dc:description/>
  <dc:language>en-US</dc:language>
  <cp:lastModifiedBy>ljlab</cp:lastModifiedBy>
  <dcterms:modified xsi:type="dcterms:W3CDTF">2003-09-11T17:16:25Z</dcterms:modified>
  <cp:revision>24</cp:revision>
  <dc:subject/>
  <dc:title>To Sum It All Up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c00000000000001023620</vt:lpwstr>
  </property>
</Properties>
</file>