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FBEF-0333-47ED-9FC4-2FEA65CA6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subject is (B), the simple subject is “stat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predicate is (C), the simple predicate is “called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) A rough, dry vo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Th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FE81-5866-49A6-874D-763C00C5F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5F2F-528C-43D2-BA0B-767E0229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A9E6-C027-49A1-9C37-5EC2A0C4F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98D0-80A6-4C83-A92C-42B962090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3168-B03F-4B49-B140-58DCF2C6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F6F0-24EB-455E-9E41-9423F205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B583-9463-4CF9-A056-4AAC71A8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5D88-32BB-4C20-9EA8-3374640A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3972-9B62-415D-BF55-4D66148B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9D3D-3B8F-48B3-8926-58762D27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D73B-B1EB-4F6F-BF19-84A54C6F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0B80-26EB-4B6E-B1D6-F0747A33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C98F-56BE-4998-9971-882CCE5286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 your writing and speech by understanding language construction and correct u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the Unlocking Language Quiz for “The Jade Dragon” to test your knowledge of languag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hoose the complete subject and underline the simple subject.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hongqing station was a madhouse of peopl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nds, and smells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dhouse of people, sounds, and smell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ngqing 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 a madho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76920" y="3276720"/>
            <a:ext cx="2933640" cy="3076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Choose the complete predicate and underline the simple predic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oarse voice called from within for them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er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ars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 from within for them to 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them to en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A hoarse voice is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one that sounds like a ho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ough, dry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gentl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wboy ta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43000" y="19350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143000" y="2619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143000" y="3316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143000" y="40114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66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A good synonym for ajar i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008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29200" y="2590920"/>
            <a:ext cx="3097080" cy="3154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143000" y="194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43000" y="259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143000" y="3268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143000" y="3935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following is a letter written to Jace by his grandfather. Correct the letter by identifying the error in each numbered sentence or phr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35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dearest Jace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I hope this letter find’s you in good health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 miss you very much,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and I wish I could see you.  I have some tragic news from Chin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3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Have you heard of the Three Gorges Dam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t is a new project t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rovide China with hydroelectric power. (4) 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When the dam is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complete however the water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will flood the shrine of the Jade Dragon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This is a very unfortunate time for our family. What am I to do?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5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Sincerily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Grandfath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Fill in the first blank with the correct choice from the column on the left and the second blank with the correct choice from the column on the right.</a:t>
            </a:r>
            <a:br>
              <a:rPr sz="2400"/>
            </a:br>
            <a:br>
              <a:rPr sz="2400"/>
            </a:br>
            <a:r>
              <a:rPr b="0" lang="en-US" sz="1900" spc="-1" strike="noStrike">
                <a:solidFill>
                  <a:srgbClr val="ccccff"/>
                </a:solidFill>
                <a:latin typeface="Times New Roman"/>
              </a:rPr>
              <a:t>Jace and K.T. decided to take the train because ______ only had ten dollars.  K.T. was excited to ride the train, but Jace was too worried about _______ grandfather to be excited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11520" y="4038120"/>
            <a:ext cx="184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08600" y="4043520"/>
            <a:ext cx="184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Explor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he “Jade Dragon” again and highlight words that are unfamili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vocabulary list (on the next slide) or a dictionary to help you understand the difficult wor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abilities - abilities that someone or something has the power to perfor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de - a hard, green, blue, or white stone from which ornaments are carve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rloom - a possession that has been handed down in a family for several generation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il - not strong, physically wea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ulevard - a wide str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5T03:16:59Z</dcterms:created>
  <dc:creator>Gina Balducci</dc:creator>
  <dc:description/>
  <dc:language>en-US</dc:language>
  <cp:lastModifiedBy>Texas A&amp;M Veterinary Medicine</cp:lastModifiedBy>
  <dcterms:modified xsi:type="dcterms:W3CDTF">2007-10-09T19:19:40Z</dcterms:modified>
  <cp:revision>51</cp:revision>
  <dc:subject/>
  <dc:title>1. Choose the complete subject and underline the simple subject.                                   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5000000000001023620</vt:lpwstr>
  </property>
</Properties>
</file>