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928BA-6C65-45D5-BC7A-EFFEACAEC8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4EA13-70ED-49B9-B7AE-C227724146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81857-2FEB-4075-A95D-EB2372A959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FF96F-C022-4F96-AA1C-B742328B6A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38317-B10B-480A-94FE-BDFEF258B4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64CCA-6343-42D7-A81B-7539C65137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9739A-D43F-4289-810E-CFE1C62E48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743D4-A2FE-4346-8C9B-AF798FF5B5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32380-61CC-4257-8831-D91A6FBFFE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4D22C-3D87-4826-985C-724E6940E0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45E05-C28C-423A-93A3-FDF4F620A9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1151F-FB5F-4E2D-AD8B-3656FCB778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85C5A-F4D0-4AF0-9918-A78B383E9E91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Remember that a decimal is a fractional number :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it is a part of something who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6D48C-D624-49AA-8702-149D98BE44E5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 = 0.44444). 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1000th place (e.g. 0.4, 0.44, 0.444).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.4444  (part in green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048120" y="5105520"/>
            <a:ext cx="2982960" cy="2000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D0537-F64F-4AEB-B9B6-45E68FC85694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21Z</dcterms:modified>
  <cp:revision>208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e01000000000001023620</vt:lpwstr>
  </property>
</Properties>
</file>