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EF69C-03C0-49A2-804F-590E495D54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FAE2-41CE-4864-AC92-6B9434333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F784-536E-4701-A4E5-80D188F81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B908-212C-409D-A762-C41F69EFE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CFDE-4AD3-4711-BDE2-C7A133AEA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771A-5442-4233-A197-E3A68DD09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B293-7400-450D-8DEB-13AED48C4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2FC6-B660-4A3D-8151-F472EACB4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9DE9-A998-4C04-99A6-A83612D55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C03E-D367-4C2B-BA8A-4640C8789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AA80-A11C-4DD5-95C9-F4BEAD4C7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7B40-B7D9-4C12-B825-7783F040C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EB8F-422D-4B27-9E10-711812AFC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46BA4-57B7-42F1-9F21-68C45284AB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Vince Hardy</cp:lastModifiedBy>
  <cp:lastPrinted>2002-01-04T15:57:18Z</cp:lastPrinted>
  <dcterms:modified xsi:type="dcterms:W3CDTF">2007-01-12T21:47:28Z</dcterms:modified>
  <cp:revision>29</cp:revision>
  <dc:subject/>
  <dc:title>Sensory Detail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803000000000001023620</vt:lpwstr>
  </property>
</Properties>
</file>