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3.gif" ContentType="image/gif"/>
  <Override PartName="/ppt/media/image21.jpeg" ContentType="image/jpeg"/>
  <Override PartName="/ppt/media/image16.png" ContentType="image/png"/>
  <Override PartName="/ppt/media/image19.gif" ContentType="image/gif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EF55-D34C-4C57-8A0B-8B89C1199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92E8-D3B7-416D-9777-5117CC4E0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0746-EF74-4F9E-BD71-432A5F260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8AC9-7612-42AF-B44F-33D57A25F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42C4-1D54-4225-9BB2-CE9203C6B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3D63-7F9B-4680-A870-05979936B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D4EF-061B-424B-B0EF-7DBBDC3C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FF184-65A7-432B-A2D1-6B4BE2DE0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1BEF-14F4-498F-A062-AA52AB270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297F-AFF0-4A9F-B15A-CA988B4B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5868-5DEF-417E-AE5A-40E9BAD1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20DA-43CE-4561-8095-CD79B2CA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1960-D26D-4E79-ACCC-9D3B8274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BCE6-50C8-42E7-BBCF-B65732A4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41F6-CEB6-43CE-B531-5C62B5F6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409E7-1C29-4795-8475-806DE602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5833-8D16-4925-B25F-C7D331FE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D437-B396-496E-AE59-86C73C587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D375-CB5A-4562-9D6D-F5075419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BA24-14D6-43FA-851E-6563687E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295F-0E7E-48E1-B874-5C027CB65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21AD-67F1-4367-862C-85ED814A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0BE5-FEF9-4956-A50B-3045F642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9F55-A70D-4AB3-8120-7BA1C1F2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089A-8DC1-405A-B82E-743765BF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0397F-AFA5-46CC-B3B9-838FF7223C4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0980-6BA7-4FEF-8732-F6E1BF52B4E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-296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0" t="0" r="-17" b="272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0" t="0" r="-17" b="78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0" t="0" r="-139" b="-27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0" t="0" r="-109" b="143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0" t="0" r="0" b="-63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9000000000001023620</vt:lpwstr>
  </property>
</Properties>
</file>