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9780E-ED31-48D4-8474-01BA3E280B59}" type="slidenum"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H)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9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ing how well own writing achieves purpos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H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F2F30-ACFB-43FB-B3D5-BDFEDE3A0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E0086-44FA-4260-8FE3-2548000C1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0F9FE-D8D0-478D-9424-8016016E8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F5FC8-A198-43B6-A2A2-8D31D6CD3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21A3A-7F63-414C-8C7E-BC18D8763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868FE-F24A-4567-8402-A210C7DEE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03D06-B801-4E0D-AF0A-38B8CA2B7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9FF3A-A5E3-464A-AB15-97C0CBBC0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E6FD1-F4FF-4605-B40E-9589C049A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E7A9F-4499-4960-8B73-DC7D99536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6A96C-AA58-4D52-8B6E-19BBAB128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7BA21-6C37-4F1D-B7B5-2A7603144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F342D-198E-4AE7-94E1-0248C71DDB0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formative Essa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 informative essay seeks to inform the reader about something or to tell the reader how to do someth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InfoEssPeople" descr=""/>
          <p:cNvPicPr/>
          <p:nvPr/>
        </p:nvPicPr>
        <p:blipFill>
          <a:blip r:embed="rId2"/>
          <a:stretch/>
        </p:blipFill>
        <p:spPr>
          <a:xfrm>
            <a:off x="5791320" y="2133720"/>
            <a:ext cx="220644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efore You Begi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do you want your reader to know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s your topic interesting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o is your audienc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s your topic be thoroughly researched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will you organize your paper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rganization of the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formative Essa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introduction should state the topic and the three main subpoints on which you will focu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body will consist of at least three paragraphs that elaborate on the subpoint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conclusion restates the main topic and subpoints and provides the audience with a sense of closur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0T15:46:56Z</dcterms:created>
  <dc:creator>Gina Balducci</dc:creator>
  <dc:description/>
  <dc:language>en-US</dc:language>
  <cp:lastModifiedBy>Vince Hardy</cp:lastModifiedBy>
  <dcterms:modified xsi:type="dcterms:W3CDTF">2007-01-12T21:45:01Z</dcterms:modified>
  <cp:revision>15</cp:revision>
  <dc:subject/>
  <dc:title>Informative Essay</dc:title>
</cp:coreProperties>
</file>