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08F9-7659-4A54-AE75-68DF550F2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C3649-F920-48A5-A283-EBE62A133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A519-C1D8-48FA-AE97-F6FFF0127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191DA-5C84-49CC-B02F-DCD5A7189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8FDB5-6669-474F-999A-2652F55FC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10651-8334-41C9-B4B9-347A378E7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5E781-1FA4-49A8-82CB-D61EA1665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54714-EB81-4D70-822A-64EA40CDB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D1A2D-3559-4B5B-92EC-F17A68D27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B030E-1FA4-4918-BFD2-8E52A3A45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BD867-BCC6-4D67-89AF-481BF9496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0D1FF-8410-43B2-A876-9DC5353A7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7DA46-FFC3-4B94-BDCA-4A6BF0780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02A0-BE0E-491B-9B6C-073207D70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College of Veterinary Medicine</cp:lastModifiedBy>
  <dcterms:modified xsi:type="dcterms:W3CDTF">2007-07-31T14:12:04Z</dcterms:modified>
  <cp:revision>157</cp:revision>
  <dc:subject/>
  <dc:title>PowerPoint Presentation</dc:title>
</cp:coreProperties>
</file>