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8C496-0CE0-4611-B3F0-6803AA1A92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8266-33F8-41B9-B39B-6616D16CF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93B2-E648-43F5-B444-DAD156505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8EC8-DF6E-4275-8241-2DFBCAE58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240E-C63C-417A-BF3F-048F9F8C2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3845-3B0F-41F6-B53A-46BFFEFD0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5760-CE9C-469C-BF37-1B07C2E7B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9607-868E-4857-91CD-C3E55A962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1502-BA34-4387-A9F6-1029429E9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1E85-1671-43AA-B38E-C910D60A3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32EC-080B-41A9-9631-C96BFC09F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D8B3-ADE9-4A8B-AD51-60B875AEE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83D3-E3FE-4064-973F-6D29F612E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A0D9E-7569-4580-9E1D-539BB6E826B3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ljlab</cp:lastModifiedBy>
  <dcterms:modified xsi:type="dcterms:W3CDTF">2003-09-11T17:16:25Z</dcterms:modified>
  <cp:revision>24</cp:revision>
  <dc:subject/>
  <dc:title>To Sum It All Up…</dc:title>
</cp:coreProperties>
</file>