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14ECA5-07C1-424D-B668-1F47735DEF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2C19C8-68F5-4E13-974B-C61F19D40F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202605-AE8C-4BF6-8D9F-2D5086F567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0BA6BA-201E-4142-ACA1-A3F0C94DCC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7CDB07-1B46-4400-AF0A-F667FB4DD3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1AEEA5-0FD5-41E1-BDBC-5024D95C79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DE44F4-F753-4505-9573-BABC23AF2C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C3558C-5F94-4C6F-8858-1A261C7241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6FE3A7-2BC8-4915-90D7-A42AB43104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96A581-5B01-490E-86A7-7668311E23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538AD6-54B7-4B32-A6D2-C0FC6774B0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037357-4602-413A-AA87-9111875B88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B8E81-0CA8-40EF-AA86-0A7407B2CFE8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Decimals to Perc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67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Remember that a decimal is a fractional number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en it is written as a PERCENT, the decimal number is the part and 100 is always the whole.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o the following steps to convert a decimal to a percent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B53BDA-2A25-4CAC-9764-17F10F8F6E43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Decimals to Perc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4567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or example: Convert 0.83 to a percen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) Multiply the decimal by 100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(e.g. 0.83 x 100 = 83)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) Add a percent sign after the answer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(e.g. 83%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.00 or 100%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.83 or 83%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( whole in blue)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(part in green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2797200" y="4724280"/>
            <a:ext cx="3451320" cy="1463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BCE95F-E8A7-4611-93A6-E52196ED744A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7:09Z</dcterms:modified>
  <cp:revision>211</cp:revision>
  <dc:subject/>
  <dc:title>VTPP 423 - PHYSIOLOGY</dc:title>
</cp:coreProperties>
</file>