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7.jpeg" ContentType="image/jpeg"/>
  <Override PartName="/ppt/media/image5.wmf" ContentType="image/x-wmf"/>
  <Override PartName="/ppt/media/image6.jpeg" ContentType="image/jpeg"/>
  <Override PartName="/ppt/media/image12.jpeg" ContentType="image/jpeg"/>
  <Override PartName="/ppt/media/image13.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FD6B-E9EE-45CE-9DCD-77E42F9E6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a:t>
            </a:r>
            <a:r>
              <a:rPr b="0" lang="en-US" sz="1200" spc="-1" strike="noStrike">
                <a:solidFill>
                  <a:srgbClr val="000000"/>
                </a:solidFill>
                <a:latin typeface="Arial"/>
              </a:rPr>
              <a:t>: When the smaller breathing ducts like the bronchioles constrict (get narrower), much less air can move through them.  In fact, to get enough air, an asthmatic may have to forcibly exhale and inhale and breathe rapidly in order to get enough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s</a:t>
            </a:r>
            <a:r>
              <a:rPr b="0" lang="en-US" sz="1200" spc="-1" strike="noStrike">
                <a:solidFill>
                  <a:srgbClr val="000000"/>
                </a:solidFill>
                <a:latin typeface="Arial"/>
              </a:rPr>
              <a:t>: To get narrower, something must squeeze them down.  Circular muscle surrounding the bronchioles does th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ower airways carry less air.  Expelling air from the lungs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the most important thing is staying away from irritants and things to which one is allergic.</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asthma and its treatment, see our integrated curriculum adventure story on China (6</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Web site devoted to smog in the Houston/Galveston area is found at http://www.ghasp.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ow the students should realize that irritants in the air were the likely source of the problems in the story.  Testing such a hypothesis could require the following step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ther evidence that the air is polluted with irritant chemic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peat the situation: that is, move the rabbits and Jace back and forth between home and Houston to see if the same problems recur.  This kind of evidence is only circumstantial (correlational), however.  It does not prove a causal relationshi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ke samples of Houston air and air from other presumably uncontaminated places.  Extract the solids and chemicals in the various air samples and in a neutral environment, expose normal rabbit eyes to the extracts from the sampled sources.  You could do a similar thing with Jace or other asthma-prone children (symptom free at the initial time of test), but that might be too risky a t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Communicate valid conclu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19657-D5BD-4C36-8013-BD08776D8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542FF-4009-41B2-9CD9-BBD76A39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DBD60-84FB-4C9E-8E98-24B418325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6EF74-A10A-43C8-8E07-314E73884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AB510-8C76-40DE-AB38-69308B5A7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B281-22A2-4F4D-87BC-E8BCD0D36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1DFED-6092-48D1-BD03-93B1C316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5FB10-8AE1-4586-9683-446F6364D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B6C07-D021-4FC1-BC56-31C77155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A6AC-5B55-44FB-9498-7F061BC3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87200-CDD9-49A7-9C87-275CF8EF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F53B-8946-4A16-9768-F94594115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0BD1-7178-4AA7-9238-B858A6FBA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6" name=""/>
          <p:cNvGrpSpPr/>
          <p:nvPr/>
        </p:nvGrpSpPr>
        <p:grpSpPr>
          <a:xfrm>
            <a:off x="304920" y="304920"/>
            <a:ext cx="8545320" cy="6149520"/>
            <a:chOff x="304920" y="304920"/>
            <a:chExt cx="8545320" cy="6149520"/>
          </a:xfrm>
        </p:grpSpPr>
        <p:pic>
          <p:nvPicPr>
            <p:cNvPr id="207" name="" descr=""/>
            <p:cNvPicPr/>
            <p:nvPr/>
          </p:nvPicPr>
          <p:blipFill>
            <a:blip r:embed="rId2"/>
            <a:stretch/>
          </p:blipFill>
          <p:spPr>
            <a:xfrm>
              <a:off x="380880" y="1909800"/>
              <a:ext cx="1371600" cy="1371600"/>
            </a:xfrm>
            <a:prstGeom prst="rect">
              <a:avLst/>
            </a:prstGeom>
            <a:ln w="0">
              <a:noFill/>
            </a:ln>
          </p:spPr>
        </p:pic>
        <p:pic>
          <p:nvPicPr>
            <p:cNvPr id="208" name="" descr=""/>
            <p:cNvPicPr/>
            <p:nvPr/>
          </p:nvPicPr>
          <p:blipFill>
            <a:blip r:embed="rId3"/>
            <a:stretch/>
          </p:blipFill>
          <p:spPr>
            <a:xfrm>
              <a:off x="380880" y="3433680"/>
              <a:ext cx="1371600" cy="1382760"/>
            </a:xfrm>
            <a:prstGeom prst="rect">
              <a:avLst/>
            </a:prstGeom>
            <a:ln w="0">
              <a:noFill/>
            </a:ln>
          </p:spPr>
        </p:pic>
        <p:pic>
          <p:nvPicPr>
            <p:cNvPr id="209" name="" descr=""/>
            <p:cNvPicPr/>
            <p:nvPr/>
          </p:nvPicPr>
          <p:blipFill>
            <a:blip r:embed="rId4"/>
            <a:stretch/>
          </p:blipFill>
          <p:spPr>
            <a:xfrm>
              <a:off x="380880" y="4957920"/>
              <a:ext cx="1359000" cy="1371600"/>
            </a:xfrm>
            <a:prstGeom prst="rect">
              <a:avLst/>
            </a:prstGeom>
            <a:ln w="0">
              <a:noFill/>
            </a:ln>
          </p:spPr>
        </p:pic>
        <p:sp>
          <p:nvSpPr>
            <p:cNvPr id="21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211" name="" descr=""/>
            <p:cNvPicPr/>
            <p:nvPr/>
          </p:nvPicPr>
          <p:blipFill>
            <a:blip r:embed="rId5"/>
            <a:stretch/>
          </p:blipFill>
          <p:spPr>
            <a:xfrm>
              <a:off x="4724280" y="3451320"/>
              <a:ext cx="1371600" cy="1382760"/>
            </a:xfrm>
            <a:prstGeom prst="rect">
              <a:avLst/>
            </a:prstGeom>
            <a:ln w="0">
              <a:noFill/>
            </a:ln>
          </p:spPr>
        </p:pic>
        <p:pic>
          <p:nvPicPr>
            <p:cNvPr id="212" name="" descr=""/>
            <p:cNvPicPr/>
            <p:nvPr/>
          </p:nvPicPr>
          <p:blipFill>
            <a:blip r:embed="rId6"/>
            <a:stretch/>
          </p:blipFill>
          <p:spPr>
            <a:xfrm>
              <a:off x="4724280" y="4970520"/>
              <a:ext cx="1371600" cy="1371600"/>
            </a:xfrm>
            <a:prstGeom prst="rect">
              <a:avLst/>
            </a:prstGeom>
            <a:ln w="0">
              <a:noFill/>
            </a:ln>
          </p:spPr>
        </p:pic>
        <p:grpSp>
          <p:nvGrpSpPr>
            <p:cNvPr id="213" name=""/>
            <p:cNvGrpSpPr/>
            <p:nvPr/>
          </p:nvGrpSpPr>
          <p:grpSpPr>
            <a:xfrm>
              <a:off x="4643280" y="1928880"/>
              <a:ext cx="1546560" cy="1371600"/>
              <a:chOff x="4643280" y="1928880"/>
              <a:chExt cx="1546560" cy="1371600"/>
            </a:xfrm>
          </p:grpSpPr>
          <p:sp>
            <p:nvSpPr>
              <p:cNvPr id="21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5" name=""/>
              <p:cNvGraphicFramePr/>
              <p:nvPr/>
            </p:nvGraphicFramePr>
            <p:xfrm>
              <a:off x="4643280" y="2117880"/>
              <a:ext cx="1546560" cy="1012680"/>
            </p:xfrm>
            <a:graphic>
              <a:graphicData uri="http://schemas.openxmlformats.org/presentationml/2006/ole">
                <p:oleObj r:id="rId7" spid="">
                  <p:embed/>
                  <p:pic>
                    <p:nvPicPr>
                      <p:cNvPr id="21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1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1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955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breathing work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symptoms and causes of asthm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9040" y="1292400"/>
            <a:ext cx="4392720" cy="509256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enters the mouth or nos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moves down the windpipe (trachea) which divides into smaller airways (bronchi, bronchiol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ends in blind sacs surrounded by tiny blood vessels (capillaries) where gas exchange occu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to gas exchange if the bronchioles constrict?</a:t>
            </a:r>
            <a:endParaRPr b="0" lang="en-US" sz="2800" spc="-1" strike="noStrike">
              <a:solidFill>
                <a:srgbClr val="000000"/>
              </a:solidFill>
              <a:latin typeface="Times New Roman"/>
            </a:endParaRPr>
          </a:p>
        </p:txBody>
      </p:sp>
      <p:sp>
        <p:nvSpPr>
          <p:cNvPr id="63" name=""/>
          <p:cNvSpPr/>
          <p:nvPr/>
        </p:nvSpPr>
        <p:spPr>
          <a:xfrm>
            <a:off x="5646600" y="1306440"/>
            <a:ext cx="3233880" cy="5261040"/>
          </a:xfrm>
          <a:custGeom>
            <a:avLst/>
            <a:gdLst/>
            <a:ahLst/>
            <a:rect l="l" t="t" r="r" b="b"/>
            <a:pathLst>
              <a:path w="2286" h="3538">
                <a:moveTo>
                  <a:pt x="1530" y="22"/>
                </a:moveTo>
                <a:cubicBezTo>
                  <a:pt x="1591" y="58"/>
                  <a:pt x="1618" y="97"/>
                  <a:pt x="1674" y="142"/>
                </a:cubicBezTo>
                <a:cubicBezTo>
                  <a:pt x="1724" y="221"/>
                  <a:pt x="1772" y="297"/>
                  <a:pt x="1830" y="370"/>
                </a:cubicBezTo>
                <a:cubicBezTo>
                  <a:pt x="1853" y="440"/>
                  <a:pt x="1856" y="477"/>
                  <a:pt x="1902" y="538"/>
                </a:cubicBezTo>
                <a:cubicBezTo>
                  <a:pt x="1925" y="608"/>
                  <a:pt x="1955" y="676"/>
                  <a:pt x="1986" y="742"/>
                </a:cubicBezTo>
                <a:cubicBezTo>
                  <a:pt x="2001" y="774"/>
                  <a:pt x="2025" y="803"/>
                  <a:pt x="2034" y="838"/>
                </a:cubicBezTo>
                <a:cubicBezTo>
                  <a:pt x="2056" y="928"/>
                  <a:pt x="2101" y="1014"/>
                  <a:pt x="2130" y="1102"/>
                </a:cubicBezTo>
                <a:cubicBezTo>
                  <a:pt x="2165" y="1207"/>
                  <a:pt x="2154" y="1125"/>
                  <a:pt x="2178" y="1198"/>
                </a:cubicBezTo>
                <a:cubicBezTo>
                  <a:pt x="2187" y="1261"/>
                  <a:pt x="2202" y="1316"/>
                  <a:pt x="2214" y="1378"/>
                </a:cubicBezTo>
                <a:cubicBezTo>
                  <a:pt x="2226" y="1538"/>
                  <a:pt x="2227" y="1699"/>
                  <a:pt x="2250" y="1858"/>
                </a:cubicBezTo>
                <a:cubicBezTo>
                  <a:pt x="2258" y="2154"/>
                  <a:pt x="2276" y="2438"/>
                  <a:pt x="2286" y="2734"/>
                </a:cubicBezTo>
                <a:cubicBezTo>
                  <a:pt x="2282" y="2854"/>
                  <a:pt x="2281" y="2974"/>
                  <a:pt x="2274" y="3094"/>
                </a:cubicBezTo>
                <a:cubicBezTo>
                  <a:pt x="2274" y="3097"/>
                  <a:pt x="2258" y="3200"/>
                  <a:pt x="2250" y="3214"/>
                </a:cubicBezTo>
                <a:cubicBezTo>
                  <a:pt x="2235" y="3241"/>
                  <a:pt x="2214" y="3265"/>
                  <a:pt x="2190" y="3286"/>
                </a:cubicBezTo>
                <a:cubicBezTo>
                  <a:pt x="2168" y="3305"/>
                  <a:pt x="2118" y="3334"/>
                  <a:pt x="2118" y="3334"/>
                </a:cubicBezTo>
                <a:cubicBezTo>
                  <a:pt x="2072" y="3403"/>
                  <a:pt x="2057" y="3361"/>
                  <a:pt x="1998" y="3394"/>
                </a:cubicBezTo>
                <a:cubicBezTo>
                  <a:pt x="1973" y="3408"/>
                  <a:pt x="1950" y="3426"/>
                  <a:pt x="1926" y="3442"/>
                </a:cubicBezTo>
                <a:cubicBezTo>
                  <a:pt x="1885" y="3469"/>
                  <a:pt x="1830" y="3466"/>
                  <a:pt x="1782" y="3478"/>
                </a:cubicBezTo>
                <a:cubicBezTo>
                  <a:pt x="1745" y="3487"/>
                  <a:pt x="1712" y="3510"/>
                  <a:pt x="1674" y="3514"/>
                </a:cubicBezTo>
                <a:cubicBezTo>
                  <a:pt x="1542" y="3529"/>
                  <a:pt x="1602" y="3520"/>
                  <a:pt x="1494" y="3538"/>
                </a:cubicBezTo>
                <a:cubicBezTo>
                  <a:pt x="1302" y="3534"/>
                  <a:pt x="1110" y="3533"/>
                  <a:pt x="918" y="3526"/>
                </a:cubicBezTo>
                <a:cubicBezTo>
                  <a:pt x="732" y="3519"/>
                  <a:pt x="524" y="3419"/>
                  <a:pt x="378" y="3310"/>
                </a:cubicBezTo>
                <a:cubicBezTo>
                  <a:pt x="323" y="3268"/>
                  <a:pt x="301" y="3215"/>
                  <a:pt x="246" y="3178"/>
                </a:cubicBezTo>
                <a:cubicBezTo>
                  <a:pt x="227" y="3121"/>
                  <a:pt x="186" y="3077"/>
                  <a:pt x="162" y="3022"/>
                </a:cubicBezTo>
                <a:cubicBezTo>
                  <a:pt x="122" y="2932"/>
                  <a:pt x="110" y="2835"/>
                  <a:pt x="66" y="2746"/>
                </a:cubicBezTo>
                <a:cubicBezTo>
                  <a:pt x="57" y="2653"/>
                  <a:pt x="43" y="2562"/>
                  <a:pt x="30" y="2470"/>
                </a:cubicBezTo>
                <a:cubicBezTo>
                  <a:pt x="38" y="1839"/>
                  <a:pt x="0" y="1761"/>
                  <a:pt x="66" y="1366"/>
                </a:cubicBezTo>
                <a:cubicBezTo>
                  <a:pt x="73" y="1237"/>
                  <a:pt x="75" y="1128"/>
                  <a:pt x="102" y="1006"/>
                </a:cubicBezTo>
                <a:cubicBezTo>
                  <a:pt x="104" y="996"/>
                  <a:pt x="119" y="935"/>
                  <a:pt x="126" y="922"/>
                </a:cubicBezTo>
                <a:cubicBezTo>
                  <a:pt x="140" y="897"/>
                  <a:pt x="174" y="850"/>
                  <a:pt x="174" y="850"/>
                </a:cubicBezTo>
                <a:cubicBezTo>
                  <a:pt x="192" y="777"/>
                  <a:pt x="240" y="720"/>
                  <a:pt x="282" y="658"/>
                </a:cubicBezTo>
                <a:cubicBezTo>
                  <a:pt x="289" y="647"/>
                  <a:pt x="287" y="633"/>
                  <a:pt x="294" y="622"/>
                </a:cubicBezTo>
                <a:cubicBezTo>
                  <a:pt x="312" y="594"/>
                  <a:pt x="339" y="580"/>
                  <a:pt x="366" y="562"/>
                </a:cubicBezTo>
                <a:cubicBezTo>
                  <a:pt x="400" y="511"/>
                  <a:pt x="448" y="487"/>
                  <a:pt x="498" y="454"/>
                </a:cubicBezTo>
                <a:cubicBezTo>
                  <a:pt x="544" y="423"/>
                  <a:pt x="549" y="401"/>
                  <a:pt x="606" y="382"/>
                </a:cubicBezTo>
                <a:cubicBezTo>
                  <a:pt x="636" y="337"/>
                  <a:pt x="671" y="329"/>
                  <a:pt x="714" y="298"/>
                </a:cubicBezTo>
                <a:cubicBezTo>
                  <a:pt x="756" y="268"/>
                  <a:pt x="786" y="242"/>
                  <a:pt x="834" y="226"/>
                </a:cubicBezTo>
                <a:cubicBezTo>
                  <a:pt x="888" y="172"/>
                  <a:pt x="963" y="113"/>
                  <a:pt x="1038" y="94"/>
                </a:cubicBezTo>
                <a:cubicBezTo>
                  <a:pt x="1180" y="0"/>
                  <a:pt x="1373" y="22"/>
                  <a:pt x="1530" y="22"/>
                </a:cubicBezTo>
                <a:close/>
              </a:path>
            </a:pathLst>
          </a:custGeom>
          <a:solidFill>
            <a:srgbClr val="ff9999"/>
          </a:solidFill>
          <a:ln w="7632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78440" y="395280"/>
            <a:ext cx="2881440" cy="5086440"/>
          </a:xfrm>
          <a:custGeom>
            <a:avLst/>
            <a:gdLst/>
            <a:ahLst/>
            <a:rect l="l" t="t" r="r" b="b"/>
            <a:pathLst>
              <a:path w="2052" h="3622">
                <a:moveTo>
                  <a:pt x="1908" y="0"/>
                </a:moveTo>
                <a:cubicBezTo>
                  <a:pt x="1891" y="51"/>
                  <a:pt x="1874" y="82"/>
                  <a:pt x="1836" y="120"/>
                </a:cubicBezTo>
                <a:cubicBezTo>
                  <a:pt x="1811" y="194"/>
                  <a:pt x="1786" y="220"/>
                  <a:pt x="1752" y="288"/>
                </a:cubicBezTo>
                <a:cubicBezTo>
                  <a:pt x="1723" y="431"/>
                  <a:pt x="1677" y="551"/>
                  <a:pt x="1596" y="672"/>
                </a:cubicBezTo>
                <a:cubicBezTo>
                  <a:pt x="1569" y="712"/>
                  <a:pt x="1559" y="745"/>
                  <a:pt x="1524" y="780"/>
                </a:cubicBezTo>
                <a:cubicBezTo>
                  <a:pt x="1520" y="796"/>
                  <a:pt x="1521" y="814"/>
                  <a:pt x="1512" y="828"/>
                </a:cubicBezTo>
                <a:cubicBezTo>
                  <a:pt x="1504" y="840"/>
                  <a:pt x="1487" y="843"/>
                  <a:pt x="1476" y="852"/>
                </a:cubicBezTo>
                <a:cubicBezTo>
                  <a:pt x="1384" y="929"/>
                  <a:pt x="1493" y="852"/>
                  <a:pt x="1404" y="912"/>
                </a:cubicBezTo>
                <a:cubicBezTo>
                  <a:pt x="1378" y="991"/>
                  <a:pt x="1414" y="913"/>
                  <a:pt x="1356" y="960"/>
                </a:cubicBezTo>
                <a:cubicBezTo>
                  <a:pt x="1345" y="969"/>
                  <a:pt x="1343" y="987"/>
                  <a:pt x="1332" y="996"/>
                </a:cubicBezTo>
                <a:cubicBezTo>
                  <a:pt x="1310" y="1015"/>
                  <a:pt x="1260" y="1044"/>
                  <a:pt x="1260" y="1044"/>
                </a:cubicBezTo>
                <a:cubicBezTo>
                  <a:pt x="1228" y="1092"/>
                  <a:pt x="1193" y="1147"/>
                  <a:pt x="1152" y="1188"/>
                </a:cubicBezTo>
                <a:cubicBezTo>
                  <a:pt x="1113" y="1227"/>
                  <a:pt x="1053" y="1228"/>
                  <a:pt x="1008" y="1260"/>
                </a:cubicBezTo>
                <a:cubicBezTo>
                  <a:pt x="884" y="1349"/>
                  <a:pt x="1054" y="1234"/>
                  <a:pt x="888" y="1344"/>
                </a:cubicBezTo>
                <a:cubicBezTo>
                  <a:pt x="876" y="1352"/>
                  <a:pt x="852" y="1368"/>
                  <a:pt x="852" y="1368"/>
                </a:cubicBezTo>
                <a:cubicBezTo>
                  <a:pt x="780" y="1364"/>
                  <a:pt x="705" y="1376"/>
                  <a:pt x="636" y="1356"/>
                </a:cubicBezTo>
                <a:cubicBezTo>
                  <a:pt x="603" y="1346"/>
                  <a:pt x="564" y="1284"/>
                  <a:pt x="564" y="1284"/>
                </a:cubicBezTo>
                <a:cubicBezTo>
                  <a:pt x="531" y="1184"/>
                  <a:pt x="566" y="1025"/>
                  <a:pt x="444" y="984"/>
                </a:cubicBezTo>
                <a:cubicBezTo>
                  <a:pt x="346" y="1130"/>
                  <a:pt x="500" y="1275"/>
                  <a:pt x="396" y="1452"/>
                </a:cubicBezTo>
                <a:cubicBezTo>
                  <a:pt x="357" y="1518"/>
                  <a:pt x="244" y="1460"/>
                  <a:pt x="168" y="1464"/>
                </a:cubicBezTo>
                <a:cubicBezTo>
                  <a:pt x="83" y="1492"/>
                  <a:pt x="98" y="1503"/>
                  <a:pt x="60" y="1572"/>
                </a:cubicBezTo>
                <a:cubicBezTo>
                  <a:pt x="46" y="1597"/>
                  <a:pt x="12" y="1644"/>
                  <a:pt x="12" y="1644"/>
                </a:cubicBezTo>
                <a:cubicBezTo>
                  <a:pt x="16" y="1668"/>
                  <a:pt x="0" y="1710"/>
                  <a:pt x="24" y="1716"/>
                </a:cubicBezTo>
                <a:cubicBezTo>
                  <a:pt x="131" y="1743"/>
                  <a:pt x="267" y="1718"/>
                  <a:pt x="360" y="1656"/>
                </a:cubicBezTo>
                <a:cubicBezTo>
                  <a:pt x="400" y="1660"/>
                  <a:pt x="453" y="1638"/>
                  <a:pt x="480" y="1668"/>
                </a:cubicBezTo>
                <a:cubicBezTo>
                  <a:pt x="504" y="1695"/>
                  <a:pt x="478" y="1741"/>
                  <a:pt x="468" y="1776"/>
                </a:cubicBezTo>
                <a:cubicBezTo>
                  <a:pt x="442" y="1865"/>
                  <a:pt x="377" y="1940"/>
                  <a:pt x="348" y="2028"/>
                </a:cubicBezTo>
                <a:cubicBezTo>
                  <a:pt x="368" y="2089"/>
                  <a:pt x="352" y="2080"/>
                  <a:pt x="456" y="2052"/>
                </a:cubicBezTo>
                <a:cubicBezTo>
                  <a:pt x="512" y="2037"/>
                  <a:pt x="542" y="1963"/>
                  <a:pt x="588" y="1932"/>
                </a:cubicBezTo>
                <a:cubicBezTo>
                  <a:pt x="592" y="1920"/>
                  <a:pt x="591" y="1905"/>
                  <a:pt x="600" y="1896"/>
                </a:cubicBezTo>
                <a:cubicBezTo>
                  <a:pt x="620" y="1876"/>
                  <a:pt x="728" y="1698"/>
                  <a:pt x="728" y="1698"/>
                </a:cubicBezTo>
                <a:cubicBezTo>
                  <a:pt x="771" y="1568"/>
                  <a:pt x="1036" y="1513"/>
                  <a:pt x="1136" y="1506"/>
                </a:cubicBezTo>
                <a:cubicBezTo>
                  <a:pt x="1261" y="1485"/>
                  <a:pt x="1242" y="1428"/>
                  <a:pt x="1364" y="1398"/>
                </a:cubicBezTo>
                <a:cubicBezTo>
                  <a:pt x="1340" y="1540"/>
                  <a:pt x="1331" y="1916"/>
                  <a:pt x="1260" y="2040"/>
                </a:cubicBezTo>
                <a:cubicBezTo>
                  <a:pt x="1251" y="2056"/>
                  <a:pt x="1247" y="2074"/>
                  <a:pt x="1236" y="2088"/>
                </a:cubicBezTo>
                <a:cubicBezTo>
                  <a:pt x="1211" y="2118"/>
                  <a:pt x="1119" y="2176"/>
                  <a:pt x="1092" y="2196"/>
                </a:cubicBezTo>
                <a:cubicBezTo>
                  <a:pt x="1034" y="2240"/>
                  <a:pt x="1063" y="2226"/>
                  <a:pt x="1008" y="2244"/>
                </a:cubicBezTo>
                <a:cubicBezTo>
                  <a:pt x="979" y="2288"/>
                  <a:pt x="943" y="2299"/>
                  <a:pt x="900" y="2328"/>
                </a:cubicBezTo>
                <a:cubicBezTo>
                  <a:pt x="892" y="2340"/>
                  <a:pt x="888" y="2356"/>
                  <a:pt x="876" y="2364"/>
                </a:cubicBezTo>
                <a:cubicBezTo>
                  <a:pt x="845" y="2383"/>
                  <a:pt x="768" y="2404"/>
                  <a:pt x="732" y="2424"/>
                </a:cubicBezTo>
                <a:cubicBezTo>
                  <a:pt x="645" y="2472"/>
                  <a:pt x="587" y="2550"/>
                  <a:pt x="528" y="2628"/>
                </a:cubicBezTo>
                <a:cubicBezTo>
                  <a:pt x="503" y="2702"/>
                  <a:pt x="511" y="2770"/>
                  <a:pt x="588" y="2796"/>
                </a:cubicBezTo>
                <a:cubicBezTo>
                  <a:pt x="683" y="2777"/>
                  <a:pt x="657" y="2775"/>
                  <a:pt x="720" y="2712"/>
                </a:cubicBezTo>
                <a:cubicBezTo>
                  <a:pt x="749" y="2683"/>
                  <a:pt x="794" y="2674"/>
                  <a:pt x="828" y="2652"/>
                </a:cubicBezTo>
                <a:cubicBezTo>
                  <a:pt x="856" y="2611"/>
                  <a:pt x="883" y="2584"/>
                  <a:pt x="924" y="2556"/>
                </a:cubicBezTo>
                <a:cubicBezTo>
                  <a:pt x="967" y="2685"/>
                  <a:pt x="824" y="3003"/>
                  <a:pt x="996" y="3060"/>
                </a:cubicBezTo>
                <a:cubicBezTo>
                  <a:pt x="1192" y="3044"/>
                  <a:pt x="1158" y="3074"/>
                  <a:pt x="1140" y="2880"/>
                </a:cubicBezTo>
                <a:cubicBezTo>
                  <a:pt x="1148" y="2630"/>
                  <a:pt x="1116" y="2508"/>
                  <a:pt x="1236" y="2328"/>
                </a:cubicBezTo>
                <a:cubicBezTo>
                  <a:pt x="1262" y="2288"/>
                  <a:pt x="1267" y="2259"/>
                  <a:pt x="1308" y="2232"/>
                </a:cubicBezTo>
                <a:cubicBezTo>
                  <a:pt x="1312" y="2220"/>
                  <a:pt x="1311" y="2205"/>
                  <a:pt x="1320" y="2196"/>
                </a:cubicBezTo>
                <a:cubicBezTo>
                  <a:pt x="1340" y="2176"/>
                  <a:pt x="1392" y="2148"/>
                  <a:pt x="1392" y="2148"/>
                </a:cubicBezTo>
                <a:cubicBezTo>
                  <a:pt x="1452" y="2058"/>
                  <a:pt x="1382" y="2172"/>
                  <a:pt x="1428" y="2064"/>
                </a:cubicBezTo>
                <a:cubicBezTo>
                  <a:pt x="1434" y="2051"/>
                  <a:pt x="1446" y="2041"/>
                  <a:pt x="1452" y="2028"/>
                </a:cubicBezTo>
                <a:cubicBezTo>
                  <a:pt x="1452" y="2028"/>
                  <a:pt x="1482" y="1938"/>
                  <a:pt x="1488" y="1920"/>
                </a:cubicBezTo>
                <a:cubicBezTo>
                  <a:pt x="1496" y="1896"/>
                  <a:pt x="1504" y="1872"/>
                  <a:pt x="1512" y="1848"/>
                </a:cubicBezTo>
                <a:cubicBezTo>
                  <a:pt x="1516" y="1836"/>
                  <a:pt x="1532" y="1566"/>
                  <a:pt x="1532" y="1566"/>
                </a:cubicBezTo>
                <a:cubicBezTo>
                  <a:pt x="1568" y="1986"/>
                  <a:pt x="1520" y="2476"/>
                  <a:pt x="1512" y="2808"/>
                </a:cubicBezTo>
                <a:cubicBezTo>
                  <a:pt x="1510" y="2886"/>
                  <a:pt x="1424" y="2983"/>
                  <a:pt x="1392" y="3048"/>
                </a:cubicBezTo>
                <a:cubicBezTo>
                  <a:pt x="1330" y="3173"/>
                  <a:pt x="1277" y="3354"/>
                  <a:pt x="1260" y="3492"/>
                </a:cubicBezTo>
                <a:cubicBezTo>
                  <a:pt x="1275" y="3583"/>
                  <a:pt x="1257" y="3622"/>
                  <a:pt x="1416" y="3552"/>
                </a:cubicBezTo>
                <a:cubicBezTo>
                  <a:pt x="1442" y="3540"/>
                  <a:pt x="1455" y="3507"/>
                  <a:pt x="1464" y="3480"/>
                </a:cubicBezTo>
                <a:cubicBezTo>
                  <a:pt x="1508" y="3349"/>
                  <a:pt x="1438" y="3548"/>
                  <a:pt x="1500" y="3408"/>
                </a:cubicBezTo>
                <a:cubicBezTo>
                  <a:pt x="1522" y="3358"/>
                  <a:pt x="1526" y="3327"/>
                  <a:pt x="1536" y="3276"/>
                </a:cubicBezTo>
                <a:cubicBezTo>
                  <a:pt x="1540" y="3232"/>
                  <a:pt x="1542" y="3188"/>
                  <a:pt x="1548" y="3144"/>
                </a:cubicBezTo>
                <a:cubicBezTo>
                  <a:pt x="1554" y="3104"/>
                  <a:pt x="1572" y="3024"/>
                  <a:pt x="1572" y="3024"/>
                </a:cubicBezTo>
                <a:cubicBezTo>
                  <a:pt x="1592" y="3028"/>
                  <a:pt x="1626" y="3017"/>
                  <a:pt x="1632" y="3036"/>
                </a:cubicBezTo>
                <a:cubicBezTo>
                  <a:pt x="1671" y="3158"/>
                  <a:pt x="1641" y="3293"/>
                  <a:pt x="1656" y="3420"/>
                </a:cubicBezTo>
                <a:cubicBezTo>
                  <a:pt x="1661" y="3467"/>
                  <a:pt x="1740" y="3564"/>
                  <a:pt x="1776" y="3576"/>
                </a:cubicBezTo>
                <a:cubicBezTo>
                  <a:pt x="1800" y="3584"/>
                  <a:pt x="1848" y="3600"/>
                  <a:pt x="1848" y="3600"/>
                </a:cubicBezTo>
                <a:cubicBezTo>
                  <a:pt x="1868" y="3596"/>
                  <a:pt x="1894" y="3602"/>
                  <a:pt x="1908" y="3588"/>
                </a:cubicBezTo>
                <a:cubicBezTo>
                  <a:pt x="1926" y="3570"/>
                  <a:pt x="1932" y="3516"/>
                  <a:pt x="1932" y="3516"/>
                </a:cubicBezTo>
                <a:cubicBezTo>
                  <a:pt x="1928" y="3472"/>
                  <a:pt x="1928" y="3428"/>
                  <a:pt x="1920" y="3384"/>
                </a:cubicBezTo>
                <a:cubicBezTo>
                  <a:pt x="1907" y="3313"/>
                  <a:pt x="1863" y="3262"/>
                  <a:pt x="1824" y="3204"/>
                </a:cubicBezTo>
                <a:cubicBezTo>
                  <a:pt x="1809" y="3182"/>
                  <a:pt x="1803" y="3154"/>
                  <a:pt x="1788" y="3132"/>
                </a:cubicBezTo>
                <a:cubicBezTo>
                  <a:pt x="1764" y="3037"/>
                  <a:pt x="1779" y="3100"/>
                  <a:pt x="1752" y="2940"/>
                </a:cubicBezTo>
                <a:cubicBezTo>
                  <a:pt x="1745" y="2895"/>
                  <a:pt x="1725" y="2853"/>
                  <a:pt x="1716" y="2808"/>
                </a:cubicBezTo>
                <a:cubicBezTo>
                  <a:pt x="1710" y="2184"/>
                  <a:pt x="1860" y="1782"/>
                  <a:pt x="1560" y="1332"/>
                </a:cubicBezTo>
                <a:cubicBezTo>
                  <a:pt x="1515" y="1150"/>
                  <a:pt x="1567" y="923"/>
                  <a:pt x="1728" y="816"/>
                </a:cubicBezTo>
                <a:cubicBezTo>
                  <a:pt x="1736" y="804"/>
                  <a:pt x="1742" y="790"/>
                  <a:pt x="1752" y="780"/>
                </a:cubicBezTo>
                <a:cubicBezTo>
                  <a:pt x="1762" y="770"/>
                  <a:pt x="1779" y="767"/>
                  <a:pt x="1788" y="756"/>
                </a:cubicBezTo>
                <a:cubicBezTo>
                  <a:pt x="1886" y="644"/>
                  <a:pt x="1791" y="714"/>
                  <a:pt x="1872" y="660"/>
                </a:cubicBezTo>
                <a:cubicBezTo>
                  <a:pt x="1928" y="577"/>
                  <a:pt x="1901" y="476"/>
                  <a:pt x="1932" y="384"/>
                </a:cubicBezTo>
                <a:cubicBezTo>
                  <a:pt x="1937" y="370"/>
                  <a:pt x="1950" y="361"/>
                  <a:pt x="1956" y="348"/>
                </a:cubicBezTo>
                <a:cubicBezTo>
                  <a:pt x="1996" y="268"/>
                  <a:pt x="2052" y="190"/>
                  <a:pt x="2052" y="96"/>
                </a:cubicBezTo>
                <a:lnTo>
                  <a:pt x="1908" y="0"/>
                </a:lnTo>
                <a:close/>
              </a:path>
            </a:pathLst>
          </a:custGeom>
          <a:solidFill>
            <a:srgbClr val="bbe0e3"/>
          </a:solidFill>
          <a:ln w="763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5724360" y="1239840"/>
            <a:ext cx="2495880" cy="368280"/>
            <a:chOff x="5724360" y="1239840"/>
            <a:chExt cx="2495880" cy="368280"/>
          </a:xfrm>
        </p:grpSpPr>
        <p:sp>
          <p:nvSpPr>
            <p:cNvPr id="66" name=""/>
            <p:cNvSpPr/>
            <p:nvPr/>
          </p:nvSpPr>
          <p:spPr>
            <a:xfrm>
              <a:off x="5724360" y="1239840"/>
              <a:ext cx="1536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NCHUS</a:t>
              </a:r>
              <a:endParaRPr b="0" lang="en-US" sz="1800" spc="-1" strike="noStrike">
                <a:solidFill>
                  <a:srgbClr val="000000"/>
                </a:solidFill>
                <a:latin typeface="Arial"/>
              </a:endParaRPr>
            </a:p>
          </p:txBody>
        </p:sp>
        <p:sp>
          <p:nvSpPr>
            <p:cNvPr id="67" name=""/>
            <p:cNvSpPr/>
            <p:nvPr/>
          </p:nvSpPr>
          <p:spPr>
            <a:xfrm flipV="1">
              <a:off x="7259760" y="1316160"/>
              <a:ext cx="96048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5039280" y="3760920"/>
            <a:ext cx="2542680" cy="1633320"/>
            <a:chOff x="5039280" y="3760920"/>
            <a:chExt cx="2542680" cy="1633320"/>
          </a:xfrm>
        </p:grpSpPr>
        <p:sp>
          <p:nvSpPr>
            <p:cNvPr id="69" name=""/>
            <p:cNvSpPr/>
            <p:nvPr/>
          </p:nvSpPr>
          <p:spPr>
            <a:xfrm>
              <a:off x="6468840" y="4143240"/>
              <a:ext cx="23040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661080" y="425736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584760" y="3914640"/>
              <a:ext cx="23040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661080" y="406548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853320" y="414324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699240" y="376092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853320" y="376092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005600" y="456552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237440" y="456552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9680" y="4717800"/>
              <a:ext cx="23004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967440" y="4795560"/>
              <a:ext cx="23040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351560" y="4411440"/>
              <a:ext cx="230400" cy="22824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039280" y="5025960"/>
              <a:ext cx="1576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D SACS</a:t>
              </a:r>
              <a:endParaRPr b="0" lang="en-US" sz="1800" spc="-1" strike="noStrike">
                <a:solidFill>
                  <a:srgbClr val="000000"/>
                </a:solidFill>
                <a:latin typeface="Arial"/>
              </a:endParaRPr>
            </a:p>
          </p:txBody>
        </p:sp>
        <p:sp>
          <p:nvSpPr>
            <p:cNvPr id="82" name=""/>
            <p:cNvSpPr/>
            <p:nvPr/>
          </p:nvSpPr>
          <p:spPr>
            <a:xfrm flipV="1">
              <a:off x="6391080" y="4411440"/>
              <a:ext cx="34632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6622920" y="4795560"/>
              <a:ext cx="42228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3.0</a:t>
            </a:r>
            <a:endParaRPr b="0" lang="en-US" sz="1000" spc="-1" strike="noStrike">
              <a:solidFill>
                <a:srgbClr val="000000"/>
              </a:solidFill>
              <a:latin typeface="Arial"/>
            </a:endParaRPr>
          </a:p>
        </p:txBody>
      </p:sp>
      <p:grpSp>
        <p:nvGrpSpPr>
          <p:cNvPr id="85" name=""/>
          <p:cNvGrpSpPr/>
          <p:nvPr/>
        </p:nvGrpSpPr>
        <p:grpSpPr>
          <a:xfrm>
            <a:off x="4185000" y="3119400"/>
            <a:ext cx="2284200" cy="510840"/>
            <a:chOff x="4185000" y="3119400"/>
            <a:chExt cx="2284200" cy="510840"/>
          </a:xfrm>
        </p:grpSpPr>
        <p:sp>
          <p:nvSpPr>
            <p:cNvPr id="86" name=""/>
            <p:cNvSpPr/>
            <p:nvPr/>
          </p:nvSpPr>
          <p:spPr>
            <a:xfrm flipV="1">
              <a:off x="5819760" y="3119400"/>
              <a:ext cx="64944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85000" y="3261960"/>
              <a:ext cx="1716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NCHIOLE</a:t>
              </a:r>
              <a:endParaRPr b="0" lang="en-US" sz="1800" spc="-1" strike="noStrike">
                <a:solidFill>
                  <a:srgbClr val="000000"/>
                </a:solidFill>
                <a:latin typeface="Arial"/>
              </a:endParaRPr>
            </a:p>
          </p:txBody>
        </p:sp>
      </p:grpSp>
      <p:sp>
        <p:nvSpPr>
          <p:cNvPr id="88" name=""/>
          <p:cNvSpPr/>
          <p:nvPr/>
        </p:nvSpPr>
        <p:spPr>
          <a:xfrm>
            <a:off x="379440" y="276120"/>
            <a:ext cx="8402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e Breathe</a:t>
            </a:r>
            <a:endParaRPr b="0" lang="en-US" sz="4400" spc="-1" strike="noStrike">
              <a:solidFill>
                <a:srgbClr val="000000"/>
              </a:solidFill>
              <a:latin typeface="Arial"/>
            </a:endParaRPr>
          </a:p>
        </p:txBody>
      </p:sp>
      <p:grpSp>
        <p:nvGrpSpPr>
          <p:cNvPr id="89" name=""/>
          <p:cNvGrpSpPr/>
          <p:nvPr/>
        </p:nvGrpSpPr>
        <p:grpSpPr>
          <a:xfrm>
            <a:off x="4834080" y="6051600"/>
            <a:ext cx="1547640" cy="368280"/>
            <a:chOff x="4834080" y="6051600"/>
            <a:chExt cx="1547640" cy="368280"/>
          </a:xfrm>
        </p:grpSpPr>
        <p:sp>
          <p:nvSpPr>
            <p:cNvPr id="90" name=""/>
            <p:cNvSpPr/>
            <p:nvPr/>
          </p:nvSpPr>
          <p:spPr>
            <a:xfrm flipV="1">
              <a:off x="5613480" y="6099120"/>
              <a:ext cx="76824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 name=""/>
            <p:cNvSpPr/>
            <p:nvPr/>
          </p:nvSpPr>
          <p:spPr>
            <a:xfrm>
              <a:off x="4834080" y="6051600"/>
              <a:ext cx="884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4960" y="1395360"/>
            <a:ext cx="4795920" cy="494208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 asthma attack, bronchioles get narrow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at </a:t>
            </a:r>
            <a:br>
              <a:rPr sz="2800"/>
            </a:br>
            <a:r>
              <a:rPr b="0" lang="en-US" sz="2800" spc="-1" strike="noStrike">
                <a:solidFill>
                  <a:srgbClr val="000000"/>
                </a:solidFill>
                <a:latin typeface="Times New Roman"/>
              </a:rPr>
              <a:t>happe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at affect delivery </a:t>
            </a:r>
            <a:br>
              <a:rPr sz="2800"/>
            </a:br>
            <a:r>
              <a:rPr b="0" lang="en-US" sz="2800" spc="-1" strike="noStrike">
                <a:solidFill>
                  <a:srgbClr val="000000"/>
                </a:solidFill>
                <a:latin typeface="Times New Roman"/>
              </a:rPr>
              <a:t>of air </a:t>
            </a:r>
            <a:r>
              <a:rPr b="1" i="1" lang="en-US" sz="2800" spc="-1" strike="noStrike">
                <a:solidFill>
                  <a:srgbClr val="000000"/>
                </a:solidFill>
                <a:latin typeface="Times New Roman"/>
              </a:rPr>
              <a:t>to</a:t>
            </a:r>
            <a:r>
              <a:rPr b="0" lang="en-US" sz="2800" spc="-1" strike="noStrike">
                <a:solidFill>
                  <a:srgbClr val="000000"/>
                </a:solidFill>
                <a:latin typeface="Times New Roman"/>
              </a:rPr>
              <a:t> the lung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at affect </a:t>
            </a:r>
            <a:br>
              <a:rPr sz="2800"/>
            </a:br>
            <a:r>
              <a:rPr b="0" lang="en-US" sz="2800" spc="-1" strike="noStrike">
                <a:solidFill>
                  <a:srgbClr val="000000"/>
                </a:solidFill>
                <a:latin typeface="Times New Roman"/>
              </a:rPr>
              <a:t>delivery of air </a:t>
            </a:r>
            <a:r>
              <a:rPr b="1" i="1" lang="en-US" sz="2800" spc="-1" strike="noStrike">
                <a:solidFill>
                  <a:srgbClr val="000000"/>
                </a:solidFill>
                <a:latin typeface="Times New Roman"/>
              </a:rPr>
              <a:t>from </a:t>
            </a:r>
            <a:br>
              <a:rPr sz="2800"/>
            </a:br>
            <a:r>
              <a:rPr b="0" lang="en-US" sz="2800" spc="-1" strike="noStrike">
                <a:solidFill>
                  <a:srgbClr val="000000"/>
                </a:solidFill>
                <a:latin typeface="Times New Roman"/>
              </a:rPr>
              <a:t>the lung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inds of things must you do to prevent and treat asthma?</a:t>
            </a:r>
            <a:endParaRPr b="0" lang="en-US" sz="2800" spc="-1" strike="noStrike">
              <a:solidFill>
                <a:srgbClr val="000000"/>
              </a:solidFill>
              <a:latin typeface="Times New Roman"/>
            </a:endParaRPr>
          </a:p>
        </p:txBody>
      </p:sp>
      <p:sp>
        <p:nvSpPr>
          <p:cNvPr id="93" name=""/>
          <p:cNvSpPr/>
          <p:nvPr/>
        </p:nvSpPr>
        <p:spPr>
          <a:xfrm>
            <a:off x="4973760" y="1306440"/>
            <a:ext cx="3906720" cy="5261040"/>
          </a:xfrm>
          <a:custGeom>
            <a:avLst/>
            <a:gdLst/>
            <a:ahLst/>
            <a:rect l="l" t="t" r="r" b="b"/>
            <a:pathLst>
              <a:path w="2286" h="3538">
                <a:moveTo>
                  <a:pt x="1530" y="22"/>
                </a:moveTo>
                <a:cubicBezTo>
                  <a:pt x="1591" y="58"/>
                  <a:pt x="1618" y="97"/>
                  <a:pt x="1674" y="142"/>
                </a:cubicBezTo>
                <a:cubicBezTo>
                  <a:pt x="1724" y="221"/>
                  <a:pt x="1772" y="297"/>
                  <a:pt x="1830" y="370"/>
                </a:cubicBezTo>
                <a:cubicBezTo>
                  <a:pt x="1853" y="440"/>
                  <a:pt x="1856" y="477"/>
                  <a:pt x="1902" y="538"/>
                </a:cubicBezTo>
                <a:cubicBezTo>
                  <a:pt x="1925" y="608"/>
                  <a:pt x="1955" y="676"/>
                  <a:pt x="1986" y="742"/>
                </a:cubicBezTo>
                <a:cubicBezTo>
                  <a:pt x="2001" y="774"/>
                  <a:pt x="2025" y="803"/>
                  <a:pt x="2034" y="838"/>
                </a:cubicBezTo>
                <a:cubicBezTo>
                  <a:pt x="2056" y="928"/>
                  <a:pt x="2101" y="1014"/>
                  <a:pt x="2130" y="1102"/>
                </a:cubicBezTo>
                <a:cubicBezTo>
                  <a:pt x="2165" y="1207"/>
                  <a:pt x="2154" y="1125"/>
                  <a:pt x="2178" y="1198"/>
                </a:cubicBezTo>
                <a:cubicBezTo>
                  <a:pt x="2187" y="1261"/>
                  <a:pt x="2202" y="1316"/>
                  <a:pt x="2214" y="1378"/>
                </a:cubicBezTo>
                <a:cubicBezTo>
                  <a:pt x="2226" y="1538"/>
                  <a:pt x="2227" y="1699"/>
                  <a:pt x="2250" y="1858"/>
                </a:cubicBezTo>
                <a:cubicBezTo>
                  <a:pt x="2258" y="2154"/>
                  <a:pt x="2276" y="2438"/>
                  <a:pt x="2286" y="2734"/>
                </a:cubicBezTo>
                <a:cubicBezTo>
                  <a:pt x="2282" y="2854"/>
                  <a:pt x="2281" y="2974"/>
                  <a:pt x="2274" y="3094"/>
                </a:cubicBezTo>
                <a:cubicBezTo>
                  <a:pt x="2274" y="3097"/>
                  <a:pt x="2258" y="3200"/>
                  <a:pt x="2250" y="3214"/>
                </a:cubicBezTo>
                <a:cubicBezTo>
                  <a:pt x="2235" y="3241"/>
                  <a:pt x="2214" y="3265"/>
                  <a:pt x="2190" y="3286"/>
                </a:cubicBezTo>
                <a:cubicBezTo>
                  <a:pt x="2168" y="3305"/>
                  <a:pt x="2118" y="3334"/>
                  <a:pt x="2118" y="3334"/>
                </a:cubicBezTo>
                <a:cubicBezTo>
                  <a:pt x="2072" y="3403"/>
                  <a:pt x="2057" y="3361"/>
                  <a:pt x="1998" y="3394"/>
                </a:cubicBezTo>
                <a:cubicBezTo>
                  <a:pt x="1973" y="3408"/>
                  <a:pt x="1950" y="3426"/>
                  <a:pt x="1926" y="3442"/>
                </a:cubicBezTo>
                <a:cubicBezTo>
                  <a:pt x="1885" y="3469"/>
                  <a:pt x="1830" y="3466"/>
                  <a:pt x="1782" y="3478"/>
                </a:cubicBezTo>
                <a:cubicBezTo>
                  <a:pt x="1745" y="3487"/>
                  <a:pt x="1712" y="3510"/>
                  <a:pt x="1674" y="3514"/>
                </a:cubicBezTo>
                <a:cubicBezTo>
                  <a:pt x="1542" y="3529"/>
                  <a:pt x="1602" y="3520"/>
                  <a:pt x="1494" y="3538"/>
                </a:cubicBezTo>
                <a:cubicBezTo>
                  <a:pt x="1302" y="3534"/>
                  <a:pt x="1110" y="3533"/>
                  <a:pt x="918" y="3526"/>
                </a:cubicBezTo>
                <a:cubicBezTo>
                  <a:pt x="732" y="3519"/>
                  <a:pt x="524" y="3419"/>
                  <a:pt x="378" y="3310"/>
                </a:cubicBezTo>
                <a:cubicBezTo>
                  <a:pt x="323" y="3268"/>
                  <a:pt x="301" y="3215"/>
                  <a:pt x="246" y="3178"/>
                </a:cubicBezTo>
                <a:cubicBezTo>
                  <a:pt x="227" y="3121"/>
                  <a:pt x="186" y="3077"/>
                  <a:pt x="162" y="3022"/>
                </a:cubicBezTo>
                <a:cubicBezTo>
                  <a:pt x="122" y="2932"/>
                  <a:pt x="110" y="2835"/>
                  <a:pt x="66" y="2746"/>
                </a:cubicBezTo>
                <a:cubicBezTo>
                  <a:pt x="57" y="2653"/>
                  <a:pt x="43" y="2562"/>
                  <a:pt x="30" y="2470"/>
                </a:cubicBezTo>
                <a:cubicBezTo>
                  <a:pt x="38" y="1839"/>
                  <a:pt x="0" y="1761"/>
                  <a:pt x="66" y="1366"/>
                </a:cubicBezTo>
                <a:cubicBezTo>
                  <a:pt x="73" y="1237"/>
                  <a:pt x="75" y="1128"/>
                  <a:pt x="102" y="1006"/>
                </a:cubicBezTo>
                <a:cubicBezTo>
                  <a:pt x="104" y="996"/>
                  <a:pt x="119" y="935"/>
                  <a:pt x="126" y="922"/>
                </a:cubicBezTo>
                <a:cubicBezTo>
                  <a:pt x="140" y="897"/>
                  <a:pt x="174" y="850"/>
                  <a:pt x="174" y="850"/>
                </a:cubicBezTo>
                <a:cubicBezTo>
                  <a:pt x="192" y="777"/>
                  <a:pt x="240" y="720"/>
                  <a:pt x="282" y="658"/>
                </a:cubicBezTo>
                <a:cubicBezTo>
                  <a:pt x="289" y="647"/>
                  <a:pt x="287" y="633"/>
                  <a:pt x="294" y="622"/>
                </a:cubicBezTo>
                <a:cubicBezTo>
                  <a:pt x="312" y="594"/>
                  <a:pt x="339" y="580"/>
                  <a:pt x="366" y="562"/>
                </a:cubicBezTo>
                <a:cubicBezTo>
                  <a:pt x="400" y="511"/>
                  <a:pt x="448" y="487"/>
                  <a:pt x="498" y="454"/>
                </a:cubicBezTo>
                <a:cubicBezTo>
                  <a:pt x="544" y="423"/>
                  <a:pt x="549" y="401"/>
                  <a:pt x="606" y="382"/>
                </a:cubicBezTo>
                <a:cubicBezTo>
                  <a:pt x="636" y="337"/>
                  <a:pt x="671" y="329"/>
                  <a:pt x="714" y="298"/>
                </a:cubicBezTo>
                <a:cubicBezTo>
                  <a:pt x="756" y="268"/>
                  <a:pt x="786" y="242"/>
                  <a:pt x="834" y="226"/>
                </a:cubicBezTo>
                <a:cubicBezTo>
                  <a:pt x="888" y="172"/>
                  <a:pt x="963" y="113"/>
                  <a:pt x="1038" y="94"/>
                </a:cubicBezTo>
                <a:cubicBezTo>
                  <a:pt x="1180" y="0"/>
                  <a:pt x="1373" y="22"/>
                  <a:pt x="1530" y="22"/>
                </a:cubicBezTo>
                <a:close/>
              </a:path>
            </a:pathLst>
          </a:custGeom>
          <a:solidFill>
            <a:srgbClr val="ff9999"/>
          </a:solidFill>
          <a:ln w="7632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02360" y="395280"/>
            <a:ext cx="2657520" cy="4781520"/>
          </a:xfrm>
          <a:custGeom>
            <a:avLst/>
            <a:gdLst/>
            <a:ahLst/>
            <a:rect l="l" t="t" r="r" b="b"/>
            <a:pathLst>
              <a:path w="2052" h="3622">
                <a:moveTo>
                  <a:pt x="1908" y="0"/>
                </a:moveTo>
                <a:cubicBezTo>
                  <a:pt x="1891" y="51"/>
                  <a:pt x="1874" y="82"/>
                  <a:pt x="1836" y="120"/>
                </a:cubicBezTo>
                <a:cubicBezTo>
                  <a:pt x="1811" y="194"/>
                  <a:pt x="1786" y="220"/>
                  <a:pt x="1752" y="288"/>
                </a:cubicBezTo>
                <a:cubicBezTo>
                  <a:pt x="1723" y="431"/>
                  <a:pt x="1677" y="551"/>
                  <a:pt x="1596" y="672"/>
                </a:cubicBezTo>
                <a:cubicBezTo>
                  <a:pt x="1569" y="712"/>
                  <a:pt x="1559" y="745"/>
                  <a:pt x="1524" y="780"/>
                </a:cubicBezTo>
                <a:cubicBezTo>
                  <a:pt x="1520" y="796"/>
                  <a:pt x="1521" y="814"/>
                  <a:pt x="1512" y="828"/>
                </a:cubicBezTo>
                <a:cubicBezTo>
                  <a:pt x="1504" y="840"/>
                  <a:pt x="1487" y="843"/>
                  <a:pt x="1476" y="852"/>
                </a:cubicBezTo>
                <a:cubicBezTo>
                  <a:pt x="1384" y="929"/>
                  <a:pt x="1493" y="852"/>
                  <a:pt x="1404" y="912"/>
                </a:cubicBezTo>
                <a:cubicBezTo>
                  <a:pt x="1378" y="991"/>
                  <a:pt x="1414" y="913"/>
                  <a:pt x="1356" y="960"/>
                </a:cubicBezTo>
                <a:cubicBezTo>
                  <a:pt x="1345" y="969"/>
                  <a:pt x="1343" y="987"/>
                  <a:pt x="1332" y="996"/>
                </a:cubicBezTo>
                <a:cubicBezTo>
                  <a:pt x="1310" y="1015"/>
                  <a:pt x="1260" y="1044"/>
                  <a:pt x="1260" y="1044"/>
                </a:cubicBezTo>
                <a:cubicBezTo>
                  <a:pt x="1228" y="1092"/>
                  <a:pt x="1193" y="1147"/>
                  <a:pt x="1152" y="1188"/>
                </a:cubicBezTo>
                <a:cubicBezTo>
                  <a:pt x="1113" y="1227"/>
                  <a:pt x="1053" y="1228"/>
                  <a:pt x="1008" y="1260"/>
                </a:cubicBezTo>
                <a:cubicBezTo>
                  <a:pt x="884" y="1349"/>
                  <a:pt x="1054" y="1234"/>
                  <a:pt x="888" y="1344"/>
                </a:cubicBezTo>
                <a:cubicBezTo>
                  <a:pt x="876" y="1352"/>
                  <a:pt x="852" y="1368"/>
                  <a:pt x="852" y="1368"/>
                </a:cubicBezTo>
                <a:cubicBezTo>
                  <a:pt x="780" y="1364"/>
                  <a:pt x="705" y="1376"/>
                  <a:pt x="636" y="1356"/>
                </a:cubicBezTo>
                <a:cubicBezTo>
                  <a:pt x="603" y="1346"/>
                  <a:pt x="564" y="1284"/>
                  <a:pt x="564" y="1284"/>
                </a:cubicBezTo>
                <a:cubicBezTo>
                  <a:pt x="531" y="1184"/>
                  <a:pt x="566" y="1025"/>
                  <a:pt x="444" y="984"/>
                </a:cubicBezTo>
                <a:cubicBezTo>
                  <a:pt x="346" y="1130"/>
                  <a:pt x="500" y="1275"/>
                  <a:pt x="396" y="1452"/>
                </a:cubicBezTo>
                <a:cubicBezTo>
                  <a:pt x="357" y="1518"/>
                  <a:pt x="244" y="1460"/>
                  <a:pt x="168" y="1464"/>
                </a:cubicBezTo>
                <a:cubicBezTo>
                  <a:pt x="83" y="1492"/>
                  <a:pt x="98" y="1503"/>
                  <a:pt x="60" y="1572"/>
                </a:cubicBezTo>
                <a:cubicBezTo>
                  <a:pt x="46" y="1597"/>
                  <a:pt x="12" y="1644"/>
                  <a:pt x="12" y="1644"/>
                </a:cubicBezTo>
                <a:cubicBezTo>
                  <a:pt x="16" y="1668"/>
                  <a:pt x="0" y="1710"/>
                  <a:pt x="24" y="1716"/>
                </a:cubicBezTo>
                <a:cubicBezTo>
                  <a:pt x="131" y="1743"/>
                  <a:pt x="267" y="1718"/>
                  <a:pt x="360" y="1656"/>
                </a:cubicBezTo>
                <a:cubicBezTo>
                  <a:pt x="400" y="1660"/>
                  <a:pt x="453" y="1638"/>
                  <a:pt x="480" y="1668"/>
                </a:cubicBezTo>
                <a:cubicBezTo>
                  <a:pt x="504" y="1695"/>
                  <a:pt x="478" y="1741"/>
                  <a:pt x="468" y="1776"/>
                </a:cubicBezTo>
                <a:cubicBezTo>
                  <a:pt x="442" y="1865"/>
                  <a:pt x="377" y="1940"/>
                  <a:pt x="348" y="2028"/>
                </a:cubicBezTo>
                <a:cubicBezTo>
                  <a:pt x="368" y="2089"/>
                  <a:pt x="352" y="2080"/>
                  <a:pt x="456" y="2052"/>
                </a:cubicBezTo>
                <a:cubicBezTo>
                  <a:pt x="512" y="2037"/>
                  <a:pt x="542" y="1963"/>
                  <a:pt x="588" y="1932"/>
                </a:cubicBezTo>
                <a:cubicBezTo>
                  <a:pt x="592" y="1920"/>
                  <a:pt x="591" y="1905"/>
                  <a:pt x="600" y="1896"/>
                </a:cubicBezTo>
                <a:cubicBezTo>
                  <a:pt x="620" y="1876"/>
                  <a:pt x="728" y="1698"/>
                  <a:pt x="728" y="1698"/>
                </a:cubicBezTo>
                <a:cubicBezTo>
                  <a:pt x="771" y="1568"/>
                  <a:pt x="1036" y="1513"/>
                  <a:pt x="1136" y="1506"/>
                </a:cubicBezTo>
                <a:cubicBezTo>
                  <a:pt x="1261" y="1485"/>
                  <a:pt x="1242" y="1428"/>
                  <a:pt x="1364" y="1398"/>
                </a:cubicBezTo>
                <a:cubicBezTo>
                  <a:pt x="1340" y="1540"/>
                  <a:pt x="1331" y="1916"/>
                  <a:pt x="1260" y="2040"/>
                </a:cubicBezTo>
                <a:cubicBezTo>
                  <a:pt x="1251" y="2056"/>
                  <a:pt x="1247" y="2074"/>
                  <a:pt x="1236" y="2088"/>
                </a:cubicBezTo>
                <a:cubicBezTo>
                  <a:pt x="1211" y="2118"/>
                  <a:pt x="1119" y="2176"/>
                  <a:pt x="1092" y="2196"/>
                </a:cubicBezTo>
                <a:cubicBezTo>
                  <a:pt x="1034" y="2240"/>
                  <a:pt x="1063" y="2226"/>
                  <a:pt x="1008" y="2244"/>
                </a:cubicBezTo>
                <a:cubicBezTo>
                  <a:pt x="979" y="2288"/>
                  <a:pt x="943" y="2299"/>
                  <a:pt x="900" y="2328"/>
                </a:cubicBezTo>
                <a:cubicBezTo>
                  <a:pt x="892" y="2340"/>
                  <a:pt x="888" y="2356"/>
                  <a:pt x="876" y="2364"/>
                </a:cubicBezTo>
                <a:cubicBezTo>
                  <a:pt x="845" y="2383"/>
                  <a:pt x="768" y="2404"/>
                  <a:pt x="732" y="2424"/>
                </a:cubicBezTo>
                <a:cubicBezTo>
                  <a:pt x="645" y="2472"/>
                  <a:pt x="587" y="2550"/>
                  <a:pt x="528" y="2628"/>
                </a:cubicBezTo>
                <a:cubicBezTo>
                  <a:pt x="503" y="2702"/>
                  <a:pt x="511" y="2770"/>
                  <a:pt x="588" y="2796"/>
                </a:cubicBezTo>
                <a:cubicBezTo>
                  <a:pt x="683" y="2777"/>
                  <a:pt x="657" y="2775"/>
                  <a:pt x="720" y="2712"/>
                </a:cubicBezTo>
                <a:cubicBezTo>
                  <a:pt x="749" y="2683"/>
                  <a:pt x="794" y="2674"/>
                  <a:pt x="828" y="2652"/>
                </a:cubicBezTo>
                <a:cubicBezTo>
                  <a:pt x="856" y="2611"/>
                  <a:pt x="883" y="2584"/>
                  <a:pt x="924" y="2556"/>
                </a:cubicBezTo>
                <a:cubicBezTo>
                  <a:pt x="967" y="2685"/>
                  <a:pt x="824" y="3003"/>
                  <a:pt x="996" y="3060"/>
                </a:cubicBezTo>
                <a:cubicBezTo>
                  <a:pt x="1192" y="3044"/>
                  <a:pt x="1158" y="3074"/>
                  <a:pt x="1140" y="2880"/>
                </a:cubicBezTo>
                <a:cubicBezTo>
                  <a:pt x="1148" y="2630"/>
                  <a:pt x="1116" y="2508"/>
                  <a:pt x="1236" y="2328"/>
                </a:cubicBezTo>
                <a:cubicBezTo>
                  <a:pt x="1262" y="2288"/>
                  <a:pt x="1267" y="2259"/>
                  <a:pt x="1308" y="2232"/>
                </a:cubicBezTo>
                <a:cubicBezTo>
                  <a:pt x="1312" y="2220"/>
                  <a:pt x="1311" y="2205"/>
                  <a:pt x="1320" y="2196"/>
                </a:cubicBezTo>
                <a:cubicBezTo>
                  <a:pt x="1340" y="2176"/>
                  <a:pt x="1392" y="2148"/>
                  <a:pt x="1392" y="2148"/>
                </a:cubicBezTo>
                <a:cubicBezTo>
                  <a:pt x="1452" y="2058"/>
                  <a:pt x="1382" y="2172"/>
                  <a:pt x="1428" y="2064"/>
                </a:cubicBezTo>
                <a:cubicBezTo>
                  <a:pt x="1434" y="2051"/>
                  <a:pt x="1446" y="2041"/>
                  <a:pt x="1452" y="2028"/>
                </a:cubicBezTo>
                <a:cubicBezTo>
                  <a:pt x="1452" y="2028"/>
                  <a:pt x="1482" y="1938"/>
                  <a:pt x="1488" y="1920"/>
                </a:cubicBezTo>
                <a:cubicBezTo>
                  <a:pt x="1496" y="1896"/>
                  <a:pt x="1504" y="1872"/>
                  <a:pt x="1512" y="1848"/>
                </a:cubicBezTo>
                <a:cubicBezTo>
                  <a:pt x="1516" y="1836"/>
                  <a:pt x="1532" y="1566"/>
                  <a:pt x="1532" y="1566"/>
                </a:cubicBezTo>
                <a:cubicBezTo>
                  <a:pt x="1568" y="1986"/>
                  <a:pt x="1520" y="2476"/>
                  <a:pt x="1512" y="2808"/>
                </a:cubicBezTo>
                <a:cubicBezTo>
                  <a:pt x="1510" y="2886"/>
                  <a:pt x="1424" y="2983"/>
                  <a:pt x="1392" y="3048"/>
                </a:cubicBezTo>
                <a:cubicBezTo>
                  <a:pt x="1330" y="3173"/>
                  <a:pt x="1277" y="3354"/>
                  <a:pt x="1260" y="3492"/>
                </a:cubicBezTo>
                <a:cubicBezTo>
                  <a:pt x="1275" y="3583"/>
                  <a:pt x="1257" y="3622"/>
                  <a:pt x="1416" y="3552"/>
                </a:cubicBezTo>
                <a:cubicBezTo>
                  <a:pt x="1442" y="3540"/>
                  <a:pt x="1455" y="3507"/>
                  <a:pt x="1464" y="3480"/>
                </a:cubicBezTo>
                <a:cubicBezTo>
                  <a:pt x="1508" y="3349"/>
                  <a:pt x="1438" y="3548"/>
                  <a:pt x="1500" y="3408"/>
                </a:cubicBezTo>
                <a:cubicBezTo>
                  <a:pt x="1522" y="3358"/>
                  <a:pt x="1526" y="3327"/>
                  <a:pt x="1536" y="3276"/>
                </a:cubicBezTo>
                <a:cubicBezTo>
                  <a:pt x="1540" y="3232"/>
                  <a:pt x="1542" y="3188"/>
                  <a:pt x="1548" y="3144"/>
                </a:cubicBezTo>
                <a:cubicBezTo>
                  <a:pt x="1554" y="3104"/>
                  <a:pt x="1572" y="3024"/>
                  <a:pt x="1572" y="3024"/>
                </a:cubicBezTo>
                <a:cubicBezTo>
                  <a:pt x="1592" y="3028"/>
                  <a:pt x="1626" y="3017"/>
                  <a:pt x="1632" y="3036"/>
                </a:cubicBezTo>
                <a:cubicBezTo>
                  <a:pt x="1671" y="3158"/>
                  <a:pt x="1641" y="3293"/>
                  <a:pt x="1656" y="3420"/>
                </a:cubicBezTo>
                <a:cubicBezTo>
                  <a:pt x="1661" y="3467"/>
                  <a:pt x="1740" y="3564"/>
                  <a:pt x="1776" y="3576"/>
                </a:cubicBezTo>
                <a:cubicBezTo>
                  <a:pt x="1800" y="3584"/>
                  <a:pt x="1848" y="3600"/>
                  <a:pt x="1848" y="3600"/>
                </a:cubicBezTo>
                <a:cubicBezTo>
                  <a:pt x="1868" y="3596"/>
                  <a:pt x="1894" y="3602"/>
                  <a:pt x="1908" y="3588"/>
                </a:cubicBezTo>
                <a:cubicBezTo>
                  <a:pt x="1926" y="3570"/>
                  <a:pt x="1932" y="3516"/>
                  <a:pt x="1932" y="3516"/>
                </a:cubicBezTo>
                <a:cubicBezTo>
                  <a:pt x="1928" y="3472"/>
                  <a:pt x="1928" y="3428"/>
                  <a:pt x="1920" y="3384"/>
                </a:cubicBezTo>
                <a:cubicBezTo>
                  <a:pt x="1907" y="3313"/>
                  <a:pt x="1863" y="3262"/>
                  <a:pt x="1824" y="3204"/>
                </a:cubicBezTo>
                <a:cubicBezTo>
                  <a:pt x="1809" y="3182"/>
                  <a:pt x="1803" y="3154"/>
                  <a:pt x="1788" y="3132"/>
                </a:cubicBezTo>
                <a:cubicBezTo>
                  <a:pt x="1764" y="3037"/>
                  <a:pt x="1779" y="3100"/>
                  <a:pt x="1752" y="2940"/>
                </a:cubicBezTo>
                <a:cubicBezTo>
                  <a:pt x="1745" y="2895"/>
                  <a:pt x="1725" y="2853"/>
                  <a:pt x="1716" y="2808"/>
                </a:cubicBezTo>
                <a:cubicBezTo>
                  <a:pt x="1710" y="2184"/>
                  <a:pt x="1860" y="1782"/>
                  <a:pt x="1560" y="1332"/>
                </a:cubicBezTo>
                <a:cubicBezTo>
                  <a:pt x="1515" y="1150"/>
                  <a:pt x="1567" y="923"/>
                  <a:pt x="1728" y="816"/>
                </a:cubicBezTo>
                <a:cubicBezTo>
                  <a:pt x="1736" y="804"/>
                  <a:pt x="1742" y="790"/>
                  <a:pt x="1752" y="780"/>
                </a:cubicBezTo>
                <a:cubicBezTo>
                  <a:pt x="1762" y="770"/>
                  <a:pt x="1779" y="767"/>
                  <a:pt x="1788" y="756"/>
                </a:cubicBezTo>
                <a:cubicBezTo>
                  <a:pt x="1886" y="644"/>
                  <a:pt x="1791" y="714"/>
                  <a:pt x="1872" y="660"/>
                </a:cubicBezTo>
                <a:cubicBezTo>
                  <a:pt x="1928" y="577"/>
                  <a:pt x="1901" y="476"/>
                  <a:pt x="1932" y="384"/>
                </a:cubicBezTo>
                <a:cubicBezTo>
                  <a:pt x="1937" y="370"/>
                  <a:pt x="1950" y="361"/>
                  <a:pt x="1956" y="348"/>
                </a:cubicBezTo>
                <a:cubicBezTo>
                  <a:pt x="1996" y="268"/>
                  <a:pt x="2052" y="190"/>
                  <a:pt x="2052" y="96"/>
                </a:cubicBezTo>
                <a:lnTo>
                  <a:pt x="1908" y="0"/>
                </a:lnTo>
                <a:close/>
              </a:path>
            </a:pathLst>
          </a:custGeom>
          <a:solidFill>
            <a:srgbClr val="bbe0e3"/>
          </a:solidFill>
          <a:ln w="10152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491240" y="285840"/>
            <a:ext cx="1443240" cy="1990800"/>
          </a:xfrm>
          <a:custGeom>
            <a:avLst/>
            <a:gdLst/>
            <a:ahLst/>
            <a:rect l="l" t="t" r="r" b="b"/>
            <a:pathLst>
              <a:path w="909" h="1254">
                <a:moveTo>
                  <a:pt x="49" y="1084"/>
                </a:moveTo>
                <a:cubicBezTo>
                  <a:pt x="49" y="1084"/>
                  <a:pt x="172" y="905"/>
                  <a:pt x="237" y="804"/>
                </a:cubicBezTo>
                <a:cubicBezTo>
                  <a:pt x="302" y="703"/>
                  <a:pt x="384" y="582"/>
                  <a:pt x="441" y="480"/>
                </a:cubicBezTo>
                <a:cubicBezTo>
                  <a:pt x="498" y="378"/>
                  <a:pt x="509" y="284"/>
                  <a:pt x="549" y="204"/>
                </a:cubicBezTo>
                <a:cubicBezTo>
                  <a:pt x="589" y="124"/>
                  <a:pt x="628" y="5"/>
                  <a:pt x="681" y="0"/>
                </a:cubicBezTo>
                <a:lnTo>
                  <a:pt x="897" y="156"/>
                </a:lnTo>
                <a:cubicBezTo>
                  <a:pt x="909" y="238"/>
                  <a:pt x="789" y="399"/>
                  <a:pt x="753" y="492"/>
                </a:cubicBezTo>
                <a:cubicBezTo>
                  <a:pt x="717" y="585"/>
                  <a:pt x="681" y="677"/>
                  <a:pt x="629" y="770"/>
                </a:cubicBezTo>
                <a:cubicBezTo>
                  <a:pt x="577" y="863"/>
                  <a:pt x="447" y="1003"/>
                  <a:pt x="387" y="1084"/>
                </a:cubicBezTo>
                <a:lnTo>
                  <a:pt x="267" y="1254"/>
                </a:lnTo>
                <a:lnTo>
                  <a:pt x="0" y="1181"/>
                </a:lnTo>
                <a:lnTo>
                  <a:pt x="49" y="1084"/>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4.0</a:t>
            </a:r>
            <a:endParaRPr b="0" lang="en-US" sz="1000" spc="-1" strike="noStrike">
              <a:solidFill>
                <a:srgbClr val="000000"/>
              </a:solidFill>
              <a:latin typeface="Arial"/>
            </a:endParaRPr>
          </a:p>
        </p:txBody>
      </p:sp>
      <p:sp>
        <p:nvSpPr>
          <p:cNvPr id="97" name=""/>
          <p:cNvSpPr/>
          <p:nvPr/>
        </p:nvSpPr>
        <p:spPr>
          <a:xfrm>
            <a:off x="379440" y="276120"/>
            <a:ext cx="8402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icted Bronchio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mph" presetID="7" presetSubtype="2">
                                  <p:stCondLst>
                                    <p:cond delay="1000"/>
                                  </p:stCondLst>
                                  <p:childTnLst>
                                    <p:animClr clrSpc="rgb">
                                      <p:cBhvr>
                                        <p:cTn id="65" dur="2000" fill="hold"/>
                                        <p:tgtEl>
                                          <p:spTgt spid="94"/>
                                        </p:tgtEl>
                                        <p:attrNameLst>
                                          <p:attrName>stroke.color</p:attrName>
                                        </p:attrNameLst>
                                      </p:cBhvr>
                                      <p:to>
                                        <a:srgbClr val="ff9999"/>
                                      </p:to>
                                    </p:animClr>
                                    <p:set>
                                      <p:cBhvr>
                                        <p:cTn id="66" dur="2000" fill="hold"/>
                                        <p:tgtEl>
                                          <p:spTgt spid="94"/>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413160" y="1285920"/>
            <a:ext cx="5153040" cy="4525920"/>
          </a:xfrm>
          <a:prstGeom prst="rect">
            <a:avLst/>
          </a:prstGeom>
          <a:noFill/>
          <a:ln w="0">
            <a:noFill/>
          </a:ln>
        </p:spPr>
        <p:txBody>
          <a:bodyPr lIns="90000" rIns="90000" tIns="46800" bIns="46800" anchor="t">
            <a:normAutofit fontScale="9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hma is usually triggered by irritants in the lungs.  These irritants may be chemicals to which you are allergic or they may be any chemical that is irritating to huma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rritant causes the smooth muscles around the small tubes that bring air into the lungs to contract.  That contraction reduces the amount of air that can be moved in and out of the lungs.</a:t>
            </a:r>
            <a:endParaRPr b="0" lang="en-US" sz="2800" spc="-1" strike="noStrike">
              <a:solidFill>
                <a:srgbClr val="000000"/>
              </a:solidFill>
              <a:latin typeface="Times New Roman"/>
            </a:endParaRPr>
          </a:p>
        </p:txBody>
      </p:sp>
      <p:grpSp>
        <p:nvGrpSpPr>
          <p:cNvPr id="99" name=""/>
          <p:cNvGrpSpPr/>
          <p:nvPr/>
        </p:nvGrpSpPr>
        <p:grpSpPr>
          <a:xfrm>
            <a:off x="611640" y="1582200"/>
            <a:ext cx="2477520" cy="4268880"/>
            <a:chOff x="611640" y="1582200"/>
            <a:chExt cx="2477520" cy="4268880"/>
          </a:xfrm>
        </p:grpSpPr>
        <p:sp>
          <p:nvSpPr>
            <p:cNvPr id="100" name=""/>
            <p:cNvSpPr/>
            <p:nvPr/>
          </p:nvSpPr>
          <p:spPr>
            <a:xfrm rot="21094800">
              <a:off x="896400" y="1699920"/>
              <a:ext cx="1907640" cy="4033080"/>
            </a:xfrm>
            <a:custGeom>
              <a:avLst/>
              <a:gdLst/>
              <a:ahLst/>
              <a:rect l="l" t="t" r="r" b="b"/>
              <a:pathLst>
                <a:path w="1147" h="2427">
                  <a:moveTo>
                    <a:pt x="1137" y="1999"/>
                  </a:moveTo>
                  <a:lnTo>
                    <a:pt x="1129" y="1986"/>
                  </a:lnTo>
                  <a:lnTo>
                    <a:pt x="1120" y="1977"/>
                  </a:lnTo>
                  <a:lnTo>
                    <a:pt x="1107" y="1969"/>
                  </a:lnTo>
                  <a:lnTo>
                    <a:pt x="1094" y="1960"/>
                  </a:lnTo>
                  <a:lnTo>
                    <a:pt x="1095" y="1959"/>
                  </a:lnTo>
                  <a:lnTo>
                    <a:pt x="1072" y="1946"/>
                  </a:lnTo>
                  <a:lnTo>
                    <a:pt x="1043" y="1928"/>
                  </a:lnTo>
                  <a:lnTo>
                    <a:pt x="1011" y="1908"/>
                  </a:lnTo>
                  <a:lnTo>
                    <a:pt x="977" y="1886"/>
                  </a:lnTo>
                  <a:lnTo>
                    <a:pt x="944" y="1865"/>
                  </a:lnTo>
                  <a:lnTo>
                    <a:pt x="913" y="1843"/>
                  </a:lnTo>
                  <a:lnTo>
                    <a:pt x="889" y="1824"/>
                  </a:lnTo>
                  <a:lnTo>
                    <a:pt x="871" y="1809"/>
                  </a:lnTo>
                  <a:lnTo>
                    <a:pt x="855" y="1782"/>
                  </a:lnTo>
                  <a:lnTo>
                    <a:pt x="847" y="1743"/>
                  </a:lnTo>
                  <a:lnTo>
                    <a:pt x="843" y="1699"/>
                  </a:lnTo>
                  <a:lnTo>
                    <a:pt x="843" y="1661"/>
                  </a:lnTo>
                  <a:lnTo>
                    <a:pt x="843" y="1661"/>
                  </a:lnTo>
                  <a:lnTo>
                    <a:pt x="843" y="1661"/>
                  </a:lnTo>
                  <a:lnTo>
                    <a:pt x="843" y="1660"/>
                  </a:lnTo>
                  <a:lnTo>
                    <a:pt x="843" y="1660"/>
                  </a:lnTo>
                  <a:lnTo>
                    <a:pt x="843" y="1660"/>
                  </a:lnTo>
                  <a:lnTo>
                    <a:pt x="843" y="296"/>
                  </a:lnTo>
                  <a:lnTo>
                    <a:pt x="842" y="296"/>
                  </a:lnTo>
                  <a:lnTo>
                    <a:pt x="843" y="293"/>
                  </a:lnTo>
                  <a:lnTo>
                    <a:pt x="843" y="288"/>
                  </a:lnTo>
                  <a:lnTo>
                    <a:pt x="843" y="284"/>
                  </a:lnTo>
                  <a:lnTo>
                    <a:pt x="843" y="281"/>
                  </a:lnTo>
                  <a:lnTo>
                    <a:pt x="842" y="263"/>
                  </a:lnTo>
                  <a:lnTo>
                    <a:pt x="835" y="245"/>
                  </a:lnTo>
                  <a:lnTo>
                    <a:pt x="827" y="228"/>
                  </a:lnTo>
                  <a:lnTo>
                    <a:pt x="814" y="211"/>
                  </a:lnTo>
                  <a:lnTo>
                    <a:pt x="796" y="197"/>
                  </a:lnTo>
                  <a:lnTo>
                    <a:pt x="777" y="182"/>
                  </a:lnTo>
                  <a:lnTo>
                    <a:pt x="754" y="167"/>
                  </a:lnTo>
                  <a:lnTo>
                    <a:pt x="726" y="156"/>
                  </a:lnTo>
                  <a:lnTo>
                    <a:pt x="731" y="148"/>
                  </a:lnTo>
                  <a:lnTo>
                    <a:pt x="734" y="140"/>
                  </a:lnTo>
                  <a:lnTo>
                    <a:pt x="736" y="132"/>
                  </a:lnTo>
                  <a:lnTo>
                    <a:pt x="736" y="124"/>
                  </a:lnTo>
                  <a:lnTo>
                    <a:pt x="734" y="107"/>
                  </a:lnTo>
                  <a:lnTo>
                    <a:pt x="728" y="94"/>
                  </a:lnTo>
                  <a:lnTo>
                    <a:pt x="720" y="80"/>
                  </a:lnTo>
                  <a:lnTo>
                    <a:pt x="708" y="68"/>
                  </a:lnTo>
                  <a:lnTo>
                    <a:pt x="692" y="57"/>
                  </a:lnTo>
                  <a:lnTo>
                    <a:pt x="676" y="47"/>
                  </a:lnTo>
                  <a:lnTo>
                    <a:pt x="656" y="37"/>
                  </a:lnTo>
                  <a:lnTo>
                    <a:pt x="634" y="29"/>
                  </a:lnTo>
                  <a:lnTo>
                    <a:pt x="611" y="23"/>
                  </a:lnTo>
                  <a:lnTo>
                    <a:pt x="585" y="16"/>
                  </a:lnTo>
                  <a:lnTo>
                    <a:pt x="559" y="11"/>
                  </a:lnTo>
                  <a:lnTo>
                    <a:pt x="531" y="7"/>
                  </a:lnTo>
                  <a:lnTo>
                    <a:pt x="502" y="3"/>
                  </a:lnTo>
                  <a:lnTo>
                    <a:pt x="474" y="2"/>
                  </a:lnTo>
                  <a:lnTo>
                    <a:pt x="445" y="0"/>
                  </a:lnTo>
                  <a:lnTo>
                    <a:pt x="416" y="0"/>
                  </a:lnTo>
                  <a:lnTo>
                    <a:pt x="387" y="0"/>
                  </a:lnTo>
                  <a:lnTo>
                    <a:pt x="357" y="2"/>
                  </a:lnTo>
                  <a:lnTo>
                    <a:pt x="328" y="3"/>
                  </a:lnTo>
                  <a:lnTo>
                    <a:pt x="301" y="7"/>
                  </a:lnTo>
                  <a:lnTo>
                    <a:pt x="273" y="11"/>
                  </a:lnTo>
                  <a:lnTo>
                    <a:pt x="247" y="16"/>
                  </a:lnTo>
                  <a:lnTo>
                    <a:pt x="221" y="23"/>
                  </a:lnTo>
                  <a:lnTo>
                    <a:pt x="196" y="29"/>
                  </a:lnTo>
                  <a:lnTo>
                    <a:pt x="175" y="37"/>
                  </a:lnTo>
                  <a:lnTo>
                    <a:pt x="156" y="47"/>
                  </a:lnTo>
                  <a:lnTo>
                    <a:pt x="138" y="57"/>
                  </a:lnTo>
                  <a:lnTo>
                    <a:pt x="123" y="68"/>
                  </a:lnTo>
                  <a:lnTo>
                    <a:pt x="110" y="80"/>
                  </a:lnTo>
                  <a:lnTo>
                    <a:pt x="102" y="94"/>
                  </a:lnTo>
                  <a:lnTo>
                    <a:pt x="96" y="107"/>
                  </a:lnTo>
                  <a:lnTo>
                    <a:pt x="94" y="124"/>
                  </a:lnTo>
                  <a:lnTo>
                    <a:pt x="96" y="133"/>
                  </a:lnTo>
                  <a:lnTo>
                    <a:pt x="97" y="143"/>
                  </a:lnTo>
                  <a:lnTo>
                    <a:pt x="102" y="151"/>
                  </a:lnTo>
                  <a:lnTo>
                    <a:pt x="107" y="159"/>
                  </a:lnTo>
                  <a:lnTo>
                    <a:pt x="83" y="172"/>
                  </a:lnTo>
                  <a:lnTo>
                    <a:pt x="62" y="185"/>
                  </a:lnTo>
                  <a:lnTo>
                    <a:pt x="42" y="200"/>
                  </a:lnTo>
                  <a:lnTo>
                    <a:pt x="27" y="215"/>
                  </a:lnTo>
                  <a:lnTo>
                    <a:pt x="16" y="231"/>
                  </a:lnTo>
                  <a:lnTo>
                    <a:pt x="6" y="247"/>
                  </a:lnTo>
                  <a:lnTo>
                    <a:pt x="1" y="263"/>
                  </a:lnTo>
                  <a:lnTo>
                    <a:pt x="0" y="281"/>
                  </a:lnTo>
                  <a:lnTo>
                    <a:pt x="0" y="1660"/>
                  </a:lnTo>
                  <a:lnTo>
                    <a:pt x="0" y="1671"/>
                  </a:lnTo>
                  <a:lnTo>
                    <a:pt x="3" y="1681"/>
                  </a:lnTo>
                  <a:lnTo>
                    <a:pt x="5" y="1691"/>
                  </a:lnTo>
                  <a:lnTo>
                    <a:pt x="10" y="1700"/>
                  </a:lnTo>
                  <a:lnTo>
                    <a:pt x="11" y="1725"/>
                  </a:lnTo>
                  <a:lnTo>
                    <a:pt x="14" y="1764"/>
                  </a:lnTo>
                  <a:lnTo>
                    <a:pt x="19" y="1814"/>
                  </a:lnTo>
                  <a:lnTo>
                    <a:pt x="31" y="1874"/>
                  </a:lnTo>
                  <a:lnTo>
                    <a:pt x="45" y="1938"/>
                  </a:lnTo>
                  <a:lnTo>
                    <a:pt x="68" y="2006"/>
                  </a:lnTo>
                  <a:lnTo>
                    <a:pt x="97" y="2073"/>
                  </a:lnTo>
                  <a:lnTo>
                    <a:pt x="135" y="2136"/>
                  </a:lnTo>
                  <a:lnTo>
                    <a:pt x="154" y="2160"/>
                  </a:lnTo>
                  <a:lnTo>
                    <a:pt x="174" y="2185"/>
                  </a:lnTo>
                  <a:lnTo>
                    <a:pt x="195" y="2208"/>
                  </a:lnTo>
                  <a:lnTo>
                    <a:pt x="216" y="2229"/>
                  </a:lnTo>
                  <a:lnTo>
                    <a:pt x="239" y="2250"/>
                  </a:lnTo>
                  <a:lnTo>
                    <a:pt x="260" y="2268"/>
                  </a:lnTo>
                  <a:lnTo>
                    <a:pt x="281" y="2286"/>
                  </a:lnTo>
                  <a:lnTo>
                    <a:pt x="302" y="2302"/>
                  </a:lnTo>
                  <a:lnTo>
                    <a:pt x="323" y="2318"/>
                  </a:lnTo>
                  <a:lnTo>
                    <a:pt x="343" y="2331"/>
                  </a:lnTo>
                  <a:lnTo>
                    <a:pt x="361" y="2344"/>
                  </a:lnTo>
                  <a:lnTo>
                    <a:pt x="377" y="2354"/>
                  </a:lnTo>
                  <a:lnTo>
                    <a:pt x="392" y="2364"/>
                  </a:lnTo>
                  <a:lnTo>
                    <a:pt x="403" y="2372"/>
                  </a:lnTo>
                  <a:lnTo>
                    <a:pt x="414" y="2377"/>
                  </a:lnTo>
                  <a:lnTo>
                    <a:pt x="421" y="2381"/>
                  </a:lnTo>
                  <a:lnTo>
                    <a:pt x="434" y="2396"/>
                  </a:lnTo>
                  <a:lnTo>
                    <a:pt x="450" y="2407"/>
                  </a:lnTo>
                  <a:lnTo>
                    <a:pt x="470" y="2416"/>
                  </a:lnTo>
                  <a:lnTo>
                    <a:pt x="492" y="2422"/>
                  </a:lnTo>
                  <a:lnTo>
                    <a:pt x="517" y="2425"/>
                  </a:lnTo>
                  <a:lnTo>
                    <a:pt x="543" y="2427"/>
                  </a:lnTo>
                  <a:lnTo>
                    <a:pt x="570" y="2427"/>
                  </a:lnTo>
                  <a:lnTo>
                    <a:pt x="600" y="2424"/>
                  </a:lnTo>
                  <a:lnTo>
                    <a:pt x="630" y="2419"/>
                  </a:lnTo>
                  <a:lnTo>
                    <a:pt x="663" y="2411"/>
                  </a:lnTo>
                  <a:lnTo>
                    <a:pt x="695" y="2403"/>
                  </a:lnTo>
                  <a:lnTo>
                    <a:pt x="728" y="2391"/>
                  </a:lnTo>
                  <a:lnTo>
                    <a:pt x="762" y="2380"/>
                  </a:lnTo>
                  <a:lnTo>
                    <a:pt x="795" y="2367"/>
                  </a:lnTo>
                  <a:lnTo>
                    <a:pt x="827" y="2352"/>
                  </a:lnTo>
                  <a:lnTo>
                    <a:pt x="860" y="2336"/>
                  </a:lnTo>
                  <a:lnTo>
                    <a:pt x="887" y="2321"/>
                  </a:lnTo>
                  <a:lnTo>
                    <a:pt x="913" y="2307"/>
                  </a:lnTo>
                  <a:lnTo>
                    <a:pt x="939" y="2290"/>
                  </a:lnTo>
                  <a:lnTo>
                    <a:pt x="964" y="2274"/>
                  </a:lnTo>
                  <a:lnTo>
                    <a:pt x="986" y="2258"/>
                  </a:lnTo>
                  <a:lnTo>
                    <a:pt x="1007" y="2242"/>
                  </a:lnTo>
                  <a:lnTo>
                    <a:pt x="1029" y="2225"/>
                  </a:lnTo>
                  <a:lnTo>
                    <a:pt x="1048" y="2208"/>
                  </a:lnTo>
                  <a:lnTo>
                    <a:pt x="1066" y="2191"/>
                  </a:lnTo>
                  <a:lnTo>
                    <a:pt x="1082" y="2175"/>
                  </a:lnTo>
                  <a:lnTo>
                    <a:pt x="1097" y="2157"/>
                  </a:lnTo>
                  <a:lnTo>
                    <a:pt x="1110" y="2141"/>
                  </a:lnTo>
                  <a:lnTo>
                    <a:pt x="1121" y="2125"/>
                  </a:lnTo>
                  <a:lnTo>
                    <a:pt x="1129" y="2108"/>
                  </a:lnTo>
                  <a:lnTo>
                    <a:pt x="1137" y="2092"/>
                  </a:lnTo>
                  <a:lnTo>
                    <a:pt x="1142" y="2076"/>
                  </a:lnTo>
                  <a:lnTo>
                    <a:pt x="1147" y="2055"/>
                  </a:lnTo>
                  <a:lnTo>
                    <a:pt x="1147" y="2035"/>
                  </a:lnTo>
                  <a:lnTo>
                    <a:pt x="1144" y="2016"/>
                  </a:lnTo>
                  <a:lnTo>
                    <a:pt x="1137" y="19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21094800">
              <a:off x="958320" y="2357640"/>
              <a:ext cx="1216440" cy="2337480"/>
            </a:xfrm>
            <a:custGeom>
              <a:avLst/>
              <a:gdLst/>
              <a:ahLst/>
              <a:rect l="l" t="t" r="r" b="b"/>
              <a:pathLst>
                <a:path w="731" h="1408">
                  <a:moveTo>
                    <a:pt x="0" y="1288"/>
                  </a:moveTo>
                  <a:lnTo>
                    <a:pt x="0" y="0"/>
                  </a:lnTo>
                  <a:lnTo>
                    <a:pt x="14" y="10"/>
                  </a:lnTo>
                  <a:lnTo>
                    <a:pt x="32" y="20"/>
                  </a:lnTo>
                  <a:lnTo>
                    <a:pt x="50" y="30"/>
                  </a:lnTo>
                  <a:lnTo>
                    <a:pt x="70" y="38"/>
                  </a:lnTo>
                  <a:lnTo>
                    <a:pt x="91" y="44"/>
                  </a:lnTo>
                  <a:lnTo>
                    <a:pt x="112" y="52"/>
                  </a:lnTo>
                  <a:lnTo>
                    <a:pt x="135" y="59"/>
                  </a:lnTo>
                  <a:lnTo>
                    <a:pt x="159" y="64"/>
                  </a:lnTo>
                  <a:lnTo>
                    <a:pt x="183" y="69"/>
                  </a:lnTo>
                  <a:lnTo>
                    <a:pt x="208" y="73"/>
                  </a:lnTo>
                  <a:lnTo>
                    <a:pt x="234" y="78"/>
                  </a:lnTo>
                  <a:lnTo>
                    <a:pt x="260" y="80"/>
                  </a:lnTo>
                  <a:lnTo>
                    <a:pt x="286" y="83"/>
                  </a:lnTo>
                  <a:lnTo>
                    <a:pt x="312" y="85"/>
                  </a:lnTo>
                  <a:lnTo>
                    <a:pt x="339" y="86"/>
                  </a:lnTo>
                  <a:lnTo>
                    <a:pt x="365" y="86"/>
                  </a:lnTo>
                  <a:lnTo>
                    <a:pt x="391" y="86"/>
                  </a:lnTo>
                  <a:lnTo>
                    <a:pt x="417" y="85"/>
                  </a:lnTo>
                  <a:lnTo>
                    <a:pt x="445" y="83"/>
                  </a:lnTo>
                  <a:lnTo>
                    <a:pt x="471" y="80"/>
                  </a:lnTo>
                  <a:lnTo>
                    <a:pt x="497" y="78"/>
                  </a:lnTo>
                  <a:lnTo>
                    <a:pt x="521" y="73"/>
                  </a:lnTo>
                  <a:lnTo>
                    <a:pt x="547" y="69"/>
                  </a:lnTo>
                  <a:lnTo>
                    <a:pt x="572" y="64"/>
                  </a:lnTo>
                  <a:lnTo>
                    <a:pt x="595" y="59"/>
                  </a:lnTo>
                  <a:lnTo>
                    <a:pt x="617" y="52"/>
                  </a:lnTo>
                  <a:lnTo>
                    <a:pt x="640" y="44"/>
                  </a:lnTo>
                  <a:lnTo>
                    <a:pt x="661" y="38"/>
                  </a:lnTo>
                  <a:lnTo>
                    <a:pt x="681" y="30"/>
                  </a:lnTo>
                  <a:lnTo>
                    <a:pt x="699" y="20"/>
                  </a:lnTo>
                  <a:lnTo>
                    <a:pt x="716" y="10"/>
                  </a:lnTo>
                  <a:lnTo>
                    <a:pt x="731" y="0"/>
                  </a:lnTo>
                  <a:lnTo>
                    <a:pt x="731" y="265"/>
                  </a:lnTo>
                  <a:lnTo>
                    <a:pt x="729" y="265"/>
                  </a:lnTo>
                  <a:lnTo>
                    <a:pt x="728" y="275"/>
                  </a:lnTo>
                  <a:lnTo>
                    <a:pt x="723" y="285"/>
                  </a:lnTo>
                  <a:lnTo>
                    <a:pt x="715" y="294"/>
                  </a:lnTo>
                  <a:lnTo>
                    <a:pt x="705" y="304"/>
                  </a:lnTo>
                  <a:lnTo>
                    <a:pt x="690" y="314"/>
                  </a:lnTo>
                  <a:lnTo>
                    <a:pt x="674" y="324"/>
                  </a:lnTo>
                  <a:lnTo>
                    <a:pt x="655" y="333"/>
                  </a:lnTo>
                  <a:lnTo>
                    <a:pt x="632" y="343"/>
                  </a:lnTo>
                  <a:lnTo>
                    <a:pt x="608" y="351"/>
                  </a:lnTo>
                  <a:lnTo>
                    <a:pt x="580" y="360"/>
                  </a:lnTo>
                  <a:lnTo>
                    <a:pt x="551" y="366"/>
                  </a:lnTo>
                  <a:lnTo>
                    <a:pt x="518" y="373"/>
                  </a:lnTo>
                  <a:lnTo>
                    <a:pt x="482" y="377"/>
                  </a:lnTo>
                  <a:lnTo>
                    <a:pt x="447" y="381"/>
                  </a:lnTo>
                  <a:lnTo>
                    <a:pt x="406" y="384"/>
                  </a:lnTo>
                  <a:lnTo>
                    <a:pt x="365" y="384"/>
                  </a:lnTo>
                  <a:lnTo>
                    <a:pt x="351" y="384"/>
                  </a:lnTo>
                  <a:lnTo>
                    <a:pt x="336" y="384"/>
                  </a:lnTo>
                  <a:lnTo>
                    <a:pt x="322" y="384"/>
                  </a:lnTo>
                  <a:lnTo>
                    <a:pt x="307" y="382"/>
                  </a:lnTo>
                  <a:lnTo>
                    <a:pt x="292" y="382"/>
                  </a:lnTo>
                  <a:lnTo>
                    <a:pt x="278" y="381"/>
                  </a:lnTo>
                  <a:lnTo>
                    <a:pt x="265" y="379"/>
                  </a:lnTo>
                  <a:lnTo>
                    <a:pt x="250" y="377"/>
                  </a:lnTo>
                  <a:lnTo>
                    <a:pt x="219" y="374"/>
                  </a:lnTo>
                  <a:lnTo>
                    <a:pt x="219" y="405"/>
                  </a:lnTo>
                  <a:lnTo>
                    <a:pt x="219" y="1138"/>
                  </a:lnTo>
                  <a:lnTo>
                    <a:pt x="219" y="1163"/>
                  </a:lnTo>
                  <a:lnTo>
                    <a:pt x="244" y="1166"/>
                  </a:lnTo>
                  <a:lnTo>
                    <a:pt x="258" y="1167"/>
                  </a:lnTo>
                  <a:lnTo>
                    <a:pt x="273" y="1169"/>
                  </a:lnTo>
                  <a:lnTo>
                    <a:pt x="287" y="1171"/>
                  </a:lnTo>
                  <a:lnTo>
                    <a:pt x="304" y="1171"/>
                  </a:lnTo>
                  <a:lnTo>
                    <a:pt x="318" y="1172"/>
                  </a:lnTo>
                  <a:lnTo>
                    <a:pt x="335" y="1172"/>
                  </a:lnTo>
                  <a:lnTo>
                    <a:pt x="349" y="1172"/>
                  </a:lnTo>
                  <a:lnTo>
                    <a:pt x="365" y="1172"/>
                  </a:lnTo>
                  <a:lnTo>
                    <a:pt x="391" y="1172"/>
                  </a:lnTo>
                  <a:lnTo>
                    <a:pt x="417" y="1171"/>
                  </a:lnTo>
                  <a:lnTo>
                    <a:pt x="445" y="1169"/>
                  </a:lnTo>
                  <a:lnTo>
                    <a:pt x="471" y="1167"/>
                  </a:lnTo>
                  <a:lnTo>
                    <a:pt x="497" y="1164"/>
                  </a:lnTo>
                  <a:lnTo>
                    <a:pt x="521" y="1161"/>
                  </a:lnTo>
                  <a:lnTo>
                    <a:pt x="547" y="1156"/>
                  </a:lnTo>
                  <a:lnTo>
                    <a:pt x="572" y="1151"/>
                  </a:lnTo>
                  <a:lnTo>
                    <a:pt x="595" y="1145"/>
                  </a:lnTo>
                  <a:lnTo>
                    <a:pt x="617" y="1138"/>
                  </a:lnTo>
                  <a:lnTo>
                    <a:pt x="640" y="1132"/>
                  </a:lnTo>
                  <a:lnTo>
                    <a:pt x="661" y="1124"/>
                  </a:lnTo>
                  <a:lnTo>
                    <a:pt x="681" y="1115"/>
                  </a:lnTo>
                  <a:lnTo>
                    <a:pt x="699" y="1107"/>
                  </a:lnTo>
                  <a:lnTo>
                    <a:pt x="716" y="1098"/>
                  </a:lnTo>
                  <a:lnTo>
                    <a:pt x="731" y="1088"/>
                  </a:lnTo>
                  <a:lnTo>
                    <a:pt x="731" y="1286"/>
                  </a:lnTo>
                  <a:lnTo>
                    <a:pt x="731" y="1286"/>
                  </a:lnTo>
                  <a:lnTo>
                    <a:pt x="731" y="1286"/>
                  </a:lnTo>
                  <a:lnTo>
                    <a:pt x="729" y="1288"/>
                  </a:lnTo>
                  <a:lnTo>
                    <a:pt x="729" y="1288"/>
                  </a:lnTo>
                  <a:lnTo>
                    <a:pt x="728" y="1297"/>
                  </a:lnTo>
                  <a:lnTo>
                    <a:pt x="723" y="1307"/>
                  </a:lnTo>
                  <a:lnTo>
                    <a:pt x="715" y="1317"/>
                  </a:lnTo>
                  <a:lnTo>
                    <a:pt x="703" y="1328"/>
                  </a:lnTo>
                  <a:lnTo>
                    <a:pt x="690" y="1338"/>
                  </a:lnTo>
                  <a:lnTo>
                    <a:pt x="674" y="1348"/>
                  </a:lnTo>
                  <a:lnTo>
                    <a:pt x="653" y="1358"/>
                  </a:lnTo>
                  <a:lnTo>
                    <a:pt x="632" y="1367"/>
                  </a:lnTo>
                  <a:lnTo>
                    <a:pt x="606" y="1375"/>
                  </a:lnTo>
                  <a:lnTo>
                    <a:pt x="580" y="1384"/>
                  </a:lnTo>
                  <a:lnTo>
                    <a:pt x="549" y="1390"/>
                  </a:lnTo>
                  <a:lnTo>
                    <a:pt x="517" y="1397"/>
                  </a:lnTo>
                  <a:lnTo>
                    <a:pt x="482" y="1401"/>
                  </a:lnTo>
                  <a:lnTo>
                    <a:pt x="445" y="1405"/>
                  </a:lnTo>
                  <a:lnTo>
                    <a:pt x="406" y="1408"/>
                  </a:lnTo>
                  <a:lnTo>
                    <a:pt x="365" y="1408"/>
                  </a:lnTo>
                  <a:lnTo>
                    <a:pt x="323" y="1408"/>
                  </a:lnTo>
                  <a:lnTo>
                    <a:pt x="284" y="1405"/>
                  </a:lnTo>
                  <a:lnTo>
                    <a:pt x="247" y="1401"/>
                  </a:lnTo>
                  <a:lnTo>
                    <a:pt x="213" y="1397"/>
                  </a:lnTo>
                  <a:lnTo>
                    <a:pt x="180" y="1390"/>
                  </a:lnTo>
                  <a:lnTo>
                    <a:pt x="149" y="1384"/>
                  </a:lnTo>
                  <a:lnTo>
                    <a:pt x="122" y="1375"/>
                  </a:lnTo>
                  <a:lnTo>
                    <a:pt x="97" y="1367"/>
                  </a:lnTo>
                  <a:lnTo>
                    <a:pt x="74" y="1358"/>
                  </a:lnTo>
                  <a:lnTo>
                    <a:pt x="55" y="1348"/>
                  </a:lnTo>
                  <a:lnTo>
                    <a:pt x="39" y="1338"/>
                  </a:lnTo>
                  <a:lnTo>
                    <a:pt x="24" y="1328"/>
                  </a:lnTo>
                  <a:lnTo>
                    <a:pt x="14" y="1317"/>
                  </a:lnTo>
                  <a:lnTo>
                    <a:pt x="6" y="1307"/>
                  </a:lnTo>
                  <a:lnTo>
                    <a:pt x="1" y="1297"/>
                  </a:lnTo>
                  <a:lnTo>
                    <a:pt x="0" y="12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21094800">
              <a:off x="1422720" y="2912400"/>
              <a:ext cx="757440" cy="1266480"/>
            </a:xfrm>
            <a:custGeom>
              <a:avLst/>
              <a:gdLst/>
              <a:ahLst/>
              <a:rect l="l" t="t" r="r" b="b"/>
              <a:pathLst>
                <a:path w="457" h="762">
                  <a:moveTo>
                    <a:pt x="0" y="81"/>
                  </a:moveTo>
                  <a:lnTo>
                    <a:pt x="12" y="83"/>
                  </a:lnTo>
                  <a:lnTo>
                    <a:pt x="23" y="83"/>
                  </a:lnTo>
                  <a:lnTo>
                    <a:pt x="35" y="84"/>
                  </a:lnTo>
                  <a:lnTo>
                    <a:pt x="46" y="84"/>
                  </a:lnTo>
                  <a:lnTo>
                    <a:pt x="57" y="86"/>
                  </a:lnTo>
                  <a:lnTo>
                    <a:pt x="69" y="86"/>
                  </a:lnTo>
                  <a:lnTo>
                    <a:pt x="80" y="86"/>
                  </a:lnTo>
                  <a:lnTo>
                    <a:pt x="91" y="86"/>
                  </a:lnTo>
                  <a:lnTo>
                    <a:pt x="117" y="86"/>
                  </a:lnTo>
                  <a:lnTo>
                    <a:pt x="143" y="84"/>
                  </a:lnTo>
                  <a:lnTo>
                    <a:pt x="171" y="83"/>
                  </a:lnTo>
                  <a:lnTo>
                    <a:pt x="197" y="81"/>
                  </a:lnTo>
                  <a:lnTo>
                    <a:pt x="223" y="78"/>
                  </a:lnTo>
                  <a:lnTo>
                    <a:pt x="247" y="73"/>
                  </a:lnTo>
                  <a:lnTo>
                    <a:pt x="273" y="70"/>
                  </a:lnTo>
                  <a:lnTo>
                    <a:pt x="298" y="65"/>
                  </a:lnTo>
                  <a:lnTo>
                    <a:pt x="321" y="58"/>
                  </a:lnTo>
                  <a:lnTo>
                    <a:pt x="343" y="52"/>
                  </a:lnTo>
                  <a:lnTo>
                    <a:pt x="366" y="45"/>
                  </a:lnTo>
                  <a:lnTo>
                    <a:pt x="387" y="37"/>
                  </a:lnTo>
                  <a:lnTo>
                    <a:pt x="407" y="29"/>
                  </a:lnTo>
                  <a:lnTo>
                    <a:pt x="425" y="19"/>
                  </a:lnTo>
                  <a:lnTo>
                    <a:pt x="442" y="9"/>
                  </a:lnTo>
                  <a:lnTo>
                    <a:pt x="457" y="0"/>
                  </a:lnTo>
                  <a:lnTo>
                    <a:pt x="457" y="640"/>
                  </a:lnTo>
                  <a:lnTo>
                    <a:pt x="455" y="640"/>
                  </a:lnTo>
                  <a:lnTo>
                    <a:pt x="454" y="650"/>
                  </a:lnTo>
                  <a:lnTo>
                    <a:pt x="449" y="660"/>
                  </a:lnTo>
                  <a:lnTo>
                    <a:pt x="441" y="669"/>
                  </a:lnTo>
                  <a:lnTo>
                    <a:pt x="431" y="681"/>
                  </a:lnTo>
                  <a:lnTo>
                    <a:pt x="416" y="690"/>
                  </a:lnTo>
                  <a:lnTo>
                    <a:pt x="400" y="700"/>
                  </a:lnTo>
                  <a:lnTo>
                    <a:pt x="381" y="710"/>
                  </a:lnTo>
                  <a:lnTo>
                    <a:pt x="358" y="720"/>
                  </a:lnTo>
                  <a:lnTo>
                    <a:pt x="334" y="730"/>
                  </a:lnTo>
                  <a:lnTo>
                    <a:pt x="306" y="736"/>
                  </a:lnTo>
                  <a:lnTo>
                    <a:pt x="277" y="744"/>
                  </a:lnTo>
                  <a:lnTo>
                    <a:pt x="244" y="751"/>
                  </a:lnTo>
                  <a:lnTo>
                    <a:pt x="208" y="756"/>
                  </a:lnTo>
                  <a:lnTo>
                    <a:pt x="173" y="759"/>
                  </a:lnTo>
                  <a:lnTo>
                    <a:pt x="132" y="760"/>
                  </a:lnTo>
                  <a:lnTo>
                    <a:pt x="91" y="762"/>
                  </a:lnTo>
                  <a:lnTo>
                    <a:pt x="80" y="762"/>
                  </a:lnTo>
                  <a:lnTo>
                    <a:pt x="69" y="762"/>
                  </a:lnTo>
                  <a:lnTo>
                    <a:pt x="57" y="762"/>
                  </a:lnTo>
                  <a:lnTo>
                    <a:pt x="46" y="760"/>
                  </a:lnTo>
                  <a:lnTo>
                    <a:pt x="35" y="760"/>
                  </a:lnTo>
                  <a:lnTo>
                    <a:pt x="23" y="759"/>
                  </a:lnTo>
                  <a:lnTo>
                    <a:pt x="12" y="759"/>
                  </a:lnTo>
                  <a:lnTo>
                    <a:pt x="0" y="757"/>
                  </a:lnTo>
                  <a:lnTo>
                    <a:pt x="0" y="8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21094800">
              <a:off x="882360" y="1848240"/>
              <a:ext cx="880920" cy="226080"/>
            </a:xfrm>
            <a:custGeom>
              <a:avLst/>
              <a:gdLst/>
              <a:ahLst/>
              <a:rect l="l" t="t" r="r" b="b"/>
              <a:pathLst>
                <a:path w="528" h="135">
                  <a:moveTo>
                    <a:pt x="265" y="0"/>
                  </a:moveTo>
                  <a:lnTo>
                    <a:pt x="296" y="0"/>
                  </a:lnTo>
                  <a:lnTo>
                    <a:pt x="325" y="2"/>
                  </a:lnTo>
                  <a:lnTo>
                    <a:pt x="353" y="5"/>
                  </a:lnTo>
                  <a:lnTo>
                    <a:pt x="379" y="8"/>
                  </a:lnTo>
                  <a:lnTo>
                    <a:pt x="401" y="12"/>
                  </a:lnTo>
                  <a:lnTo>
                    <a:pt x="423" y="17"/>
                  </a:lnTo>
                  <a:lnTo>
                    <a:pt x="442" y="21"/>
                  </a:lnTo>
                  <a:lnTo>
                    <a:pt x="460" y="26"/>
                  </a:lnTo>
                  <a:lnTo>
                    <a:pt x="476" y="33"/>
                  </a:lnTo>
                  <a:lnTo>
                    <a:pt x="489" y="38"/>
                  </a:lnTo>
                  <a:lnTo>
                    <a:pt x="502" y="44"/>
                  </a:lnTo>
                  <a:lnTo>
                    <a:pt x="510" y="49"/>
                  </a:lnTo>
                  <a:lnTo>
                    <a:pt x="518" y="56"/>
                  </a:lnTo>
                  <a:lnTo>
                    <a:pt x="523" y="60"/>
                  </a:lnTo>
                  <a:lnTo>
                    <a:pt x="527" y="65"/>
                  </a:lnTo>
                  <a:lnTo>
                    <a:pt x="528" y="69"/>
                  </a:lnTo>
                  <a:lnTo>
                    <a:pt x="527" y="72"/>
                  </a:lnTo>
                  <a:lnTo>
                    <a:pt x="523" y="77"/>
                  </a:lnTo>
                  <a:lnTo>
                    <a:pt x="518" y="82"/>
                  </a:lnTo>
                  <a:lnTo>
                    <a:pt x="510" y="86"/>
                  </a:lnTo>
                  <a:lnTo>
                    <a:pt x="502" y="93"/>
                  </a:lnTo>
                  <a:lnTo>
                    <a:pt x="489" y="98"/>
                  </a:lnTo>
                  <a:lnTo>
                    <a:pt x="476" y="104"/>
                  </a:lnTo>
                  <a:lnTo>
                    <a:pt x="460" y="109"/>
                  </a:lnTo>
                  <a:lnTo>
                    <a:pt x="442" y="114"/>
                  </a:lnTo>
                  <a:lnTo>
                    <a:pt x="423" y="119"/>
                  </a:lnTo>
                  <a:lnTo>
                    <a:pt x="401" y="124"/>
                  </a:lnTo>
                  <a:lnTo>
                    <a:pt x="379" y="127"/>
                  </a:lnTo>
                  <a:lnTo>
                    <a:pt x="353" y="130"/>
                  </a:lnTo>
                  <a:lnTo>
                    <a:pt x="325" y="134"/>
                  </a:lnTo>
                  <a:lnTo>
                    <a:pt x="296" y="135"/>
                  </a:lnTo>
                  <a:lnTo>
                    <a:pt x="265" y="135"/>
                  </a:lnTo>
                  <a:lnTo>
                    <a:pt x="234" y="135"/>
                  </a:lnTo>
                  <a:lnTo>
                    <a:pt x="205" y="134"/>
                  </a:lnTo>
                  <a:lnTo>
                    <a:pt x="177" y="130"/>
                  </a:lnTo>
                  <a:lnTo>
                    <a:pt x="151" y="127"/>
                  </a:lnTo>
                  <a:lnTo>
                    <a:pt x="127" y="124"/>
                  </a:lnTo>
                  <a:lnTo>
                    <a:pt x="106" y="119"/>
                  </a:lnTo>
                  <a:lnTo>
                    <a:pt x="86" y="114"/>
                  </a:lnTo>
                  <a:lnTo>
                    <a:pt x="68" y="109"/>
                  </a:lnTo>
                  <a:lnTo>
                    <a:pt x="52" y="104"/>
                  </a:lnTo>
                  <a:lnTo>
                    <a:pt x="39" y="98"/>
                  </a:lnTo>
                  <a:lnTo>
                    <a:pt x="26" y="93"/>
                  </a:lnTo>
                  <a:lnTo>
                    <a:pt x="18" y="86"/>
                  </a:lnTo>
                  <a:lnTo>
                    <a:pt x="10" y="82"/>
                  </a:lnTo>
                  <a:lnTo>
                    <a:pt x="5" y="77"/>
                  </a:lnTo>
                  <a:lnTo>
                    <a:pt x="2" y="72"/>
                  </a:lnTo>
                  <a:lnTo>
                    <a:pt x="0" y="69"/>
                  </a:lnTo>
                  <a:lnTo>
                    <a:pt x="2" y="65"/>
                  </a:lnTo>
                  <a:lnTo>
                    <a:pt x="5" y="60"/>
                  </a:lnTo>
                  <a:lnTo>
                    <a:pt x="10" y="56"/>
                  </a:lnTo>
                  <a:lnTo>
                    <a:pt x="18" y="49"/>
                  </a:lnTo>
                  <a:lnTo>
                    <a:pt x="26" y="44"/>
                  </a:lnTo>
                  <a:lnTo>
                    <a:pt x="39" y="38"/>
                  </a:lnTo>
                  <a:lnTo>
                    <a:pt x="52" y="33"/>
                  </a:lnTo>
                  <a:lnTo>
                    <a:pt x="68" y="26"/>
                  </a:lnTo>
                  <a:lnTo>
                    <a:pt x="86" y="21"/>
                  </a:lnTo>
                  <a:lnTo>
                    <a:pt x="106" y="17"/>
                  </a:lnTo>
                  <a:lnTo>
                    <a:pt x="127" y="12"/>
                  </a:lnTo>
                  <a:lnTo>
                    <a:pt x="151" y="8"/>
                  </a:lnTo>
                  <a:lnTo>
                    <a:pt x="177" y="5"/>
                  </a:lnTo>
                  <a:lnTo>
                    <a:pt x="205" y="2"/>
                  </a:lnTo>
                  <a:lnTo>
                    <a:pt x="234" y="0"/>
                  </a:lnTo>
                  <a:lnTo>
                    <a:pt x="2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21094800">
              <a:off x="769320" y="2082240"/>
              <a:ext cx="1216440" cy="336240"/>
            </a:xfrm>
            <a:custGeom>
              <a:avLst/>
              <a:gdLst/>
              <a:ahLst/>
              <a:rect l="l" t="t" r="r" b="b"/>
              <a:pathLst>
                <a:path w="731" h="204">
                  <a:moveTo>
                    <a:pt x="99" y="2"/>
                  </a:moveTo>
                  <a:lnTo>
                    <a:pt x="112" y="8"/>
                  </a:lnTo>
                  <a:lnTo>
                    <a:pt x="125" y="13"/>
                  </a:lnTo>
                  <a:lnTo>
                    <a:pt x="138" y="18"/>
                  </a:lnTo>
                  <a:lnTo>
                    <a:pt x="152" y="23"/>
                  </a:lnTo>
                  <a:lnTo>
                    <a:pt x="169" y="28"/>
                  </a:lnTo>
                  <a:lnTo>
                    <a:pt x="183" y="31"/>
                  </a:lnTo>
                  <a:lnTo>
                    <a:pt x="200" y="34"/>
                  </a:lnTo>
                  <a:lnTo>
                    <a:pt x="218" y="38"/>
                  </a:lnTo>
                  <a:lnTo>
                    <a:pt x="234" y="41"/>
                  </a:lnTo>
                  <a:lnTo>
                    <a:pt x="252" y="43"/>
                  </a:lnTo>
                  <a:lnTo>
                    <a:pt x="270" y="44"/>
                  </a:lnTo>
                  <a:lnTo>
                    <a:pt x="287" y="46"/>
                  </a:lnTo>
                  <a:lnTo>
                    <a:pt x="305" y="47"/>
                  </a:lnTo>
                  <a:lnTo>
                    <a:pt x="323" y="49"/>
                  </a:lnTo>
                  <a:lnTo>
                    <a:pt x="341" y="49"/>
                  </a:lnTo>
                  <a:lnTo>
                    <a:pt x="359" y="49"/>
                  </a:lnTo>
                  <a:lnTo>
                    <a:pt x="377" y="49"/>
                  </a:lnTo>
                  <a:lnTo>
                    <a:pt x="396" y="49"/>
                  </a:lnTo>
                  <a:lnTo>
                    <a:pt x="414" y="47"/>
                  </a:lnTo>
                  <a:lnTo>
                    <a:pt x="432" y="46"/>
                  </a:lnTo>
                  <a:lnTo>
                    <a:pt x="452" y="44"/>
                  </a:lnTo>
                  <a:lnTo>
                    <a:pt x="469" y="43"/>
                  </a:lnTo>
                  <a:lnTo>
                    <a:pt x="487" y="39"/>
                  </a:lnTo>
                  <a:lnTo>
                    <a:pt x="504" y="36"/>
                  </a:lnTo>
                  <a:lnTo>
                    <a:pt x="521" y="34"/>
                  </a:lnTo>
                  <a:lnTo>
                    <a:pt x="538" y="30"/>
                  </a:lnTo>
                  <a:lnTo>
                    <a:pt x="554" y="26"/>
                  </a:lnTo>
                  <a:lnTo>
                    <a:pt x="569" y="21"/>
                  </a:lnTo>
                  <a:lnTo>
                    <a:pt x="583" y="17"/>
                  </a:lnTo>
                  <a:lnTo>
                    <a:pt x="598" y="12"/>
                  </a:lnTo>
                  <a:lnTo>
                    <a:pt x="611" y="7"/>
                  </a:lnTo>
                  <a:lnTo>
                    <a:pt x="622" y="0"/>
                  </a:lnTo>
                  <a:lnTo>
                    <a:pt x="647" y="8"/>
                  </a:lnTo>
                  <a:lnTo>
                    <a:pt x="668" y="18"/>
                  </a:lnTo>
                  <a:lnTo>
                    <a:pt x="686" y="30"/>
                  </a:lnTo>
                  <a:lnTo>
                    <a:pt x="702" y="39"/>
                  </a:lnTo>
                  <a:lnTo>
                    <a:pt x="715" y="51"/>
                  </a:lnTo>
                  <a:lnTo>
                    <a:pt x="723" y="60"/>
                  </a:lnTo>
                  <a:lnTo>
                    <a:pt x="729" y="72"/>
                  </a:lnTo>
                  <a:lnTo>
                    <a:pt x="731" y="83"/>
                  </a:lnTo>
                  <a:lnTo>
                    <a:pt x="729" y="93"/>
                  </a:lnTo>
                  <a:lnTo>
                    <a:pt x="725" y="103"/>
                  </a:lnTo>
                  <a:lnTo>
                    <a:pt x="716" y="112"/>
                  </a:lnTo>
                  <a:lnTo>
                    <a:pt x="705" y="124"/>
                  </a:lnTo>
                  <a:lnTo>
                    <a:pt x="692" y="134"/>
                  </a:lnTo>
                  <a:lnTo>
                    <a:pt x="674" y="143"/>
                  </a:lnTo>
                  <a:lnTo>
                    <a:pt x="655" y="153"/>
                  </a:lnTo>
                  <a:lnTo>
                    <a:pt x="634" y="163"/>
                  </a:lnTo>
                  <a:lnTo>
                    <a:pt x="608" y="171"/>
                  </a:lnTo>
                  <a:lnTo>
                    <a:pt x="580" y="179"/>
                  </a:lnTo>
                  <a:lnTo>
                    <a:pt x="551" y="186"/>
                  </a:lnTo>
                  <a:lnTo>
                    <a:pt x="518" y="192"/>
                  </a:lnTo>
                  <a:lnTo>
                    <a:pt x="482" y="197"/>
                  </a:lnTo>
                  <a:lnTo>
                    <a:pt x="447" y="200"/>
                  </a:lnTo>
                  <a:lnTo>
                    <a:pt x="406" y="204"/>
                  </a:lnTo>
                  <a:lnTo>
                    <a:pt x="365" y="204"/>
                  </a:lnTo>
                  <a:lnTo>
                    <a:pt x="323" y="204"/>
                  </a:lnTo>
                  <a:lnTo>
                    <a:pt x="284" y="200"/>
                  </a:lnTo>
                  <a:lnTo>
                    <a:pt x="247" y="197"/>
                  </a:lnTo>
                  <a:lnTo>
                    <a:pt x="213" y="192"/>
                  </a:lnTo>
                  <a:lnTo>
                    <a:pt x="180" y="186"/>
                  </a:lnTo>
                  <a:lnTo>
                    <a:pt x="149" y="179"/>
                  </a:lnTo>
                  <a:lnTo>
                    <a:pt x="122" y="171"/>
                  </a:lnTo>
                  <a:lnTo>
                    <a:pt x="97" y="163"/>
                  </a:lnTo>
                  <a:lnTo>
                    <a:pt x="74" y="153"/>
                  </a:lnTo>
                  <a:lnTo>
                    <a:pt x="55" y="143"/>
                  </a:lnTo>
                  <a:lnTo>
                    <a:pt x="39" y="134"/>
                  </a:lnTo>
                  <a:lnTo>
                    <a:pt x="24" y="124"/>
                  </a:lnTo>
                  <a:lnTo>
                    <a:pt x="14" y="112"/>
                  </a:lnTo>
                  <a:lnTo>
                    <a:pt x="6" y="103"/>
                  </a:lnTo>
                  <a:lnTo>
                    <a:pt x="1" y="93"/>
                  </a:lnTo>
                  <a:lnTo>
                    <a:pt x="0" y="83"/>
                  </a:lnTo>
                  <a:lnTo>
                    <a:pt x="1" y="73"/>
                  </a:lnTo>
                  <a:lnTo>
                    <a:pt x="6" y="62"/>
                  </a:lnTo>
                  <a:lnTo>
                    <a:pt x="14" y="51"/>
                  </a:lnTo>
                  <a:lnTo>
                    <a:pt x="26" y="41"/>
                  </a:lnTo>
                  <a:lnTo>
                    <a:pt x="40" y="30"/>
                  </a:lnTo>
                  <a:lnTo>
                    <a:pt x="57" y="20"/>
                  </a:lnTo>
                  <a:lnTo>
                    <a:pt x="76" y="10"/>
                  </a:lnTo>
                  <a:lnTo>
                    <a:pt x="99" y="2"/>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21094800">
              <a:off x="1211760" y="4604760"/>
              <a:ext cx="1492560" cy="927360"/>
            </a:xfrm>
            <a:custGeom>
              <a:avLst/>
              <a:gdLst/>
              <a:ahLst/>
              <a:rect l="l" t="t" r="r" b="b"/>
              <a:pathLst>
                <a:path w="898" h="558">
                  <a:moveTo>
                    <a:pt x="112" y="353"/>
                  </a:moveTo>
                  <a:lnTo>
                    <a:pt x="86" y="311"/>
                  </a:lnTo>
                  <a:lnTo>
                    <a:pt x="63" y="267"/>
                  </a:lnTo>
                  <a:lnTo>
                    <a:pt x="45" y="220"/>
                  </a:lnTo>
                  <a:lnTo>
                    <a:pt x="31" y="174"/>
                  </a:lnTo>
                  <a:lnTo>
                    <a:pt x="19" y="129"/>
                  </a:lnTo>
                  <a:lnTo>
                    <a:pt x="11" y="85"/>
                  </a:lnTo>
                  <a:lnTo>
                    <a:pt x="5" y="46"/>
                  </a:lnTo>
                  <a:lnTo>
                    <a:pt x="0" y="11"/>
                  </a:lnTo>
                  <a:lnTo>
                    <a:pt x="16" y="21"/>
                  </a:lnTo>
                  <a:lnTo>
                    <a:pt x="32" y="29"/>
                  </a:lnTo>
                  <a:lnTo>
                    <a:pt x="52" y="37"/>
                  </a:lnTo>
                  <a:lnTo>
                    <a:pt x="70" y="44"/>
                  </a:lnTo>
                  <a:lnTo>
                    <a:pt x="91" y="52"/>
                  </a:lnTo>
                  <a:lnTo>
                    <a:pt x="112" y="57"/>
                  </a:lnTo>
                  <a:lnTo>
                    <a:pt x="135" y="64"/>
                  </a:lnTo>
                  <a:lnTo>
                    <a:pt x="157" y="68"/>
                  </a:lnTo>
                  <a:lnTo>
                    <a:pt x="180" y="73"/>
                  </a:lnTo>
                  <a:lnTo>
                    <a:pt x="203" y="77"/>
                  </a:lnTo>
                  <a:lnTo>
                    <a:pt x="227" y="80"/>
                  </a:lnTo>
                  <a:lnTo>
                    <a:pt x="253" y="83"/>
                  </a:lnTo>
                  <a:lnTo>
                    <a:pt x="278" y="85"/>
                  </a:lnTo>
                  <a:lnTo>
                    <a:pt x="302" y="86"/>
                  </a:lnTo>
                  <a:lnTo>
                    <a:pt x="328" y="88"/>
                  </a:lnTo>
                  <a:lnTo>
                    <a:pt x="352" y="88"/>
                  </a:lnTo>
                  <a:lnTo>
                    <a:pt x="378" y="88"/>
                  </a:lnTo>
                  <a:lnTo>
                    <a:pt x="406" y="86"/>
                  </a:lnTo>
                  <a:lnTo>
                    <a:pt x="432" y="85"/>
                  </a:lnTo>
                  <a:lnTo>
                    <a:pt x="458" y="81"/>
                  </a:lnTo>
                  <a:lnTo>
                    <a:pt x="486" y="80"/>
                  </a:lnTo>
                  <a:lnTo>
                    <a:pt x="510" y="75"/>
                  </a:lnTo>
                  <a:lnTo>
                    <a:pt x="536" y="70"/>
                  </a:lnTo>
                  <a:lnTo>
                    <a:pt x="560" y="65"/>
                  </a:lnTo>
                  <a:lnTo>
                    <a:pt x="585" y="59"/>
                  </a:lnTo>
                  <a:lnTo>
                    <a:pt x="608" y="52"/>
                  </a:lnTo>
                  <a:lnTo>
                    <a:pt x="629" y="46"/>
                  </a:lnTo>
                  <a:lnTo>
                    <a:pt x="650" y="37"/>
                  </a:lnTo>
                  <a:lnTo>
                    <a:pt x="669" y="29"/>
                  </a:lnTo>
                  <a:lnTo>
                    <a:pt x="687" y="20"/>
                  </a:lnTo>
                  <a:lnTo>
                    <a:pt x="705" y="10"/>
                  </a:lnTo>
                  <a:lnTo>
                    <a:pt x="720" y="0"/>
                  </a:lnTo>
                  <a:lnTo>
                    <a:pt x="725" y="28"/>
                  </a:lnTo>
                  <a:lnTo>
                    <a:pt x="733" y="55"/>
                  </a:lnTo>
                  <a:lnTo>
                    <a:pt x="744" y="80"/>
                  </a:lnTo>
                  <a:lnTo>
                    <a:pt x="760" y="99"/>
                  </a:lnTo>
                  <a:lnTo>
                    <a:pt x="772" y="109"/>
                  </a:lnTo>
                  <a:lnTo>
                    <a:pt x="785" y="120"/>
                  </a:lnTo>
                  <a:lnTo>
                    <a:pt x="801" y="132"/>
                  </a:lnTo>
                  <a:lnTo>
                    <a:pt x="819" y="145"/>
                  </a:lnTo>
                  <a:lnTo>
                    <a:pt x="838" y="158"/>
                  </a:lnTo>
                  <a:lnTo>
                    <a:pt x="858" y="172"/>
                  </a:lnTo>
                  <a:lnTo>
                    <a:pt x="877" y="185"/>
                  </a:lnTo>
                  <a:lnTo>
                    <a:pt x="898" y="198"/>
                  </a:lnTo>
                  <a:lnTo>
                    <a:pt x="882" y="200"/>
                  </a:lnTo>
                  <a:lnTo>
                    <a:pt x="866" y="203"/>
                  </a:lnTo>
                  <a:lnTo>
                    <a:pt x="850" y="207"/>
                  </a:lnTo>
                  <a:lnTo>
                    <a:pt x="832" y="210"/>
                  </a:lnTo>
                  <a:lnTo>
                    <a:pt x="816" y="215"/>
                  </a:lnTo>
                  <a:lnTo>
                    <a:pt x="798" y="220"/>
                  </a:lnTo>
                  <a:lnTo>
                    <a:pt x="780" y="224"/>
                  </a:lnTo>
                  <a:lnTo>
                    <a:pt x="764" y="229"/>
                  </a:lnTo>
                  <a:lnTo>
                    <a:pt x="746" y="236"/>
                  </a:lnTo>
                  <a:lnTo>
                    <a:pt x="728" y="242"/>
                  </a:lnTo>
                  <a:lnTo>
                    <a:pt x="710" y="249"/>
                  </a:lnTo>
                  <a:lnTo>
                    <a:pt x="692" y="255"/>
                  </a:lnTo>
                  <a:lnTo>
                    <a:pt x="674" y="263"/>
                  </a:lnTo>
                  <a:lnTo>
                    <a:pt x="656" y="272"/>
                  </a:lnTo>
                  <a:lnTo>
                    <a:pt x="640" y="280"/>
                  </a:lnTo>
                  <a:lnTo>
                    <a:pt x="622" y="288"/>
                  </a:lnTo>
                  <a:lnTo>
                    <a:pt x="595" y="302"/>
                  </a:lnTo>
                  <a:lnTo>
                    <a:pt x="569" y="317"/>
                  </a:lnTo>
                  <a:lnTo>
                    <a:pt x="543" y="333"/>
                  </a:lnTo>
                  <a:lnTo>
                    <a:pt x="520" y="350"/>
                  </a:lnTo>
                  <a:lnTo>
                    <a:pt x="495" y="366"/>
                  </a:lnTo>
                  <a:lnTo>
                    <a:pt x="474" y="382"/>
                  </a:lnTo>
                  <a:lnTo>
                    <a:pt x="453" y="398"/>
                  </a:lnTo>
                  <a:lnTo>
                    <a:pt x="435" y="416"/>
                  </a:lnTo>
                  <a:lnTo>
                    <a:pt x="417" y="433"/>
                  </a:lnTo>
                  <a:lnTo>
                    <a:pt x="401" y="450"/>
                  </a:lnTo>
                  <a:lnTo>
                    <a:pt x="387" y="467"/>
                  </a:lnTo>
                  <a:lnTo>
                    <a:pt x="374" y="485"/>
                  </a:lnTo>
                  <a:lnTo>
                    <a:pt x="362" y="501"/>
                  </a:lnTo>
                  <a:lnTo>
                    <a:pt x="352" y="517"/>
                  </a:lnTo>
                  <a:lnTo>
                    <a:pt x="344" y="532"/>
                  </a:lnTo>
                  <a:lnTo>
                    <a:pt x="339" y="548"/>
                  </a:lnTo>
                  <a:lnTo>
                    <a:pt x="338" y="550"/>
                  </a:lnTo>
                  <a:lnTo>
                    <a:pt x="338" y="553"/>
                  </a:lnTo>
                  <a:lnTo>
                    <a:pt x="338" y="554"/>
                  </a:lnTo>
                  <a:lnTo>
                    <a:pt x="338" y="558"/>
                  </a:lnTo>
                  <a:lnTo>
                    <a:pt x="313" y="541"/>
                  </a:lnTo>
                  <a:lnTo>
                    <a:pt x="287" y="524"/>
                  </a:lnTo>
                  <a:lnTo>
                    <a:pt x="258" y="501"/>
                  </a:lnTo>
                  <a:lnTo>
                    <a:pt x="227" y="476"/>
                  </a:lnTo>
                  <a:lnTo>
                    <a:pt x="196" y="449"/>
                  </a:lnTo>
                  <a:lnTo>
                    <a:pt x="167" y="420"/>
                  </a:lnTo>
                  <a:lnTo>
                    <a:pt x="138" y="387"/>
                  </a:lnTo>
                  <a:lnTo>
                    <a:pt x="112" y="353"/>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21094800">
              <a:off x="1896840" y="4958640"/>
              <a:ext cx="1046880" cy="614520"/>
            </a:xfrm>
            <a:custGeom>
              <a:avLst/>
              <a:gdLst/>
              <a:ahLst/>
              <a:rect l="l" t="t" r="r" b="b"/>
              <a:pathLst>
                <a:path w="631" h="371">
                  <a:moveTo>
                    <a:pt x="628" y="59"/>
                  </a:moveTo>
                  <a:lnTo>
                    <a:pt x="618" y="80"/>
                  </a:lnTo>
                  <a:lnTo>
                    <a:pt x="602" y="106"/>
                  </a:lnTo>
                  <a:lnTo>
                    <a:pt x="581" y="133"/>
                  </a:lnTo>
                  <a:lnTo>
                    <a:pt x="551" y="163"/>
                  </a:lnTo>
                  <a:lnTo>
                    <a:pt x="516" y="194"/>
                  </a:lnTo>
                  <a:lnTo>
                    <a:pt x="475" y="224"/>
                  </a:lnTo>
                  <a:lnTo>
                    <a:pt x="426" y="255"/>
                  </a:lnTo>
                  <a:lnTo>
                    <a:pt x="373" y="285"/>
                  </a:lnTo>
                  <a:lnTo>
                    <a:pt x="337" y="302"/>
                  </a:lnTo>
                  <a:lnTo>
                    <a:pt x="303" y="317"/>
                  </a:lnTo>
                  <a:lnTo>
                    <a:pt x="269" y="330"/>
                  </a:lnTo>
                  <a:lnTo>
                    <a:pt x="236" y="341"/>
                  </a:lnTo>
                  <a:lnTo>
                    <a:pt x="205" y="351"/>
                  </a:lnTo>
                  <a:lnTo>
                    <a:pt x="178" y="358"/>
                  </a:lnTo>
                  <a:lnTo>
                    <a:pt x="150" y="364"/>
                  </a:lnTo>
                  <a:lnTo>
                    <a:pt x="124" y="367"/>
                  </a:lnTo>
                  <a:lnTo>
                    <a:pt x="101" y="369"/>
                  </a:lnTo>
                  <a:lnTo>
                    <a:pt x="80" y="371"/>
                  </a:lnTo>
                  <a:lnTo>
                    <a:pt x="61" y="369"/>
                  </a:lnTo>
                  <a:lnTo>
                    <a:pt x="44" y="367"/>
                  </a:lnTo>
                  <a:lnTo>
                    <a:pt x="30" y="363"/>
                  </a:lnTo>
                  <a:lnTo>
                    <a:pt x="18" y="358"/>
                  </a:lnTo>
                  <a:lnTo>
                    <a:pt x="10" y="353"/>
                  </a:lnTo>
                  <a:lnTo>
                    <a:pt x="4" y="345"/>
                  </a:lnTo>
                  <a:lnTo>
                    <a:pt x="0" y="338"/>
                  </a:lnTo>
                  <a:lnTo>
                    <a:pt x="0" y="330"/>
                  </a:lnTo>
                  <a:lnTo>
                    <a:pt x="0" y="322"/>
                  </a:lnTo>
                  <a:lnTo>
                    <a:pt x="2" y="312"/>
                  </a:lnTo>
                  <a:lnTo>
                    <a:pt x="12" y="291"/>
                  </a:lnTo>
                  <a:lnTo>
                    <a:pt x="28" y="265"/>
                  </a:lnTo>
                  <a:lnTo>
                    <a:pt x="49" y="237"/>
                  </a:lnTo>
                  <a:lnTo>
                    <a:pt x="78" y="208"/>
                  </a:lnTo>
                  <a:lnTo>
                    <a:pt x="114" y="177"/>
                  </a:lnTo>
                  <a:lnTo>
                    <a:pt x="155" y="146"/>
                  </a:lnTo>
                  <a:lnTo>
                    <a:pt x="204" y="115"/>
                  </a:lnTo>
                  <a:lnTo>
                    <a:pt x="257" y="86"/>
                  </a:lnTo>
                  <a:lnTo>
                    <a:pt x="293" y="68"/>
                  </a:lnTo>
                  <a:lnTo>
                    <a:pt x="327" y="54"/>
                  </a:lnTo>
                  <a:lnTo>
                    <a:pt x="361" y="41"/>
                  </a:lnTo>
                  <a:lnTo>
                    <a:pt x="394" y="29"/>
                  </a:lnTo>
                  <a:lnTo>
                    <a:pt x="425" y="20"/>
                  </a:lnTo>
                  <a:lnTo>
                    <a:pt x="452" y="13"/>
                  </a:lnTo>
                  <a:lnTo>
                    <a:pt x="480" y="7"/>
                  </a:lnTo>
                  <a:lnTo>
                    <a:pt x="506" y="3"/>
                  </a:lnTo>
                  <a:lnTo>
                    <a:pt x="529" y="2"/>
                  </a:lnTo>
                  <a:lnTo>
                    <a:pt x="551" y="0"/>
                  </a:lnTo>
                  <a:lnTo>
                    <a:pt x="569" y="2"/>
                  </a:lnTo>
                  <a:lnTo>
                    <a:pt x="587" y="3"/>
                  </a:lnTo>
                  <a:lnTo>
                    <a:pt x="602" y="8"/>
                  </a:lnTo>
                  <a:lnTo>
                    <a:pt x="613" y="13"/>
                  </a:lnTo>
                  <a:lnTo>
                    <a:pt x="621" y="18"/>
                  </a:lnTo>
                  <a:lnTo>
                    <a:pt x="628" y="26"/>
                  </a:lnTo>
                  <a:lnTo>
                    <a:pt x="631" y="33"/>
                  </a:lnTo>
                  <a:lnTo>
                    <a:pt x="631" y="41"/>
                  </a:lnTo>
                  <a:lnTo>
                    <a:pt x="631" y="49"/>
                  </a:lnTo>
                  <a:lnTo>
                    <a:pt x="628"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2481120" y="3548160"/>
            <a:ext cx="180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5.0</a:t>
            </a:r>
            <a:endParaRPr b="0" lang="en-US" sz="1000" spc="-1" strike="noStrike">
              <a:solidFill>
                <a:srgbClr val="000000"/>
              </a:solidFill>
              <a:latin typeface="Arial"/>
            </a:endParaRPr>
          </a:p>
        </p:txBody>
      </p:sp>
      <p:sp>
        <p:nvSpPr>
          <p:cNvPr id="109" name=""/>
          <p:cNvSpPr/>
          <p:nvPr/>
        </p:nvSpPr>
        <p:spPr>
          <a:xfrm>
            <a:off x="379440" y="276120"/>
            <a:ext cx="8402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Asthm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928680"/>
            <a:ext cx="7772400" cy="1420920"/>
          </a:xfrm>
          <a:prstGeom prst="rect">
            <a:avLst/>
          </a:prstGeom>
          <a:noFill/>
          <a:ln w="0">
            <a:noFill/>
          </a:ln>
        </p:spPr>
        <p:txBody>
          <a:bodyPr lIns="90000" rIns="90000" tIns="46800" bIns="46800" anchor="ctr">
            <a:noAutofit/>
          </a:bodyPr>
          <a:p>
            <a:pPr indent="0" algn="ctr">
              <a:lnSpc>
                <a:spcPct val="90000"/>
              </a:lnSpc>
              <a:spcBef>
                <a:spcPts val="110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irritated eyes and asthma be caused by something in the air?</a:t>
            </a: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2" name="" descr=""/>
          <p:cNvPicPr/>
          <p:nvPr/>
        </p:nvPicPr>
        <p:blipFill>
          <a:blip r:embed="rId2"/>
          <a:stretch/>
        </p:blipFill>
        <p:spPr>
          <a:xfrm>
            <a:off x="2828880" y="1009800"/>
            <a:ext cx="3484440" cy="270324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3573360" y="2432160"/>
            <a:ext cx="4608720" cy="3186000"/>
          </a:xfrm>
          <a:prstGeom prst="rect">
            <a:avLst/>
          </a:prstGeom>
          <a:ln w="0">
            <a:noFill/>
          </a:ln>
        </p:spPr>
      </p:pic>
      <p:grpSp>
        <p:nvGrpSpPr>
          <p:cNvPr id="115" name=""/>
          <p:cNvGrpSpPr/>
          <p:nvPr/>
        </p:nvGrpSpPr>
        <p:grpSpPr>
          <a:xfrm>
            <a:off x="3573360" y="2430360"/>
            <a:ext cx="4611960" cy="3533760"/>
            <a:chOff x="3573360" y="2430360"/>
            <a:chExt cx="4611960" cy="3533760"/>
          </a:xfrm>
        </p:grpSpPr>
        <p:sp>
          <p:nvSpPr>
            <p:cNvPr id="116" name=""/>
            <p:cNvSpPr/>
            <p:nvPr/>
          </p:nvSpPr>
          <p:spPr>
            <a:xfrm>
              <a:off x="3573360" y="2430360"/>
              <a:ext cx="4611960" cy="3225960"/>
            </a:xfrm>
            <a:prstGeom prst="rect">
              <a:avLst/>
            </a:prstGeom>
            <a:gradFill rotWithShape="0">
              <a:gsLst>
                <a:gs pos="0">
                  <a:srgbClr val="996600">
                    <a:alpha val="40000"/>
                  </a:srgbClr>
                </a:gs>
                <a:gs pos="100000">
                  <a:srgbClr val="000000">
                    <a:alpha val="40000"/>
                  </a:srgbClr>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878440" y="565632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800680" y="5810400"/>
              <a:ext cx="154080" cy="153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3573360" y="2430360"/>
            <a:ext cx="4608720" cy="3533760"/>
            <a:chOff x="3573360" y="2430360"/>
            <a:chExt cx="4608720" cy="3533760"/>
          </a:xfrm>
        </p:grpSpPr>
        <p:sp>
          <p:nvSpPr>
            <p:cNvPr id="120" name=""/>
            <p:cNvSpPr/>
            <p:nvPr/>
          </p:nvSpPr>
          <p:spPr>
            <a:xfrm>
              <a:off x="3573360" y="2430360"/>
              <a:ext cx="4608720" cy="3225960"/>
            </a:xfrm>
            <a:prstGeom prst="rect">
              <a:avLst/>
            </a:prstGeom>
            <a:gradFill rotWithShape="0">
              <a:gsLst>
                <a:gs pos="0">
                  <a:srgbClr val="808080">
                    <a:alpha val="29019"/>
                  </a:srgbClr>
                </a:gs>
                <a:gs pos="100000">
                  <a:srgbClr val="000000">
                    <a:alpha val="29019"/>
                  </a:srgbClr>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878440" y="565632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800680" y="5810400"/>
              <a:ext cx="154080" cy="153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PlaceHolder 1"/>
          <p:cNvSpPr>
            <a:spLocks noGrp="1"/>
          </p:cNvSpPr>
          <p:nvPr>
            <p:ph type="title"/>
          </p:nvPr>
        </p:nvSpPr>
        <p:spPr>
          <a:xfrm>
            <a:off x="457200" y="32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uston Weather on Trip Day</a:t>
            </a:r>
            <a:endParaRPr b="0" lang="en-US" sz="4400" spc="-1" strike="noStrike">
              <a:solidFill>
                <a:srgbClr val="000000"/>
              </a:solidFill>
              <a:latin typeface="Times New Roman"/>
            </a:endParaRPr>
          </a:p>
        </p:txBody>
      </p:sp>
      <p:sp>
        <p:nvSpPr>
          <p:cNvPr id="124" name="PlaceHolder 2"/>
          <p:cNvSpPr>
            <a:spLocks noGrp="1"/>
          </p:cNvSpPr>
          <p:nvPr>
            <p:ph/>
          </p:nvPr>
        </p:nvSpPr>
        <p:spPr>
          <a:xfrm>
            <a:off x="569520" y="2530080"/>
            <a:ext cx="2770200" cy="498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t and humid</a:t>
            </a:r>
            <a:endParaRPr b="0" lang="en-US" sz="2800" spc="-1" strike="noStrike">
              <a:solidFill>
                <a:srgbClr val="000000"/>
              </a:solidFill>
              <a:latin typeface="Times New Roman"/>
            </a:endParaRPr>
          </a:p>
        </p:txBody>
      </p:sp>
      <p:sp>
        <p:nvSpPr>
          <p:cNvPr id="125" name=""/>
          <p:cNvSpPr/>
          <p:nvPr/>
        </p:nvSpPr>
        <p:spPr>
          <a:xfrm>
            <a:off x="539640" y="1550880"/>
            <a:ext cx="82566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weather like in Houston on the day of the trip?</a:t>
            </a:r>
            <a:endParaRPr b="0" lang="en-US" sz="2800" spc="-1" strike="noStrike">
              <a:solidFill>
                <a:srgbClr val="000000"/>
              </a:solidFill>
              <a:latin typeface="Arial"/>
            </a:endParaRPr>
          </a:p>
        </p:txBody>
      </p:sp>
      <p:grpSp>
        <p:nvGrpSpPr>
          <p:cNvPr id="126" name=""/>
          <p:cNvGrpSpPr/>
          <p:nvPr/>
        </p:nvGrpSpPr>
        <p:grpSpPr>
          <a:xfrm>
            <a:off x="7454880" y="2622600"/>
            <a:ext cx="1417680" cy="2914560"/>
            <a:chOff x="7454880" y="2622600"/>
            <a:chExt cx="1417680" cy="2914560"/>
          </a:xfrm>
        </p:grpSpPr>
        <p:pic>
          <p:nvPicPr>
            <p:cNvPr id="127" name="" descr=""/>
            <p:cNvPicPr/>
            <p:nvPr/>
          </p:nvPicPr>
          <p:blipFill>
            <a:blip r:embed="rId3"/>
            <a:stretch/>
          </p:blipFill>
          <p:spPr>
            <a:xfrm>
              <a:off x="7454880" y="2622600"/>
              <a:ext cx="1417680" cy="2914560"/>
            </a:xfrm>
            <a:prstGeom prst="rect">
              <a:avLst/>
            </a:prstGeom>
            <a:ln w="0">
              <a:noFill/>
            </a:ln>
          </p:spPr>
        </p:pic>
        <p:sp>
          <p:nvSpPr>
            <p:cNvPr id="128" name=""/>
            <p:cNvSpPr/>
            <p:nvPr/>
          </p:nvSpPr>
          <p:spPr>
            <a:xfrm>
              <a:off x="8143920" y="3160800"/>
              <a:ext cx="114120" cy="1612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82080" y="4254480"/>
              <a:ext cx="65160" cy="557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 name=""/>
          <p:cNvSpPr/>
          <p:nvPr/>
        </p:nvSpPr>
        <p:spPr>
          <a:xfrm>
            <a:off x="8182080" y="3362400"/>
            <a:ext cx="65160" cy="11811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39640" y="3164040"/>
            <a:ext cx="2770200" cy="884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y haze in the sky at sunrise</a:t>
            </a:r>
            <a:endParaRPr b="0" lang="en-US" sz="2800" spc="-1" strike="noStrike">
              <a:solidFill>
                <a:srgbClr val="000000"/>
              </a:solidFill>
              <a:latin typeface="Arial"/>
            </a:endParaRPr>
          </a:p>
        </p:txBody>
      </p:sp>
      <p:sp>
        <p:nvSpPr>
          <p:cNvPr id="132" name=""/>
          <p:cNvSpPr/>
          <p:nvPr/>
        </p:nvSpPr>
        <p:spPr>
          <a:xfrm>
            <a:off x="536400" y="4159080"/>
            <a:ext cx="2821320" cy="920880"/>
          </a:xfrm>
          <a:prstGeom prst="rect">
            <a:avLst/>
          </a:prstGeom>
          <a:noFill/>
          <a:ln w="0">
            <a:noFill/>
          </a:ln>
        </p:spPr>
        <p:style>
          <a:lnRef idx="0"/>
          <a:fillRef idx="0"/>
          <a:effectRef idx="0"/>
          <a:fontRef idx="minor"/>
        </p:style>
        <p:txBody>
          <a:bodyPr lIns="90000" rIns="90000" tIns="46800" bIns="46800" anchor="t">
            <a:normAutofit fontScale="8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y turned brown as the day progressed.</a:t>
            </a:r>
            <a:endParaRPr b="0" lang="en-US" sz="2800" spc="-1" strike="noStrike">
              <a:solidFill>
                <a:srgbClr val="000000"/>
              </a:solidFill>
              <a:latin typeface="Arial"/>
            </a:endParaRPr>
          </a:p>
        </p:txBody>
      </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3" dur="1000"/>
                                        <p:tgtEl>
                                          <p:spTgt spid="124">
                                            <p:txEl>
                                              <p:pRg st="0" end="0"/>
                                            </p:txEl>
                                          </p:spTgt>
                                        </p:tgtEl>
                                      </p:cBhvr>
                                    </p:animEffect>
                                  </p:childTnLst>
                                </p:cTn>
                              </p:par>
                              <p:par>
                                <p:cTn id="74" nodeType="withEffect" fill="hold" presetClass="entr" presetID="10">
                                  <p:stCondLst>
                                    <p:cond delay="0"/>
                                  </p:stCondLst>
                                  <p:childTnLst>
                                    <p:set>
                                      <p:cBhvr>
                                        <p:cTn id="75" dur="1" fill="hold">
                                          <p:stCondLst>
                                            <p:cond delay="0"/>
                                          </p:stCondLst>
                                        </p:cTn>
                                        <p:tgtEl>
                                          <p:spTgt spid="126"/>
                                        </p:tgtEl>
                                        <p:attrNameLst>
                                          <p:attrName>style.visibility</p:attrName>
                                        </p:attrNameLst>
                                      </p:cBhvr>
                                      <p:to>
                                        <p:strVal val="visible"/>
                                      </p:to>
                                    </p:set>
                                    <p:animEffect filter="fade" transition="in">
                                      <p:cBhvr additive="repl">
                                        <p:cTn id="76" dur="1000"/>
                                        <p:tgtEl>
                                          <p:spTgt spid="126"/>
                                        </p:tgtEl>
                                      </p:cBhvr>
                                    </p:animEffect>
                                  </p:childTnLst>
                                </p:cTn>
                              </p:par>
                            </p:childTnLst>
                          </p:cTn>
                        </p:par>
                        <p:par>
                          <p:cTn id="77" fill="hold">
                            <p:stCondLst>
                              <p:cond delay="1000"/>
                            </p:stCondLst>
                            <p:childTnLst>
                              <p:par>
                                <p:cTn id="78" nodeType="afterEffect" fill="hold" presetClass="entr" presetID="12" presetSubtype="4">
                                  <p:stCondLst>
                                    <p:cond delay="0"/>
                                  </p:stCondLst>
                                  <p:childTnLst>
                                    <p:set>
                                      <p:cBhvr>
                                        <p:cTn id="79" dur="1" fill="hold">
                                          <p:stCondLst>
                                            <p:cond delay="0"/>
                                          </p:stCondLst>
                                        </p:cTn>
                                        <p:tgtEl>
                                          <p:spTgt spid="130"/>
                                        </p:tgtEl>
                                        <p:attrNameLst>
                                          <p:attrName>style.visibility</p:attrName>
                                        </p:attrNameLst>
                                      </p:cBhvr>
                                      <p:to>
                                        <p:strVal val="visible"/>
                                      </p:to>
                                    </p:set>
                                    <p:animEffect filter="slide(fromBottom)"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31"/>
                                        </p:tgtEl>
                                        <p:attrNameLst>
                                          <p:attrName>style.visibility</p:attrName>
                                        </p:attrNameLst>
                                      </p:cBhvr>
                                      <p:to>
                                        <p:strVal val="visible"/>
                                      </p:to>
                                    </p:set>
                                    <p:animEffect filter="fade" transition="in">
                                      <p:cBhvr additive="repl">
                                        <p:cTn id="85" dur="1000"/>
                                        <p:tgtEl>
                                          <p:spTgt spid="131"/>
                                        </p:tgtEl>
                                      </p:cBhvr>
                                    </p:animEffect>
                                  </p:childTnLst>
                                </p:cTn>
                              </p:par>
                              <p:par>
                                <p:cTn id="86" nodeType="withEffect" fill="hold" presetClass="entr" presetID="12" presetSubtype="1">
                                  <p:stCondLst>
                                    <p:cond delay="0"/>
                                  </p:stCondLst>
                                  <p:childTnLst>
                                    <p:set>
                                      <p:cBhvr>
                                        <p:cTn id="87" dur="1" fill="hold">
                                          <p:stCondLst>
                                            <p:cond delay="0"/>
                                          </p:stCondLst>
                                        </p:cTn>
                                        <p:tgtEl>
                                          <p:spTgt spid="119"/>
                                        </p:tgtEl>
                                        <p:attrNameLst>
                                          <p:attrName>style.visibility</p:attrName>
                                        </p:attrNameLst>
                                      </p:cBhvr>
                                      <p:to>
                                        <p:strVal val="visible"/>
                                      </p:to>
                                    </p:set>
                                    <p:animEffect filter="slide(fromTop)" transition="in">
                                      <p:cBhvr additive="repl">
                                        <p:cTn id="88" dur="2000"/>
                                        <p:tgtEl>
                                          <p:spTgt spid="11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0">
                                  <p:stCondLst>
                                    <p:cond delay="0"/>
                                  </p:stCondLst>
                                  <p:childTnLst>
                                    <p:animEffect filter="fade" transition="out">
                                      <p:cBhvr additive="repl">
                                        <p:cTn id="92" dur="1000"/>
                                        <p:tgtEl>
                                          <p:spTgt spid="119"/>
                                        </p:tgtEl>
                                      </p:cBhvr>
                                    </p:animEffect>
                                    <p:set>
                                      <p:cBhvr>
                                        <p:cTn id="93" dur="1" fill="hold">
                                          <p:stCondLst>
                                            <p:cond delay="999"/>
                                          </p:stCondLst>
                                        </p:cTn>
                                        <p:tgtEl>
                                          <p:spTgt spid="119"/>
                                        </p:tgtEl>
                                        <p:attrNameLst>
                                          <p:attrName>style.visibility</p:attrName>
                                        </p:attrNameLst>
                                      </p:cBhvr>
                                      <p:to>
                                        <p:strVal val="hidden"/>
                                      </p:to>
                                    </p:set>
                                  </p:childTnLst>
                                </p:cTn>
                              </p:par>
                              <p:par>
                                <p:cTn id="94" nodeType="withEffect" fill="hold" presetClass="entr" presetID="12" presetSubtype="1">
                                  <p:stCondLst>
                                    <p:cond delay="0"/>
                                  </p:stCondLst>
                                  <p:childTnLst>
                                    <p:set>
                                      <p:cBhvr>
                                        <p:cTn id="95" dur="1" fill="hold">
                                          <p:stCondLst>
                                            <p:cond delay="0"/>
                                          </p:stCondLst>
                                        </p:cTn>
                                        <p:tgtEl>
                                          <p:spTgt spid="115"/>
                                        </p:tgtEl>
                                        <p:attrNameLst>
                                          <p:attrName>style.visibility</p:attrName>
                                        </p:attrNameLst>
                                      </p:cBhvr>
                                      <p:to>
                                        <p:strVal val="visible"/>
                                      </p:to>
                                    </p:set>
                                    <p:animEffect filter="slide(fromTop)" transition="in">
                                      <p:cBhvr additive="repl">
                                        <p:cTn id="96" dur="1000"/>
                                        <p:tgtEl>
                                          <p:spTgt spid="115"/>
                                        </p:tgtEl>
                                      </p:cBhvr>
                                    </p:animEffect>
                                  </p:childTnLst>
                                </p:cTn>
                              </p:par>
                              <p:par>
                                <p:cTn id="97" nodeType="withEffect" fill="hold" presetClass="entr" presetID="10">
                                  <p:stCondLst>
                                    <p:cond delay="0"/>
                                  </p:stCondLst>
                                  <p:childTnLst>
                                    <p:set>
                                      <p:cBhvr>
                                        <p:cTn id="98" dur="1" fill="hold">
                                          <p:stCondLst>
                                            <p:cond delay="0"/>
                                          </p:stCondLst>
                                        </p:cTn>
                                        <p:tgtEl>
                                          <p:spTgt spid="132"/>
                                        </p:tgtEl>
                                        <p:attrNameLst>
                                          <p:attrName>style.visibility</p:attrName>
                                        </p:attrNameLst>
                                      </p:cBhvr>
                                      <p:to>
                                        <p:strVal val="visible"/>
                                      </p:to>
                                    </p:set>
                                    <p:animEffect filter="fade" transition="in">
                                      <p:cBhvr additive="repl">
                                        <p:cTn id="99"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es the haze come from?</a:t>
            </a:r>
            <a:endParaRPr b="0" lang="en-US" sz="4400" spc="-1" strike="noStrike">
              <a:solidFill>
                <a:srgbClr val="000000"/>
              </a:solidFill>
              <a:latin typeface="Times New Roman"/>
            </a:endParaRPr>
          </a:p>
        </p:txBody>
      </p:sp>
      <p:sp>
        <p:nvSpPr>
          <p:cNvPr id="135" name="PlaceHolder 2"/>
          <p:cNvSpPr>
            <a:spLocks noGrp="1"/>
          </p:cNvSpPr>
          <p:nvPr>
            <p:ph/>
          </p:nvPr>
        </p:nvSpPr>
        <p:spPr>
          <a:xfrm>
            <a:off x="2838600" y="4311360"/>
            <a:ext cx="4038480" cy="522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traffic on freeways</a:t>
            </a:r>
            <a:endParaRPr b="0" lang="en-US" sz="2800" spc="-1" strike="noStrike">
              <a:solidFill>
                <a:srgbClr val="000000"/>
              </a:solidFill>
              <a:latin typeface="Times New Roman"/>
            </a:endParaRPr>
          </a:p>
        </p:txBody>
      </p:sp>
      <p:grpSp>
        <p:nvGrpSpPr>
          <p:cNvPr id="136" name=""/>
          <p:cNvGrpSpPr/>
          <p:nvPr/>
        </p:nvGrpSpPr>
        <p:grpSpPr>
          <a:xfrm>
            <a:off x="210960" y="2776680"/>
            <a:ext cx="8814600" cy="1036440"/>
            <a:chOff x="210960" y="2776680"/>
            <a:chExt cx="8814600" cy="1036440"/>
          </a:xfrm>
        </p:grpSpPr>
        <p:sp>
          <p:nvSpPr>
            <p:cNvPr id="137" name=""/>
            <p:cNvSpPr/>
            <p:nvPr/>
          </p:nvSpPr>
          <p:spPr>
            <a:xfrm>
              <a:off x="210960" y="2776680"/>
              <a:ext cx="4958640" cy="114120"/>
            </a:xfrm>
            <a:custGeom>
              <a:avLst/>
              <a:gdLst/>
              <a:ahLst/>
              <a:rect l="l" t="t" r="r" b="b"/>
              <a:pathLst>
                <a:path w="5686" h="396">
                  <a:moveTo>
                    <a:pt x="0" y="57"/>
                  </a:moveTo>
                  <a:cubicBezTo>
                    <a:pt x="844" y="28"/>
                    <a:pt x="1689" y="0"/>
                    <a:pt x="2637" y="57"/>
                  </a:cubicBezTo>
                  <a:cubicBezTo>
                    <a:pt x="3585" y="114"/>
                    <a:pt x="5178" y="340"/>
                    <a:pt x="5686" y="39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35960" y="2814480"/>
              <a:ext cx="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rot="305400">
              <a:off x="5468040" y="3006360"/>
              <a:ext cx="3542400" cy="498600"/>
            </a:xfrm>
            <a:custGeom>
              <a:avLst/>
              <a:gdLst/>
              <a:ahLst/>
              <a:rect l="l" t="t" r="r" b="b"/>
              <a:pathLst>
                <a:path w="5686" h="396">
                  <a:moveTo>
                    <a:pt x="0" y="57"/>
                  </a:moveTo>
                  <a:cubicBezTo>
                    <a:pt x="844" y="28"/>
                    <a:pt x="1689" y="0"/>
                    <a:pt x="2637" y="57"/>
                  </a:cubicBezTo>
                  <a:cubicBezTo>
                    <a:pt x="3585" y="114"/>
                    <a:pt x="5178" y="340"/>
                    <a:pt x="5686" y="39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35680" y="2814480"/>
              <a:ext cx="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448000" y="277668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46480" y="277668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71880" y="2890800"/>
              <a:ext cx="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982760" y="2852640"/>
              <a:ext cx="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697800" y="3006720"/>
              <a:ext cx="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10480" y="2968560"/>
              <a:ext cx="0" cy="30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337240" y="34671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226000" y="3390840"/>
              <a:ext cx="0" cy="42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5821200" y="2736720"/>
            <a:ext cx="3151080" cy="4148280"/>
            <a:chOff x="5821200" y="2736720"/>
            <a:chExt cx="3151080" cy="4148280"/>
          </a:xfrm>
        </p:grpSpPr>
        <p:sp>
          <p:nvSpPr>
            <p:cNvPr id="150" name=""/>
            <p:cNvSpPr/>
            <p:nvPr/>
          </p:nvSpPr>
          <p:spPr>
            <a:xfrm>
              <a:off x="5821200" y="2736720"/>
              <a:ext cx="3151080" cy="4148280"/>
            </a:xfrm>
            <a:custGeom>
              <a:avLst/>
              <a:gdLst/>
              <a:ahLst/>
              <a:rect l="l" t="t" r="r" b="b"/>
              <a:pathLst>
                <a:path w="1887" h="2613">
                  <a:moveTo>
                    <a:pt x="1887" y="0"/>
                  </a:moveTo>
                  <a:cubicBezTo>
                    <a:pt x="1850" y="218"/>
                    <a:pt x="1813" y="436"/>
                    <a:pt x="1499" y="871"/>
                  </a:cubicBezTo>
                  <a:cubicBezTo>
                    <a:pt x="1185" y="1306"/>
                    <a:pt x="250" y="2323"/>
                    <a:pt x="0" y="2613"/>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974640" y="5706360"/>
              <a:ext cx="0" cy="30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898320" y="57049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974360" y="4601880"/>
              <a:ext cx="0" cy="30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898040" y="4600440"/>
              <a:ext cx="0" cy="30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2835360" y="4811760"/>
            <a:ext cx="4038480" cy="911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kestacks from factories and refineries</a:t>
            </a:r>
            <a:endParaRPr b="0" lang="en-US" sz="2800" spc="-1" strike="noStrike">
              <a:solidFill>
                <a:srgbClr val="000000"/>
              </a:solidFill>
              <a:latin typeface="Arial"/>
            </a:endParaRPr>
          </a:p>
        </p:txBody>
      </p:sp>
      <p:grpSp>
        <p:nvGrpSpPr>
          <p:cNvPr id="156" name=""/>
          <p:cNvGrpSpPr/>
          <p:nvPr/>
        </p:nvGrpSpPr>
        <p:grpSpPr>
          <a:xfrm>
            <a:off x="7567560" y="2170080"/>
            <a:ext cx="806400" cy="489960"/>
            <a:chOff x="7567560" y="2170080"/>
            <a:chExt cx="806400" cy="489960"/>
          </a:xfrm>
        </p:grpSpPr>
        <p:sp>
          <p:nvSpPr>
            <p:cNvPr id="157" name=""/>
            <p:cNvSpPr/>
            <p:nvPr/>
          </p:nvSpPr>
          <p:spPr>
            <a:xfrm>
              <a:off x="7637040" y="2171160"/>
              <a:ext cx="100800" cy="38484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7602120" y="2556000"/>
              <a:ext cx="0" cy="104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67560" y="2556360"/>
              <a:ext cx="80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777440" y="2170080"/>
              <a:ext cx="100800" cy="38484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917840" y="2170080"/>
              <a:ext cx="101160" cy="38484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058240" y="2170080"/>
              <a:ext cx="101160" cy="38484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6877080" y="2238480"/>
            <a:ext cx="884160" cy="538200"/>
            <a:chOff x="6877080" y="2238480"/>
            <a:chExt cx="884160" cy="538200"/>
          </a:xfrm>
        </p:grpSpPr>
        <p:sp>
          <p:nvSpPr>
            <p:cNvPr id="164" name=""/>
            <p:cNvSpPr/>
            <p:nvPr/>
          </p:nvSpPr>
          <p:spPr>
            <a:xfrm>
              <a:off x="6953400" y="223992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915240" y="2662200"/>
              <a:ext cx="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77080" y="2662200"/>
              <a:ext cx="88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07480" y="223848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261200" y="223848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15280" y="223848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
          <p:cNvGrpSpPr/>
          <p:nvPr/>
        </p:nvGrpSpPr>
        <p:grpSpPr>
          <a:xfrm>
            <a:off x="8298000" y="2347920"/>
            <a:ext cx="576000" cy="350280"/>
            <a:chOff x="8298000" y="2347920"/>
            <a:chExt cx="576000" cy="350280"/>
          </a:xfrm>
        </p:grpSpPr>
        <p:sp>
          <p:nvSpPr>
            <p:cNvPr id="171" name=""/>
            <p:cNvSpPr/>
            <p:nvPr/>
          </p:nvSpPr>
          <p:spPr>
            <a:xfrm>
              <a:off x="8347680" y="2348640"/>
              <a:ext cx="72000" cy="27540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8322840" y="2623680"/>
              <a:ext cx="0" cy="74520"/>
            </a:xfrm>
            <a:prstGeom prst="line">
              <a:avLst/>
            </a:prstGeom>
            <a:ln w="38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 name=""/>
            <p:cNvSpPr/>
            <p:nvPr/>
          </p:nvSpPr>
          <p:spPr>
            <a:xfrm>
              <a:off x="8298000" y="2624040"/>
              <a:ext cx="57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448120" y="2347920"/>
              <a:ext cx="72000" cy="27540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548200" y="2347920"/>
              <a:ext cx="72360" cy="27540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648640" y="2347920"/>
              <a:ext cx="72360" cy="27540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7297560" y="5618160"/>
            <a:ext cx="884160" cy="538200"/>
            <a:chOff x="7297560" y="5618160"/>
            <a:chExt cx="884160" cy="538200"/>
          </a:xfrm>
        </p:grpSpPr>
        <p:sp>
          <p:nvSpPr>
            <p:cNvPr id="178" name=""/>
            <p:cNvSpPr/>
            <p:nvPr/>
          </p:nvSpPr>
          <p:spPr>
            <a:xfrm>
              <a:off x="7373880" y="561960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335720" y="6041880"/>
              <a:ext cx="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97560" y="6041880"/>
              <a:ext cx="88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27960" y="561816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681680" y="561816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35760" y="561816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8028000" y="5502240"/>
            <a:ext cx="884160" cy="538200"/>
            <a:chOff x="8028000" y="5502240"/>
            <a:chExt cx="884160" cy="538200"/>
          </a:xfrm>
        </p:grpSpPr>
        <p:sp>
          <p:nvSpPr>
            <p:cNvPr id="185" name=""/>
            <p:cNvSpPr/>
            <p:nvPr/>
          </p:nvSpPr>
          <p:spPr>
            <a:xfrm>
              <a:off x="8104320" y="550368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8066160" y="5925960"/>
              <a:ext cx="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28000" y="5925960"/>
              <a:ext cx="88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258400" y="550224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412120" y="550224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6200" y="550224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8143920" y="6116760"/>
            <a:ext cx="654120" cy="537840"/>
            <a:chOff x="8143920" y="6116760"/>
            <a:chExt cx="654120" cy="537840"/>
          </a:xfrm>
        </p:grpSpPr>
        <p:sp>
          <p:nvSpPr>
            <p:cNvPr id="192" name=""/>
            <p:cNvSpPr/>
            <p:nvPr/>
          </p:nvSpPr>
          <p:spPr>
            <a:xfrm>
              <a:off x="8220240" y="6118560"/>
              <a:ext cx="11124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8182080" y="6540480"/>
              <a:ext cx="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143920" y="6540840"/>
              <a:ext cx="65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374320" y="611676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528400" y="6116760"/>
              <a:ext cx="110880" cy="422280"/>
            </a:xfrm>
            <a:custGeom>
              <a:avLst/>
              <a:gdLst/>
              <a:ahLst/>
              <a:rect l="l" t="t" r="r" b="b"/>
              <a:pathLst>
                <a:path w="121" h="459">
                  <a:moveTo>
                    <a:pt x="0" y="459"/>
                  </a:moveTo>
                  <a:lnTo>
                    <a:pt x="24" y="0"/>
                  </a:lnTo>
                  <a:lnTo>
                    <a:pt x="97" y="24"/>
                  </a:lnTo>
                  <a:lnTo>
                    <a:pt x="121" y="459"/>
                  </a:lnTo>
                  <a:lnTo>
                    <a:pt x="0"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7" name="" descr=""/>
          <p:cNvPicPr/>
          <p:nvPr/>
        </p:nvPicPr>
        <p:blipFill>
          <a:blip r:embed="rId2"/>
          <a:srcRect l="0" t="0" r="-154" b="0"/>
          <a:stretch/>
        </p:blipFill>
        <p:spPr>
          <a:xfrm>
            <a:off x="412920" y="4432320"/>
            <a:ext cx="2322360" cy="1884240"/>
          </a:xfrm>
          <a:prstGeom prst="rect">
            <a:avLst/>
          </a:prstGeom>
          <a:ln w="0">
            <a:noFill/>
          </a:ln>
        </p:spPr>
      </p:pic>
      <p:pic>
        <p:nvPicPr>
          <p:cNvPr id="198" name="" descr=""/>
          <p:cNvPicPr/>
          <p:nvPr/>
        </p:nvPicPr>
        <p:blipFill>
          <a:blip r:embed="rId3"/>
          <a:srcRect l="0" t="0" r="219" b="0"/>
          <a:stretch/>
        </p:blipFill>
        <p:spPr>
          <a:xfrm>
            <a:off x="484200" y="3819600"/>
            <a:ext cx="1706400" cy="2700360"/>
          </a:xfrm>
          <a:prstGeom prst="rect">
            <a:avLst/>
          </a:prstGeom>
          <a:ln w="0">
            <a:noFill/>
          </a:ln>
        </p:spPr>
      </p:pic>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06" dur="1000"/>
                                        <p:tgtEl>
                                          <p:spTgt spid="135">
                                            <p:txEl>
                                              <p:pRg st="0" end="0"/>
                                            </p:txEl>
                                          </p:spTgt>
                                        </p:tgtEl>
                                      </p:cBhvr>
                                    </p:animEffect>
                                  </p:childTnLst>
                                </p:cTn>
                              </p:par>
                              <p:par>
                                <p:cTn id="107" nodeType="withEffect" fill="hold" presetClass="entr" presetID="10">
                                  <p:stCondLst>
                                    <p:cond delay="0"/>
                                  </p:stCondLst>
                                  <p:childTnLst>
                                    <p:set>
                                      <p:cBhvr>
                                        <p:cTn id="108" dur="1" fill="hold">
                                          <p:stCondLst>
                                            <p:cond delay="0"/>
                                          </p:stCondLst>
                                        </p:cTn>
                                        <p:tgtEl>
                                          <p:spTgt spid="198"/>
                                        </p:tgtEl>
                                        <p:attrNameLst>
                                          <p:attrName>style.visibility</p:attrName>
                                        </p:attrNameLst>
                                      </p:cBhvr>
                                      <p:to>
                                        <p:strVal val="visible"/>
                                      </p:to>
                                    </p:set>
                                    <p:animEffect filter="fade" transition="in">
                                      <p:cBhvr additive="repl">
                                        <p:cTn id="109" dur="2000"/>
                                        <p:tgtEl>
                                          <p:spTgt spid="198"/>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136"/>
                                        </p:tgtEl>
                                        <p:attrNameLst>
                                          <p:attrName>style.visibility</p:attrName>
                                        </p:attrNameLst>
                                      </p:cBhvr>
                                      <p:to>
                                        <p:strVal val="visible"/>
                                      </p:to>
                                    </p:set>
                                    <p:animEffect filter="fade" transition="in">
                                      <p:cBhvr additive="repl">
                                        <p:cTn id="113" dur="1000"/>
                                        <p:tgtEl>
                                          <p:spTgt spid="136"/>
                                        </p:tgtEl>
                                      </p:cBhvr>
                                    </p:animEffect>
                                  </p:childTnLst>
                                </p:cTn>
                              </p:par>
                            </p:childTnLst>
                          </p:cTn>
                        </p:par>
                        <p:par>
                          <p:cTn id="114" fill="hold">
                            <p:stCondLst>
                              <p:cond delay="3000"/>
                            </p:stCondLst>
                            <p:childTnLst>
                              <p:par>
                                <p:cTn id="115" nodeType="afterEffect" fill="hold" presetClass="entr" presetID="10">
                                  <p:stCondLst>
                                    <p:cond delay="0"/>
                                  </p:stCondLst>
                                  <p:childTnLst>
                                    <p:set>
                                      <p:cBhvr>
                                        <p:cTn id="116" dur="1" fill="hold">
                                          <p:stCondLst>
                                            <p:cond delay="0"/>
                                          </p:stCondLst>
                                        </p:cTn>
                                        <p:tgtEl>
                                          <p:spTgt spid="149"/>
                                        </p:tgtEl>
                                        <p:attrNameLst>
                                          <p:attrName>style.visibility</p:attrName>
                                        </p:attrNameLst>
                                      </p:cBhvr>
                                      <p:to>
                                        <p:strVal val="visible"/>
                                      </p:to>
                                    </p:set>
                                    <p:animEffect filter="fade" transition="in">
                                      <p:cBhvr additive="repl">
                                        <p:cTn id="117" dur="1000"/>
                                        <p:tgtEl>
                                          <p:spTgt spid="14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2000"/>
                                        <p:tgtEl>
                                          <p:spTgt spid="198"/>
                                        </p:tgtEl>
                                      </p:cBhvr>
                                    </p:animEffect>
                                    <p:set>
                                      <p:cBhvr>
                                        <p:cTn id="122" dur="1" fill="hold">
                                          <p:stCondLst>
                                            <p:cond delay="1999"/>
                                          </p:stCondLst>
                                        </p:cTn>
                                        <p:tgtEl>
                                          <p:spTgt spid="198"/>
                                        </p:tgtEl>
                                        <p:attrNameLst>
                                          <p:attrName>style.visibility</p:attrName>
                                        </p:attrNameLst>
                                      </p:cBhvr>
                                      <p:to>
                                        <p:strVal val="hidden"/>
                                      </p:to>
                                    </p:set>
                                  </p:childTnLst>
                                </p:cTn>
                              </p:par>
                            </p:childTnLst>
                          </p:cTn>
                        </p:par>
                        <p:par>
                          <p:cTn id="123" fill="hold">
                            <p:stCondLst>
                              <p:cond delay="2000"/>
                            </p:stCondLst>
                            <p:childTnLst>
                              <p:par>
                                <p:cTn id="124" nodeType="afterEffect" fill="hold" presetClass="entr" presetID="10">
                                  <p:stCondLst>
                                    <p:cond delay="0"/>
                                  </p:stCondLst>
                                  <p:childTnLst>
                                    <p:set>
                                      <p:cBhvr>
                                        <p:cTn id="125" dur="1" fill="hold">
                                          <p:stCondLst>
                                            <p:cond delay="0"/>
                                          </p:stCondLst>
                                        </p:cTn>
                                        <p:tgtEl>
                                          <p:spTgt spid="170"/>
                                        </p:tgtEl>
                                        <p:attrNameLst>
                                          <p:attrName>style.visibility</p:attrName>
                                        </p:attrNameLst>
                                      </p:cBhvr>
                                      <p:to>
                                        <p:strVal val="visible"/>
                                      </p:to>
                                    </p:set>
                                    <p:animEffect filter="fade" transition="in">
                                      <p:cBhvr additive="repl">
                                        <p:cTn id="126" dur="1000"/>
                                        <p:tgtEl>
                                          <p:spTgt spid="170"/>
                                        </p:tgtEl>
                                      </p:cBhvr>
                                    </p:animEffect>
                                  </p:childTnLst>
                                </p:cTn>
                              </p:par>
                              <p:par>
                                <p:cTn id="127" nodeType="withEffect" fill="hold" presetClass="entr" presetID="10">
                                  <p:stCondLst>
                                    <p:cond delay="0"/>
                                  </p:stCondLst>
                                  <p:childTnLst>
                                    <p:set>
                                      <p:cBhvr>
                                        <p:cTn id="128" dur="1" fill="hold">
                                          <p:stCondLst>
                                            <p:cond delay="0"/>
                                          </p:stCondLst>
                                        </p:cTn>
                                        <p:tgtEl>
                                          <p:spTgt spid="155"/>
                                        </p:tgtEl>
                                        <p:attrNameLst>
                                          <p:attrName>style.visibility</p:attrName>
                                        </p:attrNameLst>
                                      </p:cBhvr>
                                      <p:to>
                                        <p:strVal val="visible"/>
                                      </p:to>
                                    </p:set>
                                    <p:animEffect filter="fade" transition="in">
                                      <p:cBhvr additive="repl">
                                        <p:cTn id="129" dur="1000"/>
                                        <p:tgtEl>
                                          <p:spTgt spid="155"/>
                                        </p:tgtEl>
                                      </p:cBhvr>
                                    </p:animEffect>
                                  </p:childTnLst>
                                </p:cTn>
                              </p:par>
                              <p:par>
                                <p:cTn id="130" nodeType="withEffect" fill="hold" presetClass="entr" presetID="10">
                                  <p:stCondLst>
                                    <p:cond delay="0"/>
                                  </p:stCondLst>
                                  <p:childTnLst>
                                    <p:set>
                                      <p:cBhvr>
                                        <p:cTn id="131" dur="1" fill="hold">
                                          <p:stCondLst>
                                            <p:cond delay="0"/>
                                          </p:stCondLst>
                                        </p:cTn>
                                        <p:tgtEl>
                                          <p:spTgt spid="197"/>
                                        </p:tgtEl>
                                        <p:attrNameLst>
                                          <p:attrName>style.visibility</p:attrName>
                                        </p:attrNameLst>
                                      </p:cBhvr>
                                      <p:to>
                                        <p:strVal val="visible"/>
                                      </p:to>
                                    </p:set>
                                    <p:animEffect filter="fade" transition="in">
                                      <p:cBhvr additive="repl">
                                        <p:cTn id="132" dur="2000"/>
                                        <p:tgtEl>
                                          <p:spTgt spid="197"/>
                                        </p:tgtEl>
                                      </p:cBhvr>
                                    </p:animEffect>
                                  </p:childTnLst>
                                </p:cTn>
                              </p:par>
                            </p:childTnLst>
                          </p:cTn>
                        </p:par>
                        <p:par>
                          <p:cTn id="133" fill="hold">
                            <p:stCondLst>
                              <p:cond delay="4000"/>
                            </p:stCondLst>
                            <p:childTnLst>
                              <p:par>
                                <p:cTn id="134" nodeType="afterEffect" fill="hold" presetClass="entr" presetID="10">
                                  <p:stCondLst>
                                    <p:cond delay="0"/>
                                  </p:stCondLst>
                                  <p:childTnLst>
                                    <p:set>
                                      <p:cBhvr>
                                        <p:cTn id="135" dur="1" fill="hold">
                                          <p:stCondLst>
                                            <p:cond delay="0"/>
                                          </p:stCondLst>
                                        </p:cTn>
                                        <p:tgtEl>
                                          <p:spTgt spid="177"/>
                                        </p:tgtEl>
                                        <p:attrNameLst>
                                          <p:attrName>style.visibility</p:attrName>
                                        </p:attrNameLst>
                                      </p:cBhvr>
                                      <p:to>
                                        <p:strVal val="visible"/>
                                      </p:to>
                                    </p:set>
                                    <p:animEffect filter="fade" transition="in">
                                      <p:cBhvr additive="repl">
                                        <p:cTn id="136" dur="1000"/>
                                        <p:tgtEl>
                                          <p:spTgt spid="177"/>
                                        </p:tgtEl>
                                      </p:cBhvr>
                                    </p:animEffect>
                                  </p:childTnLst>
                                </p:cTn>
                              </p:par>
                            </p:childTnLst>
                          </p:cTn>
                        </p:par>
                        <p:par>
                          <p:cTn id="137" fill="hold">
                            <p:stCondLst>
                              <p:cond delay="5000"/>
                            </p:stCondLst>
                            <p:childTnLst>
                              <p:par>
                                <p:cTn id="138" nodeType="afterEffect" fill="hold" presetClass="entr" presetID="10">
                                  <p:stCondLst>
                                    <p:cond delay="0"/>
                                  </p:stCondLst>
                                  <p:childTnLst>
                                    <p:set>
                                      <p:cBhvr>
                                        <p:cTn id="139" dur="1" fill="hold">
                                          <p:stCondLst>
                                            <p:cond delay="0"/>
                                          </p:stCondLst>
                                        </p:cTn>
                                        <p:tgtEl>
                                          <p:spTgt spid="163"/>
                                        </p:tgtEl>
                                        <p:attrNameLst>
                                          <p:attrName>style.visibility</p:attrName>
                                        </p:attrNameLst>
                                      </p:cBhvr>
                                      <p:to>
                                        <p:strVal val="visible"/>
                                      </p:to>
                                    </p:set>
                                    <p:animEffect filter="fade" transition="in">
                                      <p:cBhvr additive="repl">
                                        <p:cTn id="140" dur="1000"/>
                                        <p:tgtEl>
                                          <p:spTgt spid="163"/>
                                        </p:tgtEl>
                                      </p:cBhvr>
                                    </p:animEffect>
                                  </p:childTnLst>
                                </p:cTn>
                              </p:par>
                            </p:childTnLst>
                          </p:cTn>
                        </p:par>
                        <p:par>
                          <p:cTn id="141" fill="hold">
                            <p:stCondLst>
                              <p:cond delay="6000"/>
                            </p:stCondLst>
                            <p:childTnLst>
                              <p:par>
                                <p:cTn id="142" nodeType="afterEffect" fill="hold" presetClass="entr" presetID="10">
                                  <p:stCondLst>
                                    <p:cond delay="0"/>
                                  </p:stCondLst>
                                  <p:childTnLst>
                                    <p:set>
                                      <p:cBhvr>
                                        <p:cTn id="143" dur="1" fill="hold">
                                          <p:stCondLst>
                                            <p:cond delay="0"/>
                                          </p:stCondLst>
                                        </p:cTn>
                                        <p:tgtEl>
                                          <p:spTgt spid="184"/>
                                        </p:tgtEl>
                                        <p:attrNameLst>
                                          <p:attrName>style.visibility</p:attrName>
                                        </p:attrNameLst>
                                      </p:cBhvr>
                                      <p:to>
                                        <p:strVal val="visible"/>
                                      </p:to>
                                    </p:set>
                                    <p:animEffect filter="fade" transition="in">
                                      <p:cBhvr additive="repl">
                                        <p:cTn id="144" dur="1000"/>
                                        <p:tgtEl>
                                          <p:spTgt spid="184"/>
                                        </p:tgtEl>
                                      </p:cBhvr>
                                    </p:animEffect>
                                  </p:childTnLst>
                                </p:cTn>
                              </p:par>
                            </p:childTnLst>
                          </p:cTn>
                        </p:par>
                        <p:par>
                          <p:cTn id="145" fill="hold">
                            <p:stCondLst>
                              <p:cond delay="7000"/>
                            </p:stCondLst>
                            <p:childTnLst>
                              <p:par>
                                <p:cTn id="146" nodeType="afterEffect" fill="hold" presetClass="entr" presetID="10">
                                  <p:stCondLst>
                                    <p:cond delay="0"/>
                                  </p:stCondLst>
                                  <p:childTnLst>
                                    <p:set>
                                      <p:cBhvr>
                                        <p:cTn id="147" dur="1" fill="hold">
                                          <p:stCondLst>
                                            <p:cond delay="0"/>
                                          </p:stCondLst>
                                        </p:cTn>
                                        <p:tgtEl>
                                          <p:spTgt spid="156"/>
                                        </p:tgtEl>
                                        <p:attrNameLst>
                                          <p:attrName>style.visibility</p:attrName>
                                        </p:attrNameLst>
                                      </p:cBhvr>
                                      <p:to>
                                        <p:strVal val="visible"/>
                                      </p:to>
                                    </p:set>
                                    <p:animEffect filter="fade" transition="in">
                                      <p:cBhvr additive="repl">
                                        <p:cTn id="148" dur="1000"/>
                                        <p:tgtEl>
                                          <p:spTgt spid="156"/>
                                        </p:tgtEl>
                                      </p:cBhvr>
                                    </p:animEffect>
                                  </p:childTnLst>
                                </p:cTn>
                              </p:par>
                              <p:par>
                                <p:cTn id="149" nodeType="withEffect" fill="hold" presetClass="entr" presetID="10">
                                  <p:stCondLst>
                                    <p:cond delay="0"/>
                                  </p:stCondLst>
                                  <p:childTnLst>
                                    <p:set>
                                      <p:cBhvr>
                                        <p:cTn id="150" dur="1" fill="hold">
                                          <p:stCondLst>
                                            <p:cond delay="0"/>
                                          </p:stCondLst>
                                        </p:cTn>
                                        <p:tgtEl>
                                          <p:spTgt spid="191"/>
                                        </p:tgtEl>
                                        <p:attrNameLst>
                                          <p:attrName>style.visibility</p:attrName>
                                        </p:attrNameLst>
                                      </p:cBhvr>
                                      <p:to>
                                        <p:strVal val="visible"/>
                                      </p:to>
                                    </p:set>
                                    <p:animEffect filter="fade" transition="in">
                                      <p:cBhvr additive="repl">
                                        <p:cTn id="15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Your Hypothesis</a:t>
            </a:r>
            <a:endParaRPr b="0" lang="en-US" sz="4400" spc="-1" strike="noStrike">
              <a:solidFill>
                <a:srgbClr val="000000"/>
              </a:solidFill>
              <a:latin typeface="Times New Roman"/>
            </a:endParaRPr>
          </a:p>
        </p:txBody>
      </p:sp>
      <p:sp>
        <p:nvSpPr>
          <p:cNvPr id="201" name="PlaceHolder 2"/>
          <p:cNvSpPr>
            <a:spLocks noGrp="1"/>
          </p:cNvSpPr>
          <p:nvPr>
            <p:ph/>
          </p:nvPr>
        </p:nvSpPr>
        <p:spPr>
          <a:xfrm>
            <a:off x="3460320" y="1684440"/>
            <a:ext cx="5116680" cy="4884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original idea about the cause or causes of the red eyes and the asthma?</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information you have learned about inflammation, asthma and pollution changed your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your final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this hypothesis be tested?</a:t>
            </a:r>
            <a:endParaRPr b="0" lang="en-US" sz="2800" spc="-1" strike="noStrike">
              <a:solidFill>
                <a:srgbClr val="000000"/>
              </a:solidFill>
              <a:latin typeface="Times New Roman"/>
            </a:endParaRPr>
          </a:p>
        </p:txBody>
      </p:sp>
      <p:grpSp>
        <p:nvGrpSpPr>
          <p:cNvPr id="202" name=""/>
          <p:cNvGrpSpPr/>
          <p:nvPr/>
        </p:nvGrpSpPr>
        <p:grpSpPr>
          <a:xfrm>
            <a:off x="968400" y="1751040"/>
            <a:ext cx="1895040" cy="4984200"/>
            <a:chOff x="968400" y="1751040"/>
            <a:chExt cx="1895040" cy="4984200"/>
          </a:xfrm>
        </p:grpSpPr>
        <p:sp>
          <p:nvSpPr>
            <p:cNvPr id="203" name=""/>
            <p:cNvSpPr/>
            <p:nvPr/>
          </p:nvSpPr>
          <p:spPr>
            <a:xfrm flipH="1">
              <a:off x="968400" y="1751040"/>
              <a:ext cx="1895040" cy="4984200"/>
            </a:xfrm>
            <a:custGeom>
              <a:avLst/>
              <a:gdLst/>
              <a:ahLst/>
              <a:rect l="l" t="t" r="r" b="b"/>
              <a:pathLst>
                <a:path w="1057" h="2780">
                  <a:moveTo>
                    <a:pt x="824" y="477"/>
                  </a:moveTo>
                  <a:lnTo>
                    <a:pt x="839" y="459"/>
                  </a:lnTo>
                  <a:lnTo>
                    <a:pt x="850" y="438"/>
                  </a:lnTo>
                  <a:lnTo>
                    <a:pt x="860" y="415"/>
                  </a:lnTo>
                  <a:lnTo>
                    <a:pt x="868" y="393"/>
                  </a:lnTo>
                  <a:lnTo>
                    <a:pt x="874" y="372"/>
                  </a:lnTo>
                  <a:lnTo>
                    <a:pt x="878" y="354"/>
                  </a:lnTo>
                  <a:lnTo>
                    <a:pt x="881" y="341"/>
                  </a:lnTo>
                  <a:lnTo>
                    <a:pt x="883" y="335"/>
                  </a:lnTo>
                  <a:lnTo>
                    <a:pt x="887" y="322"/>
                  </a:lnTo>
                  <a:lnTo>
                    <a:pt x="894" y="299"/>
                  </a:lnTo>
                  <a:lnTo>
                    <a:pt x="899" y="272"/>
                  </a:lnTo>
                  <a:lnTo>
                    <a:pt x="895" y="247"/>
                  </a:lnTo>
                  <a:lnTo>
                    <a:pt x="889" y="226"/>
                  </a:lnTo>
                  <a:lnTo>
                    <a:pt x="884" y="205"/>
                  </a:lnTo>
                  <a:lnTo>
                    <a:pt x="881" y="191"/>
                  </a:lnTo>
                  <a:lnTo>
                    <a:pt x="879" y="184"/>
                  </a:lnTo>
                  <a:lnTo>
                    <a:pt x="874" y="154"/>
                  </a:lnTo>
                  <a:lnTo>
                    <a:pt x="874" y="149"/>
                  </a:lnTo>
                  <a:lnTo>
                    <a:pt x="873" y="139"/>
                  </a:lnTo>
                  <a:lnTo>
                    <a:pt x="866" y="125"/>
                  </a:lnTo>
                  <a:lnTo>
                    <a:pt x="853" y="110"/>
                  </a:lnTo>
                  <a:lnTo>
                    <a:pt x="842" y="104"/>
                  </a:lnTo>
                  <a:lnTo>
                    <a:pt x="829" y="94"/>
                  </a:lnTo>
                  <a:lnTo>
                    <a:pt x="811" y="86"/>
                  </a:lnTo>
                  <a:lnTo>
                    <a:pt x="794" y="75"/>
                  </a:lnTo>
                  <a:lnTo>
                    <a:pt x="776" y="65"/>
                  </a:lnTo>
                  <a:lnTo>
                    <a:pt x="760" y="55"/>
                  </a:lnTo>
                  <a:lnTo>
                    <a:pt x="744" y="46"/>
                  </a:lnTo>
                  <a:lnTo>
                    <a:pt x="732" y="37"/>
                  </a:lnTo>
                  <a:lnTo>
                    <a:pt x="721" y="31"/>
                  </a:lnTo>
                  <a:lnTo>
                    <a:pt x="706" y="26"/>
                  </a:lnTo>
                  <a:lnTo>
                    <a:pt x="689" y="21"/>
                  </a:lnTo>
                  <a:lnTo>
                    <a:pt x="669" y="16"/>
                  </a:lnTo>
                  <a:lnTo>
                    <a:pt x="647" y="13"/>
                  </a:lnTo>
                  <a:lnTo>
                    <a:pt x="624" y="10"/>
                  </a:lnTo>
                  <a:lnTo>
                    <a:pt x="601" y="8"/>
                  </a:lnTo>
                  <a:lnTo>
                    <a:pt x="580" y="7"/>
                  </a:lnTo>
                  <a:lnTo>
                    <a:pt x="561" y="5"/>
                  </a:lnTo>
                  <a:lnTo>
                    <a:pt x="545" y="4"/>
                  </a:lnTo>
                  <a:lnTo>
                    <a:pt x="532" y="2"/>
                  </a:lnTo>
                  <a:lnTo>
                    <a:pt x="520" y="2"/>
                  </a:lnTo>
                  <a:lnTo>
                    <a:pt x="512" y="0"/>
                  </a:lnTo>
                  <a:lnTo>
                    <a:pt x="506" y="0"/>
                  </a:lnTo>
                  <a:lnTo>
                    <a:pt x="503" y="0"/>
                  </a:lnTo>
                  <a:lnTo>
                    <a:pt x="501" y="0"/>
                  </a:lnTo>
                  <a:lnTo>
                    <a:pt x="451" y="15"/>
                  </a:lnTo>
                  <a:lnTo>
                    <a:pt x="409" y="47"/>
                  </a:lnTo>
                  <a:lnTo>
                    <a:pt x="444" y="42"/>
                  </a:lnTo>
                  <a:lnTo>
                    <a:pt x="404" y="73"/>
                  </a:lnTo>
                  <a:lnTo>
                    <a:pt x="417" y="70"/>
                  </a:lnTo>
                  <a:lnTo>
                    <a:pt x="411" y="92"/>
                  </a:lnTo>
                  <a:lnTo>
                    <a:pt x="407" y="96"/>
                  </a:lnTo>
                  <a:lnTo>
                    <a:pt x="401" y="102"/>
                  </a:lnTo>
                  <a:lnTo>
                    <a:pt x="391" y="113"/>
                  </a:lnTo>
                  <a:lnTo>
                    <a:pt x="380" y="126"/>
                  </a:lnTo>
                  <a:lnTo>
                    <a:pt x="367" y="141"/>
                  </a:lnTo>
                  <a:lnTo>
                    <a:pt x="356" y="155"/>
                  </a:lnTo>
                  <a:lnTo>
                    <a:pt x="346" y="168"/>
                  </a:lnTo>
                  <a:lnTo>
                    <a:pt x="339" y="180"/>
                  </a:lnTo>
                  <a:lnTo>
                    <a:pt x="335" y="196"/>
                  </a:lnTo>
                  <a:lnTo>
                    <a:pt x="338" y="210"/>
                  </a:lnTo>
                  <a:lnTo>
                    <a:pt x="343" y="222"/>
                  </a:lnTo>
                  <a:lnTo>
                    <a:pt x="341" y="233"/>
                  </a:lnTo>
                  <a:lnTo>
                    <a:pt x="336" y="244"/>
                  </a:lnTo>
                  <a:lnTo>
                    <a:pt x="331" y="254"/>
                  </a:lnTo>
                  <a:lnTo>
                    <a:pt x="325" y="264"/>
                  </a:lnTo>
                  <a:lnTo>
                    <a:pt x="315" y="273"/>
                  </a:lnTo>
                  <a:lnTo>
                    <a:pt x="309" y="280"/>
                  </a:lnTo>
                  <a:lnTo>
                    <a:pt x="299" y="288"/>
                  </a:lnTo>
                  <a:lnTo>
                    <a:pt x="288" y="298"/>
                  </a:lnTo>
                  <a:lnTo>
                    <a:pt x="276" y="307"/>
                  </a:lnTo>
                  <a:lnTo>
                    <a:pt x="265" y="317"/>
                  </a:lnTo>
                  <a:lnTo>
                    <a:pt x="255" y="327"/>
                  </a:lnTo>
                  <a:lnTo>
                    <a:pt x="247" y="335"/>
                  </a:lnTo>
                  <a:lnTo>
                    <a:pt x="244" y="341"/>
                  </a:lnTo>
                  <a:lnTo>
                    <a:pt x="244" y="349"/>
                  </a:lnTo>
                  <a:lnTo>
                    <a:pt x="247" y="356"/>
                  </a:lnTo>
                  <a:lnTo>
                    <a:pt x="252" y="361"/>
                  </a:lnTo>
                  <a:lnTo>
                    <a:pt x="254" y="362"/>
                  </a:lnTo>
                  <a:lnTo>
                    <a:pt x="289" y="377"/>
                  </a:lnTo>
                  <a:lnTo>
                    <a:pt x="289" y="407"/>
                  </a:lnTo>
                  <a:lnTo>
                    <a:pt x="280" y="422"/>
                  </a:lnTo>
                  <a:lnTo>
                    <a:pt x="284" y="436"/>
                  </a:lnTo>
                  <a:lnTo>
                    <a:pt x="275" y="441"/>
                  </a:lnTo>
                  <a:lnTo>
                    <a:pt x="276" y="443"/>
                  </a:lnTo>
                  <a:lnTo>
                    <a:pt x="276" y="446"/>
                  </a:lnTo>
                  <a:lnTo>
                    <a:pt x="276" y="454"/>
                  </a:lnTo>
                  <a:lnTo>
                    <a:pt x="272" y="462"/>
                  </a:lnTo>
                  <a:lnTo>
                    <a:pt x="263" y="470"/>
                  </a:lnTo>
                  <a:lnTo>
                    <a:pt x="255" y="478"/>
                  </a:lnTo>
                  <a:lnTo>
                    <a:pt x="249" y="487"/>
                  </a:lnTo>
                  <a:lnTo>
                    <a:pt x="244" y="496"/>
                  </a:lnTo>
                  <a:lnTo>
                    <a:pt x="241" y="509"/>
                  </a:lnTo>
                  <a:lnTo>
                    <a:pt x="238" y="522"/>
                  </a:lnTo>
                  <a:lnTo>
                    <a:pt x="241" y="535"/>
                  </a:lnTo>
                  <a:lnTo>
                    <a:pt x="255" y="548"/>
                  </a:lnTo>
                  <a:lnTo>
                    <a:pt x="267" y="553"/>
                  </a:lnTo>
                  <a:lnTo>
                    <a:pt x="276" y="558"/>
                  </a:lnTo>
                  <a:lnTo>
                    <a:pt x="288" y="562"/>
                  </a:lnTo>
                  <a:lnTo>
                    <a:pt x="299" y="566"/>
                  </a:lnTo>
                  <a:lnTo>
                    <a:pt x="312" y="571"/>
                  </a:lnTo>
                  <a:lnTo>
                    <a:pt x="325" y="575"/>
                  </a:lnTo>
                  <a:lnTo>
                    <a:pt x="339" y="580"/>
                  </a:lnTo>
                  <a:lnTo>
                    <a:pt x="357" y="588"/>
                  </a:lnTo>
                  <a:lnTo>
                    <a:pt x="375" y="596"/>
                  </a:lnTo>
                  <a:lnTo>
                    <a:pt x="391" y="608"/>
                  </a:lnTo>
                  <a:lnTo>
                    <a:pt x="404" y="619"/>
                  </a:lnTo>
                  <a:lnTo>
                    <a:pt x="417" y="629"/>
                  </a:lnTo>
                  <a:lnTo>
                    <a:pt x="427" y="640"/>
                  </a:lnTo>
                  <a:lnTo>
                    <a:pt x="435" y="650"/>
                  </a:lnTo>
                  <a:lnTo>
                    <a:pt x="441" y="656"/>
                  </a:lnTo>
                  <a:lnTo>
                    <a:pt x="444" y="661"/>
                  </a:lnTo>
                  <a:lnTo>
                    <a:pt x="451" y="667"/>
                  </a:lnTo>
                  <a:lnTo>
                    <a:pt x="459" y="677"/>
                  </a:lnTo>
                  <a:lnTo>
                    <a:pt x="465" y="687"/>
                  </a:lnTo>
                  <a:lnTo>
                    <a:pt x="469" y="690"/>
                  </a:lnTo>
                  <a:lnTo>
                    <a:pt x="465" y="693"/>
                  </a:lnTo>
                  <a:lnTo>
                    <a:pt x="459" y="701"/>
                  </a:lnTo>
                  <a:lnTo>
                    <a:pt x="449" y="713"/>
                  </a:lnTo>
                  <a:lnTo>
                    <a:pt x="436" y="726"/>
                  </a:lnTo>
                  <a:lnTo>
                    <a:pt x="425" y="740"/>
                  </a:lnTo>
                  <a:lnTo>
                    <a:pt x="414" y="751"/>
                  </a:lnTo>
                  <a:lnTo>
                    <a:pt x="406" y="763"/>
                  </a:lnTo>
                  <a:lnTo>
                    <a:pt x="401" y="768"/>
                  </a:lnTo>
                  <a:lnTo>
                    <a:pt x="398" y="774"/>
                  </a:lnTo>
                  <a:lnTo>
                    <a:pt x="393" y="785"/>
                  </a:lnTo>
                  <a:lnTo>
                    <a:pt x="386" y="803"/>
                  </a:lnTo>
                  <a:lnTo>
                    <a:pt x="378" y="822"/>
                  </a:lnTo>
                  <a:lnTo>
                    <a:pt x="369" y="845"/>
                  </a:lnTo>
                  <a:lnTo>
                    <a:pt x="357" y="868"/>
                  </a:lnTo>
                  <a:lnTo>
                    <a:pt x="346" y="889"/>
                  </a:lnTo>
                  <a:lnTo>
                    <a:pt x="335" y="908"/>
                  </a:lnTo>
                  <a:lnTo>
                    <a:pt x="323" y="924"/>
                  </a:lnTo>
                  <a:lnTo>
                    <a:pt x="315" y="937"/>
                  </a:lnTo>
                  <a:lnTo>
                    <a:pt x="307" y="950"/>
                  </a:lnTo>
                  <a:lnTo>
                    <a:pt x="301" y="963"/>
                  </a:lnTo>
                  <a:lnTo>
                    <a:pt x="294" y="973"/>
                  </a:lnTo>
                  <a:lnTo>
                    <a:pt x="289" y="982"/>
                  </a:lnTo>
                  <a:lnTo>
                    <a:pt x="284" y="992"/>
                  </a:lnTo>
                  <a:lnTo>
                    <a:pt x="280" y="1000"/>
                  </a:lnTo>
                  <a:lnTo>
                    <a:pt x="268" y="1020"/>
                  </a:lnTo>
                  <a:lnTo>
                    <a:pt x="255" y="1042"/>
                  </a:lnTo>
                  <a:lnTo>
                    <a:pt x="244" y="1060"/>
                  </a:lnTo>
                  <a:lnTo>
                    <a:pt x="239" y="1066"/>
                  </a:lnTo>
                  <a:lnTo>
                    <a:pt x="239" y="1060"/>
                  </a:lnTo>
                  <a:lnTo>
                    <a:pt x="238" y="1045"/>
                  </a:lnTo>
                  <a:lnTo>
                    <a:pt x="236" y="1024"/>
                  </a:lnTo>
                  <a:lnTo>
                    <a:pt x="234" y="1003"/>
                  </a:lnTo>
                  <a:lnTo>
                    <a:pt x="233" y="984"/>
                  </a:lnTo>
                  <a:lnTo>
                    <a:pt x="230" y="971"/>
                  </a:lnTo>
                  <a:lnTo>
                    <a:pt x="226" y="965"/>
                  </a:lnTo>
                  <a:lnTo>
                    <a:pt x="225" y="961"/>
                  </a:lnTo>
                  <a:lnTo>
                    <a:pt x="220" y="963"/>
                  </a:lnTo>
                  <a:lnTo>
                    <a:pt x="207" y="965"/>
                  </a:lnTo>
                  <a:lnTo>
                    <a:pt x="189" y="969"/>
                  </a:lnTo>
                  <a:lnTo>
                    <a:pt x="166" y="976"/>
                  </a:lnTo>
                  <a:lnTo>
                    <a:pt x="142" y="984"/>
                  </a:lnTo>
                  <a:lnTo>
                    <a:pt x="116" y="994"/>
                  </a:lnTo>
                  <a:lnTo>
                    <a:pt x="94" y="1005"/>
                  </a:lnTo>
                  <a:lnTo>
                    <a:pt x="74" y="1018"/>
                  </a:lnTo>
                  <a:lnTo>
                    <a:pt x="58" y="1032"/>
                  </a:lnTo>
                  <a:lnTo>
                    <a:pt x="44" y="1049"/>
                  </a:lnTo>
                  <a:lnTo>
                    <a:pt x="31" y="1065"/>
                  </a:lnTo>
                  <a:lnTo>
                    <a:pt x="19" y="1081"/>
                  </a:lnTo>
                  <a:lnTo>
                    <a:pt x="11" y="1095"/>
                  </a:lnTo>
                  <a:lnTo>
                    <a:pt x="5" y="1107"/>
                  </a:lnTo>
                  <a:lnTo>
                    <a:pt x="2" y="1113"/>
                  </a:lnTo>
                  <a:lnTo>
                    <a:pt x="0" y="1116"/>
                  </a:lnTo>
                  <a:lnTo>
                    <a:pt x="3" y="1167"/>
                  </a:lnTo>
                  <a:lnTo>
                    <a:pt x="37" y="1301"/>
                  </a:lnTo>
                  <a:lnTo>
                    <a:pt x="26" y="1364"/>
                  </a:lnTo>
                  <a:lnTo>
                    <a:pt x="29" y="1373"/>
                  </a:lnTo>
                  <a:lnTo>
                    <a:pt x="36" y="1402"/>
                  </a:lnTo>
                  <a:lnTo>
                    <a:pt x="42" y="1448"/>
                  </a:lnTo>
                  <a:lnTo>
                    <a:pt x="47" y="1506"/>
                  </a:lnTo>
                  <a:lnTo>
                    <a:pt x="53" y="1561"/>
                  </a:lnTo>
                  <a:lnTo>
                    <a:pt x="65" y="1601"/>
                  </a:lnTo>
                  <a:lnTo>
                    <a:pt x="76" y="1628"/>
                  </a:lnTo>
                  <a:lnTo>
                    <a:pt x="87" y="1646"/>
                  </a:lnTo>
                  <a:lnTo>
                    <a:pt x="94" y="1661"/>
                  </a:lnTo>
                  <a:lnTo>
                    <a:pt x="99" y="1677"/>
                  </a:lnTo>
                  <a:lnTo>
                    <a:pt x="99" y="1688"/>
                  </a:lnTo>
                  <a:lnTo>
                    <a:pt x="99" y="1693"/>
                  </a:lnTo>
                  <a:lnTo>
                    <a:pt x="157" y="1709"/>
                  </a:lnTo>
                  <a:lnTo>
                    <a:pt x="158" y="1732"/>
                  </a:lnTo>
                  <a:lnTo>
                    <a:pt x="160" y="1793"/>
                  </a:lnTo>
                  <a:lnTo>
                    <a:pt x="157" y="1885"/>
                  </a:lnTo>
                  <a:lnTo>
                    <a:pt x="141" y="1998"/>
                  </a:lnTo>
                  <a:lnTo>
                    <a:pt x="123" y="2120"/>
                  </a:lnTo>
                  <a:lnTo>
                    <a:pt x="116" y="2233"/>
                  </a:lnTo>
                  <a:lnTo>
                    <a:pt x="118" y="2323"/>
                  </a:lnTo>
                  <a:lnTo>
                    <a:pt x="126" y="2378"/>
                  </a:lnTo>
                  <a:lnTo>
                    <a:pt x="133" y="2394"/>
                  </a:lnTo>
                  <a:lnTo>
                    <a:pt x="141" y="2407"/>
                  </a:lnTo>
                  <a:lnTo>
                    <a:pt x="150" y="2418"/>
                  </a:lnTo>
                  <a:lnTo>
                    <a:pt x="160" y="2428"/>
                  </a:lnTo>
                  <a:lnTo>
                    <a:pt x="170" y="2434"/>
                  </a:lnTo>
                  <a:lnTo>
                    <a:pt x="178" y="2439"/>
                  </a:lnTo>
                  <a:lnTo>
                    <a:pt x="183" y="2443"/>
                  </a:lnTo>
                  <a:lnTo>
                    <a:pt x="184" y="2444"/>
                  </a:lnTo>
                  <a:lnTo>
                    <a:pt x="144" y="2780"/>
                  </a:lnTo>
                  <a:lnTo>
                    <a:pt x="886" y="2780"/>
                  </a:lnTo>
                  <a:lnTo>
                    <a:pt x="912" y="2459"/>
                  </a:lnTo>
                  <a:lnTo>
                    <a:pt x="915" y="2459"/>
                  </a:lnTo>
                  <a:lnTo>
                    <a:pt x="923" y="2455"/>
                  </a:lnTo>
                  <a:lnTo>
                    <a:pt x="934" y="2452"/>
                  </a:lnTo>
                  <a:lnTo>
                    <a:pt x="949" y="2447"/>
                  </a:lnTo>
                  <a:lnTo>
                    <a:pt x="963" y="2441"/>
                  </a:lnTo>
                  <a:lnTo>
                    <a:pt x="981" y="2433"/>
                  </a:lnTo>
                  <a:lnTo>
                    <a:pt x="996" y="2423"/>
                  </a:lnTo>
                  <a:lnTo>
                    <a:pt x="1010" y="2412"/>
                  </a:lnTo>
                  <a:lnTo>
                    <a:pt x="1022" y="2399"/>
                  </a:lnTo>
                  <a:lnTo>
                    <a:pt x="1031" y="2386"/>
                  </a:lnTo>
                  <a:lnTo>
                    <a:pt x="1041" y="2370"/>
                  </a:lnTo>
                  <a:lnTo>
                    <a:pt x="1047" y="2354"/>
                  </a:lnTo>
                  <a:lnTo>
                    <a:pt x="1052" y="2336"/>
                  </a:lnTo>
                  <a:lnTo>
                    <a:pt x="1055" y="2318"/>
                  </a:lnTo>
                  <a:lnTo>
                    <a:pt x="1057" y="2300"/>
                  </a:lnTo>
                  <a:lnTo>
                    <a:pt x="1055" y="2281"/>
                  </a:lnTo>
                  <a:lnTo>
                    <a:pt x="1052" y="2225"/>
                  </a:lnTo>
                  <a:lnTo>
                    <a:pt x="1049" y="2141"/>
                  </a:lnTo>
                  <a:lnTo>
                    <a:pt x="1041" y="2037"/>
                  </a:lnTo>
                  <a:lnTo>
                    <a:pt x="1025" y="1926"/>
                  </a:lnTo>
                  <a:lnTo>
                    <a:pt x="1005" y="1821"/>
                  </a:lnTo>
                  <a:lnTo>
                    <a:pt x="997" y="1733"/>
                  </a:lnTo>
                  <a:lnTo>
                    <a:pt x="992" y="1675"/>
                  </a:lnTo>
                  <a:lnTo>
                    <a:pt x="992" y="1653"/>
                  </a:lnTo>
                  <a:lnTo>
                    <a:pt x="994" y="1616"/>
                  </a:lnTo>
                  <a:lnTo>
                    <a:pt x="997" y="1522"/>
                  </a:lnTo>
                  <a:lnTo>
                    <a:pt x="1004" y="1402"/>
                  </a:lnTo>
                  <a:lnTo>
                    <a:pt x="1017" y="1286"/>
                  </a:lnTo>
                  <a:lnTo>
                    <a:pt x="1025" y="1238"/>
                  </a:lnTo>
                  <a:lnTo>
                    <a:pt x="1034" y="1194"/>
                  </a:lnTo>
                  <a:lnTo>
                    <a:pt x="1043" y="1154"/>
                  </a:lnTo>
                  <a:lnTo>
                    <a:pt x="1049" y="1115"/>
                  </a:lnTo>
                  <a:lnTo>
                    <a:pt x="1052" y="1078"/>
                  </a:lnTo>
                  <a:lnTo>
                    <a:pt x="1054" y="1041"/>
                  </a:lnTo>
                  <a:lnTo>
                    <a:pt x="1049" y="1000"/>
                  </a:lnTo>
                  <a:lnTo>
                    <a:pt x="1041" y="958"/>
                  </a:lnTo>
                  <a:lnTo>
                    <a:pt x="1030" y="915"/>
                  </a:lnTo>
                  <a:lnTo>
                    <a:pt x="1017" y="874"/>
                  </a:lnTo>
                  <a:lnTo>
                    <a:pt x="1002" y="837"/>
                  </a:lnTo>
                  <a:lnTo>
                    <a:pt x="986" y="801"/>
                  </a:lnTo>
                  <a:lnTo>
                    <a:pt x="970" y="768"/>
                  </a:lnTo>
                  <a:lnTo>
                    <a:pt x="952" y="737"/>
                  </a:lnTo>
                  <a:lnTo>
                    <a:pt x="931" y="706"/>
                  </a:lnTo>
                  <a:lnTo>
                    <a:pt x="910" y="676"/>
                  </a:lnTo>
                  <a:lnTo>
                    <a:pt x="891" y="648"/>
                  </a:lnTo>
                  <a:lnTo>
                    <a:pt x="874" y="625"/>
                  </a:lnTo>
                  <a:lnTo>
                    <a:pt x="862" y="608"/>
                  </a:lnTo>
                  <a:lnTo>
                    <a:pt x="852" y="595"/>
                  </a:lnTo>
                  <a:lnTo>
                    <a:pt x="844" y="583"/>
                  </a:lnTo>
                  <a:lnTo>
                    <a:pt x="839" y="577"/>
                  </a:lnTo>
                  <a:lnTo>
                    <a:pt x="837" y="574"/>
                  </a:lnTo>
                  <a:lnTo>
                    <a:pt x="836" y="572"/>
                  </a:lnTo>
                  <a:lnTo>
                    <a:pt x="784" y="522"/>
                  </a:lnTo>
                  <a:lnTo>
                    <a:pt x="787" y="511"/>
                  </a:lnTo>
                  <a:lnTo>
                    <a:pt x="790" y="509"/>
                  </a:lnTo>
                  <a:lnTo>
                    <a:pt x="797" y="503"/>
                  </a:lnTo>
                  <a:lnTo>
                    <a:pt x="810" y="493"/>
                  </a:lnTo>
                  <a:lnTo>
                    <a:pt x="824" y="47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286000" y="2577600"/>
              <a:ext cx="501480" cy="1069920"/>
            </a:xfrm>
            <a:custGeom>
              <a:avLst/>
              <a:gdLst/>
              <a:ahLst/>
              <a:rect l="l" t="t" r="r" b="b"/>
              <a:pathLst>
                <a:path w="280" h="597">
                  <a:moveTo>
                    <a:pt x="173" y="510"/>
                  </a:moveTo>
                  <a:lnTo>
                    <a:pt x="192" y="395"/>
                  </a:lnTo>
                  <a:lnTo>
                    <a:pt x="194" y="394"/>
                  </a:lnTo>
                  <a:lnTo>
                    <a:pt x="200" y="389"/>
                  </a:lnTo>
                  <a:lnTo>
                    <a:pt x="209" y="381"/>
                  </a:lnTo>
                  <a:lnTo>
                    <a:pt x="218" y="370"/>
                  </a:lnTo>
                  <a:lnTo>
                    <a:pt x="228" y="355"/>
                  </a:lnTo>
                  <a:lnTo>
                    <a:pt x="236" y="339"/>
                  </a:lnTo>
                  <a:lnTo>
                    <a:pt x="244" y="321"/>
                  </a:lnTo>
                  <a:lnTo>
                    <a:pt x="249" y="300"/>
                  </a:lnTo>
                  <a:lnTo>
                    <a:pt x="255" y="265"/>
                  </a:lnTo>
                  <a:lnTo>
                    <a:pt x="260" y="240"/>
                  </a:lnTo>
                  <a:lnTo>
                    <a:pt x="262" y="224"/>
                  </a:lnTo>
                  <a:lnTo>
                    <a:pt x="263" y="210"/>
                  </a:lnTo>
                  <a:lnTo>
                    <a:pt x="262" y="194"/>
                  </a:lnTo>
                  <a:lnTo>
                    <a:pt x="260" y="179"/>
                  </a:lnTo>
                  <a:lnTo>
                    <a:pt x="259" y="168"/>
                  </a:lnTo>
                  <a:lnTo>
                    <a:pt x="259" y="158"/>
                  </a:lnTo>
                  <a:lnTo>
                    <a:pt x="263" y="145"/>
                  </a:lnTo>
                  <a:lnTo>
                    <a:pt x="272" y="129"/>
                  </a:lnTo>
                  <a:lnTo>
                    <a:pt x="280" y="114"/>
                  </a:lnTo>
                  <a:lnTo>
                    <a:pt x="280" y="106"/>
                  </a:lnTo>
                  <a:lnTo>
                    <a:pt x="273" y="101"/>
                  </a:lnTo>
                  <a:lnTo>
                    <a:pt x="265" y="95"/>
                  </a:lnTo>
                  <a:lnTo>
                    <a:pt x="257" y="92"/>
                  </a:lnTo>
                  <a:lnTo>
                    <a:pt x="249" y="93"/>
                  </a:lnTo>
                  <a:lnTo>
                    <a:pt x="244" y="97"/>
                  </a:lnTo>
                  <a:lnTo>
                    <a:pt x="238" y="103"/>
                  </a:lnTo>
                  <a:lnTo>
                    <a:pt x="231" y="110"/>
                  </a:lnTo>
                  <a:lnTo>
                    <a:pt x="223" y="118"/>
                  </a:lnTo>
                  <a:lnTo>
                    <a:pt x="217" y="126"/>
                  </a:lnTo>
                  <a:lnTo>
                    <a:pt x="209" y="134"/>
                  </a:lnTo>
                  <a:lnTo>
                    <a:pt x="202" y="140"/>
                  </a:lnTo>
                  <a:lnTo>
                    <a:pt x="197" y="145"/>
                  </a:lnTo>
                  <a:lnTo>
                    <a:pt x="189" y="150"/>
                  </a:lnTo>
                  <a:lnTo>
                    <a:pt x="184" y="150"/>
                  </a:lnTo>
                  <a:lnTo>
                    <a:pt x="183" y="147"/>
                  </a:lnTo>
                  <a:lnTo>
                    <a:pt x="181" y="145"/>
                  </a:lnTo>
                  <a:lnTo>
                    <a:pt x="184" y="76"/>
                  </a:lnTo>
                  <a:lnTo>
                    <a:pt x="186" y="72"/>
                  </a:lnTo>
                  <a:lnTo>
                    <a:pt x="189" y="66"/>
                  </a:lnTo>
                  <a:lnTo>
                    <a:pt x="192" y="58"/>
                  </a:lnTo>
                  <a:lnTo>
                    <a:pt x="194" y="50"/>
                  </a:lnTo>
                  <a:lnTo>
                    <a:pt x="197" y="43"/>
                  </a:lnTo>
                  <a:lnTo>
                    <a:pt x="202" y="35"/>
                  </a:lnTo>
                  <a:lnTo>
                    <a:pt x="207" y="30"/>
                  </a:lnTo>
                  <a:lnTo>
                    <a:pt x="209" y="27"/>
                  </a:lnTo>
                  <a:lnTo>
                    <a:pt x="212" y="24"/>
                  </a:lnTo>
                  <a:lnTo>
                    <a:pt x="217" y="16"/>
                  </a:lnTo>
                  <a:lnTo>
                    <a:pt x="221" y="8"/>
                  </a:lnTo>
                  <a:lnTo>
                    <a:pt x="223" y="1"/>
                  </a:lnTo>
                  <a:lnTo>
                    <a:pt x="217" y="0"/>
                  </a:lnTo>
                  <a:lnTo>
                    <a:pt x="205" y="0"/>
                  </a:lnTo>
                  <a:lnTo>
                    <a:pt x="194" y="1"/>
                  </a:lnTo>
                  <a:lnTo>
                    <a:pt x="189" y="1"/>
                  </a:lnTo>
                  <a:lnTo>
                    <a:pt x="186" y="5"/>
                  </a:lnTo>
                  <a:lnTo>
                    <a:pt x="179" y="16"/>
                  </a:lnTo>
                  <a:lnTo>
                    <a:pt x="170" y="29"/>
                  </a:lnTo>
                  <a:lnTo>
                    <a:pt x="158" y="45"/>
                  </a:lnTo>
                  <a:lnTo>
                    <a:pt x="145" y="59"/>
                  </a:lnTo>
                  <a:lnTo>
                    <a:pt x="134" y="71"/>
                  </a:lnTo>
                  <a:lnTo>
                    <a:pt x="126" y="80"/>
                  </a:lnTo>
                  <a:lnTo>
                    <a:pt x="121" y="87"/>
                  </a:lnTo>
                  <a:lnTo>
                    <a:pt x="120" y="95"/>
                  </a:lnTo>
                  <a:lnTo>
                    <a:pt x="116" y="106"/>
                  </a:lnTo>
                  <a:lnTo>
                    <a:pt x="113" y="118"/>
                  </a:lnTo>
                  <a:lnTo>
                    <a:pt x="112" y="122"/>
                  </a:lnTo>
                  <a:lnTo>
                    <a:pt x="79" y="142"/>
                  </a:lnTo>
                  <a:lnTo>
                    <a:pt x="73" y="160"/>
                  </a:lnTo>
                  <a:lnTo>
                    <a:pt x="44" y="177"/>
                  </a:lnTo>
                  <a:lnTo>
                    <a:pt x="31" y="202"/>
                  </a:lnTo>
                  <a:lnTo>
                    <a:pt x="23" y="211"/>
                  </a:lnTo>
                  <a:lnTo>
                    <a:pt x="15" y="229"/>
                  </a:lnTo>
                  <a:lnTo>
                    <a:pt x="15" y="239"/>
                  </a:lnTo>
                  <a:lnTo>
                    <a:pt x="16" y="261"/>
                  </a:lnTo>
                  <a:lnTo>
                    <a:pt x="19" y="290"/>
                  </a:lnTo>
                  <a:lnTo>
                    <a:pt x="26" y="323"/>
                  </a:lnTo>
                  <a:lnTo>
                    <a:pt x="34" y="353"/>
                  </a:lnTo>
                  <a:lnTo>
                    <a:pt x="40" y="381"/>
                  </a:lnTo>
                  <a:lnTo>
                    <a:pt x="45" y="403"/>
                  </a:lnTo>
                  <a:lnTo>
                    <a:pt x="45" y="421"/>
                  </a:lnTo>
                  <a:lnTo>
                    <a:pt x="42" y="444"/>
                  </a:lnTo>
                  <a:lnTo>
                    <a:pt x="39" y="473"/>
                  </a:lnTo>
                  <a:lnTo>
                    <a:pt x="36" y="499"/>
                  </a:lnTo>
                  <a:lnTo>
                    <a:pt x="34" y="510"/>
                  </a:lnTo>
                  <a:lnTo>
                    <a:pt x="16" y="525"/>
                  </a:lnTo>
                  <a:lnTo>
                    <a:pt x="0" y="597"/>
                  </a:lnTo>
                  <a:lnTo>
                    <a:pt x="173" y="51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2:29:54Z</dcterms:created>
  <dc:creator>Vince Hardy</dc:creator>
  <dc:description/>
  <dc:language>en-US</dc:language>
  <cp:lastModifiedBy>Jeremiah McNichols</cp:lastModifiedBy>
  <dcterms:modified xsi:type="dcterms:W3CDTF">2008-10-01T14:51:10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a07000000000001023620</vt:lpwstr>
  </property>
</Properties>
</file>