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0DD3-39C1-499D-84FC-B922B5052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DD798-B639-4CFC-8F56-99AF7F7DE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FC21D-B5A4-4D07-A44F-762196CB0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91760-C87D-410E-8FBE-3A8573D98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2C1FB-D5B0-492A-A417-39D3CC1E7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463E9-C587-4F18-8746-D3BB9A71F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9389D-1C6D-4A94-B0F6-53712E54D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2C634-7341-48E9-8CE1-23C72D73D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38F18-89F3-4733-BBB5-84393F87E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1144C-4CB6-4771-9B0F-6E7F2C3D1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6D781-C88A-4EA3-B840-EAA552A3A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D97B6-B500-4B08-BCCF-F13737B75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50873-0D90-4DDC-BD73-159F2CC05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0E50-5EFA-4E60-84CF-4FEB2B482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College of Veterinary Medicine</cp:lastModifiedBy>
  <dcterms:modified xsi:type="dcterms:W3CDTF">2007-07-31T14:12:04Z</dcterms:modified>
  <cp:revision>157</cp:revision>
  <dc:subject/>
  <dc:title>PowerPoint Presentation</dc:title>
</cp:coreProperties>
</file>