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1212F-5B45-4B5F-9D24-DE314591A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EC2EA-B998-4A0D-935F-7F03619B7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A76E6-A509-4CDD-9E53-4AA6A3A70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ED5F1-B7AC-4C6E-814B-AD51775B9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9CDF6-2F31-432C-8FDF-2B8110482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BDD3E-4673-4752-87EF-D90823479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810CF-DF8A-4C51-AEC5-F553D7A96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E357B-9049-4E9A-B696-AA14AD762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9B9FD-E7D0-4BD5-BEA9-25917638A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2D01F-4C0A-4A80-A681-5A035585B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6E50F-B319-406F-B804-A2F64A07A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898EA-2EA4-45A8-B003-7F0C4AFB2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A8394-FFB5-4789-B752-40C48D5C7B8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er Probl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“per” problem is a problem in which you can use the word per to describe one or more of the numbers involved.  Here are some everyday exampl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les Per H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ers Per Seco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llars Per H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urs Per Wee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ids Per Cla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419720" y="3733920"/>
            <a:ext cx="4371840" cy="27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er Problems cont.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se problems often require us to use the word per in our units to find the solution.  They can also be called “Unit Conversions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we can master using the word “per”, these problems become very eas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 problems are some of the most versatile problems that a person can learn to use.  The key is deciding when and how to use the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447920" y="5638680"/>
            <a:ext cx="655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When To Use Per Unit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$5 an hour = $5 per hour = $5/hou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ree shelves can fit on each wall = 3 shelves per wall = 3 shelves/w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0 meters in one second = 10 meters per second = 10 meters/seco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word per can be very useful in many different situations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OTE: 10 meters/second is the same a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 second/10 met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How To Use Units With The </a:t>
            </a:r>
            <a:br>
              <a:rPr sz="4000"/>
            </a:b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Word Per 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solving per problems, the goal usually is to cross out the units until you have the units of your solu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ampl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Man gets paid $10 per hour to paint a house which has four walls.  If each wall takes the man 2 hours, how much will he get pai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units will I need?  Ultimately, the payment will be in dolla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933560" y="4267080"/>
            <a:ext cx="5257800" cy="21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Another Exampl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I run for 13 meters per second for one hour, how far will I ru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units do I need?  Ultimately, distance in met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677960" y="3200400"/>
            <a:ext cx="5786640" cy="28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7T21:49:22Z</dcterms:created>
  <dc:creator>vtpp</dc:creator>
  <dc:description/>
  <dc:language>en-US</dc:language>
  <cp:lastModifiedBy>vhardy</cp:lastModifiedBy>
  <dcterms:modified xsi:type="dcterms:W3CDTF">2003-05-23T21:31:07Z</dcterms:modified>
  <cp:revision>13</cp:revision>
  <dc:subject/>
  <dc:title>Per Problems</dc:title>
</cp:coreProperties>
</file>