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1465-6DB5-4BA9-BE23-2498F7690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In one click, a U.S. Space Shuttle passes through the scene and information and graphics displaying the passing of solar radiation into and out of Earth’s atmosphere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In one click, information and graphics relating to infrared radiation from the Earth are displa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289-BEB6-49B1-8D61-CB7B3FF4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E35-B1FC-40AF-B152-BB3BE8AB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B6D-8BB2-4A83-9380-4ABFF779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47F-F5C4-459B-BE38-BB99C551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88D-3310-46D6-8697-24D9679B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D16-E230-4A5C-BFFC-46E582C1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946-A770-4E02-8F45-C3DDC067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254-13B3-43B8-A848-FA083DB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87B-5052-496A-9210-FCB4D626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4A7-5DB7-418A-B522-F9DC800E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A52-55CD-49A0-A372-AC1CC5DF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D6D-0D9A-4BF1-9E63-8CD4576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91D8-454F-4E3F-ADA4-1FA2EC48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Ecosystems/hazards/global_warming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0560" y="3022560"/>
            <a:ext cx="86360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Middle School Curriculu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hip for Environmental Education and Rural Heal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as A&amp;M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00"/>
                </a:solidFill>
                <a:uFillTx/>
                <a:latin typeface="Arial"/>
                <a:hlinkClick r:id="rId3"/>
              </a:rPr>
              <a:t>peer.ta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360" y="1170000"/>
            <a:ext cx="94284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67000" y="1384200"/>
            <a:ext cx="942840" cy="943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527040"/>
            <a:ext cx="94320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2640" y="1012680"/>
            <a:ext cx="943200" cy="943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8600" y="569880"/>
            <a:ext cx="94284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0" y="1527120"/>
            <a:ext cx="943200" cy="943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49680" y="2313000"/>
            <a:ext cx="94320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755720"/>
            <a:ext cx="942840" cy="943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8040" y="2284560"/>
            <a:ext cx="94284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2520" y="3270240"/>
            <a:ext cx="94284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7840" y="3841920"/>
            <a:ext cx="943200" cy="94284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04920" y="304920"/>
            <a:ext cx="8545320" cy="6149520"/>
            <a:chOff x="304920" y="304920"/>
            <a:chExt cx="8545320" cy="614952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380880" y="19098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380880" y="343368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380880" y="495792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04920" y="990720"/>
              <a:ext cx="8534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s product is available through the cooperation of the following: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4724280" y="345132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6"/>
            <a:stretch/>
          </p:blipFill>
          <p:spPr>
            <a:xfrm>
              <a:off x="4724280" y="49705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1" name=""/>
            <p:cNvGrpSpPr/>
            <p:nvPr/>
          </p:nvGrpSpPr>
          <p:grpSpPr>
            <a:xfrm>
              <a:off x="4643280" y="1928880"/>
              <a:ext cx="1546560" cy="1371600"/>
              <a:chOff x="4643280" y="1928880"/>
              <a:chExt cx="1546560" cy="1371600"/>
            </a:xfrm>
          </p:grpSpPr>
          <p:sp>
            <p:nvSpPr>
              <p:cNvPr id="232" name=""/>
              <p:cNvSpPr/>
              <p:nvPr/>
            </p:nvSpPr>
            <p:spPr>
              <a:xfrm>
                <a:off x="4724280" y="19288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33" name=""/>
              <p:cNvGraphicFramePr/>
              <p:nvPr/>
            </p:nvGraphicFramePr>
            <p:xfrm>
              <a:off x="4643280" y="2117880"/>
              <a:ext cx="1546560" cy="1012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643280" y="21178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35" name=""/>
            <p:cNvSpPr/>
            <p:nvPr/>
          </p:nvSpPr>
          <p:spPr>
            <a:xfrm>
              <a:off x="1916280" y="2139840"/>
              <a:ext cx="2674800" cy="43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920" y="304920"/>
              <a:ext cx="84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achers, please click on this link to complete a short survey concerning this module: </a:t>
              </a:r>
              <a:r>
                <a:rPr b="0" lang="en-US" sz="2000" spc="-1" strike="noStrike" u="sng">
                  <a:solidFill>
                    <a:srgbClr val="cc0000"/>
                  </a:solidFill>
                  <a:uFillTx/>
                  <a:latin typeface="Times New Roman"/>
                  <a:hlinkClick r:id="rId9"/>
                </a:rPr>
                <a:t>http://</a:t>
              </a:r>
              <a:r>
                <a:rPr b="0" lang="en-US" sz="2000" spc="-1" strike="noStrike" u="sng">
                  <a:solidFill>
                    <a:srgbClr val="cc0000"/>
                  </a:solidFill>
                  <a:uFillTx/>
                  <a:latin typeface="Times New Roman"/>
                  <a:hlinkClick r:id="rId10"/>
                </a:rPr>
                <a:t>peer.tamu.edu/forms/Curricula_Survey.shtm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48520" y="2209680"/>
              <a:ext cx="26017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– Scienc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greenhouse effect and how it leads to global war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how global warming affects climate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familiar with the specific pollutants that affect global war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810400"/>
            <a:ext cx="9144000" cy="104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3320" y="2546280"/>
            <a:ext cx="777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3320" y="2314440"/>
            <a:ext cx="777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115960" y="3362400"/>
            <a:ext cx="4680" cy="111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193720" y="33526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6" y="6"/>
                </a:lnTo>
                <a:lnTo>
                  <a:pt x="6" y="6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219280" y="335268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7" y="6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246280" y="334656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4"/>
                </a:move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0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182560" y="337356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3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4" y="6"/>
                </a:lnTo>
                <a:lnTo>
                  <a:pt x="4" y="6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209560" y="33670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6" y="7"/>
                </a:lnTo>
                <a:lnTo>
                  <a:pt x="6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260680" y="33624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4" y="7"/>
                </a:lnTo>
                <a:lnTo>
                  <a:pt x="4" y="7"/>
                </a:lnTo>
                <a:lnTo>
                  <a:pt x="7" y="7"/>
                </a:lnTo>
                <a:lnTo>
                  <a:pt x="7" y="7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120640" y="340344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173200" y="339408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6" y="6"/>
                </a:lnTo>
                <a:lnTo>
                  <a:pt x="6" y="6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223960" y="338940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7" y="6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250960" y="33829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4"/>
                </a:move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4"/>
                </a:lnTo>
                <a:lnTo>
                  <a:pt x="6" y="4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89040" y="3409920"/>
            <a:ext cx="4680" cy="9720"/>
          </a:xfrm>
          <a:custGeom>
            <a:avLst/>
            <a:gdLst/>
            <a:ahLst/>
            <a:rect l="l" t="t" r="r" b="b"/>
            <a:pathLst>
              <a:path w="3" h="6">
                <a:moveTo>
                  <a:pt x="0" y="3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266800" y="33987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152680" y="34354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203440" y="34243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4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4" y="7"/>
                </a:lnTo>
                <a:lnTo>
                  <a:pt x="4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219280" y="34401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420840" y="3121200"/>
            <a:ext cx="10293480" cy="5341680"/>
            <a:chOff x="-420840" y="3121200"/>
            <a:chExt cx="10293480" cy="5341680"/>
          </a:xfrm>
        </p:grpSpPr>
        <p:sp>
          <p:nvSpPr>
            <p:cNvPr id="83" name=""/>
            <p:cNvSpPr/>
            <p:nvPr/>
          </p:nvSpPr>
          <p:spPr>
            <a:xfrm>
              <a:off x="-420840" y="3121200"/>
              <a:ext cx="10293480" cy="5154480"/>
            </a:xfrm>
            <a:custGeom>
              <a:avLst/>
              <a:gdLst/>
              <a:ahLst/>
              <a:rect l="l" t="t" r="r" b="b"/>
              <a:pathLst>
                <a:path w="4608" h="2308">
                  <a:moveTo>
                    <a:pt x="4608" y="2308"/>
                  </a:moveTo>
                  <a:lnTo>
                    <a:pt x="4608" y="2247"/>
                  </a:lnTo>
                  <a:lnTo>
                    <a:pt x="4604" y="2186"/>
                  </a:lnTo>
                  <a:lnTo>
                    <a:pt x="4597" y="2128"/>
                  </a:lnTo>
                  <a:lnTo>
                    <a:pt x="4597" y="2071"/>
                  </a:lnTo>
                  <a:lnTo>
                    <a:pt x="4587" y="2010"/>
                  </a:lnTo>
                  <a:lnTo>
                    <a:pt x="4580" y="1956"/>
                  </a:lnTo>
                  <a:lnTo>
                    <a:pt x="4570" y="1895"/>
                  </a:lnTo>
                  <a:lnTo>
                    <a:pt x="4560" y="1841"/>
                  </a:lnTo>
                  <a:lnTo>
                    <a:pt x="4546" y="1784"/>
                  </a:lnTo>
                  <a:lnTo>
                    <a:pt x="4532" y="1729"/>
                  </a:lnTo>
                  <a:lnTo>
                    <a:pt x="4516" y="1675"/>
                  </a:lnTo>
                  <a:lnTo>
                    <a:pt x="4501" y="1621"/>
                  </a:lnTo>
                  <a:lnTo>
                    <a:pt x="4485" y="1567"/>
                  </a:lnTo>
                  <a:lnTo>
                    <a:pt x="4464" y="1513"/>
                  </a:lnTo>
                  <a:lnTo>
                    <a:pt x="4443" y="1458"/>
                  </a:lnTo>
                  <a:lnTo>
                    <a:pt x="4423" y="1408"/>
                  </a:lnTo>
                  <a:lnTo>
                    <a:pt x="4399" y="1357"/>
                  </a:lnTo>
                  <a:lnTo>
                    <a:pt x="4375" y="1306"/>
                  </a:lnTo>
                  <a:lnTo>
                    <a:pt x="4351" y="1256"/>
                  </a:lnTo>
                  <a:lnTo>
                    <a:pt x="4323" y="1208"/>
                  </a:lnTo>
                  <a:lnTo>
                    <a:pt x="4296" y="1157"/>
                  </a:lnTo>
                  <a:lnTo>
                    <a:pt x="4269" y="1110"/>
                  </a:lnTo>
                  <a:lnTo>
                    <a:pt x="4238" y="1062"/>
                  </a:lnTo>
                  <a:lnTo>
                    <a:pt x="4211" y="1015"/>
                  </a:lnTo>
                  <a:lnTo>
                    <a:pt x="4177" y="968"/>
                  </a:lnTo>
                  <a:lnTo>
                    <a:pt x="4142" y="924"/>
                  </a:lnTo>
                  <a:lnTo>
                    <a:pt x="4108" y="880"/>
                  </a:lnTo>
                  <a:lnTo>
                    <a:pt x="4074" y="839"/>
                  </a:lnTo>
                  <a:lnTo>
                    <a:pt x="4036" y="795"/>
                  </a:lnTo>
                  <a:lnTo>
                    <a:pt x="3999" y="755"/>
                  </a:lnTo>
                  <a:lnTo>
                    <a:pt x="3961" y="714"/>
                  </a:lnTo>
                  <a:lnTo>
                    <a:pt x="3924" y="677"/>
                  </a:lnTo>
                  <a:lnTo>
                    <a:pt x="3882" y="636"/>
                  </a:lnTo>
                  <a:lnTo>
                    <a:pt x="3841" y="596"/>
                  </a:lnTo>
                  <a:lnTo>
                    <a:pt x="3801" y="562"/>
                  </a:lnTo>
                  <a:lnTo>
                    <a:pt x="3756" y="525"/>
                  </a:lnTo>
                  <a:lnTo>
                    <a:pt x="3712" y="491"/>
                  </a:lnTo>
                  <a:lnTo>
                    <a:pt x="3666" y="457"/>
                  </a:lnTo>
                  <a:lnTo>
                    <a:pt x="3622" y="424"/>
                  </a:lnTo>
                  <a:lnTo>
                    <a:pt x="3578" y="393"/>
                  </a:lnTo>
                  <a:lnTo>
                    <a:pt x="3530" y="363"/>
                  </a:lnTo>
                  <a:lnTo>
                    <a:pt x="3483" y="332"/>
                  </a:lnTo>
                  <a:lnTo>
                    <a:pt x="3434" y="302"/>
                  </a:lnTo>
                  <a:lnTo>
                    <a:pt x="3386" y="278"/>
                  </a:lnTo>
                  <a:lnTo>
                    <a:pt x="3335" y="251"/>
                  </a:lnTo>
                  <a:lnTo>
                    <a:pt x="3284" y="227"/>
                  </a:lnTo>
                  <a:lnTo>
                    <a:pt x="3236" y="203"/>
                  </a:lnTo>
                  <a:lnTo>
                    <a:pt x="3184" y="180"/>
                  </a:lnTo>
                  <a:lnTo>
                    <a:pt x="3130" y="156"/>
                  </a:lnTo>
                  <a:lnTo>
                    <a:pt x="3075" y="139"/>
                  </a:lnTo>
                  <a:lnTo>
                    <a:pt x="3024" y="119"/>
                  </a:lnTo>
                  <a:lnTo>
                    <a:pt x="2969" y="102"/>
                  </a:lnTo>
                  <a:lnTo>
                    <a:pt x="2914" y="85"/>
                  </a:lnTo>
                  <a:lnTo>
                    <a:pt x="2856" y="72"/>
                  </a:lnTo>
                  <a:lnTo>
                    <a:pt x="2801" y="58"/>
                  </a:lnTo>
                  <a:lnTo>
                    <a:pt x="2747" y="45"/>
                  </a:lnTo>
                  <a:lnTo>
                    <a:pt x="2689" y="34"/>
                  </a:lnTo>
                  <a:lnTo>
                    <a:pt x="2631" y="24"/>
                  </a:lnTo>
                  <a:lnTo>
                    <a:pt x="2573" y="14"/>
                  </a:lnTo>
                  <a:lnTo>
                    <a:pt x="2514" y="11"/>
                  </a:lnTo>
                  <a:lnTo>
                    <a:pt x="2456" y="4"/>
                  </a:lnTo>
                  <a:lnTo>
                    <a:pt x="2394" y="0"/>
                  </a:lnTo>
                  <a:lnTo>
                    <a:pt x="2336" y="0"/>
                  </a:lnTo>
                  <a:lnTo>
                    <a:pt x="2278" y="0"/>
                  </a:lnTo>
                  <a:lnTo>
                    <a:pt x="2217" y="0"/>
                  </a:lnTo>
                  <a:lnTo>
                    <a:pt x="2159" y="0"/>
                  </a:lnTo>
                  <a:lnTo>
                    <a:pt x="2097" y="4"/>
                  </a:lnTo>
                  <a:lnTo>
                    <a:pt x="2039" y="11"/>
                  </a:lnTo>
                  <a:lnTo>
                    <a:pt x="1981" y="14"/>
                  </a:lnTo>
                  <a:lnTo>
                    <a:pt x="1922" y="24"/>
                  </a:lnTo>
                  <a:lnTo>
                    <a:pt x="1864" y="34"/>
                  </a:lnTo>
                  <a:lnTo>
                    <a:pt x="1810" y="45"/>
                  </a:lnTo>
                  <a:lnTo>
                    <a:pt x="1752" y="58"/>
                  </a:lnTo>
                  <a:lnTo>
                    <a:pt x="1696" y="72"/>
                  </a:lnTo>
                  <a:lnTo>
                    <a:pt x="1642" y="85"/>
                  </a:lnTo>
                  <a:lnTo>
                    <a:pt x="1587" y="102"/>
                  </a:lnTo>
                  <a:lnTo>
                    <a:pt x="1532" y="119"/>
                  </a:lnTo>
                  <a:lnTo>
                    <a:pt x="1478" y="139"/>
                  </a:lnTo>
                  <a:lnTo>
                    <a:pt x="1423" y="156"/>
                  </a:lnTo>
                  <a:lnTo>
                    <a:pt x="1372" y="180"/>
                  </a:lnTo>
                  <a:lnTo>
                    <a:pt x="1320" y="203"/>
                  </a:lnTo>
                  <a:lnTo>
                    <a:pt x="1269" y="227"/>
                  </a:lnTo>
                  <a:lnTo>
                    <a:pt x="1218" y="251"/>
                  </a:lnTo>
                  <a:lnTo>
                    <a:pt x="1170" y="278"/>
                  </a:lnTo>
                  <a:lnTo>
                    <a:pt x="1118" y="302"/>
                  </a:lnTo>
                  <a:lnTo>
                    <a:pt x="1070" y="332"/>
                  </a:lnTo>
                  <a:lnTo>
                    <a:pt x="1023" y="363"/>
                  </a:lnTo>
                  <a:lnTo>
                    <a:pt x="979" y="393"/>
                  </a:lnTo>
                  <a:lnTo>
                    <a:pt x="933" y="424"/>
                  </a:lnTo>
                  <a:lnTo>
                    <a:pt x="886" y="457"/>
                  </a:lnTo>
                  <a:lnTo>
                    <a:pt x="842" y="491"/>
                  </a:lnTo>
                  <a:lnTo>
                    <a:pt x="800" y="525"/>
                  </a:lnTo>
                  <a:lnTo>
                    <a:pt x="756" y="562"/>
                  </a:lnTo>
                  <a:lnTo>
                    <a:pt x="715" y="596"/>
                  </a:lnTo>
                  <a:lnTo>
                    <a:pt x="674" y="636"/>
                  </a:lnTo>
                  <a:lnTo>
                    <a:pt x="636" y="677"/>
                  </a:lnTo>
                  <a:lnTo>
                    <a:pt x="595" y="714"/>
                  </a:lnTo>
                  <a:lnTo>
                    <a:pt x="557" y="755"/>
                  </a:lnTo>
                  <a:lnTo>
                    <a:pt x="520" y="795"/>
                  </a:lnTo>
                  <a:lnTo>
                    <a:pt x="482" y="839"/>
                  </a:lnTo>
                  <a:lnTo>
                    <a:pt x="448" y="880"/>
                  </a:lnTo>
                  <a:lnTo>
                    <a:pt x="414" y="924"/>
                  </a:lnTo>
                  <a:lnTo>
                    <a:pt x="383" y="968"/>
                  </a:lnTo>
                  <a:lnTo>
                    <a:pt x="353" y="1015"/>
                  </a:lnTo>
                  <a:lnTo>
                    <a:pt x="318" y="1062"/>
                  </a:lnTo>
                  <a:lnTo>
                    <a:pt x="291" y="1110"/>
                  </a:lnTo>
                  <a:lnTo>
                    <a:pt x="260" y="1157"/>
                  </a:lnTo>
                  <a:lnTo>
                    <a:pt x="236" y="1208"/>
                  </a:lnTo>
                  <a:lnTo>
                    <a:pt x="208" y="1256"/>
                  </a:lnTo>
                  <a:lnTo>
                    <a:pt x="185" y="1306"/>
                  </a:lnTo>
                  <a:lnTo>
                    <a:pt x="158" y="1357"/>
                  </a:lnTo>
                  <a:lnTo>
                    <a:pt x="137" y="1408"/>
                  </a:lnTo>
                  <a:lnTo>
                    <a:pt x="113" y="1458"/>
                  </a:lnTo>
                  <a:lnTo>
                    <a:pt x="96" y="1513"/>
                  </a:lnTo>
                  <a:lnTo>
                    <a:pt x="75" y="1567"/>
                  </a:lnTo>
                  <a:lnTo>
                    <a:pt x="58" y="1621"/>
                  </a:lnTo>
                  <a:lnTo>
                    <a:pt x="41" y="1675"/>
                  </a:lnTo>
                  <a:lnTo>
                    <a:pt x="27" y="1729"/>
                  </a:lnTo>
                  <a:lnTo>
                    <a:pt x="10" y="1784"/>
                  </a:lnTo>
                  <a:lnTo>
                    <a:pt x="0" y="1841"/>
                  </a:lnTo>
                  <a:lnTo>
                    <a:pt x="0" y="1895"/>
                  </a:lnTo>
                  <a:lnTo>
                    <a:pt x="0" y="1956"/>
                  </a:lnTo>
                  <a:lnTo>
                    <a:pt x="0" y="2010"/>
                  </a:lnTo>
                  <a:lnTo>
                    <a:pt x="0" y="2071"/>
                  </a:lnTo>
                  <a:lnTo>
                    <a:pt x="0" y="2128"/>
                  </a:lnTo>
                  <a:lnTo>
                    <a:pt x="0" y="2186"/>
                  </a:lnTo>
                  <a:lnTo>
                    <a:pt x="0" y="2247"/>
                  </a:lnTo>
                  <a:lnTo>
                    <a:pt x="0" y="2308"/>
                  </a:lnTo>
                </a:path>
              </a:pathLst>
            </a:custGeom>
            <a:solidFill>
              <a:srgbClr val="00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2280" y="3583080"/>
              <a:ext cx="9104400" cy="4500360"/>
            </a:xfrm>
            <a:custGeom>
              <a:avLst/>
              <a:gdLst/>
              <a:ahLst/>
              <a:rect l="l" t="t" r="r" b="b"/>
              <a:pathLst>
                <a:path w="4608" h="2308">
                  <a:moveTo>
                    <a:pt x="4608" y="2308"/>
                  </a:moveTo>
                  <a:lnTo>
                    <a:pt x="4608" y="2247"/>
                  </a:lnTo>
                  <a:lnTo>
                    <a:pt x="4604" y="2186"/>
                  </a:lnTo>
                  <a:lnTo>
                    <a:pt x="4597" y="2128"/>
                  </a:lnTo>
                  <a:lnTo>
                    <a:pt x="4597" y="2071"/>
                  </a:lnTo>
                  <a:lnTo>
                    <a:pt x="4587" y="2010"/>
                  </a:lnTo>
                  <a:lnTo>
                    <a:pt x="4580" y="1956"/>
                  </a:lnTo>
                  <a:lnTo>
                    <a:pt x="4570" y="1895"/>
                  </a:lnTo>
                  <a:lnTo>
                    <a:pt x="4560" y="1841"/>
                  </a:lnTo>
                  <a:lnTo>
                    <a:pt x="4546" y="1784"/>
                  </a:lnTo>
                  <a:lnTo>
                    <a:pt x="4532" y="1729"/>
                  </a:lnTo>
                  <a:lnTo>
                    <a:pt x="4516" y="1675"/>
                  </a:lnTo>
                  <a:lnTo>
                    <a:pt x="4501" y="1621"/>
                  </a:lnTo>
                  <a:lnTo>
                    <a:pt x="4485" y="1567"/>
                  </a:lnTo>
                  <a:lnTo>
                    <a:pt x="4464" y="1513"/>
                  </a:lnTo>
                  <a:lnTo>
                    <a:pt x="4443" y="1458"/>
                  </a:lnTo>
                  <a:lnTo>
                    <a:pt x="4423" y="1408"/>
                  </a:lnTo>
                  <a:lnTo>
                    <a:pt x="4399" y="1357"/>
                  </a:lnTo>
                  <a:lnTo>
                    <a:pt x="4375" y="1306"/>
                  </a:lnTo>
                  <a:lnTo>
                    <a:pt x="4351" y="1256"/>
                  </a:lnTo>
                  <a:lnTo>
                    <a:pt x="4323" y="1208"/>
                  </a:lnTo>
                  <a:lnTo>
                    <a:pt x="4296" y="1157"/>
                  </a:lnTo>
                  <a:lnTo>
                    <a:pt x="4269" y="1110"/>
                  </a:lnTo>
                  <a:lnTo>
                    <a:pt x="4238" y="1062"/>
                  </a:lnTo>
                  <a:lnTo>
                    <a:pt x="4211" y="1015"/>
                  </a:lnTo>
                  <a:lnTo>
                    <a:pt x="4177" y="968"/>
                  </a:lnTo>
                  <a:lnTo>
                    <a:pt x="4142" y="924"/>
                  </a:lnTo>
                  <a:lnTo>
                    <a:pt x="4108" y="880"/>
                  </a:lnTo>
                  <a:lnTo>
                    <a:pt x="4074" y="839"/>
                  </a:lnTo>
                  <a:lnTo>
                    <a:pt x="4036" y="795"/>
                  </a:lnTo>
                  <a:lnTo>
                    <a:pt x="3999" y="755"/>
                  </a:lnTo>
                  <a:lnTo>
                    <a:pt x="3961" y="714"/>
                  </a:lnTo>
                  <a:lnTo>
                    <a:pt x="3924" y="677"/>
                  </a:lnTo>
                  <a:lnTo>
                    <a:pt x="3882" y="636"/>
                  </a:lnTo>
                  <a:lnTo>
                    <a:pt x="3841" y="596"/>
                  </a:lnTo>
                  <a:lnTo>
                    <a:pt x="3801" y="562"/>
                  </a:lnTo>
                  <a:lnTo>
                    <a:pt x="3756" y="525"/>
                  </a:lnTo>
                  <a:lnTo>
                    <a:pt x="3712" y="491"/>
                  </a:lnTo>
                  <a:lnTo>
                    <a:pt x="3666" y="457"/>
                  </a:lnTo>
                  <a:lnTo>
                    <a:pt x="3622" y="424"/>
                  </a:lnTo>
                  <a:lnTo>
                    <a:pt x="3578" y="393"/>
                  </a:lnTo>
                  <a:lnTo>
                    <a:pt x="3530" y="363"/>
                  </a:lnTo>
                  <a:lnTo>
                    <a:pt x="3483" y="332"/>
                  </a:lnTo>
                  <a:lnTo>
                    <a:pt x="3434" y="302"/>
                  </a:lnTo>
                  <a:lnTo>
                    <a:pt x="3386" y="278"/>
                  </a:lnTo>
                  <a:lnTo>
                    <a:pt x="3335" y="251"/>
                  </a:lnTo>
                  <a:lnTo>
                    <a:pt x="3284" y="227"/>
                  </a:lnTo>
                  <a:lnTo>
                    <a:pt x="3236" y="203"/>
                  </a:lnTo>
                  <a:lnTo>
                    <a:pt x="3184" y="180"/>
                  </a:lnTo>
                  <a:lnTo>
                    <a:pt x="3130" y="156"/>
                  </a:lnTo>
                  <a:lnTo>
                    <a:pt x="3075" y="139"/>
                  </a:lnTo>
                  <a:lnTo>
                    <a:pt x="3024" y="119"/>
                  </a:lnTo>
                  <a:lnTo>
                    <a:pt x="2969" y="102"/>
                  </a:lnTo>
                  <a:lnTo>
                    <a:pt x="2914" y="85"/>
                  </a:lnTo>
                  <a:lnTo>
                    <a:pt x="2856" y="72"/>
                  </a:lnTo>
                  <a:lnTo>
                    <a:pt x="2801" y="58"/>
                  </a:lnTo>
                  <a:lnTo>
                    <a:pt x="2747" y="45"/>
                  </a:lnTo>
                  <a:lnTo>
                    <a:pt x="2689" y="34"/>
                  </a:lnTo>
                  <a:lnTo>
                    <a:pt x="2631" y="24"/>
                  </a:lnTo>
                  <a:lnTo>
                    <a:pt x="2573" y="14"/>
                  </a:lnTo>
                  <a:lnTo>
                    <a:pt x="2514" y="11"/>
                  </a:lnTo>
                  <a:lnTo>
                    <a:pt x="2456" y="4"/>
                  </a:lnTo>
                  <a:lnTo>
                    <a:pt x="2394" y="0"/>
                  </a:lnTo>
                  <a:lnTo>
                    <a:pt x="2336" y="0"/>
                  </a:lnTo>
                  <a:lnTo>
                    <a:pt x="2278" y="0"/>
                  </a:lnTo>
                  <a:lnTo>
                    <a:pt x="2217" y="0"/>
                  </a:lnTo>
                  <a:lnTo>
                    <a:pt x="2159" y="0"/>
                  </a:lnTo>
                  <a:lnTo>
                    <a:pt x="2097" y="4"/>
                  </a:lnTo>
                  <a:lnTo>
                    <a:pt x="2039" y="11"/>
                  </a:lnTo>
                  <a:lnTo>
                    <a:pt x="1981" y="14"/>
                  </a:lnTo>
                  <a:lnTo>
                    <a:pt x="1922" y="24"/>
                  </a:lnTo>
                  <a:lnTo>
                    <a:pt x="1864" y="34"/>
                  </a:lnTo>
                  <a:lnTo>
                    <a:pt x="1810" y="45"/>
                  </a:lnTo>
                  <a:lnTo>
                    <a:pt x="1752" y="58"/>
                  </a:lnTo>
                  <a:lnTo>
                    <a:pt x="1696" y="72"/>
                  </a:lnTo>
                  <a:lnTo>
                    <a:pt x="1642" y="85"/>
                  </a:lnTo>
                  <a:lnTo>
                    <a:pt x="1587" y="102"/>
                  </a:lnTo>
                  <a:lnTo>
                    <a:pt x="1532" y="119"/>
                  </a:lnTo>
                  <a:lnTo>
                    <a:pt x="1478" y="139"/>
                  </a:lnTo>
                  <a:lnTo>
                    <a:pt x="1423" y="156"/>
                  </a:lnTo>
                  <a:lnTo>
                    <a:pt x="1372" y="180"/>
                  </a:lnTo>
                  <a:lnTo>
                    <a:pt x="1320" y="203"/>
                  </a:lnTo>
                  <a:lnTo>
                    <a:pt x="1269" y="227"/>
                  </a:lnTo>
                  <a:lnTo>
                    <a:pt x="1218" y="251"/>
                  </a:lnTo>
                  <a:lnTo>
                    <a:pt x="1170" y="278"/>
                  </a:lnTo>
                  <a:lnTo>
                    <a:pt x="1118" y="302"/>
                  </a:lnTo>
                  <a:lnTo>
                    <a:pt x="1070" y="332"/>
                  </a:lnTo>
                  <a:lnTo>
                    <a:pt x="1023" y="363"/>
                  </a:lnTo>
                  <a:lnTo>
                    <a:pt x="979" y="393"/>
                  </a:lnTo>
                  <a:lnTo>
                    <a:pt x="933" y="424"/>
                  </a:lnTo>
                  <a:lnTo>
                    <a:pt x="886" y="457"/>
                  </a:lnTo>
                  <a:lnTo>
                    <a:pt x="842" y="491"/>
                  </a:lnTo>
                  <a:lnTo>
                    <a:pt x="800" y="525"/>
                  </a:lnTo>
                  <a:lnTo>
                    <a:pt x="756" y="562"/>
                  </a:lnTo>
                  <a:lnTo>
                    <a:pt x="715" y="596"/>
                  </a:lnTo>
                  <a:lnTo>
                    <a:pt x="674" y="636"/>
                  </a:lnTo>
                  <a:lnTo>
                    <a:pt x="636" y="677"/>
                  </a:lnTo>
                  <a:lnTo>
                    <a:pt x="595" y="714"/>
                  </a:lnTo>
                  <a:lnTo>
                    <a:pt x="557" y="755"/>
                  </a:lnTo>
                  <a:lnTo>
                    <a:pt x="520" y="795"/>
                  </a:lnTo>
                  <a:lnTo>
                    <a:pt x="482" y="839"/>
                  </a:lnTo>
                  <a:lnTo>
                    <a:pt x="448" y="880"/>
                  </a:lnTo>
                  <a:lnTo>
                    <a:pt x="414" y="924"/>
                  </a:lnTo>
                  <a:lnTo>
                    <a:pt x="383" y="968"/>
                  </a:lnTo>
                  <a:lnTo>
                    <a:pt x="353" y="1015"/>
                  </a:lnTo>
                  <a:lnTo>
                    <a:pt x="318" y="1062"/>
                  </a:lnTo>
                  <a:lnTo>
                    <a:pt x="291" y="1110"/>
                  </a:lnTo>
                  <a:lnTo>
                    <a:pt x="260" y="1157"/>
                  </a:lnTo>
                  <a:lnTo>
                    <a:pt x="236" y="1208"/>
                  </a:lnTo>
                  <a:lnTo>
                    <a:pt x="208" y="1256"/>
                  </a:lnTo>
                  <a:lnTo>
                    <a:pt x="185" y="1306"/>
                  </a:lnTo>
                  <a:lnTo>
                    <a:pt x="158" y="1357"/>
                  </a:lnTo>
                  <a:lnTo>
                    <a:pt x="137" y="1408"/>
                  </a:lnTo>
                  <a:lnTo>
                    <a:pt x="113" y="1458"/>
                  </a:lnTo>
                  <a:lnTo>
                    <a:pt x="96" y="1513"/>
                  </a:lnTo>
                  <a:lnTo>
                    <a:pt x="75" y="1567"/>
                  </a:lnTo>
                  <a:lnTo>
                    <a:pt x="58" y="1621"/>
                  </a:lnTo>
                  <a:lnTo>
                    <a:pt x="41" y="1675"/>
                  </a:lnTo>
                  <a:lnTo>
                    <a:pt x="27" y="1729"/>
                  </a:lnTo>
                  <a:lnTo>
                    <a:pt x="10" y="1784"/>
                  </a:lnTo>
                  <a:lnTo>
                    <a:pt x="0" y="1841"/>
                  </a:lnTo>
                  <a:lnTo>
                    <a:pt x="0" y="1895"/>
                  </a:lnTo>
                  <a:lnTo>
                    <a:pt x="0" y="1956"/>
                  </a:lnTo>
                  <a:lnTo>
                    <a:pt x="0" y="2010"/>
                  </a:lnTo>
                  <a:lnTo>
                    <a:pt x="0" y="2071"/>
                  </a:lnTo>
                  <a:lnTo>
                    <a:pt x="0" y="2128"/>
                  </a:lnTo>
                  <a:lnTo>
                    <a:pt x="0" y="2186"/>
                  </a:lnTo>
                  <a:lnTo>
                    <a:pt x="0" y="2247"/>
                  </a:lnTo>
                  <a:lnTo>
                    <a:pt x="0" y="230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440" y="3639960"/>
              <a:ext cx="9110880" cy="4687920"/>
            </a:xfrm>
            <a:custGeom>
              <a:avLst/>
              <a:gdLst/>
              <a:ahLst/>
              <a:rect l="l" t="t" r="r" b="b"/>
              <a:pathLst>
                <a:path w="4462" h="2296">
                  <a:moveTo>
                    <a:pt x="4458" y="2296"/>
                  </a:moveTo>
                  <a:lnTo>
                    <a:pt x="4462" y="2239"/>
                  </a:lnTo>
                  <a:lnTo>
                    <a:pt x="4458" y="2179"/>
                  </a:lnTo>
                  <a:lnTo>
                    <a:pt x="4454" y="2122"/>
                  </a:lnTo>
                  <a:lnTo>
                    <a:pt x="4451" y="2065"/>
                  </a:lnTo>
                  <a:lnTo>
                    <a:pt x="4447" y="2009"/>
                  </a:lnTo>
                  <a:lnTo>
                    <a:pt x="4439" y="1952"/>
                  </a:lnTo>
                  <a:lnTo>
                    <a:pt x="4435" y="1896"/>
                  </a:lnTo>
                  <a:lnTo>
                    <a:pt x="4424" y="1839"/>
                  </a:lnTo>
                  <a:lnTo>
                    <a:pt x="4417" y="1786"/>
                  </a:lnTo>
                  <a:lnTo>
                    <a:pt x="4401" y="1729"/>
                  </a:lnTo>
                  <a:lnTo>
                    <a:pt x="4390" y="1676"/>
                  </a:lnTo>
                  <a:lnTo>
                    <a:pt x="4375" y="1624"/>
                  </a:lnTo>
                  <a:lnTo>
                    <a:pt x="4360" y="1571"/>
                  </a:lnTo>
                  <a:lnTo>
                    <a:pt x="4341" y="1522"/>
                  </a:lnTo>
                  <a:lnTo>
                    <a:pt x="4326" y="1469"/>
                  </a:lnTo>
                  <a:lnTo>
                    <a:pt x="4303" y="1420"/>
                  </a:lnTo>
                  <a:lnTo>
                    <a:pt x="4284" y="1367"/>
                  </a:lnTo>
                  <a:lnTo>
                    <a:pt x="4262" y="1318"/>
                  </a:lnTo>
                  <a:lnTo>
                    <a:pt x="4239" y="1269"/>
                  </a:lnTo>
                  <a:lnTo>
                    <a:pt x="4213" y="1216"/>
                  </a:lnTo>
                  <a:lnTo>
                    <a:pt x="4190" y="1170"/>
                  </a:lnTo>
                  <a:lnTo>
                    <a:pt x="4164" y="1125"/>
                  </a:lnTo>
                  <a:lnTo>
                    <a:pt x="4133" y="1076"/>
                  </a:lnTo>
                  <a:lnTo>
                    <a:pt x="4107" y="1031"/>
                  </a:lnTo>
                  <a:lnTo>
                    <a:pt x="4081" y="985"/>
                  </a:lnTo>
                  <a:lnTo>
                    <a:pt x="4047" y="940"/>
                  </a:lnTo>
                  <a:lnTo>
                    <a:pt x="4016" y="898"/>
                  </a:lnTo>
                  <a:lnTo>
                    <a:pt x="3982" y="853"/>
                  </a:lnTo>
                  <a:lnTo>
                    <a:pt x="3952" y="815"/>
                  </a:lnTo>
                  <a:lnTo>
                    <a:pt x="3915" y="774"/>
                  </a:lnTo>
                  <a:lnTo>
                    <a:pt x="3881" y="732"/>
                  </a:lnTo>
                  <a:lnTo>
                    <a:pt x="3843" y="691"/>
                  </a:lnTo>
                  <a:lnTo>
                    <a:pt x="3809" y="657"/>
                  </a:lnTo>
                  <a:lnTo>
                    <a:pt x="3767" y="619"/>
                  </a:lnTo>
                  <a:lnTo>
                    <a:pt x="3730" y="581"/>
                  </a:lnTo>
                  <a:lnTo>
                    <a:pt x="3688" y="543"/>
                  </a:lnTo>
                  <a:lnTo>
                    <a:pt x="3647" y="509"/>
                  </a:lnTo>
                  <a:lnTo>
                    <a:pt x="3605" y="475"/>
                  </a:lnTo>
                  <a:lnTo>
                    <a:pt x="3564" y="441"/>
                  </a:lnTo>
                  <a:lnTo>
                    <a:pt x="3518" y="411"/>
                  </a:lnTo>
                  <a:lnTo>
                    <a:pt x="3477" y="381"/>
                  </a:lnTo>
                  <a:lnTo>
                    <a:pt x="3431" y="351"/>
                  </a:lnTo>
                  <a:lnTo>
                    <a:pt x="3382" y="321"/>
                  </a:lnTo>
                  <a:lnTo>
                    <a:pt x="3337" y="294"/>
                  </a:lnTo>
                  <a:lnTo>
                    <a:pt x="3292" y="268"/>
                  </a:lnTo>
                  <a:lnTo>
                    <a:pt x="3243" y="241"/>
                  </a:lnTo>
                  <a:lnTo>
                    <a:pt x="3194" y="219"/>
                  </a:lnTo>
                  <a:lnTo>
                    <a:pt x="3145" y="196"/>
                  </a:lnTo>
                  <a:lnTo>
                    <a:pt x="3095" y="177"/>
                  </a:lnTo>
                  <a:lnTo>
                    <a:pt x="3046" y="154"/>
                  </a:lnTo>
                  <a:lnTo>
                    <a:pt x="2994" y="136"/>
                  </a:lnTo>
                  <a:lnTo>
                    <a:pt x="2944" y="113"/>
                  </a:lnTo>
                  <a:lnTo>
                    <a:pt x="2892" y="98"/>
                  </a:lnTo>
                  <a:lnTo>
                    <a:pt x="2839" y="83"/>
                  </a:lnTo>
                  <a:lnTo>
                    <a:pt x="2786" y="68"/>
                  </a:lnTo>
                  <a:lnTo>
                    <a:pt x="2729" y="56"/>
                  </a:lnTo>
                  <a:lnTo>
                    <a:pt x="2676" y="45"/>
                  </a:lnTo>
                  <a:lnTo>
                    <a:pt x="2620" y="34"/>
                  </a:lnTo>
                  <a:lnTo>
                    <a:pt x="2567" y="22"/>
                  </a:lnTo>
                  <a:lnTo>
                    <a:pt x="2510" y="15"/>
                  </a:lnTo>
                  <a:lnTo>
                    <a:pt x="2454" y="11"/>
                  </a:lnTo>
                  <a:lnTo>
                    <a:pt x="2397" y="3"/>
                  </a:lnTo>
                  <a:lnTo>
                    <a:pt x="2341" y="3"/>
                  </a:lnTo>
                  <a:lnTo>
                    <a:pt x="2284" y="0"/>
                  </a:lnTo>
                  <a:lnTo>
                    <a:pt x="2227" y="0"/>
                  </a:lnTo>
                  <a:lnTo>
                    <a:pt x="2171" y="0"/>
                  </a:lnTo>
                  <a:lnTo>
                    <a:pt x="2114" y="3"/>
                  </a:lnTo>
                  <a:lnTo>
                    <a:pt x="2057" y="3"/>
                  </a:lnTo>
                  <a:lnTo>
                    <a:pt x="2001" y="11"/>
                  </a:lnTo>
                  <a:lnTo>
                    <a:pt x="1944" y="15"/>
                  </a:lnTo>
                  <a:lnTo>
                    <a:pt x="1888" y="22"/>
                  </a:lnTo>
                  <a:lnTo>
                    <a:pt x="1831" y="34"/>
                  </a:lnTo>
                  <a:lnTo>
                    <a:pt x="1778" y="45"/>
                  </a:lnTo>
                  <a:lnTo>
                    <a:pt x="1721" y="56"/>
                  </a:lnTo>
                  <a:lnTo>
                    <a:pt x="1669" y="68"/>
                  </a:lnTo>
                  <a:lnTo>
                    <a:pt x="1616" y="83"/>
                  </a:lnTo>
                  <a:lnTo>
                    <a:pt x="1563" y="98"/>
                  </a:lnTo>
                  <a:lnTo>
                    <a:pt x="1514" y="113"/>
                  </a:lnTo>
                  <a:lnTo>
                    <a:pt x="1461" y="136"/>
                  </a:lnTo>
                  <a:lnTo>
                    <a:pt x="1412" y="154"/>
                  </a:lnTo>
                  <a:lnTo>
                    <a:pt x="1359" y="177"/>
                  </a:lnTo>
                  <a:lnTo>
                    <a:pt x="1310" y="196"/>
                  </a:lnTo>
                  <a:lnTo>
                    <a:pt x="1261" y="219"/>
                  </a:lnTo>
                  <a:lnTo>
                    <a:pt x="1212" y="241"/>
                  </a:lnTo>
                  <a:lnTo>
                    <a:pt x="1167" y="268"/>
                  </a:lnTo>
                  <a:lnTo>
                    <a:pt x="1118" y="294"/>
                  </a:lnTo>
                  <a:lnTo>
                    <a:pt x="1072" y="321"/>
                  </a:lnTo>
                  <a:lnTo>
                    <a:pt x="1023" y="351"/>
                  </a:lnTo>
                  <a:lnTo>
                    <a:pt x="982" y="381"/>
                  </a:lnTo>
                  <a:lnTo>
                    <a:pt x="933" y="411"/>
                  </a:lnTo>
                  <a:lnTo>
                    <a:pt x="891" y="441"/>
                  </a:lnTo>
                  <a:lnTo>
                    <a:pt x="850" y="475"/>
                  </a:lnTo>
                  <a:lnTo>
                    <a:pt x="808" y="509"/>
                  </a:lnTo>
                  <a:lnTo>
                    <a:pt x="770" y="543"/>
                  </a:lnTo>
                  <a:lnTo>
                    <a:pt x="729" y="581"/>
                  </a:lnTo>
                  <a:lnTo>
                    <a:pt x="687" y="619"/>
                  </a:lnTo>
                  <a:lnTo>
                    <a:pt x="653" y="657"/>
                  </a:lnTo>
                  <a:lnTo>
                    <a:pt x="612" y="691"/>
                  </a:lnTo>
                  <a:lnTo>
                    <a:pt x="578" y="732"/>
                  </a:lnTo>
                  <a:lnTo>
                    <a:pt x="540" y="774"/>
                  </a:lnTo>
                  <a:lnTo>
                    <a:pt x="506" y="815"/>
                  </a:lnTo>
                  <a:lnTo>
                    <a:pt x="472" y="853"/>
                  </a:lnTo>
                  <a:lnTo>
                    <a:pt x="442" y="898"/>
                  </a:lnTo>
                  <a:lnTo>
                    <a:pt x="408" y="940"/>
                  </a:lnTo>
                  <a:lnTo>
                    <a:pt x="378" y="985"/>
                  </a:lnTo>
                  <a:lnTo>
                    <a:pt x="347" y="1031"/>
                  </a:lnTo>
                  <a:lnTo>
                    <a:pt x="321" y="1076"/>
                  </a:lnTo>
                  <a:lnTo>
                    <a:pt x="291" y="1125"/>
                  </a:lnTo>
                  <a:lnTo>
                    <a:pt x="268" y="1170"/>
                  </a:lnTo>
                  <a:lnTo>
                    <a:pt x="242" y="1216"/>
                  </a:lnTo>
                  <a:lnTo>
                    <a:pt x="215" y="1269"/>
                  </a:lnTo>
                  <a:lnTo>
                    <a:pt x="196" y="1318"/>
                  </a:lnTo>
                  <a:lnTo>
                    <a:pt x="174" y="1367"/>
                  </a:lnTo>
                  <a:lnTo>
                    <a:pt x="151" y="1420"/>
                  </a:lnTo>
                  <a:lnTo>
                    <a:pt x="132" y="1469"/>
                  </a:lnTo>
                  <a:lnTo>
                    <a:pt x="113" y="1522"/>
                  </a:lnTo>
                  <a:lnTo>
                    <a:pt x="98" y="1571"/>
                  </a:lnTo>
                  <a:lnTo>
                    <a:pt x="83" y="1624"/>
                  </a:lnTo>
                  <a:lnTo>
                    <a:pt x="68" y="1676"/>
                  </a:lnTo>
                  <a:lnTo>
                    <a:pt x="57" y="1729"/>
                  </a:lnTo>
                  <a:lnTo>
                    <a:pt x="45" y="1786"/>
                  </a:lnTo>
                  <a:lnTo>
                    <a:pt x="34" y="1839"/>
                  </a:lnTo>
                  <a:lnTo>
                    <a:pt x="23" y="1896"/>
                  </a:lnTo>
                  <a:lnTo>
                    <a:pt x="15" y="1952"/>
                  </a:lnTo>
                  <a:lnTo>
                    <a:pt x="12" y="2009"/>
                  </a:lnTo>
                  <a:lnTo>
                    <a:pt x="4" y="2065"/>
                  </a:lnTo>
                  <a:lnTo>
                    <a:pt x="4" y="2122"/>
                  </a:lnTo>
                  <a:lnTo>
                    <a:pt x="0" y="2179"/>
                  </a:lnTo>
                  <a:lnTo>
                    <a:pt x="0" y="2239"/>
                  </a:lnTo>
                  <a:lnTo>
                    <a:pt x="0" y="2296"/>
                  </a:lnTo>
                </a:path>
              </a:pathLst>
            </a:custGeom>
            <a:solidFill>
              <a:srgbClr val="33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360" y="4479840"/>
              <a:ext cx="2087640" cy="3841920"/>
            </a:xfrm>
            <a:custGeom>
              <a:avLst/>
              <a:gdLst/>
              <a:ahLst/>
              <a:rect l="l" t="t" r="r" b="b"/>
              <a:pathLst>
                <a:path w="1022" h="1882">
                  <a:moveTo>
                    <a:pt x="0" y="1861"/>
                  </a:moveTo>
                  <a:lnTo>
                    <a:pt x="4" y="1843"/>
                  </a:lnTo>
                  <a:lnTo>
                    <a:pt x="2" y="1831"/>
                  </a:lnTo>
                  <a:lnTo>
                    <a:pt x="2" y="1814"/>
                  </a:lnTo>
                  <a:lnTo>
                    <a:pt x="1" y="1797"/>
                  </a:lnTo>
                  <a:lnTo>
                    <a:pt x="2" y="1780"/>
                  </a:lnTo>
                  <a:lnTo>
                    <a:pt x="1" y="1763"/>
                  </a:lnTo>
                  <a:lnTo>
                    <a:pt x="0" y="1752"/>
                  </a:lnTo>
                  <a:lnTo>
                    <a:pt x="0" y="1735"/>
                  </a:lnTo>
                  <a:lnTo>
                    <a:pt x="3" y="1716"/>
                  </a:lnTo>
                  <a:lnTo>
                    <a:pt x="4" y="1699"/>
                  </a:lnTo>
                  <a:lnTo>
                    <a:pt x="3" y="1683"/>
                  </a:lnTo>
                  <a:lnTo>
                    <a:pt x="3" y="1665"/>
                  </a:lnTo>
                  <a:lnTo>
                    <a:pt x="6" y="1647"/>
                  </a:lnTo>
                  <a:lnTo>
                    <a:pt x="3" y="1632"/>
                  </a:lnTo>
                  <a:lnTo>
                    <a:pt x="6" y="1613"/>
                  </a:lnTo>
                  <a:lnTo>
                    <a:pt x="6" y="1596"/>
                  </a:lnTo>
                  <a:lnTo>
                    <a:pt x="9" y="1578"/>
                  </a:lnTo>
                  <a:lnTo>
                    <a:pt x="9" y="1561"/>
                  </a:lnTo>
                  <a:lnTo>
                    <a:pt x="12" y="1542"/>
                  </a:lnTo>
                  <a:lnTo>
                    <a:pt x="13" y="1529"/>
                  </a:lnTo>
                  <a:lnTo>
                    <a:pt x="16" y="1507"/>
                  </a:lnTo>
                  <a:lnTo>
                    <a:pt x="17" y="1493"/>
                  </a:lnTo>
                  <a:lnTo>
                    <a:pt x="21" y="1474"/>
                  </a:lnTo>
                  <a:lnTo>
                    <a:pt x="22" y="1461"/>
                  </a:lnTo>
                  <a:lnTo>
                    <a:pt x="28" y="1441"/>
                  </a:lnTo>
                  <a:lnTo>
                    <a:pt x="27" y="1421"/>
                  </a:lnTo>
                  <a:lnTo>
                    <a:pt x="32" y="1406"/>
                  </a:lnTo>
                  <a:lnTo>
                    <a:pt x="35" y="1386"/>
                  </a:lnTo>
                  <a:lnTo>
                    <a:pt x="38" y="1368"/>
                  </a:lnTo>
                  <a:lnTo>
                    <a:pt x="43" y="1353"/>
                  </a:lnTo>
                  <a:lnTo>
                    <a:pt x="47" y="1334"/>
                  </a:lnTo>
                  <a:lnTo>
                    <a:pt x="48" y="1321"/>
                  </a:lnTo>
                  <a:lnTo>
                    <a:pt x="54" y="1300"/>
                  </a:lnTo>
                  <a:lnTo>
                    <a:pt x="58" y="1281"/>
                  </a:lnTo>
                  <a:lnTo>
                    <a:pt x="61" y="1263"/>
                  </a:lnTo>
                  <a:lnTo>
                    <a:pt x="66" y="1248"/>
                  </a:lnTo>
                  <a:lnTo>
                    <a:pt x="72" y="1233"/>
                  </a:lnTo>
                  <a:lnTo>
                    <a:pt x="75" y="1215"/>
                  </a:lnTo>
                  <a:lnTo>
                    <a:pt x="79" y="1199"/>
                  </a:lnTo>
                  <a:lnTo>
                    <a:pt x="85" y="1184"/>
                  </a:lnTo>
                  <a:lnTo>
                    <a:pt x="92" y="1164"/>
                  </a:lnTo>
                  <a:lnTo>
                    <a:pt x="96" y="1148"/>
                  </a:lnTo>
                  <a:lnTo>
                    <a:pt x="99" y="1130"/>
                  </a:lnTo>
                  <a:lnTo>
                    <a:pt x="105" y="1114"/>
                  </a:lnTo>
                  <a:lnTo>
                    <a:pt x="113" y="1098"/>
                  </a:lnTo>
                  <a:lnTo>
                    <a:pt x="117" y="1082"/>
                  </a:lnTo>
                  <a:lnTo>
                    <a:pt x="122" y="1067"/>
                  </a:lnTo>
                  <a:lnTo>
                    <a:pt x="132" y="1050"/>
                  </a:lnTo>
                  <a:lnTo>
                    <a:pt x="138" y="1030"/>
                  </a:lnTo>
                  <a:lnTo>
                    <a:pt x="143" y="1014"/>
                  </a:lnTo>
                  <a:lnTo>
                    <a:pt x="147" y="1000"/>
                  </a:lnTo>
                  <a:lnTo>
                    <a:pt x="156" y="983"/>
                  </a:lnTo>
                  <a:lnTo>
                    <a:pt x="164" y="966"/>
                  </a:lnTo>
                  <a:lnTo>
                    <a:pt x="169" y="950"/>
                  </a:lnTo>
                  <a:lnTo>
                    <a:pt x="176" y="938"/>
                  </a:lnTo>
                  <a:lnTo>
                    <a:pt x="184" y="922"/>
                  </a:lnTo>
                  <a:lnTo>
                    <a:pt x="192" y="905"/>
                  </a:lnTo>
                  <a:lnTo>
                    <a:pt x="198" y="889"/>
                  </a:lnTo>
                  <a:lnTo>
                    <a:pt x="206" y="872"/>
                  </a:lnTo>
                  <a:lnTo>
                    <a:pt x="214" y="856"/>
                  </a:lnTo>
                  <a:lnTo>
                    <a:pt x="223" y="839"/>
                  </a:lnTo>
                  <a:lnTo>
                    <a:pt x="229" y="827"/>
                  </a:lnTo>
                  <a:lnTo>
                    <a:pt x="237" y="810"/>
                  </a:lnTo>
                  <a:lnTo>
                    <a:pt x="248" y="796"/>
                  </a:lnTo>
                  <a:lnTo>
                    <a:pt x="256" y="779"/>
                  </a:lnTo>
                  <a:lnTo>
                    <a:pt x="261" y="764"/>
                  </a:lnTo>
                  <a:lnTo>
                    <a:pt x="271" y="751"/>
                  </a:lnTo>
                  <a:lnTo>
                    <a:pt x="279" y="734"/>
                  </a:lnTo>
                  <a:lnTo>
                    <a:pt x="289" y="720"/>
                  </a:lnTo>
                  <a:lnTo>
                    <a:pt x="298" y="704"/>
                  </a:lnTo>
                  <a:lnTo>
                    <a:pt x="305" y="691"/>
                  </a:lnTo>
                  <a:lnTo>
                    <a:pt x="315" y="678"/>
                  </a:lnTo>
                  <a:lnTo>
                    <a:pt x="323" y="660"/>
                  </a:lnTo>
                  <a:lnTo>
                    <a:pt x="333" y="647"/>
                  </a:lnTo>
                  <a:lnTo>
                    <a:pt x="343" y="634"/>
                  </a:lnTo>
                  <a:lnTo>
                    <a:pt x="351" y="617"/>
                  </a:lnTo>
                  <a:lnTo>
                    <a:pt x="361" y="603"/>
                  </a:lnTo>
                  <a:lnTo>
                    <a:pt x="369" y="591"/>
                  </a:lnTo>
                  <a:lnTo>
                    <a:pt x="382" y="576"/>
                  </a:lnTo>
                  <a:lnTo>
                    <a:pt x="388" y="564"/>
                  </a:lnTo>
                  <a:lnTo>
                    <a:pt x="398" y="550"/>
                  </a:lnTo>
                  <a:lnTo>
                    <a:pt x="408" y="537"/>
                  </a:lnTo>
                  <a:lnTo>
                    <a:pt x="416" y="520"/>
                  </a:lnTo>
                  <a:lnTo>
                    <a:pt x="428" y="510"/>
                  </a:lnTo>
                  <a:lnTo>
                    <a:pt x="438" y="497"/>
                  </a:lnTo>
                  <a:lnTo>
                    <a:pt x="445" y="484"/>
                  </a:lnTo>
                  <a:lnTo>
                    <a:pt x="455" y="471"/>
                  </a:lnTo>
                  <a:lnTo>
                    <a:pt x="467" y="461"/>
                  </a:lnTo>
                  <a:lnTo>
                    <a:pt x="477" y="447"/>
                  </a:lnTo>
                  <a:lnTo>
                    <a:pt x="487" y="434"/>
                  </a:lnTo>
                  <a:lnTo>
                    <a:pt x="497" y="420"/>
                  </a:lnTo>
                  <a:lnTo>
                    <a:pt x="509" y="410"/>
                  </a:lnTo>
                  <a:lnTo>
                    <a:pt x="519" y="396"/>
                  </a:lnTo>
                  <a:lnTo>
                    <a:pt x="530" y="383"/>
                  </a:lnTo>
                  <a:lnTo>
                    <a:pt x="539" y="369"/>
                  </a:lnTo>
                  <a:lnTo>
                    <a:pt x="551" y="359"/>
                  </a:lnTo>
                  <a:lnTo>
                    <a:pt x="561" y="346"/>
                  </a:lnTo>
                  <a:lnTo>
                    <a:pt x="573" y="335"/>
                  </a:lnTo>
                  <a:lnTo>
                    <a:pt x="582" y="321"/>
                  </a:lnTo>
                  <a:lnTo>
                    <a:pt x="594" y="312"/>
                  </a:lnTo>
                  <a:lnTo>
                    <a:pt x="606" y="301"/>
                  </a:lnTo>
                  <a:lnTo>
                    <a:pt x="613" y="289"/>
                  </a:lnTo>
                  <a:lnTo>
                    <a:pt x="625" y="279"/>
                  </a:lnTo>
                  <a:lnTo>
                    <a:pt x="633" y="271"/>
                  </a:lnTo>
                  <a:lnTo>
                    <a:pt x="645" y="260"/>
                  </a:lnTo>
                  <a:lnTo>
                    <a:pt x="652" y="248"/>
                  </a:lnTo>
                  <a:lnTo>
                    <a:pt x="664" y="238"/>
                  </a:lnTo>
                  <a:lnTo>
                    <a:pt x="672" y="230"/>
                  </a:lnTo>
                  <a:lnTo>
                    <a:pt x="683" y="220"/>
                  </a:lnTo>
                  <a:lnTo>
                    <a:pt x="692" y="211"/>
                  </a:lnTo>
                  <a:lnTo>
                    <a:pt x="704" y="200"/>
                  </a:lnTo>
                  <a:lnTo>
                    <a:pt x="712" y="193"/>
                  </a:lnTo>
                  <a:lnTo>
                    <a:pt x="720" y="184"/>
                  </a:lnTo>
                  <a:lnTo>
                    <a:pt x="729" y="175"/>
                  </a:lnTo>
                  <a:lnTo>
                    <a:pt x="741" y="165"/>
                  </a:lnTo>
                  <a:lnTo>
                    <a:pt x="749" y="157"/>
                  </a:lnTo>
                  <a:lnTo>
                    <a:pt x="757" y="148"/>
                  </a:lnTo>
                  <a:lnTo>
                    <a:pt x="768" y="143"/>
                  </a:lnTo>
                  <a:lnTo>
                    <a:pt x="772" y="136"/>
                  </a:lnTo>
                  <a:lnTo>
                    <a:pt x="781" y="127"/>
                  </a:lnTo>
                  <a:lnTo>
                    <a:pt x="789" y="119"/>
                  </a:lnTo>
                  <a:lnTo>
                    <a:pt x="798" y="111"/>
                  </a:lnTo>
                  <a:lnTo>
                    <a:pt x="807" y="102"/>
                  </a:lnTo>
                  <a:lnTo>
                    <a:pt x="813" y="99"/>
                  </a:lnTo>
                  <a:lnTo>
                    <a:pt x="821" y="90"/>
                  </a:lnTo>
                  <a:lnTo>
                    <a:pt x="831" y="85"/>
                  </a:lnTo>
                  <a:lnTo>
                    <a:pt x="836" y="78"/>
                  </a:lnTo>
                  <a:lnTo>
                    <a:pt x="842" y="72"/>
                  </a:lnTo>
                  <a:lnTo>
                    <a:pt x="857" y="60"/>
                  </a:lnTo>
                  <a:lnTo>
                    <a:pt x="868" y="49"/>
                  </a:lnTo>
                  <a:lnTo>
                    <a:pt x="880" y="39"/>
                  </a:lnTo>
                  <a:lnTo>
                    <a:pt x="890" y="34"/>
                  </a:lnTo>
                  <a:lnTo>
                    <a:pt x="899" y="26"/>
                  </a:lnTo>
                  <a:lnTo>
                    <a:pt x="907" y="17"/>
                  </a:lnTo>
                  <a:lnTo>
                    <a:pt x="914" y="14"/>
                  </a:lnTo>
                  <a:lnTo>
                    <a:pt x="920" y="11"/>
                  </a:lnTo>
                  <a:lnTo>
                    <a:pt x="928" y="2"/>
                  </a:lnTo>
                  <a:lnTo>
                    <a:pt x="928" y="2"/>
                  </a:lnTo>
                  <a:lnTo>
                    <a:pt x="928" y="2"/>
                  </a:lnTo>
                  <a:lnTo>
                    <a:pt x="932" y="0"/>
                  </a:lnTo>
                  <a:lnTo>
                    <a:pt x="943" y="4"/>
                  </a:lnTo>
                  <a:lnTo>
                    <a:pt x="956" y="5"/>
                  </a:lnTo>
                  <a:lnTo>
                    <a:pt x="971" y="18"/>
                  </a:lnTo>
                  <a:lnTo>
                    <a:pt x="976" y="21"/>
                  </a:lnTo>
                  <a:lnTo>
                    <a:pt x="985" y="29"/>
                  </a:lnTo>
                  <a:lnTo>
                    <a:pt x="993" y="37"/>
                  </a:lnTo>
                  <a:lnTo>
                    <a:pt x="998" y="47"/>
                  </a:lnTo>
                  <a:lnTo>
                    <a:pt x="1009" y="59"/>
                  </a:lnTo>
                  <a:lnTo>
                    <a:pt x="1012" y="74"/>
                  </a:lnTo>
                  <a:lnTo>
                    <a:pt x="1015" y="89"/>
                  </a:lnTo>
                  <a:lnTo>
                    <a:pt x="1018" y="109"/>
                  </a:lnTo>
                  <a:lnTo>
                    <a:pt x="1021" y="125"/>
                  </a:lnTo>
                  <a:lnTo>
                    <a:pt x="1020" y="146"/>
                  </a:lnTo>
                  <a:lnTo>
                    <a:pt x="1021" y="158"/>
                  </a:lnTo>
                  <a:lnTo>
                    <a:pt x="1022" y="170"/>
                  </a:lnTo>
                  <a:lnTo>
                    <a:pt x="1019" y="180"/>
                  </a:lnTo>
                  <a:lnTo>
                    <a:pt x="1018" y="193"/>
                  </a:lnTo>
                  <a:lnTo>
                    <a:pt x="1016" y="208"/>
                  </a:lnTo>
                  <a:lnTo>
                    <a:pt x="1013" y="217"/>
                  </a:lnTo>
                  <a:lnTo>
                    <a:pt x="1011" y="231"/>
                  </a:lnTo>
                  <a:lnTo>
                    <a:pt x="1006" y="246"/>
                  </a:lnTo>
                  <a:lnTo>
                    <a:pt x="1004" y="260"/>
                  </a:lnTo>
                  <a:lnTo>
                    <a:pt x="998" y="272"/>
                  </a:lnTo>
                  <a:lnTo>
                    <a:pt x="996" y="285"/>
                  </a:lnTo>
                  <a:lnTo>
                    <a:pt x="991" y="300"/>
                  </a:lnTo>
                  <a:lnTo>
                    <a:pt x="985" y="312"/>
                  </a:lnTo>
                  <a:lnTo>
                    <a:pt x="983" y="326"/>
                  </a:lnTo>
                  <a:lnTo>
                    <a:pt x="977" y="338"/>
                  </a:lnTo>
                  <a:lnTo>
                    <a:pt x="972" y="352"/>
                  </a:lnTo>
                  <a:lnTo>
                    <a:pt x="965" y="365"/>
                  </a:lnTo>
                  <a:lnTo>
                    <a:pt x="960" y="380"/>
                  </a:lnTo>
                  <a:lnTo>
                    <a:pt x="954" y="392"/>
                  </a:lnTo>
                  <a:lnTo>
                    <a:pt x="944" y="409"/>
                  </a:lnTo>
                  <a:lnTo>
                    <a:pt x="936" y="417"/>
                  </a:lnTo>
                  <a:lnTo>
                    <a:pt x="928" y="434"/>
                  </a:lnTo>
                  <a:lnTo>
                    <a:pt x="922" y="446"/>
                  </a:lnTo>
                  <a:lnTo>
                    <a:pt x="912" y="459"/>
                  </a:lnTo>
                  <a:lnTo>
                    <a:pt x="904" y="472"/>
                  </a:lnTo>
                  <a:lnTo>
                    <a:pt x="892" y="481"/>
                  </a:lnTo>
                  <a:lnTo>
                    <a:pt x="886" y="493"/>
                  </a:lnTo>
                  <a:lnTo>
                    <a:pt x="873" y="509"/>
                  </a:lnTo>
                  <a:lnTo>
                    <a:pt x="864" y="517"/>
                  </a:lnTo>
                  <a:lnTo>
                    <a:pt x="856" y="526"/>
                  </a:lnTo>
                  <a:lnTo>
                    <a:pt x="844" y="536"/>
                  </a:lnTo>
                  <a:lnTo>
                    <a:pt x="834" y="549"/>
                  </a:lnTo>
                  <a:lnTo>
                    <a:pt x="824" y="554"/>
                  </a:lnTo>
                  <a:lnTo>
                    <a:pt x="812" y="564"/>
                  </a:lnTo>
                  <a:lnTo>
                    <a:pt x="804" y="573"/>
                  </a:lnTo>
                  <a:lnTo>
                    <a:pt x="792" y="584"/>
                  </a:lnTo>
                  <a:lnTo>
                    <a:pt x="780" y="593"/>
                  </a:lnTo>
                  <a:lnTo>
                    <a:pt x="767" y="600"/>
                  </a:lnTo>
                  <a:lnTo>
                    <a:pt x="759" y="609"/>
                  </a:lnTo>
                  <a:lnTo>
                    <a:pt x="745" y="615"/>
                  </a:lnTo>
                  <a:lnTo>
                    <a:pt x="733" y="626"/>
                  </a:lnTo>
                  <a:lnTo>
                    <a:pt x="725" y="635"/>
                  </a:lnTo>
                  <a:lnTo>
                    <a:pt x="711" y="642"/>
                  </a:lnTo>
                  <a:lnTo>
                    <a:pt x="700" y="652"/>
                  </a:lnTo>
                  <a:lnTo>
                    <a:pt x="691" y="660"/>
                  </a:lnTo>
                  <a:lnTo>
                    <a:pt x="679" y="670"/>
                  </a:lnTo>
                  <a:lnTo>
                    <a:pt x="669" y="675"/>
                  </a:lnTo>
                  <a:lnTo>
                    <a:pt x="661" y="684"/>
                  </a:lnTo>
                  <a:lnTo>
                    <a:pt x="650" y="689"/>
                  </a:lnTo>
                  <a:lnTo>
                    <a:pt x="639" y="700"/>
                  </a:lnTo>
                  <a:lnTo>
                    <a:pt x="632" y="711"/>
                  </a:lnTo>
                  <a:lnTo>
                    <a:pt x="624" y="719"/>
                  </a:lnTo>
                  <a:lnTo>
                    <a:pt x="615" y="728"/>
                  </a:lnTo>
                  <a:lnTo>
                    <a:pt x="607" y="737"/>
                  </a:lnTo>
                  <a:lnTo>
                    <a:pt x="603" y="747"/>
                  </a:lnTo>
                  <a:lnTo>
                    <a:pt x="592" y="757"/>
                  </a:lnTo>
                  <a:lnTo>
                    <a:pt x="589" y="767"/>
                  </a:lnTo>
                  <a:lnTo>
                    <a:pt x="585" y="777"/>
                  </a:lnTo>
                  <a:lnTo>
                    <a:pt x="579" y="790"/>
                  </a:lnTo>
                  <a:lnTo>
                    <a:pt x="577" y="803"/>
                  </a:lnTo>
                  <a:lnTo>
                    <a:pt x="574" y="812"/>
                  </a:lnTo>
                  <a:lnTo>
                    <a:pt x="570" y="823"/>
                  </a:lnTo>
                  <a:lnTo>
                    <a:pt x="572" y="835"/>
                  </a:lnTo>
                  <a:lnTo>
                    <a:pt x="571" y="849"/>
                  </a:lnTo>
                  <a:lnTo>
                    <a:pt x="569" y="862"/>
                  </a:lnTo>
                  <a:lnTo>
                    <a:pt x="573" y="877"/>
                  </a:lnTo>
                  <a:lnTo>
                    <a:pt x="574" y="888"/>
                  </a:lnTo>
                  <a:lnTo>
                    <a:pt x="574" y="905"/>
                  </a:lnTo>
                  <a:lnTo>
                    <a:pt x="576" y="918"/>
                  </a:lnTo>
                  <a:lnTo>
                    <a:pt x="580" y="933"/>
                  </a:lnTo>
                  <a:lnTo>
                    <a:pt x="587" y="946"/>
                  </a:lnTo>
                  <a:lnTo>
                    <a:pt x="586" y="963"/>
                  </a:lnTo>
                  <a:lnTo>
                    <a:pt x="593" y="976"/>
                  </a:lnTo>
                  <a:lnTo>
                    <a:pt x="596" y="992"/>
                  </a:lnTo>
                  <a:lnTo>
                    <a:pt x="602" y="1010"/>
                  </a:lnTo>
                  <a:lnTo>
                    <a:pt x="609" y="1023"/>
                  </a:lnTo>
                  <a:lnTo>
                    <a:pt x="618" y="1040"/>
                  </a:lnTo>
                  <a:lnTo>
                    <a:pt x="621" y="1055"/>
                  </a:lnTo>
                  <a:lnTo>
                    <a:pt x="628" y="1069"/>
                  </a:lnTo>
                  <a:lnTo>
                    <a:pt x="636" y="1086"/>
                  </a:lnTo>
                  <a:lnTo>
                    <a:pt x="643" y="1099"/>
                  </a:lnTo>
                  <a:lnTo>
                    <a:pt x="652" y="1116"/>
                  </a:lnTo>
                  <a:lnTo>
                    <a:pt x="658" y="1129"/>
                  </a:lnTo>
                  <a:lnTo>
                    <a:pt x="663" y="1148"/>
                  </a:lnTo>
                  <a:lnTo>
                    <a:pt x="674" y="1160"/>
                  </a:lnTo>
                  <a:lnTo>
                    <a:pt x="681" y="1173"/>
                  </a:lnTo>
                  <a:lnTo>
                    <a:pt x="687" y="1186"/>
                  </a:lnTo>
                  <a:lnTo>
                    <a:pt x="696" y="1203"/>
                  </a:lnTo>
                  <a:lnTo>
                    <a:pt x="706" y="1215"/>
                  </a:lnTo>
                  <a:lnTo>
                    <a:pt x="713" y="1228"/>
                  </a:lnTo>
                  <a:lnTo>
                    <a:pt x="720" y="1243"/>
                  </a:lnTo>
                  <a:lnTo>
                    <a:pt x="729" y="1259"/>
                  </a:lnTo>
                  <a:lnTo>
                    <a:pt x="737" y="1268"/>
                  </a:lnTo>
                  <a:lnTo>
                    <a:pt x="747" y="1280"/>
                  </a:lnTo>
                  <a:lnTo>
                    <a:pt x="757" y="1291"/>
                  </a:lnTo>
                  <a:lnTo>
                    <a:pt x="762" y="1301"/>
                  </a:lnTo>
                  <a:lnTo>
                    <a:pt x="771" y="1310"/>
                  </a:lnTo>
                  <a:lnTo>
                    <a:pt x="778" y="1323"/>
                  </a:lnTo>
                  <a:lnTo>
                    <a:pt x="786" y="1332"/>
                  </a:lnTo>
                  <a:lnTo>
                    <a:pt x="796" y="1343"/>
                  </a:lnTo>
                  <a:lnTo>
                    <a:pt x="803" y="1349"/>
                  </a:lnTo>
                  <a:lnTo>
                    <a:pt x="814" y="1360"/>
                  </a:lnTo>
                  <a:lnTo>
                    <a:pt x="820" y="1365"/>
                  </a:lnTo>
                  <a:lnTo>
                    <a:pt x="827" y="1378"/>
                  </a:lnTo>
                  <a:lnTo>
                    <a:pt x="833" y="1384"/>
                  </a:lnTo>
                  <a:lnTo>
                    <a:pt x="838" y="1393"/>
                  </a:lnTo>
                  <a:lnTo>
                    <a:pt x="847" y="1402"/>
                  </a:lnTo>
                  <a:lnTo>
                    <a:pt x="856" y="1410"/>
                  </a:lnTo>
                  <a:lnTo>
                    <a:pt x="863" y="1416"/>
                  </a:lnTo>
                  <a:lnTo>
                    <a:pt x="868" y="1425"/>
                  </a:lnTo>
                  <a:lnTo>
                    <a:pt x="874" y="1430"/>
                  </a:lnTo>
                  <a:lnTo>
                    <a:pt x="879" y="1441"/>
                  </a:lnTo>
                  <a:lnTo>
                    <a:pt x="886" y="1446"/>
                  </a:lnTo>
                  <a:lnTo>
                    <a:pt x="895" y="1454"/>
                  </a:lnTo>
                  <a:lnTo>
                    <a:pt x="898" y="1461"/>
                  </a:lnTo>
                  <a:lnTo>
                    <a:pt x="903" y="1470"/>
                  </a:lnTo>
                  <a:lnTo>
                    <a:pt x="914" y="1483"/>
                  </a:lnTo>
                  <a:lnTo>
                    <a:pt x="922" y="1499"/>
                  </a:lnTo>
                  <a:lnTo>
                    <a:pt x="930" y="1513"/>
                  </a:lnTo>
                  <a:lnTo>
                    <a:pt x="931" y="1533"/>
                  </a:lnTo>
                  <a:lnTo>
                    <a:pt x="934" y="1549"/>
                  </a:lnTo>
                  <a:lnTo>
                    <a:pt x="938" y="1564"/>
                  </a:lnTo>
                  <a:lnTo>
                    <a:pt x="938" y="1581"/>
                  </a:lnTo>
                  <a:lnTo>
                    <a:pt x="935" y="1599"/>
                  </a:lnTo>
                  <a:lnTo>
                    <a:pt x="935" y="1616"/>
                  </a:lnTo>
                  <a:lnTo>
                    <a:pt x="932" y="1634"/>
                  </a:lnTo>
                  <a:lnTo>
                    <a:pt x="927" y="1649"/>
                  </a:lnTo>
                  <a:lnTo>
                    <a:pt x="920" y="1669"/>
                  </a:lnTo>
                  <a:lnTo>
                    <a:pt x="915" y="1686"/>
                  </a:lnTo>
                  <a:lnTo>
                    <a:pt x="910" y="1700"/>
                  </a:lnTo>
                  <a:lnTo>
                    <a:pt x="902" y="1717"/>
                  </a:lnTo>
                  <a:lnTo>
                    <a:pt x="894" y="1734"/>
                  </a:lnTo>
                  <a:lnTo>
                    <a:pt x="884" y="1747"/>
                  </a:lnTo>
                  <a:lnTo>
                    <a:pt x="873" y="1762"/>
                  </a:lnTo>
                  <a:lnTo>
                    <a:pt x="860" y="1776"/>
                  </a:lnTo>
                  <a:lnTo>
                    <a:pt x="848" y="1787"/>
                  </a:lnTo>
                  <a:lnTo>
                    <a:pt x="836" y="1797"/>
                  </a:lnTo>
                  <a:lnTo>
                    <a:pt x="824" y="1808"/>
                  </a:lnTo>
                  <a:lnTo>
                    <a:pt x="811" y="1814"/>
                  </a:lnTo>
                  <a:lnTo>
                    <a:pt x="798" y="1821"/>
                  </a:lnTo>
                  <a:lnTo>
                    <a:pt x="782" y="1824"/>
                  </a:lnTo>
                  <a:lnTo>
                    <a:pt x="773" y="1829"/>
                  </a:lnTo>
                  <a:lnTo>
                    <a:pt x="757" y="1833"/>
                  </a:lnTo>
                  <a:lnTo>
                    <a:pt x="741" y="1836"/>
                  </a:lnTo>
                  <a:lnTo>
                    <a:pt x="730" y="1839"/>
                  </a:lnTo>
                  <a:lnTo>
                    <a:pt x="717" y="1837"/>
                  </a:lnTo>
                  <a:lnTo>
                    <a:pt x="704" y="1838"/>
                  </a:lnTo>
                  <a:lnTo>
                    <a:pt x="689" y="1842"/>
                  </a:lnTo>
                  <a:lnTo>
                    <a:pt x="676" y="1840"/>
                  </a:lnTo>
                  <a:lnTo>
                    <a:pt x="663" y="1838"/>
                  </a:lnTo>
                  <a:lnTo>
                    <a:pt x="649" y="1837"/>
                  </a:lnTo>
                  <a:lnTo>
                    <a:pt x="637" y="1839"/>
                  </a:lnTo>
                  <a:lnTo>
                    <a:pt x="613" y="1834"/>
                  </a:lnTo>
                  <a:lnTo>
                    <a:pt x="593" y="1827"/>
                  </a:lnTo>
                  <a:lnTo>
                    <a:pt x="579" y="1823"/>
                  </a:lnTo>
                  <a:lnTo>
                    <a:pt x="559" y="1819"/>
                  </a:lnTo>
                  <a:lnTo>
                    <a:pt x="546" y="1818"/>
                  </a:lnTo>
                  <a:lnTo>
                    <a:pt x="536" y="1823"/>
                  </a:lnTo>
                  <a:lnTo>
                    <a:pt x="529" y="1834"/>
                  </a:lnTo>
                  <a:lnTo>
                    <a:pt x="521" y="1852"/>
                  </a:lnTo>
                  <a:lnTo>
                    <a:pt x="519" y="1882"/>
                  </a:lnTo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06840" y="3711600"/>
              <a:ext cx="5118120" cy="4751280"/>
            </a:xfrm>
            <a:custGeom>
              <a:avLst/>
              <a:gdLst/>
              <a:ahLst/>
              <a:rect l="l" t="t" r="r" b="b"/>
              <a:pathLst>
                <a:path w="2507" h="2327">
                  <a:moveTo>
                    <a:pt x="674" y="6"/>
                  </a:moveTo>
                  <a:cubicBezTo>
                    <a:pt x="841" y="0"/>
                    <a:pt x="1440" y="158"/>
                    <a:pt x="1745" y="363"/>
                  </a:cubicBezTo>
                  <a:cubicBezTo>
                    <a:pt x="2050" y="568"/>
                    <a:pt x="2374" y="1042"/>
                    <a:pt x="2501" y="1234"/>
                  </a:cubicBezTo>
                  <a:cubicBezTo>
                    <a:pt x="2502" y="1328"/>
                    <a:pt x="2507" y="1421"/>
                    <a:pt x="2505" y="1515"/>
                  </a:cubicBezTo>
                  <a:cubicBezTo>
                    <a:pt x="2504" y="1549"/>
                    <a:pt x="2492" y="1559"/>
                    <a:pt x="2459" y="1562"/>
                  </a:cubicBezTo>
                  <a:cubicBezTo>
                    <a:pt x="2394" y="1568"/>
                    <a:pt x="2328" y="1569"/>
                    <a:pt x="2263" y="1573"/>
                  </a:cubicBezTo>
                  <a:cubicBezTo>
                    <a:pt x="2240" y="1581"/>
                    <a:pt x="2211" y="1579"/>
                    <a:pt x="2194" y="1596"/>
                  </a:cubicBezTo>
                  <a:cubicBezTo>
                    <a:pt x="2169" y="1621"/>
                    <a:pt x="2178" y="1665"/>
                    <a:pt x="2171" y="1700"/>
                  </a:cubicBezTo>
                  <a:cubicBezTo>
                    <a:pt x="2161" y="1751"/>
                    <a:pt x="2141" y="1800"/>
                    <a:pt x="2125" y="1850"/>
                  </a:cubicBezTo>
                  <a:cubicBezTo>
                    <a:pt x="2114" y="1884"/>
                    <a:pt x="2102" y="1919"/>
                    <a:pt x="2091" y="1953"/>
                  </a:cubicBezTo>
                  <a:cubicBezTo>
                    <a:pt x="2087" y="1965"/>
                    <a:pt x="2083" y="1976"/>
                    <a:pt x="2079" y="1988"/>
                  </a:cubicBezTo>
                  <a:cubicBezTo>
                    <a:pt x="2075" y="1999"/>
                    <a:pt x="2068" y="2022"/>
                    <a:pt x="2068" y="2022"/>
                  </a:cubicBezTo>
                  <a:cubicBezTo>
                    <a:pt x="2051" y="2085"/>
                    <a:pt x="2331" y="2247"/>
                    <a:pt x="2137" y="2287"/>
                  </a:cubicBezTo>
                  <a:cubicBezTo>
                    <a:pt x="1943" y="2327"/>
                    <a:pt x="1119" y="2279"/>
                    <a:pt x="904" y="2264"/>
                  </a:cubicBezTo>
                  <a:cubicBezTo>
                    <a:pt x="880" y="2241"/>
                    <a:pt x="860" y="2226"/>
                    <a:pt x="846" y="2195"/>
                  </a:cubicBezTo>
                  <a:cubicBezTo>
                    <a:pt x="836" y="2173"/>
                    <a:pt x="840" y="2143"/>
                    <a:pt x="823" y="2126"/>
                  </a:cubicBezTo>
                  <a:cubicBezTo>
                    <a:pt x="744" y="2047"/>
                    <a:pt x="781" y="2075"/>
                    <a:pt x="720" y="2034"/>
                  </a:cubicBezTo>
                  <a:cubicBezTo>
                    <a:pt x="677" y="1969"/>
                    <a:pt x="722" y="2021"/>
                    <a:pt x="662" y="1988"/>
                  </a:cubicBezTo>
                  <a:cubicBezTo>
                    <a:pt x="527" y="1914"/>
                    <a:pt x="667" y="1948"/>
                    <a:pt x="455" y="1930"/>
                  </a:cubicBezTo>
                  <a:cubicBezTo>
                    <a:pt x="327" y="1890"/>
                    <a:pt x="147" y="1864"/>
                    <a:pt x="52" y="1769"/>
                  </a:cubicBezTo>
                  <a:cubicBezTo>
                    <a:pt x="30" y="1704"/>
                    <a:pt x="0" y="1701"/>
                    <a:pt x="28" y="1619"/>
                  </a:cubicBezTo>
                  <a:cubicBezTo>
                    <a:pt x="30" y="1613"/>
                    <a:pt x="90" y="1544"/>
                    <a:pt x="98" y="1538"/>
                  </a:cubicBezTo>
                  <a:cubicBezTo>
                    <a:pt x="120" y="1521"/>
                    <a:pt x="167" y="1492"/>
                    <a:pt x="167" y="1492"/>
                  </a:cubicBezTo>
                  <a:cubicBezTo>
                    <a:pt x="205" y="1436"/>
                    <a:pt x="229" y="1415"/>
                    <a:pt x="178" y="1320"/>
                  </a:cubicBezTo>
                  <a:cubicBezTo>
                    <a:pt x="167" y="1299"/>
                    <a:pt x="132" y="1312"/>
                    <a:pt x="109" y="1308"/>
                  </a:cubicBezTo>
                  <a:cubicBezTo>
                    <a:pt x="145" y="1130"/>
                    <a:pt x="93" y="1231"/>
                    <a:pt x="178" y="1170"/>
                  </a:cubicBezTo>
                  <a:cubicBezTo>
                    <a:pt x="191" y="1160"/>
                    <a:pt x="200" y="1145"/>
                    <a:pt x="213" y="1135"/>
                  </a:cubicBezTo>
                  <a:cubicBezTo>
                    <a:pt x="235" y="1118"/>
                    <a:pt x="282" y="1089"/>
                    <a:pt x="282" y="1089"/>
                  </a:cubicBezTo>
                  <a:cubicBezTo>
                    <a:pt x="313" y="1044"/>
                    <a:pt x="330" y="1050"/>
                    <a:pt x="374" y="1020"/>
                  </a:cubicBezTo>
                  <a:cubicBezTo>
                    <a:pt x="395" y="960"/>
                    <a:pt x="487" y="879"/>
                    <a:pt x="547" y="859"/>
                  </a:cubicBezTo>
                  <a:cubicBezTo>
                    <a:pt x="582" y="847"/>
                    <a:pt x="651" y="824"/>
                    <a:pt x="651" y="824"/>
                  </a:cubicBezTo>
                  <a:cubicBezTo>
                    <a:pt x="866" y="828"/>
                    <a:pt x="1081" y="821"/>
                    <a:pt x="1296" y="836"/>
                  </a:cubicBezTo>
                  <a:cubicBezTo>
                    <a:pt x="1300" y="836"/>
                    <a:pt x="1311" y="887"/>
                    <a:pt x="1319" y="916"/>
                  </a:cubicBezTo>
                  <a:cubicBezTo>
                    <a:pt x="1333" y="965"/>
                    <a:pt x="1324" y="945"/>
                    <a:pt x="1365" y="986"/>
                  </a:cubicBezTo>
                  <a:cubicBezTo>
                    <a:pt x="1373" y="1009"/>
                    <a:pt x="1380" y="1032"/>
                    <a:pt x="1388" y="1055"/>
                  </a:cubicBezTo>
                  <a:cubicBezTo>
                    <a:pt x="1392" y="1066"/>
                    <a:pt x="1391" y="1081"/>
                    <a:pt x="1399" y="1089"/>
                  </a:cubicBezTo>
                  <a:cubicBezTo>
                    <a:pt x="1476" y="1166"/>
                    <a:pt x="1536" y="1202"/>
                    <a:pt x="1641" y="1227"/>
                  </a:cubicBezTo>
                  <a:cubicBezTo>
                    <a:pt x="1699" y="1223"/>
                    <a:pt x="1762" y="1242"/>
                    <a:pt x="1814" y="1216"/>
                  </a:cubicBezTo>
                  <a:cubicBezTo>
                    <a:pt x="1835" y="1206"/>
                    <a:pt x="1812" y="1168"/>
                    <a:pt x="1803" y="1147"/>
                  </a:cubicBezTo>
                  <a:cubicBezTo>
                    <a:pt x="1788" y="1112"/>
                    <a:pt x="1763" y="1110"/>
                    <a:pt x="1733" y="1101"/>
                  </a:cubicBezTo>
                  <a:cubicBezTo>
                    <a:pt x="1722" y="1089"/>
                    <a:pt x="1713" y="1075"/>
                    <a:pt x="1699" y="1066"/>
                  </a:cubicBezTo>
                  <a:cubicBezTo>
                    <a:pt x="1689" y="1059"/>
                    <a:pt x="1674" y="1063"/>
                    <a:pt x="1664" y="1055"/>
                  </a:cubicBezTo>
                  <a:cubicBezTo>
                    <a:pt x="1653" y="1046"/>
                    <a:pt x="1653" y="1027"/>
                    <a:pt x="1641" y="1020"/>
                  </a:cubicBezTo>
                  <a:cubicBezTo>
                    <a:pt x="1620" y="1007"/>
                    <a:pt x="1572" y="997"/>
                    <a:pt x="1572" y="997"/>
                  </a:cubicBezTo>
                  <a:cubicBezTo>
                    <a:pt x="1517" y="915"/>
                    <a:pt x="1532" y="955"/>
                    <a:pt x="1515" y="882"/>
                  </a:cubicBezTo>
                  <a:cubicBezTo>
                    <a:pt x="1511" y="832"/>
                    <a:pt x="1519" y="780"/>
                    <a:pt x="1503" y="732"/>
                  </a:cubicBezTo>
                  <a:cubicBezTo>
                    <a:pt x="1494" y="706"/>
                    <a:pt x="1468" y="689"/>
                    <a:pt x="1445" y="674"/>
                  </a:cubicBezTo>
                  <a:cubicBezTo>
                    <a:pt x="1221" y="525"/>
                    <a:pt x="1358" y="605"/>
                    <a:pt x="869" y="594"/>
                  </a:cubicBezTo>
                  <a:cubicBezTo>
                    <a:pt x="831" y="569"/>
                    <a:pt x="815" y="538"/>
                    <a:pt x="777" y="513"/>
                  </a:cubicBezTo>
                  <a:cubicBezTo>
                    <a:pt x="749" y="429"/>
                    <a:pt x="760" y="468"/>
                    <a:pt x="743" y="398"/>
                  </a:cubicBezTo>
                  <a:cubicBezTo>
                    <a:pt x="754" y="39"/>
                    <a:pt x="507" y="12"/>
                    <a:pt x="674" y="6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72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lobal Warming and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23760" y="1623960"/>
            <a:ext cx="7680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pollutants like greenhouse gases contribute to the gradual warming of the earth’s atmosphere that scientists have been monitoring around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115960" y="3362400"/>
            <a:ext cx="4680" cy="111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193720" y="33526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6" y="6"/>
                </a:lnTo>
                <a:lnTo>
                  <a:pt x="6" y="6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19280" y="335268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7" y="6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246280" y="334656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4"/>
                </a:move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0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182560" y="337356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3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4" y="6"/>
                </a:lnTo>
                <a:lnTo>
                  <a:pt x="4" y="6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209560" y="33670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6" y="7"/>
                </a:lnTo>
                <a:lnTo>
                  <a:pt x="6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260680" y="33624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4" y="7"/>
                </a:lnTo>
                <a:lnTo>
                  <a:pt x="4" y="7"/>
                </a:lnTo>
                <a:lnTo>
                  <a:pt x="7" y="7"/>
                </a:lnTo>
                <a:lnTo>
                  <a:pt x="7" y="7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120640" y="340344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173200" y="339408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6" y="6"/>
                </a:lnTo>
                <a:lnTo>
                  <a:pt x="6" y="6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223960" y="338940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7" y="6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250960" y="33829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4"/>
                </a:move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4"/>
                </a:lnTo>
                <a:lnTo>
                  <a:pt x="6" y="4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189040" y="3409920"/>
            <a:ext cx="4680" cy="9720"/>
          </a:xfrm>
          <a:custGeom>
            <a:avLst/>
            <a:gdLst/>
            <a:ahLst/>
            <a:rect l="l" t="t" r="r" b="b"/>
            <a:pathLst>
              <a:path w="3" h="6">
                <a:moveTo>
                  <a:pt x="0" y="3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266800" y="33987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152680" y="34354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203440" y="34243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4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4" y="7"/>
                </a:lnTo>
                <a:lnTo>
                  <a:pt x="4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219280" y="34401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3882960"/>
            <a:ext cx="8623440" cy="3733560"/>
            <a:chOff x="0" y="3882960"/>
            <a:chExt cx="8623440" cy="3733560"/>
          </a:xfrm>
        </p:grpSpPr>
        <p:sp>
          <p:nvSpPr>
            <p:cNvPr id="109" name=""/>
            <p:cNvSpPr/>
            <p:nvPr/>
          </p:nvSpPr>
          <p:spPr>
            <a:xfrm>
              <a:off x="0" y="3882960"/>
              <a:ext cx="8623440" cy="3602880"/>
            </a:xfrm>
            <a:custGeom>
              <a:avLst/>
              <a:gdLst/>
              <a:ahLst/>
              <a:rect l="l" t="t" r="r" b="b"/>
              <a:pathLst>
                <a:path w="4608" h="2308">
                  <a:moveTo>
                    <a:pt x="4608" y="2308"/>
                  </a:moveTo>
                  <a:lnTo>
                    <a:pt x="4608" y="2247"/>
                  </a:lnTo>
                  <a:lnTo>
                    <a:pt x="4604" y="2186"/>
                  </a:lnTo>
                  <a:lnTo>
                    <a:pt x="4597" y="2128"/>
                  </a:lnTo>
                  <a:lnTo>
                    <a:pt x="4597" y="2071"/>
                  </a:lnTo>
                  <a:lnTo>
                    <a:pt x="4587" y="2010"/>
                  </a:lnTo>
                  <a:lnTo>
                    <a:pt x="4580" y="1956"/>
                  </a:lnTo>
                  <a:lnTo>
                    <a:pt x="4570" y="1895"/>
                  </a:lnTo>
                  <a:lnTo>
                    <a:pt x="4560" y="1841"/>
                  </a:lnTo>
                  <a:lnTo>
                    <a:pt x="4546" y="1784"/>
                  </a:lnTo>
                  <a:lnTo>
                    <a:pt x="4532" y="1729"/>
                  </a:lnTo>
                  <a:lnTo>
                    <a:pt x="4516" y="1675"/>
                  </a:lnTo>
                  <a:lnTo>
                    <a:pt x="4501" y="1621"/>
                  </a:lnTo>
                  <a:lnTo>
                    <a:pt x="4485" y="1567"/>
                  </a:lnTo>
                  <a:lnTo>
                    <a:pt x="4464" y="1513"/>
                  </a:lnTo>
                  <a:lnTo>
                    <a:pt x="4443" y="1458"/>
                  </a:lnTo>
                  <a:lnTo>
                    <a:pt x="4423" y="1408"/>
                  </a:lnTo>
                  <a:lnTo>
                    <a:pt x="4399" y="1357"/>
                  </a:lnTo>
                  <a:lnTo>
                    <a:pt x="4375" y="1306"/>
                  </a:lnTo>
                  <a:lnTo>
                    <a:pt x="4351" y="1256"/>
                  </a:lnTo>
                  <a:lnTo>
                    <a:pt x="4323" y="1208"/>
                  </a:lnTo>
                  <a:lnTo>
                    <a:pt x="4296" y="1157"/>
                  </a:lnTo>
                  <a:lnTo>
                    <a:pt x="4269" y="1110"/>
                  </a:lnTo>
                  <a:lnTo>
                    <a:pt x="4238" y="1062"/>
                  </a:lnTo>
                  <a:lnTo>
                    <a:pt x="4211" y="1015"/>
                  </a:lnTo>
                  <a:lnTo>
                    <a:pt x="4177" y="968"/>
                  </a:lnTo>
                  <a:lnTo>
                    <a:pt x="4142" y="924"/>
                  </a:lnTo>
                  <a:lnTo>
                    <a:pt x="4108" y="880"/>
                  </a:lnTo>
                  <a:lnTo>
                    <a:pt x="4074" y="839"/>
                  </a:lnTo>
                  <a:lnTo>
                    <a:pt x="4036" y="795"/>
                  </a:lnTo>
                  <a:lnTo>
                    <a:pt x="3999" y="755"/>
                  </a:lnTo>
                  <a:lnTo>
                    <a:pt x="3961" y="714"/>
                  </a:lnTo>
                  <a:lnTo>
                    <a:pt x="3924" y="677"/>
                  </a:lnTo>
                  <a:lnTo>
                    <a:pt x="3882" y="636"/>
                  </a:lnTo>
                  <a:lnTo>
                    <a:pt x="3841" y="596"/>
                  </a:lnTo>
                  <a:lnTo>
                    <a:pt x="3801" y="562"/>
                  </a:lnTo>
                  <a:lnTo>
                    <a:pt x="3756" y="525"/>
                  </a:lnTo>
                  <a:lnTo>
                    <a:pt x="3712" y="491"/>
                  </a:lnTo>
                  <a:lnTo>
                    <a:pt x="3666" y="457"/>
                  </a:lnTo>
                  <a:lnTo>
                    <a:pt x="3622" y="424"/>
                  </a:lnTo>
                  <a:lnTo>
                    <a:pt x="3578" y="393"/>
                  </a:lnTo>
                  <a:lnTo>
                    <a:pt x="3530" y="363"/>
                  </a:lnTo>
                  <a:lnTo>
                    <a:pt x="3483" y="332"/>
                  </a:lnTo>
                  <a:lnTo>
                    <a:pt x="3434" y="302"/>
                  </a:lnTo>
                  <a:lnTo>
                    <a:pt x="3386" y="278"/>
                  </a:lnTo>
                  <a:lnTo>
                    <a:pt x="3335" y="251"/>
                  </a:lnTo>
                  <a:lnTo>
                    <a:pt x="3284" y="227"/>
                  </a:lnTo>
                  <a:lnTo>
                    <a:pt x="3236" y="203"/>
                  </a:lnTo>
                  <a:lnTo>
                    <a:pt x="3184" y="180"/>
                  </a:lnTo>
                  <a:lnTo>
                    <a:pt x="3130" y="156"/>
                  </a:lnTo>
                  <a:lnTo>
                    <a:pt x="3075" y="139"/>
                  </a:lnTo>
                  <a:lnTo>
                    <a:pt x="3024" y="119"/>
                  </a:lnTo>
                  <a:lnTo>
                    <a:pt x="2969" y="102"/>
                  </a:lnTo>
                  <a:lnTo>
                    <a:pt x="2914" y="85"/>
                  </a:lnTo>
                  <a:lnTo>
                    <a:pt x="2856" y="72"/>
                  </a:lnTo>
                  <a:lnTo>
                    <a:pt x="2801" y="58"/>
                  </a:lnTo>
                  <a:lnTo>
                    <a:pt x="2747" y="45"/>
                  </a:lnTo>
                  <a:lnTo>
                    <a:pt x="2689" y="34"/>
                  </a:lnTo>
                  <a:lnTo>
                    <a:pt x="2631" y="24"/>
                  </a:lnTo>
                  <a:lnTo>
                    <a:pt x="2573" y="14"/>
                  </a:lnTo>
                  <a:lnTo>
                    <a:pt x="2514" y="11"/>
                  </a:lnTo>
                  <a:lnTo>
                    <a:pt x="2456" y="4"/>
                  </a:lnTo>
                  <a:lnTo>
                    <a:pt x="2394" y="0"/>
                  </a:lnTo>
                  <a:lnTo>
                    <a:pt x="2336" y="0"/>
                  </a:lnTo>
                  <a:lnTo>
                    <a:pt x="2278" y="0"/>
                  </a:lnTo>
                  <a:lnTo>
                    <a:pt x="2217" y="0"/>
                  </a:lnTo>
                  <a:lnTo>
                    <a:pt x="2159" y="0"/>
                  </a:lnTo>
                  <a:lnTo>
                    <a:pt x="2097" y="4"/>
                  </a:lnTo>
                  <a:lnTo>
                    <a:pt x="2039" y="11"/>
                  </a:lnTo>
                  <a:lnTo>
                    <a:pt x="1981" y="14"/>
                  </a:lnTo>
                  <a:lnTo>
                    <a:pt x="1922" y="24"/>
                  </a:lnTo>
                  <a:lnTo>
                    <a:pt x="1864" y="34"/>
                  </a:lnTo>
                  <a:lnTo>
                    <a:pt x="1810" y="45"/>
                  </a:lnTo>
                  <a:lnTo>
                    <a:pt x="1752" y="58"/>
                  </a:lnTo>
                  <a:lnTo>
                    <a:pt x="1696" y="72"/>
                  </a:lnTo>
                  <a:lnTo>
                    <a:pt x="1642" y="85"/>
                  </a:lnTo>
                  <a:lnTo>
                    <a:pt x="1587" y="102"/>
                  </a:lnTo>
                  <a:lnTo>
                    <a:pt x="1532" y="119"/>
                  </a:lnTo>
                  <a:lnTo>
                    <a:pt x="1478" y="139"/>
                  </a:lnTo>
                  <a:lnTo>
                    <a:pt x="1423" y="156"/>
                  </a:lnTo>
                  <a:lnTo>
                    <a:pt x="1372" y="180"/>
                  </a:lnTo>
                  <a:lnTo>
                    <a:pt x="1320" y="203"/>
                  </a:lnTo>
                  <a:lnTo>
                    <a:pt x="1269" y="227"/>
                  </a:lnTo>
                  <a:lnTo>
                    <a:pt x="1218" y="251"/>
                  </a:lnTo>
                  <a:lnTo>
                    <a:pt x="1170" y="278"/>
                  </a:lnTo>
                  <a:lnTo>
                    <a:pt x="1118" y="302"/>
                  </a:lnTo>
                  <a:lnTo>
                    <a:pt x="1070" y="332"/>
                  </a:lnTo>
                  <a:lnTo>
                    <a:pt x="1023" y="363"/>
                  </a:lnTo>
                  <a:lnTo>
                    <a:pt x="979" y="393"/>
                  </a:lnTo>
                  <a:lnTo>
                    <a:pt x="933" y="424"/>
                  </a:lnTo>
                  <a:lnTo>
                    <a:pt x="886" y="457"/>
                  </a:lnTo>
                  <a:lnTo>
                    <a:pt x="842" y="491"/>
                  </a:lnTo>
                  <a:lnTo>
                    <a:pt x="800" y="525"/>
                  </a:lnTo>
                  <a:lnTo>
                    <a:pt x="756" y="562"/>
                  </a:lnTo>
                  <a:lnTo>
                    <a:pt x="715" y="596"/>
                  </a:lnTo>
                  <a:lnTo>
                    <a:pt x="674" y="636"/>
                  </a:lnTo>
                  <a:lnTo>
                    <a:pt x="636" y="677"/>
                  </a:lnTo>
                  <a:lnTo>
                    <a:pt x="595" y="714"/>
                  </a:lnTo>
                  <a:lnTo>
                    <a:pt x="557" y="755"/>
                  </a:lnTo>
                  <a:lnTo>
                    <a:pt x="520" y="795"/>
                  </a:lnTo>
                  <a:lnTo>
                    <a:pt x="482" y="839"/>
                  </a:lnTo>
                  <a:lnTo>
                    <a:pt x="448" y="880"/>
                  </a:lnTo>
                  <a:lnTo>
                    <a:pt x="414" y="924"/>
                  </a:lnTo>
                  <a:lnTo>
                    <a:pt x="383" y="968"/>
                  </a:lnTo>
                  <a:lnTo>
                    <a:pt x="353" y="1015"/>
                  </a:lnTo>
                  <a:lnTo>
                    <a:pt x="318" y="1062"/>
                  </a:lnTo>
                  <a:lnTo>
                    <a:pt x="291" y="1110"/>
                  </a:lnTo>
                  <a:lnTo>
                    <a:pt x="260" y="1157"/>
                  </a:lnTo>
                  <a:lnTo>
                    <a:pt x="236" y="1208"/>
                  </a:lnTo>
                  <a:lnTo>
                    <a:pt x="208" y="1256"/>
                  </a:lnTo>
                  <a:lnTo>
                    <a:pt x="185" y="1306"/>
                  </a:lnTo>
                  <a:lnTo>
                    <a:pt x="158" y="1357"/>
                  </a:lnTo>
                  <a:lnTo>
                    <a:pt x="137" y="1408"/>
                  </a:lnTo>
                  <a:lnTo>
                    <a:pt x="113" y="1458"/>
                  </a:lnTo>
                  <a:lnTo>
                    <a:pt x="96" y="1513"/>
                  </a:lnTo>
                  <a:lnTo>
                    <a:pt x="75" y="1567"/>
                  </a:lnTo>
                  <a:lnTo>
                    <a:pt x="58" y="1621"/>
                  </a:lnTo>
                  <a:lnTo>
                    <a:pt x="41" y="1675"/>
                  </a:lnTo>
                  <a:lnTo>
                    <a:pt x="27" y="1729"/>
                  </a:lnTo>
                  <a:lnTo>
                    <a:pt x="10" y="1784"/>
                  </a:lnTo>
                  <a:lnTo>
                    <a:pt x="0" y="1841"/>
                  </a:lnTo>
                  <a:lnTo>
                    <a:pt x="0" y="1895"/>
                  </a:lnTo>
                  <a:lnTo>
                    <a:pt x="0" y="1956"/>
                  </a:lnTo>
                  <a:lnTo>
                    <a:pt x="0" y="2010"/>
                  </a:lnTo>
                  <a:lnTo>
                    <a:pt x="0" y="2071"/>
                  </a:lnTo>
                  <a:lnTo>
                    <a:pt x="0" y="2128"/>
                  </a:lnTo>
                  <a:lnTo>
                    <a:pt x="0" y="2186"/>
                  </a:lnTo>
                  <a:lnTo>
                    <a:pt x="0" y="2247"/>
                  </a:lnTo>
                  <a:lnTo>
                    <a:pt x="0" y="2308"/>
                  </a:lnTo>
                </a:path>
              </a:pathLst>
            </a:custGeom>
            <a:solidFill>
              <a:srgbClr val="00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9880" y="4205520"/>
              <a:ext cx="7627320" cy="3145680"/>
            </a:xfrm>
            <a:custGeom>
              <a:avLst/>
              <a:gdLst/>
              <a:ahLst/>
              <a:rect l="l" t="t" r="r" b="b"/>
              <a:pathLst>
                <a:path w="4608" h="2308">
                  <a:moveTo>
                    <a:pt x="4608" y="2308"/>
                  </a:moveTo>
                  <a:lnTo>
                    <a:pt x="4608" y="2247"/>
                  </a:lnTo>
                  <a:lnTo>
                    <a:pt x="4604" y="2186"/>
                  </a:lnTo>
                  <a:lnTo>
                    <a:pt x="4597" y="2128"/>
                  </a:lnTo>
                  <a:lnTo>
                    <a:pt x="4597" y="2071"/>
                  </a:lnTo>
                  <a:lnTo>
                    <a:pt x="4587" y="2010"/>
                  </a:lnTo>
                  <a:lnTo>
                    <a:pt x="4580" y="1956"/>
                  </a:lnTo>
                  <a:lnTo>
                    <a:pt x="4570" y="1895"/>
                  </a:lnTo>
                  <a:lnTo>
                    <a:pt x="4560" y="1841"/>
                  </a:lnTo>
                  <a:lnTo>
                    <a:pt x="4546" y="1784"/>
                  </a:lnTo>
                  <a:lnTo>
                    <a:pt x="4532" y="1729"/>
                  </a:lnTo>
                  <a:lnTo>
                    <a:pt x="4516" y="1675"/>
                  </a:lnTo>
                  <a:lnTo>
                    <a:pt x="4501" y="1621"/>
                  </a:lnTo>
                  <a:lnTo>
                    <a:pt x="4485" y="1567"/>
                  </a:lnTo>
                  <a:lnTo>
                    <a:pt x="4464" y="1513"/>
                  </a:lnTo>
                  <a:lnTo>
                    <a:pt x="4443" y="1458"/>
                  </a:lnTo>
                  <a:lnTo>
                    <a:pt x="4423" y="1408"/>
                  </a:lnTo>
                  <a:lnTo>
                    <a:pt x="4399" y="1357"/>
                  </a:lnTo>
                  <a:lnTo>
                    <a:pt x="4375" y="1306"/>
                  </a:lnTo>
                  <a:lnTo>
                    <a:pt x="4351" y="1256"/>
                  </a:lnTo>
                  <a:lnTo>
                    <a:pt x="4323" y="1208"/>
                  </a:lnTo>
                  <a:lnTo>
                    <a:pt x="4296" y="1157"/>
                  </a:lnTo>
                  <a:lnTo>
                    <a:pt x="4269" y="1110"/>
                  </a:lnTo>
                  <a:lnTo>
                    <a:pt x="4238" y="1062"/>
                  </a:lnTo>
                  <a:lnTo>
                    <a:pt x="4211" y="1015"/>
                  </a:lnTo>
                  <a:lnTo>
                    <a:pt x="4177" y="968"/>
                  </a:lnTo>
                  <a:lnTo>
                    <a:pt x="4142" y="924"/>
                  </a:lnTo>
                  <a:lnTo>
                    <a:pt x="4108" y="880"/>
                  </a:lnTo>
                  <a:lnTo>
                    <a:pt x="4074" y="839"/>
                  </a:lnTo>
                  <a:lnTo>
                    <a:pt x="4036" y="795"/>
                  </a:lnTo>
                  <a:lnTo>
                    <a:pt x="3999" y="755"/>
                  </a:lnTo>
                  <a:lnTo>
                    <a:pt x="3961" y="714"/>
                  </a:lnTo>
                  <a:lnTo>
                    <a:pt x="3924" y="677"/>
                  </a:lnTo>
                  <a:lnTo>
                    <a:pt x="3882" y="636"/>
                  </a:lnTo>
                  <a:lnTo>
                    <a:pt x="3841" y="596"/>
                  </a:lnTo>
                  <a:lnTo>
                    <a:pt x="3801" y="562"/>
                  </a:lnTo>
                  <a:lnTo>
                    <a:pt x="3756" y="525"/>
                  </a:lnTo>
                  <a:lnTo>
                    <a:pt x="3712" y="491"/>
                  </a:lnTo>
                  <a:lnTo>
                    <a:pt x="3666" y="457"/>
                  </a:lnTo>
                  <a:lnTo>
                    <a:pt x="3622" y="424"/>
                  </a:lnTo>
                  <a:lnTo>
                    <a:pt x="3578" y="393"/>
                  </a:lnTo>
                  <a:lnTo>
                    <a:pt x="3530" y="363"/>
                  </a:lnTo>
                  <a:lnTo>
                    <a:pt x="3483" y="332"/>
                  </a:lnTo>
                  <a:lnTo>
                    <a:pt x="3434" y="302"/>
                  </a:lnTo>
                  <a:lnTo>
                    <a:pt x="3386" y="278"/>
                  </a:lnTo>
                  <a:lnTo>
                    <a:pt x="3335" y="251"/>
                  </a:lnTo>
                  <a:lnTo>
                    <a:pt x="3284" y="227"/>
                  </a:lnTo>
                  <a:lnTo>
                    <a:pt x="3236" y="203"/>
                  </a:lnTo>
                  <a:lnTo>
                    <a:pt x="3184" y="180"/>
                  </a:lnTo>
                  <a:lnTo>
                    <a:pt x="3130" y="156"/>
                  </a:lnTo>
                  <a:lnTo>
                    <a:pt x="3075" y="139"/>
                  </a:lnTo>
                  <a:lnTo>
                    <a:pt x="3024" y="119"/>
                  </a:lnTo>
                  <a:lnTo>
                    <a:pt x="2969" y="102"/>
                  </a:lnTo>
                  <a:lnTo>
                    <a:pt x="2914" y="85"/>
                  </a:lnTo>
                  <a:lnTo>
                    <a:pt x="2856" y="72"/>
                  </a:lnTo>
                  <a:lnTo>
                    <a:pt x="2801" y="58"/>
                  </a:lnTo>
                  <a:lnTo>
                    <a:pt x="2747" y="45"/>
                  </a:lnTo>
                  <a:lnTo>
                    <a:pt x="2689" y="34"/>
                  </a:lnTo>
                  <a:lnTo>
                    <a:pt x="2631" y="24"/>
                  </a:lnTo>
                  <a:lnTo>
                    <a:pt x="2573" y="14"/>
                  </a:lnTo>
                  <a:lnTo>
                    <a:pt x="2514" y="11"/>
                  </a:lnTo>
                  <a:lnTo>
                    <a:pt x="2456" y="4"/>
                  </a:lnTo>
                  <a:lnTo>
                    <a:pt x="2394" y="0"/>
                  </a:lnTo>
                  <a:lnTo>
                    <a:pt x="2336" y="0"/>
                  </a:lnTo>
                  <a:lnTo>
                    <a:pt x="2278" y="0"/>
                  </a:lnTo>
                  <a:lnTo>
                    <a:pt x="2217" y="0"/>
                  </a:lnTo>
                  <a:lnTo>
                    <a:pt x="2159" y="0"/>
                  </a:lnTo>
                  <a:lnTo>
                    <a:pt x="2097" y="4"/>
                  </a:lnTo>
                  <a:lnTo>
                    <a:pt x="2039" y="11"/>
                  </a:lnTo>
                  <a:lnTo>
                    <a:pt x="1981" y="14"/>
                  </a:lnTo>
                  <a:lnTo>
                    <a:pt x="1922" y="24"/>
                  </a:lnTo>
                  <a:lnTo>
                    <a:pt x="1864" y="34"/>
                  </a:lnTo>
                  <a:lnTo>
                    <a:pt x="1810" y="45"/>
                  </a:lnTo>
                  <a:lnTo>
                    <a:pt x="1752" y="58"/>
                  </a:lnTo>
                  <a:lnTo>
                    <a:pt x="1696" y="72"/>
                  </a:lnTo>
                  <a:lnTo>
                    <a:pt x="1642" y="85"/>
                  </a:lnTo>
                  <a:lnTo>
                    <a:pt x="1587" y="102"/>
                  </a:lnTo>
                  <a:lnTo>
                    <a:pt x="1532" y="119"/>
                  </a:lnTo>
                  <a:lnTo>
                    <a:pt x="1478" y="139"/>
                  </a:lnTo>
                  <a:lnTo>
                    <a:pt x="1423" y="156"/>
                  </a:lnTo>
                  <a:lnTo>
                    <a:pt x="1372" y="180"/>
                  </a:lnTo>
                  <a:lnTo>
                    <a:pt x="1320" y="203"/>
                  </a:lnTo>
                  <a:lnTo>
                    <a:pt x="1269" y="227"/>
                  </a:lnTo>
                  <a:lnTo>
                    <a:pt x="1218" y="251"/>
                  </a:lnTo>
                  <a:lnTo>
                    <a:pt x="1170" y="278"/>
                  </a:lnTo>
                  <a:lnTo>
                    <a:pt x="1118" y="302"/>
                  </a:lnTo>
                  <a:lnTo>
                    <a:pt x="1070" y="332"/>
                  </a:lnTo>
                  <a:lnTo>
                    <a:pt x="1023" y="363"/>
                  </a:lnTo>
                  <a:lnTo>
                    <a:pt x="979" y="393"/>
                  </a:lnTo>
                  <a:lnTo>
                    <a:pt x="933" y="424"/>
                  </a:lnTo>
                  <a:lnTo>
                    <a:pt x="886" y="457"/>
                  </a:lnTo>
                  <a:lnTo>
                    <a:pt x="842" y="491"/>
                  </a:lnTo>
                  <a:lnTo>
                    <a:pt x="800" y="525"/>
                  </a:lnTo>
                  <a:lnTo>
                    <a:pt x="756" y="562"/>
                  </a:lnTo>
                  <a:lnTo>
                    <a:pt x="715" y="596"/>
                  </a:lnTo>
                  <a:lnTo>
                    <a:pt x="674" y="636"/>
                  </a:lnTo>
                  <a:lnTo>
                    <a:pt x="636" y="677"/>
                  </a:lnTo>
                  <a:lnTo>
                    <a:pt x="595" y="714"/>
                  </a:lnTo>
                  <a:lnTo>
                    <a:pt x="557" y="755"/>
                  </a:lnTo>
                  <a:lnTo>
                    <a:pt x="520" y="795"/>
                  </a:lnTo>
                  <a:lnTo>
                    <a:pt x="482" y="839"/>
                  </a:lnTo>
                  <a:lnTo>
                    <a:pt x="448" y="880"/>
                  </a:lnTo>
                  <a:lnTo>
                    <a:pt x="414" y="924"/>
                  </a:lnTo>
                  <a:lnTo>
                    <a:pt x="383" y="968"/>
                  </a:lnTo>
                  <a:lnTo>
                    <a:pt x="353" y="1015"/>
                  </a:lnTo>
                  <a:lnTo>
                    <a:pt x="318" y="1062"/>
                  </a:lnTo>
                  <a:lnTo>
                    <a:pt x="291" y="1110"/>
                  </a:lnTo>
                  <a:lnTo>
                    <a:pt x="260" y="1157"/>
                  </a:lnTo>
                  <a:lnTo>
                    <a:pt x="236" y="1208"/>
                  </a:lnTo>
                  <a:lnTo>
                    <a:pt x="208" y="1256"/>
                  </a:lnTo>
                  <a:lnTo>
                    <a:pt x="185" y="1306"/>
                  </a:lnTo>
                  <a:lnTo>
                    <a:pt x="158" y="1357"/>
                  </a:lnTo>
                  <a:lnTo>
                    <a:pt x="137" y="1408"/>
                  </a:lnTo>
                  <a:lnTo>
                    <a:pt x="113" y="1458"/>
                  </a:lnTo>
                  <a:lnTo>
                    <a:pt x="96" y="1513"/>
                  </a:lnTo>
                  <a:lnTo>
                    <a:pt x="75" y="1567"/>
                  </a:lnTo>
                  <a:lnTo>
                    <a:pt x="58" y="1621"/>
                  </a:lnTo>
                  <a:lnTo>
                    <a:pt x="41" y="1675"/>
                  </a:lnTo>
                  <a:lnTo>
                    <a:pt x="27" y="1729"/>
                  </a:lnTo>
                  <a:lnTo>
                    <a:pt x="10" y="1784"/>
                  </a:lnTo>
                  <a:lnTo>
                    <a:pt x="0" y="1841"/>
                  </a:lnTo>
                  <a:lnTo>
                    <a:pt x="0" y="1895"/>
                  </a:lnTo>
                  <a:lnTo>
                    <a:pt x="0" y="1956"/>
                  </a:lnTo>
                  <a:lnTo>
                    <a:pt x="0" y="2010"/>
                  </a:lnTo>
                  <a:lnTo>
                    <a:pt x="0" y="2071"/>
                  </a:lnTo>
                  <a:lnTo>
                    <a:pt x="0" y="2128"/>
                  </a:lnTo>
                  <a:lnTo>
                    <a:pt x="0" y="2186"/>
                  </a:lnTo>
                  <a:lnTo>
                    <a:pt x="0" y="2247"/>
                  </a:lnTo>
                  <a:lnTo>
                    <a:pt x="0" y="230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1560" y="4245480"/>
              <a:ext cx="7632720" cy="3276720"/>
            </a:xfrm>
            <a:custGeom>
              <a:avLst/>
              <a:gdLst/>
              <a:ahLst/>
              <a:rect l="l" t="t" r="r" b="b"/>
              <a:pathLst>
                <a:path w="4462" h="2296">
                  <a:moveTo>
                    <a:pt x="4458" y="2296"/>
                  </a:moveTo>
                  <a:lnTo>
                    <a:pt x="4462" y="2239"/>
                  </a:lnTo>
                  <a:lnTo>
                    <a:pt x="4458" y="2179"/>
                  </a:lnTo>
                  <a:lnTo>
                    <a:pt x="4454" y="2122"/>
                  </a:lnTo>
                  <a:lnTo>
                    <a:pt x="4451" y="2065"/>
                  </a:lnTo>
                  <a:lnTo>
                    <a:pt x="4447" y="2009"/>
                  </a:lnTo>
                  <a:lnTo>
                    <a:pt x="4439" y="1952"/>
                  </a:lnTo>
                  <a:lnTo>
                    <a:pt x="4435" y="1896"/>
                  </a:lnTo>
                  <a:lnTo>
                    <a:pt x="4424" y="1839"/>
                  </a:lnTo>
                  <a:lnTo>
                    <a:pt x="4417" y="1786"/>
                  </a:lnTo>
                  <a:lnTo>
                    <a:pt x="4401" y="1729"/>
                  </a:lnTo>
                  <a:lnTo>
                    <a:pt x="4390" y="1676"/>
                  </a:lnTo>
                  <a:lnTo>
                    <a:pt x="4375" y="1624"/>
                  </a:lnTo>
                  <a:lnTo>
                    <a:pt x="4360" y="1571"/>
                  </a:lnTo>
                  <a:lnTo>
                    <a:pt x="4341" y="1522"/>
                  </a:lnTo>
                  <a:lnTo>
                    <a:pt x="4326" y="1469"/>
                  </a:lnTo>
                  <a:lnTo>
                    <a:pt x="4303" y="1420"/>
                  </a:lnTo>
                  <a:lnTo>
                    <a:pt x="4284" y="1367"/>
                  </a:lnTo>
                  <a:lnTo>
                    <a:pt x="4262" y="1318"/>
                  </a:lnTo>
                  <a:lnTo>
                    <a:pt x="4239" y="1269"/>
                  </a:lnTo>
                  <a:lnTo>
                    <a:pt x="4213" y="1216"/>
                  </a:lnTo>
                  <a:lnTo>
                    <a:pt x="4190" y="1170"/>
                  </a:lnTo>
                  <a:lnTo>
                    <a:pt x="4164" y="1125"/>
                  </a:lnTo>
                  <a:lnTo>
                    <a:pt x="4133" y="1076"/>
                  </a:lnTo>
                  <a:lnTo>
                    <a:pt x="4107" y="1031"/>
                  </a:lnTo>
                  <a:lnTo>
                    <a:pt x="4081" y="985"/>
                  </a:lnTo>
                  <a:lnTo>
                    <a:pt x="4047" y="940"/>
                  </a:lnTo>
                  <a:lnTo>
                    <a:pt x="4016" y="898"/>
                  </a:lnTo>
                  <a:lnTo>
                    <a:pt x="3982" y="853"/>
                  </a:lnTo>
                  <a:lnTo>
                    <a:pt x="3952" y="815"/>
                  </a:lnTo>
                  <a:lnTo>
                    <a:pt x="3915" y="774"/>
                  </a:lnTo>
                  <a:lnTo>
                    <a:pt x="3881" y="732"/>
                  </a:lnTo>
                  <a:lnTo>
                    <a:pt x="3843" y="691"/>
                  </a:lnTo>
                  <a:lnTo>
                    <a:pt x="3809" y="657"/>
                  </a:lnTo>
                  <a:lnTo>
                    <a:pt x="3767" y="619"/>
                  </a:lnTo>
                  <a:lnTo>
                    <a:pt x="3730" y="581"/>
                  </a:lnTo>
                  <a:lnTo>
                    <a:pt x="3688" y="543"/>
                  </a:lnTo>
                  <a:lnTo>
                    <a:pt x="3647" y="509"/>
                  </a:lnTo>
                  <a:lnTo>
                    <a:pt x="3605" y="475"/>
                  </a:lnTo>
                  <a:lnTo>
                    <a:pt x="3564" y="441"/>
                  </a:lnTo>
                  <a:lnTo>
                    <a:pt x="3518" y="411"/>
                  </a:lnTo>
                  <a:lnTo>
                    <a:pt x="3477" y="381"/>
                  </a:lnTo>
                  <a:lnTo>
                    <a:pt x="3431" y="351"/>
                  </a:lnTo>
                  <a:lnTo>
                    <a:pt x="3382" y="321"/>
                  </a:lnTo>
                  <a:lnTo>
                    <a:pt x="3337" y="294"/>
                  </a:lnTo>
                  <a:lnTo>
                    <a:pt x="3292" y="268"/>
                  </a:lnTo>
                  <a:lnTo>
                    <a:pt x="3243" y="241"/>
                  </a:lnTo>
                  <a:lnTo>
                    <a:pt x="3194" y="219"/>
                  </a:lnTo>
                  <a:lnTo>
                    <a:pt x="3145" y="196"/>
                  </a:lnTo>
                  <a:lnTo>
                    <a:pt x="3095" y="177"/>
                  </a:lnTo>
                  <a:lnTo>
                    <a:pt x="3046" y="154"/>
                  </a:lnTo>
                  <a:lnTo>
                    <a:pt x="2994" y="136"/>
                  </a:lnTo>
                  <a:lnTo>
                    <a:pt x="2944" y="113"/>
                  </a:lnTo>
                  <a:lnTo>
                    <a:pt x="2892" y="98"/>
                  </a:lnTo>
                  <a:lnTo>
                    <a:pt x="2839" y="83"/>
                  </a:lnTo>
                  <a:lnTo>
                    <a:pt x="2786" y="68"/>
                  </a:lnTo>
                  <a:lnTo>
                    <a:pt x="2729" y="56"/>
                  </a:lnTo>
                  <a:lnTo>
                    <a:pt x="2676" y="45"/>
                  </a:lnTo>
                  <a:lnTo>
                    <a:pt x="2620" y="34"/>
                  </a:lnTo>
                  <a:lnTo>
                    <a:pt x="2567" y="22"/>
                  </a:lnTo>
                  <a:lnTo>
                    <a:pt x="2510" y="15"/>
                  </a:lnTo>
                  <a:lnTo>
                    <a:pt x="2454" y="11"/>
                  </a:lnTo>
                  <a:lnTo>
                    <a:pt x="2397" y="3"/>
                  </a:lnTo>
                  <a:lnTo>
                    <a:pt x="2341" y="3"/>
                  </a:lnTo>
                  <a:lnTo>
                    <a:pt x="2284" y="0"/>
                  </a:lnTo>
                  <a:lnTo>
                    <a:pt x="2227" y="0"/>
                  </a:lnTo>
                  <a:lnTo>
                    <a:pt x="2171" y="0"/>
                  </a:lnTo>
                  <a:lnTo>
                    <a:pt x="2114" y="3"/>
                  </a:lnTo>
                  <a:lnTo>
                    <a:pt x="2057" y="3"/>
                  </a:lnTo>
                  <a:lnTo>
                    <a:pt x="2001" y="11"/>
                  </a:lnTo>
                  <a:lnTo>
                    <a:pt x="1944" y="15"/>
                  </a:lnTo>
                  <a:lnTo>
                    <a:pt x="1888" y="22"/>
                  </a:lnTo>
                  <a:lnTo>
                    <a:pt x="1831" y="34"/>
                  </a:lnTo>
                  <a:lnTo>
                    <a:pt x="1778" y="45"/>
                  </a:lnTo>
                  <a:lnTo>
                    <a:pt x="1721" y="56"/>
                  </a:lnTo>
                  <a:lnTo>
                    <a:pt x="1669" y="68"/>
                  </a:lnTo>
                  <a:lnTo>
                    <a:pt x="1616" y="83"/>
                  </a:lnTo>
                  <a:lnTo>
                    <a:pt x="1563" y="98"/>
                  </a:lnTo>
                  <a:lnTo>
                    <a:pt x="1514" y="113"/>
                  </a:lnTo>
                  <a:lnTo>
                    <a:pt x="1461" y="136"/>
                  </a:lnTo>
                  <a:lnTo>
                    <a:pt x="1412" y="154"/>
                  </a:lnTo>
                  <a:lnTo>
                    <a:pt x="1359" y="177"/>
                  </a:lnTo>
                  <a:lnTo>
                    <a:pt x="1310" y="196"/>
                  </a:lnTo>
                  <a:lnTo>
                    <a:pt x="1261" y="219"/>
                  </a:lnTo>
                  <a:lnTo>
                    <a:pt x="1212" y="241"/>
                  </a:lnTo>
                  <a:lnTo>
                    <a:pt x="1167" y="268"/>
                  </a:lnTo>
                  <a:lnTo>
                    <a:pt x="1118" y="294"/>
                  </a:lnTo>
                  <a:lnTo>
                    <a:pt x="1072" y="321"/>
                  </a:lnTo>
                  <a:lnTo>
                    <a:pt x="1023" y="351"/>
                  </a:lnTo>
                  <a:lnTo>
                    <a:pt x="982" y="381"/>
                  </a:lnTo>
                  <a:lnTo>
                    <a:pt x="933" y="411"/>
                  </a:lnTo>
                  <a:lnTo>
                    <a:pt x="891" y="441"/>
                  </a:lnTo>
                  <a:lnTo>
                    <a:pt x="850" y="475"/>
                  </a:lnTo>
                  <a:lnTo>
                    <a:pt x="808" y="509"/>
                  </a:lnTo>
                  <a:lnTo>
                    <a:pt x="770" y="543"/>
                  </a:lnTo>
                  <a:lnTo>
                    <a:pt x="729" y="581"/>
                  </a:lnTo>
                  <a:lnTo>
                    <a:pt x="687" y="619"/>
                  </a:lnTo>
                  <a:lnTo>
                    <a:pt x="653" y="657"/>
                  </a:lnTo>
                  <a:lnTo>
                    <a:pt x="612" y="691"/>
                  </a:lnTo>
                  <a:lnTo>
                    <a:pt x="578" y="732"/>
                  </a:lnTo>
                  <a:lnTo>
                    <a:pt x="540" y="774"/>
                  </a:lnTo>
                  <a:lnTo>
                    <a:pt x="506" y="815"/>
                  </a:lnTo>
                  <a:lnTo>
                    <a:pt x="472" y="853"/>
                  </a:lnTo>
                  <a:lnTo>
                    <a:pt x="442" y="898"/>
                  </a:lnTo>
                  <a:lnTo>
                    <a:pt x="408" y="940"/>
                  </a:lnTo>
                  <a:lnTo>
                    <a:pt x="378" y="985"/>
                  </a:lnTo>
                  <a:lnTo>
                    <a:pt x="347" y="1031"/>
                  </a:lnTo>
                  <a:lnTo>
                    <a:pt x="321" y="1076"/>
                  </a:lnTo>
                  <a:lnTo>
                    <a:pt x="291" y="1125"/>
                  </a:lnTo>
                  <a:lnTo>
                    <a:pt x="268" y="1170"/>
                  </a:lnTo>
                  <a:lnTo>
                    <a:pt x="242" y="1216"/>
                  </a:lnTo>
                  <a:lnTo>
                    <a:pt x="215" y="1269"/>
                  </a:lnTo>
                  <a:lnTo>
                    <a:pt x="196" y="1318"/>
                  </a:lnTo>
                  <a:lnTo>
                    <a:pt x="174" y="1367"/>
                  </a:lnTo>
                  <a:lnTo>
                    <a:pt x="151" y="1420"/>
                  </a:lnTo>
                  <a:lnTo>
                    <a:pt x="132" y="1469"/>
                  </a:lnTo>
                  <a:lnTo>
                    <a:pt x="113" y="1522"/>
                  </a:lnTo>
                  <a:lnTo>
                    <a:pt x="98" y="1571"/>
                  </a:lnTo>
                  <a:lnTo>
                    <a:pt x="83" y="1624"/>
                  </a:lnTo>
                  <a:lnTo>
                    <a:pt x="68" y="1676"/>
                  </a:lnTo>
                  <a:lnTo>
                    <a:pt x="57" y="1729"/>
                  </a:lnTo>
                  <a:lnTo>
                    <a:pt x="45" y="1786"/>
                  </a:lnTo>
                  <a:lnTo>
                    <a:pt x="34" y="1839"/>
                  </a:lnTo>
                  <a:lnTo>
                    <a:pt x="23" y="1896"/>
                  </a:lnTo>
                  <a:lnTo>
                    <a:pt x="15" y="1952"/>
                  </a:lnTo>
                  <a:lnTo>
                    <a:pt x="12" y="2009"/>
                  </a:lnTo>
                  <a:lnTo>
                    <a:pt x="4" y="2065"/>
                  </a:lnTo>
                  <a:lnTo>
                    <a:pt x="4" y="2122"/>
                  </a:lnTo>
                  <a:lnTo>
                    <a:pt x="0" y="2179"/>
                  </a:lnTo>
                  <a:lnTo>
                    <a:pt x="0" y="2239"/>
                  </a:lnTo>
                  <a:lnTo>
                    <a:pt x="0" y="2296"/>
                  </a:lnTo>
                </a:path>
              </a:pathLst>
            </a:custGeom>
            <a:solidFill>
              <a:srgbClr val="33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3400" y="4832640"/>
              <a:ext cx="1748880" cy="2685600"/>
            </a:xfrm>
            <a:custGeom>
              <a:avLst/>
              <a:gdLst/>
              <a:ahLst/>
              <a:rect l="l" t="t" r="r" b="b"/>
              <a:pathLst>
                <a:path w="1022" h="1882">
                  <a:moveTo>
                    <a:pt x="0" y="1861"/>
                  </a:moveTo>
                  <a:lnTo>
                    <a:pt x="4" y="1843"/>
                  </a:lnTo>
                  <a:lnTo>
                    <a:pt x="2" y="1831"/>
                  </a:lnTo>
                  <a:lnTo>
                    <a:pt x="2" y="1814"/>
                  </a:lnTo>
                  <a:lnTo>
                    <a:pt x="1" y="1797"/>
                  </a:lnTo>
                  <a:lnTo>
                    <a:pt x="2" y="1780"/>
                  </a:lnTo>
                  <a:lnTo>
                    <a:pt x="1" y="1763"/>
                  </a:lnTo>
                  <a:lnTo>
                    <a:pt x="0" y="1752"/>
                  </a:lnTo>
                  <a:lnTo>
                    <a:pt x="0" y="1735"/>
                  </a:lnTo>
                  <a:lnTo>
                    <a:pt x="3" y="1716"/>
                  </a:lnTo>
                  <a:lnTo>
                    <a:pt x="4" y="1699"/>
                  </a:lnTo>
                  <a:lnTo>
                    <a:pt x="3" y="1683"/>
                  </a:lnTo>
                  <a:lnTo>
                    <a:pt x="3" y="1665"/>
                  </a:lnTo>
                  <a:lnTo>
                    <a:pt x="6" y="1647"/>
                  </a:lnTo>
                  <a:lnTo>
                    <a:pt x="3" y="1632"/>
                  </a:lnTo>
                  <a:lnTo>
                    <a:pt x="6" y="1613"/>
                  </a:lnTo>
                  <a:lnTo>
                    <a:pt x="6" y="1596"/>
                  </a:lnTo>
                  <a:lnTo>
                    <a:pt x="9" y="1578"/>
                  </a:lnTo>
                  <a:lnTo>
                    <a:pt x="9" y="1561"/>
                  </a:lnTo>
                  <a:lnTo>
                    <a:pt x="12" y="1542"/>
                  </a:lnTo>
                  <a:lnTo>
                    <a:pt x="13" y="1529"/>
                  </a:lnTo>
                  <a:lnTo>
                    <a:pt x="16" y="1507"/>
                  </a:lnTo>
                  <a:lnTo>
                    <a:pt x="17" y="1493"/>
                  </a:lnTo>
                  <a:lnTo>
                    <a:pt x="21" y="1474"/>
                  </a:lnTo>
                  <a:lnTo>
                    <a:pt x="22" y="1461"/>
                  </a:lnTo>
                  <a:lnTo>
                    <a:pt x="28" y="1441"/>
                  </a:lnTo>
                  <a:lnTo>
                    <a:pt x="27" y="1421"/>
                  </a:lnTo>
                  <a:lnTo>
                    <a:pt x="32" y="1406"/>
                  </a:lnTo>
                  <a:lnTo>
                    <a:pt x="35" y="1386"/>
                  </a:lnTo>
                  <a:lnTo>
                    <a:pt x="38" y="1368"/>
                  </a:lnTo>
                  <a:lnTo>
                    <a:pt x="43" y="1353"/>
                  </a:lnTo>
                  <a:lnTo>
                    <a:pt x="47" y="1334"/>
                  </a:lnTo>
                  <a:lnTo>
                    <a:pt x="48" y="1321"/>
                  </a:lnTo>
                  <a:lnTo>
                    <a:pt x="54" y="1300"/>
                  </a:lnTo>
                  <a:lnTo>
                    <a:pt x="58" y="1281"/>
                  </a:lnTo>
                  <a:lnTo>
                    <a:pt x="61" y="1263"/>
                  </a:lnTo>
                  <a:lnTo>
                    <a:pt x="66" y="1248"/>
                  </a:lnTo>
                  <a:lnTo>
                    <a:pt x="72" y="1233"/>
                  </a:lnTo>
                  <a:lnTo>
                    <a:pt x="75" y="1215"/>
                  </a:lnTo>
                  <a:lnTo>
                    <a:pt x="79" y="1199"/>
                  </a:lnTo>
                  <a:lnTo>
                    <a:pt x="85" y="1184"/>
                  </a:lnTo>
                  <a:lnTo>
                    <a:pt x="92" y="1164"/>
                  </a:lnTo>
                  <a:lnTo>
                    <a:pt x="96" y="1148"/>
                  </a:lnTo>
                  <a:lnTo>
                    <a:pt x="99" y="1130"/>
                  </a:lnTo>
                  <a:lnTo>
                    <a:pt x="105" y="1114"/>
                  </a:lnTo>
                  <a:lnTo>
                    <a:pt x="113" y="1098"/>
                  </a:lnTo>
                  <a:lnTo>
                    <a:pt x="117" y="1082"/>
                  </a:lnTo>
                  <a:lnTo>
                    <a:pt x="122" y="1067"/>
                  </a:lnTo>
                  <a:lnTo>
                    <a:pt x="132" y="1050"/>
                  </a:lnTo>
                  <a:lnTo>
                    <a:pt x="138" y="1030"/>
                  </a:lnTo>
                  <a:lnTo>
                    <a:pt x="143" y="1014"/>
                  </a:lnTo>
                  <a:lnTo>
                    <a:pt x="147" y="1000"/>
                  </a:lnTo>
                  <a:lnTo>
                    <a:pt x="156" y="983"/>
                  </a:lnTo>
                  <a:lnTo>
                    <a:pt x="164" y="966"/>
                  </a:lnTo>
                  <a:lnTo>
                    <a:pt x="169" y="950"/>
                  </a:lnTo>
                  <a:lnTo>
                    <a:pt x="176" y="938"/>
                  </a:lnTo>
                  <a:lnTo>
                    <a:pt x="184" y="922"/>
                  </a:lnTo>
                  <a:lnTo>
                    <a:pt x="192" y="905"/>
                  </a:lnTo>
                  <a:lnTo>
                    <a:pt x="198" y="889"/>
                  </a:lnTo>
                  <a:lnTo>
                    <a:pt x="206" y="872"/>
                  </a:lnTo>
                  <a:lnTo>
                    <a:pt x="214" y="856"/>
                  </a:lnTo>
                  <a:lnTo>
                    <a:pt x="223" y="839"/>
                  </a:lnTo>
                  <a:lnTo>
                    <a:pt x="229" y="827"/>
                  </a:lnTo>
                  <a:lnTo>
                    <a:pt x="237" y="810"/>
                  </a:lnTo>
                  <a:lnTo>
                    <a:pt x="248" y="796"/>
                  </a:lnTo>
                  <a:lnTo>
                    <a:pt x="256" y="779"/>
                  </a:lnTo>
                  <a:lnTo>
                    <a:pt x="261" y="764"/>
                  </a:lnTo>
                  <a:lnTo>
                    <a:pt x="271" y="751"/>
                  </a:lnTo>
                  <a:lnTo>
                    <a:pt x="279" y="734"/>
                  </a:lnTo>
                  <a:lnTo>
                    <a:pt x="289" y="720"/>
                  </a:lnTo>
                  <a:lnTo>
                    <a:pt x="298" y="704"/>
                  </a:lnTo>
                  <a:lnTo>
                    <a:pt x="305" y="691"/>
                  </a:lnTo>
                  <a:lnTo>
                    <a:pt x="315" y="678"/>
                  </a:lnTo>
                  <a:lnTo>
                    <a:pt x="323" y="660"/>
                  </a:lnTo>
                  <a:lnTo>
                    <a:pt x="333" y="647"/>
                  </a:lnTo>
                  <a:lnTo>
                    <a:pt x="343" y="634"/>
                  </a:lnTo>
                  <a:lnTo>
                    <a:pt x="351" y="617"/>
                  </a:lnTo>
                  <a:lnTo>
                    <a:pt x="361" y="603"/>
                  </a:lnTo>
                  <a:lnTo>
                    <a:pt x="369" y="591"/>
                  </a:lnTo>
                  <a:lnTo>
                    <a:pt x="382" y="576"/>
                  </a:lnTo>
                  <a:lnTo>
                    <a:pt x="388" y="564"/>
                  </a:lnTo>
                  <a:lnTo>
                    <a:pt x="398" y="550"/>
                  </a:lnTo>
                  <a:lnTo>
                    <a:pt x="408" y="537"/>
                  </a:lnTo>
                  <a:lnTo>
                    <a:pt x="416" y="520"/>
                  </a:lnTo>
                  <a:lnTo>
                    <a:pt x="428" y="510"/>
                  </a:lnTo>
                  <a:lnTo>
                    <a:pt x="438" y="497"/>
                  </a:lnTo>
                  <a:lnTo>
                    <a:pt x="445" y="484"/>
                  </a:lnTo>
                  <a:lnTo>
                    <a:pt x="455" y="471"/>
                  </a:lnTo>
                  <a:lnTo>
                    <a:pt x="467" y="461"/>
                  </a:lnTo>
                  <a:lnTo>
                    <a:pt x="477" y="447"/>
                  </a:lnTo>
                  <a:lnTo>
                    <a:pt x="487" y="434"/>
                  </a:lnTo>
                  <a:lnTo>
                    <a:pt x="497" y="420"/>
                  </a:lnTo>
                  <a:lnTo>
                    <a:pt x="509" y="410"/>
                  </a:lnTo>
                  <a:lnTo>
                    <a:pt x="519" y="396"/>
                  </a:lnTo>
                  <a:lnTo>
                    <a:pt x="530" y="383"/>
                  </a:lnTo>
                  <a:lnTo>
                    <a:pt x="539" y="369"/>
                  </a:lnTo>
                  <a:lnTo>
                    <a:pt x="551" y="359"/>
                  </a:lnTo>
                  <a:lnTo>
                    <a:pt x="561" y="346"/>
                  </a:lnTo>
                  <a:lnTo>
                    <a:pt x="573" y="335"/>
                  </a:lnTo>
                  <a:lnTo>
                    <a:pt x="582" y="321"/>
                  </a:lnTo>
                  <a:lnTo>
                    <a:pt x="594" y="312"/>
                  </a:lnTo>
                  <a:lnTo>
                    <a:pt x="606" y="301"/>
                  </a:lnTo>
                  <a:lnTo>
                    <a:pt x="613" y="289"/>
                  </a:lnTo>
                  <a:lnTo>
                    <a:pt x="625" y="279"/>
                  </a:lnTo>
                  <a:lnTo>
                    <a:pt x="633" y="271"/>
                  </a:lnTo>
                  <a:lnTo>
                    <a:pt x="645" y="260"/>
                  </a:lnTo>
                  <a:lnTo>
                    <a:pt x="652" y="248"/>
                  </a:lnTo>
                  <a:lnTo>
                    <a:pt x="664" y="238"/>
                  </a:lnTo>
                  <a:lnTo>
                    <a:pt x="672" y="230"/>
                  </a:lnTo>
                  <a:lnTo>
                    <a:pt x="683" y="220"/>
                  </a:lnTo>
                  <a:lnTo>
                    <a:pt x="692" y="211"/>
                  </a:lnTo>
                  <a:lnTo>
                    <a:pt x="704" y="200"/>
                  </a:lnTo>
                  <a:lnTo>
                    <a:pt x="712" y="193"/>
                  </a:lnTo>
                  <a:lnTo>
                    <a:pt x="720" y="184"/>
                  </a:lnTo>
                  <a:lnTo>
                    <a:pt x="729" y="175"/>
                  </a:lnTo>
                  <a:lnTo>
                    <a:pt x="741" y="165"/>
                  </a:lnTo>
                  <a:lnTo>
                    <a:pt x="749" y="157"/>
                  </a:lnTo>
                  <a:lnTo>
                    <a:pt x="757" y="148"/>
                  </a:lnTo>
                  <a:lnTo>
                    <a:pt x="768" y="143"/>
                  </a:lnTo>
                  <a:lnTo>
                    <a:pt x="772" y="136"/>
                  </a:lnTo>
                  <a:lnTo>
                    <a:pt x="781" y="127"/>
                  </a:lnTo>
                  <a:lnTo>
                    <a:pt x="789" y="119"/>
                  </a:lnTo>
                  <a:lnTo>
                    <a:pt x="798" y="111"/>
                  </a:lnTo>
                  <a:lnTo>
                    <a:pt x="807" y="102"/>
                  </a:lnTo>
                  <a:lnTo>
                    <a:pt x="813" y="99"/>
                  </a:lnTo>
                  <a:lnTo>
                    <a:pt x="821" y="90"/>
                  </a:lnTo>
                  <a:lnTo>
                    <a:pt x="831" y="85"/>
                  </a:lnTo>
                  <a:lnTo>
                    <a:pt x="836" y="78"/>
                  </a:lnTo>
                  <a:lnTo>
                    <a:pt x="842" y="72"/>
                  </a:lnTo>
                  <a:lnTo>
                    <a:pt x="857" y="60"/>
                  </a:lnTo>
                  <a:lnTo>
                    <a:pt x="868" y="49"/>
                  </a:lnTo>
                  <a:lnTo>
                    <a:pt x="880" y="39"/>
                  </a:lnTo>
                  <a:lnTo>
                    <a:pt x="890" y="34"/>
                  </a:lnTo>
                  <a:lnTo>
                    <a:pt x="899" y="26"/>
                  </a:lnTo>
                  <a:lnTo>
                    <a:pt x="907" y="17"/>
                  </a:lnTo>
                  <a:lnTo>
                    <a:pt x="914" y="14"/>
                  </a:lnTo>
                  <a:lnTo>
                    <a:pt x="920" y="11"/>
                  </a:lnTo>
                  <a:lnTo>
                    <a:pt x="928" y="2"/>
                  </a:lnTo>
                  <a:lnTo>
                    <a:pt x="928" y="2"/>
                  </a:lnTo>
                  <a:lnTo>
                    <a:pt x="928" y="2"/>
                  </a:lnTo>
                  <a:lnTo>
                    <a:pt x="932" y="0"/>
                  </a:lnTo>
                  <a:lnTo>
                    <a:pt x="943" y="4"/>
                  </a:lnTo>
                  <a:lnTo>
                    <a:pt x="956" y="5"/>
                  </a:lnTo>
                  <a:lnTo>
                    <a:pt x="971" y="18"/>
                  </a:lnTo>
                  <a:lnTo>
                    <a:pt x="976" y="21"/>
                  </a:lnTo>
                  <a:lnTo>
                    <a:pt x="985" y="29"/>
                  </a:lnTo>
                  <a:lnTo>
                    <a:pt x="993" y="37"/>
                  </a:lnTo>
                  <a:lnTo>
                    <a:pt x="998" y="47"/>
                  </a:lnTo>
                  <a:lnTo>
                    <a:pt x="1009" y="59"/>
                  </a:lnTo>
                  <a:lnTo>
                    <a:pt x="1012" y="74"/>
                  </a:lnTo>
                  <a:lnTo>
                    <a:pt x="1015" y="89"/>
                  </a:lnTo>
                  <a:lnTo>
                    <a:pt x="1018" y="109"/>
                  </a:lnTo>
                  <a:lnTo>
                    <a:pt x="1021" y="125"/>
                  </a:lnTo>
                  <a:lnTo>
                    <a:pt x="1020" y="146"/>
                  </a:lnTo>
                  <a:lnTo>
                    <a:pt x="1021" y="158"/>
                  </a:lnTo>
                  <a:lnTo>
                    <a:pt x="1022" y="170"/>
                  </a:lnTo>
                  <a:lnTo>
                    <a:pt x="1019" y="180"/>
                  </a:lnTo>
                  <a:lnTo>
                    <a:pt x="1018" y="193"/>
                  </a:lnTo>
                  <a:lnTo>
                    <a:pt x="1016" y="208"/>
                  </a:lnTo>
                  <a:lnTo>
                    <a:pt x="1013" y="217"/>
                  </a:lnTo>
                  <a:lnTo>
                    <a:pt x="1011" y="231"/>
                  </a:lnTo>
                  <a:lnTo>
                    <a:pt x="1006" y="246"/>
                  </a:lnTo>
                  <a:lnTo>
                    <a:pt x="1004" y="260"/>
                  </a:lnTo>
                  <a:lnTo>
                    <a:pt x="998" y="272"/>
                  </a:lnTo>
                  <a:lnTo>
                    <a:pt x="996" y="285"/>
                  </a:lnTo>
                  <a:lnTo>
                    <a:pt x="991" y="300"/>
                  </a:lnTo>
                  <a:lnTo>
                    <a:pt x="985" y="312"/>
                  </a:lnTo>
                  <a:lnTo>
                    <a:pt x="983" y="326"/>
                  </a:lnTo>
                  <a:lnTo>
                    <a:pt x="977" y="338"/>
                  </a:lnTo>
                  <a:lnTo>
                    <a:pt x="972" y="352"/>
                  </a:lnTo>
                  <a:lnTo>
                    <a:pt x="965" y="365"/>
                  </a:lnTo>
                  <a:lnTo>
                    <a:pt x="960" y="380"/>
                  </a:lnTo>
                  <a:lnTo>
                    <a:pt x="954" y="392"/>
                  </a:lnTo>
                  <a:lnTo>
                    <a:pt x="944" y="409"/>
                  </a:lnTo>
                  <a:lnTo>
                    <a:pt x="936" y="417"/>
                  </a:lnTo>
                  <a:lnTo>
                    <a:pt x="928" y="434"/>
                  </a:lnTo>
                  <a:lnTo>
                    <a:pt x="922" y="446"/>
                  </a:lnTo>
                  <a:lnTo>
                    <a:pt x="912" y="459"/>
                  </a:lnTo>
                  <a:lnTo>
                    <a:pt x="904" y="472"/>
                  </a:lnTo>
                  <a:lnTo>
                    <a:pt x="892" y="481"/>
                  </a:lnTo>
                  <a:lnTo>
                    <a:pt x="886" y="493"/>
                  </a:lnTo>
                  <a:lnTo>
                    <a:pt x="873" y="509"/>
                  </a:lnTo>
                  <a:lnTo>
                    <a:pt x="864" y="517"/>
                  </a:lnTo>
                  <a:lnTo>
                    <a:pt x="856" y="526"/>
                  </a:lnTo>
                  <a:lnTo>
                    <a:pt x="844" y="536"/>
                  </a:lnTo>
                  <a:lnTo>
                    <a:pt x="834" y="549"/>
                  </a:lnTo>
                  <a:lnTo>
                    <a:pt x="824" y="554"/>
                  </a:lnTo>
                  <a:lnTo>
                    <a:pt x="812" y="564"/>
                  </a:lnTo>
                  <a:lnTo>
                    <a:pt x="804" y="573"/>
                  </a:lnTo>
                  <a:lnTo>
                    <a:pt x="792" y="584"/>
                  </a:lnTo>
                  <a:lnTo>
                    <a:pt x="780" y="593"/>
                  </a:lnTo>
                  <a:lnTo>
                    <a:pt x="767" y="600"/>
                  </a:lnTo>
                  <a:lnTo>
                    <a:pt x="759" y="609"/>
                  </a:lnTo>
                  <a:lnTo>
                    <a:pt x="745" y="615"/>
                  </a:lnTo>
                  <a:lnTo>
                    <a:pt x="733" y="626"/>
                  </a:lnTo>
                  <a:lnTo>
                    <a:pt x="725" y="635"/>
                  </a:lnTo>
                  <a:lnTo>
                    <a:pt x="711" y="642"/>
                  </a:lnTo>
                  <a:lnTo>
                    <a:pt x="700" y="652"/>
                  </a:lnTo>
                  <a:lnTo>
                    <a:pt x="691" y="660"/>
                  </a:lnTo>
                  <a:lnTo>
                    <a:pt x="679" y="670"/>
                  </a:lnTo>
                  <a:lnTo>
                    <a:pt x="669" y="675"/>
                  </a:lnTo>
                  <a:lnTo>
                    <a:pt x="661" y="684"/>
                  </a:lnTo>
                  <a:lnTo>
                    <a:pt x="650" y="689"/>
                  </a:lnTo>
                  <a:lnTo>
                    <a:pt x="639" y="700"/>
                  </a:lnTo>
                  <a:lnTo>
                    <a:pt x="632" y="711"/>
                  </a:lnTo>
                  <a:lnTo>
                    <a:pt x="624" y="719"/>
                  </a:lnTo>
                  <a:lnTo>
                    <a:pt x="615" y="728"/>
                  </a:lnTo>
                  <a:lnTo>
                    <a:pt x="607" y="737"/>
                  </a:lnTo>
                  <a:lnTo>
                    <a:pt x="603" y="747"/>
                  </a:lnTo>
                  <a:lnTo>
                    <a:pt x="592" y="757"/>
                  </a:lnTo>
                  <a:lnTo>
                    <a:pt x="589" y="767"/>
                  </a:lnTo>
                  <a:lnTo>
                    <a:pt x="585" y="777"/>
                  </a:lnTo>
                  <a:lnTo>
                    <a:pt x="579" y="790"/>
                  </a:lnTo>
                  <a:lnTo>
                    <a:pt x="577" y="803"/>
                  </a:lnTo>
                  <a:lnTo>
                    <a:pt x="574" y="812"/>
                  </a:lnTo>
                  <a:lnTo>
                    <a:pt x="570" y="823"/>
                  </a:lnTo>
                  <a:lnTo>
                    <a:pt x="572" y="835"/>
                  </a:lnTo>
                  <a:lnTo>
                    <a:pt x="571" y="849"/>
                  </a:lnTo>
                  <a:lnTo>
                    <a:pt x="569" y="862"/>
                  </a:lnTo>
                  <a:lnTo>
                    <a:pt x="573" y="877"/>
                  </a:lnTo>
                  <a:lnTo>
                    <a:pt x="574" y="888"/>
                  </a:lnTo>
                  <a:lnTo>
                    <a:pt x="574" y="905"/>
                  </a:lnTo>
                  <a:lnTo>
                    <a:pt x="576" y="918"/>
                  </a:lnTo>
                  <a:lnTo>
                    <a:pt x="580" y="933"/>
                  </a:lnTo>
                  <a:lnTo>
                    <a:pt x="587" y="946"/>
                  </a:lnTo>
                  <a:lnTo>
                    <a:pt x="586" y="963"/>
                  </a:lnTo>
                  <a:lnTo>
                    <a:pt x="593" y="976"/>
                  </a:lnTo>
                  <a:lnTo>
                    <a:pt x="596" y="992"/>
                  </a:lnTo>
                  <a:lnTo>
                    <a:pt x="602" y="1010"/>
                  </a:lnTo>
                  <a:lnTo>
                    <a:pt x="609" y="1023"/>
                  </a:lnTo>
                  <a:lnTo>
                    <a:pt x="618" y="1040"/>
                  </a:lnTo>
                  <a:lnTo>
                    <a:pt x="621" y="1055"/>
                  </a:lnTo>
                  <a:lnTo>
                    <a:pt x="628" y="1069"/>
                  </a:lnTo>
                  <a:lnTo>
                    <a:pt x="636" y="1086"/>
                  </a:lnTo>
                  <a:lnTo>
                    <a:pt x="643" y="1099"/>
                  </a:lnTo>
                  <a:lnTo>
                    <a:pt x="652" y="1116"/>
                  </a:lnTo>
                  <a:lnTo>
                    <a:pt x="658" y="1129"/>
                  </a:lnTo>
                  <a:lnTo>
                    <a:pt x="663" y="1148"/>
                  </a:lnTo>
                  <a:lnTo>
                    <a:pt x="674" y="1160"/>
                  </a:lnTo>
                  <a:lnTo>
                    <a:pt x="681" y="1173"/>
                  </a:lnTo>
                  <a:lnTo>
                    <a:pt x="687" y="1186"/>
                  </a:lnTo>
                  <a:lnTo>
                    <a:pt x="696" y="1203"/>
                  </a:lnTo>
                  <a:lnTo>
                    <a:pt x="706" y="1215"/>
                  </a:lnTo>
                  <a:lnTo>
                    <a:pt x="713" y="1228"/>
                  </a:lnTo>
                  <a:lnTo>
                    <a:pt x="720" y="1243"/>
                  </a:lnTo>
                  <a:lnTo>
                    <a:pt x="729" y="1259"/>
                  </a:lnTo>
                  <a:lnTo>
                    <a:pt x="737" y="1268"/>
                  </a:lnTo>
                  <a:lnTo>
                    <a:pt x="747" y="1280"/>
                  </a:lnTo>
                  <a:lnTo>
                    <a:pt x="757" y="1291"/>
                  </a:lnTo>
                  <a:lnTo>
                    <a:pt x="762" y="1301"/>
                  </a:lnTo>
                  <a:lnTo>
                    <a:pt x="771" y="1310"/>
                  </a:lnTo>
                  <a:lnTo>
                    <a:pt x="778" y="1323"/>
                  </a:lnTo>
                  <a:lnTo>
                    <a:pt x="786" y="1332"/>
                  </a:lnTo>
                  <a:lnTo>
                    <a:pt x="796" y="1343"/>
                  </a:lnTo>
                  <a:lnTo>
                    <a:pt x="803" y="1349"/>
                  </a:lnTo>
                  <a:lnTo>
                    <a:pt x="814" y="1360"/>
                  </a:lnTo>
                  <a:lnTo>
                    <a:pt x="820" y="1365"/>
                  </a:lnTo>
                  <a:lnTo>
                    <a:pt x="827" y="1378"/>
                  </a:lnTo>
                  <a:lnTo>
                    <a:pt x="833" y="1384"/>
                  </a:lnTo>
                  <a:lnTo>
                    <a:pt x="838" y="1393"/>
                  </a:lnTo>
                  <a:lnTo>
                    <a:pt x="847" y="1402"/>
                  </a:lnTo>
                  <a:lnTo>
                    <a:pt x="856" y="1410"/>
                  </a:lnTo>
                  <a:lnTo>
                    <a:pt x="863" y="1416"/>
                  </a:lnTo>
                  <a:lnTo>
                    <a:pt x="868" y="1425"/>
                  </a:lnTo>
                  <a:lnTo>
                    <a:pt x="874" y="1430"/>
                  </a:lnTo>
                  <a:lnTo>
                    <a:pt x="879" y="1441"/>
                  </a:lnTo>
                  <a:lnTo>
                    <a:pt x="886" y="1446"/>
                  </a:lnTo>
                  <a:lnTo>
                    <a:pt x="895" y="1454"/>
                  </a:lnTo>
                  <a:lnTo>
                    <a:pt x="898" y="1461"/>
                  </a:lnTo>
                  <a:lnTo>
                    <a:pt x="903" y="1470"/>
                  </a:lnTo>
                  <a:lnTo>
                    <a:pt x="914" y="1483"/>
                  </a:lnTo>
                  <a:lnTo>
                    <a:pt x="922" y="1499"/>
                  </a:lnTo>
                  <a:lnTo>
                    <a:pt x="930" y="1513"/>
                  </a:lnTo>
                  <a:lnTo>
                    <a:pt x="931" y="1533"/>
                  </a:lnTo>
                  <a:lnTo>
                    <a:pt x="934" y="1549"/>
                  </a:lnTo>
                  <a:lnTo>
                    <a:pt x="938" y="1564"/>
                  </a:lnTo>
                  <a:lnTo>
                    <a:pt x="938" y="1581"/>
                  </a:lnTo>
                  <a:lnTo>
                    <a:pt x="935" y="1599"/>
                  </a:lnTo>
                  <a:lnTo>
                    <a:pt x="935" y="1616"/>
                  </a:lnTo>
                  <a:lnTo>
                    <a:pt x="932" y="1634"/>
                  </a:lnTo>
                  <a:lnTo>
                    <a:pt x="927" y="1649"/>
                  </a:lnTo>
                  <a:lnTo>
                    <a:pt x="920" y="1669"/>
                  </a:lnTo>
                  <a:lnTo>
                    <a:pt x="915" y="1686"/>
                  </a:lnTo>
                  <a:lnTo>
                    <a:pt x="910" y="1700"/>
                  </a:lnTo>
                  <a:lnTo>
                    <a:pt x="902" y="1717"/>
                  </a:lnTo>
                  <a:lnTo>
                    <a:pt x="894" y="1734"/>
                  </a:lnTo>
                  <a:lnTo>
                    <a:pt x="884" y="1747"/>
                  </a:lnTo>
                  <a:lnTo>
                    <a:pt x="873" y="1762"/>
                  </a:lnTo>
                  <a:lnTo>
                    <a:pt x="860" y="1776"/>
                  </a:lnTo>
                  <a:lnTo>
                    <a:pt x="848" y="1787"/>
                  </a:lnTo>
                  <a:lnTo>
                    <a:pt x="836" y="1797"/>
                  </a:lnTo>
                  <a:lnTo>
                    <a:pt x="824" y="1808"/>
                  </a:lnTo>
                  <a:lnTo>
                    <a:pt x="811" y="1814"/>
                  </a:lnTo>
                  <a:lnTo>
                    <a:pt x="798" y="1821"/>
                  </a:lnTo>
                  <a:lnTo>
                    <a:pt x="782" y="1824"/>
                  </a:lnTo>
                  <a:lnTo>
                    <a:pt x="773" y="1829"/>
                  </a:lnTo>
                  <a:lnTo>
                    <a:pt x="757" y="1833"/>
                  </a:lnTo>
                  <a:lnTo>
                    <a:pt x="741" y="1836"/>
                  </a:lnTo>
                  <a:lnTo>
                    <a:pt x="730" y="1839"/>
                  </a:lnTo>
                  <a:lnTo>
                    <a:pt x="717" y="1837"/>
                  </a:lnTo>
                  <a:lnTo>
                    <a:pt x="704" y="1838"/>
                  </a:lnTo>
                  <a:lnTo>
                    <a:pt x="689" y="1842"/>
                  </a:lnTo>
                  <a:lnTo>
                    <a:pt x="676" y="1840"/>
                  </a:lnTo>
                  <a:lnTo>
                    <a:pt x="663" y="1838"/>
                  </a:lnTo>
                  <a:lnTo>
                    <a:pt x="649" y="1837"/>
                  </a:lnTo>
                  <a:lnTo>
                    <a:pt x="637" y="1839"/>
                  </a:lnTo>
                  <a:lnTo>
                    <a:pt x="613" y="1834"/>
                  </a:lnTo>
                  <a:lnTo>
                    <a:pt x="593" y="1827"/>
                  </a:lnTo>
                  <a:lnTo>
                    <a:pt x="579" y="1823"/>
                  </a:lnTo>
                  <a:lnTo>
                    <a:pt x="559" y="1819"/>
                  </a:lnTo>
                  <a:lnTo>
                    <a:pt x="546" y="1818"/>
                  </a:lnTo>
                  <a:lnTo>
                    <a:pt x="536" y="1823"/>
                  </a:lnTo>
                  <a:lnTo>
                    <a:pt x="529" y="1834"/>
                  </a:lnTo>
                  <a:lnTo>
                    <a:pt x="521" y="1852"/>
                  </a:lnTo>
                  <a:lnTo>
                    <a:pt x="519" y="1882"/>
                  </a:lnTo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73920" y="4295520"/>
              <a:ext cx="4287600" cy="3321000"/>
            </a:xfrm>
            <a:custGeom>
              <a:avLst/>
              <a:gdLst/>
              <a:ahLst/>
              <a:rect l="l" t="t" r="r" b="b"/>
              <a:pathLst>
                <a:path w="2507" h="2327">
                  <a:moveTo>
                    <a:pt x="674" y="6"/>
                  </a:moveTo>
                  <a:cubicBezTo>
                    <a:pt x="841" y="0"/>
                    <a:pt x="1440" y="158"/>
                    <a:pt x="1745" y="363"/>
                  </a:cubicBezTo>
                  <a:cubicBezTo>
                    <a:pt x="2050" y="568"/>
                    <a:pt x="2374" y="1042"/>
                    <a:pt x="2501" y="1234"/>
                  </a:cubicBezTo>
                  <a:cubicBezTo>
                    <a:pt x="2502" y="1328"/>
                    <a:pt x="2507" y="1421"/>
                    <a:pt x="2505" y="1515"/>
                  </a:cubicBezTo>
                  <a:cubicBezTo>
                    <a:pt x="2504" y="1549"/>
                    <a:pt x="2492" y="1559"/>
                    <a:pt x="2459" y="1562"/>
                  </a:cubicBezTo>
                  <a:cubicBezTo>
                    <a:pt x="2394" y="1568"/>
                    <a:pt x="2328" y="1569"/>
                    <a:pt x="2263" y="1573"/>
                  </a:cubicBezTo>
                  <a:cubicBezTo>
                    <a:pt x="2240" y="1581"/>
                    <a:pt x="2211" y="1579"/>
                    <a:pt x="2194" y="1596"/>
                  </a:cubicBezTo>
                  <a:cubicBezTo>
                    <a:pt x="2169" y="1621"/>
                    <a:pt x="2178" y="1665"/>
                    <a:pt x="2171" y="1700"/>
                  </a:cubicBezTo>
                  <a:cubicBezTo>
                    <a:pt x="2161" y="1751"/>
                    <a:pt x="2141" y="1800"/>
                    <a:pt x="2125" y="1850"/>
                  </a:cubicBezTo>
                  <a:cubicBezTo>
                    <a:pt x="2114" y="1884"/>
                    <a:pt x="2102" y="1919"/>
                    <a:pt x="2091" y="1953"/>
                  </a:cubicBezTo>
                  <a:cubicBezTo>
                    <a:pt x="2087" y="1965"/>
                    <a:pt x="2083" y="1976"/>
                    <a:pt x="2079" y="1988"/>
                  </a:cubicBezTo>
                  <a:cubicBezTo>
                    <a:pt x="2075" y="1999"/>
                    <a:pt x="2068" y="2022"/>
                    <a:pt x="2068" y="2022"/>
                  </a:cubicBezTo>
                  <a:cubicBezTo>
                    <a:pt x="2051" y="2085"/>
                    <a:pt x="2331" y="2247"/>
                    <a:pt x="2137" y="2287"/>
                  </a:cubicBezTo>
                  <a:cubicBezTo>
                    <a:pt x="1943" y="2327"/>
                    <a:pt x="1119" y="2279"/>
                    <a:pt x="904" y="2264"/>
                  </a:cubicBezTo>
                  <a:cubicBezTo>
                    <a:pt x="880" y="2241"/>
                    <a:pt x="860" y="2226"/>
                    <a:pt x="846" y="2195"/>
                  </a:cubicBezTo>
                  <a:cubicBezTo>
                    <a:pt x="836" y="2173"/>
                    <a:pt x="840" y="2143"/>
                    <a:pt x="823" y="2126"/>
                  </a:cubicBezTo>
                  <a:cubicBezTo>
                    <a:pt x="744" y="2047"/>
                    <a:pt x="781" y="2075"/>
                    <a:pt x="720" y="2034"/>
                  </a:cubicBezTo>
                  <a:cubicBezTo>
                    <a:pt x="677" y="1969"/>
                    <a:pt x="722" y="2021"/>
                    <a:pt x="662" y="1988"/>
                  </a:cubicBezTo>
                  <a:cubicBezTo>
                    <a:pt x="527" y="1914"/>
                    <a:pt x="667" y="1948"/>
                    <a:pt x="455" y="1930"/>
                  </a:cubicBezTo>
                  <a:cubicBezTo>
                    <a:pt x="327" y="1890"/>
                    <a:pt x="147" y="1864"/>
                    <a:pt x="52" y="1769"/>
                  </a:cubicBezTo>
                  <a:cubicBezTo>
                    <a:pt x="30" y="1704"/>
                    <a:pt x="0" y="1701"/>
                    <a:pt x="28" y="1619"/>
                  </a:cubicBezTo>
                  <a:cubicBezTo>
                    <a:pt x="30" y="1613"/>
                    <a:pt x="90" y="1544"/>
                    <a:pt x="98" y="1538"/>
                  </a:cubicBezTo>
                  <a:cubicBezTo>
                    <a:pt x="120" y="1521"/>
                    <a:pt x="167" y="1492"/>
                    <a:pt x="167" y="1492"/>
                  </a:cubicBezTo>
                  <a:cubicBezTo>
                    <a:pt x="205" y="1436"/>
                    <a:pt x="229" y="1415"/>
                    <a:pt x="178" y="1320"/>
                  </a:cubicBezTo>
                  <a:cubicBezTo>
                    <a:pt x="167" y="1299"/>
                    <a:pt x="132" y="1312"/>
                    <a:pt x="109" y="1308"/>
                  </a:cubicBezTo>
                  <a:cubicBezTo>
                    <a:pt x="145" y="1130"/>
                    <a:pt x="93" y="1231"/>
                    <a:pt x="178" y="1170"/>
                  </a:cubicBezTo>
                  <a:cubicBezTo>
                    <a:pt x="191" y="1160"/>
                    <a:pt x="200" y="1145"/>
                    <a:pt x="213" y="1135"/>
                  </a:cubicBezTo>
                  <a:cubicBezTo>
                    <a:pt x="235" y="1118"/>
                    <a:pt x="282" y="1089"/>
                    <a:pt x="282" y="1089"/>
                  </a:cubicBezTo>
                  <a:cubicBezTo>
                    <a:pt x="313" y="1044"/>
                    <a:pt x="330" y="1050"/>
                    <a:pt x="374" y="1020"/>
                  </a:cubicBezTo>
                  <a:cubicBezTo>
                    <a:pt x="395" y="960"/>
                    <a:pt x="487" y="879"/>
                    <a:pt x="547" y="859"/>
                  </a:cubicBezTo>
                  <a:cubicBezTo>
                    <a:pt x="582" y="847"/>
                    <a:pt x="651" y="824"/>
                    <a:pt x="651" y="824"/>
                  </a:cubicBezTo>
                  <a:cubicBezTo>
                    <a:pt x="866" y="828"/>
                    <a:pt x="1081" y="821"/>
                    <a:pt x="1296" y="836"/>
                  </a:cubicBezTo>
                  <a:cubicBezTo>
                    <a:pt x="1300" y="836"/>
                    <a:pt x="1311" y="887"/>
                    <a:pt x="1319" y="916"/>
                  </a:cubicBezTo>
                  <a:cubicBezTo>
                    <a:pt x="1333" y="965"/>
                    <a:pt x="1324" y="945"/>
                    <a:pt x="1365" y="986"/>
                  </a:cubicBezTo>
                  <a:cubicBezTo>
                    <a:pt x="1373" y="1009"/>
                    <a:pt x="1380" y="1032"/>
                    <a:pt x="1388" y="1055"/>
                  </a:cubicBezTo>
                  <a:cubicBezTo>
                    <a:pt x="1392" y="1066"/>
                    <a:pt x="1391" y="1081"/>
                    <a:pt x="1399" y="1089"/>
                  </a:cubicBezTo>
                  <a:cubicBezTo>
                    <a:pt x="1476" y="1166"/>
                    <a:pt x="1536" y="1202"/>
                    <a:pt x="1641" y="1227"/>
                  </a:cubicBezTo>
                  <a:cubicBezTo>
                    <a:pt x="1699" y="1223"/>
                    <a:pt x="1762" y="1242"/>
                    <a:pt x="1814" y="1216"/>
                  </a:cubicBezTo>
                  <a:cubicBezTo>
                    <a:pt x="1835" y="1206"/>
                    <a:pt x="1812" y="1168"/>
                    <a:pt x="1803" y="1147"/>
                  </a:cubicBezTo>
                  <a:cubicBezTo>
                    <a:pt x="1788" y="1112"/>
                    <a:pt x="1763" y="1110"/>
                    <a:pt x="1733" y="1101"/>
                  </a:cubicBezTo>
                  <a:cubicBezTo>
                    <a:pt x="1722" y="1089"/>
                    <a:pt x="1713" y="1075"/>
                    <a:pt x="1699" y="1066"/>
                  </a:cubicBezTo>
                  <a:cubicBezTo>
                    <a:pt x="1689" y="1059"/>
                    <a:pt x="1674" y="1063"/>
                    <a:pt x="1664" y="1055"/>
                  </a:cubicBezTo>
                  <a:cubicBezTo>
                    <a:pt x="1653" y="1046"/>
                    <a:pt x="1653" y="1027"/>
                    <a:pt x="1641" y="1020"/>
                  </a:cubicBezTo>
                  <a:cubicBezTo>
                    <a:pt x="1620" y="1007"/>
                    <a:pt x="1572" y="997"/>
                    <a:pt x="1572" y="997"/>
                  </a:cubicBezTo>
                  <a:cubicBezTo>
                    <a:pt x="1517" y="915"/>
                    <a:pt x="1532" y="955"/>
                    <a:pt x="1515" y="882"/>
                  </a:cubicBezTo>
                  <a:cubicBezTo>
                    <a:pt x="1511" y="832"/>
                    <a:pt x="1519" y="780"/>
                    <a:pt x="1503" y="732"/>
                  </a:cubicBezTo>
                  <a:cubicBezTo>
                    <a:pt x="1494" y="706"/>
                    <a:pt x="1468" y="689"/>
                    <a:pt x="1445" y="674"/>
                  </a:cubicBezTo>
                  <a:cubicBezTo>
                    <a:pt x="1221" y="525"/>
                    <a:pt x="1358" y="605"/>
                    <a:pt x="869" y="594"/>
                  </a:cubicBezTo>
                  <a:cubicBezTo>
                    <a:pt x="831" y="569"/>
                    <a:pt x="815" y="538"/>
                    <a:pt x="777" y="513"/>
                  </a:cubicBezTo>
                  <a:cubicBezTo>
                    <a:pt x="749" y="429"/>
                    <a:pt x="760" y="468"/>
                    <a:pt x="743" y="398"/>
                  </a:cubicBezTo>
                  <a:cubicBezTo>
                    <a:pt x="754" y="39"/>
                    <a:pt x="507" y="12"/>
                    <a:pt x="674" y="6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-496800" y="779400"/>
            <a:ext cx="2571840" cy="3610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266760" y="625320"/>
            <a:ext cx="2571840" cy="3610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536920" y="3236400"/>
            <a:ext cx="576000" cy="806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71600"/>
            <a:ext cx="2536920" cy="3609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3320" y="1432080"/>
            <a:ext cx="55688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ar radiation passes through the clear atmosphere. Most is absorbed by the earth’s surface and warms it.  But some solar radiation is reflected by the earth and the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59160" y="2776680"/>
            <a:ext cx="576000" cy="80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0040" y="357120"/>
            <a:ext cx="2256120" cy="32259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lobal Warming and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738360"/>
            <a:ext cx="68374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15960" y="3362400"/>
            <a:ext cx="4680" cy="111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193720" y="33526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6" y="6"/>
                </a:lnTo>
                <a:lnTo>
                  <a:pt x="6" y="6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19280" y="335268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7" y="6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46280" y="334656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4"/>
                </a:move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0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182560" y="337356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3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4" y="6"/>
                </a:lnTo>
                <a:lnTo>
                  <a:pt x="4" y="6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209560" y="33670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6" y="7"/>
                </a:lnTo>
                <a:lnTo>
                  <a:pt x="6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260680" y="33624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4" y="7"/>
                </a:lnTo>
                <a:lnTo>
                  <a:pt x="4" y="7"/>
                </a:lnTo>
                <a:lnTo>
                  <a:pt x="7" y="7"/>
                </a:lnTo>
                <a:lnTo>
                  <a:pt x="7" y="7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20640" y="340344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173200" y="339408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6" y="6"/>
                </a:lnTo>
                <a:lnTo>
                  <a:pt x="6" y="6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223960" y="338940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7" y="6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250960" y="33829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4"/>
                </a:move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4"/>
                </a:lnTo>
                <a:lnTo>
                  <a:pt x="6" y="4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189040" y="3409920"/>
            <a:ext cx="4680" cy="9720"/>
          </a:xfrm>
          <a:custGeom>
            <a:avLst/>
            <a:gdLst/>
            <a:ahLst/>
            <a:rect l="l" t="t" r="r" b="b"/>
            <a:pathLst>
              <a:path w="3" h="6">
                <a:moveTo>
                  <a:pt x="0" y="3"/>
                </a:move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266800" y="33987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152680" y="34354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203440" y="34243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4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4" y="7"/>
                </a:lnTo>
                <a:lnTo>
                  <a:pt x="4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219280" y="34401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3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-420840" y="3121200"/>
            <a:ext cx="10293480" cy="5341680"/>
            <a:chOff x="-420840" y="3121200"/>
            <a:chExt cx="10293480" cy="5341680"/>
          </a:xfrm>
        </p:grpSpPr>
        <p:sp>
          <p:nvSpPr>
            <p:cNvPr id="143" name=""/>
            <p:cNvSpPr/>
            <p:nvPr/>
          </p:nvSpPr>
          <p:spPr>
            <a:xfrm>
              <a:off x="-420840" y="3121200"/>
              <a:ext cx="10293480" cy="5154480"/>
            </a:xfrm>
            <a:custGeom>
              <a:avLst/>
              <a:gdLst/>
              <a:ahLst/>
              <a:rect l="l" t="t" r="r" b="b"/>
              <a:pathLst>
                <a:path w="4608" h="2308">
                  <a:moveTo>
                    <a:pt x="4608" y="2308"/>
                  </a:moveTo>
                  <a:lnTo>
                    <a:pt x="4608" y="2247"/>
                  </a:lnTo>
                  <a:lnTo>
                    <a:pt x="4604" y="2186"/>
                  </a:lnTo>
                  <a:lnTo>
                    <a:pt x="4597" y="2128"/>
                  </a:lnTo>
                  <a:lnTo>
                    <a:pt x="4597" y="2071"/>
                  </a:lnTo>
                  <a:lnTo>
                    <a:pt x="4587" y="2010"/>
                  </a:lnTo>
                  <a:lnTo>
                    <a:pt x="4580" y="1956"/>
                  </a:lnTo>
                  <a:lnTo>
                    <a:pt x="4570" y="1895"/>
                  </a:lnTo>
                  <a:lnTo>
                    <a:pt x="4560" y="1841"/>
                  </a:lnTo>
                  <a:lnTo>
                    <a:pt x="4546" y="1784"/>
                  </a:lnTo>
                  <a:lnTo>
                    <a:pt x="4532" y="1729"/>
                  </a:lnTo>
                  <a:lnTo>
                    <a:pt x="4516" y="1675"/>
                  </a:lnTo>
                  <a:lnTo>
                    <a:pt x="4501" y="1621"/>
                  </a:lnTo>
                  <a:lnTo>
                    <a:pt x="4485" y="1567"/>
                  </a:lnTo>
                  <a:lnTo>
                    <a:pt x="4464" y="1513"/>
                  </a:lnTo>
                  <a:lnTo>
                    <a:pt x="4443" y="1458"/>
                  </a:lnTo>
                  <a:lnTo>
                    <a:pt x="4423" y="1408"/>
                  </a:lnTo>
                  <a:lnTo>
                    <a:pt x="4399" y="1357"/>
                  </a:lnTo>
                  <a:lnTo>
                    <a:pt x="4375" y="1306"/>
                  </a:lnTo>
                  <a:lnTo>
                    <a:pt x="4351" y="1256"/>
                  </a:lnTo>
                  <a:lnTo>
                    <a:pt x="4323" y="1208"/>
                  </a:lnTo>
                  <a:lnTo>
                    <a:pt x="4296" y="1157"/>
                  </a:lnTo>
                  <a:lnTo>
                    <a:pt x="4269" y="1110"/>
                  </a:lnTo>
                  <a:lnTo>
                    <a:pt x="4238" y="1062"/>
                  </a:lnTo>
                  <a:lnTo>
                    <a:pt x="4211" y="1015"/>
                  </a:lnTo>
                  <a:lnTo>
                    <a:pt x="4177" y="968"/>
                  </a:lnTo>
                  <a:lnTo>
                    <a:pt x="4142" y="924"/>
                  </a:lnTo>
                  <a:lnTo>
                    <a:pt x="4108" y="880"/>
                  </a:lnTo>
                  <a:lnTo>
                    <a:pt x="4074" y="839"/>
                  </a:lnTo>
                  <a:lnTo>
                    <a:pt x="4036" y="795"/>
                  </a:lnTo>
                  <a:lnTo>
                    <a:pt x="3999" y="755"/>
                  </a:lnTo>
                  <a:lnTo>
                    <a:pt x="3961" y="714"/>
                  </a:lnTo>
                  <a:lnTo>
                    <a:pt x="3924" y="677"/>
                  </a:lnTo>
                  <a:lnTo>
                    <a:pt x="3882" y="636"/>
                  </a:lnTo>
                  <a:lnTo>
                    <a:pt x="3841" y="596"/>
                  </a:lnTo>
                  <a:lnTo>
                    <a:pt x="3801" y="562"/>
                  </a:lnTo>
                  <a:lnTo>
                    <a:pt x="3756" y="525"/>
                  </a:lnTo>
                  <a:lnTo>
                    <a:pt x="3712" y="491"/>
                  </a:lnTo>
                  <a:lnTo>
                    <a:pt x="3666" y="457"/>
                  </a:lnTo>
                  <a:lnTo>
                    <a:pt x="3622" y="424"/>
                  </a:lnTo>
                  <a:lnTo>
                    <a:pt x="3578" y="393"/>
                  </a:lnTo>
                  <a:lnTo>
                    <a:pt x="3530" y="363"/>
                  </a:lnTo>
                  <a:lnTo>
                    <a:pt x="3483" y="332"/>
                  </a:lnTo>
                  <a:lnTo>
                    <a:pt x="3434" y="302"/>
                  </a:lnTo>
                  <a:lnTo>
                    <a:pt x="3386" y="278"/>
                  </a:lnTo>
                  <a:lnTo>
                    <a:pt x="3335" y="251"/>
                  </a:lnTo>
                  <a:lnTo>
                    <a:pt x="3284" y="227"/>
                  </a:lnTo>
                  <a:lnTo>
                    <a:pt x="3236" y="203"/>
                  </a:lnTo>
                  <a:lnTo>
                    <a:pt x="3184" y="180"/>
                  </a:lnTo>
                  <a:lnTo>
                    <a:pt x="3130" y="156"/>
                  </a:lnTo>
                  <a:lnTo>
                    <a:pt x="3075" y="139"/>
                  </a:lnTo>
                  <a:lnTo>
                    <a:pt x="3024" y="119"/>
                  </a:lnTo>
                  <a:lnTo>
                    <a:pt x="2969" y="102"/>
                  </a:lnTo>
                  <a:lnTo>
                    <a:pt x="2914" y="85"/>
                  </a:lnTo>
                  <a:lnTo>
                    <a:pt x="2856" y="72"/>
                  </a:lnTo>
                  <a:lnTo>
                    <a:pt x="2801" y="58"/>
                  </a:lnTo>
                  <a:lnTo>
                    <a:pt x="2747" y="45"/>
                  </a:lnTo>
                  <a:lnTo>
                    <a:pt x="2689" y="34"/>
                  </a:lnTo>
                  <a:lnTo>
                    <a:pt x="2631" y="24"/>
                  </a:lnTo>
                  <a:lnTo>
                    <a:pt x="2573" y="14"/>
                  </a:lnTo>
                  <a:lnTo>
                    <a:pt x="2514" y="11"/>
                  </a:lnTo>
                  <a:lnTo>
                    <a:pt x="2456" y="4"/>
                  </a:lnTo>
                  <a:lnTo>
                    <a:pt x="2394" y="0"/>
                  </a:lnTo>
                  <a:lnTo>
                    <a:pt x="2336" y="0"/>
                  </a:lnTo>
                  <a:lnTo>
                    <a:pt x="2278" y="0"/>
                  </a:lnTo>
                  <a:lnTo>
                    <a:pt x="2217" y="0"/>
                  </a:lnTo>
                  <a:lnTo>
                    <a:pt x="2159" y="0"/>
                  </a:lnTo>
                  <a:lnTo>
                    <a:pt x="2097" y="4"/>
                  </a:lnTo>
                  <a:lnTo>
                    <a:pt x="2039" y="11"/>
                  </a:lnTo>
                  <a:lnTo>
                    <a:pt x="1981" y="14"/>
                  </a:lnTo>
                  <a:lnTo>
                    <a:pt x="1922" y="24"/>
                  </a:lnTo>
                  <a:lnTo>
                    <a:pt x="1864" y="34"/>
                  </a:lnTo>
                  <a:lnTo>
                    <a:pt x="1810" y="45"/>
                  </a:lnTo>
                  <a:lnTo>
                    <a:pt x="1752" y="58"/>
                  </a:lnTo>
                  <a:lnTo>
                    <a:pt x="1696" y="72"/>
                  </a:lnTo>
                  <a:lnTo>
                    <a:pt x="1642" y="85"/>
                  </a:lnTo>
                  <a:lnTo>
                    <a:pt x="1587" y="102"/>
                  </a:lnTo>
                  <a:lnTo>
                    <a:pt x="1532" y="119"/>
                  </a:lnTo>
                  <a:lnTo>
                    <a:pt x="1478" y="139"/>
                  </a:lnTo>
                  <a:lnTo>
                    <a:pt x="1423" y="156"/>
                  </a:lnTo>
                  <a:lnTo>
                    <a:pt x="1372" y="180"/>
                  </a:lnTo>
                  <a:lnTo>
                    <a:pt x="1320" y="203"/>
                  </a:lnTo>
                  <a:lnTo>
                    <a:pt x="1269" y="227"/>
                  </a:lnTo>
                  <a:lnTo>
                    <a:pt x="1218" y="251"/>
                  </a:lnTo>
                  <a:lnTo>
                    <a:pt x="1170" y="278"/>
                  </a:lnTo>
                  <a:lnTo>
                    <a:pt x="1118" y="302"/>
                  </a:lnTo>
                  <a:lnTo>
                    <a:pt x="1070" y="332"/>
                  </a:lnTo>
                  <a:lnTo>
                    <a:pt x="1023" y="363"/>
                  </a:lnTo>
                  <a:lnTo>
                    <a:pt x="979" y="393"/>
                  </a:lnTo>
                  <a:lnTo>
                    <a:pt x="933" y="424"/>
                  </a:lnTo>
                  <a:lnTo>
                    <a:pt x="886" y="457"/>
                  </a:lnTo>
                  <a:lnTo>
                    <a:pt x="842" y="491"/>
                  </a:lnTo>
                  <a:lnTo>
                    <a:pt x="800" y="525"/>
                  </a:lnTo>
                  <a:lnTo>
                    <a:pt x="756" y="562"/>
                  </a:lnTo>
                  <a:lnTo>
                    <a:pt x="715" y="596"/>
                  </a:lnTo>
                  <a:lnTo>
                    <a:pt x="674" y="636"/>
                  </a:lnTo>
                  <a:lnTo>
                    <a:pt x="636" y="677"/>
                  </a:lnTo>
                  <a:lnTo>
                    <a:pt x="595" y="714"/>
                  </a:lnTo>
                  <a:lnTo>
                    <a:pt x="557" y="755"/>
                  </a:lnTo>
                  <a:lnTo>
                    <a:pt x="520" y="795"/>
                  </a:lnTo>
                  <a:lnTo>
                    <a:pt x="482" y="839"/>
                  </a:lnTo>
                  <a:lnTo>
                    <a:pt x="448" y="880"/>
                  </a:lnTo>
                  <a:lnTo>
                    <a:pt x="414" y="924"/>
                  </a:lnTo>
                  <a:lnTo>
                    <a:pt x="383" y="968"/>
                  </a:lnTo>
                  <a:lnTo>
                    <a:pt x="353" y="1015"/>
                  </a:lnTo>
                  <a:lnTo>
                    <a:pt x="318" y="1062"/>
                  </a:lnTo>
                  <a:lnTo>
                    <a:pt x="291" y="1110"/>
                  </a:lnTo>
                  <a:lnTo>
                    <a:pt x="260" y="1157"/>
                  </a:lnTo>
                  <a:lnTo>
                    <a:pt x="236" y="1208"/>
                  </a:lnTo>
                  <a:lnTo>
                    <a:pt x="208" y="1256"/>
                  </a:lnTo>
                  <a:lnTo>
                    <a:pt x="185" y="1306"/>
                  </a:lnTo>
                  <a:lnTo>
                    <a:pt x="158" y="1357"/>
                  </a:lnTo>
                  <a:lnTo>
                    <a:pt x="137" y="1408"/>
                  </a:lnTo>
                  <a:lnTo>
                    <a:pt x="113" y="1458"/>
                  </a:lnTo>
                  <a:lnTo>
                    <a:pt x="96" y="1513"/>
                  </a:lnTo>
                  <a:lnTo>
                    <a:pt x="75" y="1567"/>
                  </a:lnTo>
                  <a:lnTo>
                    <a:pt x="58" y="1621"/>
                  </a:lnTo>
                  <a:lnTo>
                    <a:pt x="41" y="1675"/>
                  </a:lnTo>
                  <a:lnTo>
                    <a:pt x="27" y="1729"/>
                  </a:lnTo>
                  <a:lnTo>
                    <a:pt x="10" y="1784"/>
                  </a:lnTo>
                  <a:lnTo>
                    <a:pt x="0" y="1841"/>
                  </a:lnTo>
                  <a:lnTo>
                    <a:pt x="0" y="1895"/>
                  </a:lnTo>
                  <a:lnTo>
                    <a:pt x="0" y="1956"/>
                  </a:lnTo>
                  <a:lnTo>
                    <a:pt x="0" y="2010"/>
                  </a:lnTo>
                  <a:lnTo>
                    <a:pt x="0" y="2071"/>
                  </a:lnTo>
                  <a:lnTo>
                    <a:pt x="0" y="2128"/>
                  </a:lnTo>
                  <a:lnTo>
                    <a:pt x="0" y="2186"/>
                  </a:lnTo>
                  <a:lnTo>
                    <a:pt x="0" y="2247"/>
                  </a:lnTo>
                  <a:lnTo>
                    <a:pt x="0" y="2308"/>
                  </a:lnTo>
                </a:path>
              </a:pathLst>
            </a:custGeom>
            <a:solidFill>
              <a:srgbClr val="00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2280" y="3583080"/>
              <a:ext cx="9104400" cy="4500360"/>
            </a:xfrm>
            <a:custGeom>
              <a:avLst/>
              <a:gdLst/>
              <a:ahLst/>
              <a:rect l="l" t="t" r="r" b="b"/>
              <a:pathLst>
                <a:path w="4608" h="2308">
                  <a:moveTo>
                    <a:pt x="4608" y="2308"/>
                  </a:moveTo>
                  <a:lnTo>
                    <a:pt x="4608" y="2247"/>
                  </a:lnTo>
                  <a:lnTo>
                    <a:pt x="4604" y="2186"/>
                  </a:lnTo>
                  <a:lnTo>
                    <a:pt x="4597" y="2128"/>
                  </a:lnTo>
                  <a:lnTo>
                    <a:pt x="4597" y="2071"/>
                  </a:lnTo>
                  <a:lnTo>
                    <a:pt x="4587" y="2010"/>
                  </a:lnTo>
                  <a:lnTo>
                    <a:pt x="4580" y="1956"/>
                  </a:lnTo>
                  <a:lnTo>
                    <a:pt x="4570" y="1895"/>
                  </a:lnTo>
                  <a:lnTo>
                    <a:pt x="4560" y="1841"/>
                  </a:lnTo>
                  <a:lnTo>
                    <a:pt x="4546" y="1784"/>
                  </a:lnTo>
                  <a:lnTo>
                    <a:pt x="4532" y="1729"/>
                  </a:lnTo>
                  <a:lnTo>
                    <a:pt x="4516" y="1675"/>
                  </a:lnTo>
                  <a:lnTo>
                    <a:pt x="4501" y="1621"/>
                  </a:lnTo>
                  <a:lnTo>
                    <a:pt x="4485" y="1567"/>
                  </a:lnTo>
                  <a:lnTo>
                    <a:pt x="4464" y="1513"/>
                  </a:lnTo>
                  <a:lnTo>
                    <a:pt x="4443" y="1458"/>
                  </a:lnTo>
                  <a:lnTo>
                    <a:pt x="4423" y="1408"/>
                  </a:lnTo>
                  <a:lnTo>
                    <a:pt x="4399" y="1357"/>
                  </a:lnTo>
                  <a:lnTo>
                    <a:pt x="4375" y="1306"/>
                  </a:lnTo>
                  <a:lnTo>
                    <a:pt x="4351" y="1256"/>
                  </a:lnTo>
                  <a:lnTo>
                    <a:pt x="4323" y="1208"/>
                  </a:lnTo>
                  <a:lnTo>
                    <a:pt x="4296" y="1157"/>
                  </a:lnTo>
                  <a:lnTo>
                    <a:pt x="4269" y="1110"/>
                  </a:lnTo>
                  <a:lnTo>
                    <a:pt x="4238" y="1062"/>
                  </a:lnTo>
                  <a:lnTo>
                    <a:pt x="4211" y="1015"/>
                  </a:lnTo>
                  <a:lnTo>
                    <a:pt x="4177" y="968"/>
                  </a:lnTo>
                  <a:lnTo>
                    <a:pt x="4142" y="924"/>
                  </a:lnTo>
                  <a:lnTo>
                    <a:pt x="4108" y="880"/>
                  </a:lnTo>
                  <a:lnTo>
                    <a:pt x="4074" y="839"/>
                  </a:lnTo>
                  <a:lnTo>
                    <a:pt x="4036" y="795"/>
                  </a:lnTo>
                  <a:lnTo>
                    <a:pt x="3999" y="755"/>
                  </a:lnTo>
                  <a:lnTo>
                    <a:pt x="3961" y="714"/>
                  </a:lnTo>
                  <a:lnTo>
                    <a:pt x="3924" y="677"/>
                  </a:lnTo>
                  <a:lnTo>
                    <a:pt x="3882" y="636"/>
                  </a:lnTo>
                  <a:lnTo>
                    <a:pt x="3841" y="596"/>
                  </a:lnTo>
                  <a:lnTo>
                    <a:pt x="3801" y="562"/>
                  </a:lnTo>
                  <a:lnTo>
                    <a:pt x="3756" y="525"/>
                  </a:lnTo>
                  <a:lnTo>
                    <a:pt x="3712" y="491"/>
                  </a:lnTo>
                  <a:lnTo>
                    <a:pt x="3666" y="457"/>
                  </a:lnTo>
                  <a:lnTo>
                    <a:pt x="3622" y="424"/>
                  </a:lnTo>
                  <a:lnTo>
                    <a:pt x="3578" y="393"/>
                  </a:lnTo>
                  <a:lnTo>
                    <a:pt x="3530" y="363"/>
                  </a:lnTo>
                  <a:lnTo>
                    <a:pt x="3483" y="332"/>
                  </a:lnTo>
                  <a:lnTo>
                    <a:pt x="3434" y="302"/>
                  </a:lnTo>
                  <a:lnTo>
                    <a:pt x="3386" y="278"/>
                  </a:lnTo>
                  <a:lnTo>
                    <a:pt x="3335" y="251"/>
                  </a:lnTo>
                  <a:lnTo>
                    <a:pt x="3284" y="227"/>
                  </a:lnTo>
                  <a:lnTo>
                    <a:pt x="3236" y="203"/>
                  </a:lnTo>
                  <a:lnTo>
                    <a:pt x="3184" y="180"/>
                  </a:lnTo>
                  <a:lnTo>
                    <a:pt x="3130" y="156"/>
                  </a:lnTo>
                  <a:lnTo>
                    <a:pt x="3075" y="139"/>
                  </a:lnTo>
                  <a:lnTo>
                    <a:pt x="3024" y="119"/>
                  </a:lnTo>
                  <a:lnTo>
                    <a:pt x="2969" y="102"/>
                  </a:lnTo>
                  <a:lnTo>
                    <a:pt x="2914" y="85"/>
                  </a:lnTo>
                  <a:lnTo>
                    <a:pt x="2856" y="72"/>
                  </a:lnTo>
                  <a:lnTo>
                    <a:pt x="2801" y="58"/>
                  </a:lnTo>
                  <a:lnTo>
                    <a:pt x="2747" y="45"/>
                  </a:lnTo>
                  <a:lnTo>
                    <a:pt x="2689" y="34"/>
                  </a:lnTo>
                  <a:lnTo>
                    <a:pt x="2631" y="24"/>
                  </a:lnTo>
                  <a:lnTo>
                    <a:pt x="2573" y="14"/>
                  </a:lnTo>
                  <a:lnTo>
                    <a:pt x="2514" y="11"/>
                  </a:lnTo>
                  <a:lnTo>
                    <a:pt x="2456" y="4"/>
                  </a:lnTo>
                  <a:lnTo>
                    <a:pt x="2394" y="0"/>
                  </a:lnTo>
                  <a:lnTo>
                    <a:pt x="2336" y="0"/>
                  </a:lnTo>
                  <a:lnTo>
                    <a:pt x="2278" y="0"/>
                  </a:lnTo>
                  <a:lnTo>
                    <a:pt x="2217" y="0"/>
                  </a:lnTo>
                  <a:lnTo>
                    <a:pt x="2159" y="0"/>
                  </a:lnTo>
                  <a:lnTo>
                    <a:pt x="2097" y="4"/>
                  </a:lnTo>
                  <a:lnTo>
                    <a:pt x="2039" y="11"/>
                  </a:lnTo>
                  <a:lnTo>
                    <a:pt x="1981" y="14"/>
                  </a:lnTo>
                  <a:lnTo>
                    <a:pt x="1922" y="24"/>
                  </a:lnTo>
                  <a:lnTo>
                    <a:pt x="1864" y="34"/>
                  </a:lnTo>
                  <a:lnTo>
                    <a:pt x="1810" y="45"/>
                  </a:lnTo>
                  <a:lnTo>
                    <a:pt x="1752" y="58"/>
                  </a:lnTo>
                  <a:lnTo>
                    <a:pt x="1696" y="72"/>
                  </a:lnTo>
                  <a:lnTo>
                    <a:pt x="1642" y="85"/>
                  </a:lnTo>
                  <a:lnTo>
                    <a:pt x="1587" y="102"/>
                  </a:lnTo>
                  <a:lnTo>
                    <a:pt x="1532" y="119"/>
                  </a:lnTo>
                  <a:lnTo>
                    <a:pt x="1478" y="139"/>
                  </a:lnTo>
                  <a:lnTo>
                    <a:pt x="1423" y="156"/>
                  </a:lnTo>
                  <a:lnTo>
                    <a:pt x="1372" y="180"/>
                  </a:lnTo>
                  <a:lnTo>
                    <a:pt x="1320" y="203"/>
                  </a:lnTo>
                  <a:lnTo>
                    <a:pt x="1269" y="227"/>
                  </a:lnTo>
                  <a:lnTo>
                    <a:pt x="1218" y="251"/>
                  </a:lnTo>
                  <a:lnTo>
                    <a:pt x="1170" y="278"/>
                  </a:lnTo>
                  <a:lnTo>
                    <a:pt x="1118" y="302"/>
                  </a:lnTo>
                  <a:lnTo>
                    <a:pt x="1070" y="332"/>
                  </a:lnTo>
                  <a:lnTo>
                    <a:pt x="1023" y="363"/>
                  </a:lnTo>
                  <a:lnTo>
                    <a:pt x="979" y="393"/>
                  </a:lnTo>
                  <a:lnTo>
                    <a:pt x="933" y="424"/>
                  </a:lnTo>
                  <a:lnTo>
                    <a:pt x="886" y="457"/>
                  </a:lnTo>
                  <a:lnTo>
                    <a:pt x="842" y="491"/>
                  </a:lnTo>
                  <a:lnTo>
                    <a:pt x="800" y="525"/>
                  </a:lnTo>
                  <a:lnTo>
                    <a:pt x="756" y="562"/>
                  </a:lnTo>
                  <a:lnTo>
                    <a:pt x="715" y="596"/>
                  </a:lnTo>
                  <a:lnTo>
                    <a:pt x="674" y="636"/>
                  </a:lnTo>
                  <a:lnTo>
                    <a:pt x="636" y="677"/>
                  </a:lnTo>
                  <a:lnTo>
                    <a:pt x="595" y="714"/>
                  </a:lnTo>
                  <a:lnTo>
                    <a:pt x="557" y="755"/>
                  </a:lnTo>
                  <a:lnTo>
                    <a:pt x="520" y="795"/>
                  </a:lnTo>
                  <a:lnTo>
                    <a:pt x="482" y="839"/>
                  </a:lnTo>
                  <a:lnTo>
                    <a:pt x="448" y="880"/>
                  </a:lnTo>
                  <a:lnTo>
                    <a:pt x="414" y="924"/>
                  </a:lnTo>
                  <a:lnTo>
                    <a:pt x="383" y="968"/>
                  </a:lnTo>
                  <a:lnTo>
                    <a:pt x="353" y="1015"/>
                  </a:lnTo>
                  <a:lnTo>
                    <a:pt x="318" y="1062"/>
                  </a:lnTo>
                  <a:lnTo>
                    <a:pt x="291" y="1110"/>
                  </a:lnTo>
                  <a:lnTo>
                    <a:pt x="260" y="1157"/>
                  </a:lnTo>
                  <a:lnTo>
                    <a:pt x="236" y="1208"/>
                  </a:lnTo>
                  <a:lnTo>
                    <a:pt x="208" y="1256"/>
                  </a:lnTo>
                  <a:lnTo>
                    <a:pt x="185" y="1306"/>
                  </a:lnTo>
                  <a:lnTo>
                    <a:pt x="158" y="1357"/>
                  </a:lnTo>
                  <a:lnTo>
                    <a:pt x="137" y="1408"/>
                  </a:lnTo>
                  <a:lnTo>
                    <a:pt x="113" y="1458"/>
                  </a:lnTo>
                  <a:lnTo>
                    <a:pt x="96" y="1513"/>
                  </a:lnTo>
                  <a:lnTo>
                    <a:pt x="75" y="1567"/>
                  </a:lnTo>
                  <a:lnTo>
                    <a:pt x="58" y="1621"/>
                  </a:lnTo>
                  <a:lnTo>
                    <a:pt x="41" y="1675"/>
                  </a:lnTo>
                  <a:lnTo>
                    <a:pt x="27" y="1729"/>
                  </a:lnTo>
                  <a:lnTo>
                    <a:pt x="10" y="1784"/>
                  </a:lnTo>
                  <a:lnTo>
                    <a:pt x="0" y="1841"/>
                  </a:lnTo>
                  <a:lnTo>
                    <a:pt x="0" y="1895"/>
                  </a:lnTo>
                  <a:lnTo>
                    <a:pt x="0" y="1956"/>
                  </a:lnTo>
                  <a:lnTo>
                    <a:pt x="0" y="2010"/>
                  </a:lnTo>
                  <a:lnTo>
                    <a:pt x="0" y="2071"/>
                  </a:lnTo>
                  <a:lnTo>
                    <a:pt x="0" y="2128"/>
                  </a:lnTo>
                  <a:lnTo>
                    <a:pt x="0" y="2186"/>
                  </a:lnTo>
                  <a:lnTo>
                    <a:pt x="0" y="2247"/>
                  </a:lnTo>
                  <a:lnTo>
                    <a:pt x="0" y="230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440" y="3639960"/>
              <a:ext cx="9110880" cy="4687920"/>
            </a:xfrm>
            <a:custGeom>
              <a:avLst/>
              <a:gdLst/>
              <a:ahLst/>
              <a:rect l="l" t="t" r="r" b="b"/>
              <a:pathLst>
                <a:path w="4462" h="2296">
                  <a:moveTo>
                    <a:pt x="4458" y="2296"/>
                  </a:moveTo>
                  <a:lnTo>
                    <a:pt x="4462" y="2239"/>
                  </a:lnTo>
                  <a:lnTo>
                    <a:pt x="4458" y="2179"/>
                  </a:lnTo>
                  <a:lnTo>
                    <a:pt x="4454" y="2122"/>
                  </a:lnTo>
                  <a:lnTo>
                    <a:pt x="4451" y="2065"/>
                  </a:lnTo>
                  <a:lnTo>
                    <a:pt x="4447" y="2009"/>
                  </a:lnTo>
                  <a:lnTo>
                    <a:pt x="4439" y="1952"/>
                  </a:lnTo>
                  <a:lnTo>
                    <a:pt x="4435" y="1896"/>
                  </a:lnTo>
                  <a:lnTo>
                    <a:pt x="4424" y="1839"/>
                  </a:lnTo>
                  <a:lnTo>
                    <a:pt x="4417" y="1786"/>
                  </a:lnTo>
                  <a:lnTo>
                    <a:pt x="4401" y="1729"/>
                  </a:lnTo>
                  <a:lnTo>
                    <a:pt x="4390" y="1676"/>
                  </a:lnTo>
                  <a:lnTo>
                    <a:pt x="4375" y="1624"/>
                  </a:lnTo>
                  <a:lnTo>
                    <a:pt x="4360" y="1571"/>
                  </a:lnTo>
                  <a:lnTo>
                    <a:pt x="4341" y="1522"/>
                  </a:lnTo>
                  <a:lnTo>
                    <a:pt x="4326" y="1469"/>
                  </a:lnTo>
                  <a:lnTo>
                    <a:pt x="4303" y="1420"/>
                  </a:lnTo>
                  <a:lnTo>
                    <a:pt x="4284" y="1367"/>
                  </a:lnTo>
                  <a:lnTo>
                    <a:pt x="4262" y="1318"/>
                  </a:lnTo>
                  <a:lnTo>
                    <a:pt x="4239" y="1269"/>
                  </a:lnTo>
                  <a:lnTo>
                    <a:pt x="4213" y="1216"/>
                  </a:lnTo>
                  <a:lnTo>
                    <a:pt x="4190" y="1170"/>
                  </a:lnTo>
                  <a:lnTo>
                    <a:pt x="4164" y="1125"/>
                  </a:lnTo>
                  <a:lnTo>
                    <a:pt x="4133" y="1076"/>
                  </a:lnTo>
                  <a:lnTo>
                    <a:pt x="4107" y="1031"/>
                  </a:lnTo>
                  <a:lnTo>
                    <a:pt x="4081" y="985"/>
                  </a:lnTo>
                  <a:lnTo>
                    <a:pt x="4047" y="940"/>
                  </a:lnTo>
                  <a:lnTo>
                    <a:pt x="4016" y="898"/>
                  </a:lnTo>
                  <a:lnTo>
                    <a:pt x="3982" y="853"/>
                  </a:lnTo>
                  <a:lnTo>
                    <a:pt x="3952" y="815"/>
                  </a:lnTo>
                  <a:lnTo>
                    <a:pt x="3915" y="774"/>
                  </a:lnTo>
                  <a:lnTo>
                    <a:pt x="3881" y="732"/>
                  </a:lnTo>
                  <a:lnTo>
                    <a:pt x="3843" y="691"/>
                  </a:lnTo>
                  <a:lnTo>
                    <a:pt x="3809" y="657"/>
                  </a:lnTo>
                  <a:lnTo>
                    <a:pt x="3767" y="619"/>
                  </a:lnTo>
                  <a:lnTo>
                    <a:pt x="3730" y="581"/>
                  </a:lnTo>
                  <a:lnTo>
                    <a:pt x="3688" y="543"/>
                  </a:lnTo>
                  <a:lnTo>
                    <a:pt x="3647" y="509"/>
                  </a:lnTo>
                  <a:lnTo>
                    <a:pt x="3605" y="475"/>
                  </a:lnTo>
                  <a:lnTo>
                    <a:pt x="3564" y="441"/>
                  </a:lnTo>
                  <a:lnTo>
                    <a:pt x="3518" y="411"/>
                  </a:lnTo>
                  <a:lnTo>
                    <a:pt x="3477" y="381"/>
                  </a:lnTo>
                  <a:lnTo>
                    <a:pt x="3431" y="351"/>
                  </a:lnTo>
                  <a:lnTo>
                    <a:pt x="3382" y="321"/>
                  </a:lnTo>
                  <a:lnTo>
                    <a:pt x="3337" y="294"/>
                  </a:lnTo>
                  <a:lnTo>
                    <a:pt x="3292" y="268"/>
                  </a:lnTo>
                  <a:lnTo>
                    <a:pt x="3243" y="241"/>
                  </a:lnTo>
                  <a:lnTo>
                    <a:pt x="3194" y="219"/>
                  </a:lnTo>
                  <a:lnTo>
                    <a:pt x="3145" y="196"/>
                  </a:lnTo>
                  <a:lnTo>
                    <a:pt x="3095" y="177"/>
                  </a:lnTo>
                  <a:lnTo>
                    <a:pt x="3046" y="154"/>
                  </a:lnTo>
                  <a:lnTo>
                    <a:pt x="2994" y="136"/>
                  </a:lnTo>
                  <a:lnTo>
                    <a:pt x="2944" y="113"/>
                  </a:lnTo>
                  <a:lnTo>
                    <a:pt x="2892" y="98"/>
                  </a:lnTo>
                  <a:lnTo>
                    <a:pt x="2839" y="83"/>
                  </a:lnTo>
                  <a:lnTo>
                    <a:pt x="2786" y="68"/>
                  </a:lnTo>
                  <a:lnTo>
                    <a:pt x="2729" y="56"/>
                  </a:lnTo>
                  <a:lnTo>
                    <a:pt x="2676" y="45"/>
                  </a:lnTo>
                  <a:lnTo>
                    <a:pt x="2620" y="34"/>
                  </a:lnTo>
                  <a:lnTo>
                    <a:pt x="2567" y="22"/>
                  </a:lnTo>
                  <a:lnTo>
                    <a:pt x="2510" y="15"/>
                  </a:lnTo>
                  <a:lnTo>
                    <a:pt x="2454" y="11"/>
                  </a:lnTo>
                  <a:lnTo>
                    <a:pt x="2397" y="3"/>
                  </a:lnTo>
                  <a:lnTo>
                    <a:pt x="2341" y="3"/>
                  </a:lnTo>
                  <a:lnTo>
                    <a:pt x="2284" y="0"/>
                  </a:lnTo>
                  <a:lnTo>
                    <a:pt x="2227" y="0"/>
                  </a:lnTo>
                  <a:lnTo>
                    <a:pt x="2171" y="0"/>
                  </a:lnTo>
                  <a:lnTo>
                    <a:pt x="2114" y="3"/>
                  </a:lnTo>
                  <a:lnTo>
                    <a:pt x="2057" y="3"/>
                  </a:lnTo>
                  <a:lnTo>
                    <a:pt x="2001" y="11"/>
                  </a:lnTo>
                  <a:lnTo>
                    <a:pt x="1944" y="15"/>
                  </a:lnTo>
                  <a:lnTo>
                    <a:pt x="1888" y="22"/>
                  </a:lnTo>
                  <a:lnTo>
                    <a:pt x="1831" y="34"/>
                  </a:lnTo>
                  <a:lnTo>
                    <a:pt x="1778" y="45"/>
                  </a:lnTo>
                  <a:lnTo>
                    <a:pt x="1721" y="56"/>
                  </a:lnTo>
                  <a:lnTo>
                    <a:pt x="1669" y="68"/>
                  </a:lnTo>
                  <a:lnTo>
                    <a:pt x="1616" y="83"/>
                  </a:lnTo>
                  <a:lnTo>
                    <a:pt x="1563" y="98"/>
                  </a:lnTo>
                  <a:lnTo>
                    <a:pt x="1514" y="113"/>
                  </a:lnTo>
                  <a:lnTo>
                    <a:pt x="1461" y="136"/>
                  </a:lnTo>
                  <a:lnTo>
                    <a:pt x="1412" y="154"/>
                  </a:lnTo>
                  <a:lnTo>
                    <a:pt x="1359" y="177"/>
                  </a:lnTo>
                  <a:lnTo>
                    <a:pt x="1310" y="196"/>
                  </a:lnTo>
                  <a:lnTo>
                    <a:pt x="1261" y="219"/>
                  </a:lnTo>
                  <a:lnTo>
                    <a:pt x="1212" y="241"/>
                  </a:lnTo>
                  <a:lnTo>
                    <a:pt x="1167" y="268"/>
                  </a:lnTo>
                  <a:lnTo>
                    <a:pt x="1118" y="294"/>
                  </a:lnTo>
                  <a:lnTo>
                    <a:pt x="1072" y="321"/>
                  </a:lnTo>
                  <a:lnTo>
                    <a:pt x="1023" y="351"/>
                  </a:lnTo>
                  <a:lnTo>
                    <a:pt x="982" y="381"/>
                  </a:lnTo>
                  <a:lnTo>
                    <a:pt x="933" y="411"/>
                  </a:lnTo>
                  <a:lnTo>
                    <a:pt x="891" y="441"/>
                  </a:lnTo>
                  <a:lnTo>
                    <a:pt x="850" y="475"/>
                  </a:lnTo>
                  <a:lnTo>
                    <a:pt x="808" y="509"/>
                  </a:lnTo>
                  <a:lnTo>
                    <a:pt x="770" y="543"/>
                  </a:lnTo>
                  <a:lnTo>
                    <a:pt x="729" y="581"/>
                  </a:lnTo>
                  <a:lnTo>
                    <a:pt x="687" y="619"/>
                  </a:lnTo>
                  <a:lnTo>
                    <a:pt x="653" y="657"/>
                  </a:lnTo>
                  <a:lnTo>
                    <a:pt x="612" y="691"/>
                  </a:lnTo>
                  <a:lnTo>
                    <a:pt x="578" y="732"/>
                  </a:lnTo>
                  <a:lnTo>
                    <a:pt x="540" y="774"/>
                  </a:lnTo>
                  <a:lnTo>
                    <a:pt x="506" y="815"/>
                  </a:lnTo>
                  <a:lnTo>
                    <a:pt x="472" y="853"/>
                  </a:lnTo>
                  <a:lnTo>
                    <a:pt x="442" y="898"/>
                  </a:lnTo>
                  <a:lnTo>
                    <a:pt x="408" y="940"/>
                  </a:lnTo>
                  <a:lnTo>
                    <a:pt x="378" y="985"/>
                  </a:lnTo>
                  <a:lnTo>
                    <a:pt x="347" y="1031"/>
                  </a:lnTo>
                  <a:lnTo>
                    <a:pt x="321" y="1076"/>
                  </a:lnTo>
                  <a:lnTo>
                    <a:pt x="291" y="1125"/>
                  </a:lnTo>
                  <a:lnTo>
                    <a:pt x="268" y="1170"/>
                  </a:lnTo>
                  <a:lnTo>
                    <a:pt x="242" y="1216"/>
                  </a:lnTo>
                  <a:lnTo>
                    <a:pt x="215" y="1269"/>
                  </a:lnTo>
                  <a:lnTo>
                    <a:pt x="196" y="1318"/>
                  </a:lnTo>
                  <a:lnTo>
                    <a:pt x="174" y="1367"/>
                  </a:lnTo>
                  <a:lnTo>
                    <a:pt x="151" y="1420"/>
                  </a:lnTo>
                  <a:lnTo>
                    <a:pt x="132" y="1469"/>
                  </a:lnTo>
                  <a:lnTo>
                    <a:pt x="113" y="1522"/>
                  </a:lnTo>
                  <a:lnTo>
                    <a:pt x="98" y="1571"/>
                  </a:lnTo>
                  <a:lnTo>
                    <a:pt x="83" y="1624"/>
                  </a:lnTo>
                  <a:lnTo>
                    <a:pt x="68" y="1676"/>
                  </a:lnTo>
                  <a:lnTo>
                    <a:pt x="57" y="1729"/>
                  </a:lnTo>
                  <a:lnTo>
                    <a:pt x="45" y="1786"/>
                  </a:lnTo>
                  <a:lnTo>
                    <a:pt x="34" y="1839"/>
                  </a:lnTo>
                  <a:lnTo>
                    <a:pt x="23" y="1896"/>
                  </a:lnTo>
                  <a:lnTo>
                    <a:pt x="15" y="1952"/>
                  </a:lnTo>
                  <a:lnTo>
                    <a:pt x="12" y="2009"/>
                  </a:lnTo>
                  <a:lnTo>
                    <a:pt x="4" y="2065"/>
                  </a:lnTo>
                  <a:lnTo>
                    <a:pt x="4" y="2122"/>
                  </a:lnTo>
                  <a:lnTo>
                    <a:pt x="0" y="2179"/>
                  </a:lnTo>
                  <a:lnTo>
                    <a:pt x="0" y="2239"/>
                  </a:lnTo>
                  <a:lnTo>
                    <a:pt x="0" y="2296"/>
                  </a:lnTo>
                </a:path>
              </a:pathLst>
            </a:custGeom>
            <a:solidFill>
              <a:srgbClr val="33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360" y="4479840"/>
              <a:ext cx="2087640" cy="3841920"/>
            </a:xfrm>
            <a:custGeom>
              <a:avLst/>
              <a:gdLst/>
              <a:ahLst/>
              <a:rect l="l" t="t" r="r" b="b"/>
              <a:pathLst>
                <a:path w="1022" h="1882">
                  <a:moveTo>
                    <a:pt x="0" y="1861"/>
                  </a:moveTo>
                  <a:lnTo>
                    <a:pt x="4" y="1843"/>
                  </a:lnTo>
                  <a:lnTo>
                    <a:pt x="2" y="1831"/>
                  </a:lnTo>
                  <a:lnTo>
                    <a:pt x="2" y="1814"/>
                  </a:lnTo>
                  <a:lnTo>
                    <a:pt x="1" y="1797"/>
                  </a:lnTo>
                  <a:lnTo>
                    <a:pt x="2" y="1780"/>
                  </a:lnTo>
                  <a:lnTo>
                    <a:pt x="1" y="1763"/>
                  </a:lnTo>
                  <a:lnTo>
                    <a:pt x="0" y="1752"/>
                  </a:lnTo>
                  <a:lnTo>
                    <a:pt x="0" y="1735"/>
                  </a:lnTo>
                  <a:lnTo>
                    <a:pt x="3" y="1716"/>
                  </a:lnTo>
                  <a:lnTo>
                    <a:pt x="4" y="1699"/>
                  </a:lnTo>
                  <a:lnTo>
                    <a:pt x="3" y="1683"/>
                  </a:lnTo>
                  <a:lnTo>
                    <a:pt x="3" y="1665"/>
                  </a:lnTo>
                  <a:lnTo>
                    <a:pt x="6" y="1647"/>
                  </a:lnTo>
                  <a:lnTo>
                    <a:pt x="3" y="1632"/>
                  </a:lnTo>
                  <a:lnTo>
                    <a:pt x="6" y="1613"/>
                  </a:lnTo>
                  <a:lnTo>
                    <a:pt x="6" y="1596"/>
                  </a:lnTo>
                  <a:lnTo>
                    <a:pt x="9" y="1578"/>
                  </a:lnTo>
                  <a:lnTo>
                    <a:pt x="9" y="1561"/>
                  </a:lnTo>
                  <a:lnTo>
                    <a:pt x="12" y="1542"/>
                  </a:lnTo>
                  <a:lnTo>
                    <a:pt x="13" y="1529"/>
                  </a:lnTo>
                  <a:lnTo>
                    <a:pt x="16" y="1507"/>
                  </a:lnTo>
                  <a:lnTo>
                    <a:pt x="17" y="1493"/>
                  </a:lnTo>
                  <a:lnTo>
                    <a:pt x="21" y="1474"/>
                  </a:lnTo>
                  <a:lnTo>
                    <a:pt x="22" y="1461"/>
                  </a:lnTo>
                  <a:lnTo>
                    <a:pt x="28" y="1441"/>
                  </a:lnTo>
                  <a:lnTo>
                    <a:pt x="27" y="1421"/>
                  </a:lnTo>
                  <a:lnTo>
                    <a:pt x="32" y="1406"/>
                  </a:lnTo>
                  <a:lnTo>
                    <a:pt x="35" y="1386"/>
                  </a:lnTo>
                  <a:lnTo>
                    <a:pt x="38" y="1368"/>
                  </a:lnTo>
                  <a:lnTo>
                    <a:pt x="43" y="1353"/>
                  </a:lnTo>
                  <a:lnTo>
                    <a:pt x="47" y="1334"/>
                  </a:lnTo>
                  <a:lnTo>
                    <a:pt x="48" y="1321"/>
                  </a:lnTo>
                  <a:lnTo>
                    <a:pt x="54" y="1300"/>
                  </a:lnTo>
                  <a:lnTo>
                    <a:pt x="58" y="1281"/>
                  </a:lnTo>
                  <a:lnTo>
                    <a:pt x="61" y="1263"/>
                  </a:lnTo>
                  <a:lnTo>
                    <a:pt x="66" y="1248"/>
                  </a:lnTo>
                  <a:lnTo>
                    <a:pt x="72" y="1233"/>
                  </a:lnTo>
                  <a:lnTo>
                    <a:pt x="75" y="1215"/>
                  </a:lnTo>
                  <a:lnTo>
                    <a:pt x="79" y="1199"/>
                  </a:lnTo>
                  <a:lnTo>
                    <a:pt x="85" y="1184"/>
                  </a:lnTo>
                  <a:lnTo>
                    <a:pt x="92" y="1164"/>
                  </a:lnTo>
                  <a:lnTo>
                    <a:pt x="96" y="1148"/>
                  </a:lnTo>
                  <a:lnTo>
                    <a:pt x="99" y="1130"/>
                  </a:lnTo>
                  <a:lnTo>
                    <a:pt x="105" y="1114"/>
                  </a:lnTo>
                  <a:lnTo>
                    <a:pt x="113" y="1098"/>
                  </a:lnTo>
                  <a:lnTo>
                    <a:pt x="117" y="1082"/>
                  </a:lnTo>
                  <a:lnTo>
                    <a:pt x="122" y="1067"/>
                  </a:lnTo>
                  <a:lnTo>
                    <a:pt x="132" y="1050"/>
                  </a:lnTo>
                  <a:lnTo>
                    <a:pt x="138" y="1030"/>
                  </a:lnTo>
                  <a:lnTo>
                    <a:pt x="143" y="1014"/>
                  </a:lnTo>
                  <a:lnTo>
                    <a:pt x="147" y="1000"/>
                  </a:lnTo>
                  <a:lnTo>
                    <a:pt x="156" y="983"/>
                  </a:lnTo>
                  <a:lnTo>
                    <a:pt x="164" y="966"/>
                  </a:lnTo>
                  <a:lnTo>
                    <a:pt x="169" y="950"/>
                  </a:lnTo>
                  <a:lnTo>
                    <a:pt x="176" y="938"/>
                  </a:lnTo>
                  <a:lnTo>
                    <a:pt x="184" y="922"/>
                  </a:lnTo>
                  <a:lnTo>
                    <a:pt x="192" y="905"/>
                  </a:lnTo>
                  <a:lnTo>
                    <a:pt x="198" y="889"/>
                  </a:lnTo>
                  <a:lnTo>
                    <a:pt x="206" y="872"/>
                  </a:lnTo>
                  <a:lnTo>
                    <a:pt x="214" y="856"/>
                  </a:lnTo>
                  <a:lnTo>
                    <a:pt x="223" y="839"/>
                  </a:lnTo>
                  <a:lnTo>
                    <a:pt x="229" y="827"/>
                  </a:lnTo>
                  <a:lnTo>
                    <a:pt x="237" y="810"/>
                  </a:lnTo>
                  <a:lnTo>
                    <a:pt x="248" y="796"/>
                  </a:lnTo>
                  <a:lnTo>
                    <a:pt x="256" y="779"/>
                  </a:lnTo>
                  <a:lnTo>
                    <a:pt x="261" y="764"/>
                  </a:lnTo>
                  <a:lnTo>
                    <a:pt x="271" y="751"/>
                  </a:lnTo>
                  <a:lnTo>
                    <a:pt x="279" y="734"/>
                  </a:lnTo>
                  <a:lnTo>
                    <a:pt x="289" y="720"/>
                  </a:lnTo>
                  <a:lnTo>
                    <a:pt x="298" y="704"/>
                  </a:lnTo>
                  <a:lnTo>
                    <a:pt x="305" y="691"/>
                  </a:lnTo>
                  <a:lnTo>
                    <a:pt x="315" y="678"/>
                  </a:lnTo>
                  <a:lnTo>
                    <a:pt x="323" y="660"/>
                  </a:lnTo>
                  <a:lnTo>
                    <a:pt x="333" y="647"/>
                  </a:lnTo>
                  <a:lnTo>
                    <a:pt x="343" y="634"/>
                  </a:lnTo>
                  <a:lnTo>
                    <a:pt x="351" y="617"/>
                  </a:lnTo>
                  <a:lnTo>
                    <a:pt x="361" y="603"/>
                  </a:lnTo>
                  <a:lnTo>
                    <a:pt x="369" y="591"/>
                  </a:lnTo>
                  <a:lnTo>
                    <a:pt x="382" y="576"/>
                  </a:lnTo>
                  <a:lnTo>
                    <a:pt x="388" y="564"/>
                  </a:lnTo>
                  <a:lnTo>
                    <a:pt x="398" y="550"/>
                  </a:lnTo>
                  <a:lnTo>
                    <a:pt x="408" y="537"/>
                  </a:lnTo>
                  <a:lnTo>
                    <a:pt x="416" y="520"/>
                  </a:lnTo>
                  <a:lnTo>
                    <a:pt x="428" y="510"/>
                  </a:lnTo>
                  <a:lnTo>
                    <a:pt x="438" y="497"/>
                  </a:lnTo>
                  <a:lnTo>
                    <a:pt x="445" y="484"/>
                  </a:lnTo>
                  <a:lnTo>
                    <a:pt x="455" y="471"/>
                  </a:lnTo>
                  <a:lnTo>
                    <a:pt x="467" y="461"/>
                  </a:lnTo>
                  <a:lnTo>
                    <a:pt x="477" y="447"/>
                  </a:lnTo>
                  <a:lnTo>
                    <a:pt x="487" y="434"/>
                  </a:lnTo>
                  <a:lnTo>
                    <a:pt x="497" y="420"/>
                  </a:lnTo>
                  <a:lnTo>
                    <a:pt x="509" y="410"/>
                  </a:lnTo>
                  <a:lnTo>
                    <a:pt x="519" y="396"/>
                  </a:lnTo>
                  <a:lnTo>
                    <a:pt x="530" y="383"/>
                  </a:lnTo>
                  <a:lnTo>
                    <a:pt x="539" y="369"/>
                  </a:lnTo>
                  <a:lnTo>
                    <a:pt x="551" y="359"/>
                  </a:lnTo>
                  <a:lnTo>
                    <a:pt x="561" y="346"/>
                  </a:lnTo>
                  <a:lnTo>
                    <a:pt x="573" y="335"/>
                  </a:lnTo>
                  <a:lnTo>
                    <a:pt x="582" y="321"/>
                  </a:lnTo>
                  <a:lnTo>
                    <a:pt x="594" y="312"/>
                  </a:lnTo>
                  <a:lnTo>
                    <a:pt x="606" y="301"/>
                  </a:lnTo>
                  <a:lnTo>
                    <a:pt x="613" y="289"/>
                  </a:lnTo>
                  <a:lnTo>
                    <a:pt x="625" y="279"/>
                  </a:lnTo>
                  <a:lnTo>
                    <a:pt x="633" y="271"/>
                  </a:lnTo>
                  <a:lnTo>
                    <a:pt x="645" y="260"/>
                  </a:lnTo>
                  <a:lnTo>
                    <a:pt x="652" y="248"/>
                  </a:lnTo>
                  <a:lnTo>
                    <a:pt x="664" y="238"/>
                  </a:lnTo>
                  <a:lnTo>
                    <a:pt x="672" y="230"/>
                  </a:lnTo>
                  <a:lnTo>
                    <a:pt x="683" y="220"/>
                  </a:lnTo>
                  <a:lnTo>
                    <a:pt x="692" y="211"/>
                  </a:lnTo>
                  <a:lnTo>
                    <a:pt x="704" y="200"/>
                  </a:lnTo>
                  <a:lnTo>
                    <a:pt x="712" y="193"/>
                  </a:lnTo>
                  <a:lnTo>
                    <a:pt x="720" y="184"/>
                  </a:lnTo>
                  <a:lnTo>
                    <a:pt x="729" y="175"/>
                  </a:lnTo>
                  <a:lnTo>
                    <a:pt x="741" y="165"/>
                  </a:lnTo>
                  <a:lnTo>
                    <a:pt x="749" y="157"/>
                  </a:lnTo>
                  <a:lnTo>
                    <a:pt x="757" y="148"/>
                  </a:lnTo>
                  <a:lnTo>
                    <a:pt x="768" y="143"/>
                  </a:lnTo>
                  <a:lnTo>
                    <a:pt x="772" y="136"/>
                  </a:lnTo>
                  <a:lnTo>
                    <a:pt x="781" y="127"/>
                  </a:lnTo>
                  <a:lnTo>
                    <a:pt x="789" y="119"/>
                  </a:lnTo>
                  <a:lnTo>
                    <a:pt x="798" y="111"/>
                  </a:lnTo>
                  <a:lnTo>
                    <a:pt x="807" y="102"/>
                  </a:lnTo>
                  <a:lnTo>
                    <a:pt x="813" y="99"/>
                  </a:lnTo>
                  <a:lnTo>
                    <a:pt x="821" y="90"/>
                  </a:lnTo>
                  <a:lnTo>
                    <a:pt x="831" y="85"/>
                  </a:lnTo>
                  <a:lnTo>
                    <a:pt x="836" y="78"/>
                  </a:lnTo>
                  <a:lnTo>
                    <a:pt x="842" y="72"/>
                  </a:lnTo>
                  <a:lnTo>
                    <a:pt x="857" y="60"/>
                  </a:lnTo>
                  <a:lnTo>
                    <a:pt x="868" y="49"/>
                  </a:lnTo>
                  <a:lnTo>
                    <a:pt x="880" y="39"/>
                  </a:lnTo>
                  <a:lnTo>
                    <a:pt x="890" y="34"/>
                  </a:lnTo>
                  <a:lnTo>
                    <a:pt x="899" y="26"/>
                  </a:lnTo>
                  <a:lnTo>
                    <a:pt x="907" y="17"/>
                  </a:lnTo>
                  <a:lnTo>
                    <a:pt x="914" y="14"/>
                  </a:lnTo>
                  <a:lnTo>
                    <a:pt x="920" y="11"/>
                  </a:lnTo>
                  <a:lnTo>
                    <a:pt x="928" y="2"/>
                  </a:lnTo>
                  <a:lnTo>
                    <a:pt x="928" y="2"/>
                  </a:lnTo>
                  <a:lnTo>
                    <a:pt x="928" y="2"/>
                  </a:lnTo>
                  <a:lnTo>
                    <a:pt x="932" y="0"/>
                  </a:lnTo>
                  <a:lnTo>
                    <a:pt x="943" y="4"/>
                  </a:lnTo>
                  <a:lnTo>
                    <a:pt x="956" y="5"/>
                  </a:lnTo>
                  <a:lnTo>
                    <a:pt x="971" y="18"/>
                  </a:lnTo>
                  <a:lnTo>
                    <a:pt x="976" y="21"/>
                  </a:lnTo>
                  <a:lnTo>
                    <a:pt x="985" y="29"/>
                  </a:lnTo>
                  <a:lnTo>
                    <a:pt x="993" y="37"/>
                  </a:lnTo>
                  <a:lnTo>
                    <a:pt x="998" y="47"/>
                  </a:lnTo>
                  <a:lnTo>
                    <a:pt x="1009" y="59"/>
                  </a:lnTo>
                  <a:lnTo>
                    <a:pt x="1012" y="74"/>
                  </a:lnTo>
                  <a:lnTo>
                    <a:pt x="1015" y="89"/>
                  </a:lnTo>
                  <a:lnTo>
                    <a:pt x="1018" y="109"/>
                  </a:lnTo>
                  <a:lnTo>
                    <a:pt x="1021" y="125"/>
                  </a:lnTo>
                  <a:lnTo>
                    <a:pt x="1020" y="146"/>
                  </a:lnTo>
                  <a:lnTo>
                    <a:pt x="1021" y="158"/>
                  </a:lnTo>
                  <a:lnTo>
                    <a:pt x="1022" y="170"/>
                  </a:lnTo>
                  <a:lnTo>
                    <a:pt x="1019" y="180"/>
                  </a:lnTo>
                  <a:lnTo>
                    <a:pt x="1018" y="193"/>
                  </a:lnTo>
                  <a:lnTo>
                    <a:pt x="1016" y="208"/>
                  </a:lnTo>
                  <a:lnTo>
                    <a:pt x="1013" y="217"/>
                  </a:lnTo>
                  <a:lnTo>
                    <a:pt x="1011" y="231"/>
                  </a:lnTo>
                  <a:lnTo>
                    <a:pt x="1006" y="246"/>
                  </a:lnTo>
                  <a:lnTo>
                    <a:pt x="1004" y="260"/>
                  </a:lnTo>
                  <a:lnTo>
                    <a:pt x="998" y="272"/>
                  </a:lnTo>
                  <a:lnTo>
                    <a:pt x="996" y="285"/>
                  </a:lnTo>
                  <a:lnTo>
                    <a:pt x="991" y="300"/>
                  </a:lnTo>
                  <a:lnTo>
                    <a:pt x="985" y="312"/>
                  </a:lnTo>
                  <a:lnTo>
                    <a:pt x="983" y="326"/>
                  </a:lnTo>
                  <a:lnTo>
                    <a:pt x="977" y="338"/>
                  </a:lnTo>
                  <a:lnTo>
                    <a:pt x="972" y="352"/>
                  </a:lnTo>
                  <a:lnTo>
                    <a:pt x="965" y="365"/>
                  </a:lnTo>
                  <a:lnTo>
                    <a:pt x="960" y="380"/>
                  </a:lnTo>
                  <a:lnTo>
                    <a:pt x="954" y="392"/>
                  </a:lnTo>
                  <a:lnTo>
                    <a:pt x="944" y="409"/>
                  </a:lnTo>
                  <a:lnTo>
                    <a:pt x="936" y="417"/>
                  </a:lnTo>
                  <a:lnTo>
                    <a:pt x="928" y="434"/>
                  </a:lnTo>
                  <a:lnTo>
                    <a:pt x="922" y="446"/>
                  </a:lnTo>
                  <a:lnTo>
                    <a:pt x="912" y="459"/>
                  </a:lnTo>
                  <a:lnTo>
                    <a:pt x="904" y="472"/>
                  </a:lnTo>
                  <a:lnTo>
                    <a:pt x="892" y="481"/>
                  </a:lnTo>
                  <a:lnTo>
                    <a:pt x="886" y="493"/>
                  </a:lnTo>
                  <a:lnTo>
                    <a:pt x="873" y="509"/>
                  </a:lnTo>
                  <a:lnTo>
                    <a:pt x="864" y="517"/>
                  </a:lnTo>
                  <a:lnTo>
                    <a:pt x="856" y="526"/>
                  </a:lnTo>
                  <a:lnTo>
                    <a:pt x="844" y="536"/>
                  </a:lnTo>
                  <a:lnTo>
                    <a:pt x="834" y="549"/>
                  </a:lnTo>
                  <a:lnTo>
                    <a:pt x="824" y="554"/>
                  </a:lnTo>
                  <a:lnTo>
                    <a:pt x="812" y="564"/>
                  </a:lnTo>
                  <a:lnTo>
                    <a:pt x="804" y="573"/>
                  </a:lnTo>
                  <a:lnTo>
                    <a:pt x="792" y="584"/>
                  </a:lnTo>
                  <a:lnTo>
                    <a:pt x="780" y="593"/>
                  </a:lnTo>
                  <a:lnTo>
                    <a:pt x="767" y="600"/>
                  </a:lnTo>
                  <a:lnTo>
                    <a:pt x="759" y="609"/>
                  </a:lnTo>
                  <a:lnTo>
                    <a:pt x="745" y="615"/>
                  </a:lnTo>
                  <a:lnTo>
                    <a:pt x="733" y="626"/>
                  </a:lnTo>
                  <a:lnTo>
                    <a:pt x="725" y="635"/>
                  </a:lnTo>
                  <a:lnTo>
                    <a:pt x="711" y="642"/>
                  </a:lnTo>
                  <a:lnTo>
                    <a:pt x="700" y="652"/>
                  </a:lnTo>
                  <a:lnTo>
                    <a:pt x="691" y="660"/>
                  </a:lnTo>
                  <a:lnTo>
                    <a:pt x="679" y="670"/>
                  </a:lnTo>
                  <a:lnTo>
                    <a:pt x="669" y="675"/>
                  </a:lnTo>
                  <a:lnTo>
                    <a:pt x="661" y="684"/>
                  </a:lnTo>
                  <a:lnTo>
                    <a:pt x="650" y="689"/>
                  </a:lnTo>
                  <a:lnTo>
                    <a:pt x="639" y="700"/>
                  </a:lnTo>
                  <a:lnTo>
                    <a:pt x="632" y="711"/>
                  </a:lnTo>
                  <a:lnTo>
                    <a:pt x="624" y="719"/>
                  </a:lnTo>
                  <a:lnTo>
                    <a:pt x="615" y="728"/>
                  </a:lnTo>
                  <a:lnTo>
                    <a:pt x="607" y="737"/>
                  </a:lnTo>
                  <a:lnTo>
                    <a:pt x="603" y="747"/>
                  </a:lnTo>
                  <a:lnTo>
                    <a:pt x="592" y="757"/>
                  </a:lnTo>
                  <a:lnTo>
                    <a:pt x="589" y="767"/>
                  </a:lnTo>
                  <a:lnTo>
                    <a:pt x="585" y="777"/>
                  </a:lnTo>
                  <a:lnTo>
                    <a:pt x="579" y="790"/>
                  </a:lnTo>
                  <a:lnTo>
                    <a:pt x="577" y="803"/>
                  </a:lnTo>
                  <a:lnTo>
                    <a:pt x="574" y="812"/>
                  </a:lnTo>
                  <a:lnTo>
                    <a:pt x="570" y="823"/>
                  </a:lnTo>
                  <a:lnTo>
                    <a:pt x="572" y="835"/>
                  </a:lnTo>
                  <a:lnTo>
                    <a:pt x="571" y="849"/>
                  </a:lnTo>
                  <a:lnTo>
                    <a:pt x="569" y="862"/>
                  </a:lnTo>
                  <a:lnTo>
                    <a:pt x="573" y="877"/>
                  </a:lnTo>
                  <a:lnTo>
                    <a:pt x="574" y="888"/>
                  </a:lnTo>
                  <a:lnTo>
                    <a:pt x="574" y="905"/>
                  </a:lnTo>
                  <a:lnTo>
                    <a:pt x="576" y="918"/>
                  </a:lnTo>
                  <a:lnTo>
                    <a:pt x="580" y="933"/>
                  </a:lnTo>
                  <a:lnTo>
                    <a:pt x="587" y="946"/>
                  </a:lnTo>
                  <a:lnTo>
                    <a:pt x="586" y="963"/>
                  </a:lnTo>
                  <a:lnTo>
                    <a:pt x="593" y="976"/>
                  </a:lnTo>
                  <a:lnTo>
                    <a:pt x="596" y="992"/>
                  </a:lnTo>
                  <a:lnTo>
                    <a:pt x="602" y="1010"/>
                  </a:lnTo>
                  <a:lnTo>
                    <a:pt x="609" y="1023"/>
                  </a:lnTo>
                  <a:lnTo>
                    <a:pt x="618" y="1040"/>
                  </a:lnTo>
                  <a:lnTo>
                    <a:pt x="621" y="1055"/>
                  </a:lnTo>
                  <a:lnTo>
                    <a:pt x="628" y="1069"/>
                  </a:lnTo>
                  <a:lnTo>
                    <a:pt x="636" y="1086"/>
                  </a:lnTo>
                  <a:lnTo>
                    <a:pt x="643" y="1099"/>
                  </a:lnTo>
                  <a:lnTo>
                    <a:pt x="652" y="1116"/>
                  </a:lnTo>
                  <a:lnTo>
                    <a:pt x="658" y="1129"/>
                  </a:lnTo>
                  <a:lnTo>
                    <a:pt x="663" y="1148"/>
                  </a:lnTo>
                  <a:lnTo>
                    <a:pt x="674" y="1160"/>
                  </a:lnTo>
                  <a:lnTo>
                    <a:pt x="681" y="1173"/>
                  </a:lnTo>
                  <a:lnTo>
                    <a:pt x="687" y="1186"/>
                  </a:lnTo>
                  <a:lnTo>
                    <a:pt x="696" y="1203"/>
                  </a:lnTo>
                  <a:lnTo>
                    <a:pt x="706" y="1215"/>
                  </a:lnTo>
                  <a:lnTo>
                    <a:pt x="713" y="1228"/>
                  </a:lnTo>
                  <a:lnTo>
                    <a:pt x="720" y="1243"/>
                  </a:lnTo>
                  <a:lnTo>
                    <a:pt x="729" y="1259"/>
                  </a:lnTo>
                  <a:lnTo>
                    <a:pt x="737" y="1268"/>
                  </a:lnTo>
                  <a:lnTo>
                    <a:pt x="747" y="1280"/>
                  </a:lnTo>
                  <a:lnTo>
                    <a:pt x="757" y="1291"/>
                  </a:lnTo>
                  <a:lnTo>
                    <a:pt x="762" y="1301"/>
                  </a:lnTo>
                  <a:lnTo>
                    <a:pt x="771" y="1310"/>
                  </a:lnTo>
                  <a:lnTo>
                    <a:pt x="778" y="1323"/>
                  </a:lnTo>
                  <a:lnTo>
                    <a:pt x="786" y="1332"/>
                  </a:lnTo>
                  <a:lnTo>
                    <a:pt x="796" y="1343"/>
                  </a:lnTo>
                  <a:lnTo>
                    <a:pt x="803" y="1349"/>
                  </a:lnTo>
                  <a:lnTo>
                    <a:pt x="814" y="1360"/>
                  </a:lnTo>
                  <a:lnTo>
                    <a:pt x="820" y="1365"/>
                  </a:lnTo>
                  <a:lnTo>
                    <a:pt x="827" y="1378"/>
                  </a:lnTo>
                  <a:lnTo>
                    <a:pt x="833" y="1384"/>
                  </a:lnTo>
                  <a:lnTo>
                    <a:pt x="838" y="1393"/>
                  </a:lnTo>
                  <a:lnTo>
                    <a:pt x="847" y="1402"/>
                  </a:lnTo>
                  <a:lnTo>
                    <a:pt x="856" y="1410"/>
                  </a:lnTo>
                  <a:lnTo>
                    <a:pt x="863" y="1416"/>
                  </a:lnTo>
                  <a:lnTo>
                    <a:pt x="868" y="1425"/>
                  </a:lnTo>
                  <a:lnTo>
                    <a:pt x="874" y="1430"/>
                  </a:lnTo>
                  <a:lnTo>
                    <a:pt x="879" y="1441"/>
                  </a:lnTo>
                  <a:lnTo>
                    <a:pt x="886" y="1446"/>
                  </a:lnTo>
                  <a:lnTo>
                    <a:pt x="895" y="1454"/>
                  </a:lnTo>
                  <a:lnTo>
                    <a:pt x="898" y="1461"/>
                  </a:lnTo>
                  <a:lnTo>
                    <a:pt x="903" y="1470"/>
                  </a:lnTo>
                  <a:lnTo>
                    <a:pt x="914" y="1483"/>
                  </a:lnTo>
                  <a:lnTo>
                    <a:pt x="922" y="1499"/>
                  </a:lnTo>
                  <a:lnTo>
                    <a:pt x="930" y="1513"/>
                  </a:lnTo>
                  <a:lnTo>
                    <a:pt x="931" y="1533"/>
                  </a:lnTo>
                  <a:lnTo>
                    <a:pt x="934" y="1549"/>
                  </a:lnTo>
                  <a:lnTo>
                    <a:pt x="938" y="1564"/>
                  </a:lnTo>
                  <a:lnTo>
                    <a:pt x="938" y="1581"/>
                  </a:lnTo>
                  <a:lnTo>
                    <a:pt x="935" y="1599"/>
                  </a:lnTo>
                  <a:lnTo>
                    <a:pt x="935" y="1616"/>
                  </a:lnTo>
                  <a:lnTo>
                    <a:pt x="932" y="1634"/>
                  </a:lnTo>
                  <a:lnTo>
                    <a:pt x="927" y="1649"/>
                  </a:lnTo>
                  <a:lnTo>
                    <a:pt x="920" y="1669"/>
                  </a:lnTo>
                  <a:lnTo>
                    <a:pt x="915" y="1686"/>
                  </a:lnTo>
                  <a:lnTo>
                    <a:pt x="910" y="1700"/>
                  </a:lnTo>
                  <a:lnTo>
                    <a:pt x="902" y="1717"/>
                  </a:lnTo>
                  <a:lnTo>
                    <a:pt x="894" y="1734"/>
                  </a:lnTo>
                  <a:lnTo>
                    <a:pt x="884" y="1747"/>
                  </a:lnTo>
                  <a:lnTo>
                    <a:pt x="873" y="1762"/>
                  </a:lnTo>
                  <a:lnTo>
                    <a:pt x="860" y="1776"/>
                  </a:lnTo>
                  <a:lnTo>
                    <a:pt x="848" y="1787"/>
                  </a:lnTo>
                  <a:lnTo>
                    <a:pt x="836" y="1797"/>
                  </a:lnTo>
                  <a:lnTo>
                    <a:pt x="824" y="1808"/>
                  </a:lnTo>
                  <a:lnTo>
                    <a:pt x="811" y="1814"/>
                  </a:lnTo>
                  <a:lnTo>
                    <a:pt x="798" y="1821"/>
                  </a:lnTo>
                  <a:lnTo>
                    <a:pt x="782" y="1824"/>
                  </a:lnTo>
                  <a:lnTo>
                    <a:pt x="773" y="1829"/>
                  </a:lnTo>
                  <a:lnTo>
                    <a:pt x="757" y="1833"/>
                  </a:lnTo>
                  <a:lnTo>
                    <a:pt x="741" y="1836"/>
                  </a:lnTo>
                  <a:lnTo>
                    <a:pt x="730" y="1839"/>
                  </a:lnTo>
                  <a:lnTo>
                    <a:pt x="717" y="1837"/>
                  </a:lnTo>
                  <a:lnTo>
                    <a:pt x="704" y="1838"/>
                  </a:lnTo>
                  <a:lnTo>
                    <a:pt x="689" y="1842"/>
                  </a:lnTo>
                  <a:lnTo>
                    <a:pt x="676" y="1840"/>
                  </a:lnTo>
                  <a:lnTo>
                    <a:pt x="663" y="1838"/>
                  </a:lnTo>
                  <a:lnTo>
                    <a:pt x="649" y="1837"/>
                  </a:lnTo>
                  <a:lnTo>
                    <a:pt x="637" y="1839"/>
                  </a:lnTo>
                  <a:lnTo>
                    <a:pt x="613" y="1834"/>
                  </a:lnTo>
                  <a:lnTo>
                    <a:pt x="593" y="1827"/>
                  </a:lnTo>
                  <a:lnTo>
                    <a:pt x="579" y="1823"/>
                  </a:lnTo>
                  <a:lnTo>
                    <a:pt x="559" y="1819"/>
                  </a:lnTo>
                  <a:lnTo>
                    <a:pt x="546" y="1818"/>
                  </a:lnTo>
                  <a:lnTo>
                    <a:pt x="536" y="1823"/>
                  </a:lnTo>
                  <a:lnTo>
                    <a:pt x="529" y="1834"/>
                  </a:lnTo>
                  <a:lnTo>
                    <a:pt x="521" y="1852"/>
                  </a:lnTo>
                  <a:lnTo>
                    <a:pt x="519" y="1882"/>
                  </a:lnTo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06840" y="3711600"/>
              <a:ext cx="5118120" cy="4751280"/>
            </a:xfrm>
            <a:custGeom>
              <a:avLst/>
              <a:gdLst/>
              <a:ahLst/>
              <a:rect l="l" t="t" r="r" b="b"/>
              <a:pathLst>
                <a:path w="2507" h="2327">
                  <a:moveTo>
                    <a:pt x="674" y="6"/>
                  </a:moveTo>
                  <a:cubicBezTo>
                    <a:pt x="841" y="0"/>
                    <a:pt x="1440" y="158"/>
                    <a:pt x="1745" y="363"/>
                  </a:cubicBezTo>
                  <a:cubicBezTo>
                    <a:pt x="2050" y="568"/>
                    <a:pt x="2374" y="1042"/>
                    <a:pt x="2501" y="1234"/>
                  </a:cubicBezTo>
                  <a:cubicBezTo>
                    <a:pt x="2502" y="1328"/>
                    <a:pt x="2507" y="1421"/>
                    <a:pt x="2505" y="1515"/>
                  </a:cubicBezTo>
                  <a:cubicBezTo>
                    <a:pt x="2504" y="1549"/>
                    <a:pt x="2492" y="1559"/>
                    <a:pt x="2459" y="1562"/>
                  </a:cubicBezTo>
                  <a:cubicBezTo>
                    <a:pt x="2394" y="1568"/>
                    <a:pt x="2328" y="1569"/>
                    <a:pt x="2263" y="1573"/>
                  </a:cubicBezTo>
                  <a:cubicBezTo>
                    <a:pt x="2240" y="1581"/>
                    <a:pt x="2211" y="1579"/>
                    <a:pt x="2194" y="1596"/>
                  </a:cubicBezTo>
                  <a:cubicBezTo>
                    <a:pt x="2169" y="1621"/>
                    <a:pt x="2178" y="1665"/>
                    <a:pt x="2171" y="1700"/>
                  </a:cubicBezTo>
                  <a:cubicBezTo>
                    <a:pt x="2161" y="1751"/>
                    <a:pt x="2141" y="1800"/>
                    <a:pt x="2125" y="1850"/>
                  </a:cubicBezTo>
                  <a:cubicBezTo>
                    <a:pt x="2114" y="1884"/>
                    <a:pt x="2102" y="1919"/>
                    <a:pt x="2091" y="1953"/>
                  </a:cubicBezTo>
                  <a:cubicBezTo>
                    <a:pt x="2087" y="1965"/>
                    <a:pt x="2083" y="1976"/>
                    <a:pt x="2079" y="1988"/>
                  </a:cubicBezTo>
                  <a:cubicBezTo>
                    <a:pt x="2075" y="1999"/>
                    <a:pt x="2068" y="2022"/>
                    <a:pt x="2068" y="2022"/>
                  </a:cubicBezTo>
                  <a:cubicBezTo>
                    <a:pt x="2051" y="2085"/>
                    <a:pt x="2331" y="2247"/>
                    <a:pt x="2137" y="2287"/>
                  </a:cubicBezTo>
                  <a:cubicBezTo>
                    <a:pt x="1943" y="2327"/>
                    <a:pt x="1119" y="2279"/>
                    <a:pt x="904" y="2264"/>
                  </a:cubicBezTo>
                  <a:cubicBezTo>
                    <a:pt x="880" y="2241"/>
                    <a:pt x="860" y="2226"/>
                    <a:pt x="846" y="2195"/>
                  </a:cubicBezTo>
                  <a:cubicBezTo>
                    <a:pt x="836" y="2173"/>
                    <a:pt x="840" y="2143"/>
                    <a:pt x="823" y="2126"/>
                  </a:cubicBezTo>
                  <a:cubicBezTo>
                    <a:pt x="744" y="2047"/>
                    <a:pt x="781" y="2075"/>
                    <a:pt x="720" y="2034"/>
                  </a:cubicBezTo>
                  <a:cubicBezTo>
                    <a:pt x="677" y="1969"/>
                    <a:pt x="722" y="2021"/>
                    <a:pt x="662" y="1988"/>
                  </a:cubicBezTo>
                  <a:cubicBezTo>
                    <a:pt x="527" y="1914"/>
                    <a:pt x="667" y="1948"/>
                    <a:pt x="455" y="1930"/>
                  </a:cubicBezTo>
                  <a:cubicBezTo>
                    <a:pt x="327" y="1890"/>
                    <a:pt x="147" y="1864"/>
                    <a:pt x="52" y="1769"/>
                  </a:cubicBezTo>
                  <a:cubicBezTo>
                    <a:pt x="30" y="1704"/>
                    <a:pt x="0" y="1701"/>
                    <a:pt x="28" y="1619"/>
                  </a:cubicBezTo>
                  <a:cubicBezTo>
                    <a:pt x="30" y="1613"/>
                    <a:pt x="90" y="1544"/>
                    <a:pt x="98" y="1538"/>
                  </a:cubicBezTo>
                  <a:cubicBezTo>
                    <a:pt x="120" y="1521"/>
                    <a:pt x="167" y="1492"/>
                    <a:pt x="167" y="1492"/>
                  </a:cubicBezTo>
                  <a:cubicBezTo>
                    <a:pt x="205" y="1436"/>
                    <a:pt x="229" y="1415"/>
                    <a:pt x="178" y="1320"/>
                  </a:cubicBezTo>
                  <a:cubicBezTo>
                    <a:pt x="167" y="1299"/>
                    <a:pt x="132" y="1312"/>
                    <a:pt x="109" y="1308"/>
                  </a:cubicBezTo>
                  <a:cubicBezTo>
                    <a:pt x="145" y="1130"/>
                    <a:pt x="93" y="1231"/>
                    <a:pt x="178" y="1170"/>
                  </a:cubicBezTo>
                  <a:cubicBezTo>
                    <a:pt x="191" y="1160"/>
                    <a:pt x="200" y="1145"/>
                    <a:pt x="213" y="1135"/>
                  </a:cubicBezTo>
                  <a:cubicBezTo>
                    <a:pt x="235" y="1118"/>
                    <a:pt x="282" y="1089"/>
                    <a:pt x="282" y="1089"/>
                  </a:cubicBezTo>
                  <a:cubicBezTo>
                    <a:pt x="313" y="1044"/>
                    <a:pt x="330" y="1050"/>
                    <a:pt x="374" y="1020"/>
                  </a:cubicBezTo>
                  <a:cubicBezTo>
                    <a:pt x="395" y="960"/>
                    <a:pt x="487" y="879"/>
                    <a:pt x="547" y="859"/>
                  </a:cubicBezTo>
                  <a:cubicBezTo>
                    <a:pt x="582" y="847"/>
                    <a:pt x="651" y="824"/>
                    <a:pt x="651" y="824"/>
                  </a:cubicBezTo>
                  <a:cubicBezTo>
                    <a:pt x="866" y="828"/>
                    <a:pt x="1081" y="821"/>
                    <a:pt x="1296" y="836"/>
                  </a:cubicBezTo>
                  <a:cubicBezTo>
                    <a:pt x="1300" y="836"/>
                    <a:pt x="1311" y="887"/>
                    <a:pt x="1319" y="916"/>
                  </a:cubicBezTo>
                  <a:cubicBezTo>
                    <a:pt x="1333" y="965"/>
                    <a:pt x="1324" y="945"/>
                    <a:pt x="1365" y="986"/>
                  </a:cubicBezTo>
                  <a:cubicBezTo>
                    <a:pt x="1373" y="1009"/>
                    <a:pt x="1380" y="1032"/>
                    <a:pt x="1388" y="1055"/>
                  </a:cubicBezTo>
                  <a:cubicBezTo>
                    <a:pt x="1392" y="1066"/>
                    <a:pt x="1391" y="1081"/>
                    <a:pt x="1399" y="1089"/>
                  </a:cubicBezTo>
                  <a:cubicBezTo>
                    <a:pt x="1476" y="1166"/>
                    <a:pt x="1536" y="1202"/>
                    <a:pt x="1641" y="1227"/>
                  </a:cubicBezTo>
                  <a:cubicBezTo>
                    <a:pt x="1699" y="1223"/>
                    <a:pt x="1762" y="1242"/>
                    <a:pt x="1814" y="1216"/>
                  </a:cubicBezTo>
                  <a:cubicBezTo>
                    <a:pt x="1835" y="1206"/>
                    <a:pt x="1812" y="1168"/>
                    <a:pt x="1803" y="1147"/>
                  </a:cubicBezTo>
                  <a:cubicBezTo>
                    <a:pt x="1788" y="1112"/>
                    <a:pt x="1763" y="1110"/>
                    <a:pt x="1733" y="1101"/>
                  </a:cubicBezTo>
                  <a:cubicBezTo>
                    <a:pt x="1722" y="1089"/>
                    <a:pt x="1713" y="1075"/>
                    <a:pt x="1699" y="1066"/>
                  </a:cubicBezTo>
                  <a:cubicBezTo>
                    <a:pt x="1689" y="1059"/>
                    <a:pt x="1674" y="1063"/>
                    <a:pt x="1664" y="1055"/>
                  </a:cubicBezTo>
                  <a:cubicBezTo>
                    <a:pt x="1653" y="1046"/>
                    <a:pt x="1653" y="1027"/>
                    <a:pt x="1641" y="1020"/>
                  </a:cubicBezTo>
                  <a:cubicBezTo>
                    <a:pt x="1620" y="1007"/>
                    <a:pt x="1572" y="997"/>
                    <a:pt x="1572" y="997"/>
                  </a:cubicBezTo>
                  <a:cubicBezTo>
                    <a:pt x="1517" y="915"/>
                    <a:pt x="1532" y="955"/>
                    <a:pt x="1515" y="882"/>
                  </a:cubicBezTo>
                  <a:cubicBezTo>
                    <a:pt x="1511" y="832"/>
                    <a:pt x="1519" y="780"/>
                    <a:pt x="1503" y="732"/>
                  </a:cubicBezTo>
                  <a:cubicBezTo>
                    <a:pt x="1494" y="706"/>
                    <a:pt x="1468" y="689"/>
                    <a:pt x="1445" y="674"/>
                  </a:cubicBezTo>
                  <a:cubicBezTo>
                    <a:pt x="1221" y="525"/>
                    <a:pt x="1358" y="605"/>
                    <a:pt x="869" y="594"/>
                  </a:cubicBezTo>
                  <a:cubicBezTo>
                    <a:pt x="831" y="569"/>
                    <a:pt x="815" y="538"/>
                    <a:pt x="777" y="513"/>
                  </a:cubicBezTo>
                  <a:cubicBezTo>
                    <a:pt x="749" y="429"/>
                    <a:pt x="760" y="468"/>
                    <a:pt x="743" y="398"/>
                  </a:cubicBezTo>
                  <a:cubicBezTo>
                    <a:pt x="754" y="39"/>
                    <a:pt x="507" y="12"/>
                    <a:pt x="674" y="6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V="1">
            <a:off x="7567560" y="3352320"/>
            <a:ext cx="768240" cy="1228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125840" y="4043520"/>
            <a:ext cx="460440" cy="75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337520" y="4043160"/>
            <a:ext cx="230040" cy="3841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lobal Warming and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635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1880" y="996840"/>
            <a:ext cx="86821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red radiation is emitted from the earth’s surface. Some of it passes through the atmosphere and some is absorbed and re-emitted in all directions by greenhouse gas molecules, water, and carbon dioxide.  The effect of this is to warm the earth’s surface and the lower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Warming and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1320" y="2253960"/>
            <a:ext cx="385092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air pollution relate to global warming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’t prove it do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do know that global warming is happening and that pollutants have the potential to trap heat in our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24400" y="2944800"/>
            <a:ext cx="648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fcde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81880" y="365904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cde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572000" y="1832040"/>
            <a:ext cx="4011120" cy="4096800"/>
            <a:chOff x="4572000" y="1832040"/>
            <a:chExt cx="4011120" cy="4096800"/>
          </a:xfrm>
        </p:grpSpPr>
        <p:sp>
          <p:nvSpPr>
            <p:cNvPr id="161" name=""/>
            <p:cNvSpPr/>
            <p:nvPr/>
          </p:nvSpPr>
          <p:spPr>
            <a:xfrm>
              <a:off x="4812480" y="2058120"/>
              <a:ext cx="3499920" cy="3587040"/>
            </a:xfrm>
            <a:custGeom>
              <a:avLst/>
              <a:gdLst/>
              <a:ahLst/>
              <a:rect l="l" t="t" r="r" b="b"/>
              <a:pathLst>
                <a:path w="1642" h="1683">
                  <a:moveTo>
                    <a:pt x="1265" y="1596"/>
                  </a:moveTo>
                  <a:lnTo>
                    <a:pt x="1265" y="1596"/>
                  </a:lnTo>
                  <a:lnTo>
                    <a:pt x="1269" y="1599"/>
                  </a:lnTo>
                  <a:lnTo>
                    <a:pt x="1269" y="1599"/>
                  </a:lnTo>
                  <a:lnTo>
                    <a:pt x="1265" y="1596"/>
                  </a:lnTo>
                  <a:lnTo>
                    <a:pt x="1265" y="1596"/>
                  </a:lnTo>
                  <a:close/>
                  <a:moveTo>
                    <a:pt x="1642" y="1082"/>
                  </a:moveTo>
                  <a:lnTo>
                    <a:pt x="1642" y="1082"/>
                  </a:lnTo>
                  <a:lnTo>
                    <a:pt x="1606" y="1065"/>
                  </a:lnTo>
                  <a:lnTo>
                    <a:pt x="1576" y="1049"/>
                  </a:lnTo>
                  <a:lnTo>
                    <a:pt x="1549" y="1029"/>
                  </a:lnTo>
                  <a:lnTo>
                    <a:pt x="1526" y="1009"/>
                  </a:lnTo>
                  <a:lnTo>
                    <a:pt x="1509" y="992"/>
                  </a:lnTo>
                  <a:lnTo>
                    <a:pt x="1496" y="972"/>
                  </a:lnTo>
                  <a:lnTo>
                    <a:pt x="1486" y="955"/>
                  </a:lnTo>
                  <a:lnTo>
                    <a:pt x="1479" y="935"/>
                  </a:lnTo>
                  <a:lnTo>
                    <a:pt x="1469" y="905"/>
                  </a:lnTo>
                  <a:lnTo>
                    <a:pt x="1469" y="878"/>
                  </a:lnTo>
                  <a:lnTo>
                    <a:pt x="1469" y="862"/>
                  </a:lnTo>
                  <a:lnTo>
                    <a:pt x="1469" y="858"/>
                  </a:lnTo>
                  <a:lnTo>
                    <a:pt x="1469" y="858"/>
                  </a:lnTo>
                  <a:lnTo>
                    <a:pt x="1472" y="828"/>
                  </a:lnTo>
                  <a:lnTo>
                    <a:pt x="1476" y="805"/>
                  </a:lnTo>
                  <a:lnTo>
                    <a:pt x="1482" y="782"/>
                  </a:lnTo>
                  <a:lnTo>
                    <a:pt x="1492" y="758"/>
                  </a:lnTo>
                  <a:lnTo>
                    <a:pt x="1506" y="738"/>
                  </a:lnTo>
                  <a:lnTo>
                    <a:pt x="1522" y="721"/>
                  </a:lnTo>
                  <a:lnTo>
                    <a:pt x="1552" y="688"/>
                  </a:lnTo>
                  <a:lnTo>
                    <a:pt x="1586" y="665"/>
                  </a:lnTo>
                  <a:lnTo>
                    <a:pt x="1612" y="645"/>
                  </a:lnTo>
                  <a:lnTo>
                    <a:pt x="1642" y="631"/>
                  </a:lnTo>
                  <a:lnTo>
                    <a:pt x="1642" y="631"/>
                  </a:lnTo>
                  <a:lnTo>
                    <a:pt x="1579" y="638"/>
                  </a:lnTo>
                  <a:lnTo>
                    <a:pt x="1529" y="635"/>
                  </a:lnTo>
                  <a:lnTo>
                    <a:pt x="1486" y="628"/>
                  </a:lnTo>
                  <a:lnTo>
                    <a:pt x="1452" y="615"/>
                  </a:lnTo>
                  <a:lnTo>
                    <a:pt x="1429" y="598"/>
                  </a:lnTo>
                  <a:lnTo>
                    <a:pt x="1412" y="578"/>
                  </a:lnTo>
                  <a:lnTo>
                    <a:pt x="1402" y="555"/>
                  </a:lnTo>
                  <a:lnTo>
                    <a:pt x="1395" y="531"/>
                  </a:lnTo>
                  <a:lnTo>
                    <a:pt x="1395" y="508"/>
                  </a:lnTo>
                  <a:lnTo>
                    <a:pt x="1395" y="484"/>
                  </a:lnTo>
                  <a:lnTo>
                    <a:pt x="1402" y="461"/>
                  </a:lnTo>
                  <a:lnTo>
                    <a:pt x="1409" y="441"/>
                  </a:lnTo>
                  <a:lnTo>
                    <a:pt x="1419" y="411"/>
                  </a:lnTo>
                  <a:lnTo>
                    <a:pt x="1426" y="398"/>
                  </a:lnTo>
                  <a:lnTo>
                    <a:pt x="1426" y="398"/>
                  </a:lnTo>
                  <a:lnTo>
                    <a:pt x="1369" y="404"/>
                  </a:lnTo>
                  <a:lnTo>
                    <a:pt x="1345" y="401"/>
                  </a:lnTo>
                  <a:lnTo>
                    <a:pt x="1325" y="401"/>
                  </a:lnTo>
                  <a:lnTo>
                    <a:pt x="1305" y="394"/>
                  </a:lnTo>
                  <a:lnTo>
                    <a:pt x="1289" y="391"/>
                  </a:lnTo>
                  <a:lnTo>
                    <a:pt x="1275" y="381"/>
                  </a:lnTo>
                  <a:lnTo>
                    <a:pt x="1262" y="374"/>
                  </a:lnTo>
                  <a:lnTo>
                    <a:pt x="1249" y="364"/>
                  </a:lnTo>
                  <a:lnTo>
                    <a:pt x="1242" y="354"/>
                  </a:lnTo>
                  <a:lnTo>
                    <a:pt x="1225" y="328"/>
                  </a:lnTo>
                  <a:lnTo>
                    <a:pt x="1219" y="301"/>
                  </a:lnTo>
                  <a:lnTo>
                    <a:pt x="1215" y="274"/>
                  </a:lnTo>
                  <a:lnTo>
                    <a:pt x="1215" y="244"/>
                  </a:lnTo>
                  <a:lnTo>
                    <a:pt x="1219" y="217"/>
                  </a:lnTo>
                  <a:lnTo>
                    <a:pt x="1229" y="164"/>
                  </a:lnTo>
                  <a:lnTo>
                    <a:pt x="1239" y="127"/>
                  </a:lnTo>
                  <a:lnTo>
                    <a:pt x="1245" y="114"/>
                  </a:lnTo>
                  <a:lnTo>
                    <a:pt x="1245" y="114"/>
                  </a:lnTo>
                  <a:lnTo>
                    <a:pt x="1209" y="144"/>
                  </a:lnTo>
                  <a:lnTo>
                    <a:pt x="1172" y="167"/>
                  </a:lnTo>
                  <a:lnTo>
                    <a:pt x="1138" y="187"/>
                  </a:lnTo>
                  <a:lnTo>
                    <a:pt x="1108" y="207"/>
                  </a:lnTo>
                  <a:lnTo>
                    <a:pt x="1078" y="217"/>
                  </a:lnTo>
                  <a:lnTo>
                    <a:pt x="1052" y="227"/>
                  </a:lnTo>
                  <a:lnTo>
                    <a:pt x="1025" y="234"/>
                  </a:lnTo>
                  <a:lnTo>
                    <a:pt x="1002" y="237"/>
                  </a:lnTo>
                  <a:lnTo>
                    <a:pt x="978" y="241"/>
                  </a:lnTo>
                  <a:lnTo>
                    <a:pt x="958" y="237"/>
                  </a:lnTo>
                  <a:lnTo>
                    <a:pt x="941" y="234"/>
                  </a:lnTo>
                  <a:lnTo>
                    <a:pt x="921" y="227"/>
                  </a:lnTo>
                  <a:lnTo>
                    <a:pt x="908" y="217"/>
                  </a:lnTo>
                  <a:lnTo>
                    <a:pt x="891" y="207"/>
                  </a:lnTo>
                  <a:lnTo>
                    <a:pt x="868" y="184"/>
                  </a:lnTo>
                  <a:lnTo>
                    <a:pt x="845" y="157"/>
                  </a:lnTo>
                  <a:lnTo>
                    <a:pt x="831" y="127"/>
                  </a:lnTo>
                  <a:lnTo>
                    <a:pt x="818" y="94"/>
                  </a:lnTo>
                  <a:lnTo>
                    <a:pt x="808" y="67"/>
                  </a:lnTo>
                  <a:lnTo>
                    <a:pt x="798" y="21"/>
                  </a:lnTo>
                  <a:lnTo>
                    <a:pt x="798" y="0"/>
                  </a:lnTo>
                  <a:lnTo>
                    <a:pt x="798" y="0"/>
                  </a:lnTo>
                  <a:lnTo>
                    <a:pt x="795" y="41"/>
                  </a:lnTo>
                  <a:lnTo>
                    <a:pt x="791" y="77"/>
                  </a:lnTo>
                  <a:lnTo>
                    <a:pt x="788" y="107"/>
                  </a:lnTo>
                  <a:lnTo>
                    <a:pt x="781" y="137"/>
                  </a:lnTo>
                  <a:lnTo>
                    <a:pt x="771" y="161"/>
                  </a:lnTo>
                  <a:lnTo>
                    <a:pt x="761" y="181"/>
                  </a:lnTo>
                  <a:lnTo>
                    <a:pt x="751" y="197"/>
                  </a:lnTo>
                  <a:lnTo>
                    <a:pt x="741" y="211"/>
                  </a:lnTo>
                  <a:lnTo>
                    <a:pt x="728" y="224"/>
                  </a:lnTo>
                  <a:lnTo>
                    <a:pt x="715" y="231"/>
                  </a:lnTo>
                  <a:lnTo>
                    <a:pt x="701" y="237"/>
                  </a:lnTo>
                  <a:lnTo>
                    <a:pt x="688" y="241"/>
                  </a:lnTo>
                  <a:lnTo>
                    <a:pt x="658" y="244"/>
                  </a:lnTo>
                  <a:lnTo>
                    <a:pt x="624" y="237"/>
                  </a:lnTo>
                  <a:lnTo>
                    <a:pt x="594" y="227"/>
                  </a:lnTo>
                  <a:lnTo>
                    <a:pt x="564" y="211"/>
                  </a:lnTo>
                  <a:lnTo>
                    <a:pt x="538" y="194"/>
                  </a:lnTo>
                  <a:lnTo>
                    <a:pt x="511" y="177"/>
                  </a:lnTo>
                  <a:lnTo>
                    <a:pt x="474" y="147"/>
                  </a:lnTo>
                  <a:lnTo>
                    <a:pt x="461" y="137"/>
                  </a:lnTo>
                  <a:lnTo>
                    <a:pt x="461" y="137"/>
                  </a:lnTo>
                  <a:lnTo>
                    <a:pt x="467" y="164"/>
                  </a:lnTo>
                  <a:lnTo>
                    <a:pt x="474" y="187"/>
                  </a:lnTo>
                  <a:lnTo>
                    <a:pt x="474" y="211"/>
                  </a:lnTo>
                  <a:lnTo>
                    <a:pt x="474" y="234"/>
                  </a:lnTo>
                  <a:lnTo>
                    <a:pt x="474" y="254"/>
                  </a:lnTo>
                  <a:lnTo>
                    <a:pt x="471" y="271"/>
                  </a:lnTo>
                  <a:lnTo>
                    <a:pt x="464" y="288"/>
                  </a:lnTo>
                  <a:lnTo>
                    <a:pt x="457" y="304"/>
                  </a:lnTo>
                  <a:lnTo>
                    <a:pt x="437" y="328"/>
                  </a:lnTo>
                  <a:lnTo>
                    <a:pt x="414" y="348"/>
                  </a:lnTo>
                  <a:lnTo>
                    <a:pt x="384" y="364"/>
                  </a:lnTo>
                  <a:lnTo>
                    <a:pt x="354" y="378"/>
                  </a:lnTo>
                  <a:lnTo>
                    <a:pt x="324" y="384"/>
                  </a:lnTo>
                  <a:lnTo>
                    <a:pt x="291" y="391"/>
                  </a:lnTo>
                  <a:lnTo>
                    <a:pt x="234" y="394"/>
                  </a:lnTo>
                  <a:lnTo>
                    <a:pt x="190" y="394"/>
                  </a:lnTo>
                  <a:lnTo>
                    <a:pt x="177" y="391"/>
                  </a:lnTo>
                  <a:lnTo>
                    <a:pt x="177" y="391"/>
                  </a:lnTo>
                  <a:lnTo>
                    <a:pt x="200" y="421"/>
                  </a:lnTo>
                  <a:lnTo>
                    <a:pt x="220" y="451"/>
                  </a:lnTo>
                  <a:lnTo>
                    <a:pt x="237" y="478"/>
                  </a:lnTo>
                  <a:lnTo>
                    <a:pt x="251" y="505"/>
                  </a:lnTo>
                  <a:lnTo>
                    <a:pt x="261" y="531"/>
                  </a:lnTo>
                  <a:lnTo>
                    <a:pt x="267" y="558"/>
                  </a:lnTo>
                  <a:lnTo>
                    <a:pt x="271" y="581"/>
                  </a:lnTo>
                  <a:lnTo>
                    <a:pt x="274" y="605"/>
                  </a:lnTo>
                  <a:lnTo>
                    <a:pt x="274" y="628"/>
                  </a:lnTo>
                  <a:lnTo>
                    <a:pt x="271" y="648"/>
                  </a:lnTo>
                  <a:lnTo>
                    <a:pt x="264" y="668"/>
                  </a:lnTo>
                  <a:lnTo>
                    <a:pt x="257" y="688"/>
                  </a:lnTo>
                  <a:lnTo>
                    <a:pt x="237" y="725"/>
                  </a:lnTo>
                  <a:lnTo>
                    <a:pt x="214" y="755"/>
                  </a:lnTo>
                  <a:lnTo>
                    <a:pt x="214" y="755"/>
                  </a:lnTo>
                  <a:lnTo>
                    <a:pt x="200" y="742"/>
                  </a:lnTo>
                  <a:lnTo>
                    <a:pt x="187" y="725"/>
                  </a:lnTo>
                  <a:lnTo>
                    <a:pt x="174" y="705"/>
                  </a:lnTo>
                  <a:lnTo>
                    <a:pt x="167" y="685"/>
                  </a:lnTo>
                  <a:lnTo>
                    <a:pt x="167" y="685"/>
                  </a:lnTo>
                  <a:lnTo>
                    <a:pt x="167" y="678"/>
                  </a:lnTo>
                  <a:lnTo>
                    <a:pt x="167" y="678"/>
                  </a:lnTo>
                  <a:lnTo>
                    <a:pt x="170" y="665"/>
                  </a:lnTo>
                  <a:lnTo>
                    <a:pt x="177" y="651"/>
                  </a:lnTo>
                  <a:lnTo>
                    <a:pt x="184" y="638"/>
                  </a:lnTo>
                  <a:lnTo>
                    <a:pt x="184" y="638"/>
                  </a:lnTo>
                  <a:lnTo>
                    <a:pt x="194" y="625"/>
                  </a:lnTo>
                  <a:lnTo>
                    <a:pt x="200" y="611"/>
                  </a:lnTo>
                  <a:lnTo>
                    <a:pt x="200" y="608"/>
                  </a:lnTo>
                  <a:lnTo>
                    <a:pt x="197" y="601"/>
                  </a:lnTo>
                  <a:lnTo>
                    <a:pt x="194" y="601"/>
                  </a:lnTo>
                  <a:lnTo>
                    <a:pt x="187" y="598"/>
                  </a:lnTo>
                  <a:lnTo>
                    <a:pt x="187" y="598"/>
                  </a:lnTo>
                  <a:lnTo>
                    <a:pt x="180" y="601"/>
                  </a:lnTo>
                  <a:lnTo>
                    <a:pt x="174" y="605"/>
                  </a:lnTo>
                  <a:lnTo>
                    <a:pt x="164" y="615"/>
                  </a:lnTo>
                  <a:lnTo>
                    <a:pt x="160" y="625"/>
                  </a:lnTo>
                  <a:lnTo>
                    <a:pt x="160" y="628"/>
                  </a:lnTo>
                  <a:lnTo>
                    <a:pt x="160" y="628"/>
                  </a:lnTo>
                  <a:lnTo>
                    <a:pt x="160" y="635"/>
                  </a:lnTo>
                  <a:lnTo>
                    <a:pt x="157" y="638"/>
                  </a:lnTo>
                  <a:lnTo>
                    <a:pt x="150" y="638"/>
                  </a:lnTo>
                  <a:lnTo>
                    <a:pt x="150" y="638"/>
                  </a:lnTo>
                  <a:lnTo>
                    <a:pt x="140" y="631"/>
                  </a:lnTo>
                  <a:lnTo>
                    <a:pt x="127" y="615"/>
                  </a:lnTo>
                  <a:lnTo>
                    <a:pt x="117" y="595"/>
                  </a:lnTo>
                  <a:lnTo>
                    <a:pt x="110" y="578"/>
                  </a:lnTo>
                  <a:lnTo>
                    <a:pt x="110" y="578"/>
                  </a:lnTo>
                  <a:lnTo>
                    <a:pt x="104" y="561"/>
                  </a:lnTo>
                  <a:lnTo>
                    <a:pt x="97" y="548"/>
                  </a:lnTo>
                  <a:lnTo>
                    <a:pt x="90" y="545"/>
                  </a:lnTo>
                  <a:lnTo>
                    <a:pt x="87" y="541"/>
                  </a:lnTo>
                  <a:lnTo>
                    <a:pt x="80" y="545"/>
                  </a:lnTo>
                  <a:lnTo>
                    <a:pt x="74" y="548"/>
                  </a:lnTo>
                  <a:lnTo>
                    <a:pt x="74" y="548"/>
                  </a:lnTo>
                  <a:lnTo>
                    <a:pt x="70" y="555"/>
                  </a:lnTo>
                  <a:lnTo>
                    <a:pt x="70" y="561"/>
                  </a:lnTo>
                  <a:lnTo>
                    <a:pt x="70" y="578"/>
                  </a:lnTo>
                  <a:lnTo>
                    <a:pt x="80" y="595"/>
                  </a:lnTo>
                  <a:lnTo>
                    <a:pt x="107" y="631"/>
                  </a:lnTo>
                  <a:lnTo>
                    <a:pt x="107" y="631"/>
                  </a:lnTo>
                  <a:lnTo>
                    <a:pt x="107" y="635"/>
                  </a:lnTo>
                  <a:lnTo>
                    <a:pt x="104" y="638"/>
                  </a:lnTo>
                  <a:lnTo>
                    <a:pt x="94" y="631"/>
                  </a:lnTo>
                  <a:lnTo>
                    <a:pt x="94" y="631"/>
                  </a:lnTo>
                  <a:lnTo>
                    <a:pt x="77" y="621"/>
                  </a:lnTo>
                  <a:lnTo>
                    <a:pt x="64" y="608"/>
                  </a:lnTo>
                  <a:lnTo>
                    <a:pt x="57" y="598"/>
                  </a:lnTo>
                  <a:lnTo>
                    <a:pt x="54" y="585"/>
                  </a:lnTo>
                  <a:lnTo>
                    <a:pt x="54" y="585"/>
                  </a:lnTo>
                  <a:lnTo>
                    <a:pt x="47" y="571"/>
                  </a:lnTo>
                  <a:lnTo>
                    <a:pt x="40" y="561"/>
                  </a:lnTo>
                  <a:lnTo>
                    <a:pt x="34" y="558"/>
                  </a:lnTo>
                  <a:lnTo>
                    <a:pt x="27" y="558"/>
                  </a:lnTo>
                  <a:lnTo>
                    <a:pt x="27" y="558"/>
                  </a:lnTo>
                  <a:lnTo>
                    <a:pt x="20" y="561"/>
                  </a:lnTo>
                  <a:lnTo>
                    <a:pt x="14" y="568"/>
                  </a:lnTo>
                  <a:lnTo>
                    <a:pt x="14" y="578"/>
                  </a:lnTo>
                  <a:lnTo>
                    <a:pt x="20" y="591"/>
                  </a:lnTo>
                  <a:lnTo>
                    <a:pt x="20" y="591"/>
                  </a:lnTo>
                  <a:lnTo>
                    <a:pt x="27" y="605"/>
                  </a:lnTo>
                  <a:lnTo>
                    <a:pt x="40" y="618"/>
                  </a:lnTo>
                  <a:lnTo>
                    <a:pt x="57" y="638"/>
                  </a:lnTo>
                  <a:lnTo>
                    <a:pt x="84" y="658"/>
                  </a:lnTo>
                  <a:lnTo>
                    <a:pt x="84" y="658"/>
                  </a:lnTo>
                  <a:lnTo>
                    <a:pt x="90" y="661"/>
                  </a:lnTo>
                  <a:lnTo>
                    <a:pt x="90" y="668"/>
                  </a:lnTo>
                  <a:lnTo>
                    <a:pt x="80" y="668"/>
                  </a:lnTo>
                  <a:lnTo>
                    <a:pt x="80" y="668"/>
                  </a:lnTo>
                  <a:lnTo>
                    <a:pt x="67" y="668"/>
                  </a:lnTo>
                  <a:lnTo>
                    <a:pt x="54" y="665"/>
                  </a:lnTo>
                  <a:lnTo>
                    <a:pt x="40" y="658"/>
                  </a:lnTo>
                  <a:lnTo>
                    <a:pt x="30" y="648"/>
                  </a:lnTo>
                  <a:lnTo>
                    <a:pt x="30" y="648"/>
                  </a:lnTo>
                  <a:lnTo>
                    <a:pt x="20" y="638"/>
                  </a:lnTo>
                  <a:lnTo>
                    <a:pt x="10" y="638"/>
                  </a:lnTo>
                  <a:lnTo>
                    <a:pt x="4" y="641"/>
                  </a:lnTo>
                  <a:lnTo>
                    <a:pt x="4" y="641"/>
                  </a:lnTo>
                  <a:lnTo>
                    <a:pt x="0" y="645"/>
                  </a:lnTo>
                  <a:lnTo>
                    <a:pt x="0" y="655"/>
                  </a:lnTo>
                  <a:lnTo>
                    <a:pt x="0" y="658"/>
                  </a:lnTo>
                  <a:lnTo>
                    <a:pt x="4" y="665"/>
                  </a:lnTo>
                  <a:lnTo>
                    <a:pt x="7" y="668"/>
                  </a:lnTo>
                  <a:lnTo>
                    <a:pt x="17" y="671"/>
                  </a:lnTo>
                  <a:lnTo>
                    <a:pt x="17" y="671"/>
                  </a:lnTo>
                  <a:lnTo>
                    <a:pt x="60" y="691"/>
                  </a:lnTo>
                  <a:lnTo>
                    <a:pt x="90" y="698"/>
                  </a:lnTo>
                  <a:lnTo>
                    <a:pt x="107" y="701"/>
                  </a:lnTo>
                  <a:lnTo>
                    <a:pt x="124" y="701"/>
                  </a:lnTo>
                  <a:lnTo>
                    <a:pt x="124" y="701"/>
                  </a:lnTo>
                  <a:lnTo>
                    <a:pt x="137" y="698"/>
                  </a:lnTo>
                  <a:lnTo>
                    <a:pt x="137" y="698"/>
                  </a:lnTo>
                  <a:lnTo>
                    <a:pt x="144" y="715"/>
                  </a:lnTo>
                  <a:lnTo>
                    <a:pt x="154" y="735"/>
                  </a:lnTo>
                  <a:lnTo>
                    <a:pt x="170" y="758"/>
                  </a:lnTo>
                  <a:lnTo>
                    <a:pt x="190" y="782"/>
                  </a:lnTo>
                  <a:lnTo>
                    <a:pt x="190" y="782"/>
                  </a:lnTo>
                  <a:lnTo>
                    <a:pt x="164" y="805"/>
                  </a:lnTo>
                  <a:lnTo>
                    <a:pt x="137" y="825"/>
                  </a:lnTo>
                  <a:lnTo>
                    <a:pt x="87" y="855"/>
                  </a:lnTo>
                  <a:lnTo>
                    <a:pt x="47" y="875"/>
                  </a:lnTo>
                  <a:lnTo>
                    <a:pt x="34" y="878"/>
                  </a:lnTo>
                  <a:lnTo>
                    <a:pt x="34" y="878"/>
                  </a:lnTo>
                  <a:lnTo>
                    <a:pt x="100" y="895"/>
                  </a:lnTo>
                  <a:lnTo>
                    <a:pt x="130" y="902"/>
                  </a:lnTo>
                  <a:lnTo>
                    <a:pt x="154" y="912"/>
                  </a:lnTo>
                  <a:lnTo>
                    <a:pt x="174" y="922"/>
                  </a:lnTo>
                  <a:lnTo>
                    <a:pt x="190" y="932"/>
                  </a:lnTo>
                  <a:lnTo>
                    <a:pt x="207" y="945"/>
                  </a:lnTo>
                  <a:lnTo>
                    <a:pt x="217" y="955"/>
                  </a:lnTo>
                  <a:lnTo>
                    <a:pt x="227" y="968"/>
                  </a:lnTo>
                  <a:lnTo>
                    <a:pt x="234" y="982"/>
                  </a:lnTo>
                  <a:lnTo>
                    <a:pt x="237" y="995"/>
                  </a:lnTo>
                  <a:lnTo>
                    <a:pt x="241" y="1012"/>
                  </a:lnTo>
                  <a:lnTo>
                    <a:pt x="237" y="1039"/>
                  </a:lnTo>
                  <a:lnTo>
                    <a:pt x="230" y="1069"/>
                  </a:lnTo>
                  <a:lnTo>
                    <a:pt x="217" y="1095"/>
                  </a:lnTo>
                  <a:lnTo>
                    <a:pt x="200" y="1122"/>
                  </a:lnTo>
                  <a:lnTo>
                    <a:pt x="184" y="1145"/>
                  </a:lnTo>
                  <a:lnTo>
                    <a:pt x="167" y="1165"/>
                  </a:lnTo>
                  <a:lnTo>
                    <a:pt x="137" y="1199"/>
                  </a:lnTo>
                  <a:lnTo>
                    <a:pt x="124" y="1209"/>
                  </a:lnTo>
                  <a:lnTo>
                    <a:pt x="124" y="1209"/>
                  </a:lnTo>
                  <a:lnTo>
                    <a:pt x="154" y="1205"/>
                  </a:lnTo>
                  <a:lnTo>
                    <a:pt x="184" y="1205"/>
                  </a:lnTo>
                  <a:lnTo>
                    <a:pt x="207" y="1205"/>
                  </a:lnTo>
                  <a:lnTo>
                    <a:pt x="230" y="1209"/>
                  </a:lnTo>
                  <a:lnTo>
                    <a:pt x="251" y="1212"/>
                  </a:lnTo>
                  <a:lnTo>
                    <a:pt x="271" y="1219"/>
                  </a:lnTo>
                  <a:lnTo>
                    <a:pt x="284" y="1229"/>
                  </a:lnTo>
                  <a:lnTo>
                    <a:pt x="297" y="1239"/>
                  </a:lnTo>
                  <a:lnTo>
                    <a:pt x="311" y="1249"/>
                  </a:lnTo>
                  <a:lnTo>
                    <a:pt x="317" y="1262"/>
                  </a:lnTo>
                  <a:lnTo>
                    <a:pt x="331" y="1292"/>
                  </a:lnTo>
                  <a:lnTo>
                    <a:pt x="341" y="1322"/>
                  </a:lnTo>
                  <a:lnTo>
                    <a:pt x="341" y="1356"/>
                  </a:lnTo>
                  <a:lnTo>
                    <a:pt x="337" y="1392"/>
                  </a:lnTo>
                  <a:lnTo>
                    <a:pt x="334" y="1426"/>
                  </a:lnTo>
                  <a:lnTo>
                    <a:pt x="317" y="1486"/>
                  </a:lnTo>
                  <a:lnTo>
                    <a:pt x="304" y="1533"/>
                  </a:lnTo>
                  <a:lnTo>
                    <a:pt x="294" y="1549"/>
                  </a:lnTo>
                  <a:lnTo>
                    <a:pt x="294" y="1549"/>
                  </a:lnTo>
                  <a:lnTo>
                    <a:pt x="324" y="1516"/>
                  </a:lnTo>
                  <a:lnTo>
                    <a:pt x="347" y="1486"/>
                  </a:lnTo>
                  <a:lnTo>
                    <a:pt x="374" y="1463"/>
                  </a:lnTo>
                  <a:lnTo>
                    <a:pt x="397" y="1442"/>
                  </a:lnTo>
                  <a:lnTo>
                    <a:pt x="421" y="1426"/>
                  </a:lnTo>
                  <a:lnTo>
                    <a:pt x="441" y="1416"/>
                  </a:lnTo>
                  <a:lnTo>
                    <a:pt x="461" y="1406"/>
                  </a:lnTo>
                  <a:lnTo>
                    <a:pt x="481" y="1402"/>
                  </a:lnTo>
                  <a:lnTo>
                    <a:pt x="501" y="1399"/>
                  </a:lnTo>
                  <a:lnTo>
                    <a:pt x="518" y="1402"/>
                  </a:lnTo>
                  <a:lnTo>
                    <a:pt x="531" y="1406"/>
                  </a:lnTo>
                  <a:lnTo>
                    <a:pt x="548" y="1412"/>
                  </a:lnTo>
                  <a:lnTo>
                    <a:pt x="561" y="1419"/>
                  </a:lnTo>
                  <a:lnTo>
                    <a:pt x="574" y="1429"/>
                  </a:lnTo>
                  <a:lnTo>
                    <a:pt x="598" y="1452"/>
                  </a:lnTo>
                  <a:lnTo>
                    <a:pt x="618" y="1483"/>
                  </a:lnTo>
                  <a:lnTo>
                    <a:pt x="634" y="1513"/>
                  </a:lnTo>
                  <a:lnTo>
                    <a:pt x="648" y="1546"/>
                  </a:lnTo>
                  <a:lnTo>
                    <a:pt x="658" y="1576"/>
                  </a:lnTo>
                  <a:lnTo>
                    <a:pt x="671" y="1626"/>
                  </a:lnTo>
                  <a:lnTo>
                    <a:pt x="678" y="1646"/>
                  </a:lnTo>
                  <a:lnTo>
                    <a:pt x="678" y="1646"/>
                  </a:lnTo>
                  <a:lnTo>
                    <a:pt x="698" y="1569"/>
                  </a:lnTo>
                  <a:lnTo>
                    <a:pt x="708" y="1543"/>
                  </a:lnTo>
                  <a:lnTo>
                    <a:pt x="718" y="1516"/>
                  </a:lnTo>
                  <a:lnTo>
                    <a:pt x="731" y="1496"/>
                  </a:lnTo>
                  <a:lnTo>
                    <a:pt x="741" y="1479"/>
                  </a:lnTo>
                  <a:lnTo>
                    <a:pt x="755" y="1466"/>
                  </a:lnTo>
                  <a:lnTo>
                    <a:pt x="768" y="1459"/>
                  </a:lnTo>
                  <a:lnTo>
                    <a:pt x="778" y="1452"/>
                  </a:lnTo>
                  <a:lnTo>
                    <a:pt x="791" y="1452"/>
                  </a:lnTo>
                  <a:lnTo>
                    <a:pt x="805" y="1452"/>
                  </a:lnTo>
                  <a:lnTo>
                    <a:pt x="815" y="1456"/>
                  </a:lnTo>
                  <a:lnTo>
                    <a:pt x="838" y="1473"/>
                  </a:lnTo>
                  <a:lnTo>
                    <a:pt x="861" y="1493"/>
                  </a:lnTo>
                  <a:lnTo>
                    <a:pt x="885" y="1519"/>
                  </a:lnTo>
                  <a:lnTo>
                    <a:pt x="905" y="1549"/>
                  </a:lnTo>
                  <a:lnTo>
                    <a:pt x="938" y="1613"/>
                  </a:lnTo>
                  <a:lnTo>
                    <a:pt x="962" y="1663"/>
                  </a:lnTo>
                  <a:lnTo>
                    <a:pt x="968" y="1683"/>
                  </a:lnTo>
                  <a:lnTo>
                    <a:pt x="968" y="1683"/>
                  </a:lnTo>
                  <a:lnTo>
                    <a:pt x="968" y="1606"/>
                  </a:lnTo>
                  <a:lnTo>
                    <a:pt x="972" y="1546"/>
                  </a:lnTo>
                  <a:lnTo>
                    <a:pt x="975" y="1519"/>
                  </a:lnTo>
                  <a:lnTo>
                    <a:pt x="982" y="1499"/>
                  </a:lnTo>
                  <a:lnTo>
                    <a:pt x="988" y="1483"/>
                  </a:lnTo>
                  <a:lnTo>
                    <a:pt x="998" y="1469"/>
                  </a:lnTo>
                  <a:lnTo>
                    <a:pt x="1008" y="1456"/>
                  </a:lnTo>
                  <a:lnTo>
                    <a:pt x="1018" y="1449"/>
                  </a:lnTo>
                  <a:lnTo>
                    <a:pt x="1028" y="1442"/>
                  </a:lnTo>
                  <a:lnTo>
                    <a:pt x="1042" y="1439"/>
                  </a:lnTo>
                  <a:lnTo>
                    <a:pt x="1052" y="1439"/>
                  </a:lnTo>
                  <a:lnTo>
                    <a:pt x="1065" y="1442"/>
                  </a:lnTo>
                  <a:lnTo>
                    <a:pt x="1092" y="1449"/>
                  </a:lnTo>
                  <a:lnTo>
                    <a:pt x="1118" y="1463"/>
                  </a:lnTo>
                  <a:lnTo>
                    <a:pt x="1148" y="1483"/>
                  </a:lnTo>
                  <a:lnTo>
                    <a:pt x="1172" y="1503"/>
                  </a:lnTo>
                  <a:lnTo>
                    <a:pt x="1199" y="1526"/>
                  </a:lnTo>
                  <a:lnTo>
                    <a:pt x="1239" y="1569"/>
                  </a:lnTo>
                  <a:lnTo>
                    <a:pt x="1265" y="1596"/>
                  </a:lnTo>
                  <a:lnTo>
                    <a:pt x="1265" y="1596"/>
                  </a:lnTo>
                  <a:lnTo>
                    <a:pt x="1249" y="1573"/>
                  </a:lnTo>
                  <a:lnTo>
                    <a:pt x="1239" y="1553"/>
                  </a:lnTo>
                  <a:lnTo>
                    <a:pt x="1225" y="1526"/>
                  </a:lnTo>
                  <a:lnTo>
                    <a:pt x="1219" y="1496"/>
                  </a:lnTo>
                  <a:lnTo>
                    <a:pt x="1212" y="1463"/>
                  </a:lnTo>
                  <a:lnTo>
                    <a:pt x="1212" y="1426"/>
                  </a:lnTo>
                  <a:lnTo>
                    <a:pt x="1215" y="1382"/>
                  </a:lnTo>
                  <a:lnTo>
                    <a:pt x="1215" y="1382"/>
                  </a:lnTo>
                  <a:lnTo>
                    <a:pt x="1222" y="1359"/>
                  </a:lnTo>
                  <a:lnTo>
                    <a:pt x="1232" y="1342"/>
                  </a:lnTo>
                  <a:lnTo>
                    <a:pt x="1249" y="1332"/>
                  </a:lnTo>
                  <a:lnTo>
                    <a:pt x="1265" y="1326"/>
                  </a:lnTo>
                  <a:lnTo>
                    <a:pt x="1285" y="1322"/>
                  </a:lnTo>
                  <a:lnTo>
                    <a:pt x="1309" y="1322"/>
                  </a:lnTo>
                  <a:lnTo>
                    <a:pt x="1332" y="1322"/>
                  </a:lnTo>
                  <a:lnTo>
                    <a:pt x="1355" y="1329"/>
                  </a:lnTo>
                  <a:lnTo>
                    <a:pt x="1402" y="1342"/>
                  </a:lnTo>
                  <a:lnTo>
                    <a:pt x="1442" y="1356"/>
                  </a:lnTo>
                  <a:lnTo>
                    <a:pt x="1482" y="1372"/>
                  </a:lnTo>
                  <a:lnTo>
                    <a:pt x="1482" y="1372"/>
                  </a:lnTo>
                  <a:lnTo>
                    <a:pt x="1442" y="1326"/>
                  </a:lnTo>
                  <a:lnTo>
                    <a:pt x="1415" y="1282"/>
                  </a:lnTo>
                  <a:lnTo>
                    <a:pt x="1395" y="1242"/>
                  </a:lnTo>
                  <a:lnTo>
                    <a:pt x="1382" y="1209"/>
                  </a:lnTo>
                  <a:lnTo>
                    <a:pt x="1382" y="1209"/>
                  </a:lnTo>
                  <a:lnTo>
                    <a:pt x="1419" y="1202"/>
                  </a:lnTo>
                  <a:lnTo>
                    <a:pt x="1442" y="1192"/>
                  </a:lnTo>
                  <a:lnTo>
                    <a:pt x="1442" y="1192"/>
                  </a:lnTo>
                  <a:lnTo>
                    <a:pt x="1449" y="1202"/>
                  </a:lnTo>
                  <a:lnTo>
                    <a:pt x="1449" y="1202"/>
                  </a:lnTo>
                  <a:lnTo>
                    <a:pt x="1459" y="1209"/>
                  </a:lnTo>
                  <a:lnTo>
                    <a:pt x="1472" y="1219"/>
                  </a:lnTo>
                  <a:lnTo>
                    <a:pt x="1496" y="1229"/>
                  </a:lnTo>
                  <a:lnTo>
                    <a:pt x="1532" y="1242"/>
                  </a:lnTo>
                  <a:lnTo>
                    <a:pt x="1532" y="1242"/>
                  </a:lnTo>
                  <a:lnTo>
                    <a:pt x="1539" y="1246"/>
                  </a:lnTo>
                  <a:lnTo>
                    <a:pt x="1546" y="1246"/>
                  </a:lnTo>
                  <a:lnTo>
                    <a:pt x="1552" y="1242"/>
                  </a:lnTo>
                  <a:lnTo>
                    <a:pt x="1556" y="1236"/>
                  </a:lnTo>
                  <a:lnTo>
                    <a:pt x="1559" y="1232"/>
                  </a:lnTo>
                  <a:lnTo>
                    <a:pt x="1559" y="1232"/>
                  </a:lnTo>
                  <a:lnTo>
                    <a:pt x="1556" y="1226"/>
                  </a:lnTo>
                  <a:lnTo>
                    <a:pt x="1549" y="1222"/>
                  </a:lnTo>
                  <a:lnTo>
                    <a:pt x="1539" y="1222"/>
                  </a:lnTo>
                  <a:lnTo>
                    <a:pt x="1539" y="1222"/>
                  </a:lnTo>
                  <a:lnTo>
                    <a:pt x="1526" y="1222"/>
                  </a:lnTo>
                  <a:lnTo>
                    <a:pt x="1512" y="1219"/>
                  </a:lnTo>
                  <a:lnTo>
                    <a:pt x="1502" y="1212"/>
                  </a:lnTo>
                  <a:lnTo>
                    <a:pt x="1496" y="1205"/>
                  </a:lnTo>
                  <a:lnTo>
                    <a:pt x="1496" y="1205"/>
                  </a:lnTo>
                  <a:lnTo>
                    <a:pt x="1489" y="1199"/>
                  </a:lnTo>
                  <a:lnTo>
                    <a:pt x="1492" y="1195"/>
                  </a:lnTo>
                  <a:lnTo>
                    <a:pt x="1499" y="1195"/>
                  </a:lnTo>
                  <a:lnTo>
                    <a:pt x="1499" y="1195"/>
                  </a:lnTo>
                  <a:lnTo>
                    <a:pt x="1526" y="1199"/>
                  </a:lnTo>
                  <a:lnTo>
                    <a:pt x="1549" y="1195"/>
                  </a:lnTo>
                  <a:lnTo>
                    <a:pt x="1566" y="1195"/>
                  </a:lnTo>
                  <a:lnTo>
                    <a:pt x="1576" y="1189"/>
                  </a:lnTo>
                  <a:lnTo>
                    <a:pt x="1576" y="1189"/>
                  </a:lnTo>
                  <a:lnTo>
                    <a:pt x="1586" y="1185"/>
                  </a:lnTo>
                  <a:lnTo>
                    <a:pt x="1592" y="1179"/>
                  </a:lnTo>
                  <a:lnTo>
                    <a:pt x="1592" y="1172"/>
                  </a:lnTo>
                  <a:lnTo>
                    <a:pt x="1592" y="1165"/>
                  </a:lnTo>
                  <a:lnTo>
                    <a:pt x="1592" y="1165"/>
                  </a:lnTo>
                  <a:lnTo>
                    <a:pt x="1586" y="1162"/>
                  </a:lnTo>
                  <a:lnTo>
                    <a:pt x="1579" y="1162"/>
                  </a:lnTo>
                  <a:lnTo>
                    <a:pt x="1569" y="1162"/>
                  </a:lnTo>
                  <a:lnTo>
                    <a:pt x="1559" y="1169"/>
                  </a:lnTo>
                  <a:lnTo>
                    <a:pt x="1559" y="1169"/>
                  </a:lnTo>
                  <a:lnTo>
                    <a:pt x="1549" y="1172"/>
                  </a:lnTo>
                  <a:lnTo>
                    <a:pt x="1539" y="1175"/>
                  </a:lnTo>
                  <a:lnTo>
                    <a:pt x="1526" y="1175"/>
                  </a:lnTo>
                  <a:lnTo>
                    <a:pt x="1509" y="1175"/>
                  </a:lnTo>
                  <a:lnTo>
                    <a:pt x="1509" y="1175"/>
                  </a:lnTo>
                  <a:lnTo>
                    <a:pt x="1499" y="1172"/>
                  </a:lnTo>
                  <a:lnTo>
                    <a:pt x="1499" y="1169"/>
                  </a:lnTo>
                  <a:lnTo>
                    <a:pt x="1502" y="1165"/>
                  </a:lnTo>
                  <a:lnTo>
                    <a:pt x="1536" y="1159"/>
                  </a:lnTo>
                  <a:lnTo>
                    <a:pt x="1536" y="1159"/>
                  </a:lnTo>
                  <a:lnTo>
                    <a:pt x="1552" y="1152"/>
                  </a:lnTo>
                  <a:lnTo>
                    <a:pt x="1562" y="1145"/>
                  </a:lnTo>
                  <a:lnTo>
                    <a:pt x="1566" y="1139"/>
                  </a:lnTo>
                  <a:lnTo>
                    <a:pt x="1566" y="1132"/>
                  </a:lnTo>
                  <a:lnTo>
                    <a:pt x="1566" y="1132"/>
                  </a:lnTo>
                  <a:lnTo>
                    <a:pt x="1566" y="1125"/>
                  </a:lnTo>
                  <a:lnTo>
                    <a:pt x="1562" y="1122"/>
                  </a:lnTo>
                  <a:lnTo>
                    <a:pt x="1552" y="1122"/>
                  </a:lnTo>
                  <a:lnTo>
                    <a:pt x="1542" y="1125"/>
                  </a:lnTo>
                  <a:lnTo>
                    <a:pt x="1529" y="1132"/>
                  </a:lnTo>
                  <a:lnTo>
                    <a:pt x="1529" y="1132"/>
                  </a:lnTo>
                  <a:lnTo>
                    <a:pt x="1512" y="1139"/>
                  </a:lnTo>
                  <a:lnTo>
                    <a:pt x="1496" y="1145"/>
                  </a:lnTo>
                  <a:lnTo>
                    <a:pt x="1479" y="1149"/>
                  </a:lnTo>
                  <a:lnTo>
                    <a:pt x="1469" y="1145"/>
                  </a:lnTo>
                  <a:lnTo>
                    <a:pt x="1469" y="1145"/>
                  </a:lnTo>
                  <a:lnTo>
                    <a:pt x="1466" y="1142"/>
                  </a:lnTo>
                  <a:lnTo>
                    <a:pt x="1466" y="1139"/>
                  </a:lnTo>
                  <a:lnTo>
                    <a:pt x="1469" y="1135"/>
                  </a:lnTo>
                  <a:lnTo>
                    <a:pt x="1469" y="1135"/>
                  </a:lnTo>
                  <a:lnTo>
                    <a:pt x="1472" y="1122"/>
                  </a:lnTo>
                  <a:lnTo>
                    <a:pt x="1476" y="1112"/>
                  </a:lnTo>
                  <a:lnTo>
                    <a:pt x="1472" y="1105"/>
                  </a:lnTo>
                  <a:lnTo>
                    <a:pt x="1469" y="1102"/>
                  </a:lnTo>
                  <a:lnTo>
                    <a:pt x="1469" y="1102"/>
                  </a:lnTo>
                  <a:lnTo>
                    <a:pt x="1459" y="1099"/>
                  </a:lnTo>
                  <a:lnTo>
                    <a:pt x="1452" y="1102"/>
                  </a:lnTo>
                  <a:lnTo>
                    <a:pt x="1449" y="1112"/>
                  </a:lnTo>
                  <a:lnTo>
                    <a:pt x="1449" y="1125"/>
                  </a:lnTo>
                  <a:lnTo>
                    <a:pt x="1449" y="1125"/>
                  </a:lnTo>
                  <a:lnTo>
                    <a:pt x="1446" y="1142"/>
                  </a:lnTo>
                  <a:lnTo>
                    <a:pt x="1442" y="1152"/>
                  </a:lnTo>
                  <a:lnTo>
                    <a:pt x="1436" y="1162"/>
                  </a:lnTo>
                  <a:lnTo>
                    <a:pt x="1436" y="1162"/>
                  </a:lnTo>
                  <a:lnTo>
                    <a:pt x="1432" y="1165"/>
                  </a:lnTo>
                  <a:lnTo>
                    <a:pt x="1432" y="1165"/>
                  </a:lnTo>
                  <a:lnTo>
                    <a:pt x="1405" y="1179"/>
                  </a:lnTo>
                  <a:lnTo>
                    <a:pt x="1379" y="1182"/>
                  </a:lnTo>
                  <a:lnTo>
                    <a:pt x="1379" y="1182"/>
                  </a:lnTo>
                  <a:lnTo>
                    <a:pt x="1379" y="1159"/>
                  </a:lnTo>
                  <a:lnTo>
                    <a:pt x="1389" y="1139"/>
                  </a:lnTo>
                  <a:lnTo>
                    <a:pt x="1399" y="1119"/>
                  </a:lnTo>
                  <a:lnTo>
                    <a:pt x="1415" y="1105"/>
                  </a:lnTo>
                  <a:lnTo>
                    <a:pt x="1436" y="1095"/>
                  </a:lnTo>
                  <a:lnTo>
                    <a:pt x="1459" y="1089"/>
                  </a:lnTo>
                  <a:lnTo>
                    <a:pt x="1482" y="1082"/>
                  </a:lnTo>
                  <a:lnTo>
                    <a:pt x="1506" y="1079"/>
                  </a:lnTo>
                  <a:lnTo>
                    <a:pt x="1556" y="1075"/>
                  </a:lnTo>
                  <a:lnTo>
                    <a:pt x="1599" y="1079"/>
                  </a:lnTo>
                  <a:lnTo>
                    <a:pt x="1642" y="1082"/>
                  </a:lnTo>
                  <a:lnTo>
                    <a:pt x="1642" y="1082"/>
                  </a:lnTo>
                  <a:close/>
                  <a:moveTo>
                    <a:pt x="80" y="665"/>
                  </a:moveTo>
                  <a:lnTo>
                    <a:pt x="80" y="665"/>
                  </a:lnTo>
                  <a:lnTo>
                    <a:pt x="84" y="665"/>
                  </a:lnTo>
                  <a:lnTo>
                    <a:pt x="84" y="665"/>
                  </a:lnTo>
                  <a:lnTo>
                    <a:pt x="84" y="665"/>
                  </a:lnTo>
                  <a:lnTo>
                    <a:pt x="84" y="665"/>
                  </a:lnTo>
                  <a:lnTo>
                    <a:pt x="80" y="665"/>
                  </a:lnTo>
                  <a:lnTo>
                    <a:pt x="80" y="665"/>
                  </a:lnTo>
                  <a:close/>
                  <a:moveTo>
                    <a:pt x="1439" y="1115"/>
                  </a:moveTo>
                  <a:lnTo>
                    <a:pt x="1439" y="1115"/>
                  </a:lnTo>
                  <a:lnTo>
                    <a:pt x="1439" y="1115"/>
                  </a:lnTo>
                  <a:lnTo>
                    <a:pt x="1439" y="1115"/>
                  </a:lnTo>
                  <a:lnTo>
                    <a:pt x="1439" y="1115"/>
                  </a:lnTo>
                  <a:lnTo>
                    <a:pt x="1439" y="1115"/>
                  </a:lnTo>
                  <a:lnTo>
                    <a:pt x="1439" y="1115"/>
                  </a:lnTo>
                  <a:lnTo>
                    <a:pt x="1439" y="1115"/>
                  </a:lnTo>
                  <a:close/>
                </a:path>
              </a:pathLst>
            </a:cu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1832040"/>
              <a:ext cx="4011120" cy="4096800"/>
            </a:xfrm>
            <a:custGeom>
              <a:avLst/>
              <a:gdLst/>
              <a:ahLst/>
              <a:rect l="l" t="t" r="r" b="b"/>
              <a:pathLst>
                <a:path w="1882" h="1922">
                  <a:moveTo>
                    <a:pt x="1882" y="1225"/>
                  </a:moveTo>
                  <a:lnTo>
                    <a:pt x="1769" y="1155"/>
                  </a:lnTo>
                  <a:lnTo>
                    <a:pt x="1769" y="1155"/>
                  </a:lnTo>
                  <a:lnTo>
                    <a:pt x="1739" y="1141"/>
                  </a:lnTo>
                  <a:lnTo>
                    <a:pt x="1712" y="1125"/>
                  </a:lnTo>
                  <a:lnTo>
                    <a:pt x="1692" y="1111"/>
                  </a:lnTo>
                  <a:lnTo>
                    <a:pt x="1672" y="1095"/>
                  </a:lnTo>
                  <a:lnTo>
                    <a:pt x="1655" y="1081"/>
                  </a:lnTo>
                  <a:lnTo>
                    <a:pt x="1645" y="1064"/>
                  </a:lnTo>
                  <a:lnTo>
                    <a:pt x="1629" y="1038"/>
                  </a:lnTo>
                  <a:lnTo>
                    <a:pt x="1619" y="1011"/>
                  </a:lnTo>
                  <a:lnTo>
                    <a:pt x="1619" y="991"/>
                  </a:lnTo>
                  <a:lnTo>
                    <a:pt x="1619" y="971"/>
                  </a:lnTo>
                  <a:lnTo>
                    <a:pt x="1619" y="968"/>
                  </a:lnTo>
                  <a:lnTo>
                    <a:pt x="1619" y="961"/>
                  </a:lnTo>
                  <a:lnTo>
                    <a:pt x="1619" y="961"/>
                  </a:lnTo>
                  <a:lnTo>
                    <a:pt x="1619" y="938"/>
                  </a:lnTo>
                  <a:lnTo>
                    <a:pt x="1625" y="918"/>
                  </a:lnTo>
                  <a:lnTo>
                    <a:pt x="1632" y="898"/>
                  </a:lnTo>
                  <a:lnTo>
                    <a:pt x="1639" y="881"/>
                  </a:lnTo>
                  <a:lnTo>
                    <a:pt x="1652" y="864"/>
                  </a:lnTo>
                  <a:lnTo>
                    <a:pt x="1665" y="848"/>
                  </a:lnTo>
                  <a:lnTo>
                    <a:pt x="1692" y="821"/>
                  </a:lnTo>
                  <a:lnTo>
                    <a:pt x="1719" y="801"/>
                  </a:lnTo>
                  <a:lnTo>
                    <a:pt x="1745" y="784"/>
                  </a:lnTo>
                  <a:lnTo>
                    <a:pt x="1769" y="771"/>
                  </a:lnTo>
                  <a:lnTo>
                    <a:pt x="1866" y="704"/>
                  </a:lnTo>
                  <a:lnTo>
                    <a:pt x="1752" y="701"/>
                  </a:lnTo>
                  <a:lnTo>
                    <a:pt x="1752" y="701"/>
                  </a:lnTo>
                  <a:lnTo>
                    <a:pt x="1715" y="704"/>
                  </a:lnTo>
                  <a:lnTo>
                    <a:pt x="1682" y="707"/>
                  </a:lnTo>
                  <a:lnTo>
                    <a:pt x="1652" y="704"/>
                  </a:lnTo>
                  <a:lnTo>
                    <a:pt x="1625" y="701"/>
                  </a:lnTo>
                  <a:lnTo>
                    <a:pt x="1602" y="697"/>
                  </a:lnTo>
                  <a:lnTo>
                    <a:pt x="1582" y="687"/>
                  </a:lnTo>
                  <a:lnTo>
                    <a:pt x="1569" y="677"/>
                  </a:lnTo>
                  <a:lnTo>
                    <a:pt x="1559" y="664"/>
                  </a:lnTo>
                  <a:lnTo>
                    <a:pt x="1559" y="664"/>
                  </a:lnTo>
                  <a:lnTo>
                    <a:pt x="1549" y="647"/>
                  </a:lnTo>
                  <a:lnTo>
                    <a:pt x="1545" y="627"/>
                  </a:lnTo>
                  <a:lnTo>
                    <a:pt x="1545" y="607"/>
                  </a:lnTo>
                  <a:lnTo>
                    <a:pt x="1549" y="587"/>
                  </a:lnTo>
                  <a:lnTo>
                    <a:pt x="1559" y="550"/>
                  </a:lnTo>
                  <a:lnTo>
                    <a:pt x="1572" y="524"/>
                  </a:lnTo>
                  <a:lnTo>
                    <a:pt x="1605" y="460"/>
                  </a:lnTo>
                  <a:lnTo>
                    <a:pt x="1532" y="470"/>
                  </a:lnTo>
                  <a:lnTo>
                    <a:pt x="1532" y="470"/>
                  </a:lnTo>
                  <a:lnTo>
                    <a:pt x="1482" y="474"/>
                  </a:lnTo>
                  <a:lnTo>
                    <a:pt x="1458" y="470"/>
                  </a:lnTo>
                  <a:lnTo>
                    <a:pt x="1438" y="470"/>
                  </a:lnTo>
                  <a:lnTo>
                    <a:pt x="1422" y="464"/>
                  </a:lnTo>
                  <a:lnTo>
                    <a:pt x="1405" y="457"/>
                  </a:lnTo>
                  <a:lnTo>
                    <a:pt x="1395" y="447"/>
                  </a:lnTo>
                  <a:lnTo>
                    <a:pt x="1385" y="437"/>
                  </a:lnTo>
                  <a:lnTo>
                    <a:pt x="1385" y="437"/>
                  </a:lnTo>
                  <a:lnTo>
                    <a:pt x="1375" y="427"/>
                  </a:lnTo>
                  <a:lnTo>
                    <a:pt x="1372" y="414"/>
                  </a:lnTo>
                  <a:lnTo>
                    <a:pt x="1365" y="387"/>
                  </a:lnTo>
                  <a:lnTo>
                    <a:pt x="1365" y="360"/>
                  </a:lnTo>
                  <a:lnTo>
                    <a:pt x="1365" y="330"/>
                  </a:lnTo>
                  <a:lnTo>
                    <a:pt x="1372" y="300"/>
                  </a:lnTo>
                  <a:lnTo>
                    <a:pt x="1378" y="273"/>
                  </a:lnTo>
                  <a:lnTo>
                    <a:pt x="1392" y="233"/>
                  </a:lnTo>
                  <a:lnTo>
                    <a:pt x="1432" y="106"/>
                  </a:lnTo>
                  <a:lnTo>
                    <a:pt x="1335" y="190"/>
                  </a:lnTo>
                  <a:lnTo>
                    <a:pt x="1335" y="190"/>
                  </a:lnTo>
                  <a:lnTo>
                    <a:pt x="1291" y="227"/>
                  </a:lnTo>
                  <a:lnTo>
                    <a:pt x="1248" y="253"/>
                  </a:lnTo>
                  <a:lnTo>
                    <a:pt x="1211" y="277"/>
                  </a:lnTo>
                  <a:lnTo>
                    <a:pt x="1175" y="293"/>
                  </a:lnTo>
                  <a:lnTo>
                    <a:pt x="1138" y="303"/>
                  </a:lnTo>
                  <a:lnTo>
                    <a:pt x="1108" y="307"/>
                  </a:lnTo>
                  <a:lnTo>
                    <a:pt x="1078" y="307"/>
                  </a:lnTo>
                  <a:lnTo>
                    <a:pt x="1051" y="300"/>
                  </a:lnTo>
                  <a:lnTo>
                    <a:pt x="1051" y="300"/>
                  </a:lnTo>
                  <a:lnTo>
                    <a:pt x="1034" y="290"/>
                  </a:lnTo>
                  <a:lnTo>
                    <a:pt x="1021" y="277"/>
                  </a:lnTo>
                  <a:lnTo>
                    <a:pt x="1004" y="257"/>
                  </a:lnTo>
                  <a:lnTo>
                    <a:pt x="991" y="237"/>
                  </a:lnTo>
                  <a:lnTo>
                    <a:pt x="964" y="190"/>
                  </a:lnTo>
                  <a:lnTo>
                    <a:pt x="941" y="137"/>
                  </a:lnTo>
                  <a:lnTo>
                    <a:pt x="924" y="86"/>
                  </a:lnTo>
                  <a:lnTo>
                    <a:pt x="911" y="43"/>
                  </a:lnTo>
                  <a:lnTo>
                    <a:pt x="901" y="0"/>
                  </a:lnTo>
                  <a:lnTo>
                    <a:pt x="881" y="117"/>
                  </a:lnTo>
                  <a:lnTo>
                    <a:pt x="881" y="117"/>
                  </a:lnTo>
                  <a:lnTo>
                    <a:pt x="881" y="153"/>
                  </a:lnTo>
                  <a:lnTo>
                    <a:pt x="874" y="190"/>
                  </a:lnTo>
                  <a:lnTo>
                    <a:pt x="868" y="220"/>
                  </a:lnTo>
                  <a:lnTo>
                    <a:pt x="858" y="247"/>
                  </a:lnTo>
                  <a:lnTo>
                    <a:pt x="848" y="270"/>
                  </a:lnTo>
                  <a:lnTo>
                    <a:pt x="834" y="287"/>
                  </a:lnTo>
                  <a:lnTo>
                    <a:pt x="821" y="300"/>
                  </a:lnTo>
                  <a:lnTo>
                    <a:pt x="807" y="307"/>
                  </a:lnTo>
                  <a:lnTo>
                    <a:pt x="807" y="307"/>
                  </a:lnTo>
                  <a:lnTo>
                    <a:pt x="794" y="310"/>
                  </a:lnTo>
                  <a:lnTo>
                    <a:pt x="781" y="313"/>
                  </a:lnTo>
                  <a:lnTo>
                    <a:pt x="751" y="310"/>
                  </a:lnTo>
                  <a:lnTo>
                    <a:pt x="721" y="300"/>
                  </a:lnTo>
                  <a:lnTo>
                    <a:pt x="691" y="283"/>
                  </a:lnTo>
                  <a:lnTo>
                    <a:pt x="661" y="267"/>
                  </a:lnTo>
                  <a:lnTo>
                    <a:pt x="637" y="247"/>
                  </a:lnTo>
                  <a:lnTo>
                    <a:pt x="597" y="217"/>
                  </a:lnTo>
                  <a:lnTo>
                    <a:pt x="494" y="117"/>
                  </a:lnTo>
                  <a:lnTo>
                    <a:pt x="537" y="253"/>
                  </a:lnTo>
                  <a:lnTo>
                    <a:pt x="537" y="253"/>
                  </a:lnTo>
                  <a:lnTo>
                    <a:pt x="550" y="300"/>
                  </a:lnTo>
                  <a:lnTo>
                    <a:pt x="550" y="320"/>
                  </a:lnTo>
                  <a:lnTo>
                    <a:pt x="550" y="340"/>
                  </a:lnTo>
                  <a:lnTo>
                    <a:pt x="550" y="357"/>
                  </a:lnTo>
                  <a:lnTo>
                    <a:pt x="544" y="374"/>
                  </a:lnTo>
                  <a:lnTo>
                    <a:pt x="537" y="390"/>
                  </a:lnTo>
                  <a:lnTo>
                    <a:pt x="530" y="404"/>
                  </a:lnTo>
                  <a:lnTo>
                    <a:pt x="530" y="404"/>
                  </a:lnTo>
                  <a:lnTo>
                    <a:pt x="517" y="414"/>
                  </a:lnTo>
                  <a:lnTo>
                    <a:pt x="507" y="424"/>
                  </a:lnTo>
                  <a:lnTo>
                    <a:pt x="477" y="440"/>
                  </a:lnTo>
                  <a:lnTo>
                    <a:pt x="444" y="450"/>
                  </a:lnTo>
                  <a:lnTo>
                    <a:pt x="410" y="457"/>
                  </a:lnTo>
                  <a:lnTo>
                    <a:pt x="374" y="464"/>
                  </a:lnTo>
                  <a:lnTo>
                    <a:pt x="343" y="464"/>
                  </a:lnTo>
                  <a:lnTo>
                    <a:pt x="293" y="460"/>
                  </a:lnTo>
                  <a:lnTo>
                    <a:pt x="200" y="450"/>
                  </a:lnTo>
                  <a:lnTo>
                    <a:pt x="260" y="520"/>
                  </a:lnTo>
                  <a:lnTo>
                    <a:pt x="260" y="520"/>
                  </a:lnTo>
                  <a:lnTo>
                    <a:pt x="300" y="574"/>
                  </a:lnTo>
                  <a:lnTo>
                    <a:pt x="313" y="597"/>
                  </a:lnTo>
                  <a:lnTo>
                    <a:pt x="327" y="621"/>
                  </a:lnTo>
                  <a:lnTo>
                    <a:pt x="337" y="644"/>
                  </a:lnTo>
                  <a:lnTo>
                    <a:pt x="343" y="667"/>
                  </a:lnTo>
                  <a:lnTo>
                    <a:pt x="347" y="691"/>
                  </a:lnTo>
                  <a:lnTo>
                    <a:pt x="350" y="714"/>
                  </a:lnTo>
                  <a:lnTo>
                    <a:pt x="350" y="714"/>
                  </a:lnTo>
                  <a:lnTo>
                    <a:pt x="347" y="734"/>
                  </a:lnTo>
                  <a:lnTo>
                    <a:pt x="343" y="757"/>
                  </a:lnTo>
                  <a:lnTo>
                    <a:pt x="337" y="781"/>
                  </a:lnTo>
                  <a:lnTo>
                    <a:pt x="323" y="801"/>
                  </a:lnTo>
                  <a:lnTo>
                    <a:pt x="323" y="801"/>
                  </a:lnTo>
                  <a:lnTo>
                    <a:pt x="317" y="787"/>
                  </a:lnTo>
                  <a:lnTo>
                    <a:pt x="317" y="787"/>
                  </a:lnTo>
                  <a:lnTo>
                    <a:pt x="317" y="787"/>
                  </a:lnTo>
                  <a:lnTo>
                    <a:pt x="317" y="787"/>
                  </a:lnTo>
                  <a:lnTo>
                    <a:pt x="320" y="777"/>
                  </a:lnTo>
                  <a:lnTo>
                    <a:pt x="327" y="767"/>
                  </a:lnTo>
                  <a:lnTo>
                    <a:pt x="327" y="767"/>
                  </a:lnTo>
                  <a:lnTo>
                    <a:pt x="337" y="751"/>
                  </a:lnTo>
                  <a:lnTo>
                    <a:pt x="343" y="741"/>
                  </a:lnTo>
                  <a:lnTo>
                    <a:pt x="347" y="727"/>
                  </a:lnTo>
                  <a:lnTo>
                    <a:pt x="347" y="717"/>
                  </a:lnTo>
                  <a:lnTo>
                    <a:pt x="347" y="717"/>
                  </a:lnTo>
                  <a:lnTo>
                    <a:pt x="347" y="707"/>
                  </a:lnTo>
                  <a:lnTo>
                    <a:pt x="347" y="697"/>
                  </a:lnTo>
                  <a:lnTo>
                    <a:pt x="347" y="697"/>
                  </a:lnTo>
                  <a:lnTo>
                    <a:pt x="340" y="687"/>
                  </a:lnTo>
                  <a:lnTo>
                    <a:pt x="330" y="677"/>
                  </a:lnTo>
                  <a:lnTo>
                    <a:pt x="317" y="671"/>
                  </a:lnTo>
                  <a:lnTo>
                    <a:pt x="300" y="667"/>
                  </a:lnTo>
                  <a:lnTo>
                    <a:pt x="300" y="667"/>
                  </a:lnTo>
                  <a:lnTo>
                    <a:pt x="290" y="671"/>
                  </a:lnTo>
                  <a:lnTo>
                    <a:pt x="280" y="671"/>
                  </a:lnTo>
                  <a:lnTo>
                    <a:pt x="263" y="681"/>
                  </a:lnTo>
                  <a:lnTo>
                    <a:pt x="263" y="68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50" y="651"/>
                  </a:lnTo>
                  <a:lnTo>
                    <a:pt x="240" y="631"/>
                  </a:lnTo>
                  <a:lnTo>
                    <a:pt x="227" y="621"/>
                  </a:lnTo>
                  <a:lnTo>
                    <a:pt x="210" y="614"/>
                  </a:lnTo>
                  <a:lnTo>
                    <a:pt x="210" y="614"/>
                  </a:lnTo>
                  <a:lnTo>
                    <a:pt x="197" y="611"/>
                  </a:lnTo>
                  <a:lnTo>
                    <a:pt x="187" y="614"/>
                  </a:lnTo>
                  <a:lnTo>
                    <a:pt x="173" y="617"/>
                  </a:lnTo>
                  <a:lnTo>
                    <a:pt x="163" y="627"/>
                  </a:lnTo>
                  <a:lnTo>
                    <a:pt x="163" y="627"/>
                  </a:lnTo>
                  <a:lnTo>
                    <a:pt x="160" y="631"/>
                  </a:lnTo>
                  <a:lnTo>
                    <a:pt x="160" y="631"/>
                  </a:lnTo>
                  <a:lnTo>
                    <a:pt x="143" y="627"/>
                  </a:lnTo>
                  <a:lnTo>
                    <a:pt x="123" y="631"/>
                  </a:lnTo>
                  <a:lnTo>
                    <a:pt x="123" y="631"/>
                  </a:lnTo>
                  <a:lnTo>
                    <a:pt x="113" y="634"/>
                  </a:lnTo>
                  <a:lnTo>
                    <a:pt x="106" y="644"/>
                  </a:lnTo>
                  <a:lnTo>
                    <a:pt x="100" y="651"/>
                  </a:lnTo>
                  <a:lnTo>
                    <a:pt x="93" y="661"/>
                  </a:lnTo>
                  <a:lnTo>
                    <a:pt x="93" y="661"/>
                  </a:lnTo>
                  <a:lnTo>
                    <a:pt x="90" y="681"/>
                  </a:lnTo>
                  <a:lnTo>
                    <a:pt x="90" y="681"/>
                  </a:lnTo>
                  <a:lnTo>
                    <a:pt x="93" y="694"/>
                  </a:lnTo>
                  <a:lnTo>
                    <a:pt x="100" y="714"/>
                  </a:lnTo>
                  <a:lnTo>
                    <a:pt x="100" y="714"/>
                  </a:lnTo>
                  <a:lnTo>
                    <a:pt x="100" y="714"/>
                  </a:lnTo>
                  <a:lnTo>
                    <a:pt x="100" y="714"/>
                  </a:lnTo>
                  <a:lnTo>
                    <a:pt x="93" y="721"/>
                  </a:lnTo>
                  <a:lnTo>
                    <a:pt x="86" y="724"/>
                  </a:lnTo>
                  <a:lnTo>
                    <a:pt x="86" y="727"/>
                  </a:lnTo>
                  <a:lnTo>
                    <a:pt x="86" y="727"/>
                  </a:lnTo>
                  <a:lnTo>
                    <a:pt x="80" y="741"/>
                  </a:lnTo>
                  <a:lnTo>
                    <a:pt x="76" y="761"/>
                  </a:lnTo>
                  <a:lnTo>
                    <a:pt x="76" y="761"/>
                  </a:lnTo>
                  <a:lnTo>
                    <a:pt x="76" y="774"/>
                  </a:lnTo>
                  <a:lnTo>
                    <a:pt x="76" y="774"/>
                  </a:lnTo>
                  <a:lnTo>
                    <a:pt x="83" y="784"/>
                  </a:lnTo>
                  <a:lnTo>
                    <a:pt x="90" y="794"/>
                  </a:lnTo>
                  <a:lnTo>
                    <a:pt x="100" y="804"/>
                  </a:lnTo>
                  <a:lnTo>
                    <a:pt x="117" y="814"/>
                  </a:lnTo>
                  <a:lnTo>
                    <a:pt x="117" y="814"/>
                  </a:lnTo>
                  <a:lnTo>
                    <a:pt x="127" y="817"/>
                  </a:lnTo>
                  <a:lnTo>
                    <a:pt x="127" y="817"/>
                  </a:lnTo>
                  <a:lnTo>
                    <a:pt x="147" y="827"/>
                  </a:lnTo>
                  <a:lnTo>
                    <a:pt x="170" y="834"/>
                  </a:lnTo>
                  <a:lnTo>
                    <a:pt x="197" y="841"/>
                  </a:lnTo>
                  <a:lnTo>
                    <a:pt x="227" y="844"/>
                  </a:lnTo>
                  <a:lnTo>
                    <a:pt x="227" y="844"/>
                  </a:lnTo>
                  <a:lnTo>
                    <a:pt x="253" y="881"/>
                  </a:lnTo>
                  <a:lnTo>
                    <a:pt x="253" y="881"/>
                  </a:lnTo>
                  <a:lnTo>
                    <a:pt x="210" y="911"/>
                  </a:lnTo>
                  <a:lnTo>
                    <a:pt x="173" y="934"/>
                  </a:lnTo>
                  <a:lnTo>
                    <a:pt x="133" y="951"/>
                  </a:lnTo>
                  <a:lnTo>
                    <a:pt x="0" y="1001"/>
                  </a:lnTo>
                  <a:lnTo>
                    <a:pt x="140" y="1021"/>
                  </a:lnTo>
                  <a:lnTo>
                    <a:pt x="140" y="1021"/>
                  </a:lnTo>
                  <a:lnTo>
                    <a:pt x="177" y="1028"/>
                  </a:lnTo>
                  <a:lnTo>
                    <a:pt x="210" y="1034"/>
                  </a:lnTo>
                  <a:lnTo>
                    <a:pt x="237" y="1044"/>
                  </a:lnTo>
                  <a:lnTo>
                    <a:pt x="260" y="1054"/>
                  </a:lnTo>
                  <a:lnTo>
                    <a:pt x="280" y="1068"/>
                  </a:lnTo>
                  <a:lnTo>
                    <a:pt x="297" y="1078"/>
                  </a:lnTo>
                  <a:lnTo>
                    <a:pt x="307" y="1091"/>
                  </a:lnTo>
                  <a:lnTo>
                    <a:pt x="313" y="1108"/>
                  </a:lnTo>
                  <a:lnTo>
                    <a:pt x="313" y="1108"/>
                  </a:lnTo>
                  <a:lnTo>
                    <a:pt x="317" y="1125"/>
                  </a:lnTo>
                  <a:lnTo>
                    <a:pt x="317" y="1125"/>
                  </a:lnTo>
                  <a:lnTo>
                    <a:pt x="313" y="1148"/>
                  </a:lnTo>
                  <a:lnTo>
                    <a:pt x="303" y="1171"/>
                  </a:lnTo>
                  <a:lnTo>
                    <a:pt x="290" y="1195"/>
                  </a:lnTo>
                  <a:lnTo>
                    <a:pt x="273" y="1218"/>
                  </a:lnTo>
                  <a:lnTo>
                    <a:pt x="240" y="1261"/>
                  </a:lnTo>
                  <a:lnTo>
                    <a:pt x="213" y="1288"/>
                  </a:lnTo>
                  <a:lnTo>
                    <a:pt x="113" y="1375"/>
                  </a:lnTo>
                  <a:lnTo>
                    <a:pt x="243" y="1352"/>
                  </a:lnTo>
                  <a:lnTo>
                    <a:pt x="243" y="1352"/>
                  </a:lnTo>
                  <a:lnTo>
                    <a:pt x="297" y="1348"/>
                  </a:lnTo>
                  <a:lnTo>
                    <a:pt x="317" y="1348"/>
                  </a:lnTo>
                  <a:lnTo>
                    <a:pt x="340" y="1348"/>
                  </a:lnTo>
                  <a:lnTo>
                    <a:pt x="357" y="1355"/>
                  </a:lnTo>
                  <a:lnTo>
                    <a:pt x="374" y="1362"/>
                  </a:lnTo>
                  <a:lnTo>
                    <a:pt x="387" y="1372"/>
                  </a:lnTo>
                  <a:lnTo>
                    <a:pt x="397" y="1382"/>
                  </a:lnTo>
                  <a:lnTo>
                    <a:pt x="397" y="1382"/>
                  </a:lnTo>
                  <a:lnTo>
                    <a:pt x="404" y="1395"/>
                  </a:lnTo>
                  <a:lnTo>
                    <a:pt x="410" y="1408"/>
                  </a:lnTo>
                  <a:lnTo>
                    <a:pt x="417" y="1442"/>
                  </a:lnTo>
                  <a:lnTo>
                    <a:pt x="417" y="1478"/>
                  </a:lnTo>
                  <a:lnTo>
                    <a:pt x="414" y="1515"/>
                  </a:lnTo>
                  <a:lnTo>
                    <a:pt x="404" y="1552"/>
                  </a:lnTo>
                  <a:lnTo>
                    <a:pt x="394" y="1585"/>
                  </a:lnTo>
                  <a:lnTo>
                    <a:pt x="374" y="1639"/>
                  </a:lnTo>
                  <a:lnTo>
                    <a:pt x="354" y="1729"/>
                  </a:lnTo>
                  <a:lnTo>
                    <a:pt x="437" y="1675"/>
                  </a:lnTo>
                  <a:lnTo>
                    <a:pt x="437" y="1675"/>
                  </a:lnTo>
                  <a:lnTo>
                    <a:pt x="467" y="1642"/>
                  </a:lnTo>
                  <a:lnTo>
                    <a:pt x="494" y="1612"/>
                  </a:lnTo>
                  <a:lnTo>
                    <a:pt x="520" y="1589"/>
                  </a:lnTo>
                  <a:lnTo>
                    <a:pt x="544" y="1569"/>
                  </a:lnTo>
                  <a:lnTo>
                    <a:pt x="567" y="1555"/>
                  </a:lnTo>
                  <a:lnTo>
                    <a:pt x="591" y="1545"/>
                  </a:lnTo>
                  <a:lnTo>
                    <a:pt x="611" y="1542"/>
                  </a:lnTo>
                  <a:lnTo>
                    <a:pt x="631" y="1545"/>
                  </a:lnTo>
                  <a:lnTo>
                    <a:pt x="631" y="1545"/>
                  </a:lnTo>
                  <a:lnTo>
                    <a:pt x="644" y="1548"/>
                  </a:lnTo>
                  <a:lnTo>
                    <a:pt x="657" y="1558"/>
                  </a:lnTo>
                  <a:lnTo>
                    <a:pt x="667" y="1569"/>
                  </a:lnTo>
                  <a:lnTo>
                    <a:pt x="681" y="1579"/>
                  </a:lnTo>
                  <a:lnTo>
                    <a:pt x="701" y="1609"/>
                  </a:lnTo>
                  <a:lnTo>
                    <a:pt x="717" y="1639"/>
                  </a:lnTo>
                  <a:lnTo>
                    <a:pt x="731" y="1675"/>
                  </a:lnTo>
                  <a:lnTo>
                    <a:pt x="741" y="1705"/>
                  </a:lnTo>
                  <a:lnTo>
                    <a:pt x="754" y="1759"/>
                  </a:lnTo>
                  <a:lnTo>
                    <a:pt x="784" y="1866"/>
                  </a:lnTo>
                  <a:lnTo>
                    <a:pt x="824" y="1759"/>
                  </a:lnTo>
                  <a:lnTo>
                    <a:pt x="824" y="1759"/>
                  </a:lnTo>
                  <a:lnTo>
                    <a:pt x="838" y="1709"/>
                  </a:lnTo>
                  <a:lnTo>
                    <a:pt x="854" y="1669"/>
                  </a:lnTo>
                  <a:lnTo>
                    <a:pt x="864" y="1639"/>
                  </a:lnTo>
                  <a:lnTo>
                    <a:pt x="878" y="1619"/>
                  </a:lnTo>
                  <a:lnTo>
                    <a:pt x="888" y="1605"/>
                  </a:lnTo>
                  <a:lnTo>
                    <a:pt x="894" y="1599"/>
                  </a:lnTo>
                  <a:lnTo>
                    <a:pt x="904" y="1595"/>
                  </a:lnTo>
                  <a:lnTo>
                    <a:pt x="904" y="1595"/>
                  </a:lnTo>
                  <a:lnTo>
                    <a:pt x="911" y="1595"/>
                  </a:lnTo>
                  <a:lnTo>
                    <a:pt x="918" y="1599"/>
                  </a:lnTo>
                  <a:lnTo>
                    <a:pt x="938" y="1612"/>
                  </a:lnTo>
                  <a:lnTo>
                    <a:pt x="954" y="1632"/>
                  </a:lnTo>
                  <a:lnTo>
                    <a:pt x="974" y="1659"/>
                  </a:lnTo>
                  <a:lnTo>
                    <a:pt x="994" y="1692"/>
                  </a:lnTo>
                  <a:lnTo>
                    <a:pt x="1014" y="1729"/>
                  </a:lnTo>
                  <a:lnTo>
                    <a:pt x="1031" y="1765"/>
                  </a:lnTo>
                  <a:lnTo>
                    <a:pt x="1048" y="1802"/>
                  </a:lnTo>
                  <a:lnTo>
                    <a:pt x="1105" y="1922"/>
                  </a:lnTo>
                  <a:lnTo>
                    <a:pt x="1118" y="1789"/>
                  </a:lnTo>
                  <a:lnTo>
                    <a:pt x="1118" y="1789"/>
                  </a:lnTo>
                  <a:lnTo>
                    <a:pt x="1118" y="1729"/>
                  </a:lnTo>
                  <a:lnTo>
                    <a:pt x="1118" y="1682"/>
                  </a:lnTo>
                  <a:lnTo>
                    <a:pt x="1121" y="1645"/>
                  </a:lnTo>
                  <a:lnTo>
                    <a:pt x="1128" y="1622"/>
                  </a:lnTo>
                  <a:lnTo>
                    <a:pt x="1135" y="1602"/>
                  </a:lnTo>
                  <a:lnTo>
                    <a:pt x="1145" y="1592"/>
                  </a:lnTo>
                  <a:lnTo>
                    <a:pt x="1148" y="1585"/>
                  </a:lnTo>
                  <a:lnTo>
                    <a:pt x="1155" y="1585"/>
                  </a:lnTo>
                  <a:lnTo>
                    <a:pt x="1155" y="1585"/>
                  </a:lnTo>
                  <a:lnTo>
                    <a:pt x="1168" y="1582"/>
                  </a:lnTo>
                  <a:lnTo>
                    <a:pt x="1188" y="1589"/>
                  </a:lnTo>
                  <a:lnTo>
                    <a:pt x="1208" y="1599"/>
                  </a:lnTo>
                  <a:lnTo>
                    <a:pt x="1235" y="1615"/>
                  </a:lnTo>
                  <a:lnTo>
                    <a:pt x="1261" y="1635"/>
                  </a:lnTo>
                  <a:lnTo>
                    <a:pt x="1291" y="1662"/>
                  </a:lnTo>
                  <a:lnTo>
                    <a:pt x="1318" y="1692"/>
                  </a:lnTo>
                  <a:lnTo>
                    <a:pt x="1348" y="1725"/>
                  </a:lnTo>
                  <a:lnTo>
                    <a:pt x="1348" y="1725"/>
                  </a:lnTo>
                  <a:lnTo>
                    <a:pt x="1352" y="1729"/>
                  </a:lnTo>
                  <a:lnTo>
                    <a:pt x="1352" y="1729"/>
                  </a:lnTo>
                  <a:lnTo>
                    <a:pt x="1352" y="1729"/>
                  </a:lnTo>
                  <a:lnTo>
                    <a:pt x="1355" y="1732"/>
                  </a:lnTo>
                  <a:lnTo>
                    <a:pt x="1472" y="1802"/>
                  </a:lnTo>
                  <a:lnTo>
                    <a:pt x="1408" y="1685"/>
                  </a:lnTo>
                  <a:lnTo>
                    <a:pt x="1405" y="1679"/>
                  </a:lnTo>
                  <a:lnTo>
                    <a:pt x="1405" y="1679"/>
                  </a:lnTo>
                  <a:lnTo>
                    <a:pt x="1392" y="1659"/>
                  </a:lnTo>
                  <a:lnTo>
                    <a:pt x="1382" y="1639"/>
                  </a:lnTo>
                  <a:lnTo>
                    <a:pt x="1375" y="1619"/>
                  </a:lnTo>
                  <a:lnTo>
                    <a:pt x="1368" y="1592"/>
                  </a:lnTo>
                  <a:lnTo>
                    <a:pt x="1362" y="1565"/>
                  </a:lnTo>
                  <a:lnTo>
                    <a:pt x="1362" y="1532"/>
                  </a:lnTo>
                  <a:lnTo>
                    <a:pt x="1365" y="1495"/>
                  </a:lnTo>
                  <a:lnTo>
                    <a:pt x="1365" y="1495"/>
                  </a:lnTo>
                  <a:lnTo>
                    <a:pt x="1368" y="1485"/>
                  </a:lnTo>
                  <a:lnTo>
                    <a:pt x="1372" y="1478"/>
                  </a:lnTo>
                  <a:lnTo>
                    <a:pt x="1382" y="1468"/>
                  </a:lnTo>
                  <a:lnTo>
                    <a:pt x="1382" y="1468"/>
                  </a:lnTo>
                  <a:lnTo>
                    <a:pt x="1398" y="1465"/>
                  </a:lnTo>
                  <a:lnTo>
                    <a:pt x="1422" y="1462"/>
                  </a:lnTo>
                  <a:lnTo>
                    <a:pt x="1445" y="1465"/>
                  </a:lnTo>
                  <a:lnTo>
                    <a:pt x="1472" y="1472"/>
                  </a:lnTo>
                  <a:lnTo>
                    <a:pt x="1528" y="1492"/>
                  </a:lnTo>
                  <a:lnTo>
                    <a:pt x="1575" y="1512"/>
                  </a:lnTo>
                  <a:lnTo>
                    <a:pt x="1675" y="1552"/>
                  </a:lnTo>
                  <a:lnTo>
                    <a:pt x="1622" y="1455"/>
                  </a:lnTo>
                  <a:lnTo>
                    <a:pt x="1622" y="1455"/>
                  </a:lnTo>
                  <a:lnTo>
                    <a:pt x="1575" y="1395"/>
                  </a:lnTo>
                  <a:lnTo>
                    <a:pt x="1559" y="1368"/>
                  </a:lnTo>
                  <a:lnTo>
                    <a:pt x="1545" y="1342"/>
                  </a:lnTo>
                  <a:lnTo>
                    <a:pt x="1545" y="1342"/>
                  </a:lnTo>
                  <a:lnTo>
                    <a:pt x="1549" y="1342"/>
                  </a:lnTo>
                  <a:lnTo>
                    <a:pt x="1549" y="1342"/>
                  </a:lnTo>
                  <a:lnTo>
                    <a:pt x="1569" y="1355"/>
                  </a:lnTo>
                  <a:lnTo>
                    <a:pt x="1589" y="1368"/>
                  </a:lnTo>
                  <a:lnTo>
                    <a:pt x="1625" y="1382"/>
                  </a:lnTo>
                  <a:lnTo>
                    <a:pt x="1632" y="1385"/>
                  </a:lnTo>
                  <a:lnTo>
                    <a:pt x="1632" y="1385"/>
                  </a:lnTo>
                  <a:lnTo>
                    <a:pt x="1649" y="1388"/>
                  </a:lnTo>
                  <a:lnTo>
                    <a:pt x="1662" y="1388"/>
                  </a:lnTo>
                  <a:lnTo>
                    <a:pt x="1672" y="1385"/>
                  </a:lnTo>
                  <a:lnTo>
                    <a:pt x="1682" y="1382"/>
                  </a:lnTo>
                  <a:lnTo>
                    <a:pt x="1682" y="1382"/>
                  </a:lnTo>
                  <a:lnTo>
                    <a:pt x="1692" y="1372"/>
                  </a:lnTo>
                  <a:lnTo>
                    <a:pt x="1699" y="1365"/>
                  </a:lnTo>
                  <a:lnTo>
                    <a:pt x="1705" y="1352"/>
                  </a:lnTo>
                  <a:lnTo>
                    <a:pt x="1709" y="1342"/>
                  </a:lnTo>
                  <a:lnTo>
                    <a:pt x="1709" y="1338"/>
                  </a:lnTo>
                  <a:lnTo>
                    <a:pt x="1709" y="1335"/>
                  </a:lnTo>
                  <a:lnTo>
                    <a:pt x="1709" y="1335"/>
                  </a:lnTo>
                  <a:lnTo>
                    <a:pt x="1705" y="1328"/>
                  </a:lnTo>
                  <a:lnTo>
                    <a:pt x="1705" y="1328"/>
                  </a:lnTo>
                  <a:lnTo>
                    <a:pt x="1719" y="1321"/>
                  </a:lnTo>
                  <a:lnTo>
                    <a:pt x="1729" y="1315"/>
                  </a:lnTo>
                  <a:lnTo>
                    <a:pt x="1739" y="1298"/>
                  </a:lnTo>
                  <a:lnTo>
                    <a:pt x="1739" y="1298"/>
                  </a:lnTo>
                  <a:lnTo>
                    <a:pt x="1742" y="1288"/>
                  </a:lnTo>
                  <a:lnTo>
                    <a:pt x="1742" y="1278"/>
                  </a:lnTo>
                  <a:lnTo>
                    <a:pt x="1742" y="1278"/>
                  </a:lnTo>
                  <a:lnTo>
                    <a:pt x="1742" y="1268"/>
                  </a:lnTo>
                  <a:lnTo>
                    <a:pt x="1739" y="1258"/>
                  </a:lnTo>
                  <a:lnTo>
                    <a:pt x="1739" y="1258"/>
                  </a:lnTo>
                  <a:lnTo>
                    <a:pt x="1729" y="1245"/>
                  </a:lnTo>
                  <a:lnTo>
                    <a:pt x="1715" y="1238"/>
                  </a:lnTo>
                  <a:lnTo>
                    <a:pt x="1715" y="1238"/>
                  </a:lnTo>
                  <a:lnTo>
                    <a:pt x="1712" y="1221"/>
                  </a:lnTo>
                  <a:lnTo>
                    <a:pt x="1712" y="1221"/>
                  </a:lnTo>
                  <a:lnTo>
                    <a:pt x="1749" y="1225"/>
                  </a:lnTo>
                  <a:lnTo>
                    <a:pt x="1882" y="122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85200" y="2058120"/>
              <a:ext cx="3427200" cy="3587040"/>
            </a:xfrm>
            <a:custGeom>
              <a:avLst/>
              <a:gdLst/>
              <a:ahLst/>
              <a:rect l="l" t="t" r="r" b="b"/>
              <a:pathLst>
                <a:path w="1608" h="1683">
                  <a:moveTo>
                    <a:pt x="764" y="0"/>
                  </a:moveTo>
                  <a:lnTo>
                    <a:pt x="764" y="0"/>
                  </a:lnTo>
                  <a:lnTo>
                    <a:pt x="764" y="21"/>
                  </a:lnTo>
                  <a:lnTo>
                    <a:pt x="774" y="67"/>
                  </a:lnTo>
                  <a:lnTo>
                    <a:pt x="784" y="94"/>
                  </a:lnTo>
                  <a:lnTo>
                    <a:pt x="797" y="127"/>
                  </a:lnTo>
                  <a:lnTo>
                    <a:pt x="811" y="157"/>
                  </a:lnTo>
                  <a:lnTo>
                    <a:pt x="834" y="184"/>
                  </a:lnTo>
                  <a:lnTo>
                    <a:pt x="857" y="207"/>
                  </a:lnTo>
                  <a:lnTo>
                    <a:pt x="874" y="217"/>
                  </a:lnTo>
                  <a:lnTo>
                    <a:pt x="887" y="227"/>
                  </a:lnTo>
                  <a:lnTo>
                    <a:pt x="907" y="234"/>
                  </a:lnTo>
                  <a:lnTo>
                    <a:pt x="924" y="237"/>
                  </a:lnTo>
                  <a:lnTo>
                    <a:pt x="944" y="241"/>
                  </a:lnTo>
                  <a:lnTo>
                    <a:pt x="968" y="237"/>
                  </a:lnTo>
                  <a:lnTo>
                    <a:pt x="991" y="234"/>
                  </a:lnTo>
                  <a:lnTo>
                    <a:pt x="1018" y="227"/>
                  </a:lnTo>
                  <a:lnTo>
                    <a:pt x="1044" y="217"/>
                  </a:lnTo>
                  <a:lnTo>
                    <a:pt x="1074" y="207"/>
                  </a:lnTo>
                  <a:lnTo>
                    <a:pt x="1104" y="187"/>
                  </a:lnTo>
                  <a:lnTo>
                    <a:pt x="1138" y="167"/>
                  </a:lnTo>
                  <a:lnTo>
                    <a:pt x="1175" y="144"/>
                  </a:lnTo>
                  <a:lnTo>
                    <a:pt x="1211" y="114"/>
                  </a:lnTo>
                  <a:lnTo>
                    <a:pt x="1211" y="114"/>
                  </a:lnTo>
                  <a:lnTo>
                    <a:pt x="1205" y="127"/>
                  </a:lnTo>
                  <a:lnTo>
                    <a:pt x="1195" y="164"/>
                  </a:lnTo>
                  <a:lnTo>
                    <a:pt x="1185" y="217"/>
                  </a:lnTo>
                  <a:lnTo>
                    <a:pt x="1181" y="244"/>
                  </a:lnTo>
                  <a:lnTo>
                    <a:pt x="1181" y="274"/>
                  </a:lnTo>
                  <a:lnTo>
                    <a:pt x="1185" y="301"/>
                  </a:lnTo>
                  <a:lnTo>
                    <a:pt x="1191" y="328"/>
                  </a:lnTo>
                  <a:lnTo>
                    <a:pt x="1208" y="354"/>
                  </a:lnTo>
                  <a:lnTo>
                    <a:pt x="1215" y="364"/>
                  </a:lnTo>
                  <a:lnTo>
                    <a:pt x="1228" y="374"/>
                  </a:lnTo>
                  <a:lnTo>
                    <a:pt x="1241" y="381"/>
                  </a:lnTo>
                  <a:lnTo>
                    <a:pt x="1255" y="391"/>
                  </a:lnTo>
                  <a:lnTo>
                    <a:pt x="1271" y="394"/>
                  </a:lnTo>
                  <a:lnTo>
                    <a:pt x="1291" y="401"/>
                  </a:lnTo>
                  <a:lnTo>
                    <a:pt x="1311" y="401"/>
                  </a:lnTo>
                  <a:lnTo>
                    <a:pt x="1335" y="404"/>
                  </a:lnTo>
                  <a:lnTo>
                    <a:pt x="1392" y="398"/>
                  </a:lnTo>
                  <a:lnTo>
                    <a:pt x="1392" y="398"/>
                  </a:lnTo>
                  <a:lnTo>
                    <a:pt x="1385" y="411"/>
                  </a:lnTo>
                  <a:lnTo>
                    <a:pt x="1375" y="441"/>
                  </a:lnTo>
                  <a:lnTo>
                    <a:pt x="1368" y="461"/>
                  </a:lnTo>
                  <a:lnTo>
                    <a:pt x="1361" y="484"/>
                  </a:lnTo>
                  <a:lnTo>
                    <a:pt x="1361" y="508"/>
                  </a:lnTo>
                  <a:lnTo>
                    <a:pt x="1361" y="531"/>
                  </a:lnTo>
                  <a:lnTo>
                    <a:pt x="1368" y="555"/>
                  </a:lnTo>
                  <a:lnTo>
                    <a:pt x="1378" y="578"/>
                  </a:lnTo>
                  <a:lnTo>
                    <a:pt x="1395" y="598"/>
                  </a:lnTo>
                  <a:lnTo>
                    <a:pt x="1418" y="615"/>
                  </a:lnTo>
                  <a:lnTo>
                    <a:pt x="1452" y="628"/>
                  </a:lnTo>
                  <a:lnTo>
                    <a:pt x="1495" y="635"/>
                  </a:lnTo>
                  <a:lnTo>
                    <a:pt x="1545" y="638"/>
                  </a:lnTo>
                  <a:lnTo>
                    <a:pt x="1608" y="631"/>
                  </a:lnTo>
                  <a:lnTo>
                    <a:pt x="1608" y="631"/>
                  </a:lnTo>
                  <a:lnTo>
                    <a:pt x="1578" y="645"/>
                  </a:lnTo>
                  <a:lnTo>
                    <a:pt x="1552" y="665"/>
                  </a:lnTo>
                  <a:lnTo>
                    <a:pt x="1518" y="688"/>
                  </a:lnTo>
                  <a:lnTo>
                    <a:pt x="1488" y="721"/>
                  </a:lnTo>
                  <a:lnTo>
                    <a:pt x="1472" y="738"/>
                  </a:lnTo>
                  <a:lnTo>
                    <a:pt x="1458" y="758"/>
                  </a:lnTo>
                  <a:lnTo>
                    <a:pt x="1448" y="782"/>
                  </a:lnTo>
                  <a:lnTo>
                    <a:pt x="1442" y="805"/>
                  </a:lnTo>
                  <a:lnTo>
                    <a:pt x="1438" y="828"/>
                  </a:lnTo>
                  <a:lnTo>
                    <a:pt x="1435" y="858"/>
                  </a:lnTo>
                  <a:lnTo>
                    <a:pt x="1435" y="858"/>
                  </a:lnTo>
                  <a:lnTo>
                    <a:pt x="1435" y="862"/>
                  </a:lnTo>
                  <a:lnTo>
                    <a:pt x="1435" y="878"/>
                  </a:lnTo>
                  <a:lnTo>
                    <a:pt x="1435" y="905"/>
                  </a:lnTo>
                  <a:lnTo>
                    <a:pt x="1445" y="935"/>
                  </a:lnTo>
                  <a:lnTo>
                    <a:pt x="1452" y="955"/>
                  </a:lnTo>
                  <a:lnTo>
                    <a:pt x="1462" y="972"/>
                  </a:lnTo>
                  <a:lnTo>
                    <a:pt x="1475" y="992"/>
                  </a:lnTo>
                  <a:lnTo>
                    <a:pt x="1492" y="1009"/>
                  </a:lnTo>
                  <a:lnTo>
                    <a:pt x="1515" y="1029"/>
                  </a:lnTo>
                  <a:lnTo>
                    <a:pt x="1542" y="1049"/>
                  </a:lnTo>
                  <a:lnTo>
                    <a:pt x="1572" y="1065"/>
                  </a:lnTo>
                  <a:lnTo>
                    <a:pt x="1608" y="1082"/>
                  </a:lnTo>
                  <a:lnTo>
                    <a:pt x="1608" y="1082"/>
                  </a:lnTo>
                  <a:lnTo>
                    <a:pt x="1588" y="1079"/>
                  </a:lnTo>
                  <a:lnTo>
                    <a:pt x="1542" y="1075"/>
                  </a:lnTo>
                  <a:lnTo>
                    <a:pt x="1508" y="1075"/>
                  </a:lnTo>
                  <a:lnTo>
                    <a:pt x="1478" y="1079"/>
                  </a:lnTo>
                  <a:lnTo>
                    <a:pt x="1445" y="1082"/>
                  </a:lnTo>
                  <a:lnTo>
                    <a:pt x="1415" y="1092"/>
                  </a:lnTo>
                  <a:lnTo>
                    <a:pt x="1388" y="1102"/>
                  </a:lnTo>
                  <a:lnTo>
                    <a:pt x="1375" y="1112"/>
                  </a:lnTo>
                  <a:lnTo>
                    <a:pt x="1365" y="1122"/>
                  </a:lnTo>
                  <a:lnTo>
                    <a:pt x="1358" y="1132"/>
                  </a:lnTo>
                  <a:lnTo>
                    <a:pt x="1351" y="1145"/>
                  </a:lnTo>
                  <a:lnTo>
                    <a:pt x="1345" y="1159"/>
                  </a:lnTo>
                  <a:lnTo>
                    <a:pt x="1345" y="1175"/>
                  </a:lnTo>
                  <a:lnTo>
                    <a:pt x="1345" y="1192"/>
                  </a:lnTo>
                  <a:lnTo>
                    <a:pt x="1348" y="1212"/>
                  </a:lnTo>
                  <a:lnTo>
                    <a:pt x="1358" y="1232"/>
                  </a:lnTo>
                  <a:lnTo>
                    <a:pt x="1368" y="1256"/>
                  </a:lnTo>
                  <a:lnTo>
                    <a:pt x="1381" y="1282"/>
                  </a:lnTo>
                  <a:lnTo>
                    <a:pt x="1398" y="1309"/>
                  </a:lnTo>
                  <a:lnTo>
                    <a:pt x="1448" y="1372"/>
                  </a:lnTo>
                  <a:lnTo>
                    <a:pt x="1448" y="1372"/>
                  </a:lnTo>
                  <a:lnTo>
                    <a:pt x="1408" y="1356"/>
                  </a:lnTo>
                  <a:lnTo>
                    <a:pt x="1368" y="1342"/>
                  </a:lnTo>
                  <a:lnTo>
                    <a:pt x="1321" y="1329"/>
                  </a:lnTo>
                  <a:lnTo>
                    <a:pt x="1298" y="1322"/>
                  </a:lnTo>
                  <a:lnTo>
                    <a:pt x="1275" y="1322"/>
                  </a:lnTo>
                  <a:lnTo>
                    <a:pt x="1251" y="1322"/>
                  </a:lnTo>
                  <a:lnTo>
                    <a:pt x="1231" y="1326"/>
                  </a:lnTo>
                  <a:lnTo>
                    <a:pt x="1215" y="1332"/>
                  </a:lnTo>
                  <a:lnTo>
                    <a:pt x="1198" y="1342"/>
                  </a:lnTo>
                  <a:lnTo>
                    <a:pt x="1188" y="1359"/>
                  </a:lnTo>
                  <a:lnTo>
                    <a:pt x="1181" y="1382"/>
                  </a:lnTo>
                  <a:lnTo>
                    <a:pt x="1181" y="1382"/>
                  </a:lnTo>
                  <a:lnTo>
                    <a:pt x="1178" y="1432"/>
                  </a:lnTo>
                  <a:lnTo>
                    <a:pt x="1181" y="1473"/>
                  </a:lnTo>
                  <a:lnTo>
                    <a:pt x="1188" y="1513"/>
                  </a:lnTo>
                  <a:lnTo>
                    <a:pt x="1198" y="1543"/>
                  </a:lnTo>
                  <a:lnTo>
                    <a:pt x="1211" y="1566"/>
                  </a:lnTo>
                  <a:lnTo>
                    <a:pt x="1221" y="1586"/>
                  </a:lnTo>
                  <a:lnTo>
                    <a:pt x="1235" y="1599"/>
                  </a:lnTo>
                  <a:lnTo>
                    <a:pt x="1235" y="1599"/>
                  </a:lnTo>
                  <a:lnTo>
                    <a:pt x="1221" y="1583"/>
                  </a:lnTo>
                  <a:lnTo>
                    <a:pt x="1185" y="1543"/>
                  </a:lnTo>
                  <a:lnTo>
                    <a:pt x="1158" y="1519"/>
                  </a:lnTo>
                  <a:lnTo>
                    <a:pt x="1131" y="1496"/>
                  </a:lnTo>
                  <a:lnTo>
                    <a:pt x="1101" y="1476"/>
                  </a:lnTo>
                  <a:lnTo>
                    <a:pt x="1074" y="1456"/>
                  </a:lnTo>
                  <a:lnTo>
                    <a:pt x="1044" y="1442"/>
                  </a:lnTo>
                  <a:lnTo>
                    <a:pt x="1031" y="1439"/>
                  </a:lnTo>
                  <a:lnTo>
                    <a:pt x="1018" y="1439"/>
                  </a:lnTo>
                  <a:lnTo>
                    <a:pt x="1004" y="1439"/>
                  </a:lnTo>
                  <a:lnTo>
                    <a:pt x="991" y="1446"/>
                  </a:lnTo>
                  <a:lnTo>
                    <a:pt x="978" y="1452"/>
                  </a:lnTo>
                  <a:lnTo>
                    <a:pt x="968" y="1463"/>
                  </a:lnTo>
                  <a:lnTo>
                    <a:pt x="961" y="1476"/>
                  </a:lnTo>
                  <a:lnTo>
                    <a:pt x="951" y="1493"/>
                  </a:lnTo>
                  <a:lnTo>
                    <a:pt x="944" y="1513"/>
                  </a:lnTo>
                  <a:lnTo>
                    <a:pt x="938" y="1539"/>
                  </a:lnTo>
                  <a:lnTo>
                    <a:pt x="934" y="1566"/>
                  </a:lnTo>
                  <a:lnTo>
                    <a:pt x="934" y="1599"/>
                  </a:lnTo>
                  <a:lnTo>
                    <a:pt x="934" y="1683"/>
                  </a:lnTo>
                  <a:lnTo>
                    <a:pt x="934" y="1683"/>
                  </a:lnTo>
                  <a:lnTo>
                    <a:pt x="928" y="1663"/>
                  </a:lnTo>
                  <a:lnTo>
                    <a:pt x="904" y="1613"/>
                  </a:lnTo>
                  <a:lnTo>
                    <a:pt x="871" y="1549"/>
                  </a:lnTo>
                  <a:lnTo>
                    <a:pt x="851" y="1519"/>
                  </a:lnTo>
                  <a:lnTo>
                    <a:pt x="827" y="1493"/>
                  </a:lnTo>
                  <a:lnTo>
                    <a:pt x="804" y="1473"/>
                  </a:lnTo>
                  <a:lnTo>
                    <a:pt x="781" y="1456"/>
                  </a:lnTo>
                  <a:lnTo>
                    <a:pt x="771" y="1452"/>
                  </a:lnTo>
                  <a:lnTo>
                    <a:pt x="757" y="1452"/>
                  </a:lnTo>
                  <a:lnTo>
                    <a:pt x="744" y="1452"/>
                  </a:lnTo>
                  <a:lnTo>
                    <a:pt x="734" y="1459"/>
                  </a:lnTo>
                  <a:lnTo>
                    <a:pt x="721" y="1466"/>
                  </a:lnTo>
                  <a:lnTo>
                    <a:pt x="707" y="1479"/>
                  </a:lnTo>
                  <a:lnTo>
                    <a:pt x="697" y="1496"/>
                  </a:lnTo>
                  <a:lnTo>
                    <a:pt x="684" y="1516"/>
                  </a:lnTo>
                  <a:lnTo>
                    <a:pt x="674" y="1543"/>
                  </a:lnTo>
                  <a:lnTo>
                    <a:pt x="664" y="1569"/>
                  </a:lnTo>
                  <a:lnTo>
                    <a:pt x="644" y="1646"/>
                  </a:lnTo>
                  <a:lnTo>
                    <a:pt x="644" y="1646"/>
                  </a:lnTo>
                  <a:lnTo>
                    <a:pt x="637" y="1626"/>
                  </a:lnTo>
                  <a:lnTo>
                    <a:pt x="624" y="1576"/>
                  </a:lnTo>
                  <a:lnTo>
                    <a:pt x="614" y="1546"/>
                  </a:lnTo>
                  <a:lnTo>
                    <a:pt x="600" y="1513"/>
                  </a:lnTo>
                  <a:lnTo>
                    <a:pt x="584" y="1483"/>
                  </a:lnTo>
                  <a:lnTo>
                    <a:pt x="564" y="1452"/>
                  </a:lnTo>
                  <a:lnTo>
                    <a:pt x="540" y="1429"/>
                  </a:lnTo>
                  <a:lnTo>
                    <a:pt x="527" y="1419"/>
                  </a:lnTo>
                  <a:lnTo>
                    <a:pt x="514" y="1412"/>
                  </a:lnTo>
                  <a:lnTo>
                    <a:pt x="497" y="1406"/>
                  </a:lnTo>
                  <a:lnTo>
                    <a:pt x="484" y="1402"/>
                  </a:lnTo>
                  <a:lnTo>
                    <a:pt x="467" y="1399"/>
                  </a:lnTo>
                  <a:lnTo>
                    <a:pt x="447" y="1402"/>
                  </a:lnTo>
                  <a:lnTo>
                    <a:pt x="427" y="1406"/>
                  </a:lnTo>
                  <a:lnTo>
                    <a:pt x="407" y="1416"/>
                  </a:lnTo>
                  <a:lnTo>
                    <a:pt x="387" y="1426"/>
                  </a:lnTo>
                  <a:lnTo>
                    <a:pt x="363" y="1442"/>
                  </a:lnTo>
                  <a:lnTo>
                    <a:pt x="340" y="1463"/>
                  </a:lnTo>
                  <a:lnTo>
                    <a:pt x="313" y="1486"/>
                  </a:lnTo>
                  <a:lnTo>
                    <a:pt x="290" y="1516"/>
                  </a:lnTo>
                  <a:lnTo>
                    <a:pt x="260" y="1549"/>
                  </a:lnTo>
                  <a:lnTo>
                    <a:pt x="260" y="1549"/>
                  </a:lnTo>
                  <a:lnTo>
                    <a:pt x="270" y="1533"/>
                  </a:lnTo>
                  <a:lnTo>
                    <a:pt x="283" y="1486"/>
                  </a:lnTo>
                  <a:lnTo>
                    <a:pt x="300" y="1426"/>
                  </a:lnTo>
                  <a:lnTo>
                    <a:pt x="303" y="1392"/>
                  </a:lnTo>
                  <a:lnTo>
                    <a:pt x="307" y="1356"/>
                  </a:lnTo>
                  <a:lnTo>
                    <a:pt x="307" y="1322"/>
                  </a:lnTo>
                  <a:lnTo>
                    <a:pt x="297" y="1292"/>
                  </a:lnTo>
                  <a:lnTo>
                    <a:pt x="283" y="1262"/>
                  </a:lnTo>
                  <a:lnTo>
                    <a:pt x="277" y="1249"/>
                  </a:lnTo>
                  <a:lnTo>
                    <a:pt x="263" y="1239"/>
                  </a:lnTo>
                  <a:lnTo>
                    <a:pt x="250" y="1229"/>
                  </a:lnTo>
                  <a:lnTo>
                    <a:pt x="237" y="1219"/>
                  </a:lnTo>
                  <a:lnTo>
                    <a:pt x="217" y="1212"/>
                  </a:lnTo>
                  <a:lnTo>
                    <a:pt x="196" y="1209"/>
                  </a:lnTo>
                  <a:lnTo>
                    <a:pt x="173" y="1205"/>
                  </a:lnTo>
                  <a:lnTo>
                    <a:pt x="150" y="1205"/>
                  </a:lnTo>
                  <a:lnTo>
                    <a:pt x="120" y="1205"/>
                  </a:lnTo>
                  <a:lnTo>
                    <a:pt x="90" y="1209"/>
                  </a:lnTo>
                  <a:lnTo>
                    <a:pt x="90" y="1209"/>
                  </a:lnTo>
                  <a:lnTo>
                    <a:pt x="103" y="1199"/>
                  </a:lnTo>
                  <a:lnTo>
                    <a:pt x="133" y="1165"/>
                  </a:lnTo>
                  <a:lnTo>
                    <a:pt x="150" y="1145"/>
                  </a:lnTo>
                  <a:lnTo>
                    <a:pt x="166" y="1122"/>
                  </a:lnTo>
                  <a:lnTo>
                    <a:pt x="183" y="1095"/>
                  </a:lnTo>
                  <a:lnTo>
                    <a:pt x="196" y="1069"/>
                  </a:lnTo>
                  <a:lnTo>
                    <a:pt x="203" y="1039"/>
                  </a:lnTo>
                  <a:lnTo>
                    <a:pt x="207" y="1012"/>
                  </a:lnTo>
                  <a:lnTo>
                    <a:pt x="203" y="995"/>
                  </a:lnTo>
                  <a:lnTo>
                    <a:pt x="200" y="982"/>
                  </a:lnTo>
                  <a:lnTo>
                    <a:pt x="193" y="968"/>
                  </a:lnTo>
                  <a:lnTo>
                    <a:pt x="183" y="955"/>
                  </a:lnTo>
                  <a:lnTo>
                    <a:pt x="173" y="945"/>
                  </a:lnTo>
                  <a:lnTo>
                    <a:pt x="156" y="932"/>
                  </a:lnTo>
                  <a:lnTo>
                    <a:pt x="140" y="922"/>
                  </a:lnTo>
                  <a:lnTo>
                    <a:pt x="120" y="912"/>
                  </a:lnTo>
                  <a:lnTo>
                    <a:pt x="96" y="902"/>
                  </a:lnTo>
                  <a:lnTo>
                    <a:pt x="66" y="895"/>
                  </a:lnTo>
                  <a:lnTo>
                    <a:pt x="0" y="878"/>
                  </a:lnTo>
                  <a:lnTo>
                    <a:pt x="0" y="878"/>
                  </a:lnTo>
                  <a:lnTo>
                    <a:pt x="16" y="872"/>
                  </a:lnTo>
                  <a:lnTo>
                    <a:pt x="63" y="848"/>
                  </a:lnTo>
                  <a:lnTo>
                    <a:pt x="90" y="832"/>
                  </a:lnTo>
                  <a:lnTo>
                    <a:pt x="120" y="812"/>
                  </a:lnTo>
                  <a:lnTo>
                    <a:pt x="150" y="788"/>
                  </a:lnTo>
                  <a:lnTo>
                    <a:pt x="176" y="758"/>
                  </a:lnTo>
                  <a:lnTo>
                    <a:pt x="203" y="728"/>
                  </a:lnTo>
                  <a:lnTo>
                    <a:pt x="220" y="691"/>
                  </a:lnTo>
                  <a:lnTo>
                    <a:pt x="230" y="671"/>
                  </a:lnTo>
                  <a:lnTo>
                    <a:pt x="233" y="651"/>
                  </a:lnTo>
                  <a:lnTo>
                    <a:pt x="237" y="631"/>
                  </a:lnTo>
                  <a:lnTo>
                    <a:pt x="240" y="608"/>
                  </a:lnTo>
                  <a:lnTo>
                    <a:pt x="237" y="585"/>
                  </a:lnTo>
                  <a:lnTo>
                    <a:pt x="233" y="558"/>
                  </a:lnTo>
                  <a:lnTo>
                    <a:pt x="227" y="535"/>
                  </a:lnTo>
                  <a:lnTo>
                    <a:pt x="217" y="508"/>
                  </a:lnTo>
                  <a:lnTo>
                    <a:pt x="203" y="481"/>
                  </a:lnTo>
                  <a:lnTo>
                    <a:pt x="186" y="451"/>
                  </a:lnTo>
                  <a:lnTo>
                    <a:pt x="166" y="421"/>
                  </a:lnTo>
                  <a:lnTo>
                    <a:pt x="143" y="391"/>
                  </a:lnTo>
                  <a:lnTo>
                    <a:pt x="143" y="391"/>
                  </a:lnTo>
                  <a:lnTo>
                    <a:pt x="156" y="394"/>
                  </a:lnTo>
                  <a:lnTo>
                    <a:pt x="200" y="394"/>
                  </a:lnTo>
                  <a:lnTo>
                    <a:pt x="257" y="391"/>
                  </a:lnTo>
                  <a:lnTo>
                    <a:pt x="290" y="384"/>
                  </a:lnTo>
                  <a:lnTo>
                    <a:pt x="320" y="378"/>
                  </a:lnTo>
                  <a:lnTo>
                    <a:pt x="350" y="364"/>
                  </a:lnTo>
                  <a:lnTo>
                    <a:pt x="380" y="348"/>
                  </a:lnTo>
                  <a:lnTo>
                    <a:pt x="403" y="328"/>
                  </a:lnTo>
                  <a:lnTo>
                    <a:pt x="423" y="304"/>
                  </a:lnTo>
                  <a:lnTo>
                    <a:pt x="430" y="288"/>
                  </a:lnTo>
                  <a:lnTo>
                    <a:pt x="437" y="271"/>
                  </a:lnTo>
                  <a:lnTo>
                    <a:pt x="440" y="254"/>
                  </a:lnTo>
                  <a:lnTo>
                    <a:pt x="440" y="234"/>
                  </a:lnTo>
                  <a:lnTo>
                    <a:pt x="440" y="211"/>
                  </a:lnTo>
                  <a:lnTo>
                    <a:pt x="440" y="187"/>
                  </a:lnTo>
                  <a:lnTo>
                    <a:pt x="433" y="164"/>
                  </a:lnTo>
                  <a:lnTo>
                    <a:pt x="427" y="137"/>
                  </a:lnTo>
                  <a:lnTo>
                    <a:pt x="427" y="137"/>
                  </a:lnTo>
                  <a:lnTo>
                    <a:pt x="440" y="147"/>
                  </a:lnTo>
                  <a:lnTo>
                    <a:pt x="477" y="177"/>
                  </a:lnTo>
                  <a:lnTo>
                    <a:pt x="504" y="194"/>
                  </a:lnTo>
                  <a:lnTo>
                    <a:pt x="530" y="211"/>
                  </a:lnTo>
                  <a:lnTo>
                    <a:pt x="560" y="227"/>
                  </a:lnTo>
                  <a:lnTo>
                    <a:pt x="590" y="237"/>
                  </a:lnTo>
                  <a:lnTo>
                    <a:pt x="624" y="244"/>
                  </a:lnTo>
                  <a:lnTo>
                    <a:pt x="654" y="241"/>
                  </a:lnTo>
                  <a:lnTo>
                    <a:pt x="667" y="237"/>
                  </a:lnTo>
                  <a:lnTo>
                    <a:pt x="681" y="231"/>
                  </a:lnTo>
                  <a:lnTo>
                    <a:pt x="694" y="224"/>
                  </a:lnTo>
                  <a:lnTo>
                    <a:pt x="707" y="211"/>
                  </a:lnTo>
                  <a:lnTo>
                    <a:pt x="717" y="197"/>
                  </a:lnTo>
                  <a:lnTo>
                    <a:pt x="727" y="181"/>
                  </a:lnTo>
                  <a:lnTo>
                    <a:pt x="737" y="161"/>
                  </a:lnTo>
                  <a:lnTo>
                    <a:pt x="747" y="137"/>
                  </a:lnTo>
                  <a:lnTo>
                    <a:pt x="754" y="107"/>
                  </a:lnTo>
                  <a:lnTo>
                    <a:pt x="757" y="77"/>
                  </a:lnTo>
                  <a:lnTo>
                    <a:pt x="761" y="41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faf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68480" y="4485600"/>
              <a:ext cx="538920" cy="155520"/>
            </a:xfrm>
            <a:custGeom>
              <a:avLst/>
              <a:gdLst/>
              <a:ahLst/>
              <a:rect l="l" t="t" r="r" b="b"/>
              <a:pathLst>
                <a:path w="253" h="73">
                  <a:moveTo>
                    <a:pt x="16" y="0"/>
                  </a:moveTo>
                  <a:lnTo>
                    <a:pt x="16" y="0"/>
                  </a:lnTo>
                  <a:lnTo>
                    <a:pt x="40" y="13"/>
                  </a:lnTo>
                  <a:lnTo>
                    <a:pt x="63" y="26"/>
                  </a:lnTo>
                  <a:lnTo>
                    <a:pt x="93" y="36"/>
                  </a:lnTo>
                  <a:lnTo>
                    <a:pt x="130" y="43"/>
                  </a:lnTo>
                  <a:lnTo>
                    <a:pt x="150" y="46"/>
                  </a:lnTo>
                  <a:lnTo>
                    <a:pt x="170" y="46"/>
                  </a:lnTo>
                  <a:lnTo>
                    <a:pt x="190" y="43"/>
                  </a:lnTo>
                  <a:lnTo>
                    <a:pt x="210" y="36"/>
                  </a:lnTo>
                  <a:lnTo>
                    <a:pt x="230" y="30"/>
                  </a:lnTo>
                  <a:lnTo>
                    <a:pt x="250" y="20"/>
                  </a:lnTo>
                  <a:lnTo>
                    <a:pt x="250" y="20"/>
                  </a:lnTo>
                  <a:lnTo>
                    <a:pt x="253" y="26"/>
                  </a:lnTo>
                  <a:lnTo>
                    <a:pt x="253" y="36"/>
                  </a:lnTo>
                  <a:lnTo>
                    <a:pt x="250" y="46"/>
                  </a:lnTo>
                  <a:lnTo>
                    <a:pt x="250" y="46"/>
                  </a:lnTo>
                  <a:lnTo>
                    <a:pt x="240" y="53"/>
                  </a:lnTo>
                  <a:lnTo>
                    <a:pt x="220" y="63"/>
                  </a:lnTo>
                  <a:lnTo>
                    <a:pt x="193" y="70"/>
                  </a:lnTo>
                  <a:lnTo>
                    <a:pt x="160" y="73"/>
                  </a:lnTo>
                  <a:lnTo>
                    <a:pt x="123" y="73"/>
                  </a:lnTo>
                  <a:lnTo>
                    <a:pt x="83" y="66"/>
                  </a:lnTo>
                  <a:lnTo>
                    <a:pt x="63" y="60"/>
                  </a:lnTo>
                  <a:lnTo>
                    <a:pt x="43" y="53"/>
                  </a:lnTo>
                  <a:lnTo>
                    <a:pt x="23" y="43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10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64920" y="4400640"/>
              <a:ext cx="340920" cy="313200"/>
            </a:xfrm>
            <a:custGeom>
              <a:avLst/>
              <a:gdLst/>
              <a:ahLst/>
              <a:rect l="l" t="t" r="r" b="b"/>
              <a:pathLst>
                <a:path w="160" h="147">
                  <a:moveTo>
                    <a:pt x="4" y="63"/>
                  </a:moveTo>
                  <a:lnTo>
                    <a:pt x="4" y="63"/>
                  </a:lnTo>
                  <a:lnTo>
                    <a:pt x="10" y="53"/>
                  </a:lnTo>
                  <a:lnTo>
                    <a:pt x="14" y="43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13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4" y="13"/>
                  </a:lnTo>
                  <a:lnTo>
                    <a:pt x="40" y="23"/>
                  </a:lnTo>
                  <a:lnTo>
                    <a:pt x="37" y="36"/>
                  </a:lnTo>
                  <a:lnTo>
                    <a:pt x="37" y="36"/>
                  </a:lnTo>
                  <a:lnTo>
                    <a:pt x="34" y="40"/>
                  </a:lnTo>
                  <a:lnTo>
                    <a:pt x="34" y="43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47" y="50"/>
                  </a:lnTo>
                  <a:lnTo>
                    <a:pt x="64" y="46"/>
                  </a:lnTo>
                  <a:lnTo>
                    <a:pt x="80" y="40"/>
                  </a:lnTo>
                  <a:lnTo>
                    <a:pt x="97" y="33"/>
                  </a:lnTo>
                  <a:lnTo>
                    <a:pt x="97" y="33"/>
                  </a:lnTo>
                  <a:lnTo>
                    <a:pt x="110" y="26"/>
                  </a:lnTo>
                  <a:lnTo>
                    <a:pt x="120" y="23"/>
                  </a:lnTo>
                  <a:lnTo>
                    <a:pt x="130" y="23"/>
                  </a:lnTo>
                  <a:lnTo>
                    <a:pt x="134" y="26"/>
                  </a:lnTo>
                  <a:lnTo>
                    <a:pt x="134" y="33"/>
                  </a:lnTo>
                  <a:lnTo>
                    <a:pt x="134" y="33"/>
                  </a:lnTo>
                  <a:lnTo>
                    <a:pt x="134" y="40"/>
                  </a:lnTo>
                  <a:lnTo>
                    <a:pt x="130" y="46"/>
                  </a:lnTo>
                  <a:lnTo>
                    <a:pt x="120" y="53"/>
                  </a:lnTo>
                  <a:lnTo>
                    <a:pt x="104" y="60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7" y="70"/>
                  </a:lnTo>
                  <a:lnTo>
                    <a:pt x="67" y="73"/>
                  </a:lnTo>
                  <a:lnTo>
                    <a:pt x="77" y="76"/>
                  </a:lnTo>
                  <a:lnTo>
                    <a:pt x="77" y="76"/>
                  </a:lnTo>
                  <a:lnTo>
                    <a:pt x="94" y="76"/>
                  </a:lnTo>
                  <a:lnTo>
                    <a:pt x="107" y="76"/>
                  </a:lnTo>
                  <a:lnTo>
                    <a:pt x="117" y="73"/>
                  </a:lnTo>
                  <a:lnTo>
                    <a:pt x="127" y="70"/>
                  </a:lnTo>
                  <a:lnTo>
                    <a:pt x="127" y="70"/>
                  </a:lnTo>
                  <a:lnTo>
                    <a:pt x="137" y="63"/>
                  </a:lnTo>
                  <a:lnTo>
                    <a:pt x="147" y="63"/>
                  </a:lnTo>
                  <a:lnTo>
                    <a:pt x="154" y="63"/>
                  </a:lnTo>
                  <a:lnTo>
                    <a:pt x="160" y="66"/>
                  </a:lnTo>
                  <a:lnTo>
                    <a:pt x="160" y="66"/>
                  </a:lnTo>
                  <a:lnTo>
                    <a:pt x="160" y="73"/>
                  </a:lnTo>
                  <a:lnTo>
                    <a:pt x="160" y="80"/>
                  </a:lnTo>
                  <a:lnTo>
                    <a:pt x="154" y="86"/>
                  </a:lnTo>
                  <a:lnTo>
                    <a:pt x="144" y="90"/>
                  </a:lnTo>
                  <a:lnTo>
                    <a:pt x="144" y="90"/>
                  </a:lnTo>
                  <a:lnTo>
                    <a:pt x="134" y="96"/>
                  </a:lnTo>
                  <a:lnTo>
                    <a:pt x="117" y="96"/>
                  </a:lnTo>
                  <a:lnTo>
                    <a:pt x="94" y="100"/>
                  </a:lnTo>
                  <a:lnTo>
                    <a:pt x="67" y="96"/>
                  </a:lnTo>
                  <a:lnTo>
                    <a:pt x="67" y="96"/>
                  </a:lnTo>
                  <a:lnTo>
                    <a:pt x="60" y="96"/>
                  </a:lnTo>
                  <a:lnTo>
                    <a:pt x="57" y="100"/>
                  </a:lnTo>
                  <a:lnTo>
                    <a:pt x="64" y="106"/>
                  </a:lnTo>
                  <a:lnTo>
                    <a:pt x="64" y="106"/>
                  </a:lnTo>
                  <a:lnTo>
                    <a:pt x="70" y="113"/>
                  </a:lnTo>
                  <a:lnTo>
                    <a:pt x="80" y="120"/>
                  </a:lnTo>
                  <a:lnTo>
                    <a:pt x="94" y="123"/>
                  </a:lnTo>
                  <a:lnTo>
                    <a:pt x="107" y="123"/>
                  </a:lnTo>
                  <a:lnTo>
                    <a:pt x="107" y="123"/>
                  </a:lnTo>
                  <a:lnTo>
                    <a:pt x="117" y="123"/>
                  </a:lnTo>
                  <a:lnTo>
                    <a:pt x="124" y="127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4" y="137"/>
                  </a:lnTo>
                  <a:lnTo>
                    <a:pt x="120" y="143"/>
                  </a:lnTo>
                  <a:lnTo>
                    <a:pt x="114" y="147"/>
                  </a:lnTo>
                  <a:lnTo>
                    <a:pt x="107" y="147"/>
                  </a:lnTo>
                  <a:lnTo>
                    <a:pt x="100" y="143"/>
                  </a:lnTo>
                  <a:lnTo>
                    <a:pt x="100" y="143"/>
                  </a:lnTo>
                  <a:lnTo>
                    <a:pt x="64" y="130"/>
                  </a:lnTo>
                  <a:lnTo>
                    <a:pt x="40" y="120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7" y="103"/>
                  </a:lnTo>
                  <a:lnTo>
                    <a:pt x="7" y="86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9600" y="2705760"/>
              <a:ext cx="2254680" cy="2248560"/>
            </a:xfrm>
            <a:custGeom>
              <a:avLst/>
              <a:gdLst/>
              <a:ahLst/>
              <a:rect l="l" t="t" r="r" b="b"/>
              <a:pathLst>
                <a:path w="1058" h="1055">
                  <a:moveTo>
                    <a:pt x="1058" y="528"/>
                  </a:moveTo>
                  <a:lnTo>
                    <a:pt x="1058" y="528"/>
                  </a:lnTo>
                  <a:lnTo>
                    <a:pt x="1055" y="581"/>
                  </a:lnTo>
                  <a:lnTo>
                    <a:pt x="1048" y="634"/>
                  </a:lnTo>
                  <a:lnTo>
                    <a:pt x="1035" y="685"/>
                  </a:lnTo>
                  <a:lnTo>
                    <a:pt x="1015" y="735"/>
                  </a:lnTo>
                  <a:lnTo>
                    <a:pt x="995" y="778"/>
                  </a:lnTo>
                  <a:lnTo>
                    <a:pt x="968" y="821"/>
                  </a:lnTo>
                  <a:lnTo>
                    <a:pt x="938" y="865"/>
                  </a:lnTo>
                  <a:lnTo>
                    <a:pt x="901" y="901"/>
                  </a:lnTo>
                  <a:lnTo>
                    <a:pt x="864" y="935"/>
                  </a:lnTo>
                  <a:lnTo>
                    <a:pt x="824" y="965"/>
                  </a:lnTo>
                  <a:lnTo>
                    <a:pt x="781" y="992"/>
                  </a:lnTo>
                  <a:lnTo>
                    <a:pt x="734" y="1015"/>
                  </a:lnTo>
                  <a:lnTo>
                    <a:pt x="688" y="1032"/>
                  </a:lnTo>
                  <a:lnTo>
                    <a:pt x="634" y="1045"/>
                  </a:lnTo>
                  <a:lnTo>
                    <a:pt x="584" y="1052"/>
                  </a:lnTo>
                  <a:lnTo>
                    <a:pt x="531" y="1055"/>
                  </a:lnTo>
                  <a:lnTo>
                    <a:pt x="531" y="1055"/>
                  </a:lnTo>
                  <a:lnTo>
                    <a:pt x="474" y="1052"/>
                  </a:lnTo>
                  <a:lnTo>
                    <a:pt x="424" y="1045"/>
                  </a:lnTo>
                  <a:lnTo>
                    <a:pt x="374" y="1032"/>
                  </a:lnTo>
                  <a:lnTo>
                    <a:pt x="324" y="1015"/>
                  </a:lnTo>
                  <a:lnTo>
                    <a:pt x="277" y="992"/>
                  </a:lnTo>
                  <a:lnTo>
                    <a:pt x="234" y="965"/>
                  </a:lnTo>
                  <a:lnTo>
                    <a:pt x="194" y="935"/>
                  </a:lnTo>
                  <a:lnTo>
                    <a:pt x="157" y="901"/>
                  </a:lnTo>
                  <a:lnTo>
                    <a:pt x="123" y="865"/>
                  </a:lnTo>
                  <a:lnTo>
                    <a:pt x="90" y="821"/>
                  </a:lnTo>
                  <a:lnTo>
                    <a:pt x="63" y="778"/>
                  </a:lnTo>
                  <a:lnTo>
                    <a:pt x="43" y="735"/>
                  </a:lnTo>
                  <a:lnTo>
                    <a:pt x="23" y="685"/>
                  </a:lnTo>
                  <a:lnTo>
                    <a:pt x="13" y="634"/>
                  </a:lnTo>
                  <a:lnTo>
                    <a:pt x="3" y="581"/>
                  </a:lnTo>
                  <a:lnTo>
                    <a:pt x="0" y="528"/>
                  </a:lnTo>
                  <a:lnTo>
                    <a:pt x="0" y="528"/>
                  </a:lnTo>
                  <a:lnTo>
                    <a:pt x="3" y="474"/>
                  </a:lnTo>
                  <a:lnTo>
                    <a:pt x="13" y="421"/>
                  </a:lnTo>
                  <a:lnTo>
                    <a:pt x="23" y="371"/>
                  </a:lnTo>
                  <a:lnTo>
                    <a:pt x="43" y="321"/>
                  </a:lnTo>
                  <a:lnTo>
                    <a:pt x="63" y="277"/>
                  </a:lnTo>
                  <a:lnTo>
                    <a:pt x="90" y="231"/>
                  </a:lnTo>
                  <a:lnTo>
                    <a:pt x="123" y="191"/>
                  </a:lnTo>
                  <a:lnTo>
                    <a:pt x="157" y="154"/>
                  </a:lnTo>
                  <a:lnTo>
                    <a:pt x="194" y="120"/>
                  </a:lnTo>
                  <a:lnTo>
                    <a:pt x="234" y="90"/>
                  </a:lnTo>
                  <a:lnTo>
                    <a:pt x="277" y="64"/>
                  </a:lnTo>
                  <a:lnTo>
                    <a:pt x="324" y="40"/>
                  </a:lnTo>
                  <a:lnTo>
                    <a:pt x="374" y="24"/>
                  </a:lnTo>
                  <a:lnTo>
                    <a:pt x="424" y="10"/>
                  </a:lnTo>
                  <a:lnTo>
                    <a:pt x="474" y="4"/>
                  </a:lnTo>
                  <a:lnTo>
                    <a:pt x="531" y="0"/>
                  </a:lnTo>
                  <a:lnTo>
                    <a:pt x="531" y="0"/>
                  </a:lnTo>
                  <a:lnTo>
                    <a:pt x="584" y="4"/>
                  </a:lnTo>
                  <a:lnTo>
                    <a:pt x="634" y="10"/>
                  </a:lnTo>
                  <a:lnTo>
                    <a:pt x="688" y="24"/>
                  </a:lnTo>
                  <a:lnTo>
                    <a:pt x="734" y="40"/>
                  </a:lnTo>
                  <a:lnTo>
                    <a:pt x="781" y="64"/>
                  </a:lnTo>
                  <a:lnTo>
                    <a:pt x="824" y="90"/>
                  </a:lnTo>
                  <a:lnTo>
                    <a:pt x="864" y="120"/>
                  </a:lnTo>
                  <a:lnTo>
                    <a:pt x="901" y="154"/>
                  </a:lnTo>
                  <a:lnTo>
                    <a:pt x="938" y="191"/>
                  </a:lnTo>
                  <a:lnTo>
                    <a:pt x="968" y="231"/>
                  </a:lnTo>
                  <a:lnTo>
                    <a:pt x="995" y="277"/>
                  </a:lnTo>
                  <a:lnTo>
                    <a:pt x="1015" y="321"/>
                  </a:lnTo>
                  <a:lnTo>
                    <a:pt x="1035" y="371"/>
                  </a:lnTo>
                  <a:lnTo>
                    <a:pt x="1048" y="421"/>
                  </a:lnTo>
                  <a:lnTo>
                    <a:pt x="1055" y="474"/>
                  </a:lnTo>
                  <a:lnTo>
                    <a:pt x="1058" y="528"/>
                  </a:lnTo>
                  <a:lnTo>
                    <a:pt x="1058" y="528"/>
                  </a:lnTo>
                  <a:close/>
                </a:path>
              </a:pathLst>
            </a:custGeom>
            <a:solidFill>
              <a:srgbClr val="f7c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39600" y="3012840"/>
              <a:ext cx="1950120" cy="1941480"/>
            </a:xfrm>
            <a:custGeom>
              <a:avLst/>
              <a:gdLst/>
              <a:ahLst/>
              <a:rect l="l" t="t" r="r" b="b"/>
              <a:pathLst>
                <a:path w="915" h="911">
                  <a:moveTo>
                    <a:pt x="551" y="891"/>
                  </a:moveTo>
                  <a:lnTo>
                    <a:pt x="551" y="891"/>
                  </a:lnTo>
                  <a:lnTo>
                    <a:pt x="497" y="888"/>
                  </a:lnTo>
                  <a:lnTo>
                    <a:pt x="444" y="878"/>
                  </a:lnTo>
                  <a:lnTo>
                    <a:pt x="394" y="868"/>
                  </a:lnTo>
                  <a:lnTo>
                    <a:pt x="344" y="848"/>
                  </a:lnTo>
                  <a:lnTo>
                    <a:pt x="300" y="828"/>
                  </a:lnTo>
                  <a:lnTo>
                    <a:pt x="257" y="801"/>
                  </a:lnTo>
                  <a:lnTo>
                    <a:pt x="214" y="771"/>
                  </a:lnTo>
                  <a:lnTo>
                    <a:pt x="177" y="734"/>
                  </a:lnTo>
                  <a:lnTo>
                    <a:pt x="143" y="697"/>
                  </a:lnTo>
                  <a:lnTo>
                    <a:pt x="113" y="657"/>
                  </a:lnTo>
                  <a:lnTo>
                    <a:pt x="87" y="614"/>
                  </a:lnTo>
                  <a:lnTo>
                    <a:pt x="63" y="567"/>
                  </a:lnTo>
                  <a:lnTo>
                    <a:pt x="47" y="520"/>
                  </a:lnTo>
                  <a:lnTo>
                    <a:pt x="33" y="467"/>
                  </a:lnTo>
                  <a:lnTo>
                    <a:pt x="27" y="417"/>
                  </a:lnTo>
                  <a:lnTo>
                    <a:pt x="23" y="360"/>
                  </a:lnTo>
                  <a:lnTo>
                    <a:pt x="23" y="360"/>
                  </a:lnTo>
                  <a:lnTo>
                    <a:pt x="27" y="310"/>
                  </a:lnTo>
                  <a:lnTo>
                    <a:pt x="33" y="260"/>
                  </a:lnTo>
                  <a:lnTo>
                    <a:pt x="43" y="210"/>
                  </a:lnTo>
                  <a:lnTo>
                    <a:pt x="60" y="163"/>
                  </a:lnTo>
                  <a:lnTo>
                    <a:pt x="83" y="120"/>
                  </a:lnTo>
                  <a:lnTo>
                    <a:pt x="107" y="77"/>
                  </a:lnTo>
                  <a:lnTo>
                    <a:pt x="133" y="36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0" y="36"/>
                  </a:lnTo>
                  <a:lnTo>
                    <a:pt x="97" y="80"/>
                  </a:lnTo>
                  <a:lnTo>
                    <a:pt x="70" y="123"/>
                  </a:lnTo>
                  <a:lnTo>
                    <a:pt x="47" y="170"/>
                  </a:lnTo>
                  <a:lnTo>
                    <a:pt x="27" y="220"/>
                  </a:lnTo>
                  <a:lnTo>
                    <a:pt x="13" y="273"/>
                  </a:lnTo>
                  <a:lnTo>
                    <a:pt x="3" y="327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3" y="437"/>
                  </a:lnTo>
                  <a:lnTo>
                    <a:pt x="13" y="490"/>
                  </a:lnTo>
                  <a:lnTo>
                    <a:pt x="23" y="541"/>
                  </a:lnTo>
                  <a:lnTo>
                    <a:pt x="43" y="591"/>
                  </a:lnTo>
                  <a:lnTo>
                    <a:pt x="63" y="634"/>
                  </a:lnTo>
                  <a:lnTo>
                    <a:pt x="90" y="677"/>
                  </a:lnTo>
                  <a:lnTo>
                    <a:pt x="123" y="721"/>
                  </a:lnTo>
                  <a:lnTo>
                    <a:pt x="157" y="757"/>
                  </a:lnTo>
                  <a:lnTo>
                    <a:pt x="194" y="791"/>
                  </a:lnTo>
                  <a:lnTo>
                    <a:pt x="234" y="821"/>
                  </a:lnTo>
                  <a:lnTo>
                    <a:pt x="277" y="848"/>
                  </a:lnTo>
                  <a:lnTo>
                    <a:pt x="324" y="871"/>
                  </a:lnTo>
                  <a:lnTo>
                    <a:pt x="374" y="888"/>
                  </a:lnTo>
                  <a:lnTo>
                    <a:pt x="424" y="901"/>
                  </a:lnTo>
                  <a:lnTo>
                    <a:pt x="474" y="908"/>
                  </a:lnTo>
                  <a:lnTo>
                    <a:pt x="531" y="911"/>
                  </a:lnTo>
                  <a:lnTo>
                    <a:pt x="531" y="911"/>
                  </a:lnTo>
                  <a:lnTo>
                    <a:pt x="584" y="908"/>
                  </a:lnTo>
                  <a:lnTo>
                    <a:pt x="641" y="901"/>
                  </a:lnTo>
                  <a:lnTo>
                    <a:pt x="691" y="888"/>
                  </a:lnTo>
                  <a:lnTo>
                    <a:pt x="741" y="868"/>
                  </a:lnTo>
                  <a:lnTo>
                    <a:pt x="788" y="844"/>
                  </a:lnTo>
                  <a:lnTo>
                    <a:pt x="834" y="814"/>
                  </a:lnTo>
                  <a:lnTo>
                    <a:pt x="874" y="781"/>
                  </a:lnTo>
                  <a:lnTo>
                    <a:pt x="915" y="747"/>
                  </a:lnTo>
                  <a:lnTo>
                    <a:pt x="915" y="747"/>
                  </a:lnTo>
                  <a:lnTo>
                    <a:pt x="878" y="778"/>
                  </a:lnTo>
                  <a:lnTo>
                    <a:pt x="838" y="808"/>
                  </a:lnTo>
                  <a:lnTo>
                    <a:pt x="794" y="831"/>
                  </a:lnTo>
                  <a:lnTo>
                    <a:pt x="748" y="851"/>
                  </a:lnTo>
                  <a:lnTo>
                    <a:pt x="701" y="868"/>
                  </a:lnTo>
                  <a:lnTo>
                    <a:pt x="654" y="881"/>
                  </a:lnTo>
                  <a:lnTo>
                    <a:pt x="604" y="888"/>
                  </a:lnTo>
                  <a:lnTo>
                    <a:pt x="551" y="891"/>
                  </a:lnTo>
                  <a:lnTo>
                    <a:pt x="551" y="891"/>
                  </a:lnTo>
                  <a:close/>
                </a:path>
              </a:pathLst>
            </a:custGeom>
            <a:solidFill>
              <a:srgbClr val="df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96840" y="2763360"/>
              <a:ext cx="2139480" cy="2133360"/>
            </a:xfrm>
            <a:custGeom>
              <a:avLst/>
              <a:gdLst/>
              <a:ahLst/>
              <a:rect l="l" t="t" r="r" b="b"/>
              <a:pathLst>
                <a:path w="1004" h="1001">
                  <a:moveTo>
                    <a:pt x="1004" y="501"/>
                  </a:moveTo>
                  <a:lnTo>
                    <a:pt x="1004" y="501"/>
                  </a:lnTo>
                  <a:lnTo>
                    <a:pt x="1001" y="551"/>
                  </a:lnTo>
                  <a:lnTo>
                    <a:pt x="994" y="601"/>
                  </a:lnTo>
                  <a:lnTo>
                    <a:pt x="981" y="651"/>
                  </a:lnTo>
                  <a:lnTo>
                    <a:pt x="964" y="694"/>
                  </a:lnTo>
                  <a:lnTo>
                    <a:pt x="944" y="741"/>
                  </a:lnTo>
                  <a:lnTo>
                    <a:pt x="918" y="781"/>
                  </a:lnTo>
                  <a:lnTo>
                    <a:pt x="891" y="821"/>
                  </a:lnTo>
                  <a:lnTo>
                    <a:pt x="857" y="854"/>
                  </a:lnTo>
                  <a:lnTo>
                    <a:pt x="821" y="888"/>
                  </a:lnTo>
                  <a:lnTo>
                    <a:pt x="784" y="918"/>
                  </a:lnTo>
                  <a:lnTo>
                    <a:pt x="741" y="941"/>
                  </a:lnTo>
                  <a:lnTo>
                    <a:pt x="697" y="965"/>
                  </a:lnTo>
                  <a:lnTo>
                    <a:pt x="651" y="981"/>
                  </a:lnTo>
                  <a:lnTo>
                    <a:pt x="604" y="991"/>
                  </a:lnTo>
                  <a:lnTo>
                    <a:pt x="554" y="1001"/>
                  </a:lnTo>
                  <a:lnTo>
                    <a:pt x="504" y="1001"/>
                  </a:lnTo>
                  <a:lnTo>
                    <a:pt x="504" y="1001"/>
                  </a:lnTo>
                  <a:lnTo>
                    <a:pt x="450" y="1001"/>
                  </a:lnTo>
                  <a:lnTo>
                    <a:pt x="400" y="991"/>
                  </a:lnTo>
                  <a:lnTo>
                    <a:pt x="353" y="981"/>
                  </a:lnTo>
                  <a:lnTo>
                    <a:pt x="307" y="965"/>
                  </a:lnTo>
                  <a:lnTo>
                    <a:pt x="263" y="941"/>
                  </a:lnTo>
                  <a:lnTo>
                    <a:pt x="220" y="918"/>
                  </a:lnTo>
                  <a:lnTo>
                    <a:pt x="183" y="888"/>
                  </a:lnTo>
                  <a:lnTo>
                    <a:pt x="146" y="854"/>
                  </a:lnTo>
                  <a:lnTo>
                    <a:pt x="116" y="821"/>
                  </a:lnTo>
                  <a:lnTo>
                    <a:pt x="86" y="781"/>
                  </a:lnTo>
                  <a:lnTo>
                    <a:pt x="60" y="741"/>
                  </a:lnTo>
                  <a:lnTo>
                    <a:pt x="40" y="694"/>
                  </a:lnTo>
                  <a:lnTo>
                    <a:pt x="23" y="651"/>
                  </a:lnTo>
                  <a:lnTo>
                    <a:pt x="10" y="601"/>
                  </a:lnTo>
                  <a:lnTo>
                    <a:pt x="3" y="551"/>
                  </a:lnTo>
                  <a:lnTo>
                    <a:pt x="0" y="501"/>
                  </a:lnTo>
                  <a:lnTo>
                    <a:pt x="0" y="501"/>
                  </a:lnTo>
                  <a:lnTo>
                    <a:pt x="3" y="451"/>
                  </a:lnTo>
                  <a:lnTo>
                    <a:pt x="10" y="400"/>
                  </a:lnTo>
                  <a:lnTo>
                    <a:pt x="23" y="350"/>
                  </a:lnTo>
                  <a:lnTo>
                    <a:pt x="40" y="304"/>
                  </a:lnTo>
                  <a:lnTo>
                    <a:pt x="60" y="260"/>
                  </a:lnTo>
                  <a:lnTo>
                    <a:pt x="86" y="220"/>
                  </a:lnTo>
                  <a:lnTo>
                    <a:pt x="116" y="180"/>
                  </a:lnTo>
                  <a:lnTo>
                    <a:pt x="146" y="147"/>
                  </a:lnTo>
                  <a:lnTo>
                    <a:pt x="183" y="113"/>
                  </a:lnTo>
                  <a:lnTo>
                    <a:pt x="220" y="83"/>
                  </a:lnTo>
                  <a:lnTo>
                    <a:pt x="263" y="60"/>
                  </a:lnTo>
                  <a:lnTo>
                    <a:pt x="307" y="37"/>
                  </a:lnTo>
                  <a:lnTo>
                    <a:pt x="353" y="20"/>
                  </a:lnTo>
                  <a:lnTo>
                    <a:pt x="400" y="10"/>
                  </a:lnTo>
                  <a:lnTo>
                    <a:pt x="450" y="0"/>
                  </a:lnTo>
                  <a:lnTo>
                    <a:pt x="504" y="0"/>
                  </a:lnTo>
                  <a:lnTo>
                    <a:pt x="504" y="0"/>
                  </a:lnTo>
                  <a:lnTo>
                    <a:pt x="554" y="0"/>
                  </a:lnTo>
                  <a:lnTo>
                    <a:pt x="604" y="10"/>
                  </a:lnTo>
                  <a:lnTo>
                    <a:pt x="651" y="20"/>
                  </a:lnTo>
                  <a:lnTo>
                    <a:pt x="697" y="37"/>
                  </a:lnTo>
                  <a:lnTo>
                    <a:pt x="741" y="60"/>
                  </a:lnTo>
                  <a:lnTo>
                    <a:pt x="784" y="83"/>
                  </a:lnTo>
                  <a:lnTo>
                    <a:pt x="821" y="113"/>
                  </a:lnTo>
                  <a:lnTo>
                    <a:pt x="857" y="147"/>
                  </a:lnTo>
                  <a:lnTo>
                    <a:pt x="891" y="180"/>
                  </a:lnTo>
                  <a:lnTo>
                    <a:pt x="918" y="220"/>
                  </a:lnTo>
                  <a:lnTo>
                    <a:pt x="944" y="260"/>
                  </a:lnTo>
                  <a:lnTo>
                    <a:pt x="964" y="304"/>
                  </a:lnTo>
                  <a:lnTo>
                    <a:pt x="981" y="350"/>
                  </a:lnTo>
                  <a:lnTo>
                    <a:pt x="994" y="400"/>
                  </a:lnTo>
                  <a:lnTo>
                    <a:pt x="1001" y="451"/>
                  </a:lnTo>
                  <a:lnTo>
                    <a:pt x="1004" y="501"/>
                  </a:lnTo>
                  <a:lnTo>
                    <a:pt x="1004" y="501"/>
                  </a:lnTo>
                  <a:close/>
                </a:path>
              </a:pathLst>
            </a:custGeom>
            <a:solidFill>
              <a:srgbClr val="f7c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31400" y="2784600"/>
              <a:ext cx="2077920" cy="2078280"/>
            </a:xfrm>
            <a:custGeom>
              <a:avLst/>
              <a:gdLst/>
              <a:ahLst/>
              <a:rect l="l" t="t" r="r" b="b"/>
              <a:pathLst>
                <a:path w="975" h="975">
                  <a:moveTo>
                    <a:pt x="488" y="975"/>
                  </a:moveTo>
                  <a:lnTo>
                    <a:pt x="488" y="975"/>
                  </a:lnTo>
                  <a:lnTo>
                    <a:pt x="438" y="975"/>
                  </a:lnTo>
                  <a:lnTo>
                    <a:pt x="391" y="965"/>
                  </a:lnTo>
                  <a:lnTo>
                    <a:pt x="344" y="955"/>
                  </a:lnTo>
                  <a:lnTo>
                    <a:pt x="301" y="938"/>
                  </a:lnTo>
                  <a:lnTo>
                    <a:pt x="257" y="918"/>
                  </a:lnTo>
                  <a:lnTo>
                    <a:pt x="217" y="891"/>
                  </a:lnTo>
                  <a:lnTo>
                    <a:pt x="181" y="864"/>
                  </a:lnTo>
                  <a:lnTo>
                    <a:pt x="144" y="834"/>
                  </a:lnTo>
                  <a:lnTo>
                    <a:pt x="114" y="798"/>
                  </a:lnTo>
                  <a:lnTo>
                    <a:pt x="84" y="761"/>
                  </a:lnTo>
                  <a:lnTo>
                    <a:pt x="60" y="721"/>
                  </a:lnTo>
                  <a:lnTo>
                    <a:pt x="40" y="678"/>
                  </a:lnTo>
                  <a:lnTo>
                    <a:pt x="24" y="634"/>
                  </a:lnTo>
                  <a:lnTo>
                    <a:pt x="10" y="587"/>
                  </a:lnTo>
                  <a:lnTo>
                    <a:pt x="4" y="537"/>
                  </a:lnTo>
                  <a:lnTo>
                    <a:pt x="0" y="487"/>
                  </a:lnTo>
                  <a:lnTo>
                    <a:pt x="0" y="487"/>
                  </a:lnTo>
                  <a:lnTo>
                    <a:pt x="4" y="437"/>
                  </a:lnTo>
                  <a:lnTo>
                    <a:pt x="10" y="390"/>
                  </a:lnTo>
                  <a:lnTo>
                    <a:pt x="24" y="344"/>
                  </a:lnTo>
                  <a:lnTo>
                    <a:pt x="40" y="300"/>
                  </a:lnTo>
                  <a:lnTo>
                    <a:pt x="60" y="257"/>
                  </a:lnTo>
                  <a:lnTo>
                    <a:pt x="84" y="217"/>
                  </a:lnTo>
                  <a:lnTo>
                    <a:pt x="114" y="180"/>
                  </a:lnTo>
                  <a:lnTo>
                    <a:pt x="144" y="143"/>
                  </a:lnTo>
                  <a:lnTo>
                    <a:pt x="181" y="113"/>
                  </a:lnTo>
                  <a:lnTo>
                    <a:pt x="217" y="83"/>
                  </a:lnTo>
                  <a:lnTo>
                    <a:pt x="257" y="60"/>
                  </a:lnTo>
                  <a:lnTo>
                    <a:pt x="301" y="40"/>
                  </a:lnTo>
                  <a:lnTo>
                    <a:pt x="344" y="23"/>
                  </a:lnTo>
                  <a:lnTo>
                    <a:pt x="391" y="10"/>
                  </a:lnTo>
                  <a:lnTo>
                    <a:pt x="438" y="3"/>
                  </a:lnTo>
                  <a:lnTo>
                    <a:pt x="488" y="0"/>
                  </a:lnTo>
                  <a:lnTo>
                    <a:pt x="488" y="0"/>
                  </a:lnTo>
                  <a:lnTo>
                    <a:pt x="538" y="3"/>
                  </a:lnTo>
                  <a:lnTo>
                    <a:pt x="588" y="10"/>
                  </a:lnTo>
                  <a:lnTo>
                    <a:pt x="635" y="23"/>
                  </a:lnTo>
                  <a:lnTo>
                    <a:pt x="678" y="40"/>
                  </a:lnTo>
                  <a:lnTo>
                    <a:pt x="721" y="60"/>
                  </a:lnTo>
                  <a:lnTo>
                    <a:pt x="761" y="83"/>
                  </a:lnTo>
                  <a:lnTo>
                    <a:pt x="798" y="113"/>
                  </a:lnTo>
                  <a:lnTo>
                    <a:pt x="835" y="143"/>
                  </a:lnTo>
                  <a:lnTo>
                    <a:pt x="865" y="180"/>
                  </a:lnTo>
                  <a:lnTo>
                    <a:pt x="892" y="217"/>
                  </a:lnTo>
                  <a:lnTo>
                    <a:pt x="918" y="257"/>
                  </a:lnTo>
                  <a:lnTo>
                    <a:pt x="938" y="300"/>
                  </a:lnTo>
                  <a:lnTo>
                    <a:pt x="955" y="344"/>
                  </a:lnTo>
                  <a:lnTo>
                    <a:pt x="965" y="390"/>
                  </a:lnTo>
                  <a:lnTo>
                    <a:pt x="975" y="437"/>
                  </a:lnTo>
                  <a:lnTo>
                    <a:pt x="975" y="487"/>
                  </a:lnTo>
                  <a:lnTo>
                    <a:pt x="975" y="487"/>
                  </a:lnTo>
                  <a:lnTo>
                    <a:pt x="975" y="537"/>
                  </a:lnTo>
                  <a:lnTo>
                    <a:pt x="965" y="587"/>
                  </a:lnTo>
                  <a:lnTo>
                    <a:pt x="955" y="634"/>
                  </a:lnTo>
                  <a:lnTo>
                    <a:pt x="938" y="678"/>
                  </a:lnTo>
                  <a:lnTo>
                    <a:pt x="918" y="721"/>
                  </a:lnTo>
                  <a:lnTo>
                    <a:pt x="892" y="761"/>
                  </a:lnTo>
                  <a:lnTo>
                    <a:pt x="865" y="798"/>
                  </a:lnTo>
                  <a:lnTo>
                    <a:pt x="835" y="834"/>
                  </a:lnTo>
                  <a:lnTo>
                    <a:pt x="798" y="864"/>
                  </a:lnTo>
                  <a:lnTo>
                    <a:pt x="761" y="891"/>
                  </a:lnTo>
                  <a:lnTo>
                    <a:pt x="721" y="918"/>
                  </a:lnTo>
                  <a:lnTo>
                    <a:pt x="678" y="938"/>
                  </a:lnTo>
                  <a:lnTo>
                    <a:pt x="635" y="955"/>
                  </a:lnTo>
                  <a:lnTo>
                    <a:pt x="588" y="965"/>
                  </a:lnTo>
                  <a:lnTo>
                    <a:pt x="538" y="975"/>
                  </a:lnTo>
                  <a:lnTo>
                    <a:pt x="488" y="975"/>
                  </a:lnTo>
                  <a:lnTo>
                    <a:pt x="488" y="975"/>
                  </a:lnTo>
                  <a:close/>
                </a:path>
              </a:pathLst>
            </a:custGeom>
            <a:solidFill>
              <a:srgbClr val="f7c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73880" y="2812680"/>
              <a:ext cx="2013840" cy="2013840"/>
            </a:xfrm>
            <a:custGeom>
              <a:avLst/>
              <a:gdLst/>
              <a:ahLst/>
              <a:rect l="l" t="t" r="r" b="b"/>
              <a:pathLst>
                <a:path w="945" h="945">
                  <a:moveTo>
                    <a:pt x="471" y="945"/>
                  </a:moveTo>
                  <a:lnTo>
                    <a:pt x="471" y="945"/>
                  </a:lnTo>
                  <a:lnTo>
                    <a:pt x="424" y="945"/>
                  </a:lnTo>
                  <a:lnTo>
                    <a:pt x="378" y="935"/>
                  </a:lnTo>
                  <a:lnTo>
                    <a:pt x="331" y="925"/>
                  </a:lnTo>
                  <a:lnTo>
                    <a:pt x="287" y="908"/>
                  </a:lnTo>
                  <a:lnTo>
                    <a:pt x="247" y="888"/>
                  </a:lnTo>
                  <a:lnTo>
                    <a:pt x="207" y="865"/>
                  </a:lnTo>
                  <a:lnTo>
                    <a:pt x="171" y="838"/>
                  </a:lnTo>
                  <a:lnTo>
                    <a:pt x="137" y="808"/>
                  </a:lnTo>
                  <a:lnTo>
                    <a:pt x="107" y="775"/>
                  </a:lnTo>
                  <a:lnTo>
                    <a:pt x="80" y="738"/>
                  </a:lnTo>
                  <a:lnTo>
                    <a:pt x="57" y="698"/>
                  </a:lnTo>
                  <a:lnTo>
                    <a:pt x="37" y="658"/>
                  </a:lnTo>
                  <a:lnTo>
                    <a:pt x="20" y="614"/>
                  </a:lnTo>
                  <a:lnTo>
                    <a:pt x="10" y="568"/>
                  </a:lnTo>
                  <a:lnTo>
                    <a:pt x="0" y="521"/>
                  </a:lnTo>
                  <a:lnTo>
                    <a:pt x="0" y="474"/>
                  </a:lnTo>
                  <a:lnTo>
                    <a:pt x="0" y="474"/>
                  </a:lnTo>
                  <a:lnTo>
                    <a:pt x="0" y="424"/>
                  </a:lnTo>
                  <a:lnTo>
                    <a:pt x="10" y="377"/>
                  </a:lnTo>
                  <a:lnTo>
                    <a:pt x="20" y="334"/>
                  </a:lnTo>
                  <a:lnTo>
                    <a:pt x="37" y="291"/>
                  </a:lnTo>
                  <a:lnTo>
                    <a:pt x="57" y="247"/>
                  </a:lnTo>
                  <a:lnTo>
                    <a:pt x="80" y="211"/>
                  </a:lnTo>
                  <a:lnTo>
                    <a:pt x="107" y="174"/>
                  </a:lnTo>
                  <a:lnTo>
                    <a:pt x="137" y="141"/>
                  </a:lnTo>
                  <a:lnTo>
                    <a:pt x="171" y="110"/>
                  </a:lnTo>
                  <a:lnTo>
                    <a:pt x="207" y="80"/>
                  </a:lnTo>
                  <a:lnTo>
                    <a:pt x="247" y="57"/>
                  </a:lnTo>
                  <a:lnTo>
                    <a:pt x="287" y="37"/>
                  </a:lnTo>
                  <a:lnTo>
                    <a:pt x="331" y="24"/>
                  </a:lnTo>
                  <a:lnTo>
                    <a:pt x="378" y="10"/>
                  </a:lnTo>
                  <a:lnTo>
                    <a:pt x="424" y="4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521" y="4"/>
                  </a:lnTo>
                  <a:lnTo>
                    <a:pt x="568" y="10"/>
                  </a:lnTo>
                  <a:lnTo>
                    <a:pt x="611" y="24"/>
                  </a:lnTo>
                  <a:lnTo>
                    <a:pt x="655" y="37"/>
                  </a:lnTo>
                  <a:lnTo>
                    <a:pt x="698" y="57"/>
                  </a:lnTo>
                  <a:lnTo>
                    <a:pt x="735" y="80"/>
                  </a:lnTo>
                  <a:lnTo>
                    <a:pt x="771" y="110"/>
                  </a:lnTo>
                  <a:lnTo>
                    <a:pt x="805" y="141"/>
                  </a:lnTo>
                  <a:lnTo>
                    <a:pt x="835" y="174"/>
                  </a:lnTo>
                  <a:lnTo>
                    <a:pt x="865" y="211"/>
                  </a:lnTo>
                  <a:lnTo>
                    <a:pt x="888" y="247"/>
                  </a:lnTo>
                  <a:lnTo>
                    <a:pt x="908" y="291"/>
                  </a:lnTo>
                  <a:lnTo>
                    <a:pt x="922" y="334"/>
                  </a:lnTo>
                  <a:lnTo>
                    <a:pt x="935" y="377"/>
                  </a:lnTo>
                  <a:lnTo>
                    <a:pt x="942" y="424"/>
                  </a:lnTo>
                  <a:lnTo>
                    <a:pt x="945" y="474"/>
                  </a:lnTo>
                  <a:lnTo>
                    <a:pt x="945" y="474"/>
                  </a:lnTo>
                  <a:lnTo>
                    <a:pt x="942" y="521"/>
                  </a:lnTo>
                  <a:lnTo>
                    <a:pt x="935" y="568"/>
                  </a:lnTo>
                  <a:lnTo>
                    <a:pt x="922" y="614"/>
                  </a:lnTo>
                  <a:lnTo>
                    <a:pt x="908" y="658"/>
                  </a:lnTo>
                  <a:lnTo>
                    <a:pt x="888" y="698"/>
                  </a:lnTo>
                  <a:lnTo>
                    <a:pt x="865" y="738"/>
                  </a:lnTo>
                  <a:lnTo>
                    <a:pt x="835" y="775"/>
                  </a:lnTo>
                  <a:lnTo>
                    <a:pt x="805" y="808"/>
                  </a:lnTo>
                  <a:lnTo>
                    <a:pt x="771" y="838"/>
                  </a:lnTo>
                  <a:lnTo>
                    <a:pt x="735" y="865"/>
                  </a:lnTo>
                  <a:lnTo>
                    <a:pt x="698" y="888"/>
                  </a:lnTo>
                  <a:lnTo>
                    <a:pt x="655" y="908"/>
                  </a:lnTo>
                  <a:lnTo>
                    <a:pt x="611" y="925"/>
                  </a:lnTo>
                  <a:lnTo>
                    <a:pt x="568" y="935"/>
                  </a:lnTo>
                  <a:lnTo>
                    <a:pt x="521" y="945"/>
                  </a:lnTo>
                  <a:lnTo>
                    <a:pt x="471" y="945"/>
                  </a:lnTo>
                  <a:lnTo>
                    <a:pt x="471" y="945"/>
                  </a:lnTo>
                  <a:close/>
                </a:path>
              </a:pathLst>
            </a:custGeom>
            <a:solidFill>
              <a:srgbClr val="f7c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10240" y="2842200"/>
              <a:ext cx="1950120" cy="1948320"/>
            </a:xfrm>
            <a:custGeom>
              <a:avLst/>
              <a:gdLst/>
              <a:ahLst/>
              <a:rect l="l" t="t" r="r" b="b"/>
              <a:pathLst>
                <a:path w="915" h="914">
                  <a:moveTo>
                    <a:pt x="457" y="914"/>
                  </a:moveTo>
                  <a:lnTo>
                    <a:pt x="457" y="914"/>
                  </a:lnTo>
                  <a:lnTo>
                    <a:pt x="411" y="914"/>
                  </a:lnTo>
                  <a:lnTo>
                    <a:pt x="364" y="904"/>
                  </a:lnTo>
                  <a:lnTo>
                    <a:pt x="320" y="894"/>
                  </a:lnTo>
                  <a:lnTo>
                    <a:pt x="280" y="878"/>
                  </a:lnTo>
                  <a:lnTo>
                    <a:pt x="240" y="861"/>
                  </a:lnTo>
                  <a:lnTo>
                    <a:pt x="200" y="837"/>
                  </a:lnTo>
                  <a:lnTo>
                    <a:pt x="167" y="811"/>
                  </a:lnTo>
                  <a:lnTo>
                    <a:pt x="134" y="781"/>
                  </a:lnTo>
                  <a:lnTo>
                    <a:pt x="104" y="747"/>
                  </a:lnTo>
                  <a:lnTo>
                    <a:pt x="77" y="714"/>
                  </a:lnTo>
                  <a:lnTo>
                    <a:pt x="53" y="677"/>
                  </a:lnTo>
                  <a:lnTo>
                    <a:pt x="37" y="637"/>
                  </a:lnTo>
                  <a:lnTo>
                    <a:pt x="20" y="594"/>
                  </a:lnTo>
                  <a:lnTo>
                    <a:pt x="10" y="550"/>
                  </a:lnTo>
                  <a:lnTo>
                    <a:pt x="3" y="504"/>
                  </a:lnTo>
                  <a:lnTo>
                    <a:pt x="0" y="457"/>
                  </a:lnTo>
                  <a:lnTo>
                    <a:pt x="0" y="457"/>
                  </a:lnTo>
                  <a:lnTo>
                    <a:pt x="3" y="410"/>
                  </a:lnTo>
                  <a:lnTo>
                    <a:pt x="10" y="367"/>
                  </a:lnTo>
                  <a:lnTo>
                    <a:pt x="20" y="320"/>
                  </a:lnTo>
                  <a:lnTo>
                    <a:pt x="37" y="280"/>
                  </a:lnTo>
                  <a:lnTo>
                    <a:pt x="53" y="240"/>
                  </a:lnTo>
                  <a:lnTo>
                    <a:pt x="77" y="203"/>
                  </a:lnTo>
                  <a:lnTo>
                    <a:pt x="104" y="167"/>
                  </a:lnTo>
                  <a:lnTo>
                    <a:pt x="134" y="133"/>
                  </a:lnTo>
                  <a:lnTo>
                    <a:pt x="167" y="103"/>
                  </a:lnTo>
                  <a:lnTo>
                    <a:pt x="200" y="80"/>
                  </a:lnTo>
                  <a:lnTo>
                    <a:pt x="240" y="56"/>
                  </a:lnTo>
                  <a:lnTo>
                    <a:pt x="280" y="36"/>
                  </a:lnTo>
                  <a:lnTo>
                    <a:pt x="320" y="20"/>
                  </a:lnTo>
                  <a:lnTo>
                    <a:pt x="364" y="10"/>
                  </a:lnTo>
                  <a:lnTo>
                    <a:pt x="411" y="3"/>
                  </a:lnTo>
                  <a:lnTo>
                    <a:pt x="457" y="0"/>
                  </a:lnTo>
                  <a:lnTo>
                    <a:pt x="457" y="0"/>
                  </a:lnTo>
                  <a:lnTo>
                    <a:pt x="504" y="3"/>
                  </a:lnTo>
                  <a:lnTo>
                    <a:pt x="551" y="10"/>
                  </a:lnTo>
                  <a:lnTo>
                    <a:pt x="594" y="20"/>
                  </a:lnTo>
                  <a:lnTo>
                    <a:pt x="634" y="36"/>
                  </a:lnTo>
                  <a:lnTo>
                    <a:pt x="674" y="56"/>
                  </a:lnTo>
                  <a:lnTo>
                    <a:pt x="714" y="80"/>
                  </a:lnTo>
                  <a:lnTo>
                    <a:pt x="748" y="103"/>
                  </a:lnTo>
                  <a:lnTo>
                    <a:pt x="781" y="133"/>
                  </a:lnTo>
                  <a:lnTo>
                    <a:pt x="811" y="167"/>
                  </a:lnTo>
                  <a:lnTo>
                    <a:pt x="838" y="203"/>
                  </a:lnTo>
                  <a:lnTo>
                    <a:pt x="858" y="240"/>
                  </a:lnTo>
                  <a:lnTo>
                    <a:pt x="878" y="280"/>
                  </a:lnTo>
                  <a:lnTo>
                    <a:pt x="895" y="320"/>
                  </a:lnTo>
                  <a:lnTo>
                    <a:pt x="905" y="367"/>
                  </a:lnTo>
                  <a:lnTo>
                    <a:pt x="911" y="410"/>
                  </a:lnTo>
                  <a:lnTo>
                    <a:pt x="915" y="457"/>
                  </a:lnTo>
                  <a:lnTo>
                    <a:pt x="915" y="457"/>
                  </a:lnTo>
                  <a:lnTo>
                    <a:pt x="911" y="504"/>
                  </a:lnTo>
                  <a:lnTo>
                    <a:pt x="905" y="550"/>
                  </a:lnTo>
                  <a:lnTo>
                    <a:pt x="895" y="594"/>
                  </a:lnTo>
                  <a:lnTo>
                    <a:pt x="878" y="637"/>
                  </a:lnTo>
                  <a:lnTo>
                    <a:pt x="858" y="677"/>
                  </a:lnTo>
                  <a:lnTo>
                    <a:pt x="838" y="714"/>
                  </a:lnTo>
                  <a:lnTo>
                    <a:pt x="811" y="747"/>
                  </a:lnTo>
                  <a:lnTo>
                    <a:pt x="781" y="781"/>
                  </a:lnTo>
                  <a:lnTo>
                    <a:pt x="748" y="811"/>
                  </a:lnTo>
                  <a:lnTo>
                    <a:pt x="714" y="837"/>
                  </a:lnTo>
                  <a:lnTo>
                    <a:pt x="674" y="861"/>
                  </a:lnTo>
                  <a:lnTo>
                    <a:pt x="634" y="878"/>
                  </a:lnTo>
                  <a:lnTo>
                    <a:pt x="594" y="894"/>
                  </a:lnTo>
                  <a:lnTo>
                    <a:pt x="551" y="904"/>
                  </a:lnTo>
                  <a:lnTo>
                    <a:pt x="504" y="914"/>
                  </a:lnTo>
                  <a:lnTo>
                    <a:pt x="457" y="914"/>
                  </a:lnTo>
                  <a:lnTo>
                    <a:pt x="457" y="914"/>
                  </a:lnTo>
                  <a:close/>
                </a:path>
              </a:pathLst>
            </a:custGeom>
            <a:solidFill>
              <a:srgbClr val="f8c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46240" y="2870280"/>
              <a:ext cx="1883880" cy="1886040"/>
            </a:xfrm>
            <a:custGeom>
              <a:avLst/>
              <a:gdLst/>
              <a:ahLst/>
              <a:rect l="l" t="t" r="r" b="b"/>
              <a:pathLst>
                <a:path w="884" h="885">
                  <a:moveTo>
                    <a:pt x="444" y="885"/>
                  </a:moveTo>
                  <a:lnTo>
                    <a:pt x="444" y="885"/>
                  </a:lnTo>
                  <a:lnTo>
                    <a:pt x="397" y="885"/>
                  </a:lnTo>
                  <a:lnTo>
                    <a:pt x="354" y="878"/>
                  </a:lnTo>
                  <a:lnTo>
                    <a:pt x="310" y="865"/>
                  </a:lnTo>
                  <a:lnTo>
                    <a:pt x="270" y="851"/>
                  </a:lnTo>
                  <a:lnTo>
                    <a:pt x="233" y="831"/>
                  </a:lnTo>
                  <a:lnTo>
                    <a:pt x="197" y="811"/>
                  </a:lnTo>
                  <a:lnTo>
                    <a:pt x="160" y="784"/>
                  </a:lnTo>
                  <a:lnTo>
                    <a:pt x="130" y="754"/>
                  </a:lnTo>
                  <a:lnTo>
                    <a:pt x="100" y="724"/>
                  </a:lnTo>
                  <a:lnTo>
                    <a:pt x="76" y="691"/>
                  </a:lnTo>
                  <a:lnTo>
                    <a:pt x="53" y="654"/>
                  </a:lnTo>
                  <a:lnTo>
                    <a:pt x="36" y="614"/>
                  </a:lnTo>
                  <a:lnTo>
                    <a:pt x="20" y="574"/>
                  </a:lnTo>
                  <a:lnTo>
                    <a:pt x="10" y="531"/>
                  </a:lnTo>
                  <a:lnTo>
                    <a:pt x="3" y="487"/>
                  </a:lnTo>
                  <a:lnTo>
                    <a:pt x="0" y="444"/>
                  </a:lnTo>
                  <a:lnTo>
                    <a:pt x="0" y="444"/>
                  </a:lnTo>
                  <a:lnTo>
                    <a:pt x="3" y="397"/>
                  </a:lnTo>
                  <a:lnTo>
                    <a:pt x="10" y="354"/>
                  </a:lnTo>
                  <a:lnTo>
                    <a:pt x="20" y="310"/>
                  </a:lnTo>
                  <a:lnTo>
                    <a:pt x="36" y="270"/>
                  </a:lnTo>
                  <a:lnTo>
                    <a:pt x="53" y="230"/>
                  </a:lnTo>
                  <a:lnTo>
                    <a:pt x="76" y="194"/>
                  </a:lnTo>
                  <a:lnTo>
                    <a:pt x="100" y="160"/>
                  </a:lnTo>
                  <a:lnTo>
                    <a:pt x="130" y="130"/>
                  </a:lnTo>
                  <a:lnTo>
                    <a:pt x="160" y="100"/>
                  </a:lnTo>
                  <a:lnTo>
                    <a:pt x="197" y="77"/>
                  </a:lnTo>
                  <a:lnTo>
                    <a:pt x="233" y="53"/>
                  </a:lnTo>
                  <a:lnTo>
                    <a:pt x="270" y="33"/>
                  </a:lnTo>
                  <a:lnTo>
                    <a:pt x="310" y="20"/>
                  </a:lnTo>
                  <a:lnTo>
                    <a:pt x="354" y="10"/>
                  </a:lnTo>
                  <a:lnTo>
                    <a:pt x="397" y="3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87" y="3"/>
                  </a:lnTo>
                  <a:lnTo>
                    <a:pt x="530" y="10"/>
                  </a:lnTo>
                  <a:lnTo>
                    <a:pt x="574" y="20"/>
                  </a:lnTo>
                  <a:lnTo>
                    <a:pt x="614" y="33"/>
                  </a:lnTo>
                  <a:lnTo>
                    <a:pt x="654" y="53"/>
                  </a:lnTo>
                  <a:lnTo>
                    <a:pt x="691" y="77"/>
                  </a:lnTo>
                  <a:lnTo>
                    <a:pt x="724" y="100"/>
                  </a:lnTo>
                  <a:lnTo>
                    <a:pt x="754" y="130"/>
                  </a:lnTo>
                  <a:lnTo>
                    <a:pt x="784" y="160"/>
                  </a:lnTo>
                  <a:lnTo>
                    <a:pt x="811" y="194"/>
                  </a:lnTo>
                  <a:lnTo>
                    <a:pt x="831" y="230"/>
                  </a:lnTo>
                  <a:lnTo>
                    <a:pt x="851" y="270"/>
                  </a:lnTo>
                  <a:lnTo>
                    <a:pt x="864" y="310"/>
                  </a:lnTo>
                  <a:lnTo>
                    <a:pt x="878" y="354"/>
                  </a:lnTo>
                  <a:lnTo>
                    <a:pt x="884" y="397"/>
                  </a:lnTo>
                  <a:lnTo>
                    <a:pt x="884" y="444"/>
                  </a:lnTo>
                  <a:lnTo>
                    <a:pt x="884" y="444"/>
                  </a:lnTo>
                  <a:lnTo>
                    <a:pt x="884" y="487"/>
                  </a:lnTo>
                  <a:lnTo>
                    <a:pt x="878" y="531"/>
                  </a:lnTo>
                  <a:lnTo>
                    <a:pt x="864" y="574"/>
                  </a:lnTo>
                  <a:lnTo>
                    <a:pt x="851" y="614"/>
                  </a:lnTo>
                  <a:lnTo>
                    <a:pt x="831" y="654"/>
                  </a:lnTo>
                  <a:lnTo>
                    <a:pt x="811" y="691"/>
                  </a:lnTo>
                  <a:lnTo>
                    <a:pt x="784" y="724"/>
                  </a:lnTo>
                  <a:lnTo>
                    <a:pt x="754" y="754"/>
                  </a:lnTo>
                  <a:lnTo>
                    <a:pt x="724" y="784"/>
                  </a:lnTo>
                  <a:lnTo>
                    <a:pt x="691" y="811"/>
                  </a:lnTo>
                  <a:lnTo>
                    <a:pt x="654" y="831"/>
                  </a:lnTo>
                  <a:lnTo>
                    <a:pt x="614" y="851"/>
                  </a:lnTo>
                  <a:lnTo>
                    <a:pt x="574" y="865"/>
                  </a:lnTo>
                  <a:lnTo>
                    <a:pt x="530" y="878"/>
                  </a:lnTo>
                  <a:lnTo>
                    <a:pt x="487" y="885"/>
                  </a:lnTo>
                  <a:lnTo>
                    <a:pt x="444" y="885"/>
                  </a:lnTo>
                  <a:lnTo>
                    <a:pt x="444" y="885"/>
                  </a:lnTo>
                  <a:close/>
                </a:path>
              </a:pathLst>
            </a:custGeom>
            <a:solidFill>
              <a:srgbClr val="f8ce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80080" y="2897640"/>
              <a:ext cx="1828800" cy="1821960"/>
            </a:xfrm>
            <a:custGeom>
              <a:avLst/>
              <a:gdLst/>
              <a:ahLst/>
              <a:rect l="l" t="t" r="r" b="b"/>
              <a:pathLst>
                <a:path w="858" h="855">
                  <a:moveTo>
                    <a:pt x="431" y="855"/>
                  </a:moveTo>
                  <a:lnTo>
                    <a:pt x="431" y="855"/>
                  </a:lnTo>
                  <a:lnTo>
                    <a:pt x="384" y="852"/>
                  </a:lnTo>
                  <a:lnTo>
                    <a:pt x="344" y="848"/>
                  </a:lnTo>
                  <a:lnTo>
                    <a:pt x="301" y="835"/>
                  </a:lnTo>
                  <a:lnTo>
                    <a:pt x="264" y="821"/>
                  </a:lnTo>
                  <a:lnTo>
                    <a:pt x="224" y="805"/>
                  </a:lnTo>
                  <a:lnTo>
                    <a:pt x="191" y="781"/>
                  </a:lnTo>
                  <a:lnTo>
                    <a:pt x="157" y="758"/>
                  </a:lnTo>
                  <a:lnTo>
                    <a:pt x="127" y="731"/>
                  </a:lnTo>
                  <a:lnTo>
                    <a:pt x="101" y="701"/>
                  </a:lnTo>
                  <a:lnTo>
                    <a:pt x="74" y="668"/>
                  </a:lnTo>
                  <a:lnTo>
                    <a:pt x="54" y="631"/>
                  </a:lnTo>
                  <a:lnTo>
                    <a:pt x="34" y="595"/>
                  </a:lnTo>
                  <a:lnTo>
                    <a:pt x="20" y="554"/>
                  </a:lnTo>
                  <a:lnTo>
                    <a:pt x="10" y="514"/>
                  </a:lnTo>
                  <a:lnTo>
                    <a:pt x="4" y="471"/>
                  </a:lnTo>
                  <a:lnTo>
                    <a:pt x="0" y="428"/>
                  </a:lnTo>
                  <a:lnTo>
                    <a:pt x="0" y="428"/>
                  </a:lnTo>
                  <a:lnTo>
                    <a:pt x="4" y="384"/>
                  </a:lnTo>
                  <a:lnTo>
                    <a:pt x="10" y="341"/>
                  </a:lnTo>
                  <a:lnTo>
                    <a:pt x="20" y="301"/>
                  </a:lnTo>
                  <a:lnTo>
                    <a:pt x="34" y="261"/>
                  </a:lnTo>
                  <a:lnTo>
                    <a:pt x="54" y="224"/>
                  </a:lnTo>
                  <a:lnTo>
                    <a:pt x="74" y="187"/>
                  </a:lnTo>
                  <a:lnTo>
                    <a:pt x="101" y="154"/>
                  </a:lnTo>
                  <a:lnTo>
                    <a:pt x="127" y="124"/>
                  </a:lnTo>
                  <a:lnTo>
                    <a:pt x="157" y="97"/>
                  </a:lnTo>
                  <a:lnTo>
                    <a:pt x="191" y="74"/>
                  </a:lnTo>
                  <a:lnTo>
                    <a:pt x="224" y="50"/>
                  </a:lnTo>
                  <a:lnTo>
                    <a:pt x="264" y="34"/>
                  </a:lnTo>
                  <a:lnTo>
                    <a:pt x="301" y="20"/>
                  </a:lnTo>
                  <a:lnTo>
                    <a:pt x="344" y="7"/>
                  </a:lnTo>
                  <a:lnTo>
                    <a:pt x="384" y="4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74" y="4"/>
                  </a:lnTo>
                  <a:lnTo>
                    <a:pt x="514" y="7"/>
                  </a:lnTo>
                  <a:lnTo>
                    <a:pt x="558" y="20"/>
                  </a:lnTo>
                  <a:lnTo>
                    <a:pt x="595" y="34"/>
                  </a:lnTo>
                  <a:lnTo>
                    <a:pt x="635" y="50"/>
                  </a:lnTo>
                  <a:lnTo>
                    <a:pt x="668" y="74"/>
                  </a:lnTo>
                  <a:lnTo>
                    <a:pt x="701" y="97"/>
                  </a:lnTo>
                  <a:lnTo>
                    <a:pt x="731" y="124"/>
                  </a:lnTo>
                  <a:lnTo>
                    <a:pt x="758" y="154"/>
                  </a:lnTo>
                  <a:lnTo>
                    <a:pt x="785" y="187"/>
                  </a:lnTo>
                  <a:lnTo>
                    <a:pt x="805" y="224"/>
                  </a:lnTo>
                  <a:lnTo>
                    <a:pt x="825" y="261"/>
                  </a:lnTo>
                  <a:lnTo>
                    <a:pt x="838" y="301"/>
                  </a:lnTo>
                  <a:lnTo>
                    <a:pt x="848" y="341"/>
                  </a:lnTo>
                  <a:lnTo>
                    <a:pt x="855" y="384"/>
                  </a:lnTo>
                  <a:lnTo>
                    <a:pt x="858" y="428"/>
                  </a:lnTo>
                  <a:lnTo>
                    <a:pt x="858" y="428"/>
                  </a:lnTo>
                  <a:lnTo>
                    <a:pt x="855" y="471"/>
                  </a:lnTo>
                  <a:lnTo>
                    <a:pt x="848" y="514"/>
                  </a:lnTo>
                  <a:lnTo>
                    <a:pt x="838" y="554"/>
                  </a:lnTo>
                  <a:lnTo>
                    <a:pt x="825" y="595"/>
                  </a:lnTo>
                  <a:lnTo>
                    <a:pt x="805" y="631"/>
                  </a:lnTo>
                  <a:lnTo>
                    <a:pt x="785" y="668"/>
                  </a:lnTo>
                  <a:lnTo>
                    <a:pt x="758" y="701"/>
                  </a:lnTo>
                  <a:lnTo>
                    <a:pt x="731" y="731"/>
                  </a:lnTo>
                  <a:lnTo>
                    <a:pt x="701" y="758"/>
                  </a:lnTo>
                  <a:lnTo>
                    <a:pt x="668" y="781"/>
                  </a:lnTo>
                  <a:lnTo>
                    <a:pt x="635" y="805"/>
                  </a:lnTo>
                  <a:lnTo>
                    <a:pt x="595" y="821"/>
                  </a:lnTo>
                  <a:lnTo>
                    <a:pt x="558" y="835"/>
                  </a:lnTo>
                  <a:lnTo>
                    <a:pt x="514" y="848"/>
                  </a:lnTo>
                  <a:lnTo>
                    <a:pt x="474" y="852"/>
                  </a:lnTo>
                  <a:lnTo>
                    <a:pt x="431" y="855"/>
                  </a:lnTo>
                  <a:lnTo>
                    <a:pt x="431" y="855"/>
                  </a:lnTo>
                  <a:close/>
                </a:path>
              </a:pathLst>
            </a:custGeom>
            <a:solidFill>
              <a:srgbClr val="f8d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22560" y="2927520"/>
              <a:ext cx="1758240" cy="1756080"/>
            </a:xfrm>
            <a:custGeom>
              <a:avLst/>
              <a:gdLst/>
              <a:ahLst/>
              <a:rect l="l" t="t" r="r" b="b"/>
              <a:pathLst>
                <a:path w="825" h="824">
                  <a:moveTo>
                    <a:pt x="411" y="824"/>
                  </a:moveTo>
                  <a:lnTo>
                    <a:pt x="411" y="824"/>
                  </a:lnTo>
                  <a:lnTo>
                    <a:pt x="371" y="821"/>
                  </a:lnTo>
                  <a:lnTo>
                    <a:pt x="328" y="818"/>
                  </a:lnTo>
                  <a:lnTo>
                    <a:pt x="291" y="807"/>
                  </a:lnTo>
                  <a:lnTo>
                    <a:pt x="251" y="791"/>
                  </a:lnTo>
                  <a:lnTo>
                    <a:pt x="214" y="774"/>
                  </a:lnTo>
                  <a:lnTo>
                    <a:pt x="181" y="754"/>
                  </a:lnTo>
                  <a:lnTo>
                    <a:pt x="151" y="731"/>
                  </a:lnTo>
                  <a:lnTo>
                    <a:pt x="121" y="704"/>
                  </a:lnTo>
                  <a:lnTo>
                    <a:pt x="94" y="674"/>
                  </a:lnTo>
                  <a:lnTo>
                    <a:pt x="71" y="644"/>
                  </a:lnTo>
                  <a:lnTo>
                    <a:pt x="51" y="607"/>
                  </a:lnTo>
                  <a:lnTo>
                    <a:pt x="30" y="574"/>
                  </a:lnTo>
                  <a:lnTo>
                    <a:pt x="17" y="534"/>
                  </a:lnTo>
                  <a:lnTo>
                    <a:pt x="7" y="494"/>
                  </a:lnTo>
                  <a:lnTo>
                    <a:pt x="0" y="454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0" y="370"/>
                  </a:lnTo>
                  <a:lnTo>
                    <a:pt x="7" y="327"/>
                  </a:lnTo>
                  <a:lnTo>
                    <a:pt x="17" y="290"/>
                  </a:lnTo>
                  <a:lnTo>
                    <a:pt x="30" y="250"/>
                  </a:lnTo>
                  <a:lnTo>
                    <a:pt x="51" y="213"/>
                  </a:lnTo>
                  <a:lnTo>
                    <a:pt x="71" y="180"/>
                  </a:lnTo>
                  <a:lnTo>
                    <a:pt x="94" y="150"/>
                  </a:lnTo>
                  <a:lnTo>
                    <a:pt x="121" y="120"/>
                  </a:lnTo>
                  <a:lnTo>
                    <a:pt x="151" y="93"/>
                  </a:lnTo>
                  <a:lnTo>
                    <a:pt x="181" y="70"/>
                  </a:lnTo>
                  <a:lnTo>
                    <a:pt x="214" y="50"/>
                  </a:lnTo>
                  <a:lnTo>
                    <a:pt x="251" y="30"/>
                  </a:lnTo>
                  <a:lnTo>
                    <a:pt x="291" y="16"/>
                  </a:lnTo>
                  <a:lnTo>
                    <a:pt x="328" y="6"/>
                  </a:lnTo>
                  <a:lnTo>
                    <a:pt x="371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54" y="0"/>
                  </a:lnTo>
                  <a:lnTo>
                    <a:pt x="494" y="6"/>
                  </a:lnTo>
                  <a:lnTo>
                    <a:pt x="535" y="16"/>
                  </a:lnTo>
                  <a:lnTo>
                    <a:pt x="571" y="30"/>
                  </a:lnTo>
                  <a:lnTo>
                    <a:pt x="608" y="50"/>
                  </a:lnTo>
                  <a:lnTo>
                    <a:pt x="641" y="70"/>
                  </a:lnTo>
                  <a:lnTo>
                    <a:pt x="675" y="93"/>
                  </a:lnTo>
                  <a:lnTo>
                    <a:pt x="705" y="120"/>
                  </a:lnTo>
                  <a:lnTo>
                    <a:pt x="731" y="150"/>
                  </a:lnTo>
                  <a:lnTo>
                    <a:pt x="755" y="180"/>
                  </a:lnTo>
                  <a:lnTo>
                    <a:pt x="775" y="213"/>
                  </a:lnTo>
                  <a:lnTo>
                    <a:pt x="792" y="250"/>
                  </a:lnTo>
                  <a:lnTo>
                    <a:pt x="805" y="290"/>
                  </a:lnTo>
                  <a:lnTo>
                    <a:pt x="815" y="327"/>
                  </a:lnTo>
                  <a:lnTo>
                    <a:pt x="822" y="370"/>
                  </a:lnTo>
                  <a:lnTo>
                    <a:pt x="825" y="410"/>
                  </a:lnTo>
                  <a:lnTo>
                    <a:pt x="825" y="410"/>
                  </a:lnTo>
                  <a:lnTo>
                    <a:pt x="822" y="454"/>
                  </a:lnTo>
                  <a:lnTo>
                    <a:pt x="815" y="494"/>
                  </a:lnTo>
                  <a:lnTo>
                    <a:pt x="805" y="534"/>
                  </a:lnTo>
                  <a:lnTo>
                    <a:pt x="792" y="574"/>
                  </a:lnTo>
                  <a:lnTo>
                    <a:pt x="775" y="607"/>
                  </a:lnTo>
                  <a:lnTo>
                    <a:pt x="755" y="644"/>
                  </a:lnTo>
                  <a:lnTo>
                    <a:pt x="731" y="674"/>
                  </a:lnTo>
                  <a:lnTo>
                    <a:pt x="705" y="704"/>
                  </a:lnTo>
                  <a:lnTo>
                    <a:pt x="675" y="731"/>
                  </a:lnTo>
                  <a:lnTo>
                    <a:pt x="641" y="754"/>
                  </a:lnTo>
                  <a:lnTo>
                    <a:pt x="608" y="774"/>
                  </a:lnTo>
                  <a:lnTo>
                    <a:pt x="571" y="791"/>
                  </a:lnTo>
                  <a:lnTo>
                    <a:pt x="535" y="807"/>
                  </a:lnTo>
                  <a:lnTo>
                    <a:pt x="494" y="818"/>
                  </a:lnTo>
                  <a:lnTo>
                    <a:pt x="454" y="821"/>
                  </a:lnTo>
                  <a:lnTo>
                    <a:pt x="411" y="824"/>
                  </a:lnTo>
                  <a:lnTo>
                    <a:pt x="411" y="824"/>
                  </a:lnTo>
                  <a:close/>
                </a:path>
              </a:pathLst>
            </a:custGeom>
            <a:solidFill>
              <a:srgbClr val="f8d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58920" y="2955240"/>
              <a:ext cx="1694520" cy="1692000"/>
            </a:xfrm>
            <a:custGeom>
              <a:avLst/>
              <a:gdLst/>
              <a:ahLst/>
              <a:rect l="l" t="t" r="r" b="b"/>
              <a:pathLst>
                <a:path w="795" h="794">
                  <a:moveTo>
                    <a:pt x="397" y="794"/>
                  </a:moveTo>
                  <a:lnTo>
                    <a:pt x="397" y="794"/>
                  </a:lnTo>
                  <a:lnTo>
                    <a:pt x="357" y="791"/>
                  </a:lnTo>
                  <a:lnTo>
                    <a:pt x="317" y="788"/>
                  </a:lnTo>
                  <a:lnTo>
                    <a:pt x="281" y="778"/>
                  </a:lnTo>
                  <a:lnTo>
                    <a:pt x="244" y="764"/>
                  </a:lnTo>
                  <a:lnTo>
                    <a:pt x="207" y="748"/>
                  </a:lnTo>
                  <a:lnTo>
                    <a:pt x="174" y="728"/>
                  </a:lnTo>
                  <a:lnTo>
                    <a:pt x="144" y="704"/>
                  </a:lnTo>
                  <a:lnTo>
                    <a:pt x="117" y="678"/>
                  </a:lnTo>
                  <a:lnTo>
                    <a:pt x="90" y="651"/>
                  </a:lnTo>
                  <a:lnTo>
                    <a:pt x="67" y="621"/>
                  </a:lnTo>
                  <a:lnTo>
                    <a:pt x="47" y="588"/>
                  </a:lnTo>
                  <a:lnTo>
                    <a:pt x="30" y="551"/>
                  </a:lnTo>
                  <a:lnTo>
                    <a:pt x="17" y="514"/>
                  </a:lnTo>
                  <a:lnTo>
                    <a:pt x="7" y="477"/>
                  </a:lnTo>
                  <a:lnTo>
                    <a:pt x="0" y="437"/>
                  </a:lnTo>
                  <a:lnTo>
                    <a:pt x="0" y="397"/>
                  </a:lnTo>
                  <a:lnTo>
                    <a:pt x="0" y="397"/>
                  </a:lnTo>
                  <a:lnTo>
                    <a:pt x="0" y="357"/>
                  </a:lnTo>
                  <a:lnTo>
                    <a:pt x="7" y="317"/>
                  </a:lnTo>
                  <a:lnTo>
                    <a:pt x="17" y="277"/>
                  </a:lnTo>
                  <a:lnTo>
                    <a:pt x="30" y="240"/>
                  </a:lnTo>
                  <a:lnTo>
                    <a:pt x="47" y="207"/>
                  </a:lnTo>
                  <a:lnTo>
                    <a:pt x="67" y="174"/>
                  </a:lnTo>
                  <a:lnTo>
                    <a:pt x="90" y="144"/>
                  </a:lnTo>
                  <a:lnTo>
                    <a:pt x="117" y="117"/>
                  </a:lnTo>
                  <a:lnTo>
                    <a:pt x="144" y="90"/>
                  </a:lnTo>
                  <a:lnTo>
                    <a:pt x="174" y="67"/>
                  </a:lnTo>
                  <a:lnTo>
                    <a:pt x="207" y="47"/>
                  </a:lnTo>
                  <a:lnTo>
                    <a:pt x="244" y="30"/>
                  </a:lnTo>
                  <a:lnTo>
                    <a:pt x="281" y="17"/>
                  </a:lnTo>
                  <a:lnTo>
                    <a:pt x="317" y="7"/>
                  </a:lnTo>
                  <a:lnTo>
                    <a:pt x="357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437" y="0"/>
                  </a:lnTo>
                  <a:lnTo>
                    <a:pt x="477" y="7"/>
                  </a:lnTo>
                  <a:lnTo>
                    <a:pt x="518" y="17"/>
                  </a:lnTo>
                  <a:lnTo>
                    <a:pt x="551" y="30"/>
                  </a:lnTo>
                  <a:lnTo>
                    <a:pt x="588" y="47"/>
                  </a:lnTo>
                  <a:lnTo>
                    <a:pt x="621" y="67"/>
                  </a:lnTo>
                  <a:lnTo>
                    <a:pt x="651" y="90"/>
                  </a:lnTo>
                  <a:lnTo>
                    <a:pt x="678" y="117"/>
                  </a:lnTo>
                  <a:lnTo>
                    <a:pt x="704" y="144"/>
                  </a:lnTo>
                  <a:lnTo>
                    <a:pt x="728" y="174"/>
                  </a:lnTo>
                  <a:lnTo>
                    <a:pt x="748" y="207"/>
                  </a:lnTo>
                  <a:lnTo>
                    <a:pt x="765" y="240"/>
                  </a:lnTo>
                  <a:lnTo>
                    <a:pt x="778" y="277"/>
                  </a:lnTo>
                  <a:lnTo>
                    <a:pt x="788" y="317"/>
                  </a:lnTo>
                  <a:lnTo>
                    <a:pt x="795" y="357"/>
                  </a:lnTo>
                  <a:lnTo>
                    <a:pt x="795" y="397"/>
                  </a:lnTo>
                  <a:lnTo>
                    <a:pt x="795" y="397"/>
                  </a:lnTo>
                  <a:lnTo>
                    <a:pt x="795" y="437"/>
                  </a:lnTo>
                  <a:lnTo>
                    <a:pt x="788" y="477"/>
                  </a:lnTo>
                  <a:lnTo>
                    <a:pt x="778" y="514"/>
                  </a:lnTo>
                  <a:lnTo>
                    <a:pt x="765" y="551"/>
                  </a:lnTo>
                  <a:lnTo>
                    <a:pt x="748" y="588"/>
                  </a:lnTo>
                  <a:lnTo>
                    <a:pt x="728" y="621"/>
                  </a:lnTo>
                  <a:lnTo>
                    <a:pt x="704" y="651"/>
                  </a:lnTo>
                  <a:lnTo>
                    <a:pt x="678" y="678"/>
                  </a:lnTo>
                  <a:lnTo>
                    <a:pt x="651" y="704"/>
                  </a:lnTo>
                  <a:lnTo>
                    <a:pt x="621" y="728"/>
                  </a:lnTo>
                  <a:lnTo>
                    <a:pt x="588" y="748"/>
                  </a:lnTo>
                  <a:lnTo>
                    <a:pt x="551" y="764"/>
                  </a:lnTo>
                  <a:lnTo>
                    <a:pt x="518" y="778"/>
                  </a:lnTo>
                  <a:lnTo>
                    <a:pt x="477" y="788"/>
                  </a:lnTo>
                  <a:lnTo>
                    <a:pt x="437" y="791"/>
                  </a:lnTo>
                  <a:lnTo>
                    <a:pt x="397" y="794"/>
                  </a:lnTo>
                  <a:lnTo>
                    <a:pt x="397" y="794"/>
                  </a:lnTo>
                  <a:close/>
                </a:path>
              </a:pathLst>
            </a:custGeom>
            <a:solidFill>
              <a:srgbClr val="f9d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5280" y="2976480"/>
              <a:ext cx="1636920" cy="163692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384" y="768"/>
                  </a:moveTo>
                  <a:lnTo>
                    <a:pt x="384" y="768"/>
                  </a:lnTo>
                  <a:lnTo>
                    <a:pt x="344" y="764"/>
                  </a:lnTo>
                  <a:lnTo>
                    <a:pt x="307" y="761"/>
                  </a:lnTo>
                  <a:lnTo>
                    <a:pt x="270" y="751"/>
                  </a:lnTo>
                  <a:lnTo>
                    <a:pt x="233" y="738"/>
                  </a:lnTo>
                  <a:lnTo>
                    <a:pt x="200" y="721"/>
                  </a:lnTo>
                  <a:lnTo>
                    <a:pt x="170" y="701"/>
                  </a:lnTo>
                  <a:lnTo>
                    <a:pt x="140" y="681"/>
                  </a:lnTo>
                  <a:lnTo>
                    <a:pt x="113" y="654"/>
                  </a:lnTo>
                  <a:lnTo>
                    <a:pt x="87" y="628"/>
                  </a:lnTo>
                  <a:lnTo>
                    <a:pt x="67" y="598"/>
                  </a:lnTo>
                  <a:lnTo>
                    <a:pt x="47" y="568"/>
                  </a:lnTo>
                  <a:lnTo>
                    <a:pt x="30" y="534"/>
                  </a:lnTo>
                  <a:lnTo>
                    <a:pt x="17" y="497"/>
                  </a:lnTo>
                  <a:lnTo>
                    <a:pt x="6" y="461"/>
                  </a:lnTo>
                  <a:lnTo>
                    <a:pt x="3" y="424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3" y="347"/>
                  </a:lnTo>
                  <a:lnTo>
                    <a:pt x="6" y="307"/>
                  </a:lnTo>
                  <a:lnTo>
                    <a:pt x="17" y="270"/>
                  </a:lnTo>
                  <a:lnTo>
                    <a:pt x="30" y="237"/>
                  </a:lnTo>
                  <a:lnTo>
                    <a:pt x="47" y="204"/>
                  </a:lnTo>
                  <a:lnTo>
                    <a:pt x="67" y="170"/>
                  </a:lnTo>
                  <a:lnTo>
                    <a:pt x="87" y="140"/>
                  </a:lnTo>
                  <a:lnTo>
                    <a:pt x="113" y="114"/>
                  </a:lnTo>
                  <a:lnTo>
                    <a:pt x="140" y="90"/>
                  </a:lnTo>
                  <a:lnTo>
                    <a:pt x="170" y="67"/>
                  </a:lnTo>
                  <a:lnTo>
                    <a:pt x="200" y="47"/>
                  </a:lnTo>
                  <a:lnTo>
                    <a:pt x="233" y="30"/>
                  </a:lnTo>
                  <a:lnTo>
                    <a:pt x="270" y="20"/>
                  </a:lnTo>
                  <a:lnTo>
                    <a:pt x="307" y="10"/>
                  </a:lnTo>
                  <a:lnTo>
                    <a:pt x="344" y="3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424" y="3"/>
                  </a:lnTo>
                  <a:lnTo>
                    <a:pt x="460" y="10"/>
                  </a:lnTo>
                  <a:lnTo>
                    <a:pt x="497" y="20"/>
                  </a:lnTo>
                  <a:lnTo>
                    <a:pt x="534" y="30"/>
                  </a:lnTo>
                  <a:lnTo>
                    <a:pt x="567" y="47"/>
                  </a:lnTo>
                  <a:lnTo>
                    <a:pt x="597" y="67"/>
                  </a:lnTo>
                  <a:lnTo>
                    <a:pt x="627" y="90"/>
                  </a:lnTo>
                  <a:lnTo>
                    <a:pt x="654" y="114"/>
                  </a:lnTo>
                  <a:lnTo>
                    <a:pt x="677" y="140"/>
                  </a:lnTo>
                  <a:lnTo>
                    <a:pt x="701" y="170"/>
                  </a:lnTo>
                  <a:lnTo>
                    <a:pt x="721" y="204"/>
                  </a:lnTo>
                  <a:lnTo>
                    <a:pt x="738" y="237"/>
                  </a:lnTo>
                  <a:lnTo>
                    <a:pt x="748" y="270"/>
                  </a:lnTo>
                  <a:lnTo>
                    <a:pt x="758" y="307"/>
                  </a:lnTo>
                  <a:lnTo>
                    <a:pt x="764" y="347"/>
                  </a:lnTo>
                  <a:lnTo>
                    <a:pt x="768" y="384"/>
                  </a:lnTo>
                  <a:lnTo>
                    <a:pt x="768" y="384"/>
                  </a:lnTo>
                  <a:lnTo>
                    <a:pt x="764" y="424"/>
                  </a:lnTo>
                  <a:lnTo>
                    <a:pt x="758" y="461"/>
                  </a:lnTo>
                  <a:lnTo>
                    <a:pt x="748" y="497"/>
                  </a:lnTo>
                  <a:lnTo>
                    <a:pt x="738" y="534"/>
                  </a:lnTo>
                  <a:lnTo>
                    <a:pt x="721" y="568"/>
                  </a:lnTo>
                  <a:lnTo>
                    <a:pt x="701" y="598"/>
                  </a:lnTo>
                  <a:lnTo>
                    <a:pt x="677" y="628"/>
                  </a:lnTo>
                  <a:lnTo>
                    <a:pt x="654" y="654"/>
                  </a:lnTo>
                  <a:lnTo>
                    <a:pt x="627" y="681"/>
                  </a:lnTo>
                  <a:lnTo>
                    <a:pt x="597" y="701"/>
                  </a:lnTo>
                  <a:lnTo>
                    <a:pt x="567" y="721"/>
                  </a:lnTo>
                  <a:lnTo>
                    <a:pt x="534" y="738"/>
                  </a:lnTo>
                  <a:lnTo>
                    <a:pt x="497" y="751"/>
                  </a:lnTo>
                  <a:lnTo>
                    <a:pt x="460" y="761"/>
                  </a:lnTo>
                  <a:lnTo>
                    <a:pt x="424" y="764"/>
                  </a:lnTo>
                  <a:lnTo>
                    <a:pt x="384" y="768"/>
                  </a:lnTo>
                  <a:lnTo>
                    <a:pt x="384" y="768"/>
                  </a:lnTo>
                  <a:close/>
                </a:path>
              </a:pathLst>
            </a:custGeom>
            <a:solidFill>
              <a:srgbClr val="f9d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1280" y="3004200"/>
              <a:ext cx="1570680" cy="1573200"/>
            </a:xfrm>
            <a:custGeom>
              <a:avLst/>
              <a:gdLst/>
              <a:ahLst/>
              <a:rect l="l" t="t" r="r" b="b"/>
              <a:pathLst>
                <a:path w="737" h="738">
                  <a:moveTo>
                    <a:pt x="370" y="738"/>
                  </a:moveTo>
                  <a:lnTo>
                    <a:pt x="370" y="738"/>
                  </a:lnTo>
                  <a:lnTo>
                    <a:pt x="330" y="735"/>
                  </a:lnTo>
                  <a:lnTo>
                    <a:pt x="293" y="731"/>
                  </a:lnTo>
                  <a:lnTo>
                    <a:pt x="260" y="721"/>
                  </a:lnTo>
                  <a:lnTo>
                    <a:pt x="226" y="708"/>
                  </a:lnTo>
                  <a:lnTo>
                    <a:pt x="193" y="695"/>
                  </a:lnTo>
                  <a:lnTo>
                    <a:pt x="163" y="675"/>
                  </a:lnTo>
                  <a:lnTo>
                    <a:pt x="133" y="655"/>
                  </a:lnTo>
                  <a:lnTo>
                    <a:pt x="110" y="631"/>
                  </a:lnTo>
                  <a:lnTo>
                    <a:pt x="83" y="605"/>
                  </a:lnTo>
                  <a:lnTo>
                    <a:pt x="63" y="575"/>
                  </a:lnTo>
                  <a:lnTo>
                    <a:pt x="46" y="545"/>
                  </a:lnTo>
                  <a:lnTo>
                    <a:pt x="30" y="514"/>
                  </a:lnTo>
                  <a:lnTo>
                    <a:pt x="16" y="478"/>
                  </a:lnTo>
                  <a:lnTo>
                    <a:pt x="10" y="444"/>
                  </a:lnTo>
                  <a:lnTo>
                    <a:pt x="3" y="408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3" y="331"/>
                  </a:lnTo>
                  <a:lnTo>
                    <a:pt x="10" y="294"/>
                  </a:lnTo>
                  <a:lnTo>
                    <a:pt x="16" y="261"/>
                  </a:lnTo>
                  <a:lnTo>
                    <a:pt x="30" y="227"/>
                  </a:lnTo>
                  <a:lnTo>
                    <a:pt x="46" y="194"/>
                  </a:lnTo>
                  <a:lnTo>
                    <a:pt x="63" y="164"/>
                  </a:lnTo>
                  <a:lnTo>
                    <a:pt x="83" y="134"/>
                  </a:lnTo>
                  <a:lnTo>
                    <a:pt x="110" y="111"/>
                  </a:lnTo>
                  <a:lnTo>
                    <a:pt x="133" y="87"/>
                  </a:lnTo>
                  <a:lnTo>
                    <a:pt x="163" y="64"/>
                  </a:lnTo>
                  <a:lnTo>
                    <a:pt x="193" y="47"/>
                  </a:lnTo>
                  <a:lnTo>
                    <a:pt x="226" y="30"/>
                  </a:lnTo>
                  <a:lnTo>
                    <a:pt x="260" y="17"/>
                  </a:lnTo>
                  <a:lnTo>
                    <a:pt x="293" y="10"/>
                  </a:lnTo>
                  <a:lnTo>
                    <a:pt x="330" y="4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407" y="4"/>
                  </a:lnTo>
                  <a:lnTo>
                    <a:pt x="443" y="10"/>
                  </a:lnTo>
                  <a:lnTo>
                    <a:pt x="477" y="17"/>
                  </a:lnTo>
                  <a:lnTo>
                    <a:pt x="514" y="30"/>
                  </a:lnTo>
                  <a:lnTo>
                    <a:pt x="544" y="47"/>
                  </a:lnTo>
                  <a:lnTo>
                    <a:pt x="574" y="64"/>
                  </a:lnTo>
                  <a:lnTo>
                    <a:pt x="604" y="87"/>
                  </a:lnTo>
                  <a:lnTo>
                    <a:pt x="630" y="111"/>
                  </a:lnTo>
                  <a:lnTo>
                    <a:pt x="654" y="134"/>
                  </a:lnTo>
                  <a:lnTo>
                    <a:pt x="674" y="164"/>
                  </a:lnTo>
                  <a:lnTo>
                    <a:pt x="694" y="194"/>
                  </a:lnTo>
                  <a:lnTo>
                    <a:pt x="707" y="227"/>
                  </a:lnTo>
                  <a:lnTo>
                    <a:pt x="721" y="261"/>
                  </a:lnTo>
                  <a:lnTo>
                    <a:pt x="731" y="294"/>
                  </a:lnTo>
                  <a:lnTo>
                    <a:pt x="734" y="331"/>
                  </a:lnTo>
                  <a:lnTo>
                    <a:pt x="737" y="371"/>
                  </a:lnTo>
                  <a:lnTo>
                    <a:pt x="737" y="371"/>
                  </a:lnTo>
                  <a:lnTo>
                    <a:pt x="734" y="408"/>
                  </a:lnTo>
                  <a:lnTo>
                    <a:pt x="731" y="444"/>
                  </a:lnTo>
                  <a:lnTo>
                    <a:pt x="721" y="478"/>
                  </a:lnTo>
                  <a:lnTo>
                    <a:pt x="707" y="514"/>
                  </a:lnTo>
                  <a:lnTo>
                    <a:pt x="694" y="545"/>
                  </a:lnTo>
                  <a:lnTo>
                    <a:pt x="674" y="575"/>
                  </a:lnTo>
                  <a:lnTo>
                    <a:pt x="654" y="605"/>
                  </a:lnTo>
                  <a:lnTo>
                    <a:pt x="630" y="631"/>
                  </a:lnTo>
                  <a:lnTo>
                    <a:pt x="604" y="655"/>
                  </a:lnTo>
                  <a:lnTo>
                    <a:pt x="574" y="675"/>
                  </a:lnTo>
                  <a:lnTo>
                    <a:pt x="544" y="695"/>
                  </a:lnTo>
                  <a:lnTo>
                    <a:pt x="514" y="708"/>
                  </a:lnTo>
                  <a:lnTo>
                    <a:pt x="477" y="721"/>
                  </a:lnTo>
                  <a:lnTo>
                    <a:pt x="443" y="731"/>
                  </a:lnTo>
                  <a:lnTo>
                    <a:pt x="407" y="735"/>
                  </a:lnTo>
                  <a:lnTo>
                    <a:pt x="370" y="738"/>
                  </a:lnTo>
                  <a:lnTo>
                    <a:pt x="370" y="738"/>
                  </a:lnTo>
                  <a:close/>
                </a:path>
              </a:pathLst>
            </a:custGeom>
            <a:solidFill>
              <a:srgbClr val="f9d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4120" y="3034080"/>
              <a:ext cx="1500480" cy="1506960"/>
            </a:xfrm>
            <a:custGeom>
              <a:avLst/>
              <a:gdLst/>
              <a:ahLst/>
              <a:rect l="l" t="t" r="r" b="b"/>
              <a:pathLst>
                <a:path w="704" h="707">
                  <a:moveTo>
                    <a:pt x="350" y="707"/>
                  </a:moveTo>
                  <a:lnTo>
                    <a:pt x="350" y="707"/>
                  </a:lnTo>
                  <a:lnTo>
                    <a:pt x="317" y="704"/>
                  </a:lnTo>
                  <a:lnTo>
                    <a:pt x="280" y="701"/>
                  </a:lnTo>
                  <a:lnTo>
                    <a:pt x="247" y="691"/>
                  </a:lnTo>
                  <a:lnTo>
                    <a:pt x="213" y="681"/>
                  </a:lnTo>
                  <a:lnTo>
                    <a:pt x="183" y="664"/>
                  </a:lnTo>
                  <a:lnTo>
                    <a:pt x="153" y="647"/>
                  </a:lnTo>
                  <a:lnTo>
                    <a:pt x="126" y="627"/>
                  </a:lnTo>
                  <a:lnTo>
                    <a:pt x="103" y="604"/>
                  </a:lnTo>
                  <a:lnTo>
                    <a:pt x="80" y="577"/>
                  </a:lnTo>
                  <a:lnTo>
                    <a:pt x="60" y="551"/>
                  </a:lnTo>
                  <a:lnTo>
                    <a:pt x="40" y="524"/>
                  </a:lnTo>
                  <a:lnTo>
                    <a:pt x="26" y="490"/>
                  </a:lnTo>
                  <a:lnTo>
                    <a:pt x="13" y="460"/>
                  </a:lnTo>
                  <a:lnTo>
                    <a:pt x="6" y="424"/>
                  </a:lnTo>
                  <a:lnTo>
                    <a:pt x="0" y="390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17"/>
                  </a:lnTo>
                  <a:lnTo>
                    <a:pt x="6" y="284"/>
                  </a:lnTo>
                  <a:lnTo>
                    <a:pt x="13" y="250"/>
                  </a:lnTo>
                  <a:lnTo>
                    <a:pt x="26" y="217"/>
                  </a:lnTo>
                  <a:lnTo>
                    <a:pt x="40" y="187"/>
                  </a:lnTo>
                  <a:lnTo>
                    <a:pt x="60" y="157"/>
                  </a:lnTo>
                  <a:lnTo>
                    <a:pt x="80" y="130"/>
                  </a:lnTo>
                  <a:lnTo>
                    <a:pt x="103" y="103"/>
                  </a:lnTo>
                  <a:lnTo>
                    <a:pt x="126" y="80"/>
                  </a:lnTo>
                  <a:lnTo>
                    <a:pt x="153" y="60"/>
                  </a:lnTo>
                  <a:lnTo>
                    <a:pt x="183" y="43"/>
                  </a:lnTo>
                  <a:lnTo>
                    <a:pt x="213" y="30"/>
                  </a:lnTo>
                  <a:lnTo>
                    <a:pt x="247" y="16"/>
                  </a:lnTo>
                  <a:lnTo>
                    <a:pt x="280" y="6"/>
                  </a:lnTo>
                  <a:lnTo>
                    <a:pt x="317" y="3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87" y="3"/>
                  </a:lnTo>
                  <a:lnTo>
                    <a:pt x="423" y="6"/>
                  </a:lnTo>
                  <a:lnTo>
                    <a:pt x="457" y="16"/>
                  </a:lnTo>
                  <a:lnTo>
                    <a:pt x="490" y="30"/>
                  </a:lnTo>
                  <a:lnTo>
                    <a:pt x="520" y="43"/>
                  </a:lnTo>
                  <a:lnTo>
                    <a:pt x="550" y="60"/>
                  </a:lnTo>
                  <a:lnTo>
                    <a:pt x="577" y="80"/>
                  </a:lnTo>
                  <a:lnTo>
                    <a:pt x="600" y="103"/>
                  </a:lnTo>
                  <a:lnTo>
                    <a:pt x="624" y="130"/>
                  </a:lnTo>
                  <a:lnTo>
                    <a:pt x="644" y="157"/>
                  </a:lnTo>
                  <a:lnTo>
                    <a:pt x="664" y="187"/>
                  </a:lnTo>
                  <a:lnTo>
                    <a:pt x="677" y="217"/>
                  </a:lnTo>
                  <a:lnTo>
                    <a:pt x="691" y="250"/>
                  </a:lnTo>
                  <a:lnTo>
                    <a:pt x="697" y="284"/>
                  </a:lnTo>
                  <a:lnTo>
                    <a:pt x="704" y="317"/>
                  </a:lnTo>
                  <a:lnTo>
                    <a:pt x="704" y="354"/>
                  </a:lnTo>
                  <a:lnTo>
                    <a:pt x="704" y="354"/>
                  </a:lnTo>
                  <a:lnTo>
                    <a:pt x="704" y="390"/>
                  </a:lnTo>
                  <a:lnTo>
                    <a:pt x="697" y="424"/>
                  </a:lnTo>
                  <a:lnTo>
                    <a:pt x="691" y="460"/>
                  </a:lnTo>
                  <a:lnTo>
                    <a:pt x="677" y="490"/>
                  </a:lnTo>
                  <a:lnTo>
                    <a:pt x="664" y="524"/>
                  </a:lnTo>
                  <a:lnTo>
                    <a:pt x="644" y="551"/>
                  </a:lnTo>
                  <a:lnTo>
                    <a:pt x="624" y="577"/>
                  </a:lnTo>
                  <a:lnTo>
                    <a:pt x="600" y="604"/>
                  </a:lnTo>
                  <a:lnTo>
                    <a:pt x="577" y="627"/>
                  </a:lnTo>
                  <a:lnTo>
                    <a:pt x="550" y="647"/>
                  </a:lnTo>
                  <a:lnTo>
                    <a:pt x="520" y="664"/>
                  </a:lnTo>
                  <a:lnTo>
                    <a:pt x="490" y="681"/>
                  </a:lnTo>
                  <a:lnTo>
                    <a:pt x="457" y="691"/>
                  </a:lnTo>
                  <a:lnTo>
                    <a:pt x="423" y="701"/>
                  </a:lnTo>
                  <a:lnTo>
                    <a:pt x="387" y="704"/>
                  </a:lnTo>
                  <a:lnTo>
                    <a:pt x="350" y="707"/>
                  </a:lnTo>
                  <a:lnTo>
                    <a:pt x="350" y="707"/>
                  </a:lnTo>
                  <a:close/>
                </a:path>
              </a:pathLst>
            </a:custGeom>
            <a:solidFill>
              <a:srgbClr val="f9d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08320" y="3062160"/>
              <a:ext cx="1445040" cy="1444680"/>
            </a:xfrm>
            <a:custGeom>
              <a:avLst/>
              <a:gdLst/>
              <a:ahLst/>
              <a:rect l="l" t="t" r="r" b="b"/>
              <a:pathLst>
                <a:path w="678" h="678">
                  <a:moveTo>
                    <a:pt x="678" y="337"/>
                  </a:moveTo>
                  <a:lnTo>
                    <a:pt x="678" y="337"/>
                  </a:lnTo>
                  <a:lnTo>
                    <a:pt x="675" y="374"/>
                  </a:lnTo>
                  <a:lnTo>
                    <a:pt x="671" y="407"/>
                  </a:lnTo>
                  <a:lnTo>
                    <a:pt x="661" y="441"/>
                  </a:lnTo>
                  <a:lnTo>
                    <a:pt x="651" y="471"/>
                  </a:lnTo>
                  <a:lnTo>
                    <a:pt x="634" y="501"/>
                  </a:lnTo>
                  <a:lnTo>
                    <a:pt x="618" y="528"/>
                  </a:lnTo>
                  <a:lnTo>
                    <a:pt x="598" y="554"/>
                  </a:lnTo>
                  <a:lnTo>
                    <a:pt x="578" y="578"/>
                  </a:lnTo>
                  <a:lnTo>
                    <a:pt x="554" y="601"/>
                  </a:lnTo>
                  <a:lnTo>
                    <a:pt x="528" y="621"/>
                  </a:lnTo>
                  <a:lnTo>
                    <a:pt x="501" y="638"/>
                  </a:lnTo>
                  <a:lnTo>
                    <a:pt x="471" y="651"/>
                  </a:lnTo>
                  <a:lnTo>
                    <a:pt x="438" y="661"/>
                  </a:lnTo>
                  <a:lnTo>
                    <a:pt x="407" y="671"/>
                  </a:lnTo>
                  <a:lnTo>
                    <a:pt x="374" y="674"/>
                  </a:lnTo>
                  <a:lnTo>
                    <a:pt x="337" y="678"/>
                  </a:lnTo>
                  <a:lnTo>
                    <a:pt x="337" y="678"/>
                  </a:lnTo>
                  <a:lnTo>
                    <a:pt x="304" y="674"/>
                  </a:lnTo>
                  <a:lnTo>
                    <a:pt x="271" y="671"/>
                  </a:lnTo>
                  <a:lnTo>
                    <a:pt x="237" y="661"/>
                  </a:lnTo>
                  <a:lnTo>
                    <a:pt x="207" y="651"/>
                  </a:lnTo>
                  <a:lnTo>
                    <a:pt x="177" y="638"/>
                  </a:lnTo>
                  <a:lnTo>
                    <a:pt x="147" y="621"/>
                  </a:lnTo>
                  <a:lnTo>
                    <a:pt x="124" y="601"/>
                  </a:lnTo>
                  <a:lnTo>
                    <a:pt x="97" y="578"/>
                  </a:lnTo>
                  <a:lnTo>
                    <a:pt x="77" y="554"/>
                  </a:lnTo>
                  <a:lnTo>
                    <a:pt x="57" y="528"/>
                  </a:lnTo>
                  <a:lnTo>
                    <a:pt x="40" y="501"/>
                  </a:lnTo>
                  <a:lnTo>
                    <a:pt x="27" y="471"/>
                  </a:lnTo>
                  <a:lnTo>
                    <a:pt x="14" y="441"/>
                  </a:lnTo>
                  <a:lnTo>
                    <a:pt x="7" y="407"/>
                  </a:lnTo>
                  <a:lnTo>
                    <a:pt x="0" y="374"/>
                  </a:lnTo>
                  <a:lnTo>
                    <a:pt x="0" y="337"/>
                  </a:lnTo>
                  <a:lnTo>
                    <a:pt x="0" y="337"/>
                  </a:lnTo>
                  <a:lnTo>
                    <a:pt x="0" y="304"/>
                  </a:lnTo>
                  <a:lnTo>
                    <a:pt x="7" y="271"/>
                  </a:lnTo>
                  <a:lnTo>
                    <a:pt x="14" y="237"/>
                  </a:lnTo>
                  <a:lnTo>
                    <a:pt x="27" y="207"/>
                  </a:lnTo>
                  <a:lnTo>
                    <a:pt x="40" y="177"/>
                  </a:lnTo>
                  <a:lnTo>
                    <a:pt x="57" y="150"/>
                  </a:lnTo>
                  <a:lnTo>
                    <a:pt x="77" y="124"/>
                  </a:lnTo>
                  <a:lnTo>
                    <a:pt x="97" y="100"/>
                  </a:lnTo>
                  <a:lnTo>
                    <a:pt x="124" y="77"/>
                  </a:lnTo>
                  <a:lnTo>
                    <a:pt x="147" y="57"/>
                  </a:lnTo>
                  <a:lnTo>
                    <a:pt x="177" y="40"/>
                  </a:lnTo>
                  <a:lnTo>
                    <a:pt x="207" y="27"/>
                  </a:lnTo>
                  <a:lnTo>
                    <a:pt x="237" y="17"/>
                  </a:lnTo>
                  <a:lnTo>
                    <a:pt x="271" y="7"/>
                  </a:lnTo>
                  <a:lnTo>
                    <a:pt x="304" y="3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74" y="3"/>
                  </a:lnTo>
                  <a:lnTo>
                    <a:pt x="407" y="7"/>
                  </a:lnTo>
                  <a:lnTo>
                    <a:pt x="438" y="17"/>
                  </a:lnTo>
                  <a:lnTo>
                    <a:pt x="471" y="27"/>
                  </a:lnTo>
                  <a:lnTo>
                    <a:pt x="501" y="40"/>
                  </a:lnTo>
                  <a:lnTo>
                    <a:pt x="528" y="57"/>
                  </a:lnTo>
                  <a:lnTo>
                    <a:pt x="554" y="77"/>
                  </a:lnTo>
                  <a:lnTo>
                    <a:pt x="578" y="100"/>
                  </a:lnTo>
                  <a:lnTo>
                    <a:pt x="598" y="124"/>
                  </a:lnTo>
                  <a:lnTo>
                    <a:pt x="618" y="150"/>
                  </a:lnTo>
                  <a:lnTo>
                    <a:pt x="634" y="177"/>
                  </a:lnTo>
                  <a:lnTo>
                    <a:pt x="651" y="207"/>
                  </a:lnTo>
                  <a:lnTo>
                    <a:pt x="661" y="237"/>
                  </a:lnTo>
                  <a:lnTo>
                    <a:pt x="671" y="271"/>
                  </a:lnTo>
                  <a:lnTo>
                    <a:pt x="675" y="304"/>
                  </a:lnTo>
                  <a:lnTo>
                    <a:pt x="678" y="337"/>
                  </a:lnTo>
                  <a:lnTo>
                    <a:pt x="678" y="337"/>
                  </a:lnTo>
                  <a:close/>
                </a:path>
              </a:pathLst>
            </a:custGeom>
            <a:solidFill>
              <a:srgbClr val="f9da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04800" y="3466440"/>
              <a:ext cx="526320" cy="450000"/>
            </a:xfrm>
            <a:custGeom>
              <a:avLst/>
              <a:gdLst/>
              <a:ahLst/>
              <a:rect l="l" t="t" r="r" b="b"/>
              <a:pathLst>
                <a:path w="247" h="211">
                  <a:moveTo>
                    <a:pt x="244" y="174"/>
                  </a:moveTo>
                  <a:lnTo>
                    <a:pt x="244" y="174"/>
                  </a:lnTo>
                  <a:lnTo>
                    <a:pt x="214" y="167"/>
                  </a:lnTo>
                  <a:lnTo>
                    <a:pt x="184" y="157"/>
                  </a:lnTo>
                  <a:lnTo>
                    <a:pt x="147" y="144"/>
                  </a:lnTo>
                  <a:lnTo>
                    <a:pt x="107" y="121"/>
                  </a:lnTo>
                  <a:lnTo>
                    <a:pt x="90" y="107"/>
                  </a:lnTo>
                  <a:lnTo>
                    <a:pt x="73" y="91"/>
                  </a:lnTo>
                  <a:lnTo>
                    <a:pt x="57" y="74"/>
                  </a:lnTo>
                  <a:lnTo>
                    <a:pt x="43" y="50"/>
                  </a:lnTo>
                  <a:lnTo>
                    <a:pt x="30" y="27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7"/>
                  </a:lnTo>
                  <a:lnTo>
                    <a:pt x="3" y="1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" y="40"/>
                  </a:lnTo>
                  <a:lnTo>
                    <a:pt x="13" y="64"/>
                  </a:lnTo>
                  <a:lnTo>
                    <a:pt x="30" y="94"/>
                  </a:lnTo>
                  <a:lnTo>
                    <a:pt x="57" y="124"/>
                  </a:lnTo>
                  <a:lnTo>
                    <a:pt x="90" y="154"/>
                  </a:lnTo>
                  <a:lnTo>
                    <a:pt x="110" y="167"/>
                  </a:lnTo>
                  <a:lnTo>
                    <a:pt x="130" y="181"/>
                  </a:lnTo>
                  <a:lnTo>
                    <a:pt x="154" y="191"/>
                  </a:lnTo>
                  <a:lnTo>
                    <a:pt x="180" y="201"/>
                  </a:lnTo>
                  <a:lnTo>
                    <a:pt x="204" y="207"/>
                  </a:lnTo>
                  <a:lnTo>
                    <a:pt x="234" y="211"/>
                  </a:lnTo>
                  <a:lnTo>
                    <a:pt x="234" y="211"/>
                  </a:lnTo>
                  <a:lnTo>
                    <a:pt x="237" y="207"/>
                  </a:lnTo>
                  <a:lnTo>
                    <a:pt x="244" y="201"/>
                  </a:lnTo>
                  <a:lnTo>
                    <a:pt x="247" y="197"/>
                  </a:lnTo>
                  <a:lnTo>
                    <a:pt x="247" y="191"/>
                  </a:lnTo>
                  <a:lnTo>
                    <a:pt x="247" y="184"/>
                  </a:lnTo>
                  <a:lnTo>
                    <a:pt x="244" y="174"/>
                  </a:lnTo>
                  <a:lnTo>
                    <a:pt x="244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12480" y="3210840"/>
              <a:ext cx="426240" cy="340920"/>
            </a:xfrm>
            <a:custGeom>
              <a:avLst/>
              <a:gdLst/>
              <a:ahLst/>
              <a:rect l="l" t="t" r="r" b="b"/>
              <a:pathLst>
                <a:path w="200" h="160">
                  <a:moveTo>
                    <a:pt x="167" y="137"/>
                  </a:moveTo>
                  <a:lnTo>
                    <a:pt x="167" y="137"/>
                  </a:lnTo>
                  <a:lnTo>
                    <a:pt x="170" y="124"/>
                  </a:lnTo>
                  <a:lnTo>
                    <a:pt x="177" y="110"/>
                  </a:lnTo>
                  <a:lnTo>
                    <a:pt x="184" y="97"/>
                  </a:lnTo>
                  <a:lnTo>
                    <a:pt x="184" y="97"/>
                  </a:lnTo>
                  <a:lnTo>
                    <a:pt x="194" y="84"/>
                  </a:lnTo>
                  <a:lnTo>
                    <a:pt x="200" y="70"/>
                  </a:lnTo>
                  <a:lnTo>
                    <a:pt x="200" y="67"/>
                  </a:lnTo>
                  <a:lnTo>
                    <a:pt x="197" y="60"/>
                  </a:lnTo>
                  <a:lnTo>
                    <a:pt x="194" y="60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0" y="60"/>
                  </a:lnTo>
                  <a:lnTo>
                    <a:pt x="174" y="64"/>
                  </a:lnTo>
                  <a:lnTo>
                    <a:pt x="164" y="74"/>
                  </a:lnTo>
                  <a:lnTo>
                    <a:pt x="160" y="84"/>
                  </a:lnTo>
                  <a:lnTo>
                    <a:pt x="160" y="87"/>
                  </a:lnTo>
                  <a:lnTo>
                    <a:pt x="160" y="87"/>
                  </a:lnTo>
                  <a:lnTo>
                    <a:pt x="160" y="94"/>
                  </a:lnTo>
                  <a:lnTo>
                    <a:pt x="157" y="97"/>
                  </a:lnTo>
                  <a:lnTo>
                    <a:pt x="150" y="97"/>
                  </a:lnTo>
                  <a:lnTo>
                    <a:pt x="150" y="97"/>
                  </a:lnTo>
                  <a:lnTo>
                    <a:pt x="140" y="90"/>
                  </a:lnTo>
                  <a:lnTo>
                    <a:pt x="127" y="74"/>
                  </a:lnTo>
                  <a:lnTo>
                    <a:pt x="117" y="54"/>
                  </a:lnTo>
                  <a:lnTo>
                    <a:pt x="110" y="37"/>
                  </a:lnTo>
                  <a:lnTo>
                    <a:pt x="110" y="37"/>
                  </a:lnTo>
                  <a:lnTo>
                    <a:pt x="104" y="20"/>
                  </a:lnTo>
                  <a:lnTo>
                    <a:pt x="97" y="7"/>
                  </a:lnTo>
                  <a:lnTo>
                    <a:pt x="90" y="4"/>
                  </a:lnTo>
                  <a:lnTo>
                    <a:pt x="87" y="0"/>
                  </a:lnTo>
                  <a:lnTo>
                    <a:pt x="80" y="4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0" y="14"/>
                  </a:lnTo>
                  <a:lnTo>
                    <a:pt x="70" y="20"/>
                  </a:lnTo>
                  <a:lnTo>
                    <a:pt x="70" y="37"/>
                  </a:lnTo>
                  <a:lnTo>
                    <a:pt x="80" y="54"/>
                  </a:lnTo>
                  <a:lnTo>
                    <a:pt x="107" y="90"/>
                  </a:lnTo>
                  <a:lnTo>
                    <a:pt x="107" y="90"/>
                  </a:lnTo>
                  <a:lnTo>
                    <a:pt x="107" y="94"/>
                  </a:lnTo>
                  <a:lnTo>
                    <a:pt x="104" y="97"/>
                  </a:lnTo>
                  <a:lnTo>
                    <a:pt x="94" y="90"/>
                  </a:lnTo>
                  <a:lnTo>
                    <a:pt x="94" y="90"/>
                  </a:lnTo>
                  <a:lnTo>
                    <a:pt x="77" y="80"/>
                  </a:lnTo>
                  <a:lnTo>
                    <a:pt x="64" y="67"/>
                  </a:lnTo>
                  <a:lnTo>
                    <a:pt x="57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47" y="30"/>
                  </a:lnTo>
                  <a:lnTo>
                    <a:pt x="40" y="20"/>
                  </a:lnTo>
                  <a:lnTo>
                    <a:pt x="34" y="17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20"/>
                  </a:lnTo>
                  <a:lnTo>
                    <a:pt x="14" y="27"/>
                  </a:lnTo>
                  <a:lnTo>
                    <a:pt x="14" y="37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7" y="64"/>
                  </a:lnTo>
                  <a:lnTo>
                    <a:pt x="40" y="77"/>
                  </a:lnTo>
                  <a:lnTo>
                    <a:pt x="57" y="97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90" y="120"/>
                  </a:lnTo>
                  <a:lnTo>
                    <a:pt x="90" y="127"/>
                  </a:lnTo>
                  <a:lnTo>
                    <a:pt x="80" y="127"/>
                  </a:lnTo>
                  <a:lnTo>
                    <a:pt x="80" y="127"/>
                  </a:lnTo>
                  <a:lnTo>
                    <a:pt x="67" y="127"/>
                  </a:lnTo>
                  <a:lnTo>
                    <a:pt x="54" y="124"/>
                  </a:lnTo>
                  <a:lnTo>
                    <a:pt x="40" y="117"/>
                  </a:lnTo>
                  <a:lnTo>
                    <a:pt x="30" y="107"/>
                  </a:lnTo>
                  <a:lnTo>
                    <a:pt x="30" y="107"/>
                  </a:lnTo>
                  <a:lnTo>
                    <a:pt x="20" y="97"/>
                  </a:lnTo>
                  <a:lnTo>
                    <a:pt x="10" y="97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4" y="124"/>
                  </a:lnTo>
                  <a:lnTo>
                    <a:pt x="7" y="127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60" y="150"/>
                  </a:lnTo>
                  <a:lnTo>
                    <a:pt x="90" y="157"/>
                  </a:lnTo>
                  <a:lnTo>
                    <a:pt x="107" y="160"/>
                  </a:lnTo>
                  <a:lnTo>
                    <a:pt x="124" y="160"/>
                  </a:lnTo>
                  <a:lnTo>
                    <a:pt x="124" y="160"/>
                  </a:lnTo>
                  <a:lnTo>
                    <a:pt x="147" y="157"/>
                  </a:lnTo>
                  <a:lnTo>
                    <a:pt x="160" y="150"/>
                  </a:lnTo>
                  <a:lnTo>
                    <a:pt x="164" y="147"/>
                  </a:lnTo>
                  <a:lnTo>
                    <a:pt x="167" y="137"/>
                  </a:lnTo>
                  <a:lnTo>
                    <a:pt x="167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13320" y="4178520"/>
              <a:ext cx="626400" cy="277200"/>
            </a:xfrm>
            <a:custGeom>
              <a:avLst/>
              <a:gdLst/>
              <a:ahLst/>
              <a:rect l="l" t="t" r="r" b="b"/>
              <a:pathLst>
                <a:path w="294" h="130">
                  <a:moveTo>
                    <a:pt x="284" y="94"/>
                  </a:moveTo>
                  <a:lnTo>
                    <a:pt x="284" y="94"/>
                  </a:lnTo>
                  <a:lnTo>
                    <a:pt x="264" y="87"/>
                  </a:lnTo>
                  <a:lnTo>
                    <a:pt x="207" y="70"/>
                  </a:lnTo>
                  <a:lnTo>
                    <a:pt x="121" y="44"/>
                  </a:lnTo>
                  <a:lnTo>
                    <a:pt x="71" y="2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4" y="34"/>
                  </a:lnTo>
                  <a:lnTo>
                    <a:pt x="34" y="60"/>
                  </a:lnTo>
                  <a:lnTo>
                    <a:pt x="44" y="77"/>
                  </a:lnTo>
                  <a:lnTo>
                    <a:pt x="61" y="90"/>
                  </a:lnTo>
                  <a:lnTo>
                    <a:pt x="77" y="104"/>
                  </a:lnTo>
                  <a:lnTo>
                    <a:pt x="97" y="114"/>
                  </a:lnTo>
                  <a:lnTo>
                    <a:pt x="121" y="124"/>
                  </a:lnTo>
                  <a:lnTo>
                    <a:pt x="147" y="130"/>
                  </a:lnTo>
                  <a:lnTo>
                    <a:pt x="174" y="130"/>
                  </a:lnTo>
                  <a:lnTo>
                    <a:pt x="207" y="130"/>
                  </a:lnTo>
                  <a:lnTo>
                    <a:pt x="244" y="120"/>
                  </a:lnTo>
                  <a:lnTo>
                    <a:pt x="284" y="107"/>
                  </a:lnTo>
                  <a:lnTo>
                    <a:pt x="284" y="107"/>
                  </a:lnTo>
                  <a:lnTo>
                    <a:pt x="294" y="104"/>
                  </a:lnTo>
                  <a:lnTo>
                    <a:pt x="294" y="97"/>
                  </a:lnTo>
                  <a:lnTo>
                    <a:pt x="291" y="94"/>
                  </a:lnTo>
                  <a:lnTo>
                    <a:pt x="284" y="94"/>
                  </a:lnTo>
                  <a:lnTo>
                    <a:pt x="284" y="94"/>
                  </a:lnTo>
                  <a:close/>
                </a:path>
              </a:pathLst>
            </a:custGeom>
            <a:solidFill>
              <a:srgbClr val="1e0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46720" y="3703320"/>
              <a:ext cx="319680" cy="204120"/>
            </a:xfrm>
            <a:custGeom>
              <a:avLst/>
              <a:gdLst/>
              <a:ahLst/>
              <a:rect l="l" t="t" r="r" b="b"/>
              <a:pathLst>
                <a:path w="150" h="96">
                  <a:moveTo>
                    <a:pt x="150" y="96"/>
                  </a:moveTo>
                  <a:lnTo>
                    <a:pt x="150" y="96"/>
                  </a:lnTo>
                  <a:lnTo>
                    <a:pt x="144" y="83"/>
                  </a:lnTo>
                  <a:lnTo>
                    <a:pt x="134" y="66"/>
                  </a:lnTo>
                  <a:lnTo>
                    <a:pt x="120" y="50"/>
                  </a:lnTo>
                  <a:lnTo>
                    <a:pt x="100" y="33"/>
                  </a:lnTo>
                  <a:lnTo>
                    <a:pt x="73" y="20"/>
                  </a:lnTo>
                  <a:lnTo>
                    <a:pt x="57" y="16"/>
                  </a:lnTo>
                  <a:lnTo>
                    <a:pt x="40" y="13"/>
                  </a:lnTo>
                  <a:lnTo>
                    <a:pt x="2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0" y="6"/>
                  </a:lnTo>
                  <a:lnTo>
                    <a:pt x="43" y="3"/>
                  </a:lnTo>
                  <a:lnTo>
                    <a:pt x="67" y="0"/>
                  </a:lnTo>
                  <a:lnTo>
                    <a:pt x="80" y="3"/>
                  </a:lnTo>
                  <a:lnTo>
                    <a:pt x="94" y="6"/>
                  </a:lnTo>
                  <a:lnTo>
                    <a:pt x="107" y="13"/>
                  </a:lnTo>
                  <a:lnTo>
                    <a:pt x="120" y="23"/>
                  </a:lnTo>
                  <a:lnTo>
                    <a:pt x="130" y="33"/>
                  </a:lnTo>
                  <a:lnTo>
                    <a:pt x="137" y="50"/>
                  </a:lnTo>
                  <a:lnTo>
                    <a:pt x="147" y="73"/>
                  </a:lnTo>
                  <a:lnTo>
                    <a:pt x="150" y="96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29640" y="3432600"/>
              <a:ext cx="371160" cy="119160"/>
            </a:xfrm>
            <a:custGeom>
              <a:avLst/>
              <a:gdLst/>
              <a:ahLst/>
              <a:rect l="l" t="t" r="r" b="b"/>
              <a:pathLst>
                <a:path w="174" h="56">
                  <a:moveTo>
                    <a:pt x="174" y="56"/>
                  </a:moveTo>
                  <a:lnTo>
                    <a:pt x="174" y="56"/>
                  </a:lnTo>
                  <a:lnTo>
                    <a:pt x="160" y="46"/>
                  </a:lnTo>
                  <a:lnTo>
                    <a:pt x="147" y="36"/>
                  </a:lnTo>
                  <a:lnTo>
                    <a:pt x="123" y="30"/>
                  </a:lnTo>
                  <a:lnTo>
                    <a:pt x="100" y="23"/>
                  </a:lnTo>
                  <a:lnTo>
                    <a:pt x="70" y="23"/>
                  </a:lnTo>
                  <a:lnTo>
                    <a:pt x="53" y="26"/>
                  </a:lnTo>
                  <a:lnTo>
                    <a:pt x="37" y="30"/>
                  </a:lnTo>
                  <a:lnTo>
                    <a:pt x="17" y="3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7" y="33"/>
                  </a:lnTo>
                  <a:lnTo>
                    <a:pt x="33" y="16"/>
                  </a:lnTo>
                  <a:lnTo>
                    <a:pt x="57" y="6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7" y="0"/>
                  </a:lnTo>
                  <a:lnTo>
                    <a:pt x="110" y="3"/>
                  </a:lnTo>
                  <a:lnTo>
                    <a:pt x="127" y="10"/>
                  </a:lnTo>
                  <a:lnTo>
                    <a:pt x="144" y="20"/>
                  </a:lnTo>
                  <a:lnTo>
                    <a:pt x="160" y="36"/>
                  </a:lnTo>
                  <a:lnTo>
                    <a:pt x="174" y="56"/>
                  </a:lnTo>
                  <a:lnTo>
                    <a:pt x="17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87240" y="3609720"/>
              <a:ext cx="356040" cy="405000"/>
            </a:xfrm>
            <a:custGeom>
              <a:avLst/>
              <a:gdLst/>
              <a:ahLst/>
              <a:rect l="l" t="t" r="r" b="b"/>
              <a:pathLst>
                <a:path w="167" h="190">
                  <a:moveTo>
                    <a:pt x="3" y="160"/>
                  </a:moveTo>
                  <a:lnTo>
                    <a:pt x="3" y="160"/>
                  </a:lnTo>
                  <a:lnTo>
                    <a:pt x="0" y="130"/>
                  </a:lnTo>
                  <a:lnTo>
                    <a:pt x="0" y="104"/>
                  </a:lnTo>
                  <a:lnTo>
                    <a:pt x="3" y="70"/>
                  </a:lnTo>
                  <a:lnTo>
                    <a:pt x="6" y="54"/>
                  </a:lnTo>
                  <a:lnTo>
                    <a:pt x="13" y="40"/>
                  </a:lnTo>
                  <a:lnTo>
                    <a:pt x="20" y="27"/>
                  </a:lnTo>
                  <a:lnTo>
                    <a:pt x="30" y="14"/>
                  </a:lnTo>
                  <a:lnTo>
                    <a:pt x="43" y="7"/>
                  </a:lnTo>
                  <a:lnTo>
                    <a:pt x="60" y="0"/>
                  </a:lnTo>
                  <a:lnTo>
                    <a:pt x="76" y="0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17" y="10"/>
                  </a:lnTo>
                  <a:lnTo>
                    <a:pt x="133" y="24"/>
                  </a:lnTo>
                  <a:lnTo>
                    <a:pt x="150" y="40"/>
                  </a:lnTo>
                  <a:lnTo>
                    <a:pt x="157" y="50"/>
                  </a:lnTo>
                  <a:lnTo>
                    <a:pt x="160" y="64"/>
                  </a:lnTo>
                  <a:lnTo>
                    <a:pt x="163" y="80"/>
                  </a:lnTo>
                  <a:lnTo>
                    <a:pt x="167" y="97"/>
                  </a:lnTo>
                  <a:lnTo>
                    <a:pt x="163" y="117"/>
                  </a:lnTo>
                  <a:lnTo>
                    <a:pt x="160" y="137"/>
                  </a:lnTo>
                  <a:lnTo>
                    <a:pt x="150" y="164"/>
                  </a:lnTo>
                  <a:lnTo>
                    <a:pt x="137" y="190"/>
                  </a:lnTo>
                  <a:lnTo>
                    <a:pt x="137" y="190"/>
                  </a:lnTo>
                  <a:lnTo>
                    <a:pt x="127" y="184"/>
                  </a:lnTo>
                  <a:lnTo>
                    <a:pt x="96" y="174"/>
                  </a:lnTo>
                  <a:lnTo>
                    <a:pt x="76" y="167"/>
                  </a:lnTo>
                  <a:lnTo>
                    <a:pt x="53" y="160"/>
                  </a:lnTo>
                  <a:lnTo>
                    <a:pt x="26" y="160"/>
                  </a:lnTo>
                  <a:lnTo>
                    <a:pt x="3" y="160"/>
                  </a:lnTo>
                  <a:lnTo>
                    <a:pt x="3" y="160"/>
                  </a:lnTo>
                  <a:close/>
                </a:path>
              </a:pathLst>
            </a:custGeom>
            <a:solidFill>
              <a:srgbClr val="df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00200" y="3630960"/>
              <a:ext cx="321840" cy="36252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4" y="137"/>
                  </a:moveTo>
                  <a:lnTo>
                    <a:pt x="4" y="137"/>
                  </a:lnTo>
                  <a:lnTo>
                    <a:pt x="0" y="114"/>
                  </a:lnTo>
                  <a:lnTo>
                    <a:pt x="0" y="87"/>
                  </a:lnTo>
                  <a:lnTo>
                    <a:pt x="4" y="60"/>
                  </a:lnTo>
                  <a:lnTo>
                    <a:pt x="14" y="34"/>
                  </a:lnTo>
                  <a:lnTo>
                    <a:pt x="20" y="24"/>
                  </a:lnTo>
                  <a:lnTo>
                    <a:pt x="30" y="14"/>
                  </a:lnTo>
                  <a:lnTo>
                    <a:pt x="40" y="7"/>
                  </a:lnTo>
                  <a:lnTo>
                    <a:pt x="54" y="0"/>
                  </a:lnTo>
                  <a:lnTo>
                    <a:pt x="74" y="0"/>
                  </a:lnTo>
                  <a:lnTo>
                    <a:pt x="94" y="4"/>
                  </a:lnTo>
                  <a:lnTo>
                    <a:pt x="94" y="4"/>
                  </a:lnTo>
                  <a:lnTo>
                    <a:pt x="107" y="10"/>
                  </a:lnTo>
                  <a:lnTo>
                    <a:pt x="121" y="20"/>
                  </a:lnTo>
                  <a:lnTo>
                    <a:pt x="137" y="37"/>
                  </a:lnTo>
                  <a:lnTo>
                    <a:pt x="147" y="57"/>
                  </a:lnTo>
                  <a:lnTo>
                    <a:pt x="151" y="70"/>
                  </a:lnTo>
                  <a:lnTo>
                    <a:pt x="151" y="87"/>
                  </a:lnTo>
                  <a:lnTo>
                    <a:pt x="151" y="104"/>
                  </a:lnTo>
                  <a:lnTo>
                    <a:pt x="144" y="124"/>
                  </a:lnTo>
                  <a:lnTo>
                    <a:pt x="137" y="147"/>
                  </a:lnTo>
                  <a:lnTo>
                    <a:pt x="127" y="170"/>
                  </a:lnTo>
                  <a:lnTo>
                    <a:pt x="127" y="170"/>
                  </a:lnTo>
                  <a:lnTo>
                    <a:pt x="117" y="164"/>
                  </a:lnTo>
                  <a:lnTo>
                    <a:pt x="90" y="154"/>
                  </a:lnTo>
                  <a:lnTo>
                    <a:pt x="50" y="144"/>
                  </a:lnTo>
                  <a:lnTo>
                    <a:pt x="27" y="140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23160" y="3929040"/>
              <a:ext cx="140400" cy="36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66" y="10"/>
                  </a:moveTo>
                  <a:lnTo>
                    <a:pt x="66" y="10"/>
                  </a:lnTo>
                  <a:lnTo>
                    <a:pt x="36" y="10"/>
                  </a:lnTo>
                  <a:lnTo>
                    <a:pt x="13" y="1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3" y="14"/>
                  </a:lnTo>
                  <a:lnTo>
                    <a:pt x="13" y="7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60" y="4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df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00200" y="3709800"/>
              <a:ext cx="236160" cy="24912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90" y="117"/>
                  </a:moveTo>
                  <a:lnTo>
                    <a:pt x="90" y="117"/>
                  </a:lnTo>
                  <a:lnTo>
                    <a:pt x="97" y="107"/>
                  </a:lnTo>
                  <a:lnTo>
                    <a:pt x="104" y="90"/>
                  </a:lnTo>
                  <a:lnTo>
                    <a:pt x="111" y="73"/>
                  </a:lnTo>
                  <a:lnTo>
                    <a:pt x="111" y="57"/>
                  </a:lnTo>
                  <a:lnTo>
                    <a:pt x="111" y="40"/>
                  </a:lnTo>
                  <a:lnTo>
                    <a:pt x="104" y="30"/>
                  </a:lnTo>
                  <a:lnTo>
                    <a:pt x="97" y="20"/>
                  </a:lnTo>
                  <a:lnTo>
                    <a:pt x="90" y="13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60" y="0"/>
                  </a:lnTo>
                  <a:lnTo>
                    <a:pt x="47" y="0"/>
                  </a:lnTo>
                  <a:lnTo>
                    <a:pt x="34" y="0"/>
                  </a:lnTo>
                  <a:lnTo>
                    <a:pt x="24" y="3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0" y="50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4" y="103"/>
                  </a:lnTo>
                  <a:lnTo>
                    <a:pt x="4" y="103"/>
                  </a:lnTo>
                  <a:lnTo>
                    <a:pt x="27" y="107"/>
                  </a:lnTo>
                  <a:lnTo>
                    <a:pt x="90" y="117"/>
                  </a:lnTo>
                  <a:lnTo>
                    <a:pt x="9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3600" y="3822840"/>
              <a:ext cx="362160" cy="406800"/>
            </a:xfrm>
            <a:custGeom>
              <a:avLst/>
              <a:gdLst/>
              <a:ahLst/>
              <a:rect l="l" t="t" r="r" b="b"/>
              <a:pathLst>
                <a:path w="170" h="191">
                  <a:moveTo>
                    <a:pt x="133" y="191"/>
                  </a:moveTo>
                  <a:lnTo>
                    <a:pt x="133" y="191"/>
                  </a:lnTo>
                  <a:lnTo>
                    <a:pt x="147" y="167"/>
                  </a:lnTo>
                  <a:lnTo>
                    <a:pt x="160" y="140"/>
                  </a:lnTo>
                  <a:lnTo>
                    <a:pt x="167" y="110"/>
                  </a:lnTo>
                  <a:lnTo>
                    <a:pt x="170" y="94"/>
                  </a:lnTo>
                  <a:lnTo>
                    <a:pt x="170" y="77"/>
                  </a:lnTo>
                  <a:lnTo>
                    <a:pt x="170" y="60"/>
                  </a:lnTo>
                  <a:lnTo>
                    <a:pt x="163" y="47"/>
                  </a:lnTo>
                  <a:lnTo>
                    <a:pt x="157" y="34"/>
                  </a:lnTo>
                  <a:lnTo>
                    <a:pt x="143" y="20"/>
                  </a:lnTo>
                  <a:lnTo>
                    <a:pt x="127" y="1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87" y="0"/>
                  </a:lnTo>
                  <a:lnTo>
                    <a:pt x="70" y="4"/>
                  </a:lnTo>
                  <a:lnTo>
                    <a:pt x="47" y="10"/>
                  </a:lnTo>
                  <a:lnTo>
                    <a:pt x="37" y="17"/>
                  </a:lnTo>
                  <a:lnTo>
                    <a:pt x="27" y="27"/>
                  </a:lnTo>
                  <a:lnTo>
                    <a:pt x="20" y="40"/>
                  </a:lnTo>
                  <a:lnTo>
                    <a:pt x="10" y="54"/>
                  </a:lnTo>
                  <a:lnTo>
                    <a:pt x="3" y="74"/>
                  </a:lnTo>
                  <a:lnTo>
                    <a:pt x="0" y="97"/>
                  </a:lnTo>
                  <a:lnTo>
                    <a:pt x="0" y="124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3" y="154"/>
                  </a:lnTo>
                  <a:lnTo>
                    <a:pt x="43" y="161"/>
                  </a:lnTo>
                  <a:lnTo>
                    <a:pt x="87" y="171"/>
                  </a:lnTo>
                  <a:lnTo>
                    <a:pt x="110" y="181"/>
                  </a:lnTo>
                  <a:lnTo>
                    <a:pt x="133" y="191"/>
                  </a:lnTo>
                  <a:lnTo>
                    <a:pt x="133" y="191"/>
                  </a:lnTo>
                  <a:close/>
                </a:path>
              </a:pathLst>
            </a:custGeom>
            <a:solidFill>
              <a:srgbClr val="df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48360" y="3844080"/>
              <a:ext cx="332280" cy="349200"/>
            </a:xfrm>
            <a:custGeom>
              <a:avLst/>
              <a:gdLst/>
              <a:ahLst/>
              <a:rect l="l" t="t" r="r" b="b"/>
              <a:pathLst>
                <a:path w="156" h="164">
                  <a:moveTo>
                    <a:pt x="123" y="164"/>
                  </a:moveTo>
                  <a:lnTo>
                    <a:pt x="123" y="164"/>
                  </a:lnTo>
                  <a:lnTo>
                    <a:pt x="136" y="144"/>
                  </a:lnTo>
                  <a:lnTo>
                    <a:pt x="146" y="120"/>
                  </a:lnTo>
                  <a:lnTo>
                    <a:pt x="153" y="94"/>
                  </a:lnTo>
                  <a:lnTo>
                    <a:pt x="156" y="67"/>
                  </a:lnTo>
                  <a:lnTo>
                    <a:pt x="153" y="54"/>
                  </a:lnTo>
                  <a:lnTo>
                    <a:pt x="150" y="40"/>
                  </a:lnTo>
                  <a:lnTo>
                    <a:pt x="143" y="27"/>
                  </a:lnTo>
                  <a:lnTo>
                    <a:pt x="130" y="17"/>
                  </a:lnTo>
                  <a:lnTo>
                    <a:pt x="116" y="7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6" y="10"/>
                  </a:lnTo>
                  <a:lnTo>
                    <a:pt x="36" y="17"/>
                  </a:lnTo>
                  <a:lnTo>
                    <a:pt x="26" y="24"/>
                  </a:lnTo>
                  <a:lnTo>
                    <a:pt x="20" y="37"/>
                  </a:lnTo>
                  <a:lnTo>
                    <a:pt x="13" y="50"/>
                  </a:lnTo>
                  <a:lnTo>
                    <a:pt x="6" y="67"/>
                  </a:lnTo>
                  <a:lnTo>
                    <a:pt x="3" y="87"/>
                  </a:lnTo>
                  <a:lnTo>
                    <a:pt x="0" y="110"/>
                  </a:lnTo>
                  <a:lnTo>
                    <a:pt x="3" y="137"/>
                  </a:lnTo>
                  <a:lnTo>
                    <a:pt x="3" y="137"/>
                  </a:lnTo>
                  <a:lnTo>
                    <a:pt x="40" y="141"/>
                  </a:lnTo>
                  <a:lnTo>
                    <a:pt x="80" y="151"/>
                  </a:lnTo>
                  <a:lnTo>
                    <a:pt x="123" y="164"/>
                  </a:lnTo>
                  <a:lnTo>
                    <a:pt x="123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9720" y="3922920"/>
              <a:ext cx="243000" cy="24912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90" y="117"/>
                  </a:moveTo>
                  <a:lnTo>
                    <a:pt x="90" y="117"/>
                  </a:lnTo>
                  <a:lnTo>
                    <a:pt x="100" y="107"/>
                  </a:lnTo>
                  <a:lnTo>
                    <a:pt x="107" y="93"/>
                  </a:lnTo>
                  <a:lnTo>
                    <a:pt x="110" y="77"/>
                  </a:lnTo>
                  <a:lnTo>
                    <a:pt x="114" y="60"/>
                  </a:lnTo>
                  <a:lnTo>
                    <a:pt x="110" y="43"/>
                  </a:lnTo>
                  <a:lnTo>
                    <a:pt x="107" y="33"/>
                  </a:lnTo>
                  <a:lnTo>
                    <a:pt x="100" y="27"/>
                  </a:lnTo>
                  <a:lnTo>
                    <a:pt x="94" y="17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64" y="3"/>
                  </a:lnTo>
                  <a:lnTo>
                    <a:pt x="50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17" y="10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4" y="50"/>
                  </a:lnTo>
                  <a:lnTo>
                    <a:pt x="0" y="77"/>
                  </a:lnTo>
                  <a:lnTo>
                    <a:pt x="4" y="90"/>
                  </a:lnTo>
                  <a:lnTo>
                    <a:pt x="7" y="104"/>
                  </a:lnTo>
                  <a:lnTo>
                    <a:pt x="7" y="104"/>
                  </a:lnTo>
                  <a:lnTo>
                    <a:pt x="30" y="107"/>
                  </a:lnTo>
                  <a:lnTo>
                    <a:pt x="57" y="110"/>
                  </a:lnTo>
                  <a:lnTo>
                    <a:pt x="90" y="117"/>
                  </a:lnTo>
                  <a:lnTo>
                    <a:pt x="9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52840" y="4187160"/>
              <a:ext cx="127800" cy="9180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0" y="3"/>
                  </a:moveTo>
                  <a:lnTo>
                    <a:pt x="0" y="3"/>
                  </a:lnTo>
                  <a:lnTo>
                    <a:pt x="27" y="20"/>
                  </a:lnTo>
                  <a:lnTo>
                    <a:pt x="47" y="30"/>
                  </a:lnTo>
                  <a:lnTo>
                    <a:pt x="60" y="43"/>
                  </a:lnTo>
                  <a:lnTo>
                    <a:pt x="60" y="43"/>
                  </a:lnTo>
                  <a:lnTo>
                    <a:pt x="57" y="36"/>
                  </a:lnTo>
                  <a:lnTo>
                    <a:pt x="47" y="26"/>
                  </a:lnTo>
                  <a:lnTo>
                    <a:pt x="34" y="13"/>
                  </a:lnTo>
                  <a:lnTo>
                    <a:pt x="20" y="6"/>
                  </a:ln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f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46640" y="3959280"/>
              <a:ext cx="93600" cy="14040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40" y="66"/>
                  </a:moveTo>
                  <a:lnTo>
                    <a:pt x="17" y="63"/>
                  </a:lnTo>
                  <a:lnTo>
                    <a:pt x="17" y="63"/>
                  </a:lnTo>
                  <a:lnTo>
                    <a:pt x="17" y="60"/>
                  </a:lnTo>
                  <a:lnTo>
                    <a:pt x="17" y="50"/>
                  </a:lnTo>
                  <a:lnTo>
                    <a:pt x="10" y="40"/>
                  </a:lnTo>
                  <a:lnTo>
                    <a:pt x="7" y="36"/>
                  </a:lnTo>
                  <a:lnTo>
                    <a:pt x="0" y="3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4" y="3"/>
                  </a:lnTo>
                  <a:lnTo>
                    <a:pt x="30" y="13"/>
                  </a:lnTo>
                  <a:lnTo>
                    <a:pt x="37" y="23"/>
                  </a:lnTo>
                  <a:lnTo>
                    <a:pt x="44" y="33"/>
                  </a:lnTo>
                  <a:lnTo>
                    <a:pt x="44" y="50"/>
                  </a:lnTo>
                  <a:lnTo>
                    <a:pt x="40" y="66"/>
                  </a:lnTo>
                  <a:lnTo>
                    <a:pt x="40" y="66"/>
                  </a:lnTo>
                  <a:close/>
                </a:path>
              </a:pathLst>
            </a:custGeom>
            <a:solidFill>
              <a:srgbClr val="158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93800" y="3746160"/>
              <a:ext cx="91800" cy="14040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40" y="66"/>
                  </a:moveTo>
                  <a:lnTo>
                    <a:pt x="16" y="63"/>
                  </a:lnTo>
                  <a:lnTo>
                    <a:pt x="16" y="63"/>
                  </a:lnTo>
                  <a:lnTo>
                    <a:pt x="16" y="60"/>
                  </a:lnTo>
                  <a:lnTo>
                    <a:pt x="16" y="50"/>
                  </a:lnTo>
                  <a:lnTo>
                    <a:pt x="13" y="40"/>
                  </a:lnTo>
                  <a:lnTo>
                    <a:pt x="6" y="33"/>
                  </a:lnTo>
                  <a:lnTo>
                    <a:pt x="0" y="3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3"/>
                  </a:lnTo>
                  <a:lnTo>
                    <a:pt x="30" y="13"/>
                  </a:lnTo>
                  <a:lnTo>
                    <a:pt x="40" y="23"/>
                  </a:lnTo>
                  <a:lnTo>
                    <a:pt x="43" y="33"/>
                  </a:lnTo>
                  <a:lnTo>
                    <a:pt x="43" y="46"/>
                  </a:lnTo>
                  <a:lnTo>
                    <a:pt x="40" y="66"/>
                  </a:lnTo>
                  <a:lnTo>
                    <a:pt x="40" y="66"/>
                  </a:lnTo>
                  <a:close/>
                </a:path>
              </a:pathLst>
            </a:custGeom>
            <a:solidFill>
              <a:srgbClr val="158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49600" y="3737160"/>
              <a:ext cx="86760" cy="792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0" y="1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4" y="24"/>
                  </a:lnTo>
                  <a:lnTo>
                    <a:pt x="7" y="3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20" y="37"/>
                  </a:lnTo>
                  <a:lnTo>
                    <a:pt x="30" y="34"/>
                  </a:lnTo>
                  <a:lnTo>
                    <a:pt x="34" y="30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17"/>
                  </a:lnTo>
                  <a:lnTo>
                    <a:pt x="41" y="10"/>
                  </a:lnTo>
                  <a:lnTo>
                    <a:pt x="34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35160" y="4072320"/>
              <a:ext cx="198000" cy="14868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0" y="27"/>
                  </a:moveTo>
                  <a:lnTo>
                    <a:pt x="0" y="27"/>
                  </a:lnTo>
                  <a:lnTo>
                    <a:pt x="3" y="40"/>
                  </a:lnTo>
                  <a:lnTo>
                    <a:pt x="10" y="54"/>
                  </a:lnTo>
                  <a:lnTo>
                    <a:pt x="23" y="64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56" y="70"/>
                  </a:lnTo>
                  <a:lnTo>
                    <a:pt x="73" y="67"/>
                  </a:lnTo>
                  <a:lnTo>
                    <a:pt x="86" y="57"/>
                  </a:lnTo>
                  <a:lnTo>
                    <a:pt x="93" y="47"/>
                  </a:lnTo>
                  <a:lnTo>
                    <a:pt x="93" y="47"/>
                  </a:lnTo>
                  <a:lnTo>
                    <a:pt x="90" y="30"/>
                  </a:lnTo>
                  <a:lnTo>
                    <a:pt x="83" y="20"/>
                  </a:lnTo>
                  <a:lnTo>
                    <a:pt x="70" y="7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36" y="0"/>
                  </a:lnTo>
                  <a:lnTo>
                    <a:pt x="20" y="7"/>
                  </a:lnTo>
                  <a:lnTo>
                    <a:pt x="6" y="13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da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10360" y="3980520"/>
              <a:ext cx="78480" cy="70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4" y="10"/>
                  </a:moveTo>
                  <a:lnTo>
                    <a:pt x="4" y="10"/>
                  </a:lnTo>
                  <a:lnTo>
                    <a:pt x="0" y="16"/>
                  </a:lnTo>
                  <a:lnTo>
                    <a:pt x="4" y="23"/>
                  </a:lnTo>
                  <a:lnTo>
                    <a:pt x="7" y="30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0" y="30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7" y="16"/>
                  </a:lnTo>
                  <a:lnTo>
                    <a:pt x="37" y="10"/>
                  </a:lnTo>
                  <a:lnTo>
                    <a:pt x="30" y="6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3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55880" y="4485600"/>
              <a:ext cx="200520" cy="8532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84" y="23"/>
                  </a:moveTo>
                  <a:lnTo>
                    <a:pt x="84" y="23"/>
                  </a:lnTo>
                  <a:lnTo>
                    <a:pt x="77" y="23"/>
                  </a:lnTo>
                  <a:lnTo>
                    <a:pt x="60" y="23"/>
                  </a:lnTo>
                  <a:lnTo>
                    <a:pt x="34" y="16"/>
                  </a:lnTo>
                  <a:lnTo>
                    <a:pt x="2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6"/>
                  </a:lnTo>
                  <a:lnTo>
                    <a:pt x="7" y="23"/>
                  </a:lnTo>
                  <a:lnTo>
                    <a:pt x="17" y="33"/>
                  </a:lnTo>
                  <a:lnTo>
                    <a:pt x="27" y="36"/>
                  </a:lnTo>
                  <a:lnTo>
                    <a:pt x="40" y="40"/>
                  </a:lnTo>
                  <a:lnTo>
                    <a:pt x="60" y="40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90" y="33"/>
                  </a:lnTo>
                  <a:lnTo>
                    <a:pt x="94" y="26"/>
                  </a:lnTo>
                  <a:lnTo>
                    <a:pt x="84" y="23"/>
                  </a:lnTo>
                  <a:lnTo>
                    <a:pt x="84" y="23"/>
                  </a:lnTo>
                  <a:close/>
                </a:path>
              </a:pathLst>
            </a:custGeom>
            <a:solidFill>
              <a:srgbClr val="df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70920" y="4230000"/>
              <a:ext cx="419760" cy="19188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190" y="70"/>
                  </a:moveTo>
                  <a:lnTo>
                    <a:pt x="190" y="70"/>
                  </a:lnTo>
                  <a:lnTo>
                    <a:pt x="120" y="46"/>
                  </a:lnTo>
                  <a:lnTo>
                    <a:pt x="60" y="2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16"/>
                  </a:lnTo>
                  <a:lnTo>
                    <a:pt x="27" y="43"/>
                  </a:lnTo>
                  <a:lnTo>
                    <a:pt x="44" y="56"/>
                  </a:lnTo>
                  <a:lnTo>
                    <a:pt x="60" y="70"/>
                  </a:lnTo>
                  <a:lnTo>
                    <a:pt x="84" y="80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37" y="90"/>
                  </a:lnTo>
                  <a:lnTo>
                    <a:pt x="164" y="86"/>
                  </a:lnTo>
                  <a:lnTo>
                    <a:pt x="190" y="83"/>
                  </a:lnTo>
                  <a:lnTo>
                    <a:pt x="190" y="83"/>
                  </a:lnTo>
                  <a:lnTo>
                    <a:pt x="197" y="76"/>
                  </a:lnTo>
                  <a:lnTo>
                    <a:pt x="197" y="73"/>
                  </a:lnTo>
                  <a:lnTo>
                    <a:pt x="190" y="70"/>
                  </a:lnTo>
                  <a:lnTo>
                    <a:pt x="19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Warming and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52560" y="5059080"/>
            <a:ext cx="791352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th is getting warmer.  The average temperature has risen about 1 degree Fahrenheit in the last century and the rate at which the temperature is rising is acceler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33640" y="1395360"/>
            <a:ext cx="6824520" cy="36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Warming and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14800" y="169236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Industrial Revolution, the levels of certain gases in the atmosphere have risen significantly:  carbon dioxide has increased by 30%, methane by 100% and nitrous oxide by 15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creases in gases increase the heat-trapping ability of the Ear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3120" y="1568520"/>
            <a:ext cx="3039840" cy="4757760"/>
            <a:chOff x="843120" y="1568520"/>
            <a:chExt cx="3039840" cy="4757760"/>
          </a:xfrm>
        </p:grpSpPr>
        <p:sp>
          <p:nvSpPr>
            <p:cNvPr id="208" name=""/>
            <p:cNvSpPr/>
            <p:nvPr/>
          </p:nvSpPr>
          <p:spPr>
            <a:xfrm>
              <a:off x="843120" y="1568520"/>
              <a:ext cx="3039840" cy="4757760"/>
            </a:xfrm>
            <a:custGeom>
              <a:avLst/>
              <a:gdLst/>
              <a:ahLst/>
              <a:rect l="l" t="t" r="r" b="b"/>
              <a:pathLst>
                <a:path w="1915" h="2997">
                  <a:moveTo>
                    <a:pt x="1915" y="2997"/>
                  </a:moveTo>
                  <a:lnTo>
                    <a:pt x="1915" y="50"/>
                  </a:lnTo>
                  <a:lnTo>
                    <a:pt x="1033" y="114"/>
                  </a:lnTo>
                  <a:lnTo>
                    <a:pt x="1036" y="111"/>
                  </a:lnTo>
                  <a:lnTo>
                    <a:pt x="1033" y="108"/>
                  </a:lnTo>
                  <a:lnTo>
                    <a:pt x="1022" y="99"/>
                  </a:lnTo>
                  <a:lnTo>
                    <a:pt x="1007" y="86"/>
                  </a:lnTo>
                  <a:lnTo>
                    <a:pt x="986" y="69"/>
                  </a:lnTo>
                  <a:lnTo>
                    <a:pt x="960" y="53"/>
                  </a:lnTo>
                  <a:lnTo>
                    <a:pt x="932" y="36"/>
                  </a:lnTo>
                  <a:lnTo>
                    <a:pt x="900" y="21"/>
                  </a:lnTo>
                  <a:lnTo>
                    <a:pt x="867" y="11"/>
                  </a:lnTo>
                  <a:lnTo>
                    <a:pt x="849" y="6"/>
                  </a:lnTo>
                  <a:lnTo>
                    <a:pt x="832" y="5"/>
                  </a:lnTo>
                  <a:lnTo>
                    <a:pt x="814" y="2"/>
                  </a:lnTo>
                  <a:lnTo>
                    <a:pt x="796" y="0"/>
                  </a:lnTo>
                  <a:lnTo>
                    <a:pt x="778" y="0"/>
                  </a:lnTo>
                  <a:lnTo>
                    <a:pt x="760" y="0"/>
                  </a:lnTo>
                  <a:lnTo>
                    <a:pt x="742" y="0"/>
                  </a:lnTo>
                  <a:lnTo>
                    <a:pt x="724" y="2"/>
                  </a:lnTo>
                  <a:lnTo>
                    <a:pt x="704" y="3"/>
                  </a:lnTo>
                  <a:lnTo>
                    <a:pt x="685" y="6"/>
                  </a:lnTo>
                  <a:lnTo>
                    <a:pt x="665" y="8"/>
                  </a:lnTo>
                  <a:lnTo>
                    <a:pt x="644" y="11"/>
                  </a:lnTo>
                  <a:lnTo>
                    <a:pt x="624" y="15"/>
                  </a:lnTo>
                  <a:lnTo>
                    <a:pt x="602" y="18"/>
                  </a:lnTo>
                  <a:lnTo>
                    <a:pt x="579" y="23"/>
                  </a:lnTo>
                  <a:lnTo>
                    <a:pt x="557" y="27"/>
                  </a:lnTo>
                  <a:lnTo>
                    <a:pt x="512" y="39"/>
                  </a:lnTo>
                  <a:lnTo>
                    <a:pt x="469" y="54"/>
                  </a:lnTo>
                  <a:lnTo>
                    <a:pt x="430" y="74"/>
                  </a:lnTo>
                  <a:lnTo>
                    <a:pt x="396" y="93"/>
                  </a:lnTo>
                  <a:lnTo>
                    <a:pt x="367" y="113"/>
                  </a:lnTo>
                  <a:lnTo>
                    <a:pt x="344" y="128"/>
                  </a:lnTo>
                  <a:lnTo>
                    <a:pt x="331" y="139"/>
                  </a:lnTo>
                  <a:lnTo>
                    <a:pt x="326" y="143"/>
                  </a:lnTo>
                  <a:lnTo>
                    <a:pt x="326" y="166"/>
                  </a:lnTo>
                  <a:lnTo>
                    <a:pt x="109" y="181"/>
                  </a:lnTo>
                  <a:lnTo>
                    <a:pt x="126" y="471"/>
                  </a:lnTo>
                  <a:lnTo>
                    <a:pt x="114" y="479"/>
                  </a:lnTo>
                  <a:lnTo>
                    <a:pt x="100" y="486"/>
                  </a:lnTo>
                  <a:lnTo>
                    <a:pt x="87" y="497"/>
                  </a:lnTo>
                  <a:lnTo>
                    <a:pt x="73" y="507"/>
                  </a:lnTo>
                  <a:lnTo>
                    <a:pt x="58" y="519"/>
                  </a:lnTo>
                  <a:lnTo>
                    <a:pt x="46" y="533"/>
                  </a:lnTo>
                  <a:lnTo>
                    <a:pt x="34" y="546"/>
                  </a:lnTo>
                  <a:lnTo>
                    <a:pt x="25" y="560"/>
                  </a:lnTo>
                  <a:lnTo>
                    <a:pt x="15" y="583"/>
                  </a:lnTo>
                  <a:lnTo>
                    <a:pt x="7" y="610"/>
                  </a:lnTo>
                  <a:lnTo>
                    <a:pt x="1" y="640"/>
                  </a:lnTo>
                  <a:lnTo>
                    <a:pt x="0" y="671"/>
                  </a:lnTo>
                  <a:lnTo>
                    <a:pt x="1" y="703"/>
                  </a:lnTo>
                  <a:lnTo>
                    <a:pt x="7" y="733"/>
                  </a:lnTo>
                  <a:lnTo>
                    <a:pt x="18" y="760"/>
                  </a:lnTo>
                  <a:lnTo>
                    <a:pt x="33" y="783"/>
                  </a:lnTo>
                  <a:lnTo>
                    <a:pt x="49" y="801"/>
                  </a:lnTo>
                  <a:lnTo>
                    <a:pt x="63" y="817"/>
                  </a:lnTo>
                  <a:lnTo>
                    <a:pt x="75" y="831"/>
                  </a:lnTo>
                  <a:lnTo>
                    <a:pt x="84" y="843"/>
                  </a:lnTo>
                  <a:lnTo>
                    <a:pt x="91" y="854"/>
                  </a:lnTo>
                  <a:lnTo>
                    <a:pt x="97" y="866"/>
                  </a:lnTo>
                  <a:lnTo>
                    <a:pt x="100" y="878"/>
                  </a:lnTo>
                  <a:lnTo>
                    <a:pt x="102" y="891"/>
                  </a:lnTo>
                  <a:lnTo>
                    <a:pt x="103" y="918"/>
                  </a:lnTo>
                  <a:lnTo>
                    <a:pt x="109" y="941"/>
                  </a:lnTo>
                  <a:lnTo>
                    <a:pt x="122" y="962"/>
                  </a:lnTo>
                  <a:lnTo>
                    <a:pt x="141" y="984"/>
                  </a:lnTo>
                  <a:lnTo>
                    <a:pt x="146" y="989"/>
                  </a:lnTo>
                  <a:lnTo>
                    <a:pt x="150" y="994"/>
                  </a:lnTo>
                  <a:lnTo>
                    <a:pt x="153" y="998"/>
                  </a:lnTo>
                  <a:lnTo>
                    <a:pt x="158" y="1003"/>
                  </a:lnTo>
                  <a:lnTo>
                    <a:pt x="265" y="2950"/>
                  </a:lnTo>
                  <a:lnTo>
                    <a:pt x="1915" y="29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27160" y="1733400"/>
              <a:ext cx="2693880" cy="4494240"/>
            </a:xfrm>
            <a:custGeom>
              <a:avLst/>
              <a:gdLst/>
              <a:ahLst/>
              <a:rect l="l" t="t" r="r" b="b"/>
              <a:pathLst>
                <a:path w="1697" h="2831">
                  <a:moveTo>
                    <a:pt x="1697" y="0"/>
                  </a:moveTo>
                  <a:lnTo>
                    <a:pt x="0" y="116"/>
                  </a:lnTo>
                  <a:lnTo>
                    <a:pt x="131" y="2792"/>
                  </a:lnTo>
                  <a:lnTo>
                    <a:pt x="1689" y="2831"/>
                  </a:lnTo>
                  <a:lnTo>
                    <a:pt x="169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7920" y="3040200"/>
              <a:ext cx="2398680" cy="3200400"/>
            </a:xfrm>
            <a:custGeom>
              <a:avLst/>
              <a:gdLst/>
              <a:ahLst/>
              <a:rect l="l" t="t" r="r" b="b"/>
              <a:pathLst>
                <a:path w="1511" h="2016">
                  <a:moveTo>
                    <a:pt x="331" y="1801"/>
                  </a:moveTo>
                  <a:lnTo>
                    <a:pt x="346" y="474"/>
                  </a:lnTo>
                  <a:lnTo>
                    <a:pt x="308" y="443"/>
                  </a:lnTo>
                  <a:lnTo>
                    <a:pt x="308" y="440"/>
                  </a:lnTo>
                  <a:lnTo>
                    <a:pt x="308" y="432"/>
                  </a:lnTo>
                  <a:lnTo>
                    <a:pt x="311" y="420"/>
                  </a:lnTo>
                  <a:lnTo>
                    <a:pt x="320" y="407"/>
                  </a:lnTo>
                  <a:lnTo>
                    <a:pt x="335" y="392"/>
                  </a:lnTo>
                  <a:lnTo>
                    <a:pt x="361" y="378"/>
                  </a:lnTo>
                  <a:lnTo>
                    <a:pt x="397" y="368"/>
                  </a:lnTo>
                  <a:lnTo>
                    <a:pt x="447" y="362"/>
                  </a:lnTo>
                  <a:lnTo>
                    <a:pt x="498" y="362"/>
                  </a:lnTo>
                  <a:lnTo>
                    <a:pt x="539" y="366"/>
                  </a:lnTo>
                  <a:lnTo>
                    <a:pt x="567" y="375"/>
                  </a:lnTo>
                  <a:lnTo>
                    <a:pt x="588" y="387"/>
                  </a:lnTo>
                  <a:lnTo>
                    <a:pt x="600" y="399"/>
                  </a:lnTo>
                  <a:lnTo>
                    <a:pt x="608" y="410"/>
                  </a:lnTo>
                  <a:lnTo>
                    <a:pt x="611" y="417"/>
                  </a:lnTo>
                  <a:lnTo>
                    <a:pt x="612" y="420"/>
                  </a:lnTo>
                  <a:lnTo>
                    <a:pt x="585" y="443"/>
                  </a:lnTo>
                  <a:lnTo>
                    <a:pt x="716" y="1715"/>
                  </a:lnTo>
                  <a:lnTo>
                    <a:pt x="885" y="1661"/>
                  </a:lnTo>
                  <a:lnTo>
                    <a:pt x="805" y="342"/>
                  </a:lnTo>
                  <a:lnTo>
                    <a:pt x="771" y="327"/>
                  </a:lnTo>
                  <a:lnTo>
                    <a:pt x="769" y="322"/>
                  </a:lnTo>
                  <a:lnTo>
                    <a:pt x="766" y="312"/>
                  </a:lnTo>
                  <a:lnTo>
                    <a:pt x="766" y="295"/>
                  </a:lnTo>
                  <a:lnTo>
                    <a:pt x="772" y="276"/>
                  </a:lnTo>
                  <a:lnTo>
                    <a:pt x="787" y="255"/>
                  </a:lnTo>
                  <a:lnTo>
                    <a:pt x="814" y="235"/>
                  </a:lnTo>
                  <a:lnTo>
                    <a:pt x="856" y="217"/>
                  </a:lnTo>
                  <a:lnTo>
                    <a:pt x="917" y="203"/>
                  </a:lnTo>
                  <a:lnTo>
                    <a:pt x="983" y="197"/>
                  </a:lnTo>
                  <a:lnTo>
                    <a:pt x="1031" y="203"/>
                  </a:lnTo>
                  <a:lnTo>
                    <a:pt x="1066" y="214"/>
                  </a:lnTo>
                  <a:lnTo>
                    <a:pt x="1088" y="231"/>
                  </a:lnTo>
                  <a:lnTo>
                    <a:pt x="1102" y="249"/>
                  </a:lnTo>
                  <a:lnTo>
                    <a:pt x="1108" y="264"/>
                  </a:lnTo>
                  <a:lnTo>
                    <a:pt x="1109" y="276"/>
                  </a:lnTo>
                  <a:lnTo>
                    <a:pt x="1109" y="280"/>
                  </a:lnTo>
                  <a:lnTo>
                    <a:pt x="1078" y="304"/>
                  </a:lnTo>
                  <a:lnTo>
                    <a:pt x="1295" y="1584"/>
                  </a:lnTo>
                  <a:lnTo>
                    <a:pt x="1379" y="1561"/>
                  </a:lnTo>
                  <a:lnTo>
                    <a:pt x="1283" y="161"/>
                  </a:lnTo>
                  <a:lnTo>
                    <a:pt x="1225" y="142"/>
                  </a:lnTo>
                  <a:lnTo>
                    <a:pt x="1224" y="139"/>
                  </a:lnTo>
                  <a:lnTo>
                    <a:pt x="1222" y="131"/>
                  </a:lnTo>
                  <a:lnTo>
                    <a:pt x="1221" y="119"/>
                  </a:lnTo>
                  <a:lnTo>
                    <a:pt x="1225" y="104"/>
                  </a:lnTo>
                  <a:lnTo>
                    <a:pt x="1237" y="85"/>
                  </a:lnTo>
                  <a:lnTo>
                    <a:pt x="1258" y="65"/>
                  </a:lnTo>
                  <a:lnTo>
                    <a:pt x="1293" y="44"/>
                  </a:lnTo>
                  <a:lnTo>
                    <a:pt x="1344" y="21"/>
                  </a:lnTo>
                  <a:lnTo>
                    <a:pt x="1377" y="11"/>
                  </a:lnTo>
                  <a:lnTo>
                    <a:pt x="1406" y="5"/>
                  </a:lnTo>
                  <a:lnTo>
                    <a:pt x="1432" y="2"/>
                  </a:lnTo>
                  <a:lnTo>
                    <a:pt x="1451" y="0"/>
                  </a:lnTo>
                  <a:lnTo>
                    <a:pt x="1468" y="0"/>
                  </a:lnTo>
                  <a:lnTo>
                    <a:pt x="1478" y="2"/>
                  </a:lnTo>
                  <a:lnTo>
                    <a:pt x="1486" y="3"/>
                  </a:lnTo>
                  <a:lnTo>
                    <a:pt x="1487" y="3"/>
                  </a:lnTo>
                  <a:lnTo>
                    <a:pt x="1511" y="2016"/>
                  </a:lnTo>
                  <a:lnTo>
                    <a:pt x="0" y="2001"/>
                  </a:lnTo>
                  <a:lnTo>
                    <a:pt x="37" y="1846"/>
                  </a:lnTo>
                  <a:lnTo>
                    <a:pt x="331" y="18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6480" y="1638360"/>
              <a:ext cx="2914560" cy="1982880"/>
            </a:xfrm>
            <a:custGeom>
              <a:avLst/>
              <a:gdLst/>
              <a:ahLst/>
              <a:rect l="l" t="t" r="r" b="b"/>
              <a:pathLst>
                <a:path w="1836" h="1249">
                  <a:moveTo>
                    <a:pt x="687" y="1232"/>
                  </a:moveTo>
                  <a:lnTo>
                    <a:pt x="872" y="1225"/>
                  </a:lnTo>
                  <a:lnTo>
                    <a:pt x="875" y="1222"/>
                  </a:lnTo>
                  <a:lnTo>
                    <a:pt x="881" y="1214"/>
                  </a:lnTo>
                  <a:lnTo>
                    <a:pt x="892" y="1204"/>
                  </a:lnTo>
                  <a:lnTo>
                    <a:pt x="902" y="1189"/>
                  </a:lnTo>
                  <a:lnTo>
                    <a:pt x="913" y="1174"/>
                  </a:lnTo>
                  <a:lnTo>
                    <a:pt x="920" y="1157"/>
                  </a:lnTo>
                  <a:lnTo>
                    <a:pt x="926" y="1141"/>
                  </a:lnTo>
                  <a:lnTo>
                    <a:pt x="926" y="1126"/>
                  </a:lnTo>
                  <a:lnTo>
                    <a:pt x="919" y="1100"/>
                  </a:lnTo>
                  <a:lnTo>
                    <a:pt x="908" y="1083"/>
                  </a:lnTo>
                  <a:lnTo>
                    <a:pt x="899" y="1074"/>
                  </a:lnTo>
                  <a:lnTo>
                    <a:pt x="896" y="1071"/>
                  </a:lnTo>
                  <a:lnTo>
                    <a:pt x="919" y="1032"/>
                  </a:lnTo>
                  <a:lnTo>
                    <a:pt x="920" y="1035"/>
                  </a:lnTo>
                  <a:lnTo>
                    <a:pt x="923" y="1043"/>
                  </a:lnTo>
                  <a:lnTo>
                    <a:pt x="929" y="1055"/>
                  </a:lnTo>
                  <a:lnTo>
                    <a:pt x="937" y="1068"/>
                  </a:lnTo>
                  <a:lnTo>
                    <a:pt x="947" y="1083"/>
                  </a:lnTo>
                  <a:lnTo>
                    <a:pt x="961" y="1097"/>
                  </a:lnTo>
                  <a:lnTo>
                    <a:pt x="978" y="1109"/>
                  </a:lnTo>
                  <a:lnTo>
                    <a:pt x="996" y="1118"/>
                  </a:lnTo>
                  <a:lnTo>
                    <a:pt x="1015" y="1123"/>
                  </a:lnTo>
                  <a:lnTo>
                    <a:pt x="1032" y="1127"/>
                  </a:lnTo>
                  <a:lnTo>
                    <a:pt x="1047" y="1130"/>
                  </a:lnTo>
                  <a:lnTo>
                    <a:pt x="1059" y="1132"/>
                  </a:lnTo>
                  <a:lnTo>
                    <a:pt x="1068" y="1132"/>
                  </a:lnTo>
                  <a:lnTo>
                    <a:pt x="1075" y="1133"/>
                  </a:lnTo>
                  <a:lnTo>
                    <a:pt x="1080" y="1133"/>
                  </a:lnTo>
                  <a:lnTo>
                    <a:pt x="1081" y="1133"/>
                  </a:lnTo>
                  <a:lnTo>
                    <a:pt x="1104" y="1156"/>
                  </a:lnTo>
                  <a:lnTo>
                    <a:pt x="1107" y="1153"/>
                  </a:lnTo>
                  <a:lnTo>
                    <a:pt x="1115" y="1144"/>
                  </a:lnTo>
                  <a:lnTo>
                    <a:pt x="1127" y="1132"/>
                  </a:lnTo>
                  <a:lnTo>
                    <a:pt x="1142" y="1117"/>
                  </a:lnTo>
                  <a:lnTo>
                    <a:pt x="1160" y="1102"/>
                  </a:lnTo>
                  <a:lnTo>
                    <a:pt x="1178" y="1088"/>
                  </a:lnTo>
                  <a:lnTo>
                    <a:pt x="1199" y="1077"/>
                  </a:lnTo>
                  <a:lnTo>
                    <a:pt x="1218" y="1071"/>
                  </a:lnTo>
                  <a:lnTo>
                    <a:pt x="1241" y="1068"/>
                  </a:lnTo>
                  <a:lnTo>
                    <a:pt x="1265" y="1067"/>
                  </a:lnTo>
                  <a:lnTo>
                    <a:pt x="1289" y="1065"/>
                  </a:lnTo>
                  <a:lnTo>
                    <a:pt x="1313" y="1065"/>
                  </a:lnTo>
                  <a:lnTo>
                    <a:pt x="1333" y="1064"/>
                  </a:lnTo>
                  <a:lnTo>
                    <a:pt x="1351" y="1064"/>
                  </a:lnTo>
                  <a:lnTo>
                    <a:pt x="1362" y="1064"/>
                  </a:lnTo>
                  <a:lnTo>
                    <a:pt x="1366" y="1064"/>
                  </a:lnTo>
                  <a:lnTo>
                    <a:pt x="1368" y="1059"/>
                  </a:lnTo>
                  <a:lnTo>
                    <a:pt x="1372" y="1049"/>
                  </a:lnTo>
                  <a:lnTo>
                    <a:pt x="1372" y="1034"/>
                  </a:lnTo>
                  <a:lnTo>
                    <a:pt x="1366" y="1017"/>
                  </a:lnTo>
                  <a:lnTo>
                    <a:pt x="1360" y="1008"/>
                  </a:lnTo>
                  <a:lnTo>
                    <a:pt x="1352" y="999"/>
                  </a:lnTo>
                  <a:lnTo>
                    <a:pt x="1343" y="992"/>
                  </a:lnTo>
                  <a:lnTo>
                    <a:pt x="1336" y="984"/>
                  </a:lnTo>
                  <a:lnTo>
                    <a:pt x="1330" y="980"/>
                  </a:lnTo>
                  <a:lnTo>
                    <a:pt x="1324" y="975"/>
                  </a:lnTo>
                  <a:lnTo>
                    <a:pt x="1321" y="972"/>
                  </a:lnTo>
                  <a:lnTo>
                    <a:pt x="1319" y="971"/>
                  </a:lnTo>
                  <a:lnTo>
                    <a:pt x="1322" y="971"/>
                  </a:lnTo>
                  <a:lnTo>
                    <a:pt x="1328" y="971"/>
                  </a:lnTo>
                  <a:lnTo>
                    <a:pt x="1336" y="969"/>
                  </a:lnTo>
                  <a:lnTo>
                    <a:pt x="1345" y="966"/>
                  </a:lnTo>
                  <a:lnTo>
                    <a:pt x="1354" y="963"/>
                  </a:lnTo>
                  <a:lnTo>
                    <a:pt x="1362" y="959"/>
                  </a:lnTo>
                  <a:lnTo>
                    <a:pt x="1366" y="951"/>
                  </a:lnTo>
                  <a:lnTo>
                    <a:pt x="1366" y="940"/>
                  </a:lnTo>
                  <a:lnTo>
                    <a:pt x="1357" y="913"/>
                  </a:lnTo>
                  <a:lnTo>
                    <a:pt x="1346" y="886"/>
                  </a:lnTo>
                  <a:lnTo>
                    <a:pt x="1337" y="864"/>
                  </a:lnTo>
                  <a:lnTo>
                    <a:pt x="1334" y="855"/>
                  </a:lnTo>
                  <a:lnTo>
                    <a:pt x="1381" y="825"/>
                  </a:lnTo>
                  <a:lnTo>
                    <a:pt x="1381" y="835"/>
                  </a:lnTo>
                  <a:lnTo>
                    <a:pt x="1386" y="858"/>
                  </a:lnTo>
                  <a:lnTo>
                    <a:pt x="1393" y="883"/>
                  </a:lnTo>
                  <a:lnTo>
                    <a:pt x="1411" y="901"/>
                  </a:lnTo>
                  <a:lnTo>
                    <a:pt x="1423" y="906"/>
                  </a:lnTo>
                  <a:lnTo>
                    <a:pt x="1438" y="907"/>
                  </a:lnTo>
                  <a:lnTo>
                    <a:pt x="1452" y="907"/>
                  </a:lnTo>
                  <a:lnTo>
                    <a:pt x="1465" y="907"/>
                  </a:lnTo>
                  <a:lnTo>
                    <a:pt x="1479" y="906"/>
                  </a:lnTo>
                  <a:lnTo>
                    <a:pt x="1488" y="903"/>
                  </a:lnTo>
                  <a:lnTo>
                    <a:pt x="1494" y="901"/>
                  </a:lnTo>
                  <a:lnTo>
                    <a:pt x="1497" y="901"/>
                  </a:lnTo>
                  <a:lnTo>
                    <a:pt x="1496" y="901"/>
                  </a:lnTo>
                  <a:lnTo>
                    <a:pt x="1491" y="904"/>
                  </a:lnTo>
                  <a:lnTo>
                    <a:pt x="1491" y="913"/>
                  </a:lnTo>
                  <a:lnTo>
                    <a:pt x="1497" y="931"/>
                  </a:lnTo>
                  <a:lnTo>
                    <a:pt x="1505" y="942"/>
                  </a:lnTo>
                  <a:lnTo>
                    <a:pt x="1514" y="950"/>
                  </a:lnTo>
                  <a:lnTo>
                    <a:pt x="1523" y="956"/>
                  </a:lnTo>
                  <a:lnTo>
                    <a:pt x="1533" y="959"/>
                  </a:lnTo>
                  <a:lnTo>
                    <a:pt x="1544" y="962"/>
                  </a:lnTo>
                  <a:lnTo>
                    <a:pt x="1551" y="963"/>
                  </a:lnTo>
                  <a:lnTo>
                    <a:pt x="1557" y="963"/>
                  </a:lnTo>
                  <a:lnTo>
                    <a:pt x="1559" y="963"/>
                  </a:lnTo>
                  <a:lnTo>
                    <a:pt x="1560" y="962"/>
                  </a:lnTo>
                  <a:lnTo>
                    <a:pt x="1563" y="959"/>
                  </a:lnTo>
                  <a:lnTo>
                    <a:pt x="1569" y="954"/>
                  </a:lnTo>
                  <a:lnTo>
                    <a:pt x="1578" y="948"/>
                  </a:lnTo>
                  <a:lnTo>
                    <a:pt x="1589" y="940"/>
                  </a:lnTo>
                  <a:lnTo>
                    <a:pt x="1604" y="930"/>
                  </a:lnTo>
                  <a:lnTo>
                    <a:pt x="1622" y="921"/>
                  </a:lnTo>
                  <a:lnTo>
                    <a:pt x="1643" y="909"/>
                  </a:lnTo>
                  <a:lnTo>
                    <a:pt x="1669" y="898"/>
                  </a:lnTo>
                  <a:lnTo>
                    <a:pt x="1696" y="888"/>
                  </a:lnTo>
                  <a:lnTo>
                    <a:pt x="1724" y="879"/>
                  </a:lnTo>
                  <a:lnTo>
                    <a:pt x="1752" y="870"/>
                  </a:lnTo>
                  <a:lnTo>
                    <a:pt x="1776" y="864"/>
                  </a:lnTo>
                  <a:lnTo>
                    <a:pt x="1795" y="859"/>
                  </a:lnTo>
                  <a:lnTo>
                    <a:pt x="1809" y="856"/>
                  </a:lnTo>
                  <a:lnTo>
                    <a:pt x="1813" y="855"/>
                  </a:lnTo>
                  <a:lnTo>
                    <a:pt x="1836" y="438"/>
                  </a:lnTo>
                  <a:lnTo>
                    <a:pt x="1834" y="435"/>
                  </a:lnTo>
                  <a:lnTo>
                    <a:pt x="1828" y="429"/>
                  </a:lnTo>
                  <a:lnTo>
                    <a:pt x="1821" y="417"/>
                  </a:lnTo>
                  <a:lnTo>
                    <a:pt x="1810" y="403"/>
                  </a:lnTo>
                  <a:lnTo>
                    <a:pt x="1797" y="385"/>
                  </a:lnTo>
                  <a:lnTo>
                    <a:pt x="1782" y="365"/>
                  </a:lnTo>
                  <a:lnTo>
                    <a:pt x="1764" y="344"/>
                  </a:lnTo>
                  <a:lnTo>
                    <a:pt x="1744" y="322"/>
                  </a:lnTo>
                  <a:lnTo>
                    <a:pt x="1724" y="299"/>
                  </a:lnTo>
                  <a:lnTo>
                    <a:pt x="1702" y="278"/>
                  </a:lnTo>
                  <a:lnTo>
                    <a:pt x="1681" y="257"/>
                  </a:lnTo>
                  <a:lnTo>
                    <a:pt x="1657" y="236"/>
                  </a:lnTo>
                  <a:lnTo>
                    <a:pt x="1634" y="218"/>
                  </a:lnTo>
                  <a:lnTo>
                    <a:pt x="1611" y="203"/>
                  </a:lnTo>
                  <a:lnTo>
                    <a:pt x="1589" y="191"/>
                  </a:lnTo>
                  <a:lnTo>
                    <a:pt x="1566" y="183"/>
                  </a:lnTo>
                  <a:lnTo>
                    <a:pt x="1526" y="174"/>
                  </a:lnTo>
                  <a:lnTo>
                    <a:pt x="1493" y="168"/>
                  </a:lnTo>
                  <a:lnTo>
                    <a:pt x="1467" y="165"/>
                  </a:lnTo>
                  <a:lnTo>
                    <a:pt x="1446" y="164"/>
                  </a:lnTo>
                  <a:lnTo>
                    <a:pt x="1429" y="165"/>
                  </a:lnTo>
                  <a:lnTo>
                    <a:pt x="1419" y="167"/>
                  </a:lnTo>
                  <a:lnTo>
                    <a:pt x="1413" y="168"/>
                  </a:lnTo>
                  <a:lnTo>
                    <a:pt x="1411" y="168"/>
                  </a:lnTo>
                  <a:lnTo>
                    <a:pt x="1410" y="167"/>
                  </a:lnTo>
                  <a:lnTo>
                    <a:pt x="1404" y="162"/>
                  </a:lnTo>
                  <a:lnTo>
                    <a:pt x="1393" y="155"/>
                  </a:lnTo>
                  <a:lnTo>
                    <a:pt x="1377" y="147"/>
                  </a:lnTo>
                  <a:lnTo>
                    <a:pt x="1354" y="138"/>
                  </a:lnTo>
                  <a:lnTo>
                    <a:pt x="1324" y="129"/>
                  </a:lnTo>
                  <a:lnTo>
                    <a:pt x="1288" y="120"/>
                  </a:lnTo>
                  <a:lnTo>
                    <a:pt x="1243" y="114"/>
                  </a:lnTo>
                  <a:lnTo>
                    <a:pt x="1196" y="111"/>
                  </a:lnTo>
                  <a:lnTo>
                    <a:pt x="1155" y="113"/>
                  </a:lnTo>
                  <a:lnTo>
                    <a:pt x="1121" y="119"/>
                  </a:lnTo>
                  <a:lnTo>
                    <a:pt x="1092" y="126"/>
                  </a:lnTo>
                  <a:lnTo>
                    <a:pt x="1069" y="137"/>
                  </a:lnTo>
                  <a:lnTo>
                    <a:pt x="1051" y="147"/>
                  </a:lnTo>
                  <a:lnTo>
                    <a:pt x="1041" y="158"/>
                  </a:lnTo>
                  <a:lnTo>
                    <a:pt x="1035" y="168"/>
                  </a:lnTo>
                  <a:lnTo>
                    <a:pt x="1032" y="170"/>
                  </a:lnTo>
                  <a:lnTo>
                    <a:pt x="1027" y="168"/>
                  </a:lnTo>
                  <a:lnTo>
                    <a:pt x="1021" y="164"/>
                  </a:lnTo>
                  <a:lnTo>
                    <a:pt x="1014" y="156"/>
                  </a:lnTo>
                  <a:lnTo>
                    <a:pt x="1003" y="146"/>
                  </a:lnTo>
                  <a:lnTo>
                    <a:pt x="991" y="132"/>
                  </a:lnTo>
                  <a:lnTo>
                    <a:pt x="978" y="119"/>
                  </a:lnTo>
                  <a:lnTo>
                    <a:pt x="962" y="104"/>
                  </a:lnTo>
                  <a:lnTo>
                    <a:pt x="944" y="89"/>
                  </a:lnTo>
                  <a:lnTo>
                    <a:pt x="926" y="73"/>
                  </a:lnTo>
                  <a:lnTo>
                    <a:pt x="905" y="58"/>
                  </a:lnTo>
                  <a:lnTo>
                    <a:pt x="884" y="43"/>
                  </a:lnTo>
                  <a:lnTo>
                    <a:pt x="860" y="31"/>
                  </a:lnTo>
                  <a:lnTo>
                    <a:pt x="834" y="21"/>
                  </a:lnTo>
                  <a:lnTo>
                    <a:pt x="809" y="12"/>
                  </a:lnTo>
                  <a:lnTo>
                    <a:pt x="780" y="6"/>
                  </a:lnTo>
                  <a:lnTo>
                    <a:pt x="752" y="3"/>
                  </a:lnTo>
                  <a:lnTo>
                    <a:pt x="725" y="0"/>
                  </a:lnTo>
                  <a:lnTo>
                    <a:pt x="699" y="0"/>
                  </a:lnTo>
                  <a:lnTo>
                    <a:pt x="673" y="0"/>
                  </a:lnTo>
                  <a:lnTo>
                    <a:pt x="651" y="1"/>
                  </a:lnTo>
                  <a:lnTo>
                    <a:pt x="628" y="3"/>
                  </a:lnTo>
                  <a:lnTo>
                    <a:pt x="609" y="6"/>
                  </a:lnTo>
                  <a:lnTo>
                    <a:pt x="591" y="9"/>
                  </a:lnTo>
                  <a:lnTo>
                    <a:pt x="574" y="12"/>
                  </a:lnTo>
                  <a:lnTo>
                    <a:pt x="559" y="15"/>
                  </a:lnTo>
                  <a:lnTo>
                    <a:pt x="547" y="18"/>
                  </a:lnTo>
                  <a:lnTo>
                    <a:pt x="536" y="22"/>
                  </a:lnTo>
                  <a:lnTo>
                    <a:pt x="527" y="24"/>
                  </a:lnTo>
                  <a:lnTo>
                    <a:pt x="521" y="27"/>
                  </a:lnTo>
                  <a:lnTo>
                    <a:pt x="518" y="28"/>
                  </a:lnTo>
                  <a:lnTo>
                    <a:pt x="517" y="28"/>
                  </a:lnTo>
                  <a:lnTo>
                    <a:pt x="511" y="30"/>
                  </a:lnTo>
                  <a:lnTo>
                    <a:pt x="493" y="34"/>
                  </a:lnTo>
                  <a:lnTo>
                    <a:pt x="469" y="42"/>
                  </a:lnTo>
                  <a:lnTo>
                    <a:pt x="438" y="52"/>
                  </a:lnTo>
                  <a:lnTo>
                    <a:pt x="407" y="69"/>
                  </a:lnTo>
                  <a:lnTo>
                    <a:pt x="377" y="90"/>
                  </a:lnTo>
                  <a:lnTo>
                    <a:pt x="351" y="119"/>
                  </a:lnTo>
                  <a:lnTo>
                    <a:pt x="331" y="152"/>
                  </a:lnTo>
                  <a:lnTo>
                    <a:pt x="315" y="212"/>
                  </a:lnTo>
                  <a:lnTo>
                    <a:pt x="318" y="248"/>
                  </a:lnTo>
                  <a:lnTo>
                    <a:pt x="325" y="263"/>
                  </a:lnTo>
                  <a:lnTo>
                    <a:pt x="331" y="268"/>
                  </a:lnTo>
                  <a:lnTo>
                    <a:pt x="327" y="269"/>
                  </a:lnTo>
                  <a:lnTo>
                    <a:pt x="313" y="271"/>
                  </a:lnTo>
                  <a:lnTo>
                    <a:pt x="295" y="277"/>
                  </a:lnTo>
                  <a:lnTo>
                    <a:pt x="273" y="284"/>
                  </a:lnTo>
                  <a:lnTo>
                    <a:pt x="247" y="295"/>
                  </a:lnTo>
                  <a:lnTo>
                    <a:pt x="222" y="308"/>
                  </a:lnTo>
                  <a:lnTo>
                    <a:pt x="197" y="325"/>
                  </a:lnTo>
                  <a:lnTo>
                    <a:pt x="178" y="346"/>
                  </a:lnTo>
                  <a:lnTo>
                    <a:pt x="163" y="370"/>
                  </a:lnTo>
                  <a:lnTo>
                    <a:pt x="149" y="393"/>
                  </a:lnTo>
                  <a:lnTo>
                    <a:pt x="140" y="415"/>
                  </a:lnTo>
                  <a:lnTo>
                    <a:pt x="133" y="435"/>
                  </a:lnTo>
                  <a:lnTo>
                    <a:pt x="128" y="451"/>
                  </a:lnTo>
                  <a:lnTo>
                    <a:pt x="125" y="465"/>
                  </a:lnTo>
                  <a:lnTo>
                    <a:pt x="124" y="474"/>
                  </a:lnTo>
                  <a:lnTo>
                    <a:pt x="124" y="477"/>
                  </a:lnTo>
                  <a:lnTo>
                    <a:pt x="121" y="478"/>
                  </a:lnTo>
                  <a:lnTo>
                    <a:pt x="110" y="480"/>
                  </a:lnTo>
                  <a:lnTo>
                    <a:pt x="95" y="486"/>
                  </a:lnTo>
                  <a:lnTo>
                    <a:pt x="77" y="493"/>
                  </a:lnTo>
                  <a:lnTo>
                    <a:pt x="57" y="505"/>
                  </a:lnTo>
                  <a:lnTo>
                    <a:pt x="38" y="522"/>
                  </a:lnTo>
                  <a:lnTo>
                    <a:pt x="21" y="543"/>
                  </a:lnTo>
                  <a:lnTo>
                    <a:pt x="8" y="569"/>
                  </a:lnTo>
                  <a:lnTo>
                    <a:pt x="0" y="599"/>
                  </a:lnTo>
                  <a:lnTo>
                    <a:pt x="0" y="627"/>
                  </a:lnTo>
                  <a:lnTo>
                    <a:pt x="6" y="654"/>
                  </a:lnTo>
                  <a:lnTo>
                    <a:pt x="15" y="679"/>
                  </a:lnTo>
                  <a:lnTo>
                    <a:pt x="26" y="701"/>
                  </a:lnTo>
                  <a:lnTo>
                    <a:pt x="36" y="716"/>
                  </a:lnTo>
                  <a:lnTo>
                    <a:pt x="44" y="727"/>
                  </a:lnTo>
                  <a:lnTo>
                    <a:pt x="47" y="731"/>
                  </a:lnTo>
                  <a:lnTo>
                    <a:pt x="53" y="740"/>
                  </a:lnTo>
                  <a:lnTo>
                    <a:pt x="66" y="764"/>
                  </a:lnTo>
                  <a:lnTo>
                    <a:pt x="79" y="800"/>
                  </a:lnTo>
                  <a:lnTo>
                    <a:pt x="85" y="840"/>
                  </a:lnTo>
                  <a:lnTo>
                    <a:pt x="91" y="862"/>
                  </a:lnTo>
                  <a:lnTo>
                    <a:pt x="107" y="885"/>
                  </a:lnTo>
                  <a:lnTo>
                    <a:pt x="131" y="910"/>
                  </a:lnTo>
                  <a:lnTo>
                    <a:pt x="158" y="933"/>
                  </a:lnTo>
                  <a:lnTo>
                    <a:pt x="185" y="954"/>
                  </a:lnTo>
                  <a:lnTo>
                    <a:pt x="210" y="971"/>
                  </a:lnTo>
                  <a:lnTo>
                    <a:pt x="226" y="981"/>
                  </a:lnTo>
                  <a:lnTo>
                    <a:pt x="232" y="986"/>
                  </a:lnTo>
                  <a:lnTo>
                    <a:pt x="231" y="995"/>
                  </a:lnTo>
                  <a:lnTo>
                    <a:pt x="228" y="1017"/>
                  </a:lnTo>
                  <a:lnTo>
                    <a:pt x="232" y="1055"/>
                  </a:lnTo>
                  <a:lnTo>
                    <a:pt x="247" y="1102"/>
                  </a:lnTo>
                  <a:lnTo>
                    <a:pt x="258" y="1124"/>
                  </a:lnTo>
                  <a:lnTo>
                    <a:pt x="265" y="1142"/>
                  </a:lnTo>
                  <a:lnTo>
                    <a:pt x="273" y="1156"/>
                  </a:lnTo>
                  <a:lnTo>
                    <a:pt x="282" y="1166"/>
                  </a:lnTo>
                  <a:lnTo>
                    <a:pt x="294" y="1175"/>
                  </a:lnTo>
                  <a:lnTo>
                    <a:pt x="310" y="1183"/>
                  </a:lnTo>
                  <a:lnTo>
                    <a:pt x="333" y="1192"/>
                  </a:lnTo>
                  <a:lnTo>
                    <a:pt x="363" y="1202"/>
                  </a:lnTo>
                  <a:lnTo>
                    <a:pt x="396" y="1211"/>
                  </a:lnTo>
                  <a:lnTo>
                    <a:pt x="426" y="1216"/>
                  </a:lnTo>
                  <a:lnTo>
                    <a:pt x="452" y="1217"/>
                  </a:lnTo>
                  <a:lnTo>
                    <a:pt x="475" y="1217"/>
                  </a:lnTo>
                  <a:lnTo>
                    <a:pt x="493" y="1216"/>
                  </a:lnTo>
                  <a:lnTo>
                    <a:pt x="506" y="1213"/>
                  </a:lnTo>
                  <a:lnTo>
                    <a:pt x="514" y="1211"/>
                  </a:lnTo>
                  <a:lnTo>
                    <a:pt x="517" y="1210"/>
                  </a:lnTo>
                  <a:lnTo>
                    <a:pt x="515" y="1210"/>
                  </a:lnTo>
                  <a:lnTo>
                    <a:pt x="512" y="1211"/>
                  </a:lnTo>
                  <a:lnTo>
                    <a:pt x="509" y="1213"/>
                  </a:lnTo>
                  <a:lnTo>
                    <a:pt x="506" y="1216"/>
                  </a:lnTo>
                  <a:lnTo>
                    <a:pt x="508" y="1220"/>
                  </a:lnTo>
                  <a:lnTo>
                    <a:pt x="514" y="1226"/>
                  </a:lnTo>
                  <a:lnTo>
                    <a:pt x="527" y="1234"/>
                  </a:lnTo>
                  <a:lnTo>
                    <a:pt x="548" y="1242"/>
                  </a:lnTo>
                  <a:lnTo>
                    <a:pt x="574" y="1248"/>
                  </a:lnTo>
                  <a:lnTo>
                    <a:pt x="600" y="1249"/>
                  </a:lnTo>
                  <a:lnTo>
                    <a:pt x="622" y="1249"/>
                  </a:lnTo>
                  <a:lnTo>
                    <a:pt x="643" y="1246"/>
                  </a:lnTo>
                  <a:lnTo>
                    <a:pt x="661" y="1242"/>
                  </a:lnTo>
                  <a:lnTo>
                    <a:pt x="675" y="1237"/>
                  </a:lnTo>
                  <a:lnTo>
                    <a:pt x="684" y="1234"/>
                  </a:lnTo>
                  <a:lnTo>
                    <a:pt x="687" y="123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58680" y="1700280"/>
              <a:ext cx="2816280" cy="1863720"/>
            </a:xfrm>
            <a:custGeom>
              <a:avLst/>
              <a:gdLst/>
              <a:ahLst/>
              <a:rect l="l" t="t" r="r" b="b"/>
              <a:pathLst>
                <a:path w="1774" h="1174">
                  <a:moveTo>
                    <a:pt x="664" y="1159"/>
                  </a:moveTo>
                  <a:lnTo>
                    <a:pt x="844" y="1151"/>
                  </a:lnTo>
                  <a:lnTo>
                    <a:pt x="847" y="1148"/>
                  </a:lnTo>
                  <a:lnTo>
                    <a:pt x="853" y="1142"/>
                  </a:lnTo>
                  <a:lnTo>
                    <a:pt x="862" y="1132"/>
                  </a:lnTo>
                  <a:lnTo>
                    <a:pt x="872" y="1118"/>
                  </a:lnTo>
                  <a:lnTo>
                    <a:pt x="881" y="1103"/>
                  </a:lnTo>
                  <a:lnTo>
                    <a:pt x="890" y="1088"/>
                  </a:lnTo>
                  <a:lnTo>
                    <a:pt x="895" y="1073"/>
                  </a:lnTo>
                  <a:lnTo>
                    <a:pt x="895" y="1058"/>
                  </a:lnTo>
                  <a:lnTo>
                    <a:pt x="887" y="1035"/>
                  </a:lnTo>
                  <a:lnTo>
                    <a:pt x="877" y="1019"/>
                  </a:lnTo>
                  <a:lnTo>
                    <a:pt x="868" y="1010"/>
                  </a:lnTo>
                  <a:lnTo>
                    <a:pt x="865" y="1007"/>
                  </a:lnTo>
                  <a:lnTo>
                    <a:pt x="887" y="971"/>
                  </a:lnTo>
                  <a:lnTo>
                    <a:pt x="889" y="974"/>
                  </a:lnTo>
                  <a:lnTo>
                    <a:pt x="892" y="981"/>
                  </a:lnTo>
                  <a:lnTo>
                    <a:pt x="898" y="992"/>
                  </a:lnTo>
                  <a:lnTo>
                    <a:pt x="905" y="1005"/>
                  </a:lnTo>
                  <a:lnTo>
                    <a:pt x="916" y="1019"/>
                  </a:lnTo>
                  <a:lnTo>
                    <a:pt x="928" y="1031"/>
                  </a:lnTo>
                  <a:lnTo>
                    <a:pt x="945" y="1043"/>
                  </a:lnTo>
                  <a:lnTo>
                    <a:pt x="963" y="1050"/>
                  </a:lnTo>
                  <a:lnTo>
                    <a:pt x="981" y="1055"/>
                  </a:lnTo>
                  <a:lnTo>
                    <a:pt x="997" y="1058"/>
                  </a:lnTo>
                  <a:lnTo>
                    <a:pt x="1011" y="1061"/>
                  </a:lnTo>
                  <a:lnTo>
                    <a:pt x="1023" y="1063"/>
                  </a:lnTo>
                  <a:lnTo>
                    <a:pt x="1032" y="1064"/>
                  </a:lnTo>
                  <a:lnTo>
                    <a:pt x="1038" y="1064"/>
                  </a:lnTo>
                  <a:lnTo>
                    <a:pt x="1042" y="1064"/>
                  </a:lnTo>
                  <a:lnTo>
                    <a:pt x="1044" y="1064"/>
                  </a:lnTo>
                  <a:lnTo>
                    <a:pt x="1066" y="1087"/>
                  </a:lnTo>
                  <a:lnTo>
                    <a:pt x="1069" y="1084"/>
                  </a:lnTo>
                  <a:lnTo>
                    <a:pt x="1077" y="1075"/>
                  </a:lnTo>
                  <a:lnTo>
                    <a:pt x="1088" y="1064"/>
                  </a:lnTo>
                  <a:lnTo>
                    <a:pt x="1103" y="1049"/>
                  </a:lnTo>
                  <a:lnTo>
                    <a:pt x="1121" y="1035"/>
                  </a:lnTo>
                  <a:lnTo>
                    <a:pt x="1139" y="1022"/>
                  </a:lnTo>
                  <a:lnTo>
                    <a:pt x="1158" y="1013"/>
                  </a:lnTo>
                  <a:lnTo>
                    <a:pt x="1178" y="1007"/>
                  </a:lnTo>
                  <a:lnTo>
                    <a:pt x="1199" y="1004"/>
                  </a:lnTo>
                  <a:lnTo>
                    <a:pt x="1222" y="1002"/>
                  </a:lnTo>
                  <a:lnTo>
                    <a:pt x="1246" y="1001"/>
                  </a:lnTo>
                  <a:lnTo>
                    <a:pt x="1268" y="1001"/>
                  </a:lnTo>
                  <a:lnTo>
                    <a:pt x="1288" y="999"/>
                  </a:lnTo>
                  <a:lnTo>
                    <a:pt x="1304" y="999"/>
                  </a:lnTo>
                  <a:lnTo>
                    <a:pt x="1315" y="999"/>
                  </a:lnTo>
                  <a:lnTo>
                    <a:pt x="1319" y="999"/>
                  </a:lnTo>
                  <a:lnTo>
                    <a:pt x="1321" y="996"/>
                  </a:lnTo>
                  <a:lnTo>
                    <a:pt x="1325" y="986"/>
                  </a:lnTo>
                  <a:lnTo>
                    <a:pt x="1325" y="972"/>
                  </a:lnTo>
                  <a:lnTo>
                    <a:pt x="1319" y="956"/>
                  </a:lnTo>
                  <a:lnTo>
                    <a:pt x="1313" y="948"/>
                  </a:lnTo>
                  <a:lnTo>
                    <a:pt x="1306" y="941"/>
                  </a:lnTo>
                  <a:lnTo>
                    <a:pt x="1298" y="933"/>
                  </a:lnTo>
                  <a:lnTo>
                    <a:pt x="1291" y="926"/>
                  </a:lnTo>
                  <a:lnTo>
                    <a:pt x="1285" y="920"/>
                  </a:lnTo>
                  <a:lnTo>
                    <a:pt x="1279" y="917"/>
                  </a:lnTo>
                  <a:lnTo>
                    <a:pt x="1276" y="914"/>
                  </a:lnTo>
                  <a:lnTo>
                    <a:pt x="1274" y="912"/>
                  </a:lnTo>
                  <a:lnTo>
                    <a:pt x="1276" y="912"/>
                  </a:lnTo>
                  <a:lnTo>
                    <a:pt x="1282" y="912"/>
                  </a:lnTo>
                  <a:lnTo>
                    <a:pt x="1291" y="911"/>
                  </a:lnTo>
                  <a:lnTo>
                    <a:pt x="1300" y="909"/>
                  </a:lnTo>
                  <a:lnTo>
                    <a:pt x="1309" y="904"/>
                  </a:lnTo>
                  <a:lnTo>
                    <a:pt x="1315" y="900"/>
                  </a:lnTo>
                  <a:lnTo>
                    <a:pt x="1319" y="892"/>
                  </a:lnTo>
                  <a:lnTo>
                    <a:pt x="1319" y="883"/>
                  </a:lnTo>
                  <a:lnTo>
                    <a:pt x="1312" y="859"/>
                  </a:lnTo>
                  <a:lnTo>
                    <a:pt x="1301" y="832"/>
                  </a:lnTo>
                  <a:lnTo>
                    <a:pt x="1292" y="813"/>
                  </a:lnTo>
                  <a:lnTo>
                    <a:pt x="1289" y="804"/>
                  </a:lnTo>
                  <a:lnTo>
                    <a:pt x="1335" y="775"/>
                  </a:lnTo>
                  <a:lnTo>
                    <a:pt x="1335" y="784"/>
                  </a:lnTo>
                  <a:lnTo>
                    <a:pt x="1338" y="805"/>
                  </a:lnTo>
                  <a:lnTo>
                    <a:pt x="1347" y="829"/>
                  </a:lnTo>
                  <a:lnTo>
                    <a:pt x="1363" y="847"/>
                  </a:lnTo>
                  <a:lnTo>
                    <a:pt x="1375" y="852"/>
                  </a:lnTo>
                  <a:lnTo>
                    <a:pt x="1389" y="853"/>
                  </a:lnTo>
                  <a:lnTo>
                    <a:pt x="1402" y="853"/>
                  </a:lnTo>
                  <a:lnTo>
                    <a:pt x="1416" y="853"/>
                  </a:lnTo>
                  <a:lnTo>
                    <a:pt x="1428" y="852"/>
                  </a:lnTo>
                  <a:lnTo>
                    <a:pt x="1437" y="849"/>
                  </a:lnTo>
                  <a:lnTo>
                    <a:pt x="1443" y="847"/>
                  </a:lnTo>
                  <a:lnTo>
                    <a:pt x="1446" y="847"/>
                  </a:lnTo>
                  <a:lnTo>
                    <a:pt x="1444" y="847"/>
                  </a:lnTo>
                  <a:lnTo>
                    <a:pt x="1440" y="850"/>
                  </a:lnTo>
                  <a:lnTo>
                    <a:pt x="1440" y="859"/>
                  </a:lnTo>
                  <a:lnTo>
                    <a:pt x="1446" y="876"/>
                  </a:lnTo>
                  <a:lnTo>
                    <a:pt x="1453" y="885"/>
                  </a:lnTo>
                  <a:lnTo>
                    <a:pt x="1461" y="892"/>
                  </a:lnTo>
                  <a:lnTo>
                    <a:pt x="1472" y="897"/>
                  </a:lnTo>
                  <a:lnTo>
                    <a:pt x="1482" y="901"/>
                  </a:lnTo>
                  <a:lnTo>
                    <a:pt x="1491" y="903"/>
                  </a:lnTo>
                  <a:lnTo>
                    <a:pt x="1499" y="904"/>
                  </a:lnTo>
                  <a:lnTo>
                    <a:pt x="1505" y="904"/>
                  </a:lnTo>
                  <a:lnTo>
                    <a:pt x="1506" y="904"/>
                  </a:lnTo>
                  <a:lnTo>
                    <a:pt x="1508" y="903"/>
                  </a:lnTo>
                  <a:lnTo>
                    <a:pt x="1511" y="901"/>
                  </a:lnTo>
                  <a:lnTo>
                    <a:pt x="1517" y="897"/>
                  </a:lnTo>
                  <a:lnTo>
                    <a:pt x="1524" y="891"/>
                  </a:lnTo>
                  <a:lnTo>
                    <a:pt x="1535" y="883"/>
                  </a:lnTo>
                  <a:lnTo>
                    <a:pt x="1550" y="874"/>
                  </a:lnTo>
                  <a:lnTo>
                    <a:pt x="1566" y="865"/>
                  </a:lnTo>
                  <a:lnTo>
                    <a:pt x="1588" y="855"/>
                  </a:lnTo>
                  <a:lnTo>
                    <a:pt x="1612" y="844"/>
                  </a:lnTo>
                  <a:lnTo>
                    <a:pt x="1639" y="834"/>
                  </a:lnTo>
                  <a:lnTo>
                    <a:pt x="1666" y="825"/>
                  </a:lnTo>
                  <a:lnTo>
                    <a:pt x="1693" y="817"/>
                  </a:lnTo>
                  <a:lnTo>
                    <a:pt x="1716" y="811"/>
                  </a:lnTo>
                  <a:lnTo>
                    <a:pt x="1735" y="807"/>
                  </a:lnTo>
                  <a:lnTo>
                    <a:pt x="1747" y="805"/>
                  </a:lnTo>
                  <a:lnTo>
                    <a:pt x="1752" y="804"/>
                  </a:lnTo>
                  <a:lnTo>
                    <a:pt x="1774" y="412"/>
                  </a:lnTo>
                  <a:lnTo>
                    <a:pt x="1773" y="409"/>
                  </a:lnTo>
                  <a:lnTo>
                    <a:pt x="1768" y="403"/>
                  </a:lnTo>
                  <a:lnTo>
                    <a:pt x="1759" y="393"/>
                  </a:lnTo>
                  <a:lnTo>
                    <a:pt x="1749" y="379"/>
                  </a:lnTo>
                  <a:lnTo>
                    <a:pt x="1737" y="363"/>
                  </a:lnTo>
                  <a:lnTo>
                    <a:pt x="1722" y="345"/>
                  </a:lnTo>
                  <a:lnTo>
                    <a:pt x="1705" y="323"/>
                  </a:lnTo>
                  <a:lnTo>
                    <a:pt x="1685" y="304"/>
                  </a:lnTo>
                  <a:lnTo>
                    <a:pt x="1666" y="283"/>
                  </a:lnTo>
                  <a:lnTo>
                    <a:pt x="1645" y="262"/>
                  </a:lnTo>
                  <a:lnTo>
                    <a:pt x="1624" y="241"/>
                  </a:lnTo>
                  <a:lnTo>
                    <a:pt x="1601" y="223"/>
                  </a:lnTo>
                  <a:lnTo>
                    <a:pt x="1578" y="206"/>
                  </a:lnTo>
                  <a:lnTo>
                    <a:pt x="1557" y="191"/>
                  </a:lnTo>
                  <a:lnTo>
                    <a:pt x="1535" y="180"/>
                  </a:lnTo>
                  <a:lnTo>
                    <a:pt x="1514" y="173"/>
                  </a:lnTo>
                  <a:lnTo>
                    <a:pt x="1475" y="164"/>
                  </a:lnTo>
                  <a:lnTo>
                    <a:pt x="1443" y="158"/>
                  </a:lnTo>
                  <a:lnTo>
                    <a:pt x="1416" y="155"/>
                  </a:lnTo>
                  <a:lnTo>
                    <a:pt x="1396" y="155"/>
                  </a:lnTo>
                  <a:lnTo>
                    <a:pt x="1381" y="155"/>
                  </a:lnTo>
                  <a:lnTo>
                    <a:pt x="1371" y="156"/>
                  </a:lnTo>
                  <a:lnTo>
                    <a:pt x="1365" y="158"/>
                  </a:lnTo>
                  <a:lnTo>
                    <a:pt x="1363" y="158"/>
                  </a:lnTo>
                  <a:lnTo>
                    <a:pt x="1362" y="156"/>
                  </a:lnTo>
                  <a:lnTo>
                    <a:pt x="1356" y="152"/>
                  </a:lnTo>
                  <a:lnTo>
                    <a:pt x="1345" y="146"/>
                  </a:lnTo>
                  <a:lnTo>
                    <a:pt x="1329" y="138"/>
                  </a:lnTo>
                  <a:lnTo>
                    <a:pt x="1307" y="129"/>
                  </a:lnTo>
                  <a:lnTo>
                    <a:pt x="1279" y="122"/>
                  </a:lnTo>
                  <a:lnTo>
                    <a:pt x="1243" y="114"/>
                  </a:lnTo>
                  <a:lnTo>
                    <a:pt x="1199" y="108"/>
                  </a:lnTo>
                  <a:lnTo>
                    <a:pt x="1155" y="105"/>
                  </a:lnTo>
                  <a:lnTo>
                    <a:pt x="1116" y="107"/>
                  </a:lnTo>
                  <a:lnTo>
                    <a:pt x="1083" y="111"/>
                  </a:lnTo>
                  <a:lnTo>
                    <a:pt x="1056" y="119"/>
                  </a:lnTo>
                  <a:lnTo>
                    <a:pt x="1033" y="129"/>
                  </a:lnTo>
                  <a:lnTo>
                    <a:pt x="1017" y="140"/>
                  </a:lnTo>
                  <a:lnTo>
                    <a:pt x="1006" y="149"/>
                  </a:lnTo>
                  <a:lnTo>
                    <a:pt x="1000" y="158"/>
                  </a:lnTo>
                  <a:lnTo>
                    <a:pt x="997" y="161"/>
                  </a:lnTo>
                  <a:lnTo>
                    <a:pt x="994" y="159"/>
                  </a:lnTo>
                  <a:lnTo>
                    <a:pt x="987" y="155"/>
                  </a:lnTo>
                  <a:lnTo>
                    <a:pt x="979" y="147"/>
                  </a:lnTo>
                  <a:lnTo>
                    <a:pt x="970" y="137"/>
                  </a:lnTo>
                  <a:lnTo>
                    <a:pt x="958" y="126"/>
                  </a:lnTo>
                  <a:lnTo>
                    <a:pt x="945" y="113"/>
                  </a:lnTo>
                  <a:lnTo>
                    <a:pt x="929" y="99"/>
                  </a:lnTo>
                  <a:lnTo>
                    <a:pt x="913" y="84"/>
                  </a:lnTo>
                  <a:lnTo>
                    <a:pt x="895" y="71"/>
                  </a:lnTo>
                  <a:lnTo>
                    <a:pt x="875" y="56"/>
                  </a:lnTo>
                  <a:lnTo>
                    <a:pt x="854" y="42"/>
                  </a:lnTo>
                  <a:lnTo>
                    <a:pt x="830" y="30"/>
                  </a:lnTo>
                  <a:lnTo>
                    <a:pt x="806" y="19"/>
                  </a:lnTo>
                  <a:lnTo>
                    <a:pt x="780" y="12"/>
                  </a:lnTo>
                  <a:lnTo>
                    <a:pt x="753" y="6"/>
                  </a:lnTo>
                  <a:lnTo>
                    <a:pt x="726" y="3"/>
                  </a:lnTo>
                  <a:lnTo>
                    <a:pt x="699" y="1"/>
                  </a:lnTo>
                  <a:lnTo>
                    <a:pt x="675" y="0"/>
                  </a:lnTo>
                  <a:lnTo>
                    <a:pt x="651" y="0"/>
                  </a:lnTo>
                  <a:lnTo>
                    <a:pt x="628" y="1"/>
                  </a:lnTo>
                  <a:lnTo>
                    <a:pt x="607" y="4"/>
                  </a:lnTo>
                  <a:lnTo>
                    <a:pt x="589" y="6"/>
                  </a:lnTo>
                  <a:lnTo>
                    <a:pt x="571" y="9"/>
                  </a:lnTo>
                  <a:lnTo>
                    <a:pt x="554" y="12"/>
                  </a:lnTo>
                  <a:lnTo>
                    <a:pt x="541" y="16"/>
                  </a:lnTo>
                  <a:lnTo>
                    <a:pt x="529" y="19"/>
                  </a:lnTo>
                  <a:lnTo>
                    <a:pt x="518" y="22"/>
                  </a:lnTo>
                  <a:lnTo>
                    <a:pt x="511" y="24"/>
                  </a:lnTo>
                  <a:lnTo>
                    <a:pt x="505" y="27"/>
                  </a:lnTo>
                  <a:lnTo>
                    <a:pt x="502" y="28"/>
                  </a:lnTo>
                  <a:lnTo>
                    <a:pt x="500" y="28"/>
                  </a:lnTo>
                  <a:lnTo>
                    <a:pt x="494" y="30"/>
                  </a:lnTo>
                  <a:lnTo>
                    <a:pt x="478" y="33"/>
                  </a:lnTo>
                  <a:lnTo>
                    <a:pt x="454" y="40"/>
                  </a:lnTo>
                  <a:lnTo>
                    <a:pt x="425" y="51"/>
                  </a:lnTo>
                  <a:lnTo>
                    <a:pt x="395" y="66"/>
                  </a:lnTo>
                  <a:lnTo>
                    <a:pt x="365" y="86"/>
                  </a:lnTo>
                  <a:lnTo>
                    <a:pt x="339" y="113"/>
                  </a:lnTo>
                  <a:lnTo>
                    <a:pt x="321" y="144"/>
                  </a:lnTo>
                  <a:lnTo>
                    <a:pt x="305" y="200"/>
                  </a:lnTo>
                  <a:lnTo>
                    <a:pt x="308" y="233"/>
                  </a:lnTo>
                  <a:lnTo>
                    <a:pt x="315" y="248"/>
                  </a:lnTo>
                  <a:lnTo>
                    <a:pt x="321" y="253"/>
                  </a:lnTo>
                  <a:lnTo>
                    <a:pt x="317" y="254"/>
                  </a:lnTo>
                  <a:lnTo>
                    <a:pt x="305" y="256"/>
                  </a:lnTo>
                  <a:lnTo>
                    <a:pt x="285" y="260"/>
                  </a:lnTo>
                  <a:lnTo>
                    <a:pt x="262" y="268"/>
                  </a:lnTo>
                  <a:lnTo>
                    <a:pt x="238" y="277"/>
                  </a:lnTo>
                  <a:lnTo>
                    <a:pt x="214" y="289"/>
                  </a:lnTo>
                  <a:lnTo>
                    <a:pt x="192" y="305"/>
                  </a:lnTo>
                  <a:lnTo>
                    <a:pt x="172" y="325"/>
                  </a:lnTo>
                  <a:lnTo>
                    <a:pt x="157" y="348"/>
                  </a:lnTo>
                  <a:lnTo>
                    <a:pt x="145" y="369"/>
                  </a:lnTo>
                  <a:lnTo>
                    <a:pt x="136" y="390"/>
                  </a:lnTo>
                  <a:lnTo>
                    <a:pt x="128" y="409"/>
                  </a:lnTo>
                  <a:lnTo>
                    <a:pt x="124" y="424"/>
                  </a:lnTo>
                  <a:lnTo>
                    <a:pt x="121" y="438"/>
                  </a:lnTo>
                  <a:lnTo>
                    <a:pt x="119" y="445"/>
                  </a:lnTo>
                  <a:lnTo>
                    <a:pt x="119" y="448"/>
                  </a:lnTo>
                  <a:lnTo>
                    <a:pt x="116" y="450"/>
                  </a:lnTo>
                  <a:lnTo>
                    <a:pt x="106" y="451"/>
                  </a:lnTo>
                  <a:lnTo>
                    <a:pt x="92" y="457"/>
                  </a:lnTo>
                  <a:lnTo>
                    <a:pt x="76" y="465"/>
                  </a:lnTo>
                  <a:lnTo>
                    <a:pt x="56" y="477"/>
                  </a:lnTo>
                  <a:lnTo>
                    <a:pt x="38" y="492"/>
                  </a:lnTo>
                  <a:lnTo>
                    <a:pt x="21" y="512"/>
                  </a:lnTo>
                  <a:lnTo>
                    <a:pt x="8" y="536"/>
                  </a:lnTo>
                  <a:lnTo>
                    <a:pt x="0" y="563"/>
                  </a:lnTo>
                  <a:lnTo>
                    <a:pt x="0" y="590"/>
                  </a:lnTo>
                  <a:lnTo>
                    <a:pt x="6" y="615"/>
                  </a:lnTo>
                  <a:lnTo>
                    <a:pt x="15" y="638"/>
                  </a:lnTo>
                  <a:lnTo>
                    <a:pt x="24" y="659"/>
                  </a:lnTo>
                  <a:lnTo>
                    <a:pt x="33" y="674"/>
                  </a:lnTo>
                  <a:lnTo>
                    <a:pt x="41" y="685"/>
                  </a:lnTo>
                  <a:lnTo>
                    <a:pt x="44" y="688"/>
                  </a:lnTo>
                  <a:lnTo>
                    <a:pt x="50" y="697"/>
                  </a:lnTo>
                  <a:lnTo>
                    <a:pt x="64" y="719"/>
                  </a:lnTo>
                  <a:lnTo>
                    <a:pt x="76" y="752"/>
                  </a:lnTo>
                  <a:lnTo>
                    <a:pt x="82" y="789"/>
                  </a:lnTo>
                  <a:lnTo>
                    <a:pt x="88" y="810"/>
                  </a:lnTo>
                  <a:lnTo>
                    <a:pt x="104" y="832"/>
                  </a:lnTo>
                  <a:lnTo>
                    <a:pt x="127" y="855"/>
                  </a:lnTo>
                  <a:lnTo>
                    <a:pt x="152" y="877"/>
                  </a:lnTo>
                  <a:lnTo>
                    <a:pt x="178" y="897"/>
                  </a:lnTo>
                  <a:lnTo>
                    <a:pt x="201" y="912"/>
                  </a:lnTo>
                  <a:lnTo>
                    <a:pt x="217" y="923"/>
                  </a:lnTo>
                  <a:lnTo>
                    <a:pt x="223" y="927"/>
                  </a:lnTo>
                  <a:lnTo>
                    <a:pt x="222" y="935"/>
                  </a:lnTo>
                  <a:lnTo>
                    <a:pt x="220" y="957"/>
                  </a:lnTo>
                  <a:lnTo>
                    <a:pt x="223" y="992"/>
                  </a:lnTo>
                  <a:lnTo>
                    <a:pt x="238" y="1035"/>
                  </a:lnTo>
                  <a:lnTo>
                    <a:pt x="249" y="1057"/>
                  </a:lnTo>
                  <a:lnTo>
                    <a:pt x="256" y="1073"/>
                  </a:lnTo>
                  <a:lnTo>
                    <a:pt x="264" y="1087"/>
                  </a:lnTo>
                  <a:lnTo>
                    <a:pt x="273" y="1096"/>
                  </a:lnTo>
                  <a:lnTo>
                    <a:pt x="283" y="1105"/>
                  </a:lnTo>
                  <a:lnTo>
                    <a:pt x="300" y="1112"/>
                  </a:lnTo>
                  <a:lnTo>
                    <a:pt x="321" y="1120"/>
                  </a:lnTo>
                  <a:lnTo>
                    <a:pt x="351" y="1130"/>
                  </a:lnTo>
                  <a:lnTo>
                    <a:pt x="383" y="1139"/>
                  </a:lnTo>
                  <a:lnTo>
                    <a:pt x="411" y="1144"/>
                  </a:lnTo>
                  <a:lnTo>
                    <a:pt x="437" y="1145"/>
                  </a:lnTo>
                  <a:lnTo>
                    <a:pt x="460" y="1145"/>
                  </a:lnTo>
                  <a:lnTo>
                    <a:pt x="476" y="1142"/>
                  </a:lnTo>
                  <a:lnTo>
                    <a:pt x="490" y="1141"/>
                  </a:lnTo>
                  <a:lnTo>
                    <a:pt x="497" y="1139"/>
                  </a:lnTo>
                  <a:lnTo>
                    <a:pt x="500" y="1138"/>
                  </a:lnTo>
                  <a:lnTo>
                    <a:pt x="499" y="1138"/>
                  </a:lnTo>
                  <a:lnTo>
                    <a:pt x="496" y="1139"/>
                  </a:lnTo>
                  <a:lnTo>
                    <a:pt x="491" y="1141"/>
                  </a:lnTo>
                  <a:lnTo>
                    <a:pt x="490" y="1144"/>
                  </a:lnTo>
                  <a:lnTo>
                    <a:pt x="491" y="1147"/>
                  </a:lnTo>
                  <a:lnTo>
                    <a:pt x="497" y="1153"/>
                  </a:lnTo>
                  <a:lnTo>
                    <a:pt x="509" y="1159"/>
                  </a:lnTo>
                  <a:lnTo>
                    <a:pt x="530" y="1166"/>
                  </a:lnTo>
                  <a:lnTo>
                    <a:pt x="554" y="1172"/>
                  </a:lnTo>
                  <a:lnTo>
                    <a:pt x="579" y="1174"/>
                  </a:lnTo>
                  <a:lnTo>
                    <a:pt x="601" y="1174"/>
                  </a:lnTo>
                  <a:lnTo>
                    <a:pt x="622" y="1171"/>
                  </a:lnTo>
                  <a:lnTo>
                    <a:pt x="639" y="1166"/>
                  </a:lnTo>
                  <a:lnTo>
                    <a:pt x="652" y="1163"/>
                  </a:lnTo>
                  <a:lnTo>
                    <a:pt x="661" y="1160"/>
                  </a:lnTo>
                  <a:lnTo>
                    <a:pt x="664" y="1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95560" y="3735360"/>
              <a:ext cx="458640" cy="2104920"/>
            </a:xfrm>
            <a:custGeom>
              <a:avLst/>
              <a:gdLst/>
              <a:ahLst/>
              <a:rect l="l" t="t" r="r" b="b"/>
              <a:pathLst>
                <a:path w="289" h="1326">
                  <a:moveTo>
                    <a:pt x="155" y="26"/>
                  </a:moveTo>
                  <a:lnTo>
                    <a:pt x="289" y="1274"/>
                  </a:lnTo>
                  <a:lnTo>
                    <a:pt x="31" y="1326"/>
                  </a:lnTo>
                  <a:lnTo>
                    <a:pt x="210" y="1229"/>
                  </a:lnTo>
                  <a:lnTo>
                    <a:pt x="21" y="1223"/>
                  </a:lnTo>
                  <a:lnTo>
                    <a:pt x="180" y="1141"/>
                  </a:lnTo>
                  <a:lnTo>
                    <a:pt x="25" y="1099"/>
                  </a:lnTo>
                  <a:lnTo>
                    <a:pt x="180" y="1027"/>
                  </a:lnTo>
                  <a:lnTo>
                    <a:pt x="21" y="976"/>
                  </a:lnTo>
                  <a:lnTo>
                    <a:pt x="170" y="899"/>
                  </a:lnTo>
                  <a:lnTo>
                    <a:pt x="21" y="827"/>
                  </a:lnTo>
                  <a:lnTo>
                    <a:pt x="149" y="769"/>
                  </a:lnTo>
                  <a:lnTo>
                    <a:pt x="21" y="693"/>
                  </a:lnTo>
                  <a:lnTo>
                    <a:pt x="140" y="631"/>
                  </a:lnTo>
                  <a:lnTo>
                    <a:pt x="31" y="565"/>
                  </a:lnTo>
                  <a:lnTo>
                    <a:pt x="140" y="503"/>
                  </a:lnTo>
                  <a:lnTo>
                    <a:pt x="21" y="450"/>
                  </a:lnTo>
                  <a:lnTo>
                    <a:pt x="119" y="389"/>
                  </a:lnTo>
                  <a:lnTo>
                    <a:pt x="21" y="337"/>
                  </a:lnTo>
                  <a:lnTo>
                    <a:pt x="114" y="286"/>
                  </a:lnTo>
                  <a:lnTo>
                    <a:pt x="25" y="241"/>
                  </a:lnTo>
                  <a:lnTo>
                    <a:pt x="104" y="175"/>
                  </a:lnTo>
                  <a:lnTo>
                    <a:pt x="6" y="133"/>
                  </a:lnTo>
                  <a:lnTo>
                    <a:pt x="98" y="9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7" y="30"/>
                  </a:lnTo>
                  <a:lnTo>
                    <a:pt x="16" y="24"/>
                  </a:lnTo>
                  <a:lnTo>
                    <a:pt x="28" y="18"/>
                  </a:lnTo>
                  <a:lnTo>
                    <a:pt x="42" y="12"/>
                  </a:lnTo>
                  <a:lnTo>
                    <a:pt x="57" y="6"/>
                  </a:lnTo>
                  <a:lnTo>
                    <a:pt x="72" y="2"/>
                  </a:lnTo>
                  <a:lnTo>
                    <a:pt x="87" y="0"/>
                  </a:lnTo>
                  <a:lnTo>
                    <a:pt x="102" y="2"/>
                  </a:lnTo>
                  <a:lnTo>
                    <a:pt x="116" y="5"/>
                  </a:lnTo>
                  <a:lnTo>
                    <a:pt x="128" y="8"/>
                  </a:lnTo>
                  <a:lnTo>
                    <a:pt x="137" y="12"/>
                  </a:lnTo>
                  <a:lnTo>
                    <a:pt x="144" y="18"/>
                  </a:lnTo>
                  <a:lnTo>
                    <a:pt x="150" y="21"/>
                  </a:lnTo>
                  <a:lnTo>
                    <a:pt x="153" y="24"/>
                  </a:lnTo>
                  <a:lnTo>
                    <a:pt x="155" y="26"/>
                  </a:lnTo>
                  <a:close/>
                </a:path>
              </a:pathLst>
            </a:custGeom>
            <a:solidFill>
              <a:srgbClr val="7f9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8720" y="3451320"/>
              <a:ext cx="568440" cy="2095560"/>
            </a:xfrm>
            <a:custGeom>
              <a:avLst/>
              <a:gdLst/>
              <a:ahLst/>
              <a:rect l="l" t="t" r="r" b="b"/>
              <a:pathLst>
                <a:path w="358" h="1320">
                  <a:moveTo>
                    <a:pt x="141" y="65"/>
                  </a:moveTo>
                  <a:lnTo>
                    <a:pt x="358" y="1314"/>
                  </a:lnTo>
                  <a:lnTo>
                    <a:pt x="182" y="1320"/>
                  </a:lnTo>
                  <a:lnTo>
                    <a:pt x="280" y="1253"/>
                  </a:lnTo>
                  <a:lnTo>
                    <a:pt x="111" y="1231"/>
                  </a:lnTo>
                  <a:lnTo>
                    <a:pt x="244" y="1161"/>
                  </a:lnTo>
                  <a:lnTo>
                    <a:pt x="111" y="1104"/>
                  </a:lnTo>
                  <a:lnTo>
                    <a:pt x="235" y="1027"/>
                  </a:lnTo>
                  <a:lnTo>
                    <a:pt x="79" y="955"/>
                  </a:lnTo>
                  <a:lnTo>
                    <a:pt x="213" y="887"/>
                  </a:lnTo>
                  <a:lnTo>
                    <a:pt x="84" y="784"/>
                  </a:lnTo>
                  <a:lnTo>
                    <a:pt x="188" y="733"/>
                  </a:lnTo>
                  <a:lnTo>
                    <a:pt x="28" y="682"/>
                  </a:lnTo>
                  <a:lnTo>
                    <a:pt x="177" y="604"/>
                  </a:lnTo>
                  <a:lnTo>
                    <a:pt x="33" y="486"/>
                  </a:lnTo>
                  <a:lnTo>
                    <a:pt x="141" y="410"/>
                  </a:lnTo>
                  <a:lnTo>
                    <a:pt x="3" y="343"/>
                  </a:lnTo>
                  <a:lnTo>
                    <a:pt x="120" y="292"/>
                  </a:lnTo>
                  <a:lnTo>
                    <a:pt x="7" y="235"/>
                  </a:lnTo>
                  <a:lnTo>
                    <a:pt x="131" y="194"/>
                  </a:lnTo>
                  <a:lnTo>
                    <a:pt x="7" y="122"/>
                  </a:lnTo>
                  <a:lnTo>
                    <a:pt x="94" y="65"/>
                  </a:lnTo>
                  <a:lnTo>
                    <a:pt x="93" y="63"/>
                  </a:lnTo>
                  <a:lnTo>
                    <a:pt x="87" y="59"/>
                  </a:lnTo>
                  <a:lnTo>
                    <a:pt x="79" y="53"/>
                  </a:lnTo>
                  <a:lnTo>
                    <a:pt x="69" y="47"/>
                  </a:lnTo>
                  <a:lnTo>
                    <a:pt x="57" y="41"/>
                  </a:lnTo>
                  <a:lnTo>
                    <a:pt x="43" y="35"/>
                  </a:lnTo>
                  <a:lnTo>
                    <a:pt x="28" y="30"/>
                  </a:lnTo>
                  <a:lnTo>
                    <a:pt x="13" y="29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5" y="0"/>
                  </a:lnTo>
                  <a:lnTo>
                    <a:pt x="64" y="0"/>
                  </a:lnTo>
                  <a:lnTo>
                    <a:pt x="84" y="3"/>
                  </a:lnTo>
                  <a:lnTo>
                    <a:pt x="102" y="11"/>
                  </a:lnTo>
                  <a:lnTo>
                    <a:pt x="116" y="20"/>
                  </a:lnTo>
                  <a:lnTo>
                    <a:pt x="125" y="30"/>
                  </a:lnTo>
                  <a:lnTo>
                    <a:pt x="132" y="41"/>
                  </a:lnTo>
                  <a:lnTo>
                    <a:pt x="137" y="50"/>
                  </a:lnTo>
                  <a:lnTo>
                    <a:pt x="140" y="57"/>
                  </a:lnTo>
                  <a:lnTo>
                    <a:pt x="141" y="63"/>
                  </a:lnTo>
                  <a:lnTo>
                    <a:pt x="141" y="65"/>
                  </a:lnTo>
                  <a:close/>
                </a:path>
              </a:pathLst>
            </a:custGeom>
            <a:solidFill>
              <a:srgbClr val="7f9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3320" y="3138480"/>
              <a:ext cx="222120" cy="2293920"/>
            </a:xfrm>
            <a:custGeom>
              <a:avLst/>
              <a:gdLst/>
              <a:ahLst/>
              <a:rect l="l" t="t" r="r" b="b"/>
              <a:pathLst>
                <a:path w="140" h="1445">
                  <a:moveTo>
                    <a:pt x="123" y="0"/>
                  </a:moveTo>
                  <a:lnTo>
                    <a:pt x="140" y="1445"/>
                  </a:lnTo>
                  <a:lnTo>
                    <a:pt x="108" y="1445"/>
                  </a:lnTo>
                  <a:lnTo>
                    <a:pt x="129" y="1383"/>
                  </a:lnTo>
                  <a:lnTo>
                    <a:pt x="98" y="1305"/>
                  </a:lnTo>
                  <a:lnTo>
                    <a:pt x="129" y="1239"/>
                  </a:lnTo>
                  <a:lnTo>
                    <a:pt x="104" y="1173"/>
                  </a:lnTo>
                  <a:lnTo>
                    <a:pt x="134" y="1039"/>
                  </a:lnTo>
                  <a:lnTo>
                    <a:pt x="78" y="956"/>
                  </a:lnTo>
                  <a:lnTo>
                    <a:pt x="129" y="884"/>
                  </a:lnTo>
                  <a:lnTo>
                    <a:pt x="72" y="817"/>
                  </a:lnTo>
                  <a:lnTo>
                    <a:pt x="129" y="739"/>
                  </a:lnTo>
                  <a:lnTo>
                    <a:pt x="72" y="647"/>
                  </a:lnTo>
                  <a:lnTo>
                    <a:pt x="123" y="570"/>
                  </a:lnTo>
                  <a:lnTo>
                    <a:pt x="68" y="453"/>
                  </a:lnTo>
                  <a:lnTo>
                    <a:pt x="129" y="355"/>
                  </a:lnTo>
                  <a:lnTo>
                    <a:pt x="68" y="272"/>
                  </a:lnTo>
                  <a:lnTo>
                    <a:pt x="113" y="221"/>
                  </a:lnTo>
                  <a:lnTo>
                    <a:pt x="42" y="119"/>
                  </a:lnTo>
                  <a:lnTo>
                    <a:pt x="123" y="66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6" y="41"/>
                  </a:lnTo>
                  <a:lnTo>
                    <a:pt x="13" y="35"/>
                  </a:lnTo>
                  <a:lnTo>
                    <a:pt x="22" y="27"/>
                  </a:lnTo>
                  <a:lnTo>
                    <a:pt x="33" y="21"/>
                  </a:lnTo>
                  <a:lnTo>
                    <a:pt x="45" y="14"/>
                  </a:lnTo>
                  <a:lnTo>
                    <a:pt x="59" y="8"/>
                  </a:lnTo>
                  <a:lnTo>
                    <a:pt x="72" y="5"/>
                  </a:lnTo>
                  <a:lnTo>
                    <a:pt x="84" y="3"/>
                  </a:lnTo>
                  <a:lnTo>
                    <a:pt x="95" y="1"/>
                  </a:lnTo>
                  <a:lnTo>
                    <a:pt x="104" y="1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7f9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51120" y="5513400"/>
              <a:ext cx="1990800" cy="709560"/>
            </a:xfrm>
            <a:custGeom>
              <a:avLst/>
              <a:gdLst/>
              <a:ahLst/>
              <a:rect l="l" t="t" r="r" b="b"/>
              <a:pathLst>
                <a:path w="1254" h="447">
                  <a:moveTo>
                    <a:pt x="1244" y="0"/>
                  </a:moveTo>
                  <a:lnTo>
                    <a:pt x="1254" y="447"/>
                  </a:lnTo>
                  <a:lnTo>
                    <a:pt x="0" y="438"/>
                  </a:lnTo>
                  <a:lnTo>
                    <a:pt x="1197" y="366"/>
                  </a:lnTo>
                  <a:lnTo>
                    <a:pt x="36" y="396"/>
                  </a:lnTo>
                  <a:lnTo>
                    <a:pt x="1167" y="243"/>
                  </a:lnTo>
                  <a:lnTo>
                    <a:pt x="56" y="345"/>
                  </a:lnTo>
                  <a:lnTo>
                    <a:pt x="1161" y="124"/>
                  </a:lnTo>
                  <a:lnTo>
                    <a:pt x="72" y="283"/>
                  </a:lnTo>
                  <a:lnTo>
                    <a:pt x="1244" y="0"/>
                  </a:lnTo>
                  <a:close/>
                </a:path>
              </a:pathLst>
            </a:custGeom>
            <a:solidFill>
              <a:srgbClr val="7f9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22600" y="1927080"/>
              <a:ext cx="1089000" cy="687600"/>
            </a:xfrm>
            <a:custGeom>
              <a:avLst/>
              <a:gdLst/>
              <a:ahLst/>
              <a:rect l="l" t="t" r="r" b="b"/>
              <a:pathLst>
                <a:path w="686" h="433">
                  <a:moveTo>
                    <a:pt x="31" y="16"/>
                  </a:moveTo>
                  <a:lnTo>
                    <a:pt x="34" y="15"/>
                  </a:lnTo>
                  <a:lnTo>
                    <a:pt x="41" y="12"/>
                  </a:lnTo>
                  <a:lnTo>
                    <a:pt x="55" y="7"/>
                  </a:lnTo>
                  <a:lnTo>
                    <a:pt x="71" y="4"/>
                  </a:lnTo>
                  <a:lnTo>
                    <a:pt x="91" y="1"/>
                  </a:lnTo>
                  <a:lnTo>
                    <a:pt x="115" y="0"/>
                  </a:lnTo>
                  <a:lnTo>
                    <a:pt x="140" y="3"/>
                  </a:lnTo>
                  <a:lnTo>
                    <a:pt x="169" y="9"/>
                  </a:lnTo>
                  <a:lnTo>
                    <a:pt x="196" y="19"/>
                  </a:lnTo>
                  <a:lnTo>
                    <a:pt x="220" y="30"/>
                  </a:lnTo>
                  <a:lnTo>
                    <a:pt x="241" y="42"/>
                  </a:lnTo>
                  <a:lnTo>
                    <a:pt x="259" y="53"/>
                  </a:lnTo>
                  <a:lnTo>
                    <a:pt x="274" y="63"/>
                  </a:lnTo>
                  <a:lnTo>
                    <a:pt x="284" y="71"/>
                  </a:lnTo>
                  <a:lnTo>
                    <a:pt x="291" y="77"/>
                  </a:lnTo>
                  <a:lnTo>
                    <a:pt x="293" y="78"/>
                  </a:lnTo>
                  <a:lnTo>
                    <a:pt x="294" y="77"/>
                  </a:lnTo>
                  <a:lnTo>
                    <a:pt x="299" y="71"/>
                  </a:lnTo>
                  <a:lnTo>
                    <a:pt x="306" y="63"/>
                  </a:lnTo>
                  <a:lnTo>
                    <a:pt x="318" y="56"/>
                  </a:lnTo>
                  <a:lnTo>
                    <a:pt x="336" y="51"/>
                  </a:lnTo>
                  <a:lnTo>
                    <a:pt x="360" y="50"/>
                  </a:lnTo>
                  <a:lnTo>
                    <a:pt x="392" y="53"/>
                  </a:lnTo>
                  <a:lnTo>
                    <a:pt x="431" y="63"/>
                  </a:lnTo>
                  <a:lnTo>
                    <a:pt x="472" y="80"/>
                  </a:lnTo>
                  <a:lnTo>
                    <a:pt x="509" y="99"/>
                  </a:lnTo>
                  <a:lnTo>
                    <a:pt x="543" y="122"/>
                  </a:lnTo>
                  <a:lnTo>
                    <a:pt x="571" y="144"/>
                  </a:lnTo>
                  <a:lnTo>
                    <a:pt x="597" y="167"/>
                  </a:lnTo>
                  <a:lnTo>
                    <a:pt x="616" y="189"/>
                  </a:lnTo>
                  <a:lnTo>
                    <a:pt x="634" y="209"/>
                  </a:lnTo>
                  <a:lnTo>
                    <a:pt x="648" y="226"/>
                  </a:lnTo>
                  <a:lnTo>
                    <a:pt x="666" y="254"/>
                  </a:lnTo>
                  <a:lnTo>
                    <a:pt x="678" y="281"/>
                  </a:lnTo>
                  <a:lnTo>
                    <a:pt x="684" y="302"/>
                  </a:lnTo>
                  <a:lnTo>
                    <a:pt x="686" y="310"/>
                  </a:lnTo>
                  <a:lnTo>
                    <a:pt x="631" y="433"/>
                  </a:lnTo>
                  <a:lnTo>
                    <a:pt x="586" y="310"/>
                  </a:lnTo>
                  <a:lnTo>
                    <a:pt x="500" y="403"/>
                  </a:lnTo>
                  <a:lnTo>
                    <a:pt x="493" y="287"/>
                  </a:lnTo>
                  <a:lnTo>
                    <a:pt x="330" y="317"/>
                  </a:lnTo>
                  <a:lnTo>
                    <a:pt x="369" y="202"/>
                  </a:lnTo>
                  <a:lnTo>
                    <a:pt x="246" y="256"/>
                  </a:lnTo>
                  <a:lnTo>
                    <a:pt x="246" y="179"/>
                  </a:lnTo>
                  <a:lnTo>
                    <a:pt x="92" y="226"/>
                  </a:lnTo>
                  <a:lnTo>
                    <a:pt x="107" y="110"/>
                  </a:lnTo>
                  <a:lnTo>
                    <a:pt x="0" y="125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d1d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4880" y="1819440"/>
              <a:ext cx="771480" cy="196560"/>
            </a:xfrm>
            <a:custGeom>
              <a:avLst/>
              <a:gdLst/>
              <a:ahLst/>
              <a:rect l="l" t="t" r="r" b="b"/>
              <a:pathLst>
                <a:path w="486" h="124">
                  <a:moveTo>
                    <a:pt x="0" y="84"/>
                  </a:moveTo>
                  <a:lnTo>
                    <a:pt x="1" y="83"/>
                  </a:lnTo>
                  <a:lnTo>
                    <a:pt x="3" y="80"/>
                  </a:lnTo>
                  <a:lnTo>
                    <a:pt x="7" y="75"/>
                  </a:lnTo>
                  <a:lnTo>
                    <a:pt x="15" y="71"/>
                  </a:lnTo>
                  <a:lnTo>
                    <a:pt x="23" y="63"/>
                  </a:lnTo>
                  <a:lnTo>
                    <a:pt x="33" y="56"/>
                  </a:lnTo>
                  <a:lnTo>
                    <a:pt x="45" y="48"/>
                  </a:lnTo>
                  <a:lnTo>
                    <a:pt x="60" y="39"/>
                  </a:lnTo>
                  <a:lnTo>
                    <a:pt x="75" y="32"/>
                  </a:lnTo>
                  <a:lnTo>
                    <a:pt x="93" y="24"/>
                  </a:lnTo>
                  <a:lnTo>
                    <a:pt x="114" y="17"/>
                  </a:lnTo>
                  <a:lnTo>
                    <a:pt x="137" y="11"/>
                  </a:lnTo>
                  <a:lnTo>
                    <a:pt x="161" y="5"/>
                  </a:lnTo>
                  <a:lnTo>
                    <a:pt x="188" y="2"/>
                  </a:lnTo>
                  <a:lnTo>
                    <a:pt x="217" y="0"/>
                  </a:lnTo>
                  <a:lnTo>
                    <a:pt x="247" y="0"/>
                  </a:lnTo>
                  <a:lnTo>
                    <a:pt x="306" y="8"/>
                  </a:lnTo>
                  <a:lnTo>
                    <a:pt x="357" y="23"/>
                  </a:lnTo>
                  <a:lnTo>
                    <a:pt x="397" y="42"/>
                  </a:lnTo>
                  <a:lnTo>
                    <a:pt x="431" y="65"/>
                  </a:lnTo>
                  <a:lnTo>
                    <a:pt x="455" y="86"/>
                  </a:lnTo>
                  <a:lnTo>
                    <a:pt x="473" y="105"/>
                  </a:lnTo>
                  <a:lnTo>
                    <a:pt x="483" y="119"/>
                  </a:lnTo>
                  <a:lnTo>
                    <a:pt x="486" y="124"/>
                  </a:lnTo>
                  <a:lnTo>
                    <a:pt x="394" y="84"/>
                  </a:lnTo>
                  <a:lnTo>
                    <a:pt x="325" y="124"/>
                  </a:lnTo>
                  <a:lnTo>
                    <a:pt x="294" y="54"/>
                  </a:lnTo>
                  <a:lnTo>
                    <a:pt x="217" y="116"/>
                  </a:lnTo>
                  <a:lnTo>
                    <a:pt x="185" y="69"/>
                  </a:lnTo>
                  <a:lnTo>
                    <a:pt x="101" y="124"/>
                  </a:lnTo>
                  <a:lnTo>
                    <a:pt x="69" y="6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d1d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14680" y="2349360"/>
              <a:ext cx="982440" cy="559080"/>
            </a:xfrm>
            <a:custGeom>
              <a:avLst/>
              <a:gdLst/>
              <a:ahLst/>
              <a:rect l="l" t="t" r="r" b="b"/>
              <a:pathLst>
                <a:path w="619" h="352">
                  <a:moveTo>
                    <a:pt x="148" y="5"/>
                  </a:moveTo>
                  <a:lnTo>
                    <a:pt x="151" y="5"/>
                  </a:lnTo>
                  <a:lnTo>
                    <a:pt x="157" y="3"/>
                  </a:lnTo>
                  <a:lnTo>
                    <a:pt x="169" y="3"/>
                  </a:lnTo>
                  <a:lnTo>
                    <a:pt x="184" y="2"/>
                  </a:lnTo>
                  <a:lnTo>
                    <a:pt x="202" y="0"/>
                  </a:lnTo>
                  <a:lnTo>
                    <a:pt x="223" y="0"/>
                  </a:lnTo>
                  <a:lnTo>
                    <a:pt x="246" y="0"/>
                  </a:lnTo>
                  <a:lnTo>
                    <a:pt x="271" y="2"/>
                  </a:lnTo>
                  <a:lnTo>
                    <a:pt x="297" y="5"/>
                  </a:lnTo>
                  <a:lnTo>
                    <a:pt x="325" y="9"/>
                  </a:lnTo>
                  <a:lnTo>
                    <a:pt x="353" y="14"/>
                  </a:lnTo>
                  <a:lnTo>
                    <a:pt x="381" y="21"/>
                  </a:lnTo>
                  <a:lnTo>
                    <a:pt x="410" y="32"/>
                  </a:lnTo>
                  <a:lnTo>
                    <a:pt x="437" y="44"/>
                  </a:lnTo>
                  <a:lnTo>
                    <a:pt x="462" y="57"/>
                  </a:lnTo>
                  <a:lnTo>
                    <a:pt x="487" y="76"/>
                  </a:lnTo>
                  <a:lnTo>
                    <a:pt x="527" y="116"/>
                  </a:lnTo>
                  <a:lnTo>
                    <a:pt x="559" y="161"/>
                  </a:lnTo>
                  <a:lnTo>
                    <a:pt x="583" y="206"/>
                  </a:lnTo>
                  <a:lnTo>
                    <a:pt x="600" y="252"/>
                  </a:lnTo>
                  <a:lnTo>
                    <a:pt x="610" y="291"/>
                  </a:lnTo>
                  <a:lnTo>
                    <a:pt x="616" y="324"/>
                  </a:lnTo>
                  <a:lnTo>
                    <a:pt x="619" y="345"/>
                  </a:lnTo>
                  <a:lnTo>
                    <a:pt x="619" y="352"/>
                  </a:lnTo>
                  <a:lnTo>
                    <a:pt x="526" y="268"/>
                  </a:lnTo>
                  <a:lnTo>
                    <a:pt x="441" y="315"/>
                  </a:lnTo>
                  <a:lnTo>
                    <a:pt x="417" y="214"/>
                  </a:lnTo>
                  <a:lnTo>
                    <a:pt x="294" y="244"/>
                  </a:lnTo>
                  <a:lnTo>
                    <a:pt x="325" y="152"/>
                  </a:lnTo>
                  <a:lnTo>
                    <a:pt x="170" y="182"/>
                  </a:lnTo>
                  <a:lnTo>
                    <a:pt x="247" y="68"/>
                  </a:lnTo>
                  <a:lnTo>
                    <a:pt x="0" y="76"/>
                  </a:lnTo>
                  <a:lnTo>
                    <a:pt x="148" y="5"/>
                  </a:lnTo>
                  <a:close/>
                </a:path>
              </a:pathLst>
            </a:custGeom>
            <a:solidFill>
              <a:srgbClr val="d1d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8280" y="1655640"/>
            <a:ext cx="827748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of these gases include the combustion of fossil fuels, cars, the heating homes and businesses, buses, and the omissions of power fac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U.S. alone these gases represent 98%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4%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18% N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agricultural practices, deforestation, the creation of landfills, increases in industrial production, and mining also act as point sources for these e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learn more about global warming, view PEER’s </a:t>
            </a:r>
            <a:br>
              <a:rPr sz="2800"/>
            </a:br>
            <a:r>
              <a:rPr b="0" lang="en-US" sz="2800" spc="-1" strike="noStrike" u="sng">
                <a:solidFill>
                  <a:srgbClr val="cc0000"/>
                </a:solidFill>
                <a:uFillTx/>
                <a:latin typeface="Times New Roman"/>
                <a:hlinkClick r:id="rId2"/>
              </a:rPr>
              <a:t>web tuto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Warming and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29:54Z</dcterms:created>
  <dc:creator>Vince Hardy</dc:creator>
  <dc:description/>
  <dc:language>en-US</dc:language>
  <cp:lastModifiedBy>Jeremiah McNichols</cp:lastModifiedBy>
  <dcterms:modified xsi:type="dcterms:W3CDTF">2008-10-01T15:48:14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4000000000001023620</vt:lpwstr>
  </property>
</Properties>
</file>