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cc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251CA-4295-4AA1-B01D-28E681E660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order text: Appendi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75DFB-B339-48F2-ABFF-E0FAB7869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BC2B8-EED1-4967-96E7-50300C97F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F819D-EB87-4353-A4F9-C9BC8164A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58F78-ECD4-46CB-A735-7909DC283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57FC3-C46E-4CE1-881C-BAE2F74DB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08A85-E0E8-496D-AD33-619DD9526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51F94-1A4E-4250-9015-AB0BC4D89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CBF97-F157-49E5-9698-3D5E428AD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C880F-628D-405C-8777-5024A00BA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C19D7-D523-4BF6-B5C3-AFC6207C2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756E4-C286-466B-B518-C006FC90E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FE725-2A6C-4DAD-AF2D-FC479F95C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c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66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66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66c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5B66B-8845-4961-994D-DBAFEF8199D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ontext Clues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80024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time of day is it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is the landscape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kind of animals are these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re do these animals naturally live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you guess where this picture was taken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1143000"/>
            <a:ext cx="76960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observations can you make from looking at this picture?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1" name="Africa%20344" descr="Africa"/>
          <p:cNvPicPr/>
          <p:nvPr/>
        </p:nvPicPr>
        <p:blipFill>
          <a:blip r:embed="rId2"/>
          <a:stretch/>
        </p:blipFill>
        <p:spPr>
          <a:xfrm>
            <a:off x="469800" y="2438280"/>
            <a:ext cx="3962520" cy="26384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ext is the information that surrounds a particular word or passage that helps determine the meaning of the word or passage.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y examining the context of the previous picture, you were able to guess that the picture was probably taken in Africa.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questions might you ask yourself when assessing the context of a passage of text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sing Context Clues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sing Context Clues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47960" y="1727280"/>
            <a:ext cx="388620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o is the author or speaker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o is the reader or audience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is the passage about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ere does the action take place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n you identify emotions that are expressed in the text? 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</p:txBody>
      </p:sp>
      <p:pic>
        <p:nvPicPr>
          <p:cNvPr id="56" name="QuestionMark" descr=""/>
          <p:cNvPicPr/>
          <p:nvPr/>
        </p:nvPicPr>
        <p:blipFill>
          <a:blip r:embed="rId2"/>
          <a:stretch/>
        </p:blipFill>
        <p:spPr>
          <a:xfrm>
            <a:off x="762120" y="2044800"/>
            <a:ext cx="3325680" cy="32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8T04:03:32Z</dcterms:created>
  <dc:creator>Gina Balducci</dc:creator>
  <dc:description/>
  <dc:language>en-US</dc:language>
  <cp:lastModifiedBy>vhardy</cp:lastModifiedBy>
  <dcterms:modified xsi:type="dcterms:W3CDTF">2002-12-19T23:00:29Z</dcterms:modified>
  <cp:revision>16</cp:revision>
  <dc:subject/>
  <dc:title>Context Clues</dc:title>
</cp:coreProperties>
</file>