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2B28-6A5F-480E-A942-0FEF4E492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31BC-80BB-4F78-8FCB-CA2EB62A2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CF64-528C-46C9-BDA9-8E334625E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54CF-015D-45EF-8E26-AB3B60981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D0CA-3EC2-4CFA-9817-F26C2EA68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3EAB-D965-402B-9FA6-53CAC21F6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B254-C6E3-43E8-A3CD-6A5B393DB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9E5F-6870-466A-B5CC-B363BADD8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F522-7120-41A9-BE6C-950029DE1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89A5-EBFA-4ACD-9130-491F6241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FF1A-9753-4350-A202-B8C4B577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04F0-34F5-4B48-85B8-4C3B57EE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1FFC7-00B5-43F4-99DF-888396DC65D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, Mean, Median, and Mode are all words that we use to describe numerical da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 is the lowest and the highe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 is the average of all the numbers in a data set, or all of the data added up and then divided by the number of data poin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 is the middlemo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 If there is an even number of data points, the average of the middle two give the medi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 is the number that is repeated the most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ample Data Se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 is a sample data se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4, 6, 2, 8, 5, 2, 4, 6, 9, 2, 1, 2, 2,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ange: 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2, 2, 2, 2, 2, 4, 4, 5, 5, 6, 6, 8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:  59/15 = 3.93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Median 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2, 2, 2, 2, 2,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od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2, 2, 2, 2,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17:44:00Z</dcterms:created>
  <dc:creator>vtpp</dc:creator>
  <dc:description/>
  <dc:language>en-US</dc:language>
  <cp:lastModifiedBy>vhardy</cp:lastModifiedBy>
  <dcterms:modified xsi:type="dcterms:W3CDTF">2003-05-23T21:31:31Z</dcterms:modified>
  <cp:revision>6</cp:revision>
  <dc:subject/>
  <dc:title>Statistics</dc:title>
</cp:coreProperties>
</file>