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CD607-0BAA-48C6-91A7-C119CAFC7471}" type="slidenum"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H)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9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ing how well own writing achieves purpos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H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3F3A-B563-41E3-89CC-A1060331E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2C7B-D3B6-412C-9E35-4D93BD5FE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094C-E875-4466-8114-51E62CE17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8A80-5AE3-43FB-A858-2E9D6B5C6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1B07-C9C6-4673-AE59-B86AEE409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F5EE-5D61-45E2-A510-EF57F60EF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8A25-4680-4B07-BBAC-7468981C7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740A-16B8-4DE0-89E0-679491995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88A5-BAC6-4062-A03E-CEBF0C582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19E2-AC84-4314-B39C-9138D1599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4185-CF5E-4113-A676-609009288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232D-92C0-4977-92E1-8A9E9F198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A0981-F3C0-4A00-B38A-B3E452D873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ve Ess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informative essay seeks to inform the reader about something or to tell the reader how to do someth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InfoEssPeople" descr=""/>
          <p:cNvPicPr/>
          <p:nvPr/>
        </p:nvPicPr>
        <p:blipFill>
          <a:blip r:embed="rId2"/>
          <a:stretch/>
        </p:blipFill>
        <p:spPr>
          <a:xfrm>
            <a:off x="5791320" y="2133720"/>
            <a:ext cx="220644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efore You Begi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do you want your reader to know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 your topic interest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o is your audienc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s your topic be thoroughly researche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will you organize your pape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rganization of the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ve Ess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ntroduction should state the topic and the three main subpoints on which you will focu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body will consist of at least three paragraphs that elaborate on the subpoin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onclusion restates the main topic and subpoints and provides the audience with a sense of closu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15:46:56Z</dcterms:created>
  <dc:creator>Gina Balducci</dc:creator>
  <dc:description/>
  <dc:language>en-US</dc:language>
  <cp:lastModifiedBy>Vince Hardy</cp:lastModifiedBy>
  <dcterms:modified xsi:type="dcterms:W3CDTF">2007-01-12T21:45:01Z</dcterms:modified>
  <cp:revision>15</cp:revision>
  <dc:subject/>
  <dc:title>Informative Essay</dc:title>
</cp:coreProperties>
</file>