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AE94-35AA-4D8F-87BF-EAFB8C044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E9A8-6D6F-425C-AD5B-6AEEAD447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1ACF-3ED7-416A-B878-204E838F1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81E2-00A9-4DEB-842C-38CA525F9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666A-6853-4DA6-87CB-DA4EE9003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1127-580F-428C-8AFD-600EC8593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523D-365D-4F7C-AE44-7AF495E63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5F66-64CE-498B-8B6D-F8CC7C225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6D26-E673-4386-9160-53F666C26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EEE7-E3AC-4F5E-836B-45FCC3530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4897-6B71-459C-9CF9-AEEAFF131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6B2B-E72E-4DC4-947E-0F4CDF5C5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B886-366B-41BC-8B58-8589BEFEEB4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1192-417C-4D8D-92D6-A97D01190EE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35C0-CC7A-4A82-91A4-3D4378B3CF6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58Z</dcterms:modified>
  <cp:revision>211</cp:revision>
  <dc:subject/>
  <dc:title>VTPP 423 - PHYSIOLOGY</dc:title>
</cp:coreProperties>
</file>