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BE65-98A2-4214-89C1-797A717FD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6063-E552-411B-BA8F-74879C3D9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441B-4A7A-4F40-B5B7-45C22E3F0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2796-DF9D-4CB7-B6F4-52758BFB7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FC7E-56FC-472B-A8EE-A7EE325C9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E9C8-311E-47AA-A178-04C952FD6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3C34-1515-4D0B-9417-11876DD7F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86D1-13D6-44CF-815D-98E6B28CC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EC23-3904-4DEF-815B-6182E9D6A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84EE-DA75-4131-BDFE-23C58A713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FDD4-32B4-4ECA-9841-E8DCBDA39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87D9-91AB-446F-BE41-32BEFCC4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C7FF-2892-470A-A8AE-1A38E28070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6F25-C603-48F7-87BE-E18C94148E5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19:48Z</dcterms:modified>
  <cp:revision>207</cp:revision>
  <dc:subject/>
  <dc:title>VTPP 423 - PHYSIOLOGY</dc:title>
</cp:coreProperties>
</file>