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1B15-02C6-483F-96FA-C7EED95AF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38D-4E59-4903-A7DE-77E9F69D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3DE-F620-468A-AAC0-9170E274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50FD-8916-44D3-A24C-914A09FF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43DD-4CF0-46C1-A3FA-D9FFAD9D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7866-ABCC-4A3A-87D6-FBBB0C4C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DDA1-A8C0-4B54-B607-5A78ED7D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1AF1-7539-4955-82DE-A2BE7FD6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C4DA-9738-49F7-B7B8-8DD5C87A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EE0-8B66-4881-8DC7-39C8937F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BF8D-A4AE-451E-858C-8B694788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4DCB-5DAF-4A77-942C-7D27A008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173-2A4A-4D90-A95C-2D2AA254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3512-B669-4FB5-BCD0-1174F3894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College of Veterinary Medicine</cp:lastModifiedBy>
  <dcterms:modified xsi:type="dcterms:W3CDTF">2007-07-31T18:42:44Z</dcterms:modified>
  <cp:revision>483</cp:revision>
  <dc:subject/>
  <dc:title>Investigate the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14000000000001023620</vt:lpwstr>
  </property>
</Properties>
</file>