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30E7-402E-412C-A67C-CFA5EA8B5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110-9CEF-46F8-9BB8-B3FD0CBB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30E-E630-442F-92A6-E20D5054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A65-68C4-4809-8C15-2711ADA9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2C3-72C9-46E9-9986-8F2DBF77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ECD-8B31-4AA0-BEC3-0A6ECB38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FAE-EE9E-41C7-A18C-99188F9B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F620-2B79-4F66-AEB3-6FE0AA3C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C287-AC62-4448-8199-661A193E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65D-0091-4F4E-ABD8-41FF3EBB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F5C-1036-4F0E-9295-BEAEF602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BD7-95BF-439E-ADC1-DD71E229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337-6DDF-41E9-9BCF-1485CEF2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3E98-8B8B-46BF-A9D5-6905E1275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meter = 1.6 mi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ljlab</cp:lastModifiedBy>
  <dcterms:modified xsi:type="dcterms:W3CDTF">2003-06-19T18:38:52Z</dcterms:modified>
  <cp:revision>6</cp:revision>
  <dc:subject/>
  <dc:title>Length Conversions</dc:title>
</cp:coreProperties>
</file>