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56889-78FA-45CE-9053-3B554CE30B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0E019-B63F-4026-AB4B-A913D9DEEC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3BE0E-7DD9-4D9F-8DB6-1E1628D58D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56BE9-EACB-4417-8314-6C49F2922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3CB75-6C73-4EC0-86E8-89D491169E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4547-D281-4AC2-B3B9-E6DFA0268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645E-3E09-43CF-BEF3-654C34BB9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34E7-EFA9-4AE9-AD05-B4488004C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9EBC-0354-4882-9FC4-209F7F3D5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E3DD-2D50-474F-9917-C61070568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5880-E13B-462E-AF5C-E6AF4E069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FFFC-4E0F-4A4D-B51B-CA681B5AC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EEB9-5218-4DBB-A288-2BCBEC8CB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4B81-E0EB-4965-9939-D2E3A426F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4981-232D-4BD2-8215-E00D4E81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A55B-99AF-40A2-AE30-60CF1416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98AE-3B0E-4507-B9D5-66E3431C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10D55-B1E6-4432-8456-50F68DB1D1C9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vhardy</cp:lastModifiedBy>
  <dcterms:modified xsi:type="dcterms:W3CDTF">2003-05-23T21:24:10Z</dcterms:modified>
  <cp:revision>31</cp:revision>
  <dc:subject/>
  <dc:title>Fractions to Decimals</dc:title>
</cp:coreProperties>
</file>