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51E4-5BBB-4F62-A56B-73CF614EE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AD6A-6809-45C9-B73D-059055610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1EB3-E07B-4B46-8C45-D7C5A1B04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54CA-B17E-4E03-9E51-D3BDCBA3C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3D26-EE1F-477C-A59E-E4A5446CD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24F4-EE34-405A-B69C-D53D21077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2E9D-F1F6-4D99-8FEF-EB427C0E8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28DD-DA7C-4F40-BC67-F1237AA33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3C2A4-AA0B-458F-B7DF-F5CCB4912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7BA8-76C1-4679-8462-9951F9DBC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AF40-3371-4228-AF24-37DC459A0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7FE5-8E49-44AF-BCBA-37500259A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2C73-FD8E-4400-AB2D-A8C43670D8B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A74D-CDB9-4ED1-A64E-8926FC393C4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FE38-F0B2-4958-8171-42C6FC271F9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25Z</dcterms:modified>
  <cp:revision>210</cp:revision>
  <dc:subject/>
  <dc:title>VTPP 423 - PHYSIOLOGY</dc:title>
</cp:coreProperties>
</file>