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8C4B-2101-4275-81BE-B50B99092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901-5DD1-4FF5-A25A-F82C7957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9C1-285E-437C-97C2-2BF434FE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5D8-254E-4BC3-9EA1-DAC1E94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A8E-1FF6-4486-B7C4-469D0F58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3BA-D24B-496F-B57E-8F04312F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FDE-485F-4447-BCC3-0BFDBDA2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652-91CC-47A8-87A4-35E2E674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783-BC11-43AE-BF66-E10EF976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4CF-9FB4-4132-91C1-F28324E4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6A4-DB08-4AE0-B243-9ED1485A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AF6-BBF6-40D0-A023-B26D1B9C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194-B141-4707-B9D1-21F3860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F25-8941-44DA-AA15-B4617758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63AE-4024-4489-BB72-32C839005B8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8Z</dcterms:modified>
  <cp:revision>22</cp:revision>
  <dc:subject/>
  <dc:title>What’s the difference between weather and climate?</dc:title>
</cp:coreProperties>
</file>