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19.gif" ContentType="image/gif"/>
  <Override PartName="/ppt/media/image10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C7AF-1A8C-442C-83A7-875A0E745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0E7-7C1B-472E-8C73-7B9E8DBA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F0C-4C23-4A0B-B254-55AF77EE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E82-DA12-4E9D-8179-14EB6BB7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4D5-FED6-4276-948C-4A18969C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A387-0595-4414-80F7-00957A3D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DCB2-DA69-47E3-8129-9D57579A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F33D-B85C-4A10-8EB3-9E277E3F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A8FE-8E98-45B0-AD16-6EDF5E04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63C1-CF44-44C3-859A-50EDE352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E9C3-C50C-41FD-89BF-A00166E7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7510-E137-4E62-ACC6-B02329AC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C610-AC99-462E-AE45-A4A64C62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7259-B163-470F-AC95-3885FB3C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2673-2D04-4EED-9ABF-685FDC97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B97F-0C7B-4563-8946-44E6A779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94DE-E2E0-40B4-ACDC-8CF13111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EFF6-827C-4829-8F79-D38E9DBC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B1C-FA14-42B7-8D40-D16C88C6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A11-D5B6-4972-A960-887EFF96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7D2-A283-4CF5-AEBF-EB739B7C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4D2-344A-4002-A3CB-D4AFE1A9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DB0-FC2D-40B7-9DC3-96067029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C14-9B3E-4283-9A86-A3F24B43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C53-F8B0-4A64-80B8-897BBC85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B9E7-E5F4-4DAE-9151-2BB88E907B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52BF-2391-4311-B006-6932407F6C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hyperlink" Target="http://peer.tamu.edu/curriculum_modules/Cell_Biology/CellBiol/Proteins/whatweknow4.htm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Globe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3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smoker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876920" y="1512720"/>
            <a:ext cx="4057560" cy="41259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4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CigsToBrain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SmokeInLungs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j0178822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NoSmoking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Airplane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Money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Playing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vhardy</cp:lastModifiedBy>
  <dcterms:modified xsi:type="dcterms:W3CDTF">2003-02-06T05:01:02Z</dcterms:modified>
  <cp:revision>28</cp:revision>
  <dc:subject/>
  <dc:title>Tobacco and the Cellular Mechanisms of Nicotine Addiction</dc:title>
</cp:coreProperties>
</file>