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93D4-A348-4BAB-A151-C17716C6D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view this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lide numbers of this presentation corresponding to the different subject areas 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: 4, 62-71 and CO 1.0, 59.0-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: 47-61 and CO 44.0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: 24-46 and CO 21.0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: 5-23 and CO 2.0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Note:  These slide numbers corresponding to the different subject areas are also found on the last slide of this presentation.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Th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udent vers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a version of thes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lides minus the teacher’s “NOTE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Prior to viewing any presentation, check your computer for proper settings as described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(B) Represent ratios and percents with models, fractions, dec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(C) Use ratios to make predi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(B) Find the probability of a simple event and its comp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(in hours) how long Travis and Summer worked each 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persons x 30 minutes/day  x  1 hr/60 minutes  =  1.0 hour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how much money Travis and Summer earned each 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hour/day  x  $6.00/hour  =  $6.00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how much money Travis and Summer made while Kathy was g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6.00/day  x  90 days  =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540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is and Summer will make $540.00 while Kathy is in Africa.  If they split their earnings equally, then both will end up with $270.00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Use models to connect mathematical operations to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unit conversions hourly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15% to a decimal then add 1 to account for 100% they are already m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x (1/100%) = 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.15 = 1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6 dollars/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15 x $6 = $6.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re are 2 of them and they work for 3 hours, multiply the hourly pay by 2 then by 3 to get the kids combined p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6.90/hr/person x 2 persons x 3 hrs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41.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bined for three hours of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percentages percent raise combined p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09480" y="434340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dventurers traveled 12,223 km out of a total 40,091 km.  Set up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stance traveled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2,223 k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=  0.305 x 100%   =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istance              40,091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K.T., Travis, and Summer traveled 30.5% of the total circumference of the earth on their trip from Houston, TX to Kinshasa, Con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Represent ratios and 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circumference Earth percent circumference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circumference of the wheel then multiply it by the number of tu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 x 2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3.14 x 2 x 30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191.6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C x (#of tur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91.6 cm/turn x 7 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,341.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in 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341.5 cm x (1 m/ 100 cm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.4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o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415 m x (100 cm/ 1 m) x (1 in/ 2.54cm) x (1 ft/12 in) =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.0 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Describe the relationship between radius, diameter, and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) Measure/solve problems of length, area, time, temperature, capacity, and 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D), Convert measures within the same measur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Estimate measurements and solve problems involving length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adius meters feet circumference con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meant to be a lead-in to the activity that goes with this mini-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BF0-720E-4B4A-8B80-CD8DA63B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C03-9566-4926-8D19-93504F41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892-B194-41C6-9A52-1DB6948D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42B-6FE0-4888-A7C3-8961ED92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E8F-E264-4C6E-ACC5-302C77D7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8D1-F6C1-446D-9D8B-CCD9A03A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19D-6FDA-4858-990E-8BBB5B78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DD0-4D29-4F86-8394-B8BD0D89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FDA-071C-41AE-B3AD-D598907C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D28-E344-47F6-878E-A7A72877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39C-A17F-47EC-97AE-C99420E9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0740-56BF-4C62-BAC0-953DC04D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13E9-089F-4822-B115-AA1AFCF65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5120" y="1042920"/>
            <a:ext cx="5486400" cy="176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35124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rates using unit con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ercent increase and making percents from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knowledge of circumference to sol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er J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81421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unt Kathy hired Travis and Summer to clean the monkey cages while sh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as in Africa.  It takes them 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nutes each day to finish thei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ork.  Aunt Kathy is pay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ch of them at an hourly 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$6.00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much money will Travis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mmer make together this summ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Aunt Kathy is in Africa for 90 day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lculate_01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55" name="MonkBan" descr=""/>
          <p:cNvPicPr/>
          <p:nvPr/>
        </p:nvPicPr>
        <p:blipFill>
          <a:blip r:embed="rId3"/>
          <a:stretch/>
        </p:blipFill>
        <p:spPr>
          <a:xfrm>
            <a:off x="6094440" y="1868400"/>
            <a:ext cx="2576520" cy="3310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61840" y="6195960"/>
            <a:ext cx="64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help with unit conver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er J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647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r. Allen offered Summer and Travis a 15% raise from their 6 dollar per hour pay to clean horse stalls, what would be their total combined pay if they spent three hours cleaning sta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c &amp; gregor barn 3-29-01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727520" y="2460600"/>
            <a:ext cx="3809880" cy="25290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pic>
        <p:nvPicPr>
          <p:cNvPr id="61" name="Solve_01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6120" y="620244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out more about percent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6800" y="1319040"/>
            <a:ext cx="786132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ortest distance between Houston, TX and Kinshasa, DRC is 12,223 kilometers (7,334 mi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the total circumference of the Earth is 40,091 km. (24,902 miles), what percent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ircumference of the Ear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K.T., Travis, and Summ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r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464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veling Across the Gl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olve_01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67" name="globe" descr=""/>
          <p:cNvPicPr/>
          <p:nvPr/>
        </p:nvPicPr>
        <p:blipFill>
          <a:blip r:embed="rId3"/>
          <a:stretch/>
        </p:blipFill>
        <p:spPr>
          <a:xfrm>
            <a:off x="5986440" y="3962520"/>
            <a:ext cx="2674800" cy="2674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5670720"/>
            <a:ext cx="491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out more about circumferenc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percent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1080" y="34560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Both Ways Before Cross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390680"/>
            <a:ext cx="43736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83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en the kids arrived in Kinshasa, the Doctors Without Borders office was just across the street.  If it took Summer exactly 7 full turns of her 30.5 cm radius wheelchair wheel to reach the office of Doctors Without Borders, how far were the kids from the office when they arrived in Kinshasa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Aft>
                <a:spcPts val="83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press your answer in meters and then convert to fee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cz70r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232240" y="1781280"/>
            <a:ext cx="2870280" cy="4206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pic>
        <p:nvPicPr>
          <p:cNvPr id="73" name="Solve_01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00160" y="630720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out more about circum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er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3200" y="174600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tory, Travis and Summer are given a job by Aunt Cathy, to feed and water her monkeys while she i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one of the monkeys was sick, they instead got a job cleaning the store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kind of summer job would you want to have?  How much money do you think you would ma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14640" y="2995560"/>
            <a:ext cx="1351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6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8:24:36Z</dcterms:created>
  <dc:creator>Jeremiah McNichols</dc:creator>
  <dc:description/>
  <dc:language>en-US</dc:language>
  <cp:lastModifiedBy>Jeremiah McNichols</cp:lastModifiedBy>
  <dcterms:modified xsi:type="dcterms:W3CDTF">2008-09-10T13:49:51Z</dcterms:modified>
  <cp:revision>2</cp:revision>
  <dc:subject/>
  <dc:title>Slide 1</dc:title>
</cp:coreProperties>
</file>