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ED2F-A8BA-43B8-A57F-ED09EBFC5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2D77-1690-49F6-B474-53263EF6A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0495-FE33-4771-98ED-309B582B3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DDAC-A747-4059-A588-364C3A0B9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91EE-A84F-438F-AC20-343331874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3424-1880-4814-946F-ABF5AB82E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EE18-576E-4A3E-A0D8-E10D02CA8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453B-4104-4171-9B06-6277C67A8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FF5E-F96F-4EBD-B749-6E7542561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FDA0-2733-4B6F-916C-1670EA0E2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637B-C46F-4119-A214-704053254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03ED-E8EA-41ED-9A32-92C239675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1304-B38D-4E36-98FA-95A55BFD87B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Fixed%20Rectangle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5835-ED80-4270-BE18-E2A3882A95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JBox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B852-CF66-4A97-B74F-08C0327834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70CB-C5F1-4CB9-AD1E-0631278949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374E-9ABF-4643-92A9-4E0CB45BAD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A646-0592-408D-BFF1-9512FFFB77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8D1C-6E1A-4D77-A418-6CBCDAEDF2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1AA6-293F-447C-8B50-535F6044D9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8960-FF03-4A56-B2A1-06F42E309FA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27Z</dcterms:modified>
  <cp:revision>238</cp:revision>
  <dc:subject/>
  <dc:title>VTPP 423 - PHYSIOLOGY</dc:title>
</cp:coreProperties>
</file>