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2F9-DF58-442F-999D-8B9127A0B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at continent is the Democratic Republic of the Congo located?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north of the Democratic Republic of the Congo?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west of the Democratic Republic of the Congo? 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ontinent democratic republic Congo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to the Democratic Republic of the Congo from your home, in which direction would you travel? Southeast from a location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, F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travel democratic republic congo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cean is to the west of the Democratic Republic of the Congo? 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ntries are to the east of the Democratic Republic of the Congo?  Burundi, Rwanda, Tanzania, Uganda,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lake located to the east of the Democratic Republic of the Con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Albert, Lake Edward, Lac Kivu, Lake Tanganyika, Lake Mweru, Lake Victo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ity is the capital of the Democratic Republic of the Congo? 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ity is located in what direction from Bumba?  Kinshasa is southwe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of Isiro is located in what direction from Bumba? Isiro is ea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directly north of Bumba, what country would you reach? Central Afric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Bumba capital Isiro relative location geography world geography democratic republic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talking with a friend.  She asks, “Where is the Democratic Republic of the Congo?”  How would you respo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will vary. Students can give an absolute location or a relative location, i.e., 5 degrees S.L., 25 degrees E.L. or northeast of Ang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exas to the Democratic Republic of the Congo, in which direction would you travel? 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he Democratic Republic of the Congo to Paris, France, in which direction would you travel? 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s closest to the Democratic Republic of the Congo?  ___Germany    ___the USA    __X_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 relative location geograph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ge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democratic republic Co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704-7A2D-4862-BCB2-152B329E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BFF-279F-465E-B380-754F8D4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1C6-A2F0-415E-85CC-B4232215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EDA-E867-40B4-B901-08FD1058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E6A-C439-4F7B-9606-B245E35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9CD-6AE4-4C4B-9DC2-C1B29FBE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032-36B6-4864-A22F-F018080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A40-A636-4B02-ACB0-9CA5AA18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B14-5D3C-4353-8091-339ACC58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1FA-1AE0-4DD6-B3C3-8502E6A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E56-825C-46F3-A026-0BE075B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5A5-0CF4-4074-944C-3DFF431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110D-45ED-4FC1-BFF8-76B4C6F9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66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6880" y="192996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ble to follow directions given in        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the Democratic Republic of the Congo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5045040"/>
            <a:ext cx="862164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mocratic Republic of the Congo is highlighted in yellow on the map abo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what continent is the Democratic Republic of the Congo locat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north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west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440" y="5214960"/>
            <a:ext cx="82882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you were to travel to the Democratic Republic of the Congo from your home, in which direction would you travel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mocratic Republic of the Congo is shad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5460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ocean is to the we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untries are to the ea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 lake located to the east of the Democratic Republic of the Cong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goDem" descr=""/>
          <p:cNvPicPr/>
          <p:nvPr/>
        </p:nvPicPr>
        <p:blipFill>
          <a:blip r:embed="rId2"/>
          <a:stretch/>
        </p:blipFill>
        <p:spPr>
          <a:xfrm>
            <a:off x="1433520" y="1266840"/>
            <a:ext cx="628632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4610160"/>
            <a:ext cx="876312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ba is highlighted on th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ity is the capital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ity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ty of Isiro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ere to travel directly north of Bumba, what country would you re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304920"/>
          <a:ext cx="647712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920"/>
                    <a:ext cx="64771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676160"/>
            <a:ext cx="8359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talking with a friend.  She asks, “Where is the Democratic Republic of the Congo?”  How would you resp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exas to the Democratic Republic of the Congo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he Democratic Republic of the Congo to Paris, France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closest to the Democratic Republic of the Congo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1981080"/>
            <a:ext cx="8570880" cy="4914000"/>
            <a:chOff x="380880" y="1981080"/>
            <a:chExt cx="8570880" cy="4914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2960" y="2166840"/>
              <a:ext cx="2728800" cy="47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2:11Z</dcterms:created>
  <dc:creator>Jeremiah McNichols</dc:creator>
  <dc:description/>
  <dc:language>en-US</dc:language>
  <cp:lastModifiedBy>Jeremiah McNichols</cp:lastModifiedBy>
  <dcterms:modified xsi:type="dcterms:W3CDTF">2008-09-11T16:07:23Z</dcterms:modified>
  <cp:revision>3</cp:revision>
  <dc:subject/>
  <dc:title>Slide 1</dc:title>
</cp:coreProperties>
</file>