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F794E-DE08-434E-A422-BCE5681C4F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FCF7-8F22-4B84-B7BF-0B2CAC0F3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B987-8503-4E72-91DA-C0FFEDF42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EEE7-1B05-47B1-B215-97C1FD378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71C3-3EFA-41B4-95F6-11869100C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5606-94D3-4F0D-AAFC-91D67A094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4CFD-4E8D-4745-BF74-BF67EEAAC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B485-A6C1-4D23-98B6-78BC1DA66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4F9D-B180-4C4B-BFD3-678CCF9F7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AE40-8E18-4FCC-9A65-95F9E597F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C3C6-3B88-4C25-BAF1-C47536FB0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9C04-6E70-4EFB-81CF-025B13554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8346-460D-493B-B570-9BB2C961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1CB15-BDD0-4BAE-BC16-F4843E9D2E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Vince Hardy</cp:lastModifiedBy>
  <cp:lastPrinted>2002-01-04T15:57:18Z</cp:lastPrinted>
  <dcterms:modified xsi:type="dcterms:W3CDTF">2007-01-12T21:47:28Z</dcterms:modified>
  <cp:revision>29</cp:revision>
  <dc:subject/>
  <dc:title>Sensory Detail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803000000000001023620</vt:lpwstr>
  </property>
</Properties>
</file>