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6906A-05DF-455A-8AA9-F515948E7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D55B-0897-4372-8999-024258E7D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3B81-38F9-456F-86F6-42184F320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980E-8B6F-4260-B772-214DEE8C7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8163-93F6-4C09-BCBB-B74B5EBA3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0350-819E-4B21-8831-274A58CB3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DC86-67AF-49B7-9C5D-2D67A6627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3B8A-D1F7-4BF8-B456-898306FF8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DBC6-5594-4D90-B49F-86636402A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8D37-5AC4-43B8-9018-8ACCCE9F7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8738-A8CC-40BC-AC01-BC49FAE0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8FC6-6709-40AB-8483-0AA77203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823B-08F0-418B-945B-2A3C9369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D8A54-E94C-4620-BC4D-B47D733787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r example, over the past 40 years, New Jersey has had an average temperature of 32 º Fahrenheit and an average precipitation of 2.8 inches during the month of February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Weather is the state of the atmosphere at a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given place and time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or example, the temperature right now in New Jersey is 56º F and it is snowing.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09Z</dcterms:modified>
  <cp:revision>19</cp:revision>
  <dc:subject/>
  <dc:title>What’s the difference between weather and climate?</dc:title>
</cp:coreProperties>
</file>