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E637-6F76-4691-BEA7-91E8B20B4EE0}"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23A34-834C-4AEC-82E2-E2E73BEF7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F7CB4-1E28-45F0-8719-79E5702EC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D1259-DFEC-4C42-8028-14D124C78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335D-AEEA-4FB3-B30E-A944798CD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58ADD-004C-4008-B09E-6E7F976FA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871DE-F788-4CEF-B7CC-464453C0A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DE063-F900-4B61-A4FE-D423388AC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C460-3FA2-45D5-A07E-EAE705EA3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0DEA6-E5A4-436F-B02B-A74F79656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7463-B5E9-47EB-B242-DED9C09E5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955C-79A9-4E75-ADE9-BB906FEB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F222-569D-4A10-80DC-3C1DAF53E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7552-32C8-488B-BEF1-A162CAD47E3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Texas A&amp;M Veterinary Medicine</cp:lastModifiedBy>
  <dcterms:modified xsi:type="dcterms:W3CDTF">2005-05-26T15:48:09Z</dcterms:modified>
  <cp:revision>285</cp:revision>
  <dc:subject/>
  <dc:title>Combating Infections</dc:title>
</cp:coreProperties>
</file>