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F870-75DD-4E5A-9853-5F4D9E684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95B-BB93-45C8-A9E6-7192D6DC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0D70-A80B-4E16-8478-0CA9060F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4BA-82CE-4A84-BFF1-610B0ED2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C4B5-5B0B-45F7-B02A-DB05FB07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8B72-304F-4526-9E4C-207695A0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3EF-6E8F-4EF8-9ECB-A07C161B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67DA-0EFD-4084-8C1A-88B7A0A4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838-B32D-4B55-86C9-4768E567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69A-057B-45AA-8F73-547F94F3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7BEE-1C58-4402-BDEE-BE45BB98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FC3-59E2-4B50-9A80-BA3D85AD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CC4-CFC1-4116-845A-2630BD33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83A1-0DE7-44C0-A5F2-AE212D9EAEA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8568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82800" y="410544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9560" y="45576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85680" y="349560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82800" y="40273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610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7398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3440" y="388476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8132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96840" y="39178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3600" y="436104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64652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6840" y="360684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4116240"/>
            <a:ext cx="311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684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93600" y="409428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9560" y="4168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85680" y="3062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2800" y="362736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85680" y="357192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82800" y="411480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9560" y="504684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85680" y="35956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982800" y="4149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9560" y="5635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85680" y="4529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82800" y="509436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956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85680" y="35733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82800" y="4095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7-04-19T16:33:56Z</dcterms:modified>
  <cp:revision>66</cp:revision>
  <dc:subject/>
  <dc:title>Vocab Challenge</dc:title>
</cp:coreProperties>
</file>