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BB8F-93AB-42CC-BFC5-9B268949F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73E7-59F6-485F-B563-646FFB14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659D-99D2-4C7D-A9E9-ECC818D9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F3AC-6E26-4579-88ED-2E0F39C1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362-C781-4494-92F0-1AF42BEF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4FC-03BE-44B5-938D-5C82E7D5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506-9BBE-41B9-AD6A-05FA510D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DB3B-E72C-4F60-A94E-371437EF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F99-50E1-4795-996F-73041AAD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FEC4-3DAE-4951-AECF-4BB92CCB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787-0297-40CD-AEB2-B029AF81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837D-123D-45E0-B46A-E4410A36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8D2-2EF2-44CF-B149-40188640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C20D-65A2-45B4-A83E-0CC80A814CF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2362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49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366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33440" y="447372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760" y="1297080"/>
            <a:ext cx="8610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52560" y="44956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52560" y="4952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52560" y="54100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38160" y="35164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38160" y="40496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38160" y="4583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2286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38160" y="36003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38160" y="41338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8160" y="46674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3480" y="36100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480" y="4143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33480" y="46767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3480" y="31240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3480" y="3657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33480" y="4191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33480" y="3586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33480" y="4119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3480" y="46530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36600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38160" y="35956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8160" y="4119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8160" y="50529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33480" y="45435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2840" y="50767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3480" y="56102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33480" y="3586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33480" y="4119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33480" y="46530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38160" y="3576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38160" y="4110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38160" y="46432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5-05-18T14:13:38Z</dcterms:modified>
  <cp:revision>59</cp:revision>
  <dc:subject/>
  <dc:title>Vocab Challenge</dc:title>
</cp:coreProperties>
</file>