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F0E0F-A5E8-4651-8552-D4E3187FE3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952560" y="0"/>
            <a:ext cx="5010120" cy="375912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0" y="3860640"/>
            <a:ext cx="6858000" cy="52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85392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0BC1-B5C2-4A68-BAB0-270C10674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C311-778C-404A-82E7-BDA85B8CE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70E2-87A7-4EBF-8CE6-4B8C4E8D9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303F-30D0-4CD8-B1C4-676F4F373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BE3E-FEBC-483D-98C8-111B12018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70F5-C6A1-44B1-B2A0-810DE0EB0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46D2-A1C1-43AE-B9E4-0E770E52E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E808-814A-44C7-AC4C-8CDE11F1B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73B0-4D7E-4412-BB19-75254FEB4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839D-7264-4A33-BFF7-BAE6E741E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A8F3-5F58-449F-AD2F-09C905589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34E2-D6DB-46DC-A7EE-DA930364B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F1C50-646A-46A3-83AE-7A3B9145AF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30492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7240" y="1904760"/>
            <a:ext cx="777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Times New Roman"/>
              </a:rPr>
              <a:t>Climate is the average condition of the atmosphere (like temperature and precipitation) over a long period of time.  It is the average of weather conditions in a place.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26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For example, over the past 40 years, New Jersey has had an average temperature of 32 º Fahrenheit and an average precipitation of 2.8 inches during the month of February.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Weather is the state of the atmosphere at a </a:t>
            </a:r>
            <a:r>
              <a:rPr b="0" lang="en-US" sz="2900" spc="-1" strike="noStrike" u="sng">
                <a:solidFill>
                  <a:srgbClr val="ffffff"/>
                </a:solidFill>
                <a:uFillTx/>
                <a:latin typeface="Times New Roman"/>
              </a:rPr>
              <a:t>given place and time</a:t>
            </a: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29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For example, the temperature right now in New Jersey is 56º F and it is snowing.  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Just as weather differs from day to day, climate differs from place to place.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4:23:11Z</dcterms:created>
  <dc:creator>Charles C. Farnsworth, Ph.D. - Instructional Design</dc:creator>
  <dc:description/>
  <dc:language>en-US</dc:language>
  <cp:lastModifiedBy>Vince Hardy</cp:lastModifiedBy>
  <dcterms:modified xsi:type="dcterms:W3CDTF">2007-01-12T21:51:09Z</dcterms:modified>
  <cp:revision>19</cp:revision>
  <dc:subject/>
  <dc:title>What’s the difference between weather and climate?</dc:title>
</cp:coreProperties>
</file>