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3429-4BE5-4136-84A3-655CCEB7D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lide numbers of this presentation corresponding to the different subject area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: 4, 62-71 and CO 1.0, 59.0-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: 47-61 and CO 44.0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: 24-46 and CO 21.0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: 5-23 and CO 2.0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Note:  These slide numbers corresponding to the different subject areas are also found on the last slide of this presentation.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Th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udent vers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a version of thes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lides minus the teacher’s “NOTE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What city is located at 0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, 25° E.?  Kisang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What city is located at 13° S., 27° E.?  Lubumba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city is located at 6.5° S., 22° E.? Kanan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city is located at 3° S., 28° E.?  Bukav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ddress latitude longitude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Kisangani Lubumbashi Kananga Bakavu latitude longitude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lobal address of a place using latitude and longitude is known as the absolut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addresses north of the equator are referred to as North Lat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addresses west of the Prime Meridian are referred to as West Long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latitude and longitude are measured in deg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lobal address Prime Meridian latitude longitude equator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frica in the Northern or Southern Hemisphere?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frica in the Eastern or Western Hemisphere?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teacher: A latitude and longitude tutorial is contained in the Append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bsolute location global address latitude longitude hemisphere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frica map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northern part of Africa?  About 37 degrees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southern part of Africa?  About 35 degrees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western part of Africa?   About 17 degrees 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the most eastern part of Africa?   About 51 degrees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latitude longitude geography world geography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democratic republic Congo global address absolut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Kinshasa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atitude for Kinshasa?  About 4 degrees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ongitude for Kinshasa?  About 15 degrees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location for Kinshasa, DRC is  about 4 degrees S., 15 degrees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latitude longitude location Kinshasa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further North?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closer to the Equator? Kinsh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located in the Eastern Hemisphere? Kinsh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city is located in the Western Hemisphere?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bsolute location equator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21C-8C15-4279-82F3-1E2B5637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C24-0BAC-47F1-8B38-0FC07B17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6BD-0A17-4DD3-9611-33FE0663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8C6-3FE8-49A1-9608-D6D3D836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B5B-B731-4FBD-8CBD-74A63309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AD4-AFB2-4345-8259-568C6790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81D-AC7F-4DF8-ACE0-14C3E17E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F88-1E28-43AF-83BF-2B5E5C68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A6C-6C0D-49B0-9CA4-1F18D8C5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F87-8CA0-4156-8EE0-102C6873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213-DF08-432A-986C-2EC02D3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1DD-220B-4F34-B824-AEE1D3A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D9CB-A418-45E3-B379-2C12581CC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O%20SSQ.ppt" TargetMode="External"/><Relationship Id="rId3" Type="http://schemas.openxmlformats.org/officeDocument/2006/relationships/hyperlink" Target="file:///Appendices/CO%20SSQ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1042920"/>
            <a:ext cx="5486400" cy="176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35124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42840" y="45525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ity is located at 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25° E? 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13° S, 27° E? 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6.5° S, 22° E? 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3° S, 28° E? 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ngoDem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47760" y="4538520"/>
            <a:ext cx="65102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1869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sangani is located at 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25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bumbashi is located at 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27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nanga is located at 6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22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86920" indent="-154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kavu is located at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28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673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6880" y="177480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Challenge Quiz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1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absolute loc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how to read longitude and latitude coordinates on a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Afric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of the cent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degrees North Latitude and 21 degrees East 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° N, 21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frica in the Northern or Southern Hemisp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frica in the Eastern or Western Hemispher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880" y="5226120"/>
            <a:ext cx="7981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nd click on the center of Afric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21°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058760" y="511200"/>
            <a:ext cx="7024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ldmap1 copy" descr=""/>
          <p:cNvPicPr/>
          <p:nvPr/>
        </p:nvPicPr>
        <p:blipFill>
          <a:blip r:embed="rId3"/>
          <a:stretch/>
        </p:blipFill>
        <p:spPr>
          <a:xfrm>
            <a:off x="1143000" y="603360"/>
            <a:ext cx="6859440" cy="386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57720" y="1720800"/>
            <a:ext cx="124920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54160" y="590400"/>
            <a:ext cx="683568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843440"/>
            <a:ext cx="77724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Af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latitude for the most northern part of Africa?   __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 or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atitude for the most southern part of Africa?   __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or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the most western part of Africa?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 W or 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longitude for the most eastern part of Africa?  _______ ° W or 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is Kinshasa, Democratic Republic of the Congo (DRC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lobal address or absolute location of Kinshasa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 and 15.4°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52574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nd click on Kinshasa, D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, 15.4°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goDem" descr=""/>
          <p:cNvPicPr/>
          <p:nvPr/>
        </p:nvPicPr>
        <p:blipFill>
          <a:blip r:embed="rId2"/>
          <a:stretch/>
        </p:blipFill>
        <p:spPr>
          <a:xfrm>
            <a:off x="1461960" y="642960"/>
            <a:ext cx="6286680" cy="40352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363680" y="550800"/>
            <a:ext cx="647388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2880" y="2671920"/>
            <a:ext cx="790560" cy="163440"/>
          </a:xfrm>
          <a:custGeom>
            <a:avLst/>
            <a:gdLst/>
            <a:ahLst/>
            <a:rect l="l" t="t" r="r" b="b"/>
            <a:pathLst>
              <a:path w="498" h="103">
                <a:moveTo>
                  <a:pt x="40" y="36"/>
                </a:moveTo>
                <a:cubicBezTo>
                  <a:pt x="58" y="39"/>
                  <a:pt x="77" y="49"/>
                  <a:pt x="95" y="45"/>
                </a:cubicBezTo>
                <a:cubicBezTo>
                  <a:pt x="169" y="27"/>
                  <a:pt x="59" y="0"/>
                  <a:pt x="140" y="27"/>
                </a:cubicBezTo>
                <a:cubicBezTo>
                  <a:pt x="239" y="11"/>
                  <a:pt x="367" y="32"/>
                  <a:pt x="460" y="36"/>
                </a:cubicBezTo>
                <a:cubicBezTo>
                  <a:pt x="469" y="39"/>
                  <a:pt x="484" y="36"/>
                  <a:pt x="488" y="45"/>
                </a:cubicBezTo>
                <a:cubicBezTo>
                  <a:pt x="498" y="70"/>
                  <a:pt x="473" y="87"/>
                  <a:pt x="460" y="100"/>
                </a:cubicBezTo>
                <a:cubicBezTo>
                  <a:pt x="388" y="76"/>
                  <a:pt x="472" y="100"/>
                  <a:pt x="314" y="100"/>
                </a:cubicBezTo>
                <a:cubicBezTo>
                  <a:pt x="268" y="100"/>
                  <a:pt x="223" y="94"/>
                  <a:pt x="177" y="91"/>
                </a:cubicBezTo>
                <a:cubicBezTo>
                  <a:pt x="142" y="103"/>
                  <a:pt x="121" y="88"/>
                  <a:pt x="86" y="100"/>
                </a:cubicBezTo>
                <a:cubicBezTo>
                  <a:pt x="68" y="97"/>
                  <a:pt x="47" y="100"/>
                  <a:pt x="31" y="91"/>
                </a:cubicBezTo>
                <a:cubicBezTo>
                  <a:pt x="0" y="73"/>
                  <a:pt x="32" y="27"/>
                  <a:pt x="58" y="27"/>
                </a:cubicBezTo>
                <a:cubicBezTo>
                  <a:pt x="65" y="27"/>
                  <a:pt x="46" y="33"/>
                  <a:pt x="40" y="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863640" y="5121360"/>
            <a:ext cx="7416720" cy="13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Kinshasa, DRC on the m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latitude for Kinshasa? 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orth or Sou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Kinshasa? _________° West or E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for Kinshasa, DRC is ___________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4800" y="33480"/>
            <a:ext cx="7848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14360" y="4395960"/>
            <a:ext cx="6561360" cy="22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0000" indent="0" algn="ctr">
              <a:lnSpc>
                <a:spcPct val="9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solute location for Kinshasa, DRC is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, 15°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of Houston, Texas is 30° N, 95° 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further Nor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closer to the Equa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located in the Eastern Hemisphe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ity is located in the Western Hemispher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51000" y="519120"/>
            <a:ext cx="6637320" cy="374004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31:20Z</dcterms:created>
  <dc:creator>Jeremiah McNichols</dc:creator>
  <dc:description/>
  <dc:language>en-US</dc:language>
  <cp:lastModifiedBy>Jeremiah McNichols</cp:lastModifiedBy>
  <dcterms:modified xsi:type="dcterms:W3CDTF">2008-09-11T15:58:03Z</dcterms:modified>
  <cp:revision>3</cp:revision>
  <dc:subject/>
  <dc:title>Slide 1</dc:title>
</cp:coreProperties>
</file>