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EC79-4B6D-4288-A207-8EF3143E8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r. All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Childr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Travis’s (although Travis’ is considered acceptable by som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ed portion of each underlined section is provided belo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 and assis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joy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llowing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G, H, 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fining selected pieces for general to specific aud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Proofreading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) Selecting and using reference materials and resources for writing, revising, and editing final draf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6.17 (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in complete sent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 is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ile 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tried to be stro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en K.T. and Travis lef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he felt very sca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revious note s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thought Summer should stay in Texas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insisted on going to Africa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ou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After a long day in the African jungl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was ready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K.T. wanted to do more exploring. (compound 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punched in the coordinates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en K.T. and Travis return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he sick mother’s baby cri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ile she was waiting for the doctor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Because Dr. Kathy Allen never saw the children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he never knew how the missing box arrived in the jungle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5548-F301-48C4-A6B1-343A4FB4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3527-CE49-4A73-9BC3-56062FD0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48F4-B273-424A-ADA0-73BED70E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2AC3-D6D3-4AA4-B370-39091511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17D5-6FDA-468E-8405-83B3B9F7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1CB9-D00E-4E23-8F7E-418812E7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B0A4-73ED-4BB0-B87B-4D281132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6E5B-B9D4-4187-9FAF-5B34D8A4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1387-2983-44F9-83F2-3A26DC3A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EC5A-BDEF-405C-9097-A935DFD6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CC47-B884-4C4C-9750-F8C911EB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0229-2322-421C-A0CE-6A0D247D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DB4C-DA94-417D-BF7C-81365EF6E1C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edical%20Clinik.pdf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K.T., Travis, and Summer arrived in Africa, they found a sign written in English posted on the clinic doo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next slide, proofread the underlined portions of text from the sign and correct any err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618080" cy="4560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876920"/>
            <a:ext cx="739116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739116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What Belongs to Whom?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4876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had to control ______ fear as she took       in all the sights and sounds of a new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447920"/>
            <a:ext cx="762012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ing possession is an important part of language us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the correct word to complete each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2004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box belongs to Dr. Allen. The box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s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4267080"/>
            <a:ext cx="1905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191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191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4191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59436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ummer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5812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1958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ossessives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1911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2133720"/>
            <a:ext cx="739152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0574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One of the ________ biggest concerns was   getting cau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31240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2004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124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4266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t was ________ idea to go to the Congo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52578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18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5146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4956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4520" y="365040"/>
            <a:ext cx="792468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864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Medical Clinik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360" y="138384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r job is to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e, and assist you in any way we can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To make our facilities more efficient and to make your visi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ore enjoyabel, w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have provided some helpful instructions.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ease help us by doing the follow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38120" y="3441600"/>
            <a:ext cx="6629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orm to lin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irst-time patience stand to th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eft to request a registration c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ll others stand to the right?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Hav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you’re identificati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card ready to show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cto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175440"/>
            <a:ext cx="78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to print a hard copy of this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Add Some Flavor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9" name="" descr="Africa"/>
          <p:cNvPicPr/>
          <p:nvPr/>
        </p:nvPicPr>
        <p:blipFill>
          <a:blip r:embed="rId2"/>
          <a:stretch/>
        </p:blipFill>
        <p:spPr>
          <a:xfrm>
            <a:off x="5410080" y="1676520"/>
            <a:ext cx="2971800" cy="4114800"/>
          </a:xfrm>
          <a:prstGeom prst="rect">
            <a:avLst/>
          </a:prstGeom>
          <a:ln w="88920">
            <a:solidFill>
              <a:srgbClr val="3366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566640" y="1623960"/>
            <a:ext cx="4505400" cy="44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riters use compound and complex sentences to add spice to their wri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imes they put both together and use compound complex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efinitions and examples of these types of sentences on the following s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ompound Sentenc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– a sentence with two or more independent claus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K.T. and Travis went into the jungle, and Summer stayed in the city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lex sentence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one independent clause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While Summer stayed in the city, K.T. and Travis went into the jungl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3657600"/>
            <a:ext cx="7543800" cy="2209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ound complex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two independent clauses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114800"/>
            <a:ext cx="75438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Summer tried to be strong, but when K.T. and Travis left, she felt very scared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Review the Definitions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Check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your understanding of complex, compound, and compound complex sentenc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Underline</a:t>
            </a:r>
            <a:r>
              <a:rPr b="1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the independent clauses and circle the dependent clauses in all of the examples on the previous slid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5029200"/>
            <a:ext cx="739116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3581280"/>
            <a:ext cx="739116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Practice Unlocking Language 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720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abel the following sentences as compound, complex, or compound complex.  For more practice,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underlin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independent clauses an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ircl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dependent claus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723924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ravis thought Summer should stay in Texas, but Summer insisted on going to Af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7339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105520"/>
            <a:ext cx="74516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After a long day in the African jungle, Travis was ready to go home, but K.T. wanted to do more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3341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48769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276720"/>
            <a:ext cx="7391520" cy="12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676520"/>
            <a:ext cx="7391520" cy="12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ractic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752480"/>
            <a:ext cx="723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punched in the coordinates to go home when K.T. and Travis retu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429000"/>
            <a:ext cx="7469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sick mother’s baby cried while she was waiting for the do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919760"/>
            <a:ext cx="71629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ecause Dr. Kathy Allen never saw the children, she never knew how the missing box arrived in the ju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9051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5053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1814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19:37:55Z</dcterms:created>
  <dc:creator>Gina Balducci</dc:creator>
  <dc:description/>
  <dc:language>en-US</dc:language>
  <cp:lastModifiedBy>Jeremiah McNichols</cp:lastModifiedBy>
  <dcterms:modified xsi:type="dcterms:W3CDTF">2005-05-26T13:15:35Z</dcterms:modified>
  <cp:revision>32</cp:revision>
  <dc:subject/>
  <dc:title>PowerPoint Presentation</dc:title>
</cp:coreProperties>
</file>