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8631-2A19-43DC-9745-74B07174D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1F8A-07CE-466A-98D4-6B9E9E95D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E336-9E4C-4E3C-988C-3C3733CA8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AEFA-0FE0-4DFF-803B-C96ACC590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2388-AC2C-4AAC-80F2-FE368AC0E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F71C-7692-4E24-8C77-7E8226D64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137B-B612-4DE3-85A4-223A0E1A1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7790-DD92-4840-BE6C-2ECF8D22C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AE68-BC4A-47EA-9793-102F687DA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A6C4-1ED8-460E-AB37-ADF7700E3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AFDF-0F9B-4EA9-849A-41D7DDE5C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8892-E4AF-4499-AF73-C84B32220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157EC-E271-4415-82F6-EFD00AEB4C14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Adjective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djectives modify nouns or pronou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Using adjectives gives an accurate description of the object at hand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ne?  What kind?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ow many?  How much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21:31:57Z</dcterms:created>
  <dc:creator>ITMD</dc:creator>
  <dc:description/>
  <dc:language>en-US</dc:language>
  <cp:lastModifiedBy>vhardy</cp:lastModifiedBy>
  <dcterms:modified xsi:type="dcterms:W3CDTF">2002-12-19T23:01:26Z</dcterms:modified>
  <cp:revision>61</cp:revision>
  <dc:subject/>
  <dc:title>Locating Places</dc:title>
</cp:coreProperties>
</file>