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6F25A-8D5F-48F0-AB7B-67EA1350D1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DD29A8-D34D-4088-9BC6-3575C21CA6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E84EE5-99DE-4FC7-9BA4-88A5011EC9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E5472B-005C-460E-8DDA-C552A55DDF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0D63B9-B93A-4553-8E09-5400886D53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0C9607-AE74-4334-914E-5A3CFC8233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92437F-A74D-480D-A172-7CFFA1EBBB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C516EB-A854-4D5C-A2FF-76488450EB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522743-E3CB-4318-AD93-67B91BAD08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8B8642-DC5D-4267-970D-EC10842284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1712FB-82C5-4E60-A873-9F58466A87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C3B0D9-DF8F-4AC7-A2C2-4B1F3D9125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711D48-B807-426E-9519-EF22C364EA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1A0A2-839F-49BE-B888-A9161F21F637}"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3-09-11T17:16:09Z</dcterms:modified>
  <cp:revision>26</cp:revision>
  <dc:subject/>
  <dc:title>Persuasive Writing</dc:title>
</cp:coreProperties>
</file>