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7.wmf" ContentType="image/x-wmf"/>
  <Override PartName="/ppt/media/image11.jpeg" ContentType="image/jpeg"/>
  <Override PartName="/ppt/media/image5.wmf" ContentType="image/x-wmf"/>
  <Override PartName="/ppt/media/image6.png" ContentType="image/png"/>
  <Override PartName="/ppt/media/image8.wmf" ContentType="image/x-wmf"/>
  <Override PartName="/ppt/media/image9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4242-6BD7-4A38-9D11-2B8882829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uld lead in to CO Math Activity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ion is a single viral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versely, or opposit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F3E-A17D-4714-B8B6-15B36763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02D-E8DB-472F-8FAA-9F4BC54A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742-4A45-4A33-9DDC-96E2334E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B00-5953-4DF0-9312-A0524B42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7C59-4724-402C-832D-B8BD4BCC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A09C-C31A-4A0C-A5BE-7DFF04FD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243F-CB50-4E0B-9919-ACC37EC8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CF14-DA38-4028-95E3-1AE64C03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841D-5F14-43DC-833E-293D7B2C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E0A7-96FF-4743-BFA8-6C161029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AAEF-93D3-497F-9611-EE4FA841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780-C6CC-4982-B600-403EC890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F949-D885-411D-BFE3-4F2E707D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80CA-0453-418E-92D9-ECEFD1D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2AC9-C763-48F2-8447-386B157A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C999-009A-4318-A7CD-EC83BDAE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438C-023F-48B1-999F-24FF3765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EE0-4587-4E96-B69D-37C55642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63E-217E-4742-8F96-A74EF0D5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783-BAEF-473C-A4F2-3E32D3B9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E24-B8C0-406B-9C4B-0130279A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DDD-B3F2-4380-BEEE-4021FB39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B9E-94B3-4F03-AC7E-3C6BE03E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243-EFEF-4675-942B-94B39E98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230A-5472-41B8-A1D4-9CCFA589C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D6BD-3E74-493D-9965-89D17876E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33526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other Population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629400" y="5048280"/>
            <a:ext cx="20098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 will be exploring population growth models by looking at an imaginary population of wolves and rabb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tudents will start out as wolves, and six students will start out as rab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1752840" cy="15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0" t="17500" r="0" b="0"/>
          <a:stretch/>
        </p:blipFill>
        <p:spPr>
          <a:xfrm>
            <a:off x="1295280" y="4343400"/>
            <a:ext cx="1870200" cy="232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581280" y="4876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hematics and Viru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past few years, representing viruses with mathematical graphs has become very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re able to understand how a virus changes over time, and how it changes the way the body works, we can then figure out how to treat and cure the vir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difficult viruses mathematicians have been studying is the Human Immunodeficiency Virus (HIV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612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dy, HIV attacks white blood cell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er T-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control the immune system’s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rmal healthy person h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er t-cells in every cubic millimeter of their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person infected with HIV has bel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er t-cells per cubic millimeter of blood, they are considered to be sick with AIDS (Acquired Immune Deficiency Syndrom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134120" y="5029200"/>
            <a:ext cx="140652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ogresses in three s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first 10 weeks after the virus enters the body, the virus grows rapidly, and infects many helper t-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, for a period that ranges from 2 years to 20 years, the number of HIV virions (or virus particles) in the body and the number of helper t-cells in the body stabilize, although there are still fewer helper t-cells than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final phase of the HIV infection, which lasts from 1-3 years, the number of t-cells falls dramatically, and the virus grows out of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e graph on the next slide shows how the population of HIV virions relates to the population of helper t-cells in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52578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the graph, how would you say the concentration of the HIV virions relates to the concentration of helper t-c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4009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ians m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them understand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odels can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s or eq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xplain how populations grow, change, or die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7465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nything from how many HIV virions there are in a body, to how many termites there are in a house, to how many people there are on the ear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opulation model mathematicians like to look at is a model where ther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272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ians like studying this model because the number of predators and the number of prey in an environment affect each other in interesting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lots of predators, and few prey,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lots of prey, and few predators,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10080" y="5029200"/>
            <a:ext cx="28958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McNichols</cp:lastModifiedBy>
  <dcterms:modified xsi:type="dcterms:W3CDTF">2008-09-10T13:21:5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