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6C03-7737-4D97-B81C-6B882C4E4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882-F5EF-4488-84AB-9C570F4A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FC9-00A4-4242-902A-DA56D938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4CE-6E8F-413B-8922-6164B6E4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4DC-FA2F-456B-B3DD-1B82F5E0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541-4032-4304-8420-4993C9EC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CC0-2C91-4655-A261-E12E7688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525-B4B0-4738-B161-137E8B9F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EAB-8F06-4291-B1AF-933EBE3D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659-BF35-45BF-94D1-28E31A9C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1B3-4339-4565-A6E2-4FCBE7C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661-1B2F-4D17-9835-81FEF31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141-7007-4201-A4FF-FD674ACD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EC55-B2E8-4DDF-9FF1-B60B4D4BC9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itstudent</cp:lastModifiedBy>
  <dcterms:modified xsi:type="dcterms:W3CDTF">2002-08-06T19:40:55Z</dcterms:modified>
  <cp:revision>7</cp:revision>
  <dc:subject/>
  <dc:title>What’s the difference between weather and climate?</dc:title>
</cp:coreProperties>
</file>