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2FBF-20E0-493E-A164-5ED270A16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8821-2B51-4371-8A4F-79F1E0852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293B-87B7-47A2-A907-C618061A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B123-7C9B-4522-B61B-B7F23AFD5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B372-4550-4B67-8CC0-61588FC0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892F-23D6-4B1E-A5E7-94CF251F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2715-50E9-4057-A052-A7A9E5B2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8F3A-65A9-492E-9EF3-BF7F2256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9046-9F00-4D12-AF1B-F35CB3CF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B808-4304-49A6-A1FC-4CFD3FEB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8929-2C6C-48D5-BBA1-A13DBB89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0060-6089-477A-837A-66C2CE4E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0CFE-CCD8-4BFD-A055-BE1E1423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37F1-01F8-45C0-B427-88CFB3597E0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1-16T18:50:08Z</dcterms:modified>
  <cp:revision>28</cp:revision>
  <dc:subject/>
  <dc:title>Descriptive Writing</dc:title>
</cp:coreProperties>
</file>