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6586-4E98-437D-AC25-A8765519F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5F6-0616-44AC-A637-395C298E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A73-7732-482C-8C6B-A0115490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1B6-69F9-49C1-A414-E0491EE3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A7C-4328-4A62-985B-554A88F4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7A6-9F8B-473A-9D02-FF0B7CA7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396-2898-4F8C-86C9-7732B1CA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44A-9F4F-47E9-ABBA-7300B84C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CE6-9095-4830-8F07-40250C7D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96D7-DF94-4FEA-BAAD-B997F709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D64-56AB-4887-9BD3-D3296474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7AF0-2D25-48FA-A5AA-428F2BD6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A23-4D38-4B91-B360-63D488F8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54AA-1B33-4F4A-890C-C8B54DACF3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vhardy</cp:lastModifiedBy>
  <dcterms:modified xsi:type="dcterms:W3CDTF">2003-05-23T21:26:30Z</dcterms:modified>
  <cp:revision>5</cp:revision>
  <dc:subject/>
  <dc:title>Metric Multiplication Factors</dc:title>
</cp:coreProperties>
</file>