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F4F8-749A-4890-B1D4-3EA143E8D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2560C-A1C8-4F58-9AAC-3E44B0CD5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EFC0E-FFB8-4519-92E5-37BE5E7A1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19720-ED2D-4755-B5EC-FF48D0A7A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B1A84-4324-4739-9EDE-B3FBAC6FE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C1EA6-8488-4976-BAC8-2F8F60DDA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4ADFD-ADCB-4528-AC48-92D6BF646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67A61-DE53-4061-820D-67DF1C60B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F6C32-2DFC-4756-B0AC-C9B6752D2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32655-2CB0-4840-AA20-E681438AB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5F585-E14B-4E5D-BA87-C2E94610E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6853B-00F8-42E6-8E87-6C5104A6A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A6054-D9FD-4FBE-B364-6D98ED231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B3B8-4E80-4CF4-B20B-803A3A250C5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Laconia"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vhardy</cp:lastModifiedBy>
  <dcterms:modified xsi:type="dcterms:W3CDTF">2003-02-06T02:02:45Z</dcterms:modified>
  <cp:revision>22</cp:revision>
  <dc:subject/>
  <dc:title>What Do We Do To Purify Water Today?</dc:title>
</cp:coreProperties>
</file>