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E264-34B4-41F7-9232-900E0F66A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66A2-5681-42F1-ADDE-9A598F6A0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A675-706F-49CA-AE0B-E894124E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CB7E-198A-4B60-A72D-44C979020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FB78-5B07-4DD9-8FDB-E44B5211A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79A8-D3E9-46D0-9AB2-2BBCB717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F8EC-C2A1-4122-8F65-740301AC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9D74-3B04-4586-A5C7-824B5345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BB35-B7B5-4AD3-82AC-87BCA178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C570-6037-4604-A5E1-B3B1D793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EFEB-AB77-42C2-AD68-EC8972AE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5B45-BF33-4944-83E8-D25EDC48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B3C9-DB6E-409E-A036-B66D272E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15F4-8F29-465D-9FAD-B6BBC695C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764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6120" y="441972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3° S, 27° 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58104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62676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6704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5760" y="4419720"/>
            <a:ext cx="53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6.5° S, 22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53388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57960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62532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6704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5760" y="4419720"/>
            <a:ext cx="50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.  What city is located at 3° S, 28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CongoDemAll" descr=""/>
          <p:cNvPicPr/>
          <p:nvPr/>
        </p:nvPicPr>
        <p:blipFill>
          <a:blip r:embed="rId2"/>
          <a:stretch/>
        </p:blipFill>
        <p:spPr>
          <a:xfrm>
            <a:off x="1413000" y="276120"/>
            <a:ext cx="628632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53816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90920" y="58388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90920" y="62960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28880" y="4940280"/>
            <a:ext cx="81486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What is the latitude for the most north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28880" y="4940280"/>
            <a:ext cx="80625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What is the latitude for the most south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028880" y="4938840"/>
            <a:ext cx="82501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What is the longitude for the most west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8640" y="4938840"/>
            <a:ext cx="81802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What is the longitude for the most eastern part of Africa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2116080" y="4952880"/>
            <a:ext cx="4772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atitude for Kinshas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2100240" y="4952880"/>
            <a:ext cx="55339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longitude for Kinshas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.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0352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0352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1363680" y="4952880"/>
            <a:ext cx="62564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is the absolute location of Kinsha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 and 32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° S and 15.4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 and 77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3800" y="5388120"/>
            <a:ext cx="244800" cy="30456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865">
                <a:moveTo>
                  <a:pt x="0" y="0"/>
                </a:moveTo>
                <a:lnTo>
                  <a:pt x="21600" y="0"/>
                </a:lnTo>
                <a:lnTo>
                  <a:pt x="21600" y="26865"/>
                </a:lnTo>
                <a:lnTo>
                  <a:pt x="0" y="26865"/>
                </a:lnTo>
                <a:close/>
              </a:path>
              <a:path fill="lightenLess" w="21600" h="268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65">
                <a:moveTo>
                  <a:pt x="21600" y="0"/>
                </a:moveTo>
                <a:lnTo>
                  <a:pt x="21600" y="26865"/>
                </a:lnTo>
                <a:lnTo>
                  <a:pt x="20200" y="25465"/>
                </a:lnTo>
                <a:lnTo>
                  <a:pt x="20200" y="1400"/>
                </a:lnTo>
                <a:close/>
              </a:path>
              <a:path fill="darkenLess" w="21600" h="26865">
                <a:moveTo>
                  <a:pt x="21600" y="26865"/>
                </a:moveTo>
                <a:lnTo>
                  <a:pt x="0" y="26865"/>
                </a:lnTo>
                <a:lnTo>
                  <a:pt x="1400" y="25465"/>
                </a:lnTo>
                <a:lnTo>
                  <a:pt x="20200" y="25465"/>
                </a:lnTo>
                <a:close/>
              </a:path>
              <a:path fill="lighten" w="21600" h="26865">
                <a:moveTo>
                  <a:pt x="0" y="268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6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800" y="5830920"/>
            <a:ext cx="244800" cy="30492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897">
                <a:moveTo>
                  <a:pt x="0" y="0"/>
                </a:moveTo>
                <a:lnTo>
                  <a:pt x="21600" y="0"/>
                </a:lnTo>
                <a:lnTo>
                  <a:pt x="21600" y="26897"/>
                </a:lnTo>
                <a:lnTo>
                  <a:pt x="0" y="26897"/>
                </a:lnTo>
                <a:close/>
              </a:path>
              <a:path fill="lightenLess" w="21600" h="268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97">
                <a:moveTo>
                  <a:pt x="21600" y="0"/>
                </a:moveTo>
                <a:lnTo>
                  <a:pt x="21600" y="26897"/>
                </a:lnTo>
                <a:lnTo>
                  <a:pt x="20200" y="25497"/>
                </a:lnTo>
                <a:lnTo>
                  <a:pt x="20200" y="1400"/>
                </a:lnTo>
                <a:close/>
              </a:path>
              <a:path fill="darkenLess" w="21600" h="26897">
                <a:moveTo>
                  <a:pt x="21600" y="26897"/>
                </a:moveTo>
                <a:lnTo>
                  <a:pt x="0" y="26897"/>
                </a:lnTo>
                <a:lnTo>
                  <a:pt x="1400" y="25497"/>
                </a:lnTo>
                <a:lnTo>
                  <a:pt x="20200" y="25497"/>
                </a:lnTo>
                <a:close/>
              </a:path>
              <a:path fill="lighten" w="21600" h="26897">
                <a:moveTo>
                  <a:pt x="0" y="268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9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93800" y="6254640"/>
            <a:ext cx="244800" cy="30492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897">
                <a:moveTo>
                  <a:pt x="0" y="0"/>
                </a:moveTo>
                <a:lnTo>
                  <a:pt x="21600" y="0"/>
                </a:lnTo>
                <a:lnTo>
                  <a:pt x="21600" y="26897"/>
                </a:lnTo>
                <a:lnTo>
                  <a:pt x="0" y="26897"/>
                </a:lnTo>
                <a:close/>
              </a:path>
              <a:path fill="lightenLess" w="21600" h="268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97">
                <a:moveTo>
                  <a:pt x="21600" y="0"/>
                </a:moveTo>
                <a:lnTo>
                  <a:pt x="21600" y="26897"/>
                </a:lnTo>
                <a:lnTo>
                  <a:pt x="20200" y="25497"/>
                </a:lnTo>
                <a:lnTo>
                  <a:pt x="20200" y="1400"/>
                </a:lnTo>
                <a:close/>
              </a:path>
              <a:path fill="darkenLess" w="21600" h="26897">
                <a:moveTo>
                  <a:pt x="21600" y="26897"/>
                </a:moveTo>
                <a:lnTo>
                  <a:pt x="0" y="26897"/>
                </a:lnTo>
                <a:lnTo>
                  <a:pt x="1400" y="25497"/>
                </a:lnTo>
                <a:lnTo>
                  <a:pt x="20200" y="25497"/>
                </a:lnTo>
                <a:close/>
              </a:path>
              <a:path fill="lighten" w="21600" h="26897">
                <a:moveTo>
                  <a:pt x="0" y="268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9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28764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6120" y="4419720"/>
            <a:ext cx="52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What city is located at 0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, 25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9092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58104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62676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Texas A&amp;M Veterinary Medicine</cp:lastModifiedBy>
  <dcterms:modified xsi:type="dcterms:W3CDTF">2005-05-17T17:34:51Z</dcterms:modified>
  <cp:revision>481</cp:revision>
  <dc:subject/>
  <dc:title>Investigate the Mystery:</dc:title>
</cp:coreProperties>
</file>