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4308-A889-494F-91D1-38AB0CF58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C4C-10A5-4B0C-8110-4767A7E7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9EA-E449-4229-B66E-28359BD2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280-7C16-4F32-9F92-5D83CA2B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411-4C6B-4554-AB9E-F97B96E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0F6-C918-445C-A47F-813CE2A2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97F-B9F6-4E5E-9191-85BD4B96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247-58BE-4FF8-A6A1-42A69840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114-7818-4F60-88EA-93CD4FA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7C2-483B-41AA-ADD5-C6107DE0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55E-D667-44EA-ABAE-5D9D71D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0E1-E536-438D-BBBC-BA6A547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485-DB9E-4F6A-A8E4-9718B165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C3C3-C27B-4B0E-B64B-BB3CDB3510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7760" y="181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Congo Cry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Underline or highlight the information needed to answer the question correct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8702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4416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9877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5464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105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57280" y="2425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57280" y="3390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43434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57280" y="5257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832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924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4830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5029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3656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832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3908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39495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44956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0547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3708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4241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7880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58928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4130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29844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5434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089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6353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8065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7720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6864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245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8165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251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7591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3178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2196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61466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4416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025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6004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168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753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8065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3782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39369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889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54356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Texas A&amp;M Veterinary Medicine</cp:lastModifiedBy>
  <dcterms:modified xsi:type="dcterms:W3CDTF">2005-05-17T17:30:16Z</dcterms:modified>
  <cp:revision>55</cp:revision>
  <dc:subject/>
  <dc:title>Investigator Challenge Quiz</dc:title>
</cp:coreProperties>
</file>