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2560-4E8D-4B2B-89D4-172384C78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25AC-5845-4E21-9F24-D971D93E4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868B-E4CA-40B0-B3A9-6787BD5C5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D8C8-DC62-4B92-9465-FAF6D24C1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609F-9574-49CD-8361-C169A336A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A0B4-DDA2-4E52-8EF1-B0092857E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F3B7-55A7-4151-8A2A-F162AFF26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AD1C-B3D5-4DBC-90CD-4D78A1985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0D7B-F8C3-44F0-8056-1C725C6F0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F6A7-76BA-45D2-B3B1-AA4023BB2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E14B-63FB-4BD9-9651-2CA37A4CA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6B3F-035A-4F8C-BC3B-30A49B9F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775F-5A19-4C1B-A585-CABE2765DB4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Rectangle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90B5-B64B-408A-BFA6-C16CEA0915C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6:54Z</dcterms:modified>
  <cp:revision>205</cp:revision>
  <dc:subject/>
  <dc:title>VTPP 423 - PHYSIOLOGY</dc:title>
</cp:coreProperties>
</file>