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E5801-64A6-4D3F-A8BA-8897D3F6D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30BB-5F51-4F8B-A48B-3341B73EE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8851-87E0-4F40-8E6C-F26D0B3DB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0D93D-5F8E-4E1E-BCD4-57D26EE84F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E627D-B96E-42E3-B74D-B0B50CEA6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E452-784E-40CD-9325-D2A459C5C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E1B94-6C35-437D-B8F0-1858003D9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1F41-AA7F-436F-90EE-1A4D95504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83F93-ED2D-4AF5-B9E0-6EC23561F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EC95-02B4-491A-9E26-84F6FEDCE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008B-942B-42C2-9690-F95FAB119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9FE9-3F09-4B3F-9E6F-8D4EEB41E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368D-4055-4090-B93E-B224A1894EE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A798-3BEB-4079-8EC6-5AEEEBCD274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7FB86-A515-452B-A3C6-49826BDBCFF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B0DE-3512-4775-B05B-BEA5E346375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0108-77E1-4B1C-947B-4EADCAE66699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11Z</dcterms:modified>
  <cp:revision>216</cp:revision>
  <dc:subject/>
  <dc:title>VTPP 423 - PHYSIOLOGY</dc:title>
</cp:coreProperties>
</file>