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DABE1-0C96-440C-BA33-41C62AD33E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25235-6EC8-4919-BBDF-DA7389A480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3F319-F04E-473A-8359-CB61DE77BB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DF4F7-994E-4BA7-A05B-ABE53F3CCD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3725A-E621-45EA-AE8F-1E0709A898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CE9CF-8030-48AB-BE57-01AEC6E568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83D27-463F-41E6-9591-02D35FE656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C872E-0348-4B6E-A29E-D6EDCA89B6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5B7D9-E071-4DD4-8E88-CE2AD5D238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18B23-7E1E-41A6-8472-B8FF41B10C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F82ED-7528-4D95-B0E2-E206275F1F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63507-EA09-4FF6-AE15-A5F5ED2A5D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0854-8D92-42A1-8CE9-FEECE611DE6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44DBB-A340-4B2D-84FB-5D9226AAF9BC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vhardy</cp:lastModifiedBy>
  <cp:lastPrinted>2001-01-16T19:55:21Z</cp:lastPrinted>
  <dcterms:modified xsi:type="dcterms:W3CDTF">2003-05-23T21:25:38Z</dcterms:modified>
  <cp:revision>209</cp:revision>
  <dc:subject/>
  <dc:title>VTPP 423 - PHYSIOLOGY</dc:title>
</cp:coreProperties>
</file>