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B4FC-99D0-4E45-B51E-647BFF6B6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D600-93E4-4A54-8CB9-BD92C35C0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D26E-7510-475C-96D9-7A5399BFB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07BF-B150-410A-9786-3FC33203D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BA6B-0A91-46BE-BC22-8EEE6DF86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CFDDA-4F2B-4A6F-BD0D-60AB1ED93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0F22-DC26-4803-B85B-F592D741E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6230-EF6F-47E2-8C39-FE9B08E46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975E-FE0B-41E6-8752-13F1A47C7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62AD8-1454-47A7-AB6E-166F96380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A3BD-CB50-49BB-A990-14D00DA7C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D23B-18B5-4C71-A915-CCF2A71D3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BB9B-83AF-4101-87C4-DAF3E69B137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9037-D0A5-42B9-A525-BC4D4645D42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DCF68-B5A3-496C-82BE-C38355C1AAA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7-28T15:13:04Z</dcterms:modified>
  <cp:revision>207</cp:revision>
  <dc:subject/>
  <dc:title>VTPP 423 - PHYSIOLOGY</dc:title>
</cp:coreProperties>
</file>