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E6FB-616C-4A8E-BDDD-023786477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81EB9-5D20-428E-852E-4FE422475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40A0-2F94-4426-B758-4F1208397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AFED5-8C4C-4179-9084-39933D00A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1704-AC69-44CC-A179-EF54E30BC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08E4-501B-42CE-A4C9-D3C776F26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E0788-16DB-40DD-BB1F-3BF27BDC1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857B-73C0-446A-B779-6152ACD71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7675-AF12-4878-BDFD-1694E2187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C8ED-BF45-4F18-9D00-6C6A051A0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25AD-0E3B-4680-B525-35743A46B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9CDC0-5C54-4C18-BAD2-8B1AC4EDF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A6D3-7238-418C-AD20-4BA08A2FD01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FDB0-62AC-4C26-A8DC-3E46EAAB030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A059-B93D-4A87-9BD3-56DE30FD3C5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4:23Z</dcterms:modified>
  <cp:revision>210</cp:revision>
  <dc:subject/>
  <dc:title>VTPP 423 - PHYSIOLOGY</dc:title>
</cp:coreProperties>
</file>