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253B-9D9E-4FAD-9B41-EC2EBF356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58FC-6495-482C-BC0F-327B5F81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AA7-AA40-48D3-B39F-9E81F258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FB2-4E5B-4F6D-8B60-479DDF89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706C-BC79-4B82-9A43-871136E6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806-43FA-4983-8615-0E40458D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AB1F-2FE2-48B3-8818-A87CCC1D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EC43-6D43-44AA-811B-3CF9F11B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B64-027B-4B76-83BD-DA04A75D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57E-67CD-428A-8C72-29BF23C3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F086-03D7-459E-A667-3C63E0A3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FA3-4F38-421F-99F9-022F1B9D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8A8-F84A-4818-A9C5-E11FCC66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0C1D-1720-4C4D-9063-BE33D661999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8960" y="203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4840" y="28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9520" y="448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160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304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50450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4840" y="247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9520" y="529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1600" y="43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3040" y="344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33960" y="501804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189240" y="2863800"/>
            <a:ext cx="2790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4840" y="273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9520" y="4429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38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3040" y="3306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1600" y="274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628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8080" y="386856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9520" y="330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4840" y="366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9520" y="532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1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373040" y="58737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74840" y="236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37952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71600" y="348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373040" y="29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374840" y="45878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4840" y="2860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379520" y="5216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371600" y="46512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373040" y="38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374840" y="57801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484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9520" y="526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37160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73040" y="3727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384200" y="606096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4840" y="3413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37952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371600" y="45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373040" y="3979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374840" y="569592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7484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79520" y="48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371600" y="399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37304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374840" y="539100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3T13:56:11Z</dcterms:modified>
  <cp:revision>69</cp:revision>
  <dc:subject/>
  <dc:title>Investigator Challenge Quiz</dc:title>
</cp:coreProperties>
</file>