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A26B-DC2A-443B-91F4-1476C9005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E1E0-7BB6-47AE-B94C-E562DDF3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6082-C241-4BB0-AB9E-3F541AF1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FDA-4788-4EF8-A2B6-8582AD95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50AF-A96A-4EAC-B7E7-A81A47CC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942D-34DD-4D4C-9E23-CD83FD3D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9C1-D3E3-4E4D-B5D5-B6CCEED9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1B5-1C72-4B98-B28E-27B74067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A31-F825-472C-B74C-D384D300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3504-5F51-4215-A811-EAAB62D4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477E-3DBF-423F-BD87-E6527165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7AB9-8686-410A-8B71-407BFFBE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038-C349-4CEE-A316-CF147B43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968A-822C-4BD9-A726-02A237CB301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College of Veterinary Medicine</cp:lastModifiedBy>
  <dcterms:modified xsi:type="dcterms:W3CDTF">2007-07-31T18:19:28Z</dcterms:modified>
  <cp:revision>34</cp:revision>
  <dc:subject/>
  <dc:title>PowerPoint Presentation</dc:title>
</cp:coreProperties>
</file>