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CEB8A-6448-4EC6-82B4-3343F55AC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636C8-5542-47AE-BAE1-1D6B6A7E0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EC61A-DA3A-408B-BC05-B4AEAB6F1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6B7DC-25EC-44B8-8F34-A90A8CFCC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BD952-5567-4FEE-8621-483868F13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2CB75-AEDD-47EA-A1C4-12D248452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90354-725F-45D0-915C-723E996DF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F71FA-353D-4F26-A1E4-E1E037847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71851-5C1F-4402-A4D9-47625D57F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BBAEB-6EEA-46AD-8A05-32B28EC9A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2DC29-768E-472A-A3E0-D26C83955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19419-A9C8-472F-9D1B-D198F7FA2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D0012-5DB6-410A-A03B-DB7607F3B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575B-89E3-4A0B-92C3-4CE8C7F10F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533520" y="3886200"/>
            <a:ext cx="4209840" cy="2325600"/>
          </a:xfrm>
          <a:prstGeom prst="rect">
            <a:avLst/>
          </a:prstGeom>
          <a:ln w="88920">
            <a:solidFill>
              <a:srgbClr val="3b5323"/>
            </a:solidFill>
            <a:miter/>
          </a:ln>
        </p:spPr>
      </p:pic>
      <p:pic>
        <p:nvPicPr>
          <p:cNvPr id="57" name="" descr=""/>
          <p:cNvPicPr/>
          <p:nvPr/>
        </p:nvPicPr>
        <p:blipFill>
          <a:blip r:embed="rId3"/>
          <a:stretch/>
        </p:blipFill>
        <p:spPr>
          <a:xfrm>
            <a:off x="5054760" y="3886200"/>
            <a:ext cx="3660480" cy="2370240"/>
          </a:xfrm>
          <a:prstGeom prst="rect">
            <a:avLst/>
          </a:prstGeom>
          <a:ln w="88920">
            <a:solidFill>
              <a:srgbClr val="3b5323"/>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1"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2"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5"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6"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7"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Vince Hardy</cp:lastModifiedBy>
  <dcterms:modified xsi:type="dcterms:W3CDTF">2007-01-11T21:12:42Z</dcterms:modified>
  <cp:revision>20</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604000000000001023620</vt:lpwstr>
  </property>
</Properties>
</file>