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26CC5-76D4-473C-ABC8-05B577008D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 D (was bitten by a monke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 E (seeking information about a mysterious disease of mon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 A (Dr. Tony Allen : broth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 B (Democratic Republic of Cong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 C (deliver a box of supplies to their Au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 C (concerned that her wheelchair would not work well on the unpaved jungle path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 D (sharing food and wa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 B (quarantining two mon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 D (lovin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 A (feeding and watering Dr. Kathy Allen’s monkeys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, H, K, M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onitoring comprehension and making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rawing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swering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ing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F, G, K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alyzing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cognizing and analyzing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cognizing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B962-2C42-4D0E-95F2-F7C2BC35F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1A8B-1D56-4F19-BE7F-95623E1E1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B0B7-7148-4225-960A-925EB9773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713D-78D1-430F-9752-93D89DED3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411C-13C8-48E3-BA0F-AE4E5ECAA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3555-013B-47E1-A6AA-4E651EAFB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2F46-85AB-4A06-8594-80BD3C18A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DDAA-BB5E-4740-ADB5-A6E8E81C0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6E44-FA8B-4A15-951D-7F0954AD3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E417-601E-4BF7-A01C-7C961A25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73B3-C615-4285-B1CC-7BC48A26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995C-818D-43D5-99A7-B30877ED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32741-6146-4F20-9479-E92EEB8CD5F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88960" y="2036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51040" y="1536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ummer’s feelings about Dr. Kathy Allen are best described a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tagonist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srespectfu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earfu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v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sinterest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374840" y="2828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379520" y="44895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371600" y="3933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373040" y="3386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1374840" y="504504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25480" y="1536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0.  Travis and Summer earned money by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eeding and watering Dr. Kathy Allen’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nkey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oing routine chores like cleaning up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itche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lking dogs from their father’s veterinar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n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lping Dr. Kathy Allen pack boxes for h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ip to Afric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374840" y="2470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379520" y="5295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1371600" y="4375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1373040" y="3441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233960" y="5018040"/>
            <a:ext cx="961920" cy="5047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3189240" y="2863800"/>
            <a:ext cx="279072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45640" y="1550520"/>
            <a:ext cx="786132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did Dr. Kathy Allen’s shoulder hurt? She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s stung by a jungle insec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d been shot with an arro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eived a vaccination in that should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s bitten by a monke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d a joint disease called arthriti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36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374840" y="2739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379520" y="4429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371600" y="3863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373040" y="33066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374840" y="4992840"/>
            <a:ext cx="37476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was Dr. Kathy Allen traveling through the jungle?  She was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arching for the lost town of Kinshas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a big game safari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a rescue mission to find her lost nephe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lecting exotic jungle plant specime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king information about a mysteriou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sease of monkeys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371600" y="2744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376280" y="4427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378080" y="3868560"/>
            <a:ext cx="374400" cy="465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379520" y="3301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374840" y="4992840"/>
            <a:ext cx="37476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 of the following correctly matches a character from the story with the character’s relationship to Dr. Kathy Allen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r. Tony Allen :  broth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:  fath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mmer :  sis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:  nie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eeta :  family do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374840" y="3662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379520" y="5322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371600" y="4767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373040" y="42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1373040" y="5873760"/>
            <a:ext cx="37476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55720" y="1536840"/>
            <a:ext cx="79074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abbreviation “DRC” stands for …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octors Rest and C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mocratic Republic of Con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ominant Republic of Cong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octors Republic and Clin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mocratic Republic of Columb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374840" y="2362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379520" y="4032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1371600" y="3486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1373040" y="292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1374840" y="458784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ravis, K.T. and Summer traveled to the DRC in part t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arn about the group, Doctors Withou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orde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ovide a box of vaccines to sick patients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inshas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liver a box of supplies to their au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lect samples of jungle plan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tify Dr. Kathy Allen that Keeta di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374840" y="28605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1379520" y="5216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1371600" y="46512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1373040" y="3846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1374840" y="5780160"/>
            <a:ext cx="37476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5864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did Summer stay behind at the clinic while Travis and K.T. traveled to Yambuku?  She was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cared to travel in the ju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ld hostage by the patients at the clin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cerned that her wheelchair would no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ork well on the unpaved jungle path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tching one of the doctors who wa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spected of kidnapping Dr. Alle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ck and needed treatment at the clin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374840" y="3179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379520" y="526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1371600" y="4379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1373040" y="3727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1384200" y="606096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374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patients at the clinic in the story may have been infected with the AIDS virus (HIV). Which one of the following was NOT a likely means for transmission of the virus in these patient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nsfusion with contaminated bloo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xual intercourse with an infected pers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ring used needles to inject drug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ring food and wa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 of the above could result in transmiss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f the AIDS viru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374840" y="3413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1379520" y="5121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1371600" y="4556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1373040" y="3979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1374840" y="569592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r. Tony Allen was helping Dr. Kathy Allen by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olating virus from monkey tissu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quarantining two monkey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ining Travis and Summer to be veterinar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chnicia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nding money to Doctors Without Borde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uying her plane ticket to Afric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374840" y="2795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1379520" y="4836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1371600" y="3995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1373040" y="3343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1374840" y="539100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20:55:03Z</dcterms:created>
  <dc:creator>Dr. Deborah Kochevar</dc:creator>
  <dc:description/>
  <dc:language>en-US</dc:language>
  <cp:lastModifiedBy>Vince Hardy</cp:lastModifiedBy>
  <dcterms:modified xsi:type="dcterms:W3CDTF">2007-05-03T13:56:11Z</dcterms:modified>
  <cp:revision>69</cp:revision>
  <dc:subject/>
  <dc:title>Investigator Challenge Quiz</dc:title>
</cp:coreProperties>
</file>