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1BE6-5FAB-40C4-9F9E-EE543BCD1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12BA-2D05-4F2E-BCFE-055E1C9D7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6B10-9BA4-4E21-B643-1C01E52E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6698-2C4E-4088-BABE-86C06FCB8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1BBC-E931-4236-B030-49B87E3C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FA6B-AF73-408A-B493-61B817FC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9C88-1031-4439-A566-79D0F567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F8E3-437A-4284-AAB9-49647A8F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FE24-8F34-4603-9C8A-B33D7BC4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25D3-074D-467E-9D34-BE3B7A1E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21FA-215E-4C64-9B83-49D923F9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6F5E-628A-4BEC-8B02-C498C0AE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7879-6E5F-403F-9B25-A78CC2C9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7513-09CF-46A5-9F4F-87646B4A9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6120" y="441972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3° S, 27° 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5760" y="4419720"/>
            <a:ext cx="53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6.5° S, 22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53388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57960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62532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5760" y="4419720"/>
            <a:ext cx="50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 What city is located at 3° S, 28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CongoDemAll" descr=""/>
          <p:cNvPicPr/>
          <p:nvPr/>
        </p:nvPicPr>
        <p:blipFill>
          <a:blip r:embed="rId2"/>
          <a:stretch/>
        </p:blipFill>
        <p:spPr>
          <a:xfrm>
            <a:off x="1413000" y="276120"/>
            <a:ext cx="628632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53816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58388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62960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28880" y="4940280"/>
            <a:ext cx="81486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What is the latitude for the most nor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28880" y="4940280"/>
            <a:ext cx="80625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What is the latitude for the most sou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028880" y="4938840"/>
            <a:ext cx="82501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What is the longitude for the most west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8640" y="4938840"/>
            <a:ext cx="81802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What is the longitude for the most eastern part of Africa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116080" y="4952880"/>
            <a:ext cx="4772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at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2100240" y="4952880"/>
            <a:ext cx="55339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long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0352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0352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1363680" y="4952880"/>
            <a:ext cx="6256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is the absolute location of Kinsha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 and 32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 and 15.4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 and 7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3800" y="5388120"/>
            <a:ext cx="244800" cy="30456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865">
                <a:moveTo>
                  <a:pt x="0" y="0"/>
                </a:moveTo>
                <a:lnTo>
                  <a:pt x="21600" y="0"/>
                </a:lnTo>
                <a:lnTo>
                  <a:pt x="21600" y="26865"/>
                </a:lnTo>
                <a:lnTo>
                  <a:pt x="0" y="26865"/>
                </a:lnTo>
                <a:close/>
              </a:path>
              <a:path fill="lightenLess" w="21600" h="268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65">
                <a:moveTo>
                  <a:pt x="21600" y="0"/>
                </a:moveTo>
                <a:lnTo>
                  <a:pt x="21600" y="26865"/>
                </a:lnTo>
                <a:lnTo>
                  <a:pt x="20200" y="25465"/>
                </a:lnTo>
                <a:lnTo>
                  <a:pt x="20200" y="1400"/>
                </a:lnTo>
                <a:close/>
              </a:path>
              <a:path fill="darkenLess" w="21600" h="26865">
                <a:moveTo>
                  <a:pt x="21600" y="26865"/>
                </a:moveTo>
                <a:lnTo>
                  <a:pt x="0" y="26865"/>
                </a:lnTo>
                <a:lnTo>
                  <a:pt x="1400" y="25465"/>
                </a:lnTo>
                <a:lnTo>
                  <a:pt x="20200" y="25465"/>
                </a:lnTo>
                <a:close/>
              </a:path>
              <a:path fill="lighten" w="21600" h="26865">
                <a:moveTo>
                  <a:pt x="0" y="268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6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800" y="583092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3800" y="625464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6120" y="4419720"/>
            <a:ext cx="52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What city is located at 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, 25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College of Veterinary Medicine</cp:lastModifiedBy>
  <dcterms:modified xsi:type="dcterms:W3CDTF">2007-07-31T18:42:44Z</dcterms:modified>
  <cp:revision>483</cp:revision>
  <dc:subject/>
  <dc:title>Investigate the Mystery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14000000000001023620</vt:lpwstr>
  </property>
</Properties>
</file>