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2F957-9C6A-4F4D-8ECA-534E71D969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for entire vocabulary challeng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B: The student is expected to: draw on experiences to bring meanings to words in context such as interpreting idioms, multiple-meaning words, and analogies (6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: use multiple reference aids, including a thesaurus, a synonym finder, a dictionary, and software, to clarify meanings and usage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A: use his/her own knowledge and experience to comprehend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A533-1827-4BB5-A9D8-D42E10CE3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05DB-6A47-437B-9963-9F3EE9837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0594-797E-4697-8F83-B09DE7041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D124-421B-49E7-81D9-A7D65A419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4110-F2AE-46E0-88EF-05CB9D336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23D3-934D-4162-80A3-4D489A7C5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6D66-AA3A-4C40-8D12-B4754400C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ABD1-8F73-4FA0-8030-E77C7E082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648F-F5EE-4E0A-BF0B-69D961B03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F91C-8573-46CD-9396-9364B8ABD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A478-F173-4F39-A1BF-CBEC92AC5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F797-5FB9-490A-BB33-02A3D3236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2A1AE-44FA-4275-9667-3AA45840D302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00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Vocabulary Challenge Quiz</a:t>
            </a:r>
            <a:endParaRPr b="0" lang="en-US" sz="7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9880" y="3962520"/>
            <a:ext cx="86108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Read each passage carefully and then indicate the meaning of each underlined word by clicking A, B, or C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57080" y="1900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 ‘You don’t really want to wait here do you?’ asked K.T.   Sitting still was not her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fort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ie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omething someone likes or can do wel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faul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9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979560" y="4657680"/>
            <a:ext cx="311040" cy="3859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985680" y="358452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982800" y="4105440"/>
            <a:ext cx="311040" cy="38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757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0. “He hurried to the radio, apparently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obliviou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o Summer waiting there.  ‘He’s already forgotten me,’ thought Summer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nawa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d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ppose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9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979560" y="4557600"/>
            <a:ext cx="311040" cy="3859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985680" y="349560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982800" y="4027320"/>
            <a:ext cx="31104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</a:t>
            </a:r>
            <a:r>
              <a:rPr b="1" lang="en-US" sz="4400" spc="-1" strike="noStrike">
                <a:solidFill>
                  <a:srgbClr val="ebebeb"/>
                </a:solidFill>
                <a:latin typeface="Times New Roman"/>
              </a:rPr>
              <a:t> Challe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9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176640" y="280044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091040" y="461016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80880" y="173988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57240" indent="-6094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ike a toddler, the monkey had bitten her the       next time she was handled. ‘Despite a degree in medicine and a PhD in virology, there is still much for me to learn about </a:t>
            </a:r>
            <a:r>
              <a:rPr b="0" lang="en-US" sz="2800" spc="-1" strike="noStrike" u="sng">
                <a:solidFill>
                  <a:srgbClr val="ebebeb"/>
                </a:solidFill>
                <a:uFillTx/>
                <a:latin typeface="Times New Roman"/>
              </a:rPr>
              <a:t>primates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,’ Kathy thought.”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95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" descr="Africa"/>
          <p:cNvPicPr/>
          <p:nvPr/>
        </p:nvPicPr>
        <p:blipFill>
          <a:blip r:embed="rId2"/>
          <a:stretch/>
        </p:blipFill>
        <p:spPr>
          <a:xfrm>
            <a:off x="5638680" y="4127400"/>
            <a:ext cx="3048120" cy="2367000"/>
          </a:xfrm>
          <a:prstGeom prst="rect">
            <a:avLst/>
          </a:prstGeom>
          <a:ln w="76320">
            <a:solidFill>
              <a:srgbClr val="3b5323"/>
            </a:solidFill>
            <a:miter/>
          </a:ln>
        </p:spPr>
      </p:pic>
      <p:sp>
        <p:nvSpPr>
          <p:cNvPr id="53" name=""/>
          <p:cNvSpPr/>
          <p:nvPr/>
        </p:nvSpPr>
        <p:spPr>
          <a:xfrm>
            <a:off x="433440" y="3884760"/>
            <a:ext cx="5562720" cy="22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Primitive think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Very old artifac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A group of animals including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monkeys, apes and huma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990720" y="4813200"/>
            <a:ext cx="311040" cy="385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996840" y="391788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993600" y="4361040"/>
            <a:ext cx="311400" cy="38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The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crescendo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filled her ears until she felt her own body humming, then fell back to a soft drone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luid build up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uild up in the volume of sou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great annoyanc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91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990720" y="4646520"/>
            <a:ext cx="311040" cy="385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996840" y="3606840"/>
            <a:ext cx="311400" cy="3855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993600" y="4116240"/>
            <a:ext cx="31140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Dr. Allen followed Dr. Kalevu into the one room clinic and directed the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porter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o unload their backpacks on the front porch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ople employed to carry bags for traveler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lumber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anguage translator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990720" y="4624560"/>
            <a:ext cx="311040" cy="3855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996840" y="358452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993600" y="4094280"/>
            <a:ext cx="311400" cy="38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757080" y="1905120"/>
            <a:ext cx="796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The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emaciated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man mumbled the answers hoarsely. He seemed barely able to breathe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alth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l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tremely th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979560" y="4168800"/>
            <a:ext cx="311040" cy="3855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985680" y="306216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982800" y="3627360"/>
            <a:ext cx="31104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757080" y="1895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The mother held her infant to her breast, mopping his face with a dirty rag as he sweated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profusely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and tried to nurse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rofoundl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cessively, freel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l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979560" y="4657680"/>
            <a:ext cx="311040" cy="3859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985680" y="3571920"/>
            <a:ext cx="311400" cy="3855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982800" y="4114800"/>
            <a:ext cx="31104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757080" y="1895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spcBef>
                <a:spcPts val="799"/>
              </a:spcBef>
              <a:tabLst>
                <a:tab algn="l" pos="0"/>
                <a:tab algn="l" pos="91116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6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Modern buildings of concrete, glass and steel lined the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  <a:ea typeface="Times New Roman"/>
              </a:rPr>
              <a:t>thoroughfar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filled with buses, cars, and pedestrians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spcBef>
                <a:spcPts val="700"/>
              </a:spcBef>
              <a:tabLst>
                <a:tab algn="l" pos="0"/>
                <a:tab algn="l" pos="91116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dewal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spcBef>
                <a:spcPts val="700"/>
              </a:spcBef>
              <a:tabLst>
                <a:tab algn="l" pos="0"/>
                <a:tab algn="l" pos="91116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n road or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ublic high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spcBef>
                <a:spcPts val="700"/>
              </a:spcBef>
              <a:tabLst>
                <a:tab algn="l" pos="0"/>
                <a:tab algn="l" pos="91116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king lot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116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Africa"/>
          <p:cNvPicPr/>
          <p:nvPr/>
        </p:nvPicPr>
        <p:blipFill>
          <a:blip r:embed="rId2"/>
          <a:stretch/>
        </p:blipFill>
        <p:spPr>
          <a:xfrm>
            <a:off x="4730760" y="3591000"/>
            <a:ext cx="4017960" cy="2674800"/>
          </a:xfrm>
          <a:prstGeom prst="rect">
            <a:avLst/>
          </a:prstGeom>
          <a:ln w="76320">
            <a:solidFill>
              <a:srgbClr val="3b5323"/>
            </a:solidFill>
            <a:miter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979560" y="5046840"/>
            <a:ext cx="311040" cy="385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985680" y="359568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982800" y="4149720"/>
            <a:ext cx="31104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757080" y="1895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51080" indent="-451080">
              <a:spcBef>
                <a:spcPts val="2001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.  “ ‘What do you want?’ he barked . . . Summer, K.T., and Travis all jumped, but the other doctors seemed accustomed to Dr. Sonnier’s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brusqu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manner. Everyone went on without looking up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1080" indent="-451080">
              <a:spcBef>
                <a:spcPts val="70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ude, abru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1080" indent="-451080">
              <a:spcBef>
                <a:spcPts val="70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r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1080" indent="-451080">
              <a:spcBef>
                <a:spcPts val="70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Qui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1080" indent="-451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979560" y="5635800"/>
            <a:ext cx="311040" cy="3855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985680" y="452916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982800" y="5094360"/>
            <a:ext cx="311040" cy="38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757080" y="1895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Summer suddenly shivered despite the heat. Now that they were gone, she could drop the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façad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of cool and calm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ceptive appearanc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rea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p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91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979560" y="4624560"/>
            <a:ext cx="311040" cy="3855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985680" y="357336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982800" y="4095720"/>
            <a:ext cx="31104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2:22:02Z</dcterms:created>
  <dc:creator>Gina Balducci</dc:creator>
  <dc:description/>
  <dc:language>en-US</dc:language>
  <cp:lastModifiedBy>Texas A&amp;M Veterinary Medicine</cp:lastModifiedBy>
  <dcterms:modified xsi:type="dcterms:W3CDTF">2007-04-19T16:33:56Z</dcterms:modified>
  <cp:revision>66</cp:revision>
  <dc:subject/>
  <dc:title>Vocab Challenge</dc:title>
</cp:coreProperties>
</file>