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F59A-5C25-4844-B4F1-46741A005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5EFA-2675-4AAE-99F2-0B6E184C1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FAC9-9929-4062-8A00-4BFF659CC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E961-3578-4C14-93C8-E0E5F4452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229F-BFF1-4C7E-B238-21C051091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5DC9-DE63-4F85-B237-4360837F1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AC0F-2DD4-4FA6-A4A9-3C79A5D34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4D41-331C-4103-90E9-2B454FB86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F2FB-24C6-4C59-8175-36C8841E7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1C1C-D79B-4B65-A149-31628C99E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4484-FBA8-4F69-B214-264178496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5C73-A2A0-4BD9-9414-2EFA59C2B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466ED-4417-4A1D-887B-B3F11257076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“per” problem is a problem in which you can use the word per to describe one or more of the numbers involved.  Here are some everyday exampl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le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ers Per Seco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llar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 Per We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ids Per Cl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419720" y="3733920"/>
            <a:ext cx="4371840" cy="27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 cont.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problems often require us to use the word per in our units to find the solution.  They can also be called “Unit Conversions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we can master using the word “per”, these problems become very eas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 problems are some of the most versatile problems that a person can learn to use.  The key is deciding when and how to use th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47920" y="5638680"/>
            <a:ext cx="65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hen To Use Per Unit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5 an hour = $5 per hour = $5/ho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ee shelves can fit on each wall = 3 shelves per wall = 3 shelves/w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 meters in one second = 10 meters per second = 10 meters/seco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ord per can be very useful in many different situation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E: 10 meters/second is the same a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 second/10 me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How To Use Units With The </a:t>
            </a: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Word Per 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solving per problems, the goal usually is to cross out the units until you have the units of your solu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Man gets paid $10 per hour to paint a house which has four walls.  If each wall takes the man 2 hours, how much will he get pai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units will I need?  Ultimately, the payment will be in dolla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933560" y="4267080"/>
            <a:ext cx="525780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Another Exampl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I run for 13 meters per second for one hour, how far will I ru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units do I need?  Ultimately, distance in met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677960" y="3200400"/>
            <a:ext cx="578664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7T21:49:22Z</dcterms:created>
  <dc:creator>vtpp</dc:creator>
  <dc:description/>
  <dc:language>en-US</dc:language>
  <cp:lastModifiedBy>vhardy</cp:lastModifiedBy>
  <dcterms:modified xsi:type="dcterms:W3CDTF">2003-05-23T21:31:07Z</dcterms:modified>
  <cp:revision>13</cp:revision>
  <dc:subject/>
  <dc:title>Per Problems</dc:title>
</cp:coreProperties>
</file>