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7.wmf" ContentType="image/x-wmf"/>
  <Override PartName="/ppt/media/image11.jpeg" ContentType="image/jpeg"/>
  <Override PartName="/ppt/media/image5.wmf" ContentType="image/x-wmf"/>
  <Override PartName="/ppt/media/image6.png" ContentType="image/png"/>
  <Override PartName="/ppt/media/image8.wmf" ContentType="image/x-wmf"/>
  <Override PartName="/ppt/media/image9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7F7C-24F5-4055-988D-00ED6A034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uld lead in to CO Math Activity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ion is a single viral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versely, or opposit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6C8-8AEA-400C-ADAF-8931DA45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517-EF20-47A6-9482-5798918F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360-51EC-4024-B220-26FAA1FA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724-545C-4908-B0C0-2FB7CF63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6BE0-D26F-47D5-90C3-1F41F74C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6026-2C00-4C6F-81A0-41D1CA1A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435C-9854-4CDF-A817-E92FCD10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E5AF-F934-4D7B-8899-7743EA9E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3135-6F72-4CD0-9190-D2346423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D87F-838C-49C0-8CAF-D7E7C290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CEF2-AD1E-4A4B-A4F7-D3AB2C8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5E9-FF4E-43C6-B0CB-16C490FC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E74C-5221-4802-AC96-B4E7B88A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F401-528E-4E4F-B856-E57854A2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596D-531B-41BB-B043-1971AB5D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008E-F1A6-4604-B217-0BFE6736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E497-AF56-4E0A-97DF-180CCE7B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D13-551E-4EAB-8AF0-ED5BE817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7DF-48D2-4A0D-A036-83F57A8F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C4D-2FEA-4019-B5DF-CCD9819A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A6D-4871-4476-B7B2-99E47CBD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A51-F55D-46FE-AE03-880A1C64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BA0-5EB8-4D49-BFED-BEBF0244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672-3402-4B73-B22E-AD2467C8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A9E9-786E-4C01-946B-CE8A0F22C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09B4-E541-4354-B684-18A7C4001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33526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other Population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629400" y="5048280"/>
            <a:ext cx="20098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 will be exploring population growth models by looking at an imaginary population of wolves and rabb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tudents will start out as wolves, and six students will start out as rab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1752840" cy="15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0" t="17500" r="0" b="0"/>
          <a:stretch/>
        </p:blipFill>
        <p:spPr>
          <a:xfrm>
            <a:off x="1295280" y="4343400"/>
            <a:ext cx="1870200" cy="232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581280" y="4876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hematics and Viru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past few years, representing viruses with mathematical graphs has become very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re able to understand how a virus changes over time, and how it changes the way the body works, we can then figure out how to treat and cure the vir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difficult viruses mathematicians have been studying is the Human Immunodeficiency Virus (HIV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612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dy, HIV attacks white blood cell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er T-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control the immune system’s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rmal healthy person h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er t-cells in every cubic millimeter of their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person infected with HIV has bel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er t-cells per cubic millimeter of blood, they are considered to be sick with AIDS (Acquired Immune Deficiency Syndrom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134120" y="5029200"/>
            <a:ext cx="140652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ogresses in three s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first 10 weeks after the virus enters the body, the virus grows rapidly, and infects many helper t-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, for a period that ranges from 2 years to 20 years, the number of HIV virions (or virus particles) in the body and the number of helper t-cells in the body stabilize, although there are still fewer helper t-cells than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final phase of the HIV infection, which lasts from 1-3 years, the number of t-cells falls dramatically, and the virus grows out of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e graph on the next slide shows how the population of HIV virions relates to the population of helper t-cells in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52578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the graph, how would you say the concentration of the HIV virions relates to the concentration of helper t-c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4009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ians m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them understand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odels can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s or eq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xplain how populations grow, change, or die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7465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anything from how many HIV virions there are in a body, to how many termites there are in a house, to how many people there are on the ear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opulation model mathematicians like to look at is a model where ther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4572000"/>
            <a:ext cx="272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ians like studying this model because the number of predators and the number of prey in an environment affect each other in interesting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lots of predators, and few prey,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lots of prey, and few predators,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10080" y="5029200"/>
            <a:ext cx="28958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McNichols</cp:lastModifiedBy>
  <dcterms:modified xsi:type="dcterms:W3CDTF">2008-09-10T13:21:5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