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97F0-D761-404E-9ACE-2DCCBB243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D (was bitten by a mon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E (seeking information about a mysterious disease of mon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A (Dr. Tony Allen : bro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B (Democratic Republic of Cong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 C (deliver a box of supplies to their Au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 C (concerned that her wheelchair would not work well on the unpaved jungle path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 D (sharing food and wa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 B (quarantining two mon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 D (lovin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 A (feeding and watering Dr. Kathy Allen’s monkeys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zing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1231-50B9-46D7-8714-B2FE1703A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434F-FAD3-4BCD-92C9-B2219A89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95DF-1469-4480-9D56-8B02C2039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8380-FB87-492A-AEF8-81A39D2EC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B998-0CAD-4A24-8800-448AB64B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270E-91FD-4FAF-9E52-52C715E3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ACD6-DC16-48D8-A143-2C652327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CCB7-F0E8-4B3E-A843-5947A6C2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9DA8-61ED-4919-9FAC-616CB8C4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6045-7001-446E-80F7-3BD41DC1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FCDD-791B-4664-B6FC-DF32C738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15A5-FDC7-4EF8-BB60-03F3C3B4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3B02-6884-46BD-9E92-15E1916FD4B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88960" y="2036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51040" y="1536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ummer’s feelings about Dr. Kathy Allen are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tagonist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respectfu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earfu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v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interest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374840" y="2828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379520" y="4489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371600" y="3933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373040" y="338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374840" y="504504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25480" y="1536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 Travis and Summer earned money by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eeding and watering Dr. Kathy Allen’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nkey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ing routine chores like cleaning up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itche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lking dogs from their father’s veterin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ping Dr. Kathy Allen pack boxes for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ip to Afric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374840" y="2470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379520" y="5295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371600" y="437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373040" y="344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233960" y="501804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189240" y="2863800"/>
            <a:ext cx="279072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45640" y="1550520"/>
            <a:ext cx="78613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Dr. Kathy Allen’s shoulder hurt? She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stung by a jungle insec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been shot with an arr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eived a vaccination in that should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bitten by a monke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a joint disease called arthriti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36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374840" y="2739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379520" y="4429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371600" y="3863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373040" y="33066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374840" y="499284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was Dr. Kathy Allen traveling through the jungle?  She was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arching for the lost town of Kinshas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big game safari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rescue mission to find her lost nephe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lecting exotic jungle plant specime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king information about a mysteriou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ease of monkeys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371600" y="2744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376280" y="44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378080" y="386856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379520" y="3301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374840" y="499284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 of the following correctly matches a character from the story with the character’s relationship to Dr. Kathy Allen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. Tony Allen :  broth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:  fath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mmer :  sis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:  nie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eeta :  family do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374840" y="3662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379520" y="5322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371600" y="4767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373040" y="42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1373040" y="587376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55720" y="1536840"/>
            <a:ext cx="79074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bbreviation “DRC” stands for …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ctors Rest and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mocratic Republic of Con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minant Republic of Con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ctors Republic and Cli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mocratic Republic of Colum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374840" y="2362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379520" y="4032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371600" y="3486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1373040" y="29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374840" y="458784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ravis, K.T. and Summer traveled to the DRC in part t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arn about the group, Doctors Withou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rd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vide a box of vaccines to sick patients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inshas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liver a box of supplies to their au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lect samples of jungle plan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tify Dr. Kathy Allen that Keeta di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374840" y="2860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379520" y="5216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1371600" y="46512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1373040" y="384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374840" y="578016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Summer stay behind at the clinic while Travis and K.T. traveled to Yambuku?  She was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cared to travel in the ju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d hostage by the patients at the 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cerned that her wheelchair would no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ork well on the unpaved jungle path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tching one of the doctors who wa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spected of kidnapping Dr. Alle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ck and needed treatment at the 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374840" y="3179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379520" y="526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371600" y="437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1373040" y="3727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1384200" y="606096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74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atients at the clinic in the story may have been infected with the AIDS virus (HIV). Which one of the following was NOT a likely means for transmission of the virus in these patient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nsfusion with contaminated bloo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xual intercourse with an infected pers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ring used needles to inject drug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ring food and wa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 could result in transmiss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f the AIDS viru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374840" y="3413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379520" y="5121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371600" y="455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1373040" y="3979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1374840" y="569592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r. Tony Allen was helping Dr. Kathy Allen by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olating virus from monkey tissu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arantining two monkey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ning Travis and Summer to be veterin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chnicia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nding money to Doctors Without Bord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ying her plane ticket to Afric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374840" y="2795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379520" y="4836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371600" y="3995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1373040" y="3343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1374840" y="539100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20:55:03Z</dcterms:created>
  <dc:creator>Dr. Deborah Kochevar</dc:creator>
  <dc:description/>
  <dc:language>en-US</dc:language>
  <cp:lastModifiedBy>Vince Hardy</cp:lastModifiedBy>
  <dcterms:modified xsi:type="dcterms:W3CDTF">2007-05-03T13:56:11Z</dcterms:modified>
  <cp:revision>69</cp:revision>
  <dc:subject/>
  <dc:title>Investigator Challenge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01000000000001023620</vt:lpwstr>
  </property>
</Properties>
</file>