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7.wmf" ContentType="image/x-wmf"/>
  <Override PartName="/ppt/media/image11.jpeg" ContentType="image/jpeg"/>
  <Override PartName="/ppt/media/image5.wmf" ContentType="image/x-wmf"/>
  <Override PartName="/ppt/media/image6.png" ContentType="image/png"/>
  <Override PartName="/ppt/media/image8.wmf" ContentType="image/x-wmf"/>
  <Override PartName="/ppt/media/image9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2B70-B5A3-4E8F-BE2C-3106C2675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uld lead in to CO Math Activity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ion is a single viral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inversely, or oppositely re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50B4-92BE-45B6-B32B-EA0E51B5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207-95BA-45A6-9A69-CE563956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B517-B274-46D4-A0C6-3CFD6CCF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AFA-D2A4-4778-A051-EBE260F2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F28D-B7E2-415F-8922-82C1DC80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9B86-6D1C-476A-ACF6-B83D5343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4EEC-CAC0-4526-97D3-3AB246A0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DB1B-809A-4E42-97AA-1FD61A0E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C7AB-5CA7-48E8-90B5-F54AF10A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9B18-D6AF-49E5-A7C6-1447A1DE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ADA4-B9EE-47E1-AC35-2042C120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0031-62F5-4B3B-8A6E-89BB6D57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9288-B01D-4863-9ACB-B2075714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F5C7-785F-4DCE-A3CA-ED1C020F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A0CC-B880-4B17-AF3D-E34F3A0F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0D70-5D1E-4BE9-B7DD-017783E3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97F2-4F9D-4B34-A3CC-7173578A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F02A-85AB-4385-A8D5-246A16BA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491-4BDD-4B8F-AA6B-692198AB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5A1D-868B-46E0-90E8-43EAA623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C7B-2C37-43B3-B642-F4426F84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0DE-56C5-43F3-873A-8F6C613D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B16F-6F44-48C7-A414-8D4D7689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249-9183-4E95-A2C6-F0EE98E5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2E8D-275F-44CA-B49E-C41FED2A8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4C1E-A683-43D5-94AC-91B1FDDF0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ing the HIV Vir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560" y="33526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other Population Mod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629400" y="5048280"/>
            <a:ext cx="20098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ing Population Grow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we will be exploring population growth models by looking at an imaginary population of wolves and rabbi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tudents will start out as wolves, and six students will start out as rabb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638680" y="4648320"/>
            <a:ext cx="1752840" cy="1509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rcRect l="0" t="17500" r="0" b="0"/>
          <a:stretch/>
        </p:blipFill>
        <p:spPr>
          <a:xfrm>
            <a:off x="1295280" y="4343400"/>
            <a:ext cx="1870200" cy="2325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581280" y="4876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hematics and Viru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he past few years, representing viruses with mathematical graphs has become very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are able to understand how a virus changes over time, and how it changes the way the body works, we can then figure out how to treat and cure the vir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most difficult viruses mathematicians have been studying is the Human Immunodeficiency Virus (HIV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315200" y="4724280"/>
            <a:ext cx="1612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HIV Vir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body, HIV attacks white blood cell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er T-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at control the immune system’s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rmal healthy person h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er t-cells in every cubic millimeter of their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 person infected with HIV has belo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er t-cells per cubic millimeter of blood, they are considered to be sick with AIDS (Acquired Immune Deficiency Syndrom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134120" y="5029200"/>
            <a:ext cx="140652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HIV Vir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progresses in three s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first 10 weeks after the virus enters the body, the virus grows rapidly, and infects many helper t-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, for a period that ranges from 2 years to 20 years, the number of HIV virions (or virus particles) in the body and the number of helper t-cells in the body stabilize, although there are still fewer helper t-cells than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HIV Vir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final phase of the HIV infection, which lasts from 1-3 years, the number of t-cells falls dramatically, and the virus grows out of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ne graph on the next slide shows how the population of HIV virions relates to the population of helper t-cells in the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525780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at the graph, how would you say the concentration of the HIV virions relates to the concentration of helper t-c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40096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ing Population Grow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ians ma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them understand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odels can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s or equ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xplain how populations grow, change, or die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24280" y="4343400"/>
            <a:ext cx="374652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ing Population Grow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anything from how many HIV virions there are in a body, to how many termites there are in a house, to how many people there are on the ear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opulation model mathematicians like to look at is a model where there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i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4572000"/>
            <a:ext cx="272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ing Population Grow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ians like studying this model because the number of predators and the number of prey in an environment affect each other in interesting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lots of predators, and few prey, what happ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lots of prey, and few predators, what happ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10080" y="5029200"/>
            <a:ext cx="28958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emiah McNichols</cp:lastModifiedBy>
  <dcterms:modified xsi:type="dcterms:W3CDTF">2008-09-10T13:21:5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