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5293-F59E-418D-A05E-8B9BB501B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A: use his/her own knowledge and experience to comprehend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C768-5F7E-4B97-A595-E10305C7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D28A-84D5-4A63-8732-A4FCD6AF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551-462F-4B4C-B291-713D6FA2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8F6-1FCA-464C-8240-4E878A42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AF7-FEF8-44A1-BC4D-49137992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1182-94F0-4EA8-ABC4-BFB4B7E8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AE01-53E6-4206-841A-B9E8493D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1B24-5F19-44AB-83C8-04951C67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E30B-C95E-409F-BD94-78D510FD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C4D-B0D2-4BD5-9BA1-E63B84DF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DC26-ED3C-4D51-AB4D-ED39DCAE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ED5-8FBD-4D2C-85A7-5FCB5FE6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7ECA-26E7-43A2-8E3A-B018E657ABF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19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You don’t really want to wait here do you?’ asked K.T.   Sitting still was not 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ort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hing someone likes or can do we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aul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8568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82800" y="410544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He hurried to the radio, apparently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obliv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Summer waiting there.  ‘He’s already forgotten me,’ thought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ppo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79560" y="45576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85680" y="349560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82800" y="40273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610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7398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7240" indent="-60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ke a toddler, the monkey had bitten her the       next time she was handled. ‘Despite a degree in medicine and a PhD in virology, there is still much for me to learn about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primate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,’ Kathy thought.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95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Africa"/>
          <p:cNvPicPr/>
          <p:nvPr/>
        </p:nvPicPr>
        <p:blipFill>
          <a:blip r:embed="rId2"/>
          <a:stretch/>
        </p:blipFill>
        <p:spPr>
          <a:xfrm>
            <a:off x="5638680" y="4127400"/>
            <a:ext cx="3048120" cy="23670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33440" y="3884760"/>
            <a:ext cx="5562720" cy="22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mitive thi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old artif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group of animals includ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keys, apes and hum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8132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96840" y="39178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3600" y="436104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rescendo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illed her ears until she felt her own body humming, then fell back to a soft dron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uid build up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ild up in the volume of s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great annoy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64652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6840" y="360684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93600" y="4116240"/>
            <a:ext cx="3114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Dr. Allen followed Dr. Kalevu into the one room clinic and direct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orter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unload their backpacks on the front porch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ople employed to carry bags for travel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umb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nguage translato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684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993600" y="409428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emaci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 mumbled the answers hoarsely. He seemed barely able to breath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alth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th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9560" y="4168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85680" y="3062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82800" y="362736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mother held her infant to her breast, mopping his face with a dirty rag as he sweat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rofuse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tried to nurs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foun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essively, free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85680" y="357192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82800" y="411480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99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dern buildings of concrete, glass and steel lin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  <a:ea typeface="Times New Roman"/>
              </a:rPr>
              <a:t>thoroughfar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filled with buses, cars, and pedestrian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oad 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blic high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king lot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Africa"/>
          <p:cNvPicPr/>
          <p:nvPr/>
        </p:nvPicPr>
        <p:blipFill>
          <a:blip r:embed="rId2"/>
          <a:stretch/>
        </p:blipFill>
        <p:spPr>
          <a:xfrm>
            <a:off x="4730760" y="3591000"/>
            <a:ext cx="4017960" cy="26748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79560" y="504684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985680" y="35956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982800" y="4149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2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  “ ‘What do you want?’ he barked . . . Summer, K.T., and Travis all jumped, but the other doctors seemed accustomed to Dr. Sonnier’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rusqu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ner. Everyone went on without looking u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ude, ab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9560" y="5635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85680" y="4529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82800" y="509436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Summer suddenly shivered despite the heat. Now that they were gone, she could drop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aça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cool and calm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ceptive appear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ea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p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956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85680" y="35733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82800" y="4095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Texas A&amp;M Veterinary Medicine</cp:lastModifiedBy>
  <dcterms:modified xsi:type="dcterms:W3CDTF">2007-04-19T16:33:56Z</dcterms:modified>
  <cp:revision>66</cp:revision>
  <dc:subject/>
  <dc:title>Vocab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02000000000001023620</vt:lpwstr>
  </property>
</Properties>
</file>