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wmf" ContentType="image/x-wmf"/>
  <Override PartName="/ppt/media/image6.png" ContentType="image/png"/>
  <Override PartName="/ppt/media/image8.wmf" ContentType="image/x-wmf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1E62-4F97-4845-AB76-9088CEEFC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uld lead in to CO Math Activity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ion is a single viral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versely, or opposit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69E-EECB-462A-94D9-296CA38E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453-69A6-4061-9E26-F9C29D7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6A1-350E-46E2-AD03-4311FC35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01B-EABE-4899-8105-5295934E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F08-C4D5-4B20-9A89-637162CD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1D10-D5B3-46A1-B874-8499CA06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540-E6E0-496D-B7E1-3939471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BFB2-D483-4781-ADA5-6860FFF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2ECD-109E-463D-B3BB-84B5B45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CCA8-BCA2-4A2E-B974-3E4C874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6E50-7CF9-4A47-8913-98CDDFBB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AD8-F495-4ED6-8BC3-F62D974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0044-E088-4175-AB40-3C25A429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3A1E-2618-4F4F-A596-DC60B32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2500-BDA1-4389-9701-3A5DC004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66B2-20FF-417A-B256-9AB4A1EB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CB3-77F4-45CE-BD36-7CCB7480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F55-4476-444F-8A0F-7C6B01D2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916-B3BD-4685-88D6-78AAA99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EE5-A5CB-4011-9D46-A5989079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00A-0CC0-44F9-A633-364AEE9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106-69A7-4769-8C7A-318D983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773-AD5D-4D18-85FC-A021AC4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4B5-020A-40C8-B3B2-E29C011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BD0E-F0C7-4CD6-83DB-A01F0F2A4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6338-13BE-43AD-B764-2379E894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opulation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5048280"/>
            <a:ext cx="2009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exploring population growth models by looking at an imaginary population of wolves and rabb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udents will start out as wolves, and six students will start out as rab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752840" cy="15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17500" r="0" b="0"/>
          <a:stretch/>
        </p:blipFill>
        <p:spPr>
          <a:xfrm>
            <a:off x="1295280" y="4343400"/>
            <a:ext cx="1870200" cy="232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812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s and Vir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few years, representing viruses with mathematical graphs has become very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able to understand how a virus changes over time, and how it changes the way the body works, we can then figure out how to treat and cure the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difficult viruses mathematicians have been studying is the Human Immunodeficiency Virus (HIV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61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, HIV attacks white blood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-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ontrol the immune system’s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rmal healthy person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in every cubic millimeter of their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person infected with HIV has be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per cubic millimeter of blood, they are considered to be sick with AIDS (Acquired Immune Deficiency Syndr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34120" y="5029200"/>
            <a:ext cx="140652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ogresses in three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first 10 weeks after the virus enters the body, the virus grows rapidly, and infects many helper t-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for a period that ranges from 2 years to 20 years, the number of HIV virions (or virus particles) in the body and the number of helper t-cells in the body stabilize, although there are still fewer helper t-cells than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nal phase of the HIV infection, which lasts from 1-3 years, the number of t-cells falls dramatically, and the virus grows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 graph on the next slide shows how the population of HIV virions relates to the population of helper t-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257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the graph, how would you say the concentration of the HIV virions relates to the concentration of helper t-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40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them understand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odels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or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xplain how populations grow, change, or di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746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nything from how many HIV virions there are in a body, to how many termites there are in a house, to how many people there are on the ea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pulation model mathematicians like to look at is a model where 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272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like studying this model because the number of predators and the number of prey in an environment affect each other in interesting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dators, and few prey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y, and few predators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5029200"/>
            <a:ext cx="2895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McNichols</cp:lastModifiedBy>
  <dcterms:modified xsi:type="dcterms:W3CDTF">2008-09-10T13:2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