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40A04-DBA6-4284-B95A-E39B4177D3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BBE72E-FDE8-417F-8035-9AC088A610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0DC499-C69C-4BF0-A445-01050F3EDD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82D164-461B-4C19-9A65-F8D0128354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BBDA76-D5EE-47DE-8A64-1AE542B450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47267F-9F34-4420-8A31-CA8F7B2FB3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EB3AB4-E748-4DB8-BACF-3B9444D5DE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84F1DC-E280-4F70-926B-24E3394D93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5F0420-113D-4C67-BEED-6BCE140954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AD7E22-7FF1-4792-9EE7-72A92C568C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432DA-DFC1-4ED6-A48B-5882E6AE29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CF367-6764-4D1B-91CB-1B71045FD0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D66B5-4B4A-435C-9014-308924F65F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D06CE-F92D-495C-932B-9B83839A5266}"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3-09-11T17:22:42Z</dcterms:modified>
  <cp:revision>106</cp:revision>
  <dc:subject/>
  <dc:title>Locating Plac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004000000000001023620</vt:lpwstr>
  </property>
</Properties>
</file>