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A0408-C000-48E1-8ED9-91C122DE41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rder text: Append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6886-87EF-4809-A10E-14AE5D0DD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6085-0D1E-4872-87D3-6C3199D43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8ED4-1F73-40AB-BE46-99800210E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8B8F-8DBF-4C32-9CBA-B284EE824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7A80-FF9D-4180-9039-B90006070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D6F7-F05A-4465-9B48-AAAA57564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CF2C-11E5-437C-9C76-38398D3B4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EB31-5492-4841-B5FA-5586B0BA4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A1D4-2E10-4123-84CE-C090D5A29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FFB2-2B15-496E-91F0-1C9737F46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3862-15C0-473F-8A09-B861F0B6F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2945-0E82-46C4-B2FE-2E2CEEF8E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6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FF24C-BB83-4B74-ABE6-6065CE8C8B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8002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time of day is it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is the landscap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kind of animals are thes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re do these animals naturally liv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you guess where this picture was taken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1143000"/>
            <a:ext cx="7696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observations can you make from looking at this picture?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" name="Africa%20344" descr="Africa"/>
          <p:cNvPicPr/>
          <p:nvPr/>
        </p:nvPicPr>
        <p:blipFill>
          <a:blip r:embed="rId2"/>
          <a:stretch/>
        </p:blipFill>
        <p:spPr>
          <a:xfrm>
            <a:off x="469800" y="2438280"/>
            <a:ext cx="3962520" cy="26384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ext is the information that surrounds a particular word or passage that helps determine the meaning of the word or passage.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examining the context of the previous picture, you were able to guess that the picture was probably taken in Africa.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questions might you ask yourself when assessing the context of a passage of text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47960" y="1727280"/>
            <a:ext cx="388620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is the author or speaker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is the reader or audience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the passage about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re does the action take place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n you identify emotions that are expressed in the text? 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</p:txBody>
      </p:sp>
      <p:pic>
        <p:nvPicPr>
          <p:cNvPr id="56" name="QuestionMark" descr=""/>
          <p:cNvPicPr/>
          <p:nvPr/>
        </p:nvPicPr>
        <p:blipFill>
          <a:blip r:embed="rId2"/>
          <a:stretch/>
        </p:blipFill>
        <p:spPr>
          <a:xfrm>
            <a:off x="762120" y="2044800"/>
            <a:ext cx="3325680" cy="32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04:03:32Z</dcterms:created>
  <dc:creator>Gina Balducci</dc:creator>
  <dc:description/>
  <dc:language>en-US</dc:language>
  <cp:lastModifiedBy>vhardy</cp:lastModifiedBy>
  <dcterms:modified xsi:type="dcterms:W3CDTF">2002-12-19T23:00:29Z</dcterms:modified>
  <cp:revision>16</cp:revision>
  <dc:subject/>
  <dc:title>Context Cl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001000000000001023620</vt:lpwstr>
  </property>
</Properties>
</file>