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898200" y="619200"/>
            <a:ext cx="5062680" cy="379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898560" y="619200"/>
            <a:ext cx="5062680" cy="37972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A58ED-97CE-4479-9AB9-0CFCFE4BC5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AA59E-DD4F-4D38-A35E-17DE835F2A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21307-33E4-4D25-990F-559AB98117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83DB7-14EB-4A2B-A33F-BC6A2E553C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E80DB-58DA-4D62-A760-D815B6457A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75263-8A52-4AA9-90E8-8A27E5F689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68FB5-E041-4F6A-952A-722C83AC61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4F915-A2FA-429E-86CF-1420B7F378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4A22D-7A2F-48DB-A74A-A1737248C0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C98B7-E24B-4E96-8A65-4E49250AB2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42DF6-1BB8-4B4C-B260-49A365BCAB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98F4C-CCA1-43F5-A0BB-1023A6FA73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D2A5F-F4FE-4059-A090-ACA964D574FA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7627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Decimal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Percen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(  6/8 =       6 ÷ 8 =          .75 =       .75 x 100 =     75%  )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                                 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81080" y="31384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4120" y="31384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051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80060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1932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62320" y="40528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 par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8640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553080" y="4038480"/>
            <a:ext cx="276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553080" y="472428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7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99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4038480"/>
            <a:ext cx="441972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00600" y="4038480"/>
            <a:ext cx="411480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Cutout25%25" descr=""/>
          <p:cNvPicPr/>
          <p:nvPr/>
        </p:nvPicPr>
        <p:blipFill>
          <a:blip r:embed="rId2"/>
          <a:stretch/>
        </p:blipFill>
        <p:spPr>
          <a:xfrm>
            <a:off x="762120" y="4267080"/>
            <a:ext cx="1211040" cy="1165320"/>
          </a:xfrm>
          <a:prstGeom prst="rect">
            <a:avLst/>
          </a:prstGeom>
          <a:ln w="0">
            <a:noFill/>
          </a:ln>
        </p:spPr>
      </p:pic>
      <p:pic>
        <p:nvPicPr>
          <p:cNvPr id="94" name="Cutout25%25" descr=""/>
          <p:cNvPicPr/>
          <p:nvPr/>
        </p:nvPicPr>
        <p:blipFill>
          <a:blip r:embed="rId3"/>
          <a:stretch/>
        </p:blipFill>
        <p:spPr>
          <a:xfrm>
            <a:off x="4960800" y="4267080"/>
            <a:ext cx="1211400" cy="116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007BC-7733-403E-B463-29E1BC080C6F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40Z</dcterms:modified>
  <cp:revision>210</cp:revision>
  <dc:subject/>
  <dc:title>VTPP 423 - PHYSIOLOGY</dc:title>
</cp:coreProperties>
</file>