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4BFA8-1530-4D2C-B852-4411E7D143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7EE72E-2E9C-4E5C-A3B5-915C9DD952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DAC50A-AE32-4AE0-899C-1A1DC3B22E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85ADAE-715B-41B4-9400-E23C042AF8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9EE21F-4C1E-4E9E-A67A-E65D5A971F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2F1752-588F-4ED6-92EE-1629C3D296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1A4F6B-4A6D-4865-A3E4-DD8B9A00E3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08A93B-7683-4308-8588-5148F81148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D78F63-4289-4DB7-8B85-F2832C6B27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E44D49-F38B-4C4C-BD91-59E90CB799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F598C9-DCA8-4AA1-B56A-444A00EDDD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617ED8-9E89-434E-9F9E-F4563BE1F4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85F5AA-8C6E-42F4-90BA-04B422C1FC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EE3F7-B701-4B7E-9722-3107453A3EBF}"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3-09-11T17:22:42Z</dcterms:modified>
  <cp:revision>106</cp:revision>
  <dc:subject/>
  <dc:title>Locating Plac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004000000000001023620</vt:lpwstr>
  </property>
</Properties>
</file>