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79FB-C55B-4039-9006-F8AD4BD9C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lide numbers of this presentation corresponding to the different subject area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: 4, 62-71 and CO 1.0, 59.0-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: 47-61 and CO 44.0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: 24-46 and CO 21.0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: 5-23 and CO 2.0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Note:  These slide numbers corresponding to the different subject areas are also found on the last slide of this presentation.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Th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udent vers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a version of thes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lides minus the teacher’s “NOTE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democratic republic congo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democratic republic congo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at continent is the Democratic Republic of the Congo located?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inent is north of the Democratic Republic of the Congo?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inent is west of the Democratic Republic of the Congo? 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continent democratic republic Congo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to the Democratic Republic of the Congo from your home, in which direction would you travel? Southeast from a location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, F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travel democratic republic congo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cean is to the west of the Democratic Republic of the Congo? 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ntries are to the east of the Democratic Republic of the Congo?  Burundi, Rwanda, Tanzania, Uganda,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 lake located to the east of the Democratic Republic of the Con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Albert, Lake Edward, Lac Kivu, Lake Tanganyika, Lake Mweru, Lake Victo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democratic republic congo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ity is the capital of the Democratic Republic of the Congo?  Kinsh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ity is located in what direction from Bumba?  Kinshasa is southwest of Bum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of Isiro is located in what direction from Bumba? Isiro is east of Bum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directly north of Bumba, what country would you reach? Central Afric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Bumba capital Isiro relative location geography world geography democratic republic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talking with a friend.  She asks, “Where is the Democratic Republic of the Congo?”  How would you respon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 will vary. Students can give an absolute location or a relative location, i.e., 5 degrees S.L., 25 degrees E.L. or northeast of Ango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from Texas to the Democratic Republic of the Congo, in which direction would you travel? 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from the Democratic Republic of the Congo to Paris, France, in which direction would you travel? Nor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s closest to the Democratic Republic of the Congo?  ___Germany    ___the USA    __X_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 relative location geograph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ge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democratic republic Co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E9C-6812-4B00-808C-E0F0F364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7DC-A357-462F-B032-96D1FEF1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6FB-56DE-4772-8FD7-298DC751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C36-0117-4A91-807A-EC7E9F50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301-7C29-428F-AC68-C22707EA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AEE-E641-4F06-A876-CD1FBA79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938-24F9-4A37-A195-C0664EDA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5FE-5181-4B9F-8BE4-FD7669AE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CD3-0218-469D-9064-20E7B1A8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011-5933-4C48-A681-72A90C6C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4D5-886D-4134-9B7D-7AC6D44B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407-484C-4B42-9CC5-F6079C2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54FA-8234-491F-BE97-0C280E651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1042920"/>
            <a:ext cx="5486400" cy="176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35124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4640" y="66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6880" y="192996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relativ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ble to follow directions given in         relativ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the Democratic Republic of the Congo in relation to other pla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3640" y="5045040"/>
            <a:ext cx="862164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mocratic Republic of the Congo is highlighted in yellow on the map abov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what continent is the Democratic Republic of the Congo locate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ntinent is north of the Democratic Republic of the Cong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ntinent is west of the Democratic Republic of the Cong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worldmap1" descr=""/>
          <p:cNvPicPr/>
          <p:nvPr/>
        </p:nvPicPr>
        <p:blipFill>
          <a:blip r:embed="rId2"/>
          <a:stretch/>
        </p:blipFill>
        <p:spPr>
          <a:xfrm>
            <a:off x="115560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3200" y="2362320"/>
            <a:ext cx="346320" cy="361800"/>
          </a:xfrm>
          <a:custGeom>
            <a:avLst/>
            <a:gdLst/>
            <a:ahLst/>
            <a:rect l="l" t="t" r="r" b="b"/>
            <a:pathLst>
              <a:path w="218" h="228">
                <a:moveTo>
                  <a:pt x="0" y="140"/>
                </a:moveTo>
                <a:cubicBezTo>
                  <a:pt x="9" y="135"/>
                  <a:pt x="23" y="137"/>
                  <a:pt x="28" y="128"/>
                </a:cubicBezTo>
                <a:cubicBezTo>
                  <a:pt x="32" y="120"/>
                  <a:pt x="29" y="109"/>
                  <a:pt x="32" y="100"/>
                </a:cubicBezTo>
                <a:cubicBezTo>
                  <a:pt x="37" y="88"/>
                  <a:pt x="52" y="64"/>
                  <a:pt x="64" y="60"/>
                </a:cubicBezTo>
                <a:cubicBezTo>
                  <a:pt x="76" y="42"/>
                  <a:pt x="71" y="39"/>
                  <a:pt x="56" y="24"/>
                </a:cubicBezTo>
                <a:cubicBezTo>
                  <a:pt x="57" y="20"/>
                  <a:pt x="57" y="14"/>
                  <a:pt x="60" y="12"/>
                </a:cubicBezTo>
                <a:cubicBezTo>
                  <a:pt x="67" y="7"/>
                  <a:pt x="84" y="4"/>
                  <a:pt x="84" y="4"/>
                </a:cubicBezTo>
                <a:cubicBezTo>
                  <a:pt x="101" y="15"/>
                  <a:pt x="110" y="10"/>
                  <a:pt x="128" y="4"/>
                </a:cubicBezTo>
                <a:cubicBezTo>
                  <a:pt x="153" y="10"/>
                  <a:pt x="176" y="0"/>
                  <a:pt x="200" y="8"/>
                </a:cubicBezTo>
                <a:cubicBezTo>
                  <a:pt x="218" y="35"/>
                  <a:pt x="190" y="15"/>
                  <a:pt x="200" y="44"/>
                </a:cubicBezTo>
                <a:cubicBezTo>
                  <a:pt x="197" y="52"/>
                  <a:pt x="195" y="60"/>
                  <a:pt x="192" y="68"/>
                </a:cubicBezTo>
                <a:cubicBezTo>
                  <a:pt x="191" y="72"/>
                  <a:pt x="188" y="80"/>
                  <a:pt x="188" y="80"/>
                </a:cubicBezTo>
                <a:cubicBezTo>
                  <a:pt x="194" y="115"/>
                  <a:pt x="183" y="148"/>
                  <a:pt x="204" y="180"/>
                </a:cubicBezTo>
                <a:cubicBezTo>
                  <a:pt x="186" y="186"/>
                  <a:pt x="182" y="173"/>
                  <a:pt x="176" y="192"/>
                </a:cubicBezTo>
                <a:cubicBezTo>
                  <a:pt x="182" y="215"/>
                  <a:pt x="197" y="214"/>
                  <a:pt x="176" y="228"/>
                </a:cubicBezTo>
                <a:cubicBezTo>
                  <a:pt x="162" y="206"/>
                  <a:pt x="142" y="219"/>
                  <a:pt x="120" y="224"/>
                </a:cubicBezTo>
                <a:cubicBezTo>
                  <a:pt x="92" y="215"/>
                  <a:pt x="105" y="173"/>
                  <a:pt x="80" y="156"/>
                </a:cubicBezTo>
                <a:cubicBezTo>
                  <a:pt x="72" y="161"/>
                  <a:pt x="64" y="167"/>
                  <a:pt x="56" y="172"/>
                </a:cubicBezTo>
                <a:cubicBezTo>
                  <a:pt x="52" y="174"/>
                  <a:pt x="54" y="164"/>
                  <a:pt x="52" y="160"/>
                </a:cubicBezTo>
                <a:cubicBezTo>
                  <a:pt x="50" y="156"/>
                  <a:pt x="47" y="151"/>
                  <a:pt x="44" y="148"/>
                </a:cubicBezTo>
                <a:cubicBezTo>
                  <a:pt x="36" y="140"/>
                  <a:pt x="30" y="139"/>
                  <a:pt x="20" y="136"/>
                </a:cubicBezTo>
                <a:cubicBezTo>
                  <a:pt x="6" y="146"/>
                  <a:pt x="12" y="146"/>
                  <a:pt x="0" y="14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6440" y="5214960"/>
            <a:ext cx="82882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you were to travel to the Democratic Republic of the Congo from your home, in which direction would you travel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5560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813200" y="2362320"/>
            <a:ext cx="346320" cy="361800"/>
          </a:xfrm>
          <a:custGeom>
            <a:avLst/>
            <a:gdLst/>
            <a:ahLst/>
            <a:rect l="l" t="t" r="r" b="b"/>
            <a:pathLst>
              <a:path w="218" h="228">
                <a:moveTo>
                  <a:pt x="0" y="140"/>
                </a:moveTo>
                <a:cubicBezTo>
                  <a:pt x="9" y="135"/>
                  <a:pt x="23" y="137"/>
                  <a:pt x="28" y="128"/>
                </a:cubicBezTo>
                <a:cubicBezTo>
                  <a:pt x="32" y="120"/>
                  <a:pt x="29" y="109"/>
                  <a:pt x="32" y="100"/>
                </a:cubicBezTo>
                <a:cubicBezTo>
                  <a:pt x="37" y="88"/>
                  <a:pt x="52" y="64"/>
                  <a:pt x="64" y="60"/>
                </a:cubicBezTo>
                <a:cubicBezTo>
                  <a:pt x="76" y="42"/>
                  <a:pt x="71" y="39"/>
                  <a:pt x="56" y="24"/>
                </a:cubicBezTo>
                <a:cubicBezTo>
                  <a:pt x="57" y="20"/>
                  <a:pt x="57" y="14"/>
                  <a:pt x="60" y="12"/>
                </a:cubicBezTo>
                <a:cubicBezTo>
                  <a:pt x="67" y="7"/>
                  <a:pt x="84" y="4"/>
                  <a:pt x="84" y="4"/>
                </a:cubicBezTo>
                <a:cubicBezTo>
                  <a:pt x="101" y="15"/>
                  <a:pt x="110" y="10"/>
                  <a:pt x="128" y="4"/>
                </a:cubicBezTo>
                <a:cubicBezTo>
                  <a:pt x="153" y="10"/>
                  <a:pt x="176" y="0"/>
                  <a:pt x="200" y="8"/>
                </a:cubicBezTo>
                <a:cubicBezTo>
                  <a:pt x="218" y="35"/>
                  <a:pt x="190" y="15"/>
                  <a:pt x="200" y="44"/>
                </a:cubicBezTo>
                <a:cubicBezTo>
                  <a:pt x="197" y="52"/>
                  <a:pt x="195" y="60"/>
                  <a:pt x="192" y="68"/>
                </a:cubicBezTo>
                <a:cubicBezTo>
                  <a:pt x="191" y="72"/>
                  <a:pt x="188" y="80"/>
                  <a:pt x="188" y="80"/>
                </a:cubicBezTo>
                <a:cubicBezTo>
                  <a:pt x="194" y="115"/>
                  <a:pt x="183" y="148"/>
                  <a:pt x="204" y="180"/>
                </a:cubicBezTo>
                <a:cubicBezTo>
                  <a:pt x="186" y="186"/>
                  <a:pt x="182" y="173"/>
                  <a:pt x="176" y="192"/>
                </a:cubicBezTo>
                <a:cubicBezTo>
                  <a:pt x="182" y="215"/>
                  <a:pt x="197" y="214"/>
                  <a:pt x="176" y="228"/>
                </a:cubicBezTo>
                <a:cubicBezTo>
                  <a:pt x="162" y="206"/>
                  <a:pt x="142" y="219"/>
                  <a:pt x="120" y="224"/>
                </a:cubicBezTo>
                <a:cubicBezTo>
                  <a:pt x="92" y="215"/>
                  <a:pt x="105" y="173"/>
                  <a:pt x="80" y="156"/>
                </a:cubicBezTo>
                <a:cubicBezTo>
                  <a:pt x="72" y="161"/>
                  <a:pt x="64" y="167"/>
                  <a:pt x="56" y="172"/>
                </a:cubicBezTo>
                <a:cubicBezTo>
                  <a:pt x="52" y="174"/>
                  <a:pt x="54" y="164"/>
                  <a:pt x="52" y="160"/>
                </a:cubicBezTo>
                <a:cubicBezTo>
                  <a:pt x="50" y="156"/>
                  <a:pt x="47" y="151"/>
                  <a:pt x="44" y="148"/>
                </a:cubicBezTo>
                <a:cubicBezTo>
                  <a:pt x="36" y="140"/>
                  <a:pt x="30" y="139"/>
                  <a:pt x="20" y="136"/>
                </a:cubicBezTo>
                <a:cubicBezTo>
                  <a:pt x="6" y="146"/>
                  <a:pt x="12" y="146"/>
                  <a:pt x="0" y="14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mocratic Republic of the Congo is shaded on the map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54608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ocean is to the west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untries are to the east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a lake located to the east of the Democratic Republic of the Cong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286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goDem" descr=""/>
          <p:cNvPicPr/>
          <p:nvPr/>
        </p:nvPicPr>
        <p:blipFill>
          <a:blip r:embed="rId2"/>
          <a:stretch/>
        </p:blipFill>
        <p:spPr>
          <a:xfrm>
            <a:off x="1433520" y="1266840"/>
            <a:ext cx="6286320" cy="40352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4610160"/>
            <a:ext cx="876312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mba is highlighted on th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ity is the capital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ity is located in what direction from Bum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ity of Isiro is located in what direction from Bum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ere to travel directly north of Bumba, what country would you rea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304920"/>
          <a:ext cx="6477120" cy="42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920"/>
                    <a:ext cx="64771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46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400" y="1676160"/>
            <a:ext cx="8359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talking with a friend.  She asks, “Where is the Democratic Republic of the Congo?”  How would you respo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ere to travel from Texas to the Democratic Republic of the Congo, in which direction would you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ere to travel from the Democratic Republic of the Congo to Paris, France, in which direction would you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closest to the Democratic Republic of the Congo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80880" y="1981080"/>
            <a:ext cx="8570880" cy="4914000"/>
            <a:chOff x="380880" y="1981080"/>
            <a:chExt cx="8570880" cy="491400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22960" y="2166840"/>
              <a:ext cx="2728800" cy="47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32:11Z</dcterms:created>
  <dc:creator>Jeremiah McNichols</dc:creator>
  <dc:description/>
  <dc:language>en-US</dc:language>
  <cp:lastModifiedBy>Jeremiah McNichols</cp:lastModifiedBy>
  <dcterms:modified xsi:type="dcterms:W3CDTF">2008-09-11T16:07:23Z</dcterms:modified>
  <cp:revision>3</cp:revision>
  <dc:subject/>
  <dc:title>Slide 1</dc:title>
</cp:coreProperties>
</file>