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8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D0405-8260-40AA-9882-84064F3216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 for entire vocabulary challenge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B: The student is expected to: draw on experiences to bring meanings to words in context such as interpreting idioms, multiple-meaning words, and analogies (6-8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: use multiple reference aids, including a thesaurus, a synonym finder, a dictionary, and software, to clarify meanings and usage (4-8)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A: use his/her own knowledge and experience to comprehend (4-8)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F403A-7599-4F55-B8F5-1D4B82907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AB209-F095-46AE-B5FC-443C6C6AE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0E2E7-4FB1-4B5B-8E17-1291B1F08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B2135-2FE0-4EEF-ADB9-ECA82057E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64F63-537E-4E86-B248-9B76E60C2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330B7-4BA8-4081-AB8F-0357E8B3F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96A67-6461-4F99-9C17-F73B6C35E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3FAC9-9803-4839-AD64-8B527E39B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D6B5E-AAEE-43A7-9F2D-6AEF3B2AF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DBB43-7BFE-4D00-A488-59AFA123D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6CED2-ECED-4115-BECC-F532B05FB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87091-94D1-4501-A008-181976512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9C7C8-90AD-426C-855B-14483D2CBBE1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008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bebeb"/>
                </a:solidFill>
                <a:latin typeface="Times New Roman"/>
              </a:rPr>
              <a:t>Vocabulary Challenge Quiz</a:t>
            </a:r>
            <a:endParaRPr b="0" lang="en-US" sz="7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99880" y="3962520"/>
            <a:ext cx="861084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Times New Roman"/>
              </a:rPr>
              <a:t>Read each passage carefully and then indicate the meaning of each underlined word by clicking A, B, or C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757080" y="1900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9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“ ‘You don’t really want to wait here do you?’ asked K.T.   Sitting still was not her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forte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.”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rien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omething someone likes or can do well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fault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9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979560" y="4657680"/>
            <a:ext cx="311040" cy="3859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985680" y="3584520"/>
            <a:ext cx="311400" cy="3859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4"/>
          <a:stretch/>
        </p:blipFill>
        <p:spPr>
          <a:xfrm>
            <a:off x="982800" y="4105440"/>
            <a:ext cx="311040" cy="38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757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6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10. “He hurried to the radio, apparently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obliviou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to Summer waiting there.  ‘He’s already forgotten me,’ thought Summer.”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Unawar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d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ppose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9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979560" y="4557600"/>
            <a:ext cx="311040" cy="3859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985680" y="3495600"/>
            <a:ext cx="311400" cy="3859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982800" y="4027320"/>
            <a:ext cx="311040" cy="3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ebeb"/>
                </a:solidFill>
                <a:latin typeface="Times New Roman"/>
              </a:rPr>
              <a:t>Vocabulary</a:t>
            </a:r>
            <a:r>
              <a:rPr b="1" lang="en-US" sz="4400" spc="-1" strike="noStrike">
                <a:solidFill>
                  <a:srgbClr val="ebebeb"/>
                </a:solidFill>
                <a:latin typeface="Times New Roman"/>
              </a:rPr>
              <a:t> Challen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9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3176640" y="2800440"/>
            <a:ext cx="2790720" cy="12571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4091040" y="4610160"/>
            <a:ext cx="961920" cy="5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380880" y="173988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957240" indent="-6094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ike a toddler, the monkey had bitten her the       next time she was handled. ‘Despite a degree in medicine and a PhD in virology, there is still much for me to learn about </a:t>
            </a:r>
            <a:r>
              <a:rPr b="0" lang="en-US" sz="2800" spc="-1" strike="noStrike" u="sng">
                <a:solidFill>
                  <a:srgbClr val="ebebeb"/>
                </a:solidFill>
                <a:uFillTx/>
                <a:latin typeface="Times New Roman"/>
              </a:rPr>
              <a:t>primates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,’ Kathy thought.”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957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2" name="" descr="Africa"/>
          <p:cNvPicPr/>
          <p:nvPr/>
        </p:nvPicPr>
        <p:blipFill>
          <a:blip r:embed="rId2"/>
          <a:stretch/>
        </p:blipFill>
        <p:spPr>
          <a:xfrm>
            <a:off x="5638680" y="4127400"/>
            <a:ext cx="3048120" cy="2367000"/>
          </a:xfrm>
          <a:prstGeom prst="rect">
            <a:avLst/>
          </a:prstGeom>
          <a:ln w="76320">
            <a:solidFill>
              <a:srgbClr val="3b5323"/>
            </a:solidFill>
            <a:miter/>
          </a:ln>
        </p:spPr>
      </p:pic>
      <p:sp>
        <p:nvSpPr>
          <p:cNvPr id="53" name=""/>
          <p:cNvSpPr/>
          <p:nvPr/>
        </p:nvSpPr>
        <p:spPr>
          <a:xfrm>
            <a:off x="433440" y="3884760"/>
            <a:ext cx="5562720" cy="228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Primitive think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Very old artifact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A group of animals including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monkeys, apes and huma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685800" y="252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8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990720" y="4813200"/>
            <a:ext cx="311040" cy="3859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996840" y="3917880"/>
            <a:ext cx="311400" cy="3859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5"/>
          <a:stretch/>
        </p:blipFill>
        <p:spPr>
          <a:xfrm>
            <a:off x="993600" y="4361040"/>
            <a:ext cx="311400" cy="38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“The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crescendo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filled her ears until she felt her own body humming, then fell back to a soft drone.”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luid build up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build up in the volume of soun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great annoyanc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911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8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990720" y="4646520"/>
            <a:ext cx="311040" cy="3859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996840" y="3606840"/>
            <a:ext cx="311400" cy="3855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993600" y="4116240"/>
            <a:ext cx="311400" cy="3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7621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3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“Dr. Allen followed Dr. Kalevu into the one room clinic and directed the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porter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to unload their backpacks on the front porch.”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eople employed to carry bags for traveler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lumber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anguage translator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9144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8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990720" y="4624560"/>
            <a:ext cx="311040" cy="38556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996840" y="3584520"/>
            <a:ext cx="311400" cy="3859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993600" y="4094280"/>
            <a:ext cx="311400" cy="38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757080" y="1905120"/>
            <a:ext cx="796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4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“The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emaciated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man mumbled the answers hoarsely. He seemed barely able to breathe.”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althy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l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Extremely thin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8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979560" y="4168800"/>
            <a:ext cx="311040" cy="3855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985680" y="3062160"/>
            <a:ext cx="311400" cy="3859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4"/>
          <a:stretch/>
        </p:blipFill>
        <p:spPr>
          <a:xfrm>
            <a:off x="982800" y="3627360"/>
            <a:ext cx="311040" cy="3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757080" y="1895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5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“The mother held her infant to her breast, mopping his face with a dirty rag as he sweated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profusely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and tried to nurse.”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rofoundly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Excessively, freely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oudly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8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979560" y="4657680"/>
            <a:ext cx="311040" cy="3859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985680" y="3571920"/>
            <a:ext cx="311400" cy="38556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4"/>
          <a:stretch/>
        </p:blipFill>
        <p:spPr>
          <a:xfrm>
            <a:off x="982800" y="4114800"/>
            <a:ext cx="311040" cy="3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757080" y="18954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5760" indent="-455760">
              <a:spcBef>
                <a:spcPts val="799"/>
              </a:spcBef>
              <a:tabLst>
                <a:tab algn="l" pos="0"/>
                <a:tab algn="l" pos="91116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  <a:tab algn="l" pos="880128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6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Modern buildings of concrete, glass and steel lined the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  <a:ea typeface="Times New Roman"/>
              </a:rPr>
              <a:t>thoroughfare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 filled with buses, cars, and pedestrians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>
              <a:spcBef>
                <a:spcPts val="700"/>
              </a:spcBef>
              <a:tabLst>
                <a:tab algn="l" pos="0"/>
                <a:tab algn="l" pos="91116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  <a:tab algn="l" pos="880128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dewal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>
              <a:spcBef>
                <a:spcPts val="700"/>
              </a:spcBef>
              <a:tabLst>
                <a:tab algn="l" pos="0"/>
                <a:tab algn="l" pos="91116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  <a:tab algn="l" pos="88012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in road or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public high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>
              <a:spcBef>
                <a:spcPts val="700"/>
              </a:spcBef>
              <a:tabLst>
                <a:tab algn="l" pos="0"/>
                <a:tab algn="l" pos="91116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  <a:tab algn="l" pos="88012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rking lot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116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  <a:tab algn="l" pos="88012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Africa"/>
          <p:cNvPicPr/>
          <p:nvPr/>
        </p:nvPicPr>
        <p:blipFill>
          <a:blip r:embed="rId2"/>
          <a:stretch/>
        </p:blipFill>
        <p:spPr>
          <a:xfrm>
            <a:off x="4730760" y="3591000"/>
            <a:ext cx="4017960" cy="2674800"/>
          </a:xfrm>
          <a:prstGeom prst="rect">
            <a:avLst/>
          </a:prstGeom>
          <a:ln w="76320">
            <a:solidFill>
              <a:srgbClr val="3b5323"/>
            </a:solidFill>
            <a:miter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8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979560" y="5046840"/>
            <a:ext cx="311040" cy="3855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4"/>
          <a:stretch/>
        </p:blipFill>
        <p:spPr>
          <a:xfrm>
            <a:off x="985680" y="3595680"/>
            <a:ext cx="311400" cy="3859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5"/>
          <a:stretch/>
        </p:blipFill>
        <p:spPr>
          <a:xfrm>
            <a:off x="982800" y="4149720"/>
            <a:ext cx="311040" cy="3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757080" y="18954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51080" indent="-451080">
              <a:spcBef>
                <a:spcPts val="2001"/>
              </a:spcBef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7.  “ ‘What do you want?’ he barked . . . Summer, K.T., and Travis all jumped, but the other doctors seemed accustomed to Dr. Sonnier’s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brusque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manner. Everyone went on without looking up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1080" indent="-451080">
              <a:spcBef>
                <a:spcPts val="700"/>
              </a:spcBef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ude, abrup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1080" indent="-451080">
              <a:spcBef>
                <a:spcPts val="700"/>
              </a:spcBef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ra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1080" indent="-451080">
              <a:spcBef>
                <a:spcPts val="700"/>
              </a:spcBef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Qui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1080" indent="-451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8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979560" y="5635800"/>
            <a:ext cx="311040" cy="3855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985680" y="4529160"/>
            <a:ext cx="311400" cy="3859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4"/>
          <a:stretch/>
        </p:blipFill>
        <p:spPr>
          <a:xfrm>
            <a:off x="982800" y="5094360"/>
            <a:ext cx="311040" cy="38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757080" y="1895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8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“Summer suddenly shivered despite the heat. Now that they were gone, she could drop the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façade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of cool and calm.”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eceptive appearanc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rea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ope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911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8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979560" y="4624560"/>
            <a:ext cx="311040" cy="3855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985680" y="3573360"/>
            <a:ext cx="311400" cy="3859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982800" y="4095720"/>
            <a:ext cx="311040" cy="3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8T02:22:02Z</dcterms:created>
  <dc:creator>Gina Balducci</dc:creator>
  <dc:description/>
  <dc:language>en-US</dc:language>
  <cp:lastModifiedBy>Texas A&amp;M Veterinary Medicine</cp:lastModifiedBy>
  <dcterms:modified xsi:type="dcterms:W3CDTF">2007-04-19T16:33:56Z</dcterms:modified>
  <cp:revision>66</cp:revision>
  <dc:subject/>
  <dc:title>Vocab Challenge</dc:title>
</cp:coreProperties>
</file>