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4E7-7487-4269-9B0A-4A76124D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What city is located at 0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, 25° E.?  Kisang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What city is located at 13° S., 27° E.?  Lubumb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6.5° S., 22° E.? Kana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3° S., 28° E.?  Buka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ddress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Kisangani Lubumbashi Kananga Bakavu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lobal address of a place using latitude and longitude is known as the absolut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north of the equator are referred to as North Lat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west of the Prime Meridian are referred to as West Long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latitude and longitude are measured in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lobal address Prime Meridian latitude longitude equator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Northern or South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Eastern or West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teacher: A latitude and longitude tutorial is contained in the Append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global address latitude longitude hemisphere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frica map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northern part of Africa?  About 37 degrees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southern part of Africa?  About 35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western part of Africa?   About 17 degrees 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eastern part of Africa?   About 51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lobal address absolut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Kinshasa?  About 4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ongitude for Kinshasa?  About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location for Kinshasa, DRC is  about 4 degrees S.,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location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further North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closer to the Equator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Eastern Hemisphere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Western Hemisphere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equator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E6A-5694-4DFC-B6C3-2C8EB539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A41-6D63-4B75-8DBF-113A8AD4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43E-D8A8-46B5-83BD-A56D7716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6FE-FFA0-4BF7-AD81-3058CEC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E7C-2479-439A-A131-F46102FF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1A3-21AF-489C-A312-936B6ED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7DA-873E-4E96-AA32-C4370A1C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48D-A7B3-4A4A-9ED6-D9791C6C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51C-3ED2-4FF1-99D8-D115D17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59-9604-487E-AE12-A021766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E36-8D9D-45A0-A3BF-4DFA8CD3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3F3-591F-48E7-99ED-7D4BC48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C668-70FE-4432-A950-A3A32BA6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%20SSQ.ppt" TargetMode="External"/><Relationship Id="rId3" Type="http://schemas.openxmlformats.org/officeDocument/2006/relationships/hyperlink" Target="file:///Appendices/CO%20SSQ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42840" y="45525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ity is located at 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? 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13° S, 27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6.5° S, 22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3° S, 28° E? 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ngoDem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47760" y="4538520"/>
            <a:ext cx="6510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186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sangani is located at 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bumbashi is located at 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7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anga is located at 6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2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avu is located at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8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73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6880" y="177480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absolute lo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to read longitude and latitude coordinates on a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Af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of the cent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degrees North Latitude and 21 degrees East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° N, 21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880" y="5226120"/>
            <a:ext cx="798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the center of Afri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1°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058760" y="511200"/>
            <a:ext cx="70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 copy" descr=""/>
          <p:cNvPicPr/>
          <p:nvPr/>
        </p:nvPicPr>
        <p:blipFill>
          <a:blip r:embed="rId3"/>
          <a:stretch/>
        </p:blipFill>
        <p:spPr>
          <a:xfrm>
            <a:off x="1143000" y="603360"/>
            <a:ext cx="6859440" cy="386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57720" y="1720800"/>
            <a:ext cx="124920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4160" y="590400"/>
            <a:ext cx="683568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43440"/>
            <a:ext cx="77724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Af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the most nor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atitude for the most sou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the most western part of Africa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ongitude for the most eastern part of Africa?  _______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Kinshasa, Democratic Republic of the Congo (DRC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address or absolute location of Kinshasa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 and 15.4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5257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Kinshasa, D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15.4°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goDem" descr=""/>
          <p:cNvPicPr/>
          <p:nvPr/>
        </p:nvPicPr>
        <p:blipFill>
          <a:blip r:embed="rId2"/>
          <a:stretch/>
        </p:blipFill>
        <p:spPr>
          <a:xfrm>
            <a:off x="1461960" y="642960"/>
            <a:ext cx="628668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363680" y="550800"/>
            <a:ext cx="64738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2880" y="2671920"/>
            <a:ext cx="790560" cy="163440"/>
          </a:xfrm>
          <a:custGeom>
            <a:avLst/>
            <a:gdLst/>
            <a:ahLst/>
            <a:rect l="l" t="t" r="r" b="b"/>
            <a:pathLst>
              <a:path w="498" h="103">
                <a:moveTo>
                  <a:pt x="40" y="36"/>
                </a:moveTo>
                <a:cubicBezTo>
                  <a:pt x="58" y="39"/>
                  <a:pt x="77" y="49"/>
                  <a:pt x="95" y="45"/>
                </a:cubicBezTo>
                <a:cubicBezTo>
                  <a:pt x="169" y="27"/>
                  <a:pt x="59" y="0"/>
                  <a:pt x="140" y="27"/>
                </a:cubicBezTo>
                <a:cubicBezTo>
                  <a:pt x="239" y="11"/>
                  <a:pt x="367" y="32"/>
                  <a:pt x="460" y="36"/>
                </a:cubicBezTo>
                <a:cubicBezTo>
                  <a:pt x="469" y="39"/>
                  <a:pt x="484" y="36"/>
                  <a:pt x="488" y="45"/>
                </a:cubicBezTo>
                <a:cubicBezTo>
                  <a:pt x="498" y="70"/>
                  <a:pt x="473" y="87"/>
                  <a:pt x="460" y="100"/>
                </a:cubicBezTo>
                <a:cubicBezTo>
                  <a:pt x="388" y="76"/>
                  <a:pt x="472" y="100"/>
                  <a:pt x="314" y="100"/>
                </a:cubicBezTo>
                <a:cubicBezTo>
                  <a:pt x="268" y="100"/>
                  <a:pt x="223" y="94"/>
                  <a:pt x="177" y="91"/>
                </a:cubicBezTo>
                <a:cubicBezTo>
                  <a:pt x="142" y="103"/>
                  <a:pt x="121" y="88"/>
                  <a:pt x="86" y="100"/>
                </a:cubicBezTo>
                <a:cubicBezTo>
                  <a:pt x="68" y="97"/>
                  <a:pt x="47" y="100"/>
                  <a:pt x="31" y="91"/>
                </a:cubicBezTo>
                <a:cubicBezTo>
                  <a:pt x="0" y="73"/>
                  <a:pt x="32" y="27"/>
                  <a:pt x="58" y="27"/>
                </a:cubicBezTo>
                <a:cubicBezTo>
                  <a:pt x="65" y="27"/>
                  <a:pt x="46" y="33"/>
                  <a:pt x="40" y="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863640" y="5121360"/>
            <a:ext cx="741672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Kinshasa, DRC on th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Kinshasa? 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Kinshasa? _________° West or E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for Kinshasa, DRC is ___________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4800" y="33480"/>
            <a:ext cx="7848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14360" y="4395960"/>
            <a:ext cx="6561360" cy="22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0" algn="ct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Kinshasa, DRC is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15°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, 95°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further Nor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Western Hemispher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1000" y="519120"/>
            <a:ext cx="6637320" cy="374004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1:20Z</dcterms:created>
  <dc:creator>Jeremiah McNichols</dc:creator>
  <dc:description/>
  <dc:language>en-US</dc:language>
  <cp:lastModifiedBy>Jeremiah McNichols</cp:lastModifiedBy>
  <dcterms:modified xsi:type="dcterms:W3CDTF">2008-09-11T15:58:03Z</dcterms:modified>
  <cp:revision>3</cp:revision>
  <dc:subject/>
  <dc:title>Slide 1</dc:title>
</cp:coreProperties>
</file>