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6C33-3949-49BC-AB02-D1DFB7891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ease open the “Read This First - TEACHER INSTRUCTIONS” file on the CD before attemp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view this presen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lide numbers of this presentation corresponding to the different subject areas 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: 4, 62-71 and CO 1.0, 59.0-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: 47-61 and CO 44.0-5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: 24-46 and CO 21.0-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: 5-23 and CO 2.0-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Note:  These slide numbers corresponding to the different subject areas are also found on the last slide of this presentation.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This “NOTES” section contains teacher notes for each slide including a variety of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Th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udent vers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a version of thes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lides minus the teacher’s “NOTES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Prior to viewing any presentation, check your computer for proper settings as described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Read This First - TEACHER INSTRUCTIONS” f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ocated on the C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To view in Slide Show mode, one must select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relative location democratic republic congo geography world 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relative location democratic republic congo geography world 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at continent is the Democratic Republic of the Congo located?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inent is north of the Democratic Republic of the Congo?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inent is west of the Democratic Republic of the Congo? 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continent democratic republic Congo relative location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to travel to the Democratic Republic of the Congo from your home, in which direction would you travel? Southeast from a location in 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, F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th skills to interpret social studies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relative location travel democratic republic congo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cean is to the west of the Democratic Republic of the Congo? 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ntries are to the east of the Democratic Republic of the Congo?  Burundi, Rwanda, Tanzania, Uganda, Za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 lake located to the east of the Democratic Republic of the Con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Albert, Lake Edward, Lac Kivu, Lake Tanganyika, Lake Mweru, Lake Victo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sing and answering questions about geographic distributions and patter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democratic republic congo geography world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ity is the capital of the Democratic Republic of the Congo?  Kinsh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ity is located in what direction from Bumba?  Kinshasa is southwest of Bum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of Isiro is located in what direction from Bumba? Isiro is east of Bum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to travel directly north of Bumba, what country would you reach? Central Afric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Bumba capital Isiro relative location geography world geography democratic republic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talking with a friend.  She asks, “Where is the Democratic Republic of the Congo?”  How would you respon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 will vary. Students can give an absolute location or a relative location, i.e., 5 degrees S.L., 25 degrees E.L. or northeast of Ango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to travel from Texas to the Democratic Republic of the Congo, in which direction would you travel? Sou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to travel from the Democratic Republic of the Congo to Paris, France, in which direction would you travel? Nor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 following is closest to the Democratic Republic of the Congo?  ___Germany    ___the USA    __X_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EYWORDS:  relative location geograph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geograp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democratic republic Con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A9E6-0278-4576-94BB-698C7E1F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B57C-2D1E-4EA8-B455-EF47FACE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3EAC-6BA5-4F39-B6D6-2E488D15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A743-FFAC-4607-A4F4-22FEFB0F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9268-E838-486E-897F-CD5D64DC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7F95-D24C-4DD0-96DE-DBDA2E74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990C-9A16-4BDB-9AF2-53866215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7E0F-E5DE-4680-BF20-A44935FD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9927-AC22-4495-AAFA-074A9E83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B98-0CC7-4FAD-A295-79DC4E7A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0747-99B2-4248-8994-29059411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27A4-F779-4493-9833-B7F75C3C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8571-98AC-4FD7-AAD4-4B3701625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05120" y="1042920"/>
            <a:ext cx="5486400" cy="1765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35124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4640" y="66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56880" y="192996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about relative lo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ble to follow directions given in         relative lo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765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36576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is the Democratic Republic of the Congo in relation to other pla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6765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3640" y="5045040"/>
            <a:ext cx="8621640" cy="17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mocratic Republic of the Congo is highlighted in yellow on the map abov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what continent is the Democratic Republic of the Congo located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ontinent is north of the Democratic Republic of the Cong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ontinent is west of the Democratic Republic of the Cong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worldmap1" descr=""/>
          <p:cNvPicPr/>
          <p:nvPr/>
        </p:nvPicPr>
        <p:blipFill>
          <a:blip r:embed="rId2"/>
          <a:stretch/>
        </p:blipFill>
        <p:spPr>
          <a:xfrm>
            <a:off x="115560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813200" y="2362320"/>
            <a:ext cx="346320" cy="361800"/>
          </a:xfrm>
          <a:custGeom>
            <a:avLst/>
            <a:gdLst/>
            <a:ahLst/>
            <a:rect l="l" t="t" r="r" b="b"/>
            <a:pathLst>
              <a:path w="218" h="228">
                <a:moveTo>
                  <a:pt x="0" y="140"/>
                </a:moveTo>
                <a:cubicBezTo>
                  <a:pt x="9" y="135"/>
                  <a:pt x="23" y="137"/>
                  <a:pt x="28" y="128"/>
                </a:cubicBezTo>
                <a:cubicBezTo>
                  <a:pt x="32" y="120"/>
                  <a:pt x="29" y="109"/>
                  <a:pt x="32" y="100"/>
                </a:cubicBezTo>
                <a:cubicBezTo>
                  <a:pt x="37" y="88"/>
                  <a:pt x="52" y="64"/>
                  <a:pt x="64" y="60"/>
                </a:cubicBezTo>
                <a:cubicBezTo>
                  <a:pt x="76" y="42"/>
                  <a:pt x="71" y="39"/>
                  <a:pt x="56" y="24"/>
                </a:cubicBezTo>
                <a:cubicBezTo>
                  <a:pt x="57" y="20"/>
                  <a:pt x="57" y="14"/>
                  <a:pt x="60" y="12"/>
                </a:cubicBezTo>
                <a:cubicBezTo>
                  <a:pt x="67" y="7"/>
                  <a:pt x="84" y="4"/>
                  <a:pt x="84" y="4"/>
                </a:cubicBezTo>
                <a:cubicBezTo>
                  <a:pt x="101" y="15"/>
                  <a:pt x="110" y="10"/>
                  <a:pt x="128" y="4"/>
                </a:cubicBezTo>
                <a:cubicBezTo>
                  <a:pt x="153" y="10"/>
                  <a:pt x="176" y="0"/>
                  <a:pt x="200" y="8"/>
                </a:cubicBezTo>
                <a:cubicBezTo>
                  <a:pt x="218" y="35"/>
                  <a:pt x="190" y="15"/>
                  <a:pt x="200" y="44"/>
                </a:cubicBezTo>
                <a:cubicBezTo>
                  <a:pt x="197" y="52"/>
                  <a:pt x="195" y="60"/>
                  <a:pt x="192" y="68"/>
                </a:cubicBezTo>
                <a:cubicBezTo>
                  <a:pt x="191" y="72"/>
                  <a:pt x="188" y="80"/>
                  <a:pt x="188" y="80"/>
                </a:cubicBezTo>
                <a:cubicBezTo>
                  <a:pt x="194" y="115"/>
                  <a:pt x="183" y="148"/>
                  <a:pt x="204" y="180"/>
                </a:cubicBezTo>
                <a:cubicBezTo>
                  <a:pt x="186" y="186"/>
                  <a:pt x="182" y="173"/>
                  <a:pt x="176" y="192"/>
                </a:cubicBezTo>
                <a:cubicBezTo>
                  <a:pt x="182" y="215"/>
                  <a:pt x="197" y="214"/>
                  <a:pt x="176" y="228"/>
                </a:cubicBezTo>
                <a:cubicBezTo>
                  <a:pt x="162" y="206"/>
                  <a:pt x="142" y="219"/>
                  <a:pt x="120" y="224"/>
                </a:cubicBezTo>
                <a:cubicBezTo>
                  <a:pt x="92" y="215"/>
                  <a:pt x="105" y="173"/>
                  <a:pt x="80" y="156"/>
                </a:cubicBezTo>
                <a:cubicBezTo>
                  <a:pt x="72" y="161"/>
                  <a:pt x="64" y="167"/>
                  <a:pt x="56" y="172"/>
                </a:cubicBezTo>
                <a:cubicBezTo>
                  <a:pt x="52" y="174"/>
                  <a:pt x="54" y="164"/>
                  <a:pt x="52" y="160"/>
                </a:cubicBezTo>
                <a:cubicBezTo>
                  <a:pt x="50" y="156"/>
                  <a:pt x="47" y="151"/>
                  <a:pt x="44" y="148"/>
                </a:cubicBezTo>
                <a:cubicBezTo>
                  <a:pt x="36" y="140"/>
                  <a:pt x="30" y="139"/>
                  <a:pt x="20" y="136"/>
                </a:cubicBezTo>
                <a:cubicBezTo>
                  <a:pt x="6" y="146"/>
                  <a:pt x="12" y="146"/>
                  <a:pt x="0" y="140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06440" y="5214960"/>
            <a:ext cx="82882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you were to travel to the Democratic Republic of the Congo from your home, in which direction would you travel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5560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4813200" y="2362320"/>
            <a:ext cx="346320" cy="361800"/>
          </a:xfrm>
          <a:custGeom>
            <a:avLst/>
            <a:gdLst/>
            <a:ahLst/>
            <a:rect l="l" t="t" r="r" b="b"/>
            <a:pathLst>
              <a:path w="218" h="228">
                <a:moveTo>
                  <a:pt x="0" y="140"/>
                </a:moveTo>
                <a:cubicBezTo>
                  <a:pt x="9" y="135"/>
                  <a:pt x="23" y="137"/>
                  <a:pt x="28" y="128"/>
                </a:cubicBezTo>
                <a:cubicBezTo>
                  <a:pt x="32" y="120"/>
                  <a:pt x="29" y="109"/>
                  <a:pt x="32" y="100"/>
                </a:cubicBezTo>
                <a:cubicBezTo>
                  <a:pt x="37" y="88"/>
                  <a:pt x="52" y="64"/>
                  <a:pt x="64" y="60"/>
                </a:cubicBezTo>
                <a:cubicBezTo>
                  <a:pt x="76" y="42"/>
                  <a:pt x="71" y="39"/>
                  <a:pt x="56" y="24"/>
                </a:cubicBezTo>
                <a:cubicBezTo>
                  <a:pt x="57" y="20"/>
                  <a:pt x="57" y="14"/>
                  <a:pt x="60" y="12"/>
                </a:cubicBezTo>
                <a:cubicBezTo>
                  <a:pt x="67" y="7"/>
                  <a:pt x="84" y="4"/>
                  <a:pt x="84" y="4"/>
                </a:cubicBezTo>
                <a:cubicBezTo>
                  <a:pt x="101" y="15"/>
                  <a:pt x="110" y="10"/>
                  <a:pt x="128" y="4"/>
                </a:cubicBezTo>
                <a:cubicBezTo>
                  <a:pt x="153" y="10"/>
                  <a:pt x="176" y="0"/>
                  <a:pt x="200" y="8"/>
                </a:cubicBezTo>
                <a:cubicBezTo>
                  <a:pt x="218" y="35"/>
                  <a:pt x="190" y="15"/>
                  <a:pt x="200" y="44"/>
                </a:cubicBezTo>
                <a:cubicBezTo>
                  <a:pt x="197" y="52"/>
                  <a:pt x="195" y="60"/>
                  <a:pt x="192" y="68"/>
                </a:cubicBezTo>
                <a:cubicBezTo>
                  <a:pt x="191" y="72"/>
                  <a:pt x="188" y="80"/>
                  <a:pt x="188" y="80"/>
                </a:cubicBezTo>
                <a:cubicBezTo>
                  <a:pt x="194" y="115"/>
                  <a:pt x="183" y="148"/>
                  <a:pt x="204" y="180"/>
                </a:cubicBezTo>
                <a:cubicBezTo>
                  <a:pt x="186" y="186"/>
                  <a:pt x="182" y="173"/>
                  <a:pt x="176" y="192"/>
                </a:cubicBezTo>
                <a:cubicBezTo>
                  <a:pt x="182" y="215"/>
                  <a:pt x="197" y="214"/>
                  <a:pt x="176" y="228"/>
                </a:cubicBezTo>
                <a:cubicBezTo>
                  <a:pt x="162" y="206"/>
                  <a:pt x="142" y="219"/>
                  <a:pt x="120" y="224"/>
                </a:cubicBezTo>
                <a:cubicBezTo>
                  <a:pt x="92" y="215"/>
                  <a:pt x="105" y="173"/>
                  <a:pt x="80" y="156"/>
                </a:cubicBezTo>
                <a:cubicBezTo>
                  <a:pt x="72" y="161"/>
                  <a:pt x="64" y="167"/>
                  <a:pt x="56" y="172"/>
                </a:cubicBezTo>
                <a:cubicBezTo>
                  <a:pt x="52" y="174"/>
                  <a:pt x="54" y="164"/>
                  <a:pt x="52" y="160"/>
                </a:cubicBezTo>
                <a:cubicBezTo>
                  <a:pt x="50" y="156"/>
                  <a:pt x="47" y="151"/>
                  <a:pt x="44" y="148"/>
                </a:cubicBezTo>
                <a:cubicBezTo>
                  <a:pt x="36" y="140"/>
                  <a:pt x="30" y="139"/>
                  <a:pt x="20" y="136"/>
                </a:cubicBezTo>
                <a:cubicBezTo>
                  <a:pt x="6" y="146"/>
                  <a:pt x="12" y="146"/>
                  <a:pt x="0" y="140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mocratic Republic of the Congo is shaded on the map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54608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ocean is to the west of the Democratic Republic of the Cong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ountries are to the east of the Democratic Republic of the Cong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a lake located to the east of the Democratic Republic of the Congo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2438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2860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44197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3429000"/>
            <a:ext cx="198108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goDem" descr=""/>
          <p:cNvPicPr/>
          <p:nvPr/>
        </p:nvPicPr>
        <p:blipFill>
          <a:blip r:embed="rId2"/>
          <a:stretch/>
        </p:blipFill>
        <p:spPr>
          <a:xfrm>
            <a:off x="1433520" y="1266840"/>
            <a:ext cx="6286320" cy="403524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4610160"/>
            <a:ext cx="8763120" cy="20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mba is highlighted on the m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ity is the capital of the Democratic Republic of the Cong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ity is located in what direction from Bumb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ity of Isiro is located in what direction from Bumb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were to travel directly north of Bumba, what country would you rea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304920"/>
          <a:ext cx="6477120" cy="422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04920"/>
                    <a:ext cx="647712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46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8400" y="1676160"/>
            <a:ext cx="8359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talking with a friend.  She asks, “Where is the Democratic Republic of the Congo?”  How would you respo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were to travel from Texas to the Democratic Republic of the Congo, in which direction would you trav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were to travel from the Democratic Republic of the Congo to Paris, France, in which direction would you trav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closest to the Democratic Republic of the Congo?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S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80880" y="1981080"/>
            <a:ext cx="8570880" cy="4914000"/>
            <a:chOff x="380880" y="1981080"/>
            <a:chExt cx="8570880" cy="4914000"/>
          </a:xfrm>
        </p:grpSpPr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3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22960" y="2166840"/>
              <a:ext cx="2728800" cy="47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5:32:11Z</dcterms:created>
  <dc:creator>Jeremiah McNichols</dc:creator>
  <dc:description/>
  <dc:language>en-US</dc:language>
  <cp:lastModifiedBy>Jeremiah McNichols</cp:lastModifiedBy>
  <dcterms:modified xsi:type="dcterms:W3CDTF">2008-09-11T16:07:23Z</dcterms:modified>
  <cp:revision>3</cp:revision>
  <dc:subject/>
  <dc:title>Slide 1</dc:title>
</cp:coreProperties>
</file>