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C4EE-148C-4D18-A502-EEB21B213AAF}"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B59F8-A800-4CF6-A3A0-2639D2097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B7A12-0327-4B23-8B97-917F4AEDEE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6EE52-7F5D-4289-897A-C196CB541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80968-542D-4A7F-8157-F383E4AE1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9DA4E-2198-4099-8349-8A4CD4AB3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FBDDD-2670-486C-A081-B909E3EB3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F56DD-4B11-4174-ADA0-5996C3441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7C086-0B22-4552-9F6E-BD1758B81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4D19E-3704-40BB-882C-04DB9E81E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B46EE-9E72-41B1-B3A2-EE8B71D49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F35A6-0C44-48FE-BCCF-4C79BE920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03B88-9F9E-47A6-9B1A-14182C5D9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96FB-7123-4AED-9D82-D90820553881}"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685800" y="1523880"/>
            <a:ext cx="2000160" cy="2067120"/>
          </a:xfrm>
          <a:prstGeom prst="rect">
            <a:avLst/>
          </a:prstGeom>
          <a:ln w="0">
            <a:noFill/>
          </a:ln>
        </p:spPr>
      </p:pic>
      <p:pic>
        <p:nvPicPr>
          <p:cNvPr id="100" name="" descr=""/>
          <p:cNvPicPr/>
          <p:nvPr/>
        </p:nvPicPr>
        <p:blipFill>
          <a:blip r:embed="rId2"/>
          <a:stretch/>
        </p:blipFill>
        <p:spPr>
          <a:xfrm>
            <a:off x="2666880" y="3581280"/>
            <a:ext cx="2000520" cy="2486160"/>
          </a:xfrm>
          <a:prstGeom prst="rect">
            <a:avLst/>
          </a:prstGeom>
          <a:ln w="0">
            <a:noFill/>
          </a:ln>
        </p:spPr>
      </p:pic>
      <p:sp>
        <p:nvSpPr>
          <p:cNvPr id="101"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a0e000000000001023620</vt:lpwstr>
  </property>
</Properties>
</file>