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EB97-CF80-4411-9FF5-BB07A20D4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 D (was bitten by a mon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E (seeking information about a mysterious disease of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A (Dr. Tony Allen : bro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B (Democratic Republic of Cong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C (deliver a box of supplies to their Au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 C (concerned that her wheelchair would not work well on the unpaved jungle path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 D (sharing food and wa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 B (quarantining two mon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 D (lov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 A (feeding and watering Dr. Kathy Allen’s monkey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F39-EDEB-4349-B46A-FF1FE6CA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9CE-C295-4C10-9CA3-D88F81A9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8636-E42C-4B34-B71E-DE430FA9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C114-AF79-40B7-AC92-7516A683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F734-9479-484E-8A17-671D34F8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78F7-6213-49D8-BB88-18929914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1E9-7CBD-4BBD-8920-BF086EB7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F42-E990-400D-AF69-BB0B0B65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A51-64E0-4C54-AF0B-71281AA6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EE04-399B-43CD-ADD5-84E600D9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1B1-FA95-4056-B038-44C3E9A1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111E-26F9-447C-8809-7A8FBB19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5860-E872-42CB-A2C3-FAA30E3A84E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8960" y="2036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5104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ummer’s feelings about Dr. Kathy Allen are best described as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agonist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respect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arfu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v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interes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4840" y="282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9520" y="448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1600" y="3933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3040" y="338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50450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25480" y="1536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 Travis and Summer earned money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eeding and watering Dr. Kathy Allen’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ing routine chores like cleaning up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tch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lking dogs from their father’s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34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ing Dr. Kathy Allen pack boxes for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ip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4840" y="2470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9520" y="5295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1600" y="43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3040" y="3441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233960" y="501804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189240" y="2863800"/>
            <a:ext cx="27907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5640" y="1550520"/>
            <a:ext cx="786132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Dr. Kathy Allen’s shoulder hurt? She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ung by a jungle insec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been shot with an arr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eived a vaccination in that should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bitten by a monke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d a joint disease called arthriti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6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4840" y="273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9520" y="4429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1600" y="3863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3040" y="3306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Dr. Kathy Allen traveling through the jungle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rching for the lost town of 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big game safar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a rescue mission to find her lost nephe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ing exotic jungle plant specime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king information about a mysteriou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sease of monkeys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1600" y="274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628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8080" y="386856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9520" y="330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4840" y="499284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correctly matches a character from the story with the character’s relationship to Dr. Kathy Allen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Tony Allen :  bro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vis :  fath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:  sis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:  nie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eeta :  family do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4840" y="366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9520" y="532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1600" y="47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42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373040" y="58737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55720" y="1536840"/>
            <a:ext cx="79074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bbreviation “DRC” stands for …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st and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minant Republic of Con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octors Republic and Cli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mocratic Republic of Colu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74840" y="2362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37952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371600" y="3486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373040" y="29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374840" y="458784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ravis, K.T. and Summer traveled to the DRC in part t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arn about the group, Doctors Withou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vide a box of vaccines to sick patients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inshas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liver a box of supplies to their au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lect samples of jungle plan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ify Dr. Kathy Allen that Keeta di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374840" y="2860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379520" y="5216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371600" y="46512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373040" y="38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374840" y="5780160"/>
            <a:ext cx="37476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Summer stay behind at the clinic while Travis and K.T. traveled to Yambuku?  She was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cared to travel in the ju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d hostage by the patients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cerned that her wheelchair woul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ork well on the unpaved jungle pa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tching one of the doctors who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spected of kidnapping Dr. Alle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864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ck and needed treatment at the clin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37484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79520" y="526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371600" y="437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373040" y="3727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384200" y="606096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74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tients at the clinic in the story may have been infected with the AIDS virus (HIV). Which one of the following was NOT a likely means for transmission of the virus in these patient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fusion with contaminated bloo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xual intercourse with an infected pers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used needles to inject drug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ring food and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74760" indent="0">
              <a:lnSpc>
                <a:spcPct val="8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 could result in transmiss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AIDS viru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4840" y="3413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9520" y="5121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371600" y="4556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373040" y="3979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374840" y="569592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51040" y="154944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r. Tony Allen was helping Dr. Kathy Allen by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olating virus from monkey tissu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arantining two monkey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Travis and Summer to be veterin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chnicia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nding money to Doctors Without Bord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251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ying her plane ticket to Afric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21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4760" y="6261120"/>
            <a:ext cx="887400" cy="411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74840" y="2795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379520" y="4836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371600" y="399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373040" y="3343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374840" y="5391000"/>
            <a:ext cx="37476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3T13:56:11Z</dcterms:modified>
  <cp:revision>69</cp:revision>
  <dc:subject/>
  <dc:title>Investigator Challenge Quiz</dc:title>
</cp:coreProperties>
</file>