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218F-9B01-4730-89CF-7D81B780B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F6E86-5E24-426D-925B-34D1687FA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27637-A088-43F0-88D5-EB9414592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35FB2-033C-4934-9179-47A45B9B7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85282-AB54-4A57-AF57-4FFA88F36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A0CA8-9E2E-4878-871C-B4D890AB2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07FA8-B602-482F-9FDA-911BC39E3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952EF-0037-4D77-B4EB-438CEB5C7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B93CF-2D08-4BA3-8FF1-966F94B0F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09A44-F188-48E2-8990-C27BB8A3E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DA829-F2A0-4E5E-916E-8E6257974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6336E-EB9E-497E-B0D1-079DFC640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C9FD4-A422-4DFC-9115-3CD2A7623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852FF-5321-4F5C-9E3C-9CC4132A2236}"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pic>
        <p:nvPicPr>
          <p:cNvPr id="81" name="" descr=""/>
          <p:cNvPicPr/>
          <p:nvPr/>
        </p:nvPicPr>
        <p:blipFill>
          <a:blip r:embed="rId2"/>
          <a:stretch/>
        </p:blipFill>
        <p:spPr>
          <a:xfrm>
            <a:off x="2438280" y="3429000"/>
            <a:ext cx="4572000" cy="282564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8"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pic>
        <p:nvPicPr>
          <p:cNvPr id="89" name="" descr=""/>
          <p:cNvPicPr/>
          <p:nvPr/>
        </p:nvPicPr>
        <p:blipFill>
          <a:blip r:embed="rId2"/>
          <a:stretch/>
        </p:blipFill>
        <p:spPr>
          <a:xfrm>
            <a:off x="2362320" y="3581280"/>
            <a:ext cx="4572000" cy="2824200"/>
          </a:xfrm>
          <a:prstGeom prst="rect">
            <a:avLst/>
          </a:prstGeom>
          <a:ln w="0">
            <a:noFill/>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2"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3" name="" descr=""/>
          <p:cNvPicPr/>
          <p:nvPr/>
        </p:nvPicPr>
        <p:blipFill>
          <a:blip r:embed="rId2"/>
          <a:stretch/>
        </p:blipFill>
        <p:spPr>
          <a:xfrm>
            <a:off x="2286000" y="2971800"/>
            <a:ext cx="4800600" cy="274968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27"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28" name=""/>
          <p:cNvGrpSpPr/>
          <p:nvPr/>
        </p:nvGrpSpPr>
        <p:grpSpPr>
          <a:xfrm>
            <a:off x="1676520" y="3809880"/>
            <a:ext cx="1066680" cy="1130400"/>
            <a:chOff x="1676520" y="3809880"/>
            <a:chExt cx="1066680" cy="1130400"/>
          </a:xfrm>
        </p:grpSpPr>
        <p:sp>
          <p:nvSpPr>
            <p:cNvPr id="129"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2"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3"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4"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5"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0"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Vince Hardy</cp:lastModifiedBy>
  <dcterms:modified xsi:type="dcterms:W3CDTF">2007-05-03T15:35:58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11000000000001023620</vt:lpwstr>
  </property>
</Properties>
</file>