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D4D6-C421-4F4E-B8FF-32D9A7BB8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5B20-DED7-4E31-9455-AD4B4A0B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3421-E009-4A3C-862E-C1E99147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3299-B60E-4C22-A3F9-2961A6E02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F789-17D8-4975-9AC0-61E5F50B5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D5A2-1ED6-4B5B-979D-B1C9ADA4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157F-3DF4-4165-82DE-BDF294C0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2D4C-6F3A-45B3-B92C-02EA22A7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48A1-62C6-4EFC-B194-C5DAC181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D9A9-ECE7-4301-88FE-15C2ED49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A22C-06A5-4449-9769-9FE2E914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755E-65CD-47D4-AD42-3A721AC1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960E-1828-4026-9E78-52CA1708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78AA-96D5-4530-A0E6-FB6038F88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6120" y="441972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 What city is located at 13° S, 27° 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5760" y="4419720"/>
            <a:ext cx="53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6.5° S, 22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53388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57960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625320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6704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5760" y="4419720"/>
            <a:ext cx="50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.  What city is located at 3° S, 28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CongoDemAll" descr=""/>
          <p:cNvPicPr/>
          <p:nvPr/>
        </p:nvPicPr>
        <p:blipFill>
          <a:blip r:embed="rId2"/>
          <a:stretch/>
        </p:blipFill>
        <p:spPr>
          <a:xfrm>
            <a:off x="1413000" y="276120"/>
            <a:ext cx="628632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53816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0920" y="58388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62960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28880" y="4940280"/>
            <a:ext cx="81486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What is the latitude for the most nor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28880" y="4940280"/>
            <a:ext cx="80625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What is the latitude for the most south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028880" y="4938840"/>
            <a:ext cx="82501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What is the longitude for the most western part of Afric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765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43320" y="1720800"/>
            <a:ext cx="1249560" cy="1471680"/>
          </a:xfrm>
          <a:custGeom>
            <a:avLst/>
            <a:gdLst/>
            <a:ahLst/>
            <a:rect l="l" t="t" r="r" b="b"/>
            <a:pathLst>
              <a:path w="787" h="927">
                <a:moveTo>
                  <a:pt x="161" y="31"/>
                </a:moveTo>
                <a:cubicBezTo>
                  <a:pt x="210" y="0"/>
                  <a:pt x="229" y="5"/>
                  <a:pt x="289" y="13"/>
                </a:cubicBezTo>
                <a:cubicBezTo>
                  <a:pt x="312" y="35"/>
                  <a:pt x="333" y="40"/>
                  <a:pt x="363" y="50"/>
                </a:cubicBezTo>
                <a:cubicBezTo>
                  <a:pt x="425" y="91"/>
                  <a:pt x="409" y="106"/>
                  <a:pt x="427" y="59"/>
                </a:cubicBezTo>
                <a:cubicBezTo>
                  <a:pt x="499" y="83"/>
                  <a:pt x="462" y="74"/>
                  <a:pt x="536" y="86"/>
                </a:cubicBezTo>
                <a:cubicBezTo>
                  <a:pt x="559" y="120"/>
                  <a:pt x="569" y="157"/>
                  <a:pt x="582" y="196"/>
                </a:cubicBezTo>
                <a:cubicBezTo>
                  <a:pt x="589" y="217"/>
                  <a:pt x="619" y="251"/>
                  <a:pt x="619" y="251"/>
                </a:cubicBezTo>
                <a:cubicBezTo>
                  <a:pt x="633" y="293"/>
                  <a:pt x="661" y="304"/>
                  <a:pt x="692" y="333"/>
                </a:cubicBezTo>
                <a:cubicBezTo>
                  <a:pt x="737" y="318"/>
                  <a:pt x="787" y="307"/>
                  <a:pt x="756" y="379"/>
                </a:cubicBezTo>
                <a:cubicBezTo>
                  <a:pt x="753" y="387"/>
                  <a:pt x="743" y="391"/>
                  <a:pt x="737" y="397"/>
                </a:cubicBezTo>
                <a:cubicBezTo>
                  <a:pt x="718" y="458"/>
                  <a:pt x="745" y="399"/>
                  <a:pt x="701" y="434"/>
                </a:cubicBezTo>
                <a:cubicBezTo>
                  <a:pt x="686" y="446"/>
                  <a:pt x="678" y="466"/>
                  <a:pt x="664" y="479"/>
                </a:cubicBezTo>
                <a:cubicBezTo>
                  <a:pt x="658" y="497"/>
                  <a:pt x="652" y="516"/>
                  <a:pt x="646" y="534"/>
                </a:cubicBezTo>
                <a:cubicBezTo>
                  <a:pt x="643" y="543"/>
                  <a:pt x="637" y="562"/>
                  <a:pt x="637" y="562"/>
                </a:cubicBezTo>
                <a:cubicBezTo>
                  <a:pt x="656" y="636"/>
                  <a:pt x="642" y="677"/>
                  <a:pt x="582" y="717"/>
                </a:cubicBezTo>
                <a:cubicBezTo>
                  <a:pt x="579" y="741"/>
                  <a:pt x="580" y="766"/>
                  <a:pt x="573" y="790"/>
                </a:cubicBezTo>
                <a:cubicBezTo>
                  <a:pt x="571" y="798"/>
                  <a:pt x="560" y="802"/>
                  <a:pt x="555" y="809"/>
                </a:cubicBezTo>
                <a:cubicBezTo>
                  <a:pt x="524" y="860"/>
                  <a:pt x="506" y="892"/>
                  <a:pt x="454" y="927"/>
                </a:cubicBezTo>
                <a:cubicBezTo>
                  <a:pt x="433" y="920"/>
                  <a:pt x="403" y="927"/>
                  <a:pt x="390" y="909"/>
                </a:cubicBezTo>
                <a:cubicBezTo>
                  <a:pt x="379" y="894"/>
                  <a:pt x="387" y="872"/>
                  <a:pt x="381" y="854"/>
                </a:cubicBezTo>
                <a:cubicBezTo>
                  <a:pt x="375" y="834"/>
                  <a:pt x="360" y="818"/>
                  <a:pt x="353" y="799"/>
                </a:cubicBezTo>
                <a:cubicBezTo>
                  <a:pt x="350" y="781"/>
                  <a:pt x="348" y="763"/>
                  <a:pt x="344" y="745"/>
                </a:cubicBezTo>
                <a:cubicBezTo>
                  <a:pt x="339" y="726"/>
                  <a:pt x="326" y="690"/>
                  <a:pt x="326" y="690"/>
                </a:cubicBezTo>
                <a:cubicBezTo>
                  <a:pt x="334" y="650"/>
                  <a:pt x="347" y="627"/>
                  <a:pt x="335" y="589"/>
                </a:cubicBezTo>
                <a:cubicBezTo>
                  <a:pt x="348" y="535"/>
                  <a:pt x="337" y="550"/>
                  <a:pt x="308" y="507"/>
                </a:cubicBezTo>
                <a:cubicBezTo>
                  <a:pt x="299" y="433"/>
                  <a:pt x="297" y="402"/>
                  <a:pt x="225" y="379"/>
                </a:cubicBezTo>
                <a:cubicBezTo>
                  <a:pt x="156" y="402"/>
                  <a:pt x="190" y="393"/>
                  <a:pt x="125" y="406"/>
                </a:cubicBezTo>
                <a:cubicBezTo>
                  <a:pt x="74" y="394"/>
                  <a:pt x="59" y="366"/>
                  <a:pt x="24" y="333"/>
                </a:cubicBezTo>
                <a:cubicBezTo>
                  <a:pt x="3" y="269"/>
                  <a:pt x="0" y="296"/>
                  <a:pt x="15" y="251"/>
                </a:cubicBezTo>
                <a:cubicBezTo>
                  <a:pt x="1" y="208"/>
                  <a:pt x="16" y="207"/>
                  <a:pt x="33" y="169"/>
                </a:cubicBezTo>
                <a:cubicBezTo>
                  <a:pt x="58" y="113"/>
                  <a:pt x="38" y="106"/>
                  <a:pt x="97" y="86"/>
                </a:cubicBezTo>
                <a:cubicBezTo>
                  <a:pt x="123" y="62"/>
                  <a:pt x="119" y="31"/>
                  <a:pt x="161" y="31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8640" y="4938840"/>
            <a:ext cx="81802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What is the longitude for the most eastern part of Africa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2282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worldmap1" descr=""/>
          <p:cNvPicPr/>
          <p:nvPr/>
        </p:nvPicPr>
        <p:blipFill>
          <a:blip r:embed="rId2"/>
          <a:stretch/>
        </p:blipFill>
        <p:spPr>
          <a:xfrm>
            <a:off x="114156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116080" y="4952880"/>
            <a:ext cx="4772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at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1144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1144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2100240" y="4952880"/>
            <a:ext cx="55339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longitude for Kinshas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.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11440" y="53881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03520" y="58309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03520" y="62737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ongoDemKinshasa" descr=""/>
          <p:cNvPicPr/>
          <p:nvPr/>
        </p:nvPicPr>
        <p:blipFill>
          <a:blip r:embed="rId2"/>
          <a:stretch/>
        </p:blipFill>
        <p:spPr>
          <a:xfrm>
            <a:off x="1461960" y="65232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1363680" y="4952880"/>
            <a:ext cx="6256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is the absolute location of Kinsha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 and 32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4° S and 15.4°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 and 77°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3800" y="5388120"/>
            <a:ext cx="244800" cy="30456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865">
                <a:moveTo>
                  <a:pt x="0" y="0"/>
                </a:moveTo>
                <a:lnTo>
                  <a:pt x="21600" y="0"/>
                </a:lnTo>
                <a:lnTo>
                  <a:pt x="21600" y="26865"/>
                </a:lnTo>
                <a:lnTo>
                  <a:pt x="0" y="26865"/>
                </a:lnTo>
                <a:close/>
              </a:path>
              <a:path fill="lightenLess" w="21600" h="268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65">
                <a:moveTo>
                  <a:pt x="21600" y="0"/>
                </a:moveTo>
                <a:lnTo>
                  <a:pt x="21600" y="26865"/>
                </a:lnTo>
                <a:lnTo>
                  <a:pt x="20200" y="25465"/>
                </a:lnTo>
                <a:lnTo>
                  <a:pt x="20200" y="1400"/>
                </a:lnTo>
                <a:close/>
              </a:path>
              <a:path fill="darkenLess" w="21600" h="26865">
                <a:moveTo>
                  <a:pt x="21600" y="26865"/>
                </a:moveTo>
                <a:lnTo>
                  <a:pt x="0" y="26865"/>
                </a:lnTo>
                <a:lnTo>
                  <a:pt x="1400" y="25465"/>
                </a:lnTo>
                <a:lnTo>
                  <a:pt x="20200" y="25465"/>
                </a:lnTo>
                <a:close/>
              </a:path>
              <a:path fill="lighten" w="21600" h="26865">
                <a:moveTo>
                  <a:pt x="0" y="268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6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800" y="583092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3800" y="6254640"/>
            <a:ext cx="244800" cy="304920"/>
          </a:xfrm>
          <a:custGeom>
            <a:avLst/>
            <a:gdLst>
              <a:gd name="textAreaLeft" fmla="*/ 15840 w 244800"/>
              <a:gd name="textAreaRight" fmla="*/ 228960 w 24480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897">
                <a:moveTo>
                  <a:pt x="0" y="0"/>
                </a:moveTo>
                <a:lnTo>
                  <a:pt x="21600" y="0"/>
                </a:lnTo>
                <a:lnTo>
                  <a:pt x="21600" y="26897"/>
                </a:lnTo>
                <a:lnTo>
                  <a:pt x="0" y="26897"/>
                </a:lnTo>
                <a:close/>
              </a:path>
              <a:path fill="lightenLess" w="21600" h="268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897">
                <a:moveTo>
                  <a:pt x="21600" y="0"/>
                </a:moveTo>
                <a:lnTo>
                  <a:pt x="21600" y="26897"/>
                </a:lnTo>
                <a:lnTo>
                  <a:pt x="20200" y="25497"/>
                </a:lnTo>
                <a:lnTo>
                  <a:pt x="20200" y="1400"/>
                </a:lnTo>
                <a:close/>
              </a:path>
              <a:path fill="darkenLess" w="21600" h="26897">
                <a:moveTo>
                  <a:pt x="21600" y="26897"/>
                </a:moveTo>
                <a:lnTo>
                  <a:pt x="0" y="26897"/>
                </a:lnTo>
                <a:lnTo>
                  <a:pt x="1400" y="25497"/>
                </a:lnTo>
                <a:lnTo>
                  <a:pt x="20200" y="25497"/>
                </a:lnTo>
                <a:close/>
              </a:path>
              <a:path fill="lighten" w="21600" h="26897">
                <a:moveTo>
                  <a:pt x="0" y="268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4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CongoDemAll" descr=""/>
          <p:cNvPicPr/>
          <p:nvPr/>
        </p:nvPicPr>
        <p:blipFill>
          <a:blip r:embed="rId2"/>
          <a:stretch/>
        </p:blipFill>
        <p:spPr>
          <a:xfrm>
            <a:off x="1438200" y="314280"/>
            <a:ext cx="6286680" cy="403560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28764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na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bumb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ka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isang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6120" y="4419720"/>
            <a:ext cx="52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What city is located at 0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, 25° E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492444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58104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62676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Microsoft Sans Serif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15:50:44Z</dcterms:created>
  <dc:creator>WKlemm</dc:creator>
  <dc:description/>
  <dc:language>en-US</dc:language>
  <cp:lastModifiedBy>College of Veterinary Medicine</cp:lastModifiedBy>
  <dcterms:modified xsi:type="dcterms:W3CDTF">2007-07-31T18:42:44Z</dcterms:modified>
  <cp:revision>483</cp:revision>
  <dc:subject/>
  <dc:title>Investigate the Mystery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a14000000000001023620</vt:lpwstr>
  </property>
</Properties>
</file>