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A1BC-7F11-4ED0-AF9C-8819B5DFC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vocabulary challen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B: The student is expected to: draw on experiences to bring meanings to words in context such as interpreting idioms, multiple-meaning words, and analogies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s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A: use his/her own knowledge and experience to comprehend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DAA-E3FB-4C3C-907C-EE9AF688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63F5-1C10-49DE-904F-3A755A19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804-D283-4377-9246-1FAC668E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A1F6-F403-4E15-ACEA-8B22E320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455-6A36-427E-B317-724CB311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5CC-9F81-4B14-923D-4729096C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9C3-F5C5-4FAA-A1C6-1B237F77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E50-E9A0-4A22-9A70-DAB520A9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317-2EE8-4076-A6B6-525936A1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9850-6E95-4B8B-82A4-76FB1239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C290-2473-488C-A9F8-9D67567C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367-C347-49F4-BC24-6F8C5EBF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C6F7-0BF4-4998-BD5A-09BD41A24D7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190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You don’t really want to wait here do you?’ asked K.T.   Sitting still was not 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ort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omething someone likes or can do we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aul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98568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982800" y="410544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He hurried to the radio, apparently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obliv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Summer waiting there.  ‘He’s already forgotten me,’ thought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nawa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d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ppo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979560" y="45576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85680" y="349560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982800" y="40273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6101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73988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7240" indent="-60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ke a toddler, the monkey had bitten her the       next time she was handled. ‘Despite a degree in medicine and a PhD in virology, there is still much for me to learn about </a:t>
            </a:r>
            <a:r>
              <a:rPr b="0" lang="en-US" sz="2800" spc="-1" strike="noStrike" u="sng">
                <a:solidFill>
                  <a:srgbClr val="ebebeb"/>
                </a:solidFill>
                <a:uFillTx/>
                <a:latin typeface="Times New Roman"/>
              </a:rPr>
              <a:t>primates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,’ Kathy thought.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95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" descr="Africa"/>
          <p:cNvPicPr/>
          <p:nvPr/>
        </p:nvPicPr>
        <p:blipFill>
          <a:blip r:embed="rId2"/>
          <a:stretch/>
        </p:blipFill>
        <p:spPr>
          <a:xfrm>
            <a:off x="5638680" y="4127400"/>
            <a:ext cx="3048120" cy="23670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3440" y="3884760"/>
            <a:ext cx="5562720" cy="22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Primitive thi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ery old artifa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 group of animals including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keys, apes and huma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990720" y="481320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996840" y="39178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993600" y="436104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crescendo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illed her ears until she felt her own body humming, then fell back to a soft dron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uid build up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ild up in the volume of s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great annoy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464652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996840" y="360684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993600" y="4116240"/>
            <a:ext cx="31140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Dr. Allen followed Dr. Kalevu into the one room clinic and direct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orter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unload their backpacks on the front porch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ople employed to carry bags for travel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lumbe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nguage translator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9072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96840" y="358452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993600" y="4094280"/>
            <a:ext cx="31140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7080" y="190512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emaci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 mumbled the answers hoarsely. He seemed barely able to breath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alth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th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979560" y="4168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985680" y="3062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982800" y="362736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The mother held her infant to her breast, mopping his face with a dirty rag as he sweat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rofuse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tried to nurs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foun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cessively, free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79560" y="4657680"/>
            <a:ext cx="311040" cy="38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985680" y="3571920"/>
            <a:ext cx="311400" cy="385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982800" y="411480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spcBef>
                <a:spcPts val="799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Modern buildings of concrete, glass and steel lined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  <a:ea typeface="Times New Roman"/>
              </a:rPr>
              <a:t>thoroughfar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filled with buses, cars, and pedestrian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 road 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ublic high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tabLst>
                <a:tab algn="l" pos="0"/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king lot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116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Africa"/>
          <p:cNvPicPr/>
          <p:nvPr/>
        </p:nvPicPr>
        <p:blipFill>
          <a:blip r:embed="rId2"/>
          <a:stretch/>
        </p:blipFill>
        <p:spPr>
          <a:xfrm>
            <a:off x="4730760" y="3591000"/>
            <a:ext cx="4017960" cy="2674800"/>
          </a:xfrm>
          <a:prstGeom prst="rect">
            <a:avLst/>
          </a:prstGeom>
          <a:ln w="76320">
            <a:solidFill>
              <a:srgbClr val="3b5323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79560" y="504684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85680" y="359568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982800" y="4149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2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  “ ‘What do you want?’ he barked . . . Summer, K.T., and Travis all jumped, but the other doctors seemed accustomed to Dr. Sonnier’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rusqu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ner. Everyone went on without looking up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ude, abru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r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9560" y="563580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85680" y="45291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982800" y="5094360"/>
            <a:ext cx="31104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708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Summer suddenly shivered despite the heat. Now that they were gone, she could drop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faça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cool and calm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ceptive appeara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ea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p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911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9560" y="4624560"/>
            <a:ext cx="311040" cy="385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85680" y="3573360"/>
            <a:ext cx="311400" cy="38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982800" y="4095720"/>
            <a:ext cx="3110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7-04-19T16:33:56Z</dcterms:modified>
  <cp:revision>66</cp:revision>
  <dc:subject/>
  <dc:title>Vocab Challenge</dc:title>
</cp:coreProperties>
</file>