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46BDD-749F-45EF-8809-C705E6FD00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  Dr. Allen’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  h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.  Children’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.  Travis’s (although Travis’ is considered acceptable by some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corrected portion of each underlined section is provided below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n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rve and assist yo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joyab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llowing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w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ti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igh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ou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 English -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6 (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Capitalizing and punctuating correctly to clarify and enhance mea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Writing with accurate spelling of syllable construc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8 (G, H, I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G) Refining selected pieces for general to specific audi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) Proofreading wri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) Selecting and using reference materials and resources for writing, revising, and editing final draf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 English - 6.17 (B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Writing in complete sentenc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independent clauses are underlin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K.T. and Travis went into the jung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Summer stayed in the city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independent clause is underlined and the dependent clause is italiciz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While Summer stayed in the city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K.T. and Travis went into the jung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independent clauses are underlined and the dependent clause is italiciz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Summer tried to be strong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but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when K.T. and Travis lef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she felt very scare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e previous note section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independent clauses are underlined and the dependent clause is italiciz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1.</a:t>
            </a:r>
            <a:r>
              <a:rPr b="0" lang="en-US" sz="1000" spc="-1" strike="noStrike" u="sng">
                <a:solidFill>
                  <a:srgbClr val="3333cc"/>
                </a:solidFill>
                <a:uFillTx/>
                <a:latin typeface="Arial"/>
              </a:rPr>
              <a:t>Travis thought Summer should stay in Texas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, but </a:t>
            </a:r>
            <a:r>
              <a:rPr b="0" lang="en-US" sz="1000" spc="-1" strike="noStrike" u="sng">
                <a:solidFill>
                  <a:srgbClr val="3333cc"/>
                </a:solidFill>
                <a:uFillTx/>
                <a:latin typeface="Arial"/>
              </a:rPr>
              <a:t>Summer insisted on going to Africa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. (compoun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2.</a:t>
            </a:r>
            <a:r>
              <a:rPr b="0" i="1" lang="en-US" sz="1000" spc="-1" strike="noStrike">
                <a:solidFill>
                  <a:srgbClr val="3333cc"/>
                </a:solidFill>
                <a:latin typeface="Arial"/>
              </a:rPr>
              <a:t>After a long day in the African jungle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, </a:t>
            </a:r>
            <a:r>
              <a:rPr b="0" lang="en-US" sz="1000" spc="-1" strike="noStrike" u="sng">
                <a:solidFill>
                  <a:srgbClr val="3333cc"/>
                </a:solidFill>
                <a:uFillTx/>
                <a:latin typeface="Arial"/>
              </a:rPr>
              <a:t>Travis was ready to go home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, but </a:t>
            </a:r>
            <a:r>
              <a:rPr b="0" lang="en-US" sz="1000" spc="-1" strike="noStrike" u="sng">
                <a:solidFill>
                  <a:srgbClr val="3333cc"/>
                </a:solidFill>
                <a:uFillTx/>
                <a:latin typeface="Arial"/>
              </a:rPr>
              <a:t>K.T. wanted to do more exploring. (compound complex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independent clauses are underlined and the dependent clause is italiciz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3.</a:t>
            </a:r>
            <a:r>
              <a:rPr b="0" lang="en-US" sz="1000" spc="-1" strike="noStrike" u="sng">
                <a:solidFill>
                  <a:srgbClr val="3333cc"/>
                </a:solidFill>
                <a:uFillTx/>
                <a:latin typeface="Arial"/>
              </a:rPr>
              <a:t>Summer punched in the coordinates to go home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i="1" lang="en-US" sz="1000" spc="-1" strike="noStrike">
                <a:solidFill>
                  <a:srgbClr val="3333cc"/>
                </a:solidFill>
                <a:latin typeface="Arial"/>
              </a:rPr>
              <a:t>when K.T. and Travis returned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. (complex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4.</a:t>
            </a:r>
            <a:r>
              <a:rPr b="0" lang="en-US" sz="1000" spc="-1" strike="noStrike" u="sng">
                <a:solidFill>
                  <a:srgbClr val="3333cc"/>
                </a:solidFill>
                <a:uFillTx/>
                <a:latin typeface="Arial"/>
              </a:rPr>
              <a:t>The sick mother’s baby cried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i="1" lang="en-US" sz="1000" spc="-1" strike="noStrike">
                <a:solidFill>
                  <a:srgbClr val="3333cc"/>
                </a:solidFill>
                <a:latin typeface="Arial"/>
              </a:rPr>
              <a:t>while she was waiting for the doctor. 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(complex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5.</a:t>
            </a:r>
            <a:r>
              <a:rPr b="0" i="1" lang="en-US" sz="1000" spc="-1" strike="noStrike">
                <a:solidFill>
                  <a:srgbClr val="3333cc"/>
                </a:solidFill>
                <a:latin typeface="Arial"/>
              </a:rPr>
              <a:t>Because Dr. Kathy Allen never saw the children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, </a:t>
            </a:r>
            <a:r>
              <a:rPr b="0" lang="en-US" sz="1000" spc="-1" strike="noStrike" u="sng">
                <a:solidFill>
                  <a:srgbClr val="3333cc"/>
                </a:solidFill>
                <a:uFillTx/>
                <a:latin typeface="Arial"/>
              </a:rPr>
              <a:t>she never knew how the missing box arrived in the jungle. </a:t>
            </a: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(complex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29D2-60AC-453C-938F-0A04940E2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4505-2225-4250-B91E-2DBFD72EB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CCCF-7A88-4748-972C-EA4FDC18E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F4BF-CF44-49B6-8559-86DAA30F6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503C-2F21-4CDB-BCDB-836887291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895B-3A0D-4FAD-9306-FD58CE83A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574C-82E8-4B3F-95DC-6F0D93519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D36A-7360-43CC-8D2E-8E590E175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B976-EF36-4CB7-9A8A-430056391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BDBA-DCFC-4125-A5B6-79E452A6E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2456-91FD-4DE2-8B7B-B2654D4E4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8446-E05A-4853-9C51-3951D2625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0D8F9-89CB-457F-9792-FACDEB4997E2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Medical%20Clinik.pdf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bebeb"/>
                </a:solidFill>
                <a:latin typeface="Times New Roman"/>
              </a:rPr>
              <a:t>Unlocking Language</a:t>
            </a: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358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en K.T., Travis, and Summer arrived in Africa, they found a sign written in English posted on the clinic door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n the next slide, proofread the underlined portions of text from the sign and correct any error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267080" y="1523880"/>
            <a:ext cx="4618080" cy="45608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4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219320" y="4876920"/>
            <a:ext cx="7391160" cy="1523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219320" y="3200400"/>
            <a:ext cx="7391160" cy="1523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bebeb"/>
                </a:solidFill>
                <a:latin typeface="Times New Roman"/>
              </a:rPr>
              <a:t>What Belongs to Whom?</a:t>
            </a: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447560" y="48765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Summer had to control ______ fear as she took       in all the sights and sounds of a new plac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6064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6064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38080" y="1447920"/>
            <a:ext cx="7620120" cy="23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howing possession is an important part of language usag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oose the correct word to complete each sente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447920" y="4267080"/>
            <a:ext cx="19047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219320" y="3200400"/>
            <a:ext cx="74674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The box belongs to Dr. Allen. The box </a:t>
            </a: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is 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33920" y="4267080"/>
            <a:ext cx="19047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95880" y="4267080"/>
            <a:ext cx="19051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419112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Dr. Allen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41911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Dr. All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172200" y="419112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Dr. Allen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371600" y="5943600"/>
            <a:ext cx="19051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733920" y="5943600"/>
            <a:ext cx="19047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172200" y="5943600"/>
            <a:ext cx="19051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47920" y="58672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h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09880" y="58672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58672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Summer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3581280"/>
            <a:ext cx="121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#1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920" y="5195880"/>
            <a:ext cx="121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#2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5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bebeb"/>
                </a:solidFill>
                <a:latin typeface="Times New Roman"/>
              </a:rPr>
              <a:t>More Possessives!</a:t>
            </a: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71600" y="4191120"/>
            <a:ext cx="7391520" cy="1523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371600" y="2133720"/>
            <a:ext cx="7391520" cy="1523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752480" y="2057400"/>
            <a:ext cx="640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One of the ________ biggest concerns was   getting caugh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3200400"/>
            <a:ext cx="19047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676520" y="312408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hildr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324480" y="3200400"/>
            <a:ext cx="19051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962520" y="3200400"/>
            <a:ext cx="19047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31240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hildren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248520" y="31240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hildren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43000" y="4266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It was ________ idea to go to the Congo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5704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76520" y="5257800"/>
            <a:ext cx="19047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962520" y="5257800"/>
            <a:ext cx="19047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324480" y="5257800"/>
            <a:ext cx="19051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981080" y="5195880"/>
            <a:ext cx="15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ravis’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267080" y="5195880"/>
            <a:ext cx="15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ravis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477120" y="518148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ravi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514600"/>
            <a:ext cx="121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#3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4495680"/>
            <a:ext cx="121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#4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5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14520" y="365040"/>
            <a:ext cx="7924680" cy="5639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99192" dir="3018055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28640" y="622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Times New Roman"/>
              </a:rPr>
              <a:t>Medical Clinik</a:t>
            </a:r>
            <a:br>
              <a:rPr sz="44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76360" y="138384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ur job is to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serve, and assist you in any way we can.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To make our facilities more efficient and to make your visit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more enjoyabel, we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have provided some helpful instructions. 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Please help us by doing the following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338120" y="3441600"/>
            <a:ext cx="662940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Form to lines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First-time patience stand to th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left to request a registration c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All others stand to the right?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Have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 you’re identification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card ready to show the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Doctor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5800" y="6175440"/>
            <a:ext cx="789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ere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print a hard copy of this tex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4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bebeb"/>
                </a:solidFill>
                <a:latin typeface="Times New Roman"/>
              </a:rPr>
              <a:t>Add Some Flavor!</a:t>
            </a: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9" name="" descr="Africa"/>
          <p:cNvPicPr/>
          <p:nvPr/>
        </p:nvPicPr>
        <p:blipFill>
          <a:blip r:embed="rId2"/>
          <a:stretch/>
        </p:blipFill>
        <p:spPr>
          <a:xfrm>
            <a:off x="5410080" y="1676520"/>
            <a:ext cx="2971800" cy="4114800"/>
          </a:xfrm>
          <a:prstGeom prst="rect">
            <a:avLst/>
          </a:prstGeom>
          <a:ln w="88920">
            <a:solidFill>
              <a:srgbClr val="336600"/>
            </a:solidFill>
            <a:miter/>
          </a:ln>
        </p:spPr>
      </p:pic>
      <p:sp>
        <p:nvSpPr>
          <p:cNvPr id="60" name=""/>
          <p:cNvSpPr/>
          <p:nvPr/>
        </p:nvSpPr>
        <p:spPr>
          <a:xfrm>
            <a:off x="566640" y="1623960"/>
            <a:ext cx="4505400" cy="449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9200" indent="-349200">
              <a:lnSpc>
                <a:spcPct val="95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riters use compound and complex sentences to add spice to their writing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9200" indent="-349200">
              <a:lnSpc>
                <a:spcPct val="95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ometimes they put both together and use compound complex senten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9200" indent="-349200">
              <a:lnSpc>
                <a:spcPct val="95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view the definitions and examples of these types of sentences on the following slid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4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143000" y="3581280"/>
            <a:ext cx="7010280" cy="205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71785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bebeb"/>
                </a:solidFill>
                <a:latin typeface="Times New Roman"/>
              </a:rPr>
              <a:t>Definitions</a:t>
            </a:r>
            <a:endParaRPr b="0" lang="en-US" sz="6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Compound Sentence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– a sentence with two or more independent clause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886200"/>
            <a:ext cx="6934320" cy="19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99"/>
                </a:solidFill>
                <a:latin typeface="Times New Roman"/>
              </a:rPr>
              <a:t>K.T. and Travis went into the jungle, and Summer stayed in the city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4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143000" y="3581280"/>
            <a:ext cx="7010280" cy="205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71785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bebeb"/>
                </a:solidFill>
                <a:latin typeface="Times New Roman"/>
              </a:rPr>
              <a:t>Definitions</a:t>
            </a:r>
            <a:endParaRPr b="0" lang="en-US" sz="6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ctr">
              <a:lnSpc>
                <a:spcPct val="90000"/>
              </a:lnSpc>
              <a:spcBef>
                <a:spcPts val="19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 u="sng">
                <a:solidFill>
                  <a:srgbClr val="ebebeb"/>
                </a:solidFill>
                <a:uFillTx/>
                <a:latin typeface="Times New Roman"/>
              </a:rPr>
              <a:t>Complex sentence</a:t>
            </a: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 – a sentence with one independent clause and one or more dependent clauses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01680" indent="0" algn="ctr">
              <a:lnSpc>
                <a:spcPct val="90000"/>
              </a:lnSpc>
              <a:spcBef>
                <a:spcPts val="19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31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3000" y="3886200"/>
            <a:ext cx="6934320" cy="19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99"/>
                </a:solidFill>
                <a:latin typeface="Times New Roman"/>
              </a:rPr>
              <a:t>While Summer stayed in the city, K.T. and Travis went into the jungle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4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914400" y="3657600"/>
            <a:ext cx="7543800" cy="22096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71785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bebeb"/>
                </a:solidFill>
                <a:latin typeface="Times New Roman"/>
              </a:rPr>
              <a:t>Definitions</a:t>
            </a:r>
            <a:endParaRPr b="0" lang="en-US" sz="6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 algn="ctr">
              <a:lnSpc>
                <a:spcPct val="90000"/>
              </a:lnSpc>
              <a:spcBef>
                <a:spcPts val="19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 u="sng">
                <a:solidFill>
                  <a:srgbClr val="ebebeb"/>
                </a:solidFill>
                <a:uFillTx/>
                <a:latin typeface="Times New Roman"/>
              </a:rPr>
              <a:t>Compound complex</a:t>
            </a: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 – a sentence with two independent clauses and one or more dependent clauses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291600" indent="0" algn="ctr">
              <a:lnSpc>
                <a:spcPct val="90000"/>
              </a:lnSpc>
              <a:spcBef>
                <a:spcPts val="19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31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14400" y="4114800"/>
            <a:ext cx="7543800" cy="19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99"/>
                </a:solidFill>
                <a:latin typeface="Times New Roman"/>
              </a:rPr>
              <a:t>Summer tried to be strong, but when K.T. and Travis left, she felt very scared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4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bebeb"/>
                </a:solidFill>
                <a:latin typeface="Times New Roman"/>
              </a:rPr>
              <a:t>Review the Definitions</a:t>
            </a: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188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ebebeb"/>
                </a:solidFill>
                <a:latin typeface="Times New Roman"/>
              </a:rPr>
              <a:t>Check</a:t>
            </a:r>
            <a:r>
              <a:rPr b="0" lang="en-US" sz="35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500" spc="-1" strike="noStrike">
                <a:solidFill>
                  <a:srgbClr val="ebebeb"/>
                </a:solidFill>
                <a:latin typeface="Times New Roman"/>
              </a:rPr>
              <a:t>your understanding of complex, compound, and compound complex sentences.</a:t>
            </a:r>
            <a:endParaRPr b="0" lang="en-US" sz="3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188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ebebeb"/>
                </a:solidFill>
                <a:latin typeface="Times New Roman"/>
              </a:rPr>
              <a:t>Underline</a:t>
            </a:r>
            <a:r>
              <a:rPr b="1" lang="en-US" sz="35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500" spc="-1" strike="noStrike">
                <a:solidFill>
                  <a:srgbClr val="ebebeb"/>
                </a:solidFill>
                <a:latin typeface="Times New Roman"/>
              </a:rPr>
              <a:t>the independent clauses and circle the dependent clauses in all of the examples on the previous slides.</a:t>
            </a:r>
            <a:endParaRPr b="0" lang="en-US" sz="3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5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447920" y="5029200"/>
            <a:ext cx="7391160" cy="1447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447920" y="3581280"/>
            <a:ext cx="7391160" cy="1295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Practice Unlocking Language 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599840"/>
            <a:ext cx="77202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Label the following sentences as compound, complex, or compound complex.  For more practice,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underline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the independent clauses and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circle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the dependent clause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523880" y="3733920"/>
            <a:ext cx="7239240" cy="15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Travis thought Summer should stay in Texas, but Summer insisted on going to Afri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3733920"/>
            <a:ext cx="1219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#1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447920" y="5105520"/>
            <a:ext cx="7451640" cy="18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After a long day in the African jungle, Travis was ready to go home, but K.T. wanted to do more explo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5334120"/>
            <a:ext cx="1219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#2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5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295280" y="4876920"/>
            <a:ext cx="7391520" cy="1523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295280" y="3276720"/>
            <a:ext cx="7391520" cy="1295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295280" y="1676520"/>
            <a:ext cx="7391520" cy="1295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bebeb"/>
                </a:solidFill>
                <a:latin typeface="Times New Roman"/>
              </a:rPr>
              <a:t>More Practice</a:t>
            </a:r>
            <a:endParaRPr b="0" lang="en-US" sz="5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1752480"/>
            <a:ext cx="72388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Summer punched in the coordinates to go home when K.T. and Travis return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295280" y="3429000"/>
            <a:ext cx="74692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The sick mother’s baby cried while she was waiting for the doct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371600" y="4919760"/>
            <a:ext cx="716292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Because Dr. Kathy Allen never saw the children, she never knew how the missing box arrived in the jung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04920" y="1905120"/>
            <a:ext cx="121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#3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3505320"/>
            <a:ext cx="121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#4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5181480"/>
            <a:ext cx="121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#5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5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8T19:37:55Z</dcterms:created>
  <dc:creator>Gina Balducci</dc:creator>
  <dc:description/>
  <dc:language>en-US</dc:language>
  <cp:lastModifiedBy>College of Veterinary Medicine</cp:lastModifiedBy>
  <dcterms:modified xsi:type="dcterms:W3CDTF">2007-07-31T18:19:28Z</dcterms:modified>
  <cp:revision>34</cp:revision>
  <dc:subject/>
  <dc:title>PowerPoint Presentation</dc:title>
</cp:coreProperties>
</file>