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CD8C-3957-49BA-806F-6A78C3A36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D2E9-9EB3-4B78-ACEB-3F65E028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25E-0D42-48ED-8A4B-AEB5A841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A11-6865-4042-B647-4475F606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A42D-0A68-42B4-9022-861BF1B0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D49-33F3-4BFF-B115-E191E57F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ED63-1B1D-43EC-9DF9-C096C372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532-2BA9-4202-9C0F-C0BE0651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9951-135C-40A0-AAED-48241BC6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416-A196-4C4E-A4B8-21C7FD24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378-B79F-45B7-B22B-94CBC3F1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DFC7-0632-476E-8901-D891FD35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263-0AD1-4E1D-9D86-19FB633B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1AF4-DBB4-47DC-94FB-1EB7E92F9D0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8568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82800" y="410544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9560" y="45576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85680" y="349560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82800" y="40273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610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7398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3440" y="388476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8132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96840" y="39178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3600" y="436104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64652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6840" y="360684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4116240"/>
            <a:ext cx="311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684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93600" y="409428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9560" y="4168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85680" y="3062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2800" y="362736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85680" y="357192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82800" y="411480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9560" y="504684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85680" y="35956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982800" y="4149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9560" y="5635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85680" y="4529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82800" y="509436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956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85680" y="35733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82800" y="4095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7-04-19T16:33:56Z</dcterms:modified>
  <cp:revision>66</cp:revision>
  <dc:subject/>
  <dc:title>Vocab Challenge</dc:title>
</cp:coreProperties>
</file>