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FC90D-8477-4F57-8C68-DF55A0CC5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9367-B266-42E4-8C17-756099A16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D357-8BB8-4AF2-9BDE-51D9E593D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F01C-C775-4447-A678-F9DE43C32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7029-FF31-4224-885C-BEDCEE0DD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AD29-5FED-4244-8777-DA56F3AB2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E40D-E6B5-49AF-A1EB-CDD8A85E5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ADDC-880C-4F32-A6D0-4EFB26D6C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2C24-CFAF-4886-BD8E-0FF03253C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466C-006E-48F7-8FFC-939237D66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8F6B-CCAB-40A2-B0B6-9E0EC6AF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3A3D-C286-463C-85CF-D162F49B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D4DC-B87E-462C-A743-E5C5ED87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51187-AC0C-4D11-86CC-431276D1886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0" t="0" r="53" b="101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Vince Hardy</cp:lastModifiedBy>
  <dcterms:modified xsi:type="dcterms:W3CDTF">2007-01-12T21:47:12Z</dcterms:modified>
  <cp:revision>29</cp:revision>
  <dc:subject/>
  <dc:title>Descriptive Wri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c01000000000001023620</vt:lpwstr>
  </property>
</Properties>
</file>