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66A66-1307-4568-873E-BB6841845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8CAF6-F2A2-4B0A-A795-0C1952786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7B72B-F127-4DA1-BC50-A53EEAE7C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66FC2-A956-4610-A150-248FE4438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789F5-F4EB-4E42-B0E2-CFF6AD888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8715D-B72B-4D2A-95E9-5A041967B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96EE6-14C1-4BA4-8B88-C5AB24342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4AA7B-2726-4A46-85AC-6A6454A50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35259-18F6-4BF3-91D6-33BDAC85B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76DD2-9F93-4997-8F54-4009396BC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C4C9E-F963-4F10-8321-15CB8A0FC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94806-F164-44A4-80E6-B50D4B756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845F1-5F6C-4F99-92AC-D13C8BBFB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12EC5-E3E8-429C-A7B3-FFFB75DCD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533520" y="3886200"/>
            <a:ext cx="4209840" cy="2325600"/>
          </a:xfrm>
          <a:prstGeom prst="rect">
            <a:avLst/>
          </a:prstGeom>
          <a:ln w="88920">
            <a:solidFill>
              <a:srgbClr val="3b5323"/>
            </a:solidFill>
            <a:miter/>
          </a:ln>
        </p:spPr>
      </p:pic>
      <p:pic>
        <p:nvPicPr>
          <p:cNvPr id="57" name="" descr=""/>
          <p:cNvPicPr/>
          <p:nvPr/>
        </p:nvPicPr>
        <p:blipFill>
          <a:blip r:embed="rId3"/>
          <a:stretch/>
        </p:blipFill>
        <p:spPr>
          <a:xfrm>
            <a:off x="5054760" y="3886200"/>
            <a:ext cx="3660480" cy="2370240"/>
          </a:xfrm>
          <a:prstGeom prst="rect">
            <a:avLst/>
          </a:prstGeom>
          <a:ln w="88920">
            <a:solidFill>
              <a:srgbClr val="3b5323"/>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1"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2"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5"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6"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7"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Vince Hardy</cp:lastModifiedBy>
  <dcterms:modified xsi:type="dcterms:W3CDTF">2007-01-11T21:12:42Z</dcterms:modified>
  <cp:revision>20</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604000000000001023620</vt:lpwstr>
  </property>
</Properties>
</file>