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FD77F-DB72-4488-AC9B-5DE1EDF207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S TO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  D (was bitten by a monke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  E (seeking information about a mysterious disease of mon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.  A (Dr. Tony Allen : broth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.  B (Democratic Republic of Congo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.  C (deliver a box of supplies to their Aun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  C (concerned that her wheelchair would not work well on the unpaved jungle path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  D (sharing food and wat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  B (quarantining two mon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.  D (lovin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.  A (feeding and watering Dr. Kathy Allen’s monkeys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C, H, K, M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onitoring comprehension and making modifi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)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Drawing infer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)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nswering different types and levels of ques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)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study strategies to work on ide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1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upporting responses by referring to text and own experienc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2 (F, G, K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)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nalyzing charac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G)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Recognizing and analyzing story plot, setting, and problem resol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)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Recognizing how style, tone, and mood contribute to the affect of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0 (C, H, K, M), 7.11 (C), 7.12 (F, G, K), 8.10 (C, H, K, M), 8.11 (C), 8.12 (F, G, 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4FCB-145B-4561-90B4-722368B4C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AEEC-6077-4AF9-86B8-D188C1D4D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AA18-2DA1-451E-A59D-17BABA8BB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08F0-0153-4F6D-B45A-CCFF3DA04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5F4E-F688-43E2-A511-A3E63C67B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1497-95DA-412E-A119-7310724BB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C847-DCCC-4D5F-95A4-871C730BA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4CAC-570B-4CE8-B94D-3968E05A3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7B4A-243C-48B6-A340-2C636AF18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A244-5B3D-4119-88E4-D818953CE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DBE4-1FE8-49BC-B6BD-47D9D6182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6FB4-08CF-45AD-B952-AD6F69007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1F402-16BD-4E77-8C3B-AC131F23F7CE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88960" y="2036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0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51040" y="15368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9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ummer’s feelings about Dr. Kathy Allen are best described as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tagonistic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srespectful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earful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ov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sintereste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21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8024760" y="6261120"/>
            <a:ext cx="887400" cy="4111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1374840" y="2828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1379520" y="44895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5"/>
          <a:stretch/>
        </p:blipFill>
        <p:spPr>
          <a:xfrm>
            <a:off x="1371600" y="3933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6"/>
          <a:stretch/>
        </p:blipFill>
        <p:spPr>
          <a:xfrm>
            <a:off x="1373040" y="3386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1374840" y="5045040"/>
            <a:ext cx="374760" cy="4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1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825480" y="15368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41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38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10.  Travis and Summer earned money by…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341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38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34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38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eeding and watering Dr. Kathy Allen’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nkey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34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38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oing routine chores like cleaning up the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itche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34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38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alking dogs from their father’s veterinary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linic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34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38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lping Dr. Kathy Allen pack boxes for her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ip to Africa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21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8024760" y="6261120"/>
            <a:ext cx="887400" cy="4111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1374840" y="2470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1379520" y="5295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5"/>
          <a:stretch/>
        </p:blipFill>
        <p:spPr>
          <a:xfrm>
            <a:off x="1371600" y="4375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6"/>
          <a:stretch/>
        </p:blipFill>
        <p:spPr>
          <a:xfrm>
            <a:off x="1373040" y="344160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4233960" y="5018040"/>
            <a:ext cx="961920" cy="5047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3189240" y="2863800"/>
            <a:ext cx="279072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0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845640" y="1550520"/>
            <a:ext cx="7861320" cy="49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y did Dr. Kathy Allen’s shoulder hurt? She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as stung by a jungle insec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d been shot with an arrow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eived a vaccination in that should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as bitten by a monke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d a joint disease called arthriti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36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21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8024760" y="6261120"/>
            <a:ext cx="887400" cy="4111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374840" y="2739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1379520" y="4429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1371600" y="3863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1373040" y="330660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7"/>
          <a:stretch/>
        </p:blipFill>
        <p:spPr>
          <a:xfrm>
            <a:off x="1374840" y="4992840"/>
            <a:ext cx="374760" cy="4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0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851040" y="1549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251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y was Dr. Kathy Allen traveling through the jungle?  She was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arching for the lost town of Kinshasa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n a big game safari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n a rescue mission to find her lost nephew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llecting exotic jungle plant specimen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king information about a mysteriou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sease of monkeys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21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8024760" y="6261120"/>
            <a:ext cx="887400" cy="411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1371600" y="2744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1376280" y="4427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1378080" y="3868560"/>
            <a:ext cx="374400" cy="4654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1379520" y="33019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7"/>
          <a:stretch/>
        </p:blipFill>
        <p:spPr>
          <a:xfrm>
            <a:off x="1374840" y="4992840"/>
            <a:ext cx="374760" cy="4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0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851040" y="1549440"/>
            <a:ext cx="7772400" cy="44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ich one of the following correctly matches a character from the story with the character’s relationship to Dr. Kathy Allen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r. Tony Allen :  broth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vis :  fath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ummer :  sist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.T. :  niec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eeta :  family dog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21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8024760" y="6261120"/>
            <a:ext cx="887400" cy="4111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1374840" y="36622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1379520" y="5322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1371600" y="4767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6"/>
          <a:stretch/>
        </p:blipFill>
        <p:spPr>
          <a:xfrm>
            <a:off x="1373040" y="4210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7"/>
          <a:stretch/>
        </p:blipFill>
        <p:spPr>
          <a:xfrm>
            <a:off x="1373040" y="5873760"/>
            <a:ext cx="374760" cy="4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0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55720" y="1536840"/>
            <a:ext cx="7907400" cy="44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.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abbreviation “DRC” stands for …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octors Rest and C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mocratic Republic of Con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ominant Republic of Cong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octors Republic and Clin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mocratic Republic of Columb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85800" y="21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8024760" y="6261120"/>
            <a:ext cx="887400" cy="411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1374840" y="2362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1379520" y="4032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1371600" y="34862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6"/>
          <a:stretch/>
        </p:blipFill>
        <p:spPr>
          <a:xfrm>
            <a:off x="1373040" y="2928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7"/>
          <a:stretch/>
        </p:blipFill>
        <p:spPr>
          <a:xfrm>
            <a:off x="1374840" y="4587840"/>
            <a:ext cx="374760" cy="4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0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851040" y="1549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251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ravis, K.T. and Summer traveled to the DRC in part to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arn about the group, Doctors Without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order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rovide a box of vaccines to sick patients i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inshasa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liver a box of supplies to their aun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llect samples of jungle plan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otify Dr. Kathy Allen that Keeta die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21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8024760" y="6261120"/>
            <a:ext cx="887400" cy="4111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1374840" y="28605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1379520" y="52164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5"/>
          <a:stretch/>
        </p:blipFill>
        <p:spPr>
          <a:xfrm>
            <a:off x="1371600" y="465120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6"/>
          <a:stretch/>
        </p:blipFill>
        <p:spPr>
          <a:xfrm>
            <a:off x="1373040" y="3846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7"/>
          <a:stretch/>
        </p:blipFill>
        <p:spPr>
          <a:xfrm>
            <a:off x="1374840" y="5780160"/>
            <a:ext cx="374760" cy="4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0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51040" y="1549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45864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6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y did Summer stay behind at the clinic while Travis and K.T. traveled to Yambuku?  She was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5864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5864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cared to travel in the jungl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864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ld hostage by the patients at the clinic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864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ncerned that her wheelchair would not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ork well on the unpaved jungle path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864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atching one of the doctors who wa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uspected of kidnapping Dr. Alle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864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ck and needed treatment at the clinic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21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8024760" y="6261120"/>
            <a:ext cx="887400" cy="411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1374840" y="3179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1379520" y="5268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>
            <a:off x="1371600" y="4379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6"/>
          <a:stretch/>
        </p:blipFill>
        <p:spPr>
          <a:xfrm>
            <a:off x="1373040" y="37274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7"/>
          <a:stretch/>
        </p:blipFill>
        <p:spPr>
          <a:xfrm>
            <a:off x="1384200" y="6060960"/>
            <a:ext cx="374760" cy="4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0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51040" y="1549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3747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7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patients at the clinic in the story may have been infected with the AIDS virus (HIV). Which one of the following was NOT a likely means for transmission of the virus in these patient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747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7476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nsfusion with contaminated bloo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74760" indent="0">
              <a:lnSpc>
                <a:spcPct val="85000"/>
              </a:lnSpc>
              <a:spcBef>
                <a:spcPts val="51"/>
              </a:spcBef>
              <a:spcAft>
                <a:spcPts val="51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7476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xual intercourse with an infected perso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74760" indent="0">
              <a:lnSpc>
                <a:spcPct val="85000"/>
              </a:lnSpc>
              <a:spcBef>
                <a:spcPts val="51"/>
              </a:spcBef>
              <a:spcAft>
                <a:spcPts val="51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7476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aring used needles to inject drug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74760" indent="0">
              <a:lnSpc>
                <a:spcPct val="85000"/>
              </a:lnSpc>
              <a:spcBef>
                <a:spcPts val="51"/>
              </a:spcBef>
              <a:spcAft>
                <a:spcPts val="51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7476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aring food and wat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74760" indent="0">
              <a:lnSpc>
                <a:spcPct val="85000"/>
              </a:lnSpc>
              <a:spcBef>
                <a:spcPts val="51"/>
              </a:spcBef>
              <a:spcAft>
                <a:spcPts val="51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7476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ll of the above could result in transmissio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f the AIDS viru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" y="21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8024760" y="6261120"/>
            <a:ext cx="887400" cy="4111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1374840" y="3413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1379520" y="5121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1371600" y="4556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6"/>
          <a:stretch/>
        </p:blipFill>
        <p:spPr>
          <a:xfrm>
            <a:off x="1373040" y="39798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7"/>
          <a:stretch/>
        </p:blipFill>
        <p:spPr>
          <a:xfrm>
            <a:off x="1374840" y="5695920"/>
            <a:ext cx="374760" cy="4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0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51040" y="154944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251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8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r. Tony Allen was helping Dr. Kathy Allen by…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olating virus from monkey tissu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quarantining two monkey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ining Travis and Summer to be veterinary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chnician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nding money to Doctors Without Border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uying her plane ticket to Africa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" y="21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8024760" y="6261120"/>
            <a:ext cx="887400" cy="4111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1374840" y="2795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1379520" y="4836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1371600" y="3995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6"/>
          <a:stretch/>
        </p:blipFill>
        <p:spPr>
          <a:xfrm>
            <a:off x="1373040" y="3343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7"/>
          <a:stretch/>
        </p:blipFill>
        <p:spPr>
          <a:xfrm>
            <a:off x="1374840" y="5391000"/>
            <a:ext cx="374760" cy="4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0T20:55:03Z</dcterms:created>
  <dc:creator>Dr. Deborah Kochevar</dc:creator>
  <dc:description/>
  <dc:language>en-US</dc:language>
  <cp:lastModifiedBy>Vince Hardy</cp:lastModifiedBy>
  <dcterms:modified xsi:type="dcterms:W3CDTF">2007-05-03T13:56:11Z</dcterms:modified>
  <cp:revision>69</cp:revision>
  <dc:subject/>
  <dc:title>Investigator Challenge Quiz</dc:title>
</cp:coreProperties>
</file>