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780C-5879-4713-9E0E-E55C00869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 (was bitten by a mon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E (seeking information about a mysterious disease of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A (Dr. Tony Allen : bro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B (Democratic Republic of Cong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C (deliver a box of supplies to their Au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 C (concerned that her wheelchair would not work well on the unpaved jungle path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 D (sharing food and wa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 B (quarantining two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 D (lov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 A (feeding and watering Dr. Kathy Allen’s monkey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E2FB-DD50-4D3F-8589-D0C892CE4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C5BB-43E3-42BC-ACBD-A91C0251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6304-80B0-48E1-975F-E30EBA822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FA04-190F-4286-B6E0-98C840771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7228-40EE-4971-B5E6-5D4FD062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5C66-460E-45C5-884F-38AEC9B1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A91E-8815-4733-9E46-22F6CD4C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D117-3C42-48E6-A5CB-BAF6D2EC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446D-A8F2-4FE7-9BEE-8747D555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9435-1E1B-4162-B7B5-63E825ED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D965-4624-4E8C-9FD0-98F071F2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FC70-F6E7-4DF5-AA69-97ACD4E1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7CEB-811F-4153-B1A4-C1149BCEF55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88960" y="203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5104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ummer’s feelings about Dr. Kathy Allen are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agonist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respect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ar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v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interest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4840" y="282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9520" y="4489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1600" y="3933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3040" y="338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504504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2548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 Travis and Summer earned money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eding and watering Dr. Kathy Allen’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ing routine chores like cleaning up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tch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lking dogs from their father’s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ing Dr. Kathy Allen pack boxes for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ip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4840" y="2470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9520" y="5295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1600" y="43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3040" y="344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233960" y="501804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189240" y="2863800"/>
            <a:ext cx="27907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45640" y="1550520"/>
            <a:ext cx="78613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Dr. Kathy Allen’s shoulder hurt? She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ung by a jungle insec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been shot with an arr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eived a vaccination in that should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bitten by a monke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joint disease called arthriti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36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4840" y="273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9520" y="4429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1600" y="386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3040" y="3306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4840" y="499284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was Dr. Kathy Allen traveling through the jungle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arching for the lost town of 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ig game safari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rescue mission to find her lost nephe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ing exotic jungle plant specime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king information about a mysteriou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ease of monkeys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1600" y="2744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628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8080" y="386856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9520" y="3301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4840" y="499284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correctly matches a character from the story with the character’s relationship to Dr. Kathy Allen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. Tony Allen :  bro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:  fa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 :  sis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:  nie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eeta :  family do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4840" y="366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9520" y="5322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1600" y="47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42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373040" y="587376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55720" y="1536840"/>
            <a:ext cx="79074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bbreviation “DRC” stands for 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st and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n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minant Republic of Con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public and Cli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lum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374840" y="2362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37952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371600" y="3486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373040" y="29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374840" y="458784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ravis, K.T. and Summer traveled to the DRC in part t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arn about the group, Doctors Withou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vide a box of vaccines to sick patients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liver a box of supplies to their au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 samples of jungle plan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ify Dr. Kathy Allen that Keeta di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374840" y="2860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379520" y="5216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371600" y="46512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373040" y="384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374840" y="578016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Summer stay behind at the clinic while Travis and K.T. traveled to Yambuku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cared to travel in the ju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d hostage by the patients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cerned that her wheelchair woul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k well on the unpaved jungle path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tching one of the doctors who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spected of kidnapping Dr. All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ck and needed treatment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374840" y="31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379520" y="526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371600" y="43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373040" y="3727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384200" y="606096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4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atients at the clinic in the story may have been infected with the AIDS virus (HIV). Which one of the following was NOT a likely means for transmission of the virus in these patient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nsfusion with contaminated bloo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xual intercourse with an infected pers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used needles to inject 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food and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 could result in transmiss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AIDS viru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374840" y="3413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379520" y="5121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371600" y="455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373040" y="3979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374840" y="569592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r. Tony Allen was helping Dr. Kathy Allen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olating virus from monkey t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arantining two 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Travis and Summer to be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chn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nding money to Doctors Without 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ying her plane ticket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374840" y="2795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379520" y="4836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371600" y="3995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373040" y="3343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374840" y="539100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20:55:03Z</dcterms:created>
  <dc:creator>Dr. Deborah Kochevar</dc:creator>
  <dc:description/>
  <dc:language>en-US</dc:language>
  <cp:lastModifiedBy>Vince Hardy</cp:lastModifiedBy>
  <dcterms:modified xsi:type="dcterms:W3CDTF">2007-05-03T13:56:11Z</dcterms:modified>
  <cp:revision>69</cp:revision>
  <dc:subject/>
  <dc:title>Investigator Challenge Quiz</dc:title>
</cp:coreProperties>
</file>