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4241-686E-4427-9281-56DACE861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0E4-4C49-4D08-8EE8-73EBAFA6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4CC0-95A1-435A-B8F3-C4262B94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D3ED-A5B0-4E71-8BA4-787BBD55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71E6-CCD3-462A-B571-E6D52ED2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F99-8CDE-4E60-915F-C92B449C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E2BE-C944-4D26-8DB2-FF8B1387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DC4C-B083-4483-94DC-0830C48D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EEF5-79CD-4303-924E-115021FB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46E3-B81E-4466-8A16-35722B5E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0559-9107-4A20-8149-56A0FFA9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80F-3122-468F-A724-BC63261E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9EE0-2CC9-468D-897B-763C9679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DAD0-A1A0-436C-A8C7-872310B924B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College of Veterinary Medicine</cp:lastModifiedBy>
  <dcterms:modified xsi:type="dcterms:W3CDTF">2007-07-31T18:19:28Z</dcterms:modified>
  <cp:revision>34</cp:revision>
  <dc:subject/>
  <dc:title>PowerPoint Presentation</dc:title>
</cp:coreProperties>
</file>