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AB5D-AA2E-40A6-B488-398DEBC28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ADD9-F8F7-473B-906E-76E1CAEF5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733A-C684-4DE2-8B68-69744E8E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82C5-43EA-49FC-81E4-7DD4D6A69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5A7C-9C45-4085-B27A-CB6BA2968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992E-49E3-4644-97BC-D623EAA9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E606-48E5-4AF8-8F39-A9E76D7E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03CB-BEDF-4F7E-B135-A8A2B654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6920-C165-4314-BB6D-DF19238A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AAAC-B341-45FB-9B33-227C6A5E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E8C2-38B2-4535-AD62-892DF5C5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E8AB-EF25-4C4F-B8A4-58B9C5B7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E84A-5282-4150-A73C-5FCC88E1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FE09-E567-4B71-8420-77CC632AA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764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6120" y="441972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3° S, 27° 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58104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62676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6704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5760" y="4419720"/>
            <a:ext cx="53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6.5° S, 22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53388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57960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62532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6704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5760" y="4419720"/>
            <a:ext cx="50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.  What city is located at 3° S, 28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CongoDemAll" descr=""/>
          <p:cNvPicPr/>
          <p:nvPr/>
        </p:nvPicPr>
        <p:blipFill>
          <a:blip r:embed="rId2"/>
          <a:stretch/>
        </p:blipFill>
        <p:spPr>
          <a:xfrm>
            <a:off x="1413000" y="276120"/>
            <a:ext cx="628632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53816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90920" y="58388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90920" y="62960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28880" y="4940280"/>
            <a:ext cx="81486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What is the latitude for the most north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28880" y="4940280"/>
            <a:ext cx="80625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What is the latitude for the most south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028880" y="4938840"/>
            <a:ext cx="82501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What is the longitude for the most west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8640" y="4938840"/>
            <a:ext cx="81802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What is the longitude for the most eastern part of Africa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2116080" y="4952880"/>
            <a:ext cx="4772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atitude for Kinshas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2100240" y="4952880"/>
            <a:ext cx="55339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longitude for Kinshas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.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0352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0352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1363680" y="4952880"/>
            <a:ext cx="62564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is the absolute location of Kinsha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 and 32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° S and 15.4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 and 77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3800" y="5388120"/>
            <a:ext cx="244800" cy="30456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865">
                <a:moveTo>
                  <a:pt x="0" y="0"/>
                </a:moveTo>
                <a:lnTo>
                  <a:pt x="21600" y="0"/>
                </a:lnTo>
                <a:lnTo>
                  <a:pt x="21600" y="26865"/>
                </a:lnTo>
                <a:lnTo>
                  <a:pt x="0" y="26865"/>
                </a:lnTo>
                <a:close/>
              </a:path>
              <a:path fill="lightenLess" w="21600" h="268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65">
                <a:moveTo>
                  <a:pt x="21600" y="0"/>
                </a:moveTo>
                <a:lnTo>
                  <a:pt x="21600" y="26865"/>
                </a:lnTo>
                <a:lnTo>
                  <a:pt x="20200" y="25465"/>
                </a:lnTo>
                <a:lnTo>
                  <a:pt x="20200" y="1400"/>
                </a:lnTo>
                <a:close/>
              </a:path>
              <a:path fill="darkenLess" w="21600" h="26865">
                <a:moveTo>
                  <a:pt x="21600" y="26865"/>
                </a:moveTo>
                <a:lnTo>
                  <a:pt x="0" y="26865"/>
                </a:lnTo>
                <a:lnTo>
                  <a:pt x="1400" y="25465"/>
                </a:lnTo>
                <a:lnTo>
                  <a:pt x="20200" y="25465"/>
                </a:lnTo>
                <a:close/>
              </a:path>
              <a:path fill="lighten" w="21600" h="26865">
                <a:moveTo>
                  <a:pt x="0" y="268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6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800" y="5830920"/>
            <a:ext cx="244800" cy="30492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897">
                <a:moveTo>
                  <a:pt x="0" y="0"/>
                </a:moveTo>
                <a:lnTo>
                  <a:pt x="21600" y="0"/>
                </a:lnTo>
                <a:lnTo>
                  <a:pt x="21600" y="26897"/>
                </a:lnTo>
                <a:lnTo>
                  <a:pt x="0" y="26897"/>
                </a:lnTo>
                <a:close/>
              </a:path>
              <a:path fill="lightenLess" w="21600" h="268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97">
                <a:moveTo>
                  <a:pt x="21600" y="0"/>
                </a:moveTo>
                <a:lnTo>
                  <a:pt x="21600" y="26897"/>
                </a:lnTo>
                <a:lnTo>
                  <a:pt x="20200" y="25497"/>
                </a:lnTo>
                <a:lnTo>
                  <a:pt x="20200" y="1400"/>
                </a:lnTo>
                <a:close/>
              </a:path>
              <a:path fill="darkenLess" w="21600" h="26897">
                <a:moveTo>
                  <a:pt x="21600" y="26897"/>
                </a:moveTo>
                <a:lnTo>
                  <a:pt x="0" y="26897"/>
                </a:lnTo>
                <a:lnTo>
                  <a:pt x="1400" y="25497"/>
                </a:lnTo>
                <a:lnTo>
                  <a:pt x="20200" y="25497"/>
                </a:lnTo>
                <a:close/>
              </a:path>
              <a:path fill="lighten" w="21600" h="26897">
                <a:moveTo>
                  <a:pt x="0" y="268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9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93800" y="6254640"/>
            <a:ext cx="244800" cy="30492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897">
                <a:moveTo>
                  <a:pt x="0" y="0"/>
                </a:moveTo>
                <a:lnTo>
                  <a:pt x="21600" y="0"/>
                </a:lnTo>
                <a:lnTo>
                  <a:pt x="21600" y="26897"/>
                </a:lnTo>
                <a:lnTo>
                  <a:pt x="0" y="26897"/>
                </a:lnTo>
                <a:close/>
              </a:path>
              <a:path fill="lightenLess" w="21600" h="268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97">
                <a:moveTo>
                  <a:pt x="21600" y="0"/>
                </a:moveTo>
                <a:lnTo>
                  <a:pt x="21600" y="26897"/>
                </a:lnTo>
                <a:lnTo>
                  <a:pt x="20200" y="25497"/>
                </a:lnTo>
                <a:lnTo>
                  <a:pt x="20200" y="1400"/>
                </a:lnTo>
                <a:close/>
              </a:path>
              <a:path fill="darkenLess" w="21600" h="26897">
                <a:moveTo>
                  <a:pt x="21600" y="26897"/>
                </a:moveTo>
                <a:lnTo>
                  <a:pt x="0" y="26897"/>
                </a:lnTo>
                <a:lnTo>
                  <a:pt x="1400" y="25497"/>
                </a:lnTo>
                <a:lnTo>
                  <a:pt x="20200" y="25497"/>
                </a:lnTo>
                <a:close/>
              </a:path>
              <a:path fill="lighten" w="21600" h="26897">
                <a:moveTo>
                  <a:pt x="0" y="268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9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28764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6120" y="4419720"/>
            <a:ext cx="52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What city is located at 0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, 25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58104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62676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College of Veterinary Medicine</cp:lastModifiedBy>
  <dcterms:modified xsi:type="dcterms:W3CDTF">2007-07-31T18:42:44Z</dcterms:modified>
  <cp:revision>483</cp:revision>
  <dc:subject/>
  <dc:title>Investigate the Mystery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a14000000000001023620</vt:lpwstr>
  </property>
</Properties>
</file>