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5F99A-5AA6-465E-9635-7D9E9259E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9FAD-9E13-4AB4-804C-FF9E2C4DC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06DB-573D-4F69-AE5A-D34AD5D81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250B-3577-4002-8450-36B75BDEB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34E3-938C-4F33-9C40-17AD28672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9673-E71A-4333-9D8D-34D2C267E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231A-FE7C-4C81-8289-AD84BDD45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DC0E-8F2B-40EE-8352-0F11A118A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F08B-0C4E-40CC-9D2D-46E63B425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1AB7-5ED0-4B1A-A528-099C8AB0A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FCBD-AB6A-48A5-B9AD-D489B375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2096-C1F6-449E-8E4D-174FF990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673B-48EF-4064-802D-BDBBC52D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93D57-6102-4523-B1DE-CFEEE8D418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764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n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bumb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k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sang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46120" y="441972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 What city is located at 13° S, 27° 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CongoDemAll" descr=""/>
          <p:cNvPicPr/>
          <p:nvPr/>
        </p:nvPicPr>
        <p:blipFill>
          <a:blip r:embed="rId2"/>
          <a:stretch/>
        </p:blipFill>
        <p:spPr>
          <a:xfrm>
            <a:off x="1438200" y="31428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9092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9092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90920" y="58104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90920" y="62676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6704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n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bumb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k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sang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45760" y="4419720"/>
            <a:ext cx="530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 What city is located at 6.5° S, 22° E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ongoDemAll" descr=""/>
          <p:cNvPicPr/>
          <p:nvPr/>
        </p:nvPicPr>
        <p:blipFill>
          <a:blip r:embed="rId2"/>
          <a:stretch/>
        </p:blipFill>
        <p:spPr>
          <a:xfrm>
            <a:off x="1438200" y="31428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9092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90920" y="533880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90920" y="579600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90920" y="625320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6704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n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bumb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k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sang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45760" y="4419720"/>
            <a:ext cx="50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.  What city is located at 3° S, 28° E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CongoDemAll" descr=""/>
          <p:cNvPicPr/>
          <p:nvPr/>
        </p:nvPicPr>
        <p:blipFill>
          <a:blip r:embed="rId2"/>
          <a:stretch/>
        </p:blipFill>
        <p:spPr>
          <a:xfrm>
            <a:off x="1413000" y="276120"/>
            <a:ext cx="628632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9092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90920" y="53816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90920" y="58388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90920" y="62960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turn to the Presen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28880" y="4940280"/>
            <a:ext cx="81486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What is the latitude for the most northern part of Afric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7°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7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243320" y="1720800"/>
            <a:ext cx="1249560" cy="1471680"/>
          </a:xfrm>
          <a:custGeom>
            <a:avLst/>
            <a:gdLst/>
            <a:ahLst/>
            <a:rect l="l" t="t" r="r" b="b"/>
            <a:pathLst>
              <a:path w="787" h="927">
                <a:moveTo>
                  <a:pt x="161" y="31"/>
                </a:moveTo>
                <a:cubicBezTo>
                  <a:pt x="210" y="0"/>
                  <a:pt x="229" y="5"/>
                  <a:pt x="289" y="13"/>
                </a:cubicBezTo>
                <a:cubicBezTo>
                  <a:pt x="312" y="35"/>
                  <a:pt x="333" y="40"/>
                  <a:pt x="363" y="50"/>
                </a:cubicBezTo>
                <a:cubicBezTo>
                  <a:pt x="425" y="91"/>
                  <a:pt x="409" y="106"/>
                  <a:pt x="427" y="59"/>
                </a:cubicBezTo>
                <a:cubicBezTo>
                  <a:pt x="499" y="83"/>
                  <a:pt x="462" y="74"/>
                  <a:pt x="536" y="86"/>
                </a:cubicBezTo>
                <a:cubicBezTo>
                  <a:pt x="559" y="120"/>
                  <a:pt x="569" y="157"/>
                  <a:pt x="582" y="196"/>
                </a:cubicBezTo>
                <a:cubicBezTo>
                  <a:pt x="589" y="217"/>
                  <a:pt x="619" y="251"/>
                  <a:pt x="619" y="251"/>
                </a:cubicBezTo>
                <a:cubicBezTo>
                  <a:pt x="633" y="293"/>
                  <a:pt x="661" y="304"/>
                  <a:pt x="692" y="333"/>
                </a:cubicBezTo>
                <a:cubicBezTo>
                  <a:pt x="737" y="318"/>
                  <a:pt x="787" y="307"/>
                  <a:pt x="756" y="379"/>
                </a:cubicBezTo>
                <a:cubicBezTo>
                  <a:pt x="753" y="387"/>
                  <a:pt x="743" y="391"/>
                  <a:pt x="737" y="397"/>
                </a:cubicBezTo>
                <a:cubicBezTo>
                  <a:pt x="718" y="458"/>
                  <a:pt x="745" y="399"/>
                  <a:pt x="701" y="434"/>
                </a:cubicBezTo>
                <a:cubicBezTo>
                  <a:pt x="686" y="446"/>
                  <a:pt x="678" y="466"/>
                  <a:pt x="664" y="479"/>
                </a:cubicBezTo>
                <a:cubicBezTo>
                  <a:pt x="658" y="497"/>
                  <a:pt x="652" y="516"/>
                  <a:pt x="646" y="534"/>
                </a:cubicBezTo>
                <a:cubicBezTo>
                  <a:pt x="643" y="543"/>
                  <a:pt x="637" y="562"/>
                  <a:pt x="637" y="562"/>
                </a:cubicBezTo>
                <a:cubicBezTo>
                  <a:pt x="656" y="636"/>
                  <a:pt x="642" y="677"/>
                  <a:pt x="582" y="717"/>
                </a:cubicBezTo>
                <a:cubicBezTo>
                  <a:pt x="579" y="741"/>
                  <a:pt x="580" y="766"/>
                  <a:pt x="573" y="790"/>
                </a:cubicBezTo>
                <a:cubicBezTo>
                  <a:pt x="571" y="798"/>
                  <a:pt x="560" y="802"/>
                  <a:pt x="555" y="809"/>
                </a:cubicBezTo>
                <a:cubicBezTo>
                  <a:pt x="524" y="860"/>
                  <a:pt x="506" y="892"/>
                  <a:pt x="454" y="927"/>
                </a:cubicBezTo>
                <a:cubicBezTo>
                  <a:pt x="433" y="920"/>
                  <a:pt x="403" y="927"/>
                  <a:pt x="390" y="909"/>
                </a:cubicBezTo>
                <a:cubicBezTo>
                  <a:pt x="379" y="894"/>
                  <a:pt x="387" y="872"/>
                  <a:pt x="381" y="854"/>
                </a:cubicBezTo>
                <a:cubicBezTo>
                  <a:pt x="375" y="834"/>
                  <a:pt x="360" y="818"/>
                  <a:pt x="353" y="799"/>
                </a:cubicBezTo>
                <a:cubicBezTo>
                  <a:pt x="350" y="781"/>
                  <a:pt x="348" y="763"/>
                  <a:pt x="344" y="745"/>
                </a:cubicBezTo>
                <a:cubicBezTo>
                  <a:pt x="339" y="726"/>
                  <a:pt x="326" y="690"/>
                  <a:pt x="326" y="690"/>
                </a:cubicBezTo>
                <a:cubicBezTo>
                  <a:pt x="334" y="650"/>
                  <a:pt x="347" y="627"/>
                  <a:pt x="335" y="589"/>
                </a:cubicBezTo>
                <a:cubicBezTo>
                  <a:pt x="348" y="535"/>
                  <a:pt x="337" y="550"/>
                  <a:pt x="308" y="507"/>
                </a:cubicBezTo>
                <a:cubicBezTo>
                  <a:pt x="299" y="433"/>
                  <a:pt x="297" y="402"/>
                  <a:pt x="225" y="379"/>
                </a:cubicBezTo>
                <a:cubicBezTo>
                  <a:pt x="156" y="402"/>
                  <a:pt x="190" y="393"/>
                  <a:pt x="125" y="406"/>
                </a:cubicBezTo>
                <a:cubicBezTo>
                  <a:pt x="74" y="394"/>
                  <a:pt x="59" y="366"/>
                  <a:pt x="24" y="333"/>
                </a:cubicBezTo>
                <a:cubicBezTo>
                  <a:pt x="3" y="269"/>
                  <a:pt x="0" y="296"/>
                  <a:pt x="15" y="251"/>
                </a:cubicBezTo>
                <a:cubicBezTo>
                  <a:pt x="1" y="208"/>
                  <a:pt x="16" y="207"/>
                  <a:pt x="33" y="169"/>
                </a:cubicBezTo>
                <a:cubicBezTo>
                  <a:pt x="58" y="113"/>
                  <a:pt x="38" y="106"/>
                  <a:pt x="97" y="86"/>
                </a:cubicBezTo>
                <a:cubicBezTo>
                  <a:pt x="123" y="62"/>
                  <a:pt x="119" y="31"/>
                  <a:pt x="161" y="31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28880" y="4940280"/>
            <a:ext cx="80625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 What is the latitude for the most southern part of Afric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43320" y="1720800"/>
            <a:ext cx="1249560" cy="1471680"/>
          </a:xfrm>
          <a:custGeom>
            <a:avLst/>
            <a:gdLst/>
            <a:ahLst/>
            <a:rect l="l" t="t" r="r" b="b"/>
            <a:pathLst>
              <a:path w="787" h="927">
                <a:moveTo>
                  <a:pt x="161" y="31"/>
                </a:moveTo>
                <a:cubicBezTo>
                  <a:pt x="210" y="0"/>
                  <a:pt x="229" y="5"/>
                  <a:pt x="289" y="13"/>
                </a:cubicBezTo>
                <a:cubicBezTo>
                  <a:pt x="312" y="35"/>
                  <a:pt x="333" y="40"/>
                  <a:pt x="363" y="50"/>
                </a:cubicBezTo>
                <a:cubicBezTo>
                  <a:pt x="425" y="91"/>
                  <a:pt x="409" y="106"/>
                  <a:pt x="427" y="59"/>
                </a:cubicBezTo>
                <a:cubicBezTo>
                  <a:pt x="499" y="83"/>
                  <a:pt x="462" y="74"/>
                  <a:pt x="536" y="86"/>
                </a:cubicBezTo>
                <a:cubicBezTo>
                  <a:pt x="559" y="120"/>
                  <a:pt x="569" y="157"/>
                  <a:pt x="582" y="196"/>
                </a:cubicBezTo>
                <a:cubicBezTo>
                  <a:pt x="589" y="217"/>
                  <a:pt x="619" y="251"/>
                  <a:pt x="619" y="251"/>
                </a:cubicBezTo>
                <a:cubicBezTo>
                  <a:pt x="633" y="293"/>
                  <a:pt x="661" y="304"/>
                  <a:pt x="692" y="333"/>
                </a:cubicBezTo>
                <a:cubicBezTo>
                  <a:pt x="737" y="318"/>
                  <a:pt x="787" y="307"/>
                  <a:pt x="756" y="379"/>
                </a:cubicBezTo>
                <a:cubicBezTo>
                  <a:pt x="753" y="387"/>
                  <a:pt x="743" y="391"/>
                  <a:pt x="737" y="397"/>
                </a:cubicBezTo>
                <a:cubicBezTo>
                  <a:pt x="718" y="458"/>
                  <a:pt x="745" y="399"/>
                  <a:pt x="701" y="434"/>
                </a:cubicBezTo>
                <a:cubicBezTo>
                  <a:pt x="686" y="446"/>
                  <a:pt x="678" y="466"/>
                  <a:pt x="664" y="479"/>
                </a:cubicBezTo>
                <a:cubicBezTo>
                  <a:pt x="658" y="497"/>
                  <a:pt x="652" y="516"/>
                  <a:pt x="646" y="534"/>
                </a:cubicBezTo>
                <a:cubicBezTo>
                  <a:pt x="643" y="543"/>
                  <a:pt x="637" y="562"/>
                  <a:pt x="637" y="562"/>
                </a:cubicBezTo>
                <a:cubicBezTo>
                  <a:pt x="656" y="636"/>
                  <a:pt x="642" y="677"/>
                  <a:pt x="582" y="717"/>
                </a:cubicBezTo>
                <a:cubicBezTo>
                  <a:pt x="579" y="741"/>
                  <a:pt x="580" y="766"/>
                  <a:pt x="573" y="790"/>
                </a:cubicBezTo>
                <a:cubicBezTo>
                  <a:pt x="571" y="798"/>
                  <a:pt x="560" y="802"/>
                  <a:pt x="555" y="809"/>
                </a:cubicBezTo>
                <a:cubicBezTo>
                  <a:pt x="524" y="860"/>
                  <a:pt x="506" y="892"/>
                  <a:pt x="454" y="927"/>
                </a:cubicBezTo>
                <a:cubicBezTo>
                  <a:pt x="433" y="920"/>
                  <a:pt x="403" y="927"/>
                  <a:pt x="390" y="909"/>
                </a:cubicBezTo>
                <a:cubicBezTo>
                  <a:pt x="379" y="894"/>
                  <a:pt x="387" y="872"/>
                  <a:pt x="381" y="854"/>
                </a:cubicBezTo>
                <a:cubicBezTo>
                  <a:pt x="375" y="834"/>
                  <a:pt x="360" y="818"/>
                  <a:pt x="353" y="799"/>
                </a:cubicBezTo>
                <a:cubicBezTo>
                  <a:pt x="350" y="781"/>
                  <a:pt x="348" y="763"/>
                  <a:pt x="344" y="745"/>
                </a:cubicBezTo>
                <a:cubicBezTo>
                  <a:pt x="339" y="726"/>
                  <a:pt x="326" y="690"/>
                  <a:pt x="326" y="690"/>
                </a:cubicBezTo>
                <a:cubicBezTo>
                  <a:pt x="334" y="650"/>
                  <a:pt x="347" y="627"/>
                  <a:pt x="335" y="589"/>
                </a:cubicBezTo>
                <a:cubicBezTo>
                  <a:pt x="348" y="535"/>
                  <a:pt x="337" y="550"/>
                  <a:pt x="308" y="507"/>
                </a:cubicBezTo>
                <a:cubicBezTo>
                  <a:pt x="299" y="433"/>
                  <a:pt x="297" y="402"/>
                  <a:pt x="225" y="379"/>
                </a:cubicBezTo>
                <a:cubicBezTo>
                  <a:pt x="156" y="402"/>
                  <a:pt x="190" y="393"/>
                  <a:pt x="125" y="406"/>
                </a:cubicBezTo>
                <a:cubicBezTo>
                  <a:pt x="74" y="394"/>
                  <a:pt x="59" y="366"/>
                  <a:pt x="24" y="333"/>
                </a:cubicBezTo>
                <a:cubicBezTo>
                  <a:pt x="3" y="269"/>
                  <a:pt x="0" y="296"/>
                  <a:pt x="15" y="251"/>
                </a:cubicBezTo>
                <a:cubicBezTo>
                  <a:pt x="1" y="208"/>
                  <a:pt x="16" y="207"/>
                  <a:pt x="33" y="169"/>
                </a:cubicBezTo>
                <a:cubicBezTo>
                  <a:pt x="58" y="113"/>
                  <a:pt x="38" y="106"/>
                  <a:pt x="97" y="86"/>
                </a:cubicBezTo>
                <a:cubicBezTo>
                  <a:pt x="123" y="62"/>
                  <a:pt x="119" y="31"/>
                  <a:pt x="161" y="31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1028880" y="4938840"/>
            <a:ext cx="82501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76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 What is the longitude for the most western part of Afric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76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76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76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43320" y="1720800"/>
            <a:ext cx="1249560" cy="1471680"/>
          </a:xfrm>
          <a:custGeom>
            <a:avLst/>
            <a:gdLst/>
            <a:ahLst/>
            <a:rect l="l" t="t" r="r" b="b"/>
            <a:pathLst>
              <a:path w="787" h="927">
                <a:moveTo>
                  <a:pt x="161" y="31"/>
                </a:moveTo>
                <a:cubicBezTo>
                  <a:pt x="210" y="0"/>
                  <a:pt x="229" y="5"/>
                  <a:pt x="289" y="13"/>
                </a:cubicBezTo>
                <a:cubicBezTo>
                  <a:pt x="312" y="35"/>
                  <a:pt x="333" y="40"/>
                  <a:pt x="363" y="50"/>
                </a:cubicBezTo>
                <a:cubicBezTo>
                  <a:pt x="425" y="91"/>
                  <a:pt x="409" y="106"/>
                  <a:pt x="427" y="59"/>
                </a:cubicBezTo>
                <a:cubicBezTo>
                  <a:pt x="499" y="83"/>
                  <a:pt x="462" y="74"/>
                  <a:pt x="536" y="86"/>
                </a:cubicBezTo>
                <a:cubicBezTo>
                  <a:pt x="559" y="120"/>
                  <a:pt x="569" y="157"/>
                  <a:pt x="582" y="196"/>
                </a:cubicBezTo>
                <a:cubicBezTo>
                  <a:pt x="589" y="217"/>
                  <a:pt x="619" y="251"/>
                  <a:pt x="619" y="251"/>
                </a:cubicBezTo>
                <a:cubicBezTo>
                  <a:pt x="633" y="293"/>
                  <a:pt x="661" y="304"/>
                  <a:pt x="692" y="333"/>
                </a:cubicBezTo>
                <a:cubicBezTo>
                  <a:pt x="737" y="318"/>
                  <a:pt x="787" y="307"/>
                  <a:pt x="756" y="379"/>
                </a:cubicBezTo>
                <a:cubicBezTo>
                  <a:pt x="753" y="387"/>
                  <a:pt x="743" y="391"/>
                  <a:pt x="737" y="397"/>
                </a:cubicBezTo>
                <a:cubicBezTo>
                  <a:pt x="718" y="458"/>
                  <a:pt x="745" y="399"/>
                  <a:pt x="701" y="434"/>
                </a:cubicBezTo>
                <a:cubicBezTo>
                  <a:pt x="686" y="446"/>
                  <a:pt x="678" y="466"/>
                  <a:pt x="664" y="479"/>
                </a:cubicBezTo>
                <a:cubicBezTo>
                  <a:pt x="658" y="497"/>
                  <a:pt x="652" y="516"/>
                  <a:pt x="646" y="534"/>
                </a:cubicBezTo>
                <a:cubicBezTo>
                  <a:pt x="643" y="543"/>
                  <a:pt x="637" y="562"/>
                  <a:pt x="637" y="562"/>
                </a:cubicBezTo>
                <a:cubicBezTo>
                  <a:pt x="656" y="636"/>
                  <a:pt x="642" y="677"/>
                  <a:pt x="582" y="717"/>
                </a:cubicBezTo>
                <a:cubicBezTo>
                  <a:pt x="579" y="741"/>
                  <a:pt x="580" y="766"/>
                  <a:pt x="573" y="790"/>
                </a:cubicBezTo>
                <a:cubicBezTo>
                  <a:pt x="571" y="798"/>
                  <a:pt x="560" y="802"/>
                  <a:pt x="555" y="809"/>
                </a:cubicBezTo>
                <a:cubicBezTo>
                  <a:pt x="524" y="860"/>
                  <a:pt x="506" y="892"/>
                  <a:pt x="454" y="927"/>
                </a:cubicBezTo>
                <a:cubicBezTo>
                  <a:pt x="433" y="920"/>
                  <a:pt x="403" y="927"/>
                  <a:pt x="390" y="909"/>
                </a:cubicBezTo>
                <a:cubicBezTo>
                  <a:pt x="379" y="894"/>
                  <a:pt x="387" y="872"/>
                  <a:pt x="381" y="854"/>
                </a:cubicBezTo>
                <a:cubicBezTo>
                  <a:pt x="375" y="834"/>
                  <a:pt x="360" y="818"/>
                  <a:pt x="353" y="799"/>
                </a:cubicBezTo>
                <a:cubicBezTo>
                  <a:pt x="350" y="781"/>
                  <a:pt x="348" y="763"/>
                  <a:pt x="344" y="745"/>
                </a:cubicBezTo>
                <a:cubicBezTo>
                  <a:pt x="339" y="726"/>
                  <a:pt x="326" y="690"/>
                  <a:pt x="326" y="690"/>
                </a:cubicBezTo>
                <a:cubicBezTo>
                  <a:pt x="334" y="650"/>
                  <a:pt x="347" y="627"/>
                  <a:pt x="335" y="589"/>
                </a:cubicBezTo>
                <a:cubicBezTo>
                  <a:pt x="348" y="535"/>
                  <a:pt x="337" y="550"/>
                  <a:pt x="308" y="507"/>
                </a:cubicBezTo>
                <a:cubicBezTo>
                  <a:pt x="299" y="433"/>
                  <a:pt x="297" y="402"/>
                  <a:pt x="225" y="379"/>
                </a:cubicBezTo>
                <a:cubicBezTo>
                  <a:pt x="156" y="402"/>
                  <a:pt x="190" y="393"/>
                  <a:pt x="125" y="406"/>
                </a:cubicBezTo>
                <a:cubicBezTo>
                  <a:pt x="74" y="394"/>
                  <a:pt x="59" y="366"/>
                  <a:pt x="24" y="333"/>
                </a:cubicBezTo>
                <a:cubicBezTo>
                  <a:pt x="3" y="269"/>
                  <a:pt x="0" y="296"/>
                  <a:pt x="15" y="251"/>
                </a:cubicBezTo>
                <a:cubicBezTo>
                  <a:pt x="1" y="208"/>
                  <a:pt x="16" y="207"/>
                  <a:pt x="33" y="169"/>
                </a:cubicBezTo>
                <a:cubicBezTo>
                  <a:pt x="58" y="113"/>
                  <a:pt x="38" y="106"/>
                  <a:pt x="97" y="86"/>
                </a:cubicBezTo>
                <a:cubicBezTo>
                  <a:pt x="123" y="62"/>
                  <a:pt x="119" y="31"/>
                  <a:pt x="161" y="31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28640" y="4938840"/>
            <a:ext cx="818028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What is the longitude for the most eastern part of Africa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CongoDemKinshasa" descr=""/>
          <p:cNvPicPr/>
          <p:nvPr/>
        </p:nvPicPr>
        <p:blipFill>
          <a:blip r:embed="rId2"/>
          <a:stretch/>
        </p:blipFill>
        <p:spPr>
          <a:xfrm>
            <a:off x="1461960" y="65232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2116080" y="4952880"/>
            <a:ext cx="4772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atitude for Kinshas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4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CongoDemKinshasa" descr=""/>
          <p:cNvPicPr/>
          <p:nvPr/>
        </p:nvPicPr>
        <p:blipFill>
          <a:blip r:embed="rId2"/>
          <a:stretch/>
        </p:blipFill>
        <p:spPr>
          <a:xfrm>
            <a:off x="1461960" y="65232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2100240" y="4952880"/>
            <a:ext cx="55339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The longitude for Kinshas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.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0352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0352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CongoDemKinshasa" descr=""/>
          <p:cNvPicPr/>
          <p:nvPr/>
        </p:nvPicPr>
        <p:blipFill>
          <a:blip r:embed="rId2"/>
          <a:stretch/>
        </p:blipFill>
        <p:spPr>
          <a:xfrm>
            <a:off x="1461960" y="65232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1363680" y="4952880"/>
            <a:ext cx="625644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is the absolute location of Kinshas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 and 32°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4° S and 15.4°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 and 77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93800" y="5388120"/>
            <a:ext cx="244800" cy="304560"/>
          </a:xfrm>
          <a:custGeom>
            <a:avLst/>
            <a:gdLst>
              <a:gd name="textAreaLeft" fmla="*/ 15840 w 244800"/>
              <a:gd name="textAreaRight" fmla="*/ 228960 w 24480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865">
                <a:moveTo>
                  <a:pt x="0" y="0"/>
                </a:moveTo>
                <a:lnTo>
                  <a:pt x="21600" y="0"/>
                </a:lnTo>
                <a:lnTo>
                  <a:pt x="21600" y="26865"/>
                </a:lnTo>
                <a:lnTo>
                  <a:pt x="0" y="26865"/>
                </a:lnTo>
                <a:close/>
              </a:path>
              <a:path fill="lightenLess" w="21600" h="268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865">
                <a:moveTo>
                  <a:pt x="21600" y="0"/>
                </a:moveTo>
                <a:lnTo>
                  <a:pt x="21600" y="26865"/>
                </a:lnTo>
                <a:lnTo>
                  <a:pt x="20200" y="25465"/>
                </a:lnTo>
                <a:lnTo>
                  <a:pt x="20200" y="1400"/>
                </a:lnTo>
                <a:close/>
              </a:path>
              <a:path fill="darkenLess" w="21600" h="26865">
                <a:moveTo>
                  <a:pt x="21600" y="26865"/>
                </a:moveTo>
                <a:lnTo>
                  <a:pt x="0" y="26865"/>
                </a:lnTo>
                <a:lnTo>
                  <a:pt x="1400" y="25465"/>
                </a:lnTo>
                <a:lnTo>
                  <a:pt x="20200" y="25465"/>
                </a:lnTo>
                <a:close/>
              </a:path>
              <a:path fill="lighten" w="21600" h="26865">
                <a:moveTo>
                  <a:pt x="0" y="268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46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800" y="5830920"/>
            <a:ext cx="244800" cy="304920"/>
          </a:xfrm>
          <a:custGeom>
            <a:avLst/>
            <a:gdLst>
              <a:gd name="textAreaLeft" fmla="*/ 15840 w 244800"/>
              <a:gd name="textAreaRight" fmla="*/ 228960 w 24480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897">
                <a:moveTo>
                  <a:pt x="0" y="0"/>
                </a:moveTo>
                <a:lnTo>
                  <a:pt x="21600" y="0"/>
                </a:lnTo>
                <a:lnTo>
                  <a:pt x="21600" y="26897"/>
                </a:lnTo>
                <a:lnTo>
                  <a:pt x="0" y="26897"/>
                </a:lnTo>
                <a:close/>
              </a:path>
              <a:path fill="lightenLess" w="21600" h="268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897">
                <a:moveTo>
                  <a:pt x="21600" y="0"/>
                </a:moveTo>
                <a:lnTo>
                  <a:pt x="21600" y="26897"/>
                </a:lnTo>
                <a:lnTo>
                  <a:pt x="20200" y="25497"/>
                </a:lnTo>
                <a:lnTo>
                  <a:pt x="20200" y="1400"/>
                </a:lnTo>
                <a:close/>
              </a:path>
              <a:path fill="darkenLess" w="21600" h="26897">
                <a:moveTo>
                  <a:pt x="21600" y="26897"/>
                </a:moveTo>
                <a:lnTo>
                  <a:pt x="0" y="26897"/>
                </a:lnTo>
                <a:lnTo>
                  <a:pt x="1400" y="25497"/>
                </a:lnTo>
                <a:lnTo>
                  <a:pt x="20200" y="25497"/>
                </a:lnTo>
                <a:close/>
              </a:path>
              <a:path fill="lighten" w="21600" h="26897">
                <a:moveTo>
                  <a:pt x="0" y="268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49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93800" y="6254640"/>
            <a:ext cx="244800" cy="304920"/>
          </a:xfrm>
          <a:custGeom>
            <a:avLst/>
            <a:gdLst>
              <a:gd name="textAreaLeft" fmla="*/ 15840 w 244800"/>
              <a:gd name="textAreaRight" fmla="*/ 228960 w 24480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897">
                <a:moveTo>
                  <a:pt x="0" y="0"/>
                </a:moveTo>
                <a:lnTo>
                  <a:pt x="21600" y="0"/>
                </a:lnTo>
                <a:lnTo>
                  <a:pt x="21600" y="26897"/>
                </a:lnTo>
                <a:lnTo>
                  <a:pt x="0" y="26897"/>
                </a:lnTo>
                <a:close/>
              </a:path>
              <a:path fill="lightenLess" w="21600" h="268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897">
                <a:moveTo>
                  <a:pt x="21600" y="0"/>
                </a:moveTo>
                <a:lnTo>
                  <a:pt x="21600" y="26897"/>
                </a:lnTo>
                <a:lnTo>
                  <a:pt x="20200" y="25497"/>
                </a:lnTo>
                <a:lnTo>
                  <a:pt x="20200" y="1400"/>
                </a:lnTo>
                <a:close/>
              </a:path>
              <a:path fill="darkenLess" w="21600" h="26897">
                <a:moveTo>
                  <a:pt x="21600" y="26897"/>
                </a:moveTo>
                <a:lnTo>
                  <a:pt x="0" y="26897"/>
                </a:lnTo>
                <a:lnTo>
                  <a:pt x="1400" y="25497"/>
                </a:lnTo>
                <a:lnTo>
                  <a:pt x="20200" y="25497"/>
                </a:lnTo>
                <a:close/>
              </a:path>
              <a:path fill="lighten" w="21600" h="26897">
                <a:moveTo>
                  <a:pt x="0" y="268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49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CongoDemAll" descr=""/>
          <p:cNvPicPr/>
          <p:nvPr/>
        </p:nvPicPr>
        <p:blipFill>
          <a:blip r:embed="rId2"/>
          <a:stretch/>
        </p:blipFill>
        <p:spPr>
          <a:xfrm>
            <a:off x="1438200" y="31428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28764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n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bumb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k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sang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6120" y="4419720"/>
            <a:ext cx="52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.  What city is located at 0.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, 25° E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9092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9092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90920" y="58104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62676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8T15:50:44Z</dcterms:created>
  <dc:creator>WKlemm</dc:creator>
  <dc:description/>
  <dc:language>en-US</dc:language>
  <cp:lastModifiedBy>College of Veterinary Medicine</cp:lastModifiedBy>
  <dcterms:modified xsi:type="dcterms:W3CDTF">2007-07-31T18:42:44Z</dcterms:modified>
  <cp:revision>483</cp:revision>
  <dc:subject/>
  <dc:title>Investigate the Mystery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a14000000000001023620</vt:lpwstr>
  </property>
</Properties>
</file>