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E66A-DC72-4359-A052-24568B1DFF4B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BFF0-7B6E-4106-816A-1B14AFF4C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E158-BD38-476A-91FA-D9CE327A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2E62-9155-49E7-931E-CB4681361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9A1D-B4F3-4C64-8BD5-3F19E53F3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4940-6BC7-42C3-BF96-CDC7FCF7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8D26-EE22-4328-B167-69C25B2D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EF48-5F08-4F68-BFFF-0FD19865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E667-9A95-4E88-A6FD-BB9287A9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62B4-C63D-4894-A38F-D2458DC0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4B97-F7AB-4C26-8F25-8CB442C5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B759-37F9-40DE-B37F-955670D7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A8C0-8B20-45A1-962C-A901A9D9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389E-BAD7-4D33-878E-574CD112B8A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Texas A&amp;M Veterinary Medicine</cp:lastModifiedBy>
  <dcterms:modified xsi:type="dcterms:W3CDTF">2004-10-27T18:50:40Z</dcterms:modified>
  <cp:revision>16</cp:revision>
  <dc:subject/>
  <dc:title>Writing a Business Letter</dc:title>
</cp:coreProperties>
</file>