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22.jpeg" ContentType="image/jpeg"/>
  <Override PartName="/ppt/media/image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3752-CB0B-4C96-96D2-EE48DB9E8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2FA-4359-4197-8269-37B0AE9A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C56-4A26-4DDD-AF63-DE949D74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A4D-BA13-4438-8167-0D96569F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533-1BE2-498A-8CE9-611D7668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4B6-755E-46A3-91E1-82A6A5BF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4E19-FF18-4292-A477-75C5CCE4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8F0-396F-431B-B0F8-92096E54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46A-4724-4173-A8BC-97A73892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F40-2937-4114-936D-D061994F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427-ECDD-4406-97D6-AFAD6C48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B0F-4DE6-46F8-B9BD-4F2D0D0C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DB58-3980-4F34-8071-FEB20958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B4DF-5DE4-4959-83A8-9AB01FDA2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webelements.com/webelements/elements/text/Cr/key.html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97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" descr="periodic table"/>
            <p:cNvPicPr/>
            <p:nvPr/>
          </p:nvPicPr>
          <p:blipFill>
            <a:blip r:embed="rId3"/>
            <a:srcRect l="2022" t="0" r="92792" b="24549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309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41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43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61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67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70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8259840" y="6124680"/>
            <a:ext cx="709560" cy="506160"/>
            <a:chOff x="8259840" y="6124680"/>
            <a:chExt cx="709560" cy="506160"/>
          </a:xfrm>
        </p:grpSpPr>
        <p:sp>
          <p:nvSpPr>
            <p:cNvPr id="405" name=""/>
            <p:cNvSpPr/>
            <p:nvPr/>
          </p:nvSpPr>
          <p:spPr>
            <a:xfrm>
              <a:off x="8259840" y="6124680"/>
              <a:ext cx="709560" cy="506160"/>
            </a:xfrm>
            <a:prstGeom prst="rightArrow">
              <a:avLst>
                <a:gd name="adj1" fmla="val 50000"/>
                <a:gd name="adj2" fmla="val 35046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90080" y="6224760"/>
              <a:ext cx="53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3"/>
            <a:srcRect l="6450" t="14625" r="88720" b="29732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2"/>
            <a:srcRect l="11312" t="15150" r="83530" b="30037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rcRect l="16096" t="33102" r="33045" b="29659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0080" y="4919760"/>
            <a:ext cx="1351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"/>
            <a:srcRect l="16043" t="77743" r="13130" b="13564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45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46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2"/>
            <a:srcRect l="16096" t="77249" r="13793" b="4367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245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here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513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62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2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98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08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14" name="" descr=""/>
            <p:cNvPicPr/>
            <p:nvPr/>
          </p:nvPicPr>
          <p:blipFill>
            <a:blip r:embed="rId1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6" name="" descr=""/>
            <p:cNvPicPr/>
            <p:nvPr/>
          </p:nvPicPr>
          <p:blipFill>
            <a:blip r:embed="rId2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rcRect l="0" t="0" r="0" b="-2003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27" name="" descr=""/>
            <p:cNvPicPr/>
            <p:nvPr/>
          </p:nvPicPr>
          <p:blipFill>
            <a:blip r:embed="rId1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"/>
            <a:srcRect l="91955" t="5512" r="2743" b="39318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1" name="" descr="photograph"/>
          <p:cNvPicPr/>
          <p:nvPr/>
        </p:nvPicPr>
        <p:blipFill>
          <a:blip r:embed="rId4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2" name="" descr=""/>
          <p:cNvPicPr/>
          <p:nvPr/>
        </p:nvPicPr>
        <p:blipFill>
          <a:blip r:embed="rId5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3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46" name="" descr=""/>
            <p:cNvPicPr/>
            <p:nvPr/>
          </p:nvPicPr>
          <p:blipFill>
            <a:blip r:embed="rId1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" descr=""/>
            <p:cNvPicPr/>
            <p:nvPr/>
          </p:nvPicPr>
          <p:blipFill>
            <a:blip r:embed="rId2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5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62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’s 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14640" y="2576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048120" y="1741320"/>
            <a:ext cx="1765080" cy="1821960"/>
            <a:chOff x="3048120" y="1741320"/>
            <a:chExt cx="1765080" cy="18219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3048120" y="17892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343320" y="21700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66960" y="17413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19480" y="31035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H="1" flipV="1">
            <a:off x="4148280" y="2238480"/>
            <a:ext cx="482400" cy="15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7316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4752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95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24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52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16T23:29:50Z</dcterms:modified>
  <cp:revision>84</cp:revision>
  <dc:subject/>
  <dc:title>Slide 1</dc:title>
</cp:coreProperties>
</file>