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D4A7-79BF-4AD9-B53D-B0918872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1E23-7812-4BC4-B5C9-C3660363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C2F7-6597-4210-94ED-73C4C222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D56-80B8-4BE8-9525-7354F373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5738-88B5-4237-AC4E-76953440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6297-4DAB-4842-81F2-3C29A944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4288-C8E6-41FE-9B6C-9389F001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5C9D-AD24-4728-A84B-D0072DA5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5A98-04C5-4943-B290-0876D3F4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E7FC-18A8-4BF3-9A38-3ED64062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3A34-3DB7-4A60-8CA0-EA403C22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D27D-AA38-4318-AD48-08D8F55D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4AE8-3FD4-403B-804E-5D0088F1C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14400" y="1665360"/>
            <a:ext cx="5029200" cy="4125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248520" y="2100240"/>
            <a:ext cx="2514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ting hot type was a dirty and dangerous occupation where lead poisoning was all too comm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03856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ype case became as familiar as a typewriter to an experienced typese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95320" y="1676520"/>
            <a:ext cx="735336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876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the "stick" into which type would be set. Note each line had to be set backward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04720" y="1981080"/>
            <a:ext cx="813456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8:14:36Z</dcterms:created>
  <dc:creator>Texas A&amp;M Veterinary Medicine</dc:creator>
  <dc:description/>
  <dc:language>en-US</dc:language>
  <cp:lastModifiedBy>Vince Hardy</cp:lastModifiedBy>
  <dcterms:modified xsi:type="dcterms:W3CDTF">2008-05-05T15:36:04Z</dcterms:modified>
  <cp:revision>90</cp:revision>
  <dc:subject/>
  <dc:title>Slide 1</dc:title>
</cp:coreProperties>
</file>