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97A1-66BE-4441-90C5-A49B8D146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2D90-3695-423D-BDA5-D313AEFA4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8600-1BF8-44CB-B29E-06CF91C79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0638-A77B-49E6-93CC-3EDBB90BF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138F-511F-43AA-B581-C500D7836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FDDF-D80D-471A-8685-8833D1224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282A-A8AE-4E3E-9BB0-9DB38A471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6C4E-C2B8-4D4C-9ABF-036BC2693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4870-8E13-46D1-B4AB-3ED14B64F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CDD4-7480-4183-9C1E-EC0BFF92B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5F31-3A0B-4C88-A172-CE248862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8D5B-6B8E-418F-AB6E-7ADE277F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C4706-4A0D-4AEE-92D7-EDBD803D3E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ypesetting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6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05120" y="6369120"/>
            <a:ext cx="708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source: http://www.radford.edu/~wkovarik/class/history/mediatech/type.htm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914400" y="1665360"/>
            <a:ext cx="5029200" cy="41259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248520" y="2100240"/>
            <a:ext cx="2514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tting hot type was a dirty and dangerous occupation where lead poisoning was all too comm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ypesetting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6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6369120"/>
            <a:ext cx="708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source: http://www.radford.edu/~wkovarik/class/history/mediatech/type.htm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503856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type case became as familiar as a typewriter to an experienced typesett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95320" y="1676520"/>
            <a:ext cx="7353360" cy="30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ypesetting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6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905120" y="6369120"/>
            <a:ext cx="708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source: http://www.radford.edu/~wkovarik/class/history/mediatech/type.htm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487692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is the "stick" into which type would be set. Note each line had to be set backward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04720" y="1981080"/>
            <a:ext cx="8134560" cy="25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18:14:36Z</dcterms:created>
  <dc:creator>Texas A&amp;M Veterinary Medicine</dc:creator>
  <dc:description/>
  <dc:language>en-US</dc:language>
  <cp:lastModifiedBy>Vince Hardy</cp:lastModifiedBy>
  <dcterms:modified xsi:type="dcterms:W3CDTF">2008-05-05T15:36:04Z</dcterms:modified>
  <cp:revision>90</cp:revision>
  <dc:subject/>
  <dc:title>Slide 1</dc:title>
</cp:coreProperties>
</file>