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8EF849-76D9-4DEC-8B31-86D1471B55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F49CFB-ECAE-4DA4-81A8-0F278A56D0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1EF1EB-DBE6-4D77-A885-91D2698F05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526397-728F-457F-8627-C1FC7B4E01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19494A-A221-4E35-A119-614B9D903B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7D6DFF-D748-45F9-A142-7EFC1F4231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B03198-E084-47ED-8766-FD69D996BC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042C33-6893-4898-988D-7DD414DE9B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B2D3B9-30BE-4957-AC64-BFAE4F7365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0C9768-6D4D-4912-86EF-0362D76441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ACCAE1-CC8C-4339-ABF4-2CD21F5AFA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621C23-8A52-49C5-A6CB-85A719B47E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906D1-572E-44DB-8C56-88637495F20F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Triang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7240" y="1447920"/>
            <a:ext cx="7770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triangle = 1/2 x Base x Heigh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as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5800" y="1447920"/>
            <a:ext cx="7543800" cy="464796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RightTriangle" descr=""/>
          <p:cNvPicPr/>
          <p:nvPr/>
        </p:nvPicPr>
        <p:blipFill>
          <a:blip r:embed="rId2"/>
          <a:stretch/>
        </p:blipFill>
        <p:spPr>
          <a:xfrm>
            <a:off x="3406680" y="3048120"/>
            <a:ext cx="2308320" cy="2320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703A5D-11B6-4681-9AF0-378BFEBE4F6B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Squar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square = Side x Side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d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d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9480" y="1447920"/>
            <a:ext cx="7543800" cy="44956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Box" descr=""/>
          <p:cNvPicPr/>
          <p:nvPr/>
        </p:nvPicPr>
        <p:blipFill>
          <a:blip r:embed="rId2"/>
          <a:stretch/>
        </p:blipFill>
        <p:spPr>
          <a:xfrm>
            <a:off x="3276720" y="3124080"/>
            <a:ext cx="2171520" cy="2160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5E3B9F-0963-4855-A452-966B4546B2A9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Circ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circle = </a:t>
            </a:r>
            <a:r>
              <a:rPr b="0" lang="en-US" sz="32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x Radius x Radius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amete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09480" y="1447920"/>
            <a:ext cx="7543800" cy="45720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114800" y="42670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114800" y="3124080"/>
            <a:ext cx="0" cy="236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Circle" descr=""/>
          <p:cNvPicPr/>
          <p:nvPr/>
        </p:nvPicPr>
        <p:blipFill>
          <a:blip r:embed="rId2"/>
          <a:stretch/>
        </p:blipFill>
        <p:spPr>
          <a:xfrm>
            <a:off x="2819520" y="3048120"/>
            <a:ext cx="2503440" cy="2503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CD45ED-28B9-483D-8C5D-C6FEFA58B294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Rectang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rectangle = Length x Width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idth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ength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9480" y="1447920"/>
            <a:ext cx="7543800" cy="45720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Rectangle" descr=""/>
          <p:cNvPicPr/>
          <p:nvPr/>
        </p:nvPicPr>
        <p:blipFill>
          <a:blip r:embed="rId2"/>
          <a:stretch/>
        </p:blipFill>
        <p:spPr>
          <a:xfrm>
            <a:off x="2759040" y="3003480"/>
            <a:ext cx="3314880" cy="2251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C86669-E973-4704-9331-6C14A85987F5}" type="slidenum">
              <a:t>4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6:39Z</dcterms:modified>
  <cp:revision>217</cp:revision>
  <dc:subject/>
  <dc:title>VTPP 423 - PHYSIOLOGY</dc:title>
</cp:coreProperties>
</file>