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5EC8-5C1F-4D6C-BC6C-F57FCB9B5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9065-4575-4BE0-948A-7C08773A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D72-736A-4E57-9FDB-29797314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5EE-29DB-4958-82AE-62F1134A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65B5-69E4-4DDE-AF2D-24256DD3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EF6D-084C-44B0-8FA5-AE7D3A09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F282-8AE9-4485-8B19-E36E0DC7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470-C79C-4653-BD2A-F390218E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CF31-F7E1-4378-ABC8-7749626D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45A3-85D1-4EAC-A637-27409B49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679-1D48-432A-9BA5-B638EE4C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149-AAD6-41E2-A9B7-41C690D1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B0BC-921E-4D9B-816F-C014299B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0227-84B8-4CCD-BEF6-74E14B842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8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75440" y="0"/>
            <a:ext cx="1168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600200"/>
            <a:ext cx="8131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‘Well said, my friend, but you still speak from the vantage point of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ewtersmith,’ Walt muse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ourneym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s to do his job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completed an apprenticeship in a trad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s how to do many different types of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1160" indent="-5511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2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s journeys to earn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95560" y="5730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93760" y="3575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193760" y="424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193760" y="5146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600200"/>
            <a:ext cx="7620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You said he was the most ambitiou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you had ever known and that Philadelphia would not hold him for lo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trepreneu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in a fac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a lot of money in the ba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have to work to earn a liv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ts a business on his 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95560" y="5354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93760" y="357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193760" y="4170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193760" y="47703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091040" y="43322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…the cold front had whisked away the earthy, left-over summer smells of dry grass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soil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omething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arch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aking w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grown with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remely d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5400" indent="-54540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ly wa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190520" y="537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95560" y="357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195560" y="4175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195560" y="47815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ardy mesquite swayed in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dancing in the north wind.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rroy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, small gul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90520" y="497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195560" y="3197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195560" y="379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195560" y="43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had been a tough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could train the wildest hors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uch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panish ran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wboy of Spanish/Native Americ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95560" y="51228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9376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9376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93760" y="43797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Now, he was a leather-skinned, bow-legge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who stood a foot shorter than Roman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wraith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 noun that mea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visible spir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xtremely short pers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erson with dark sk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orse trai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195560" y="4968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93760" y="320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193760" y="3797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193760" y="43848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Whatever medication he had missed this morning, it wasn’t for his heart, Roman thought, as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kept up a brisk pac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entenari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someone wh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lived in many different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s very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grated from a foreign country as a ch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2680" indent="-5626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 at least 100 years o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197000" y="535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195560" y="3575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195560" y="4172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195560" y="47656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600200"/>
            <a:ext cx="7931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He suddenly felt totally isolated. But then he remembered the animals: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the feral hogs, the coyotes and the rattler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jave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n animal that is similar to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b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56844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195560" y="5353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193760" y="3571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193760" y="41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193760" y="4768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Roman looked around and all he could se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nd mesquite, cholla and prickley pea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uisac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rub with fragrant yellow flo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cac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ype of gr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, flowerless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9376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92320" y="3200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192320" y="3797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92320" y="4378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203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2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600200"/>
            <a:ext cx="8082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“Abuelito stood silently, an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look masking whatever was going through his min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ynonym f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crutabl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ysterio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1035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95560" y="49640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187280" y="3195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187280" y="37987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187280" y="43736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7:42:00Z</dcterms:created>
  <dc:creator>Jeremiah McNichols</dc:creator>
  <dc:description/>
  <dc:language>en-US</dc:language>
  <cp:lastModifiedBy>Vince Hardy</cp:lastModifiedBy>
  <dcterms:modified xsi:type="dcterms:W3CDTF">2007-05-08T03:00:41Z</dcterms:modified>
  <cp:revision>15</cp:revision>
  <dc:subject/>
  <dc:title>Vocabulary Challenge Quiz</dc:title>
</cp:coreProperties>
</file>