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F389-59F8-44A2-BEC4-83693D1F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2E28-2542-4652-852E-700597C2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75BD-EA8F-48C5-B7E6-C87D7EE1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5C1A-4DA9-40F2-8CD4-EB0D3403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83A7-8CC7-4016-B6F3-71B537C7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2F16-A5FB-46DA-B589-11E95D51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9D49-EBDF-4B5F-83F4-4353D94F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EEEC-58DF-41FE-8BB0-9658255C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B02A-FE6A-43C2-B1E5-C2A92B36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2564-BE51-4D5D-95ED-0C97D1F7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4637-63F1-4193-B37E-303D1DE1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5B9-6651-4672-B57C-C6E0B4D5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1EA1-34A8-4954-AF5E-BDAFC96A6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14400" y="1665360"/>
            <a:ext cx="5029200" cy="4125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248520" y="2100240"/>
            <a:ext cx="2514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ting hot type was a dirty and dangerous occupation where lead poisoning was all too comm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03856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ype case became as familiar as a typewriter to an experienced typese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95320" y="1676520"/>
            <a:ext cx="735336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876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the "stick" into which type would be set. Note each line had to be set backward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04720" y="1981080"/>
            <a:ext cx="813456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8:14:36Z</dcterms:created>
  <dc:creator>Texas A&amp;M Veterinary Medicine</dc:creator>
  <dc:description/>
  <dc:language>en-US</dc:language>
  <cp:lastModifiedBy>Vince Hardy</cp:lastModifiedBy>
  <dcterms:modified xsi:type="dcterms:W3CDTF">2008-05-05T15:36:04Z</dcterms:modified>
  <cp:revision>90</cp:revision>
  <dc:subject/>
  <dc:title>Slide 1</dc:title>
</cp:coreProperties>
</file>