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7FD1-7C0A-4B9B-8E3B-C1FBDEDB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ystal can also act an a transducer to convert mechanical energy into electrical energy. Molecules of the crystal align themselves with the direction of a mechanical force, forming an electric dipole. If the crystal is connected to a conductive metal, a current will run through the me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insulators like plastic, cloth, and dry air do not like to lose electrons. But if they do give up electrons, they will have a positive charge. If a conductor such as metal is present, then the negative charges (electrons) move toward the positive charges, forming electrical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ology 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2 (c)(12) The student identifies the factors that influence the evolution of manufacturing, construction, communication, energy, power, transportation, and bio-related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uman hair is 70 microns in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 (c)(5) The student describes quality and how it is measured in computer technolo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hnology TEK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3.13(6)(A) The student is expected to: describe the properties and characteristics of computer-related hardware an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rs use film resistors that have carbon or metal film deposited on a thin ceramic r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istive coating, such as epoxy or silicone, is then spiraled onto the rod.  The amount of spiraling applied depends on the amount of resistance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s are labeled with colors that represent properties of the resistor. For more information, visit http://www.doctronics.co.uk/resistor.htm#col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A1C-10B8-48F6-B8B7-4E27F098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5A9-966A-49DB-80FF-56A46FAB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2CA-8868-452A-8F44-81523B62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D20-1456-470F-B31F-5871D397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1CE-BE65-43DB-B92F-E2B16D3C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8127-759F-4741-9B17-6445082A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B10-43C6-435B-A88A-7BF3DDE2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85B-3D69-4A4F-A140-2854324F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053-5874-463C-B7A0-D9DB03D9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AEB-B31B-44E4-AE74-AF4578B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F10-6865-4544-A5E6-B206B7B5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FCAF-8EB7-4A0E-8CE5-18078809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A175-B969-43E7-A2CD-DDBC136FB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sciencemadesimple.com/stat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omputer.howstuffworks.com/inkjet-printer3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We Print Toda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me Compu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jet Prin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2:  Piezoelectric or “vibrating cryst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are at the back of the ink reservoir of each nozz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crystal receives an electrical charge, it will vibrate, pushing a small amount of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889280" y="3097080"/>
            <a:ext cx="293364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iezoelectr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46320" y="1828800"/>
            <a:ext cx="5756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ezoelectric refers to a type of crystal that becomes electrically charged when it is acted on by a mechanical for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posite occurs when a charge is put into the crystal. The crystal converts the electrical energy into mechanical energy and vib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600" y="363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es piezoelectric me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80" b="-16"/>
          <a:stretch/>
        </p:blipFill>
        <p:spPr>
          <a:xfrm>
            <a:off x="709560" y="1963800"/>
            <a:ext cx="2103480" cy="217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614520" y="4248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z is an example of piezoelectric crys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30440" y="1851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Laser Printers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s utilize the principle of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in component of laser printers is a revolving drum made of electrically charged, light-sensitive mater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7000" y="2293920"/>
            <a:ext cx="33958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tatic electric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3600" y="1557000"/>
            <a:ext cx="3754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electricity is when a charge, positive or negative, builds up on an isolated ob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with opposite electric charges will pull towards each 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979880" y="1616040"/>
            <a:ext cx="3505320" cy="2120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static electricit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5360" y="3932280"/>
            <a:ext cx="29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 to learn how to create static electr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has a positive electric char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he drum revolves, the printer shines a laser across the surface to reverse the charge wherever material is to be prin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is then coated with a positive toner, a fine powder that sticks only to the negative parts of the dr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m, continu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the drum is coated with a positive toner, a piece of paper is given a negative char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rum then rolls over the paper. The charge of the paper is stronger than the drum, so the paper pulls the toner from the drum to it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S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per is then passed through the fuser, a pair of heated roll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attracting the toner, the paper is heated while the drum is discha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eated paper causes the toner powder to melt and fuse with the fibers of the paper. The paper is kept from burning by the speed of the rolle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 of Dif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7760" y="1676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            La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3520" y="2316240"/>
          <a:ext cx="8229600" cy="2768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 of pr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esp. for col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Qu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cell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nt Sp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spcAft>
                          <a:spcPts val="7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Home Prin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kjet and Laserjet printers are the most common types of printers used with home comput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rinters are only a fraction of the size of commercial presses and work very differe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inkjet and laserjet technologies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16040" y="2095560"/>
            <a:ext cx="4083120" cy="3184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0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jet printers place small droplets of ink onto paper to create an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inters became available in the 1980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ati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smear before it’s d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n be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ing is s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20055000">
            <a:off x="4866840" y="2312640"/>
            <a:ext cx="4006800" cy="2475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58800" y="239220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 droplets of ink are 50-60 microns in diameter. That’s smaller than a human hai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13360" y="1724040"/>
            <a:ext cx="3521160" cy="2766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3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ontains nozzles that are used to spray drops of ink of various colors to create a photo im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K CARTRIDG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hold the different colored ink in separate cartrid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T HEAD STEPPER MOTOR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tor moves the print head assembly (print head + ink cartridges) back and forth across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253836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T:               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lt attaches the print head to the print head stepper mo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21200" y="2111400"/>
            <a:ext cx="3352680" cy="335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71400" y="363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kjet Printer Compon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7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Main Types of Inkjet Prin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18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1:  Thermal bubble or “Bubble Jet”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chanism of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 heat, allowing the ink to vaporiz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reates a bubble that pushes ink out of the nozzle onto the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905120" y="3164040"/>
            <a:ext cx="2666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Resistor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6600" y="5484960"/>
            <a:ext cx="760572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ee an animation of Bubble Jet technolog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 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a Resist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57280" y="1600200"/>
            <a:ext cx="439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sistor is an electrical component designed to limit the flow of current in an electric circuit.  This keeps high currents from damaging electronics or ligh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ors limit the flow by converting the current’s energy into he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72120" y="1676520"/>
            <a:ext cx="3362400" cy="1823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T-11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3T14:11:21Z</dcterms:created>
  <dc:creator>Texas A&amp;M Veterinary Medicine</dc:creator>
  <dc:description/>
  <dc:language>en-US</dc:language>
  <cp:lastModifiedBy>Vince Hardy</cp:lastModifiedBy>
  <dcterms:modified xsi:type="dcterms:W3CDTF">2008-05-06T03:56:31Z</dcterms:modified>
  <cp:revision>64</cp:revision>
  <dc:subject/>
  <dc:title>Slide 1</dc:title>
</cp:coreProperties>
</file>