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22.jpeg" ContentType="image/jpeg"/>
  <Override PartName="/ppt/media/image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4ECC-38EF-4B11-A8FE-3D9397213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4B5-CF12-4721-920A-1E88BDD9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4D23-95C5-46B7-A27B-597F6974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2020-B98D-4DCF-8A84-043C90D1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E44-0ABF-49CA-A681-F893C0BE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0DEF-5613-4AE2-A46C-C05F9D99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3C3-8637-43BE-8063-024B6336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191-9A5B-4EE4-9254-B9EC7B10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5D95-F64E-488B-87EF-AB177362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BA6-BFCF-40B1-84F2-BEC2E13F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FBC8-8036-4213-800C-194C6F74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E18-F5D4-4495-887E-18DFA8E0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169-44B6-437E-BB2C-4222AD81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F12E-99D3-46AE-B5B3-2C834F79B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webelements.com/webelements/elements/text/Cr/key.html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97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" descr="periodic table"/>
            <p:cNvPicPr/>
            <p:nvPr/>
          </p:nvPicPr>
          <p:blipFill>
            <a:blip r:embed="rId3"/>
            <a:srcRect l="2022" t="0" r="92792" b="24549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309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41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43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61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67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70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91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8259840" y="6124680"/>
            <a:ext cx="709560" cy="506160"/>
            <a:chOff x="8259840" y="6124680"/>
            <a:chExt cx="709560" cy="506160"/>
          </a:xfrm>
        </p:grpSpPr>
        <p:sp>
          <p:nvSpPr>
            <p:cNvPr id="405" name=""/>
            <p:cNvSpPr/>
            <p:nvPr/>
          </p:nvSpPr>
          <p:spPr>
            <a:xfrm>
              <a:off x="8259840" y="6124680"/>
              <a:ext cx="709560" cy="506160"/>
            </a:xfrm>
            <a:prstGeom prst="rightArrow">
              <a:avLst>
                <a:gd name="adj1" fmla="val 50000"/>
                <a:gd name="adj2" fmla="val 35046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90080" y="6224760"/>
              <a:ext cx="53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3"/>
            <a:srcRect l="6450" t="14625" r="88720" b="29732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2"/>
            <a:srcRect l="11312" t="15150" r="83530" b="30037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rcRect l="16096" t="33102" r="33045" b="29659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0080" y="4919760"/>
            <a:ext cx="1351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2"/>
            <a:srcRect l="16043" t="77743" r="13130" b="13564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45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46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2"/>
            <a:srcRect l="16096" t="77249" r="13793" b="4367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245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here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513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62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" descr=""/>
            <p:cNvPicPr/>
            <p:nvPr/>
          </p:nvPicPr>
          <p:blipFill>
            <a:blip r:embed="rId2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98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08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14" name="" descr=""/>
            <p:cNvPicPr/>
            <p:nvPr/>
          </p:nvPicPr>
          <p:blipFill>
            <a:blip r:embed="rId1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6" name="" descr=""/>
            <p:cNvPicPr/>
            <p:nvPr/>
          </p:nvPicPr>
          <p:blipFill>
            <a:blip r:embed="rId2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4"/>
          <a:srcRect l="0" t="0" r="0" b="-2003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27" name="" descr=""/>
            <p:cNvPicPr/>
            <p:nvPr/>
          </p:nvPicPr>
          <p:blipFill>
            <a:blip r:embed="rId1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2"/>
            <a:srcRect l="91955" t="5512" r="2743" b="39318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1" name="" descr="photograph"/>
          <p:cNvPicPr/>
          <p:nvPr/>
        </p:nvPicPr>
        <p:blipFill>
          <a:blip r:embed="rId4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2" name="" descr=""/>
          <p:cNvPicPr/>
          <p:nvPr/>
        </p:nvPicPr>
        <p:blipFill>
          <a:blip r:embed="rId5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3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46" name="" descr=""/>
            <p:cNvPicPr/>
            <p:nvPr/>
          </p:nvPicPr>
          <p:blipFill>
            <a:blip r:embed="rId1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" descr=""/>
            <p:cNvPicPr/>
            <p:nvPr/>
          </p:nvPicPr>
          <p:blipFill>
            <a:blip r:embed="rId2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5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7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62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’s 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14640" y="2576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048120" y="1741320"/>
            <a:ext cx="1765080" cy="1821960"/>
            <a:chOff x="3048120" y="1741320"/>
            <a:chExt cx="1765080" cy="18219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3048120" y="17892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343320" y="21700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66960" y="17413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19480" y="31035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H="1" flipV="1">
            <a:off x="4148280" y="2238480"/>
            <a:ext cx="482400" cy="155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7316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4752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95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24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52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16T23:29:50Z</dcterms:modified>
  <cp:revision>84</cp:revision>
  <dc:subject/>
  <dc:title>Slide 1</dc:title>
</cp:coreProperties>
</file>