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F4454-96FA-4413-945C-C472A115BF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0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: The student is expected to: Monitor comprehension and make mod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: Draw in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: Answer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: Use study strategies to work on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1 C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 responses by referring to text and own exper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2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: Analyze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: Recognize and analyze story plot, setting, and problem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: Recognize how style, tone, and mood contribute to the affect of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DFC3-0D6D-4301-9486-4127962EA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2A67-9102-472E-918C-B50DEA997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9782-5BC5-4303-8754-13CDC2E5C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3FBA-90CE-44E7-A9FA-E518CDC26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2126-7993-4AD1-9FA3-0AA299399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5C5C-845E-498E-B10D-A62D95FE7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F9A7-E903-47F4-AD9B-44416C28B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9C44-319A-4E83-B460-C9061435F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BE66-0CBA-498E-9C16-D775EDAAD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7382-9871-4A1C-83B2-08CCC450F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4627-BE42-4D70-834B-F4AB80AF9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7A9B-A7E3-497E-9418-44DC0743B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0A319-5AAD-4552-94F2-089482E074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1600200"/>
            <a:ext cx="8097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Lydia leaves the room after speaking with Watt and Elias, which of the following best describes her emo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809720" y="3146400"/>
            <a:ext cx="6280200" cy="22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rit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p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oughtf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303200" y="4905360"/>
            <a:ext cx="381240" cy="4698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1298520" y="31399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1298520" y="37321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1300320" y="4316400"/>
            <a:ext cx="382320" cy="4698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09480" y="16002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7120" indent="-62712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ias and Watt met in Elias’s storage room early in the morning. Why is this importa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16200" y="2727360"/>
            <a:ext cx="6280200" cy="29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y are planning Watt’s move to Virgin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y do not want anyone to overhear their convers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y do not want to wake anyone in the main ho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is the only place they can meet with Lyd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297080" y="5216400"/>
            <a:ext cx="380880" cy="4701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1298520" y="2733840"/>
            <a:ext cx="382680" cy="4680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1298520" y="341460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1300320" y="4386240"/>
            <a:ext cx="382320" cy="4698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162240" y="276876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4076640" y="450864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160020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7800" indent="-577800">
              <a:spcBef>
                <a:spcPts val="176"/>
              </a:spcBef>
              <a:spcAft>
                <a:spcPts val="176"/>
              </a:spcAft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man was on vacation with his dad to celebrate a family member’s birthday. Whose birthday was being celebrated, and 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16200" y="3149640"/>
            <a:ext cx="7334280" cy="22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man’s, because he was turning 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man’s great-grandfather’s, because he was turning 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man’s father’s, because he was turning 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man’s great-grandfather’s, because he was turning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303200" y="4905360"/>
            <a:ext cx="381240" cy="4698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298520" y="31399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298520" y="37321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1300320" y="4316400"/>
            <a:ext cx="382320" cy="4698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6002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man digs up a box with the name Eduardo M. Castillo inscribed on the side. Who was Castill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16200" y="2732040"/>
            <a:ext cx="6829200" cy="22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founder of the ranch where Roman’s family li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founder of the state of Tex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relative of Roman who lived long a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friend of Roman’s fa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303200" y="4486320"/>
            <a:ext cx="381240" cy="4698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298520" y="2733840"/>
            <a:ext cx="382680" cy="468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1298520" y="331308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1300320" y="3897360"/>
            <a:ext cx="382320" cy="4698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160020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man discovers a hidden treasure in the candlestick his great-grandfather shows him. He later discovers that it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816200" y="3149640"/>
            <a:ext cx="6888240" cy="29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hand-written copy of the Bill of R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first copy of the U.S. Constit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contract between New Spain and the city of Philadelph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first page of a new book that had just been printed on a new printing pr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303200" y="5349960"/>
            <a:ext cx="381240" cy="4698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1298520" y="31399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1298520" y="37321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1300320" y="4443480"/>
            <a:ext cx="382320" cy="4698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16002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what time in American history does Roman trave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809720" y="2728800"/>
            <a:ext cx="6676920" cy="29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the beginning of the Revolutionary W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ust after the election of George Washington as the first U.S. Presi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ust before North Carolina ratifies the Bill of R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ust after the Declaration of Independence was sig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297080" y="4968720"/>
            <a:ext cx="380880" cy="4701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1298520" y="2733840"/>
            <a:ext cx="382680" cy="468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1298520" y="343368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1300320" y="4259160"/>
            <a:ext cx="382320" cy="4701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85800" y="16002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tt currently lives in Philadelphia. Where has he decided he would like to mov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816200" y="2732040"/>
            <a:ext cx="6810120" cy="22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rth Carol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rgi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w Sp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x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303200" y="4486320"/>
            <a:ext cx="381240" cy="4698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1298520" y="272736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1298520" y="330660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1300320" y="3897360"/>
            <a:ext cx="382320" cy="4698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1598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Clr>
                <a:srgbClr val="ffffff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word best describes Roman’s reaction upon discovering what Elias had concealed in the candlestick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19440" y="3151080"/>
            <a:ext cx="6810120" cy="22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r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westruc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artbro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oyf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303200" y="4905360"/>
            <a:ext cx="381240" cy="4698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1298520" y="31399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1298520" y="37321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1300320" y="4316400"/>
            <a:ext cx="382320" cy="4698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5800" y="160020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man does not know where he is until he listens to Elias and Watt talk for a while. Where does he finally realize his computer has taken hi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16200" y="3149640"/>
            <a:ext cx="6280200" cy="22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hiladephia, Pennsylva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shington, D.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hiladelphia, Virgi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shington, Virgi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303200" y="4905360"/>
            <a:ext cx="381240" cy="4698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1298520" y="31399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1298520" y="37321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1300320" y="4316400"/>
            <a:ext cx="382320" cy="4698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85800" y="1600200"/>
            <a:ext cx="8043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ias has an “affinity for foreign diplomats.” What does this mea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816200" y="2727360"/>
            <a:ext cx="6827760" cy="22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at Elias does not like foreign diplom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at Elias thinks foreign diplomats are very sm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at Elias has a natural liking for foreign diplom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at Elias does not understand foreign diplom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303200" y="4486320"/>
            <a:ext cx="381240" cy="4698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298520" y="272736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1298520" y="330660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1300320" y="3897360"/>
            <a:ext cx="382320" cy="4698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9:50:03Z</dcterms:created>
  <dc:creator>David Marcovitz</dc:creator>
  <dc:description/>
  <dc:language>en-US</dc:language>
  <cp:lastModifiedBy>Vince Hardy</cp:lastModifiedBy>
  <dcterms:modified xsi:type="dcterms:W3CDTF">2007-05-08T01:49:52Z</dcterms:modified>
  <cp:revision>109</cp:revision>
  <dc:subject/>
  <dc:title>PowerPoint Presentation</dc:title>
</cp:coreProperties>
</file>