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614-4746-4852-A826-3A4D068D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8289-D50E-42A3-B9E0-E38D8914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FFA-FCA4-4A1B-ADCC-42D7F8F8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3FE-DDA4-4EC4-A5AC-EF996F4A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A372-89F5-42E1-98DF-804698D6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782-D8A7-4565-A4A1-979EF404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26E-C6D6-48F6-A589-2A46618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B32-5CCF-4899-BA56-CE34B7AE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B65-7AA2-4AC6-BB14-DBCD647D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58BC-1ECA-42BD-BF6D-81D6798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037-AF95-4D14-A947-48789F57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3C0-54A4-4E35-8D71-ABC8EB2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5079-687E-4FDF-9BC3-6A1A646F1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14400" y="1665360"/>
            <a:ext cx="5029200" cy="41259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248520" y="2100240"/>
            <a:ext cx="2514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ing hot type was a dirty and dangerous occupation where lead poisoning was all too comm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038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ype case became as familiar as a typewriter to an experienced typese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95320" y="1676520"/>
            <a:ext cx="735336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ett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63691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source: http://www.radford.edu/~wkovarik/class/history/mediatech/type.htm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8769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the "stick" into which type would be set. Note each line had to be set backwa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04720" y="1981080"/>
            <a:ext cx="81345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8:14:36Z</dcterms:created>
  <dc:creator>Texas A&amp;M Veterinary Medicine</dc:creator>
  <dc:description/>
  <dc:language>en-US</dc:language>
  <cp:lastModifiedBy>Vince Hardy</cp:lastModifiedBy>
  <dcterms:modified xsi:type="dcterms:W3CDTF">2008-05-05T15:36:04Z</dcterms:modified>
  <cp:revision>90</cp:revision>
  <dc:subject/>
  <dc:title>Slide 1</dc:title>
</cp:coreProperties>
</file>