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6D8F-CCF4-4265-8CE6-0461B7C67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9B8-75E9-4A7E-8AB1-E65F0185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13D-AF1A-421A-AE3F-14748E8C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E0B-54A6-4B16-85C9-1F056D94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9C5-C039-4338-A586-3C3BD4AC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D7B-F4B8-495A-A2EC-D5226C19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2EC2-0E82-4652-BEFA-672B44D3A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729-DE83-4541-8BC9-9068EBAE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913-C3FB-4F8F-A524-07533372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111-2F7A-4902-AD9A-609F93CA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ECDB-055D-429B-A7C0-65E8C64E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D473-1C86-4F70-BECA-ED203553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2590-0B5A-4B98-923E-6E28B42A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77C1-F011-4FF1-B596-1959609E2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1600200"/>
            <a:ext cx="809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Lydia leaves the room after speaking with Watt and Elias, which of the following best describes her emo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09720" y="314640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t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and Watt met in Elias’s storage room early in the morning. Why is this import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16200" y="2727360"/>
            <a:ext cx="628020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are planning Watt’s move to Virgi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anyone to overhear their convers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 do not want to wake anyone in the main 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the only place they can meet with Ly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97080" y="521640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298520" y="3414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1300320" y="438624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162240" y="2768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076640" y="450864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was on vacation with his dad to celebrate a family member’s birthday. Whose birthday was being celebrated, and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16200" y="3149640"/>
            <a:ext cx="733428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, because he was turning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father’s, because he was turning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man’s great-grandfather’s, because he was turning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gs up a box with the name Eduardo M. Castillo inscribed on the side. Who was Castil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16200" y="2732040"/>
            <a:ext cx="6829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ranch where Roman’s family 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under of the state of 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lative of Roman who lived long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riend of Roman’s f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298520" y="33130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iscovers a hidden treasure in the candlestick his great-grandfather shows him. He later discovers that it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16200" y="3149640"/>
            <a:ext cx="688824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and-written copy of the Bill of R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copy of the U.S. Constit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ntract between New Spain and the city of Philadelph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page of a new book that had just been printed on a new printing pr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303200" y="53499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300320" y="444348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what time in American history does Roman trav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09720" y="2728800"/>
            <a:ext cx="6676920" cy="29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he beginning of the Revolutionary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election of George Washington as the first U.S. 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before North Carolina ratifies the Bill of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fter the Declaration of Independence was s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97080" y="4968720"/>
            <a:ext cx="380880" cy="47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298520" y="2733840"/>
            <a:ext cx="382680" cy="46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298520" y="343368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1300320" y="4259160"/>
            <a:ext cx="382320" cy="470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1600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t currently lives in Philadelphia. Where has he decided he would like to mo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16200" y="273204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rth Caro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S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x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598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ord best describes Roman’s reaction upon discovering what Elias had concealed in the candlestic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9440" y="3151080"/>
            <a:ext cx="681012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r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westruc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rtbr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y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16002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does not know where he is until he listens to Elias and Watt talk for a while. Where does he finally realize his computer has taken hi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16200" y="3149640"/>
            <a:ext cx="628020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phia, Pennsylv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D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iladelphia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hington, Virgi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03200" y="490536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298520" y="31399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1298520" y="373212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1300320" y="431640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600200"/>
            <a:ext cx="804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ias has an “affinity for foreign diplomats.” What does this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16200" y="2727360"/>
            <a:ext cx="6827760" cy="22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like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thinks foreign diplomats are very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has a natural liking for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Elias does not understand foreign diplom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03200" y="4486320"/>
            <a:ext cx="38124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298520" y="272736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298520" y="3306600"/>
            <a:ext cx="382680" cy="468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300320" y="3897360"/>
            <a:ext cx="382320" cy="469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Vince Hardy</cp:lastModifiedBy>
  <dcterms:modified xsi:type="dcterms:W3CDTF">2007-05-08T01:49:52Z</dcterms:modified>
  <cp:revision>109</cp:revision>
  <dc:subject/>
  <dc:title>PowerPoint Presentation</dc:title>
</cp:coreProperties>
</file>