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8018-1FFD-4F2E-91D6-16EAA33D2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3AA-7766-4CE5-B83F-979FEDC3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603-6FF6-40EA-9C28-29DCD77F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6A8-9AD9-470A-AA9D-64EB4102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040-EE90-41B3-A129-CA9389E4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F77-B4FA-4FD9-90ED-B62845A1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38A-023E-40A4-853A-25F122F9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F1E0-01EC-4D38-9CE7-91253876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AF2-B5A9-4AE5-BC62-2B90ECB3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A12-089A-4523-870A-3D078BE2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860-CF30-4B85-8163-4ECB9405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5FA-CB67-4A2E-989A-A65E6D96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ADFA-E47C-4B0A-AD65-C0C99488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88FA-C6E1-448D-8E06-40FA46D4A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75440" y="0"/>
            <a:ext cx="1168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8131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‘Well said, my friend, but you still speak from the vantage point of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ewtersmith,’ Walt mus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s to do his job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completed an apprenticeship in a trad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s how to do many different types of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s journeys to earn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5560" y="5730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376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3760" y="424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3760" y="514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You said he was the most ambitiou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ou had ever known and that Philadelphia would not hold him for lo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in a fac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lot of money in the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have to work to earn a liv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s a business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5560" y="5354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376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3760" y="4170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3760" y="4770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91040" y="43322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…the cold front had whisked away the earthy, left-over summer smells of dry grass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soil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omething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aking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grown with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ly d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ly w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0520" y="537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556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556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5560" y="4781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ardy mesquite swayed in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dancing in the north wind.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, small gul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90520" y="49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95560" y="3197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95560" y="379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195560" y="43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had been a toug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could train the wildest hors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anish ran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wboy of Spanish/Native Americ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9556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9376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9376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93760" y="43797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Now, he was a leather-skinned, bow-legg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stood a foot shorter than Rom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 noun that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isible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emely short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rson with dark sk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orse tr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5560" y="496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376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3760" y="3797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3760" y="4384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Whatever medication he had missed this morning, it wasn’t for his heart, Roman thought, as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kept up a brisk p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omeone wh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lived in many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very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grated from a foreign country as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t least 100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97000" y="53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9556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95560" y="4172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95560" y="4765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suddenly felt totally isolated. But then he remembered the animals: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the feral hogs, the coyotes and the rattl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n animal that is similar t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b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9556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93760" y="357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93760" y="41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93760" y="4768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Roman looked around and all he could se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mesquite, cholla and prickley pea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rub with fragrant yellow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cac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flowerless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376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2320" y="3200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2320" y="3797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2320" y="4378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stood silently, a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ok masking whatever was going through his min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ynonym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ster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5560" y="496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728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8728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87280" y="43736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42:00Z</dcterms:created>
  <dc:creator>Jeremiah McNichols</dc:creator>
  <dc:description/>
  <dc:language>en-US</dc:language>
  <cp:lastModifiedBy>Vince Hardy</cp:lastModifiedBy>
  <dcterms:modified xsi:type="dcterms:W3CDTF">2007-05-08T03:00:41Z</dcterms:modified>
  <cp:revision>15</cp:revision>
  <dc:subject/>
  <dc:title>Vocabulary Challenge Quiz</dc:title>
</cp:coreProperties>
</file>