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443F-8D15-4DC0-9B2E-0B4765EEA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59BE-BBF4-4BA4-9A93-F895EDF525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C5BF-1B74-410A-92A8-33863F9EC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16BF-9C28-4F07-B59A-240C9A953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EC30-0002-4CBB-AFAE-9E98C3F8C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3A13-F5E1-40B2-A75D-BCE39ED39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3557-774B-45B8-B96B-ECE89412D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A409-3316-4AAD-B2D1-BC34C4193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2750-4B3E-45F7-9D08-4E9086E48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F3588-75F2-4784-8459-F38A6C4E9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6177-6D44-4B6C-8BFC-139606397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FE17-4705-4455-B359-B2E0EF15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90CB-1CA1-4761-AD7C-E17A2B90243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erimeter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he perimeter (P) of any closed figure is the distance around the figure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To find the perimeter of a rectangle, add the measures of its four sides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length, </a:t>
            </a:r>
            <a:r>
              <a:rPr b="0" i="1" lang="en-US" sz="29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= width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         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P =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+ 2</a:t>
            </a:r>
            <a:r>
              <a:rPr b="0" i="1" lang="en-US" sz="33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3300" spc="-1" strike="noStrike">
                <a:solidFill>
                  <a:srgbClr val="ff99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9966"/>
                </a:solidFill>
                <a:latin typeface="Times New Roman"/>
              </a:rPr>
              <a:t>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w                                         w 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                  </a:t>
            </a:r>
            <a:r>
              <a:rPr b="1" i="1" lang="en-US" sz="2400" spc="-1" strike="noStrike">
                <a:solidFill>
                  <a:srgbClr val="ebebeb"/>
                </a:solidFill>
                <a:latin typeface="Times New Roman"/>
              </a:rPr>
              <a:t>l    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720880" cy="150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8860-CD68-4499-BAE6-CC99D2631164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29Z</dcterms:modified>
  <cp:revision>206</cp:revision>
  <dc:subject/>
  <dc:title>VTPP 423 - PHYSIOLOGY</dc:title>
</cp:coreProperties>
</file>