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22.jpeg" ContentType="image/jpeg"/>
  <Override PartName="/ppt/media/image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5134-695A-461E-ADBA-3AB375175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6EA-F019-43FA-BB5B-610562DF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93C-B1C3-40E1-B887-B5786263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B02C-A542-4867-A3FD-71E94D28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9DF-7C7E-4DCD-96F7-7992517D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F28-C671-49D3-AC9B-153B7536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264-2BD5-4D79-B0AC-3BE295F2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E8B8-9879-441D-AA1E-DD411F8A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C1C-4DAA-4FFF-A133-03763C4C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82F-FB16-48BE-856C-2EEC1BEC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01F-D5C2-4232-A89A-96660472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E80-2612-4FBF-A50C-784BF91B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323-43E7-4EBF-8366-5F0F03C6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CAFD-D735-4690-BB6B-72A2BC50B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webelements.com/webelements/elements/text/Cr/key.html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97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309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41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43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61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70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8259840" y="6124680"/>
            <a:ext cx="709560" cy="506160"/>
            <a:chOff x="8259840" y="6124680"/>
            <a:chExt cx="709560" cy="506160"/>
          </a:xfrm>
        </p:grpSpPr>
        <p:sp>
          <p:nvSpPr>
            <p:cNvPr id="405" name=""/>
            <p:cNvSpPr/>
            <p:nvPr/>
          </p:nvSpPr>
          <p:spPr>
            <a:xfrm>
              <a:off x="8259840" y="6124680"/>
              <a:ext cx="709560" cy="506160"/>
            </a:xfrm>
            <a:prstGeom prst="rightArrow">
              <a:avLst>
                <a:gd name="adj1" fmla="val 50000"/>
                <a:gd name="adj2" fmla="val 35046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90080" y="6224760"/>
              <a:ext cx="5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3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0080" y="4919760"/>
            <a:ext cx="1351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45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46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245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here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513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62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2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98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08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2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1" name="" descr="photograph"/>
          <p:cNvPicPr/>
          <p:nvPr/>
        </p:nvPicPr>
        <p:blipFill>
          <a:blip r:embed="rId4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" descr=""/>
            <p:cNvPicPr/>
            <p:nvPr/>
          </p:nvPicPr>
          <p:blipFill>
            <a:blip r:embed="rId2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62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’s 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14640" y="2576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048120" y="1741320"/>
            <a:ext cx="1765080" cy="1821960"/>
            <a:chOff x="3048120" y="1741320"/>
            <a:chExt cx="1765080" cy="18219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3048120" y="17892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343320" y="21700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66960" y="17413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19480" y="31035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 flipV="1">
            <a:off x="4148280" y="2238480"/>
            <a:ext cx="482400" cy="15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7316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4752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95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24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52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16T23:29:50Z</dcterms:modified>
  <cp:revision>84</cp:revision>
  <dc:subject/>
  <dc:title>Slide 1</dc:title>
</cp:coreProperties>
</file>