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B5DE8-DFFD-4B30-8072-6C5D92D645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0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: The student is expected to: Monitor comprehension and make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: Draw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: Answer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: Use study strategies to work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1 C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2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: Analyze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: Recognize and analyze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: Recognize how style, tone, and mood contribute to the affec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0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: The student is expected to: Monitor comprehension and make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: Draw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: Answer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: Use study strategies to work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1 C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2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: Analyze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: Recognize and analyze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: Recognize how style, tone, and mood contribute to the affec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E62F-DF77-4C14-B61C-6C313EFB2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D0E0-F3DA-4F11-85E2-20E8973C1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703F-45B3-441F-9552-50CDA42F4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398E-7A4A-439E-A33B-B6218A633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6473-C0AC-4752-94A9-8FB314CB6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5B7D-A1F9-40D8-B0FC-03D86B81F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E70B-1A1A-4D9F-84EB-23D0D01B3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2BC2-5D3F-44AC-826F-DE70128BF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00CA-BCFF-404C-8FC6-1B8D1EF65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E8C1-0061-4361-BE63-918C8A942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4F36-3A65-476F-AE23-8998A7784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A90F-78B5-4955-A7FB-BE03D1BA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921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76371-107D-4EA1-B3AF-2DA4E5E13E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88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Vocabulary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975440" y="0"/>
            <a:ext cx="11685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9880" y="3962520"/>
            <a:ext cx="8610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C or 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4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600200"/>
            <a:ext cx="8131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551160" indent="-5511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‘Well said, my friend, but you still speak from the vantage point of a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journeyma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pewtersmith,’ Walt mused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1160" indent="-5511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journeyma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1160" indent="-5511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vels to do his job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1160" indent="-5511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s completed an apprenticeship in a trad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a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1160" indent="-5511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nows how to do many different types of job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1160" indent="-5511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es journeys to earn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195560" y="57308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193760" y="3575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1193760" y="4248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1193760" y="51465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4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1600200"/>
            <a:ext cx="76201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You said he was the most ambitious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ntrepreneur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you had ever known and that Philadelphia would not hold him for long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ntrepreneu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rks in a factor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s a lot of money in the ban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es not have to work to earn a liv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rts a business on his ow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195560" y="53546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193760" y="357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1193760" y="4170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1193760" y="47703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176640" y="280044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4091040" y="433224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3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545400" indent="-5454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…the cold front had whisked away the earthy, left-over summer smells of dry grass and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arched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soil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5400" indent="-5454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something i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arch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t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5400" indent="-5454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aking w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5400" indent="-5454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vergrown with pla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5400" indent="-5454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tremely d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5400" indent="-5454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turally war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190520" y="5372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195560" y="35719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1195560" y="41752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1195560" y="47815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3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Hardy mesquite swayed in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rroyo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, dancing in the north wind.”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rroy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y, small gul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e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190520" y="4971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195560" y="3197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195560" y="37940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195560" y="43815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3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Abuelito had been a tough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gaucho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who could train the wildest horses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gauch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ype of p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panish ranc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m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owboy of Spanish/Native America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195560" y="51228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193760" y="3195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1193760" y="379872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1193760" y="43797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3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Now, he was a leather-skinned, bow-legged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wraith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who stood a foot shorter than Roman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wraith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a noun that mea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visible spir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extremely short per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person with dark sk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horse train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195560" y="4968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1193760" y="3200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1193760" y="3797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1193760" y="43848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4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600200"/>
            <a:ext cx="7931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562680" indent="-562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Whatever medication he had missed this morning, it wasn’t for his heart, Roman thought, as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entenaria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kept up a brisk pace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2680" indent="-562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entenaria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someone wh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2680" indent="-562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s lived in many different count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2680" indent="-562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rks very h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2680" indent="-562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igrated from a foreign country as a ch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2680" indent="-562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at least 100 years o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197000" y="5356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195560" y="3575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1195560" y="41720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1195560" y="47656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4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1600200"/>
            <a:ext cx="7931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He suddenly felt totally isolated. But then he remembered the animals: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javelina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, the feral hogs, the coyotes and the rattlers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javelin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an animal that is similar to 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i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b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i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195560" y="5353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1193760" y="3571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1193760" y="4168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1193760" y="47689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4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1600200"/>
            <a:ext cx="8082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Roman looked around and all he could see was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huisache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and mesquite, cholla and prickley pear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Huisach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hrub with fragrant yellow flow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ype of cact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ype of gr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rge, flowerless t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193760" y="4968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192320" y="32004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192320" y="37972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1192320" y="43783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4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1600200"/>
            <a:ext cx="8082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Abuelito stood silently, an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nscrutable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look masking whatever was going through his mind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ynonym fo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nscrutable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g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ysterio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p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195560" y="49640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187280" y="3195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1187280" y="379872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1187280" y="43736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3T17:42:00Z</dcterms:created>
  <dc:creator>Jeremiah McNichols</dc:creator>
  <dc:description/>
  <dc:language>en-US</dc:language>
  <cp:lastModifiedBy>Vince Hardy</cp:lastModifiedBy>
  <dcterms:modified xsi:type="dcterms:W3CDTF">2007-05-08T03:00:41Z</dcterms:modified>
  <cp:revision>15</cp:revision>
  <dc:subject/>
  <dc:title>Vocabulary Challenge Quiz</dc:title>
</cp:coreProperties>
</file>