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11204-B243-4E10-957B-194E908726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rder text: Append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F3E5-60AB-4DCF-92A3-EC5D86E6F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920A-6683-49FE-981B-7FCDD1D8D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8E62-34F8-4B2C-9AE1-E6C3CB15A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9BAF-87DD-41D4-B387-C60D0B222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BF69-7A64-4900-A1BB-A80255857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00F8-C800-44BE-A7DD-E8C62AA0E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8963-89C1-4AC6-8026-F58503065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8AE4-9D9E-4D18-B31C-1FDCDCDD2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6752-ED28-4501-9C31-5E14579B9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F1B5-550B-4788-ACBF-075432C44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DBFB-E02F-489F-AF9D-B6126AC57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1F06-D016-46E5-AECD-32CE97117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6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9DC13-BEFF-4780-9E5D-12B32FEF9B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8002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time of day is it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is the landscap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kind of animals are thes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re do these animals naturally liv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you guess where this picture was taken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1143000"/>
            <a:ext cx="7696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observations can you make from looking at this picture?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" name="Africa%20344" descr="Africa"/>
          <p:cNvPicPr/>
          <p:nvPr/>
        </p:nvPicPr>
        <p:blipFill>
          <a:blip r:embed="rId2"/>
          <a:stretch/>
        </p:blipFill>
        <p:spPr>
          <a:xfrm>
            <a:off x="469800" y="2438280"/>
            <a:ext cx="3962520" cy="26384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ext is the information that surrounds a particular word or passage that helps determine the meaning of the word or passage.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examining the context of the previous picture, you were able to guess that the picture was probably taken in Africa.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questions might you ask yourself when assessing the context of a passage of text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47960" y="1727280"/>
            <a:ext cx="388620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is the author or speaker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is the reader or audience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the passage about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re does the action take place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n you identify emotions that are expressed in the text? 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</p:txBody>
      </p:sp>
      <p:pic>
        <p:nvPicPr>
          <p:cNvPr id="56" name="QuestionMark" descr=""/>
          <p:cNvPicPr/>
          <p:nvPr/>
        </p:nvPicPr>
        <p:blipFill>
          <a:blip r:embed="rId2"/>
          <a:stretch/>
        </p:blipFill>
        <p:spPr>
          <a:xfrm>
            <a:off x="762120" y="2044800"/>
            <a:ext cx="3325680" cy="32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04:03:32Z</dcterms:created>
  <dc:creator>Gina Balducci</dc:creator>
  <dc:description/>
  <dc:language>en-US</dc:language>
  <cp:lastModifiedBy>vhardy</cp:lastModifiedBy>
  <dcterms:modified xsi:type="dcterms:W3CDTF">2002-12-19T23:00:29Z</dcterms:modified>
  <cp:revision>16</cp:revision>
  <dc:subject/>
  <dc:title>Context Clues</dc:title>
</cp:coreProperties>
</file>